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80DC0-0956-4F8B-A15F-4C70A02FD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D75E1-F1BB-4959-A5D1-367FB5F0B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11BBA-C85E-490A-A02A-D37CC98D8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C5824-D195-40B6-A22F-B53755A2D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20619-43AF-4B4F-BD54-699674F50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FE2F7-050C-42F0-8E93-C1C4FD9F0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1BDE5-F1B6-489B-8F5F-D31678CD6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82134-BF2C-4297-9D48-8E80EF874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97152-A9FF-4EA8-9D31-03BC29A51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9095E-ECEF-424F-A770-86513415E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7E634-CE65-48DB-9BAD-3561BEB90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BE88E-2C79-40C6-9A6E-19E90EE5F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CECCA-B2A8-49A5-97C6-74FB19CD3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6810F-727C-49EC-B07F-E579F7FF5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95D52-335B-4ADC-B733-D11C22490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5633E-8257-40E1-B6C4-7690FF081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73E0D-8F8C-41D2-9765-DF9587C75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DFD0BC-C2EC-4548-8B18-8848A6D86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86417C-E8F9-4475-9E91-567ED3804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D1FC82-B0A9-4538-9471-300D224A8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4AD01E-C4FD-4B27-A210-7BFB539E5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630F72-BD92-4A3C-AD4F-9400DE001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D0DFA-A5C9-44B8-B288-E3121C6EC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303F48-90D5-4B57-B445-57AA5EA42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0438A8-FCB7-4565-895F-165919B1D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4246DB-FA6E-4F22-BD8D-111E25C6D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7FA222-6A29-4FE5-B90B-E5EE31DCF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9E97AE-1C73-4CA0-9807-CF6E4EC51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04B19D-539E-4594-9C75-34BB7F1E6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6362BE-92AA-49D5-96D0-15E4790CB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8DF767-B918-4325-8A28-1E27C0034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95604E-C9A0-48B8-BABD-5F0A23B98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57EF46-AFCC-47D4-8E91-E02A18B32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2A59F-36DA-43B6-BFFB-D7539D89F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7F9EFB-6E55-49F4-90DC-0776151A0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AC1431-A97E-4418-89FA-382B58708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49846A-BDD3-4AE6-A9BD-6B1868731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55037C-F10F-4333-B1C6-09FB94674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AC3540-78D6-4B0F-9A14-FF6744EF2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957975-50D0-4FFD-AC08-0EE37CE86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BC0209-6E1D-4A1B-B5A8-0057D5617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600830-12D3-49EA-832C-2E4440CDF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52F9DF-B0E6-4E1D-BE6A-EFED65402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23394-F7C6-4020-9871-7C1EEEF0D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3B142-5F90-45D8-B06E-EAB3A7F11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71A64-5ABC-4967-8F5B-FE097650B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EC53E-FB60-49DC-A509-6F51DE207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2207E-610E-42B0-8327-A7E3EACA7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261BF-D471-4FA5-84FD-902C2C1E643E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6061D-29DC-4C39-B981-3A6EFE72038F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58BC7-6FE6-49CA-8C0D-2BD3F12F9B15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CC77C-E02D-402C-8DE1-B39B0FED73C7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s://gekkon12.livejournal.com/24975.html" TargetMode="External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Прямоугольник 1"/>
          <p:cNvSpPr/>
          <p:nvPr/>
        </p:nvSpPr>
        <p:spPr>
          <a:xfrm>
            <a:off x="162000" y="347760"/>
            <a:ext cx="8820000" cy="36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рганизация исследовательской деятельности в условиях современного урок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2"/>
          <p:cNvSpPr/>
          <p:nvPr/>
        </p:nvSpPr>
        <p:spPr>
          <a:xfrm>
            <a:off x="-287280" y="62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Прямоугольник 1"/>
          <p:cNvSpPr/>
          <p:nvPr/>
        </p:nvSpPr>
        <p:spPr>
          <a:xfrm>
            <a:off x="324000" y="765000"/>
            <a:ext cx="8532720" cy="59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onstantia"/>
                <a:ea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воение учащимися исследовательских умений и развитие компетенций должно проходить поэтапно, с постепенным увеличением степени самостоятельности учащихс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ходя из этого, можно начинат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 подготовительного этап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 теоретического изучения учащимися  этапов и ступеней исследовательской деятельности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 освоения ими процесса исследования на уроках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2"/>
          <p:cNvSpPr/>
          <p:nvPr/>
        </p:nvSpPr>
        <p:spPr>
          <a:xfrm>
            <a:off x="-287280" y="62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Прямоугольник 1"/>
          <p:cNvSpPr/>
          <p:nvPr/>
        </p:nvSpPr>
        <p:spPr>
          <a:xfrm>
            <a:off x="179280" y="1413000"/>
            <a:ext cx="8496360" cy="37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работки учебных приемов исследовательской деятельности на уроках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 использования разнообразных источников информаци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 использования разнообразных форм обучения учащихся: индивидуальной, парной, групповой, коллективн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2"/>
          <p:cNvSpPr/>
          <p:nvPr/>
        </p:nvSpPr>
        <p:spPr>
          <a:xfrm>
            <a:off x="-287280" y="12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Прямоугольник 1"/>
          <p:cNvSpPr/>
          <p:nvPr/>
        </p:nvSpPr>
        <p:spPr>
          <a:xfrm>
            <a:off x="468360" y="836640"/>
            <a:ext cx="8567640" cy="47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 структуре урока-исследовани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уализация знан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тиваци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ние проблемной ситуаци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ановка проблемы исследовани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ение темы исследования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улирование цели исследовани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движение гипотез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2"/>
          <p:cNvSpPr/>
          <p:nvPr/>
        </p:nvSpPr>
        <p:spPr>
          <a:xfrm>
            <a:off x="-287280" y="12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Прямоугольник 1"/>
          <p:cNvSpPr/>
          <p:nvPr/>
        </p:nvSpPr>
        <p:spPr>
          <a:xfrm>
            <a:off x="468360" y="981000"/>
            <a:ext cx="8567640" cy="55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 структуре урока-исследовани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рка гипотезы (проведение эксперимента, лабораторной работы, чтение литературы, просмотр фрагментов учебных фильмов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рпретация полученных данны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воды по результатам, системная рефлексия исследовательской работ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ведение итогов урок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машнее зада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2"/>
          <p:cNvSpPr/>
          <p:nvPr/>
        </p:nvSpPr>
        <p:spPr>
          <a:xfrm>
            <a:off x="-287280" y="12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Прямоугольник 1"/>
          <p:cNvSpPr/>
          <p:nvPr/>
        </p:nvSpPr>
        <p:spPr>
          <a:xfrm>
            <a:off x="287280" y="255600"/>
            <a:ext cx="8569440" cy="618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формление результатов 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сследова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итогам урока в рабочих тетрадях учащихся должны остаться следующие записи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блема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а исследования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 исследования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потеза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верждение гипотезы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вод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2"/>
          <p:cNvSpPr/>
          <p:nvPr/>
        </p:nvSpPr>
        <p:spPr>
          <a:xfrm>
            <a:off x="-287280" y="12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Прямоугольник 1"/>
          <p:cNvSpPr/>
          <p:nvPr/>
        </p:nvSpPr>
        <p:spPr>
          <a:xfrm>
            <a:off x="0" y="549360"/>
            <a:ext cx="9144000" cy="50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        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Форма рабо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повая работа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обучение, организация и проведение исследовательской работы в команд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рная работа –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тработка отдельных этапов исследовательской деятельност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дивидуальная –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амостоятельная  исследовательская деятельность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2"/>
          <p:cNvSpPr/>
          <p:nvPr/>
        </p:nvSpPr>
        <p:spPr>
          <a:xfrm>
            <a:off x="-287280" y="12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Прямоугольник 1"/>
          <p:cNvSpPr/>
          <p:nvPr/>
        </p:nvSpPr>
        <p:spPr>
          <a:xfrm>
            <a:off x="539640" y="476280"/>
            <a:ext cx="8209080" cy="65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. Обучения исследовательской деятельности по образцу (алгаритму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ыт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абораторная работ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ктическая работ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скурсия, квест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нение различных методик наблюдени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2"/>
          <p:cNvSpPr/>
          <p:nvPr/>
        </p:nvSpPr>
        <p:spPr>
          <a:xfrm>
            <a:off x="-287280" y="12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Прямоугольник 1"/>
          <p:cNvSpPr/>
          <p:nvPr/>
        </p:nvSpPr>
        <p:spPr>
          <a:xfrm>
            <a:off x="395280" y="549360"/>
            <a:ext cx="8461440" cy="502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. Обучение  самостоятельной исследовательской  деятельно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одится  с опорой на схему исследовательской деятельности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ует вопросы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чего необходимо начинать исследование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это сделать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поступил бы исследователь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рный ли вы сделали выбор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2"/>
          <p:cNvSpPr/>
          <p:nvPr/>
        </p:nvSpPr>
        <p:spPr>
          <a:xfrm>
            <a:off x="-287280" y="12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рямоугольник 1"/>
          <p:cNvSpPr/>
          <p:nvPr/>
        </p:nvSpPr>
        <p:spPr>
          <a:xfrm>
            <a:off x="271440" y="549360"/>
            <a:ext cx="8856720" cy="56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чебные приемы исследова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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деление основной проблемы в предложенной ситуации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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ение темы и цели исследования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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улирование и отбор полезных гипотез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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ение пригодности выбранной для проверки гипотезы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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граничение допущений и доказанных положений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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ирование эксперимента для проверки гипотезы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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из планируемых опытов, выбор наиболее подходящего из них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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ирование результата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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дение эксперимента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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струирование нового варианта прибора для осуществления конкретного опыта, изготовление моделей по собственному замысл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2"/>
          <p:cNvSpPr/>
          <p:nvPr/>
        </p:nvSpPr>
        <p:spPr>
          <a:xfrm>
            <a:off x="-287280" y="12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Прямоугольник 1"/>
          <p:cNvSpPr/>
          <p:nvPr/>
        </p:nvSpPr>
        <p:spPr>
          <a:xfrm>
            <a:off x="271440" y="549360"/>
            <a:ext cx="8856720" cy="600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чебные приемы исследова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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ставление таблиц, графиков, диаграмм (для выявления закономерностей, обобщений, систематизации полученных результатов исследований, графического изображения законов, для установления связи полученных данных с поставленной проблемой и последовательности изучения данных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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стематизация фактов, явлений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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терпретация данных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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пользование обобщений, методов анализа и синтеза, индукции и дедукции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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становление аналогий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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ормулирование определений и выводов на основе теоретических и фактических исследований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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шение задач в новой ситуации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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писание учебного исследов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Прямоугольник 1"/>
          <p:cNvSpPr/>
          <p:nvPr/>
        </p:nvSpPr>
        <p:spPr>
          <a:xfrm>
            <a:off x="162000" y="260280"/>
            <a:ext cx="8820000" cy="16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Прямоугольник 1"/>
          <p:cNvSpPr/>
          <p:nvPr/>
        </p:nvSpPr>
        <p:spPr>
          <a:xfrm>
            <a:off x="250920" y="765000"/>
            <a:ext cx="8497800" cy="54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собенности публикаций об уроках- исследованиях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рок-исследование в интернет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вторы, методисты по данной тем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собенности методики уроков-исследова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чебное исследование или научное исследовани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собенности представленных материал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e2d700"/>
                </a:solidFill>
                <a:uFillTx/>
                <a:latin typeface="Times New Roman"/>
                <a:ea typeface="Times New Roman"/>
                <a:hlinkClick r:id="rId1"/>
              </a:rPr>
              <a:t>https://gekkon12.livejournal.com/24975.html</a:t>
            </a:r>
            <a:r>
              <a:rPr b="1" lang="ru-RU" sz="18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2"/>
          <p:cNvSpPr/>
          <p:nvPr/>
        </p:nvSpPr>
        <p:spPr>
          <a:xfrm>
            <a:off x="-287280" y="12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Прямоугольник 1"/>
          <p:cNvSpPr/>
          <p:nvPr/>
        </p:nvSpPr>
        <p:spPr>
          <a:xfrm>
            <a:off x="179280" y="2781360"/>
            <a:ext cx="885672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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чальный уровень - урок «Образец исследования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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двинутый уровень - урок «Исследование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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ший уровень - урок «Собственно исследование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Прямоугольник 1"/>
          <p:cNvSpPr/>
          <p:nvPr/>
        </p:nvSpPr>
        <p:spPr>
          <a:xfrm>
            <a:off x="324000" y="1130400"/>
            <a:ext cx="84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пы уроков-исследований по уровню самостоятельности учащихс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2"/>
          <p:cNvSpPr/>
          <p:nvPr/>
        </p:nvSpPr>
        <p:spPr>
          <a:xfrm>
            <a:off x="-287280" y="12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Прямоугольник 1"/>
          <p:cNvSpPr/>
          <p:nvPr/>
        </p:nvSpPr>
        <p:spPr>
          <a:xfrm>
            <a:off x="108000" y="1341360"/>
            <a:ext cx="885672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Рисунок 3" descr=""/>
          <p:cNvPicPr/>
          <p:nvPr/>
        </p:nvPicPr>
        <p:blipFill>
          <a:blip r:embed="rId1"/>
          <a:srcRect l="16933" t="12087" r="23421" b="7867"/>
          <a:stretch/>
        </p:blipFill>
        <p:spPr>
          <a:xfrm>
            <a:off x="-264960" y="-100080"/>
            <a:ext cx="9948600" cy="6969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2"/>
          <p:cNvSpPr/>
          <p:nvPr/>
        </p:nvSpPr>
        <p:spPr>
          <a:xfrm>
            <a:off x="-287280" y="12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Прямоугольник 1"/>
          <p:cNvSpPr/>
          <p:nvPr/>
        </p:nvSpPr>
        <p:spPr>
          <a:xfrm>
            <a:off x="179280" y="2781360"/>
            <a:ext cx="885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ереходим  к рассмотрени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онкретных урок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Прямоугольник 1"/>
          <p:cNvSpPr/>
          <p:nvPr/>
        </p:nvSpPr>
        <p:spPr>
          <a:xfrm>
            <a:off x="162000" y="260280"/>
            <a:ext cx="8820000" cy="42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сследовательская деятельность-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специфическая деятельность, которая регулируется сознанием и активностью личности, направлена на удовлетворение познавательных интеллектуальных потребностей, продуктом которой  является  новое зна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Прямоугольник 1"/>
          <p:cNvSpPr/>
          <p:nvPr/>
        </p:nvSpPr>
        <p:spPr>
          <a:xfrm>
            <a:off x="162000" y="476280"/>
            <a:ext cx="8820000" cy="52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onstantia"/>
                <a:ea typeface="Arial"/>
              </a:rPr>
              <a:t>     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сследовательская деятельность 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efefe"/>
                </a:solidFill>
                <a:latin typeface="Times New Roman"/>
                <a:ea typeface="Times New Roman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ение конкретных способов и средств действий, через постановку проблемы,  выявление объекта и предмета исследования, формулирование гипотезы, цели и задач исследования, проведение исследования, описание и объяснение фактов, полученных в эксперименте, проверка полученных результат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Прямоугольник 1"/>
          <p:cNvSpPr/>
          <p:nvPr/>
        </p:nvSpPr>
        <p:spPr>
          <a:xfrm>
            <a:off x="144360" y="404640"/>
            <a:ext cx="8820360" cy="42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  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рок –исследов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 уроком-исследованием предполагается деятельность обучающихся и учителя, связанная с решением обучающимися (при поддержке учителя) творческой, исследовательской задачи и предполагающая наличие основных этапов, характерных для исследова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Прямоугольник 1"/>
          <p:cNvSpPr/>
          <p:nvPr/>
        </p:nvSpPr>
        <p:spPr>
          <a:xfrm>
            <a:off x="539640" y="1052640"/>
            <a:ext cx="8209080" cy="52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Не всегда используются  стандартные этапы характерные для традиционного уро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 Главным становится открытие новых знани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Самостоятельное постижение окружающей действительност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Овладение методами научного позн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Тема, цель, гипотеза формулируются учителем совместно  с учащимис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На уроке-исследовании ставятся две цели: обучение предмету и обучение исследовательской деятель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1"/>
          <p:cNvSpPr/>
          <p:nvPr/>
        </p:nvSpPr>
        <p:spPr>
          <a:xfrm>
            <a:off x="1710000" y="336600"/>
            <a:ext cx="559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собенности урока-исслед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2"/>
          <p:cNvSpPr/>
          <p:nvPr/>
        </p:nvSpPr>
        <p:spPr>
          <a:xfrm>
            <a:off x="-287280" y="62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оугольник 1"/>
          <p:cNvSpPr/>
          <p:nvPr/>
        </p:nvSpPr>
        <p:spPr>
          <a:xfrm>
            <a:off x="611280" y="333360"/>
            <a:ext cx="8137440" cy="53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onstantia"/>
                <a:ea typeface="Arial"/>
              </a:rPr>
              <a:t>      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рок с элементами исследов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аботка отдельных элементов исследова-тельской деятельност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оки по выбору темы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ени гипотезы и методов исследования;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улирование цели и задач исследова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дением эксперимента и опыто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ы с источниками информаци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т. 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2"/>
          <p:cNvSpPr/>
          <p:nvPr/>
        </p:nvSpPr>
        <p:spPr>
          <a:xfrm>
            <a:off x="-287280" y="62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оугольник 1"/>
          <p:cNvSpPr/>
          <p:nvPr/>
        </p:nvSpPr>
        <p:spPr>
          <a:xfrm>
            <a:off x="272880" y="11160"/>
            <a:ext cx="889344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рок-исследование нацелен на формирование и развитие компетенц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Рисунок 4" descr=""/>
          <p:cNvPicPr/>
          <p:nvPr/>
        </p:nvPicPr>
        <p:blipFill>
          <a:blip r:embed="rId1"/>
          <a:srcRect l="40005" t="0" r="1984" b="0"/>
          <a:stretch/>
        </p:blipFill>
        <p:spPr>
          <a:xfrm>
            <a:off x="3492360" y="1484280"/>
            <a:ext cx="5213520" cy="4721400"/>
          </a:xfrm>
          <a:prstGeom prst="rect">
            <a:avLst/>
          </a:prstGeom>
          <a:ln w="0">
            <a:noFill/>
          </a:ln>
        </p:spPr>
      </p:pic>
      <p:pic>
        <p:nvPicPr>
          <p:cNvPr id="214" name="Рисунок 5" descr=""/>
          <p:cNvPicPr/>
          <p:nvPr/>
        </p:nvPicPr>
        <p:blipFill>
          <a:blip r:embed="rId2"/>
          <a:srcRect l="-835" t="68455" r="59334" b="1333"/>
          <a:stretch/>
        </p:blipFill>
        <p:spPr>
          <a:xfrm>
            <a:off x="0" y="3162240"/>
            <a:ext cx="3699000" cy="136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2"/>
          <p:cNvSpPr/>
          <p:nvPr/>
        </p:nvSpPr>
        <p:spPr>
          <a:xfrm>
            <a:off x="-287280" y="62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Прямоугольник 1"/>
          <p:cNvSpPr/>
          <p:nvPr/>
        </p:nvSpPr>
        <p:spPr>
          <a:xfrm>
            <a:off x="395280" y="260280"/>
            <a:ext cx="8209080" cy="49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onstantia"/>
                <a:ea typeface="Arial"/>
              </a:rPr>
              <a:t>  </a:t>
            </a:r>
            <a:r>
              <a:rPr b="1" lang="ru-RU" sz="3600" spc="-1" strike="noStrike">
                <a:solidFill>
                  <a:srgbClr val="ff0000"/>
                </a:solidFill>
                <a:latin typeface="Constantia"/>
                <a:ea typeface="Arial"/>
              </a:rPr>
              <a:t>В основе урока-исследования – деятельностный подход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  <a:ea typeface="Arial"/>
              </a:rPr>
              <a:t>-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уроке с элементами исследования учащиеся отрабатывают отдельные учебные приемы, составляющие исследовательскую деятельнос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На уроке-исследовании учащиеся овладевают методикой научного исследования, усваивают этапы научного познан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Учащиеся максимально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амостоятельно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оводят исследовательскую деятельнос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02T04:47:20Z</dcterms:created>
  <dc:creator>Евгений</dc:creator>
  <dc:description/>
  <dc:language>en-US</dc:language>
  <cp:lastModifiedBy>Козловская Инэсса Романовна</cp:lastModifiedBy>
  <cp:lastPrinted>2018-08-16T08:32:15Z</cp:lastPrinted>
  <dcterms:modified xsi:type="dcterms:W3CDTF">2020-08-21T09:54:40Z</dcterms:modified>
  <cp:revision>55</cp:revision>
  <dc:subject/>
  <dc:title>Слайд 1</dc:title>
</cp:coreProperties>
</file>