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711-9958-402D-9CFE-A687B81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DC6-A3AC-436D-84F9-C63B5883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2224-1214-47E4-B752-4E6C706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E7F40-4C55-4C57-A9D3-DA5DA8C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330DC-7BC6-4CAB-9CBF-62276FE0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2CD76-3E24-48D7-A6F2-ED2D9E4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2FD2D-3AE2-4D57-A380-BA51ABA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6ECB-119F-4F94-BF0D-FFD7F8F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639C1-DE47-48AD-8A93-E5990872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E5358-4519-47B4-95D5-04399055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E9B5B-909F-41F6-9DBE-AF6945F0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8A1-BEF0-4931-9059-B14044F6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E47-4C7E-444D-8EE7-E38F0389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1A74-3B6F-4CD0-ADE6-E30CFBFF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360E-3B95-46C7-84E9-FD235E2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1BD-6015-4365-88D9-316AFF0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F45-64AB-4D27-8142-751105D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FC65-DEA0-40EC-B523-61E93826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C5B-807F-43BF-991C-5627700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E2E-AB6D-48BB-847A-2AA7C3A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0EE-7ABE-4201-A185-C4A82216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530A-8B1D-4393-B480-17D6EA5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D9A9-36BE-436C-9881-0DB08B2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B6FA-D8F3-492B-A511-E85E9B8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094-5A77-4927-A79C-1A1608F0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FE4-31E3-4669-B2E5-15806FE1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D9FD-B1AD-4591-907A-880AC97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4863-2D29-48C9-B440-4E55642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5944-7777-46B2-977E-D9F9D2F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5424-50C8-4E1D-8F06-EE669DF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0F04-93D2-481B-838B-ADB457F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211-1824-4BE2-9BA4-2A74015A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79D3-0F98-4C5D-869D-A0359518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207-0663-4044-9406-9C40798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E121-FC53-4EFD-90EE-390C70D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8172-26C4-41B5-9DBE-3E7E0F8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1A87-3627-4070-BE30-692B045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6928-B125-4641-88C2-355EBF5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69BA-D5BA-4516-B259-AFD5B137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9A8C-4393-4C93-B347-A8A0C08D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7D60-1384-481C-A1F0-ADB131E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FD33-C012-4972-B6AD-0F6ED2D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02D-E451-4059-8F25-B498384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65C8-3D01-4FFA-B5D4-0586DCA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215A-334D-4D53-9883-2CFF89E4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52C5-DD0A-4E8D-BA9B-C9665DD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FC72-A503-487B-910F-B2605D9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A69C-0F21-4585-B50A-6286A1E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B1C0-EC73-4A43-85B7-F882D8C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6726-E95C-4EBB-ABDF-FC88E5F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33CD-98DE-43DB-9D4E-E0BF09B1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00B8-668F-4995-BD68-6439E661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70EB-2004-4DD8-A8D1-79BB6736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ACB-43E0-4824-9C81-F0CA8E87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48A4-10FF-4904-9C38-A5B841E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D17E-6540-495B-8E89-A783B61D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3AD8-0B97-462B-B5FD-520D465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55F7-A805-4AEC-9869-DDD1D0C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F446-330B-4EE9-BF9D-7B352ED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B7EE-414F-485D-94D5-1C9DD04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9C80-C4D3-402C-B4CE-8D46E7F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EF4B-F67F-487C-9A43-2985FA6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E48D-5B20-4A89-BB30-DA23BAC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6BCD-36D5-4685-8B33-2909242F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80B-ED22-4842-9978-1BB89A7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9320-DF92-483B-A5FE-3568DA85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4884-0A7B-4674-BFE8-B0D8B95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3A34-399E-451B-A949-B1FCC9D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256C-DEE3-4027-97C5-F3E8ABF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A12FA-A172-42AB-B2B8-1DF2003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F9FA0-6383-4CEB-99A4-F1C4BFF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6065-E7FA-41B2-B090-DC514D2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D5F5-E72A-49A8-9C35-0682390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3D4E1-826D-4CE8-9EAD-3AC04CD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4FE8-56B2-4985-90B2-C80B7AC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C28-71E2-4B9E-8E94-D623FEA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9DBFA-EC4D-4C80-8CC8-9B2371E0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BC18-EA4B-47EB-B694-DE1671D2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E961-951F-4614-A516-60743EFF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58E8-FCF4-4DA7-BAEA-5A5695BC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901B-5E70-4095-A984-B98C6960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ED247-7373-4984-82E3-76C8A971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BED1-360F-4591-92FC-01EF3DA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7710C-FFC5-4D41-B30E-0C1AF42F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61E21-ECFF-47A5-9859-55E7AB8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3F8C-D0D2-4F58-B836-5E2D970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5FF-E428-4E08-A4EC-CEDB718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8A79-0684-44AF-85AA-8E552DA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63B2-23DE-4A01-B927-616F6CE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5412C-235F-4914-A577-FC0475F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BEE6-74B3-4083-917B-DF7AFE3C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55C3E-5EB2-45FD-82DC-6754C0A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6B1A-5420-44A9-981D-D25D63FF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BFA7-1E3E-4381-AB34-A3A203B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248D-18C8-4A29-88B7-3BA79C9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A0B1-730B-4554-8E26-323DF60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879B-CD1D-47A5-B5CF-60E5F53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34-D276-4544-A918-9004B1B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DAF7-A3CC-4957-B5CA-A2D972F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73589-BCE7-44E8-83D0-8580298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A5820-5F24-4ABF-93F5-ADB9595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C4BA4-B96D-4473-9EB8-D78E012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2108-B887-4E33-B605-5195064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2FC2-0338-4920-9D59-5ED2CC2C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3934-3644-4E3F-BCEF-3B1B2C47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3450E-A688-417E-A969-2BDE4044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92096-BACB-420E-8A3D-B83F9D3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3A958-5590-4898-9139-BDE44F6A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808-1061-45E3-B1BF-E45A5E54A7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FAF-D061-4B9C-A578-46961A736E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427-0589-443A-8A1B-3A7A5170EE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636-E610-468F-9561-3B8C4833E4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A7C-28AD-4B10-A9C1-CAAEDA392F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7B1A-2D9F-4438-9949-1250757152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CBBD-590F-4E96-889F-53A6615191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0239-3377-4B11-B722-C9B4F88346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9EA3-CC2B-4A2B-ABA4-F15202CAFE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225360" y="19080"/>
            <a:ext cx="9497880" cy="1895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Рисунок 3" descr=""/>
          <p:cNvPicPr/>
          <p:nvPr/>
        </p:nvPicPr>
        <p:blipFill>
          <a:blip r:embed="rId2"/>
          <a:stretch/>
        </p:blipFill>
        <p:spPr>
          <a:xfrm>
            <a:off x="836640" y="1784520"/>
            <a:ext cx="7345440" cy="44989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995640" y="6332400"/>
            <a:ext cx="47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втор работы: АГИТБРИГАДА  5Д класса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108000" y="260280"/>
            <a:ext cx="8928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Физические  тренировки способствуют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хранению здоровь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вышению устойчивости к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фекциям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величение резервных си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стойчивости к эмоциональным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 физическим нагрузкам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2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4545000" cy="5824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08000" y="549360"/>
            <a:ext cx="352728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жно уверенно сказать, что физически работающие люди живут дольше и меньше болею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ак смертность от болезней сердечнососудистой системы на 1000 жителей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крестьян - </a:t>
            </a:r>
            <a:r>
              <a:rPr b="0" lang="ru-RU" sz="2000" spc="-1" strike="noStrike">
                <a:solidFill>
                  <a:srgbClr val="ffc000"/>
                </a:solidFill>
                <a:latin typeface="Franklin Gothic Book"/>
              </a:rPr>
              <a:t>12,6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рабочих - 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30,6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служащих -</a:t>
            </a:r>
            <a:r>
              <a:rPr b="0" lang="ru-RU" sz="2000" spc="-1" strike="noStrike">
                <a:solidFill>
                  <a:srgbClr val="0070c0"/>
                </a:solidFill>
                <a:latin typeface="Franklin Gothic Book"/>
              </a:rPr>
              <a:t>81,8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случае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Объект 5" descr=""/>
          <p:cNvPicPr/>
          <p:nvPr/>
        </p:nvPicPr>
        <p:blipFill>
          <a:blip r:embed="rId1"/>
          <a:stretch/>
        </p:blipFill>
        <p:spPr>
          <a:xfrm>
            <a:off x="3800520" y="425520"/>
            <a:ext cx="5214960" cy="6006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8000" y="549000"/>
            <a:ext cx="3527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казательны также цифры смертности от опухолевых заболеваний (на 1000 жителей)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крестьян -</a:t>
            </a:r>
            <a:r>
              <a:rPr b="0" lang="ru-RU" sz="2000" spc="-1" strike="noStrike">
                <a:solidFill>
                  <a:srgbClr val="ffc000"/>
                </a:solidFill>
                <a:latin typeface="Franklin Gothic Book"/>
              </a:rPr>
              <a:t>13,9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случаев, 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рабочих - </a:t>
            </a:r>
            <a:r>
              <a:rPr b="0" lang="ru-RU" sz="2000" spc="-1" strike="noStrike">
                <a:solidFill>
                  <a:srgbClr val="92d050"/>
                </a:solidFill>
                <a:latin typeface="Franklin Gothic Book"/>
              </a:rPr>
              <a:t>26,8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 служащих - </a:t>
            </a:r>
            <a:r>
              <a:rPr b="0" lang="ru-RU" sz="2000" spc="-1" strike="noStrike">
                <a:solidFill>
                  <a:srgbClr val="0070c0"/>
                </a:solidFill>
                <a:latin typeface="Franklin Gothic Book"/>
              </a:rPr>
              <a:t>56,5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, т.е. в 4 раза больше, чем у крестья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Объект 5" descr=""/>
          <p:cNvPicPr/>
          <p:nvPr/>
        </p:nvPicPr>
        <p:blipFill>
          <a:blip r:embed="rId1"/>
          <a:stretch/>
        </p:blipFill>
        <p:spPr>
          <a:xfrm>
            <a:off x="3800520" y="425520"/>
            <a:ext cx="5214960" cy="59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8000" y="4537080"/>
            <a:ext cx="892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Физически работающие люди болеют раком реже. Итак, физические тренировки способствует сохранению здоровья, повышают устойчивость организма к неблагоприятным факторам окружающей среды (инфекции, радиации, колебаниям температур и атмосферного давления, содержанию кислорода в воздухе и другим), увеличивает резервные силы организма, позволяющие переносить физические и психические нагрузк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9" name="Рисунок 5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883120" cy="4338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108000" y="115920"/>
            <a:ext cx="891216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Как же можно обеспечить так необходимый здоровью минимум физической активности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осле каждого часа работы делайте перерывы, во время которых пройдитесь по комнате (коридору)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о возможности, не пользуйтесь лифтом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о нужного Вам места, по возможности, старайтесь добраться пешком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ечером и в выходные дни отдавайте предпочтение активному отдыху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начинайте физические упражнения в медленном темпе и, только адаптировавшись к таким нагрузкам, постепенно и ступенчато повышайте их интенсивность. Сильно не переутомляйтесь, и полностью восстанавливаетесь, прежде чем начинать очередную тренировк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ри выборе вида физической активности ориентируйтесь на свои привязанности (подвижные игры, ходьба, езда на велосипеде) а в выборе времени - на особенности своего распорядка дня и особенности своего биоритма(«жаворонок» или «сова»). В первом случае, занятия физическими упражнениями предпочтительны до начала трудового дня, во втором - после его окончания. В таком случае физическая активность будет для вас в удовольствие, а значит и более полезной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занимайтесь физическими упражнениями регулярно.... И будите здоровы!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 advTm="12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108000" y="1411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как таковое может по своему действию заменить любое лечебное средство, но все лечебные средства мира не могут заменить  действие  движений!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2" name="Рисунок 2" descr=""/>
          <p:cNvPicPr/>
          <p:nvPr/>
        </p:nvPicPr>
        <p:blipFill>
          <a:blip r:embed="rId1"/>
          <a:stretch/>
        </p:blipFill>
        <p:spPr>
          <a:xfrm>
            <a:off x="1763640" y="2606760"/>
            <a:ext cx="5877000" cy="40291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"/>
          <p:cNvSpPr/>
          <p:nvPr/>
        </p:nvSpPr>
        <p:spPr>
          <a:xfrm>
            <a:off x="5911920" y="213372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Тиссо 18 век. Франция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 advTm="6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108000" y="33336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онятие «двигательная активность» включает в себя сумму всех движений, выполняемых человеком в процессе жизнедеятельност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Рисунок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5345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108000" y="115920"/>
            <a:ext cx="89280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Физическая активность снижает риск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внезапной смерти, в первую очередь ранней,  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трых сосудистых  заболеваний сердца и мозга;                                                        а                                                 - артериальной гипертензии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сахарного диабета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рака толстой кишки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психических нарушений (тревожно-депрессивных  с                                                    состояний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лучшение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контроля массы тела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прочности костной ткани (профилактика                                           о                                                    остеопороза)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качества жизн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Рисунок 3" descr=""/>
          <p:cNvPicPr/>
          <p:nvPr/>
        </p:nvPicPr>
        <p:blipFill>
          <a:blip r:embed="rId1"/>
          <a:stretch/>
        </p:blipFill>
        <p:spPr>
          <a:xfrm>
            <a:off x="131760" y="1125360"/>
            <a:ext cx="2833560" cy="4248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08000" y="307800"/>
            <a:ext cx="89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овышает устойчивость организма к действию неблагоприятных факторов, повышают иммунологические свойства крови и кожи, а также устойчивость к некоторым инфекционным заболеваниям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366920" y="1598760"/>
            <a:ext cx="6410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108000" y="189000"/>
            <a:ext cx="8928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и мышечной деятельности возникает влияние работающих мышц на внутренние органы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гут омолодить человека на 40 лет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лияют на сердечно-сосудистую систему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2" descr=""/>
          <p:cNvPicPr/>
          <p:nvPr/>
        </p:nvPicPr>
        <p:blipFill>
          <a:blip r:embed="rId1"/>
          <a:stretch/>
        </p:blipFill>
        <p:spPr>
          <a:xfrm>
            <a:off x="4762440" y="836640"/>
            <a:ext cx="3490920" cy="25923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008520" cy="2984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79280" y="1197000"/>
          <a:ext cx="8785440" cy="2376360"/>
        </p:xfrm>
        <a:graphic>
          <a:graphicData uri="http://schemas.openxmlformats.org/drawingml/2006/table">
            <a:tbl>
              <a:tblPr/>
              <a:tblGrid>
                <a:gridCol w="4170600"/>
                <a:gridCol w="461484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оизведение   пульса/минуту и   систолического д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 – 25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ДОРОВЫЕ  НЕТРЕНИРОВ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 -1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ДОРОВЫЕ  ТРЕНИРОВ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 – 8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3" name="Прямоугольник 2"/>
          <p:cNvSpPr/>
          <p:nvPr/>
        </p:nvSpPr>
        <p:spPr>
          <a:xfrm>
            <a:off x="108000" y="189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удить о тренированности сердца можно по интегральным показателям ПД (пульс- давление), который рассчитывается как произведение пульса в минуту и систолического давления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08000" y="45529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  <a:ea typeface="Arial"/>
              </a:rPr>
              <a:t>Сердце у нас одно, и оно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  <a:ea typeface="Arial"/>
              </a:rPr>
              <a:t>выполняет в течение жизни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  <a:ea typeface="Arial"/>
              </a:rPr>
              <a:t>грандиозную работу!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Рисунок 7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51440" cy="2871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108000" y="33480"/>
            <a:ext cx="892800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омощники сердца - скелетные мышцы... На уровне капилляров они присасывают артериальную кровь, нагнетают её в вены и возвращают обратно к сердцу. В нашем теле более 600 скелетных мышц, а значит и более 600 периферических помощников сердца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   возвращает кровь к сердц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одвигает кровь по венам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сасывают артериальную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787640" cy="3457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41200" y="4292640"/>
          <a:ext cx="8723520" cy="2160720"/>
        </p:xfrm>
        <a:graphic>
          <a:graphicData uri="http://schemas.openxmlformats.org/drawingml/2006/table">
            <a:tbl>
              <a:tblPr/>
              <a:tblGrid>
                <a:gridCol w="2087640"/>
                <a:gridCol w="3179880"/>
                <a:gridCol w="345600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инутный объем  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68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по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– 3,5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кращение частое, долго не восстанавлива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20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спортс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 – 3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кращение сильное, быстро восстанавлива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1763640" y="219240"/>
            <a:ext cx="5740560" cy="3830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62240" y="33336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влияют на дыхательную систему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79280" y="1397160"/>
          <a:ext cx="8785440" cy="4086000"/>
        </p:xfrm>
        <a:graphic>
          <a:graphicData uri="http://schemas.openxmlformats.org/drawingml/2006/table">
            <a:tbl>
              <a:tblPr/>
              <a:tblGrid>
                <a:gridCol w="1513080"/>
                <a:gridCol w="2001600"/>
                <a:gridCol w="1756080"/>
                <a:gridCol w="1643040"/>
                <a:gridCol w="1871640"/>
              </a:tblGrid>
              <a:tr h="1095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ыхательных движений в мину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дых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ол-во воздуха в 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478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по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 -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00 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 – 8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щение поверхностного дых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512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изическ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 – 40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– 4 тыс. 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 – 7 тыс. 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 100 – 120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лубокое, ритмичн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1:23:08Z</dcterms:created>
  <dc:creator>Владелец</dc:creator>
  <dc:description/>
  <dc:language>en-US</dc:language>
  <cp:lastModifiedBy>User</cp:lastModifiedBy>
  <dcterms:modified xsi:type="dcterms:W3CDTF">2019-12-08T17:08:52Z</dcterms:modified>
  <cp:revision>33</cp:revision>
  <dc:subject/>
  <dc:title>ФИЗИЧЕСКАЯ АКТИВНОСТЬ  – ОСНОВА ЗДОРОВОГО ОБРАЗА ЖИЗНИ</dc:title>
</cp:coreProperties>
</file>