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C1B-EEE5-47CB-AF30-B9700677A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752C-B276-43FF-8391-C4BA2480E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AB8-9F5D-490A-BA94-CB2EEA474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60B8-E3D7-4523-910B-15C6FCA55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B4F-91C5-44EC-850C-28580F27D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A7B2-9735-4066-B163-89B32569C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6360-29D0-43A9-9D2C-BC8AC6C89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49C-0BCF-4442-88CD-A146B7293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62BC-4D98-4667-B012-86E436F7B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A85-FE70-412B-B134-331F7973E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F98-8F84-42C7-AA4B-D9CA7A900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EFF-04E9-48F9-BA37-957F75EB6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2D29-CE51-4E7D-B571-544107218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6E6-E3EF-4135-9FBE-556321E93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4F5-AD51-42FB-BCFC-E959D0A5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150-70A2-4D5A-974B-0DC105F7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EF5-B6DD-41D4-9333-A25AE263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FFF-3979-4F8C-9941-F044E7F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F91-3EBA-463A-A61C-F407BAD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F6A-6C9C-4B01-A03D-06D4ACB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DC1-B0AF-4F21-8616-D447190C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347-D225-47AA-9BA5-00FBAFBF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3A7-F115-493C-9D88-AC7CFE6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F67-BF38-4A03-9AF1-E31328A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CDA-EFF5-4C77-8A89-2ED636E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5D3-5071-4755-9A54-6FDCA3A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4D53-C515-475F-98EA-D924CB9D32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9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53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55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58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63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47"/>
          <p:cNvSpPr/>
          <p:nvPr/>
        </p:nvSpPr>
        <p:spPr>
          <a:xfrm>
            <a:off x="331920" y="-3992040"/>
            <a:ext cx="8001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Дифференцированный подход в обучении математи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8"/>
          <p:cNvSpPr/>
          <p:nvPr/>
        </p:nvSpPr>
        <p:spPr>
          <a:xfrm>
            <a:off x="380880" y="6858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0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77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82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85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88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Прямоугольник 2"/>
          <p:cNvSpPr/>
          <p:nvPr/>
        </p:nvSpPr>
        <p:spPr>
          <a:xfrm>
            <a:off x="2743200" y="2136600"/>
            <a:ext cx="61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279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286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291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294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297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C:\Users\User\Pictures\55_files\bge2.png"/>
          <p:cNvPicPr/>
          <p:nvPr/>
        </p:nvPicPr>
        <p:blipFill>
          <a:blip r:embed="rId1"/>
          <a:stretch/>
        </p:blipFill>
        <p:spPr>
          <a:xfrm>
            <a:off x="1371600" y="379440"/>
            <a:ext cx="6934320" cy="58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303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310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315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318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321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C:\Users\User\Pictures\66.png"/>
          <p:cNvPicPr/>
          <p:nvPr/>
        </p:nvPicPr>
        <p:blipFill>
          <a:blip r:embed="rId1"/>
          <a:stretch/>
        </p:blipFill>
        <p:spPr>
          <a:xfrm>
            <a:off x="1752480" y="493560"/>
            <a:ext cx="624852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326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333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338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341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344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"/>
          <p:cNvSpPr/>
          <p:nvPr/>
        </p:nvSpPr>
        <p:spPr>
          <a:xfrm>
            <a:off x="547560" y="681120"/>
            <a:ext cx="811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ложительные аспекты уровневой дифференциации: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ключаются неоправданные и нецелесообразные для общества «уравниловка» и усреднение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учителя появляется возможность помогать слабому, уделять внимание силь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в классе отстающих снимает необходимость в снижении общего уровня препода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яется возможность более эффективно работать с трудными учащимися, плохо адаптирующимися к общественным норм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уется желание сильных учащихся быстрее и глубже продвигаться в образовании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ется уровень «Я - концепции»: сильные утверждаются в своих способностях, слабые получают возможность испытывать учебный успех, избавиться от комплекса неполноц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ется уровень мотивации учен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349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356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361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364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367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Text Box 65"/>
          <p:cNvSpPr/>
          <p:nvPr/>
        </p:nvSpPr>
        <p:spPr>
          <a:xfrm flipV="1" rot="10800000">
            <a:off x="606600" y="1646640"/>
            <a:ext cx="798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невая дифференцированная работа на уроке необход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способствует лучшему усвоению знаний, развитию самостоятельности работы, повышает мотивацию детей к учебной деятельности, но только в сочетании с фронтальной и индивидуальной работой приносит ожидаемые положительные результа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1600200" y="4618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372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379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384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387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390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92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96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98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0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01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106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88"/>
          <p:cNvSpPr/>
          <p:nvPr/>
        </p:nvSpPr>
        <p:spPr>
          <a:xfrm>
            <a:off x="380880" y="6858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12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9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24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27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30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2" name="Picture 115" descr="Математика: алгебра и начала математического анализа, геометрия. Алгебра и начала математического анализа. 10 класс. Базовый уровень. Учебное пособие."/>
          <p:cNvPicPr/>
          <p:nvPr/>
        </p:nvPicPr>
        <p:blipFill>
          <a:blip r:embed="rId1"/>
          <a:stretch/>
        </p:blipFill>
        <p:spPr>
          <a:xfrm>
            <a:off x="263520" y="2297160"/>
            <a:ext cx="2095560" cy="27241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743200" y="2136600"/>
            <a:ext cx="610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человек может, хочет и умеет учиться, то он будет учиться с любым учителем и по любому учебнику. Но если ему будет помогать современный, понятный и интересный учебник и неравнодушный учитель, то учение станет легким, эффективным и успешным и для ученика, и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616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Полнота содержания учебника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Дидактичес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емственность.   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аличи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ппара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риентировки учебника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4. Доступность содержания и наглядность оформ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Объект 3" descr="Математика. 5-11 классы. Программа"/>
          <p:cNvPicPr/>
          <p:nvPr/>
        </p:nvPicPr>
        <p:blipFill>
          <a:blip r:embed="rId1"/>
          <a:stretch/>
        </p:blipFill>
        <p:spPr>
          <a:xfrm>
            <a:off x="252360" y="3352680"/>
            <a:ext cx="2086200" cy="260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9" descr="Математика: алгебра и начала математического анализа, геометрия. Алгебра и начала математического анализа. Базовый уровень. 10 класс. Дидактические матер"/>
          <p:cNvPicPr/>
          <p:nvPr/>
        </p:nvPicPr>
        <p:blipFill>
          <a:blip r:embed="rId2"/>
          <a:stretch/>
        </p:blipFill>
        <p:spPr>
          <a:xfrm>
            <a:off x="152280" y="152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138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145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150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153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156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322200" y="1295280"/>
            <a:ext cx="832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 максимально, с большей отдачей, использовать каждую минуту уро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 реализовать проблему полной занятости каждого ученика на уро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ую методику избрать из многообразия методик, чтобы достичь наилучшего результат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161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168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173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176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179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990720" y="914400"/>
            <a:ext cx="788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ормы учебной работы на урок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фронтальна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групповая;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индивидуальна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184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191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196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199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202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C:\Users\User\Desktop\мое.png"/>
          <p:cNvPicPr/>
          <p:nvPr/>
        </p:nvPicPr>
        <p:blipFill>
          <a:blip r:embed="rId1"/>
          <a:stretch/>
        </p:blipFill>
        <p:spPr>
          <a:xfrm>
            <a:off x="1066680" y="318960"/>
            <a:ext cx="678204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210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217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222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225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228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C:\Users\User\Pictures\222.png"/>
          <p:cNvPicPr/>
          <p:nvPr/>
        </p:nvPicPr>
        <p:blipFill>
          <a:blip r:embed="rId1"/>
          <a:stretch/>
        </p:blipFill>
        <p:spPr>
          <a:xfrm>
            <a:off x="1371600" y="47520"/>
            <a:ext cx="678168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233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240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245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248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251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Users\User\Pictures\44_files\bgd9.png"/>
          <p:cNvPicPr/>
          <p:nvPr/>
        </p:nvPicPr>
        <p:blipFill>
          <a:blip r:embed="rId1"/>
          <a:stretch/>
        </p:blipFill>
        <p:spPr>
          <a:xfrm>
            <a:off x="1676520" y="306360"/>
            <a:ext cx="6553080" cy="62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11160" y="6120"/>
            <a:ext cx="9173160" cy="6900120"/>
            <a:chOff x="11160" y="6120"/>
            <a:chExt cx="9173160" cy="6900120"/>
          </a:xfrm>
        </p:grpSpPr>
        <p:sp>
          <p:nvSpPr>
            <p:cNvPr id="256" name="Freeform 44"/>
            <p:cNvSpPr/>
            <p:nvPr/>
          </p:nvSpPr>
          <p:spPr>
            <a:xfrm>
              <a:off x="595080" y="14940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5"/>
            <p:cNvSpPr/>
            <p:nvPr/>
          </p:nvSpPr>
          <p:spPr>
            <a:xfrm>
              <a:off x="547560" y="8424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6"/>
            <p:cNvSpPr/>
            <p:nvPr/>
          </p:nvSpPr>
          <p:spPr>
            <a:xfrm>
              <a:off x="141120" y="61272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79200" y="57168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>
              <a:off x="598320" y="674388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547560" y="681984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50"/>
            <p:cNvGrpSpPr/>
            <p:nvPr/>
          </p:nvGrpSpPr>
          <p:grpSpPr>
            <a:xfrm>
              <a:off x="8589240" y="6226920"/>
              <a:ext cx="595080" cy="671400"/>
              <a:chOff x="8589240" y="6226920"/>
              <a:chExt cx="595080" cy="671400"/>
            </a:xfrm>
          </p:grpSpPr>
          <p:sp>
            <p:nvSpPr>
              <p:cNvPr id="263" name="Arc 51"/>
              <p:cNvSpPr/>
              <p:nvPr/>
            </p:nvSpPr>
            <p:spPr>
              <a:xfrm flipH="1" flipV="1" rot="5937000">
                <a:off x="8611920" y="627696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rc 52"/>
              <p:cNvSpPr/>
              <p:nvPr/>
            </p:nvSpPr>
            <p:spPr>
              <a:xfrm flipH="1" flipV="1" rot="5937000">
                <a:off x="8634240" y="635544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53"/>
            <p:cNvSpPr/>
            <p:nvPr/>
          </p:nvSpPr>
          <p:spPr>
            <a:xfrm>
              <a:off x="9042120" y="60984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4"/>
            <p:cNvSpPr/>
            <p:nvPr/>
          </p:nvSpPr>
          <p:spPr>
            <a:xfrm>
              <a:off x="9113760" y="55728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55"/>
            <p:cNvGrpSpPr/>
            <p:nvPr/>
          </p:nvGrpSpPr>
          <p:grpSpPr>
            <a:xfrm>
              <a:off x="11160" y="9360"/>
              <a:ext cx="593640" cy="671400"/>
              <a:chOff x="11160" y="9360"/>
              <a:chExt cx="593640" cy="671400"/>
            </a:xfrm>
          </p:grpSpPr>
          <p:sp>
            <p:nvSpPr>
              <p:cNvPr id="268" name="Arc 56"/>
              <p:cNvSpPr/>
              <p:nvPr/>
            </p:nvSpPr>
            <p:spPr>
              <a:xfrm rot="5937000">
                <a:off x="54720" y="1332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rc 57"/>
              <p:cNvSpPr/>
              <p:nvPr/>
            </p:nvSpPr>
            <p:spPr>
              <a:xfrm rot="5937000">
                <a:off x="6480" y="864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58"/>
            <p:cNvGrpSpPr/>
            <p:nvPr/>
          </p:nvGrpSpPr>
          <p:grpSpPr>
            <a:xfrm>
              <a:off x="8586360" y="6120"/>
              <a:ext cx="593640" cy="671400"/>
              <a:chOff x="8586360" y="6120"/>
              <a:chExt cx="593640" cy="671400"/>
            </a:xfrm>
          </p:grpSpPr>
          <p:sp>
            <p:nvSpPr>
              <p:cNvPr id="271" name="Arc 59"/>
              <p:cNvSpPr/>
              <p:nvPr/>
            </p:nvSpPr>
            <p:spPr>
              <a:xfrm flipH="1" rot="15663000">
                <a:off x="8608680" y="12996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rc 60"/>
              <p:cNvSpPr/>
              <p:nvPr/>
            </p:nvSpPr>
            <p:spPr>
              <a:xfrm flipH="1" rot="15663000">
                <a:off x="8629560" y="831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61"/>
            <p:cNvGrpSpPr/>
            <p:nvPr/>
          </p:nvGrpSpPr>
          <p:grpSpPr>
            <a:xfrm>
              <a:off x="14400" y="6234840"/>
              <a:ext cx="593640" cy="671400"/>
              <a:chOff x="14400" y="6234840"/>
              <a:chExt cx="593640" cy="671400"/>
            </a:xfrm>
          </p:grpSpPr>
          <p:sp>
            <p:nvSpPr>
              <p:cNvPr id="274" name="Arc 62"/>
              <p:cNvSpPr/>
              <p:nvPr/>
            </p:nvSpPr>
            <p:spPr>
              <a:xfrm flipV="1" rot="15663000">
                <a:off x="57960" y="628488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rc 63"/>
              <p:cNvSpPr/>
              <p:nvPr/>
            </p:nvSpPr>
            <p:spPr>
              <a:xfrm flipV="1" rot="15663000">
                <a:off x="9720" y="636336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65"/>
          <p:cNvSpPr/>
          <p:nvPr/>
        </p:nvSpPr>
        <p:spPr>
          <a:xfrm>
            <a:off x="2425680" y="4935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Users\User\Pictures\3333_files\bgdf.png"/>
          <p:cNvPicPr/>
          <p:nvPr/>
        </p:nvPicPr>
        <p:blipFill>
          <a:blip r:embed="rId1"/>
          <a:stretch/>
        </p:blipFill>
        <p:spPr>
          <a:xfrm>
            <a:off x="1295280" y="47520"/>
            <a:ext cx="6705720" cy="654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</dc:creator>
  <dc:description/>
  <dc:language>en-US</dc:language>
  <cp:lastModifiedBy>User</cp:lastModifiedBy>
  <dcterms:modified xsi:type="dcterms:W3CDTF">2020-08-22T09:27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