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AAA-8B34-4262-835E-BBD2FA2C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1DA-592B-4629-9D22-CC7E35C8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BAF4-3E76-45AE-BD60-D0480365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8C2-1009-466A-AC1F-537C2505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34E0-38F9-46C6-ADF9-799A554A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D756-2E17-46D8-BE25-FD5FE1EA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1555-B0AD-47C0-9002-874F4A01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3049-37BE-4224-9C39-1A6E0E1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864D-12BA-4517-89D2-B93FED11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8DD1-24C2-4F39-B69C-296C3FF1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87C6-0C98-42BB-806F-4C0E8270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D25-5C78-4CD5-ADFC-3458DAF7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90EF-1A99-46C3-9B23-763D5345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ED9E-A5BC-47ED-8EB3-F02811BA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A16B-A460-4E4D-88FB-2A69F3E7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2E28-D23A-4541-B934-4C31A246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C3C1-4991-4DBB-8E08-72A7651B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D0A-C685-4D09-8FF1-67437539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720-77B0-4D69-9FDC-E4C1E6F1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4C4-8161-4D17-B0E9-0C964E4F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3E6-30EF-41F3-883A-0D2F07C1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1F5-1350-4911-B4B8-31ACF197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381-32D0-4F34-8180-9E17EB7A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9CB-46B6-4056-843D-D1D09B80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CF4-DD1D-4252-9744-6565BC896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A100-02AF-4FB3-B1C3-0934E1896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0560" y="981000"/>
            <a:ext cx="8713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убличная лекция для родител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«Дети и компьюте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</a:t>
            </a:r>
            <a:r>
              <a:rPr b="0" i="1" lang="ru-RU" sz="2400" spc="-1" strike="noStrike">
                <a:solidFill>
                  <a:srgbClr val="cc0000"/>
                </a:solidFill>
                <a:latin typeface="Calibri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6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4897440" cy="343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4739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 что же тогда ПЛОХО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263520" y="105264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лохо то, что при не соблюдении режима компьютер превращается из друга во врага. Нельзя забывать о том, что все хорошо в меру. Добрые замечательные игры, столь полезные для детей, могут стать и вредными для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язательно помните о том, что для каждого детского возраста существует ограничение по времени для занятий: в 3-4 года – ребенок может находиться у компьютера 25 минут, в 5-6 лет – 35 минут, в 7-8 – 40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лишком длительное нахождение перед компьютером может привести к ухудшению зрения, а также к психологической зависимости ребенка от виртуального мира. Но в семьях, где не пренебрегают правилом золотой середины во всем, таких проблем никогда не возник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емь шагов к спасению от компьютером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им ориентироваться в том, что интересно ребе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к можно больше времени проводить вмес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ервое время сидеть за компьютером вместе, тогда машина не станет для него большим авторите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ольше разговаривайте с ребенк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вивайте ребенку «компьютерный вкус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 покупайте жестокие иг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 забывайте, что дети по-прежнему с удовольствием рисуют, раскрашивают, играют с друзьями, лепят, занимаются спор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с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07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сихологи, к которым обращаются родители компьютерных маньяков, часто советуют приобрести ребенку собаку – она как ничто другое помогает вырвать малыша из компьютерно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Users\User\Desktop\200400806-001-410x230.jpg"/>
          <p:cNvPicPr/>
          <p:nvPr/>
        </p:nvPicPr>
        <p:blipFill>
          <a:blip r:embed="rId1"/>
          <a:stretch/>
        </p:blipFill>
        <p:spPr>
          <a:xfrm>
            <a:off x="2195640" y="3645000"/>
            <a:ext cx="568800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сё в ваших ру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Users\Ната\Downloads\фото зан. комп\фото на презент..jpg"/>
          <p:cNvPicPr/>
          <p:nvPr/>
        </p:nvPicPr>
        <p:blipFill>
          <a:blip r:embed="rId1"/>
          <a:stretch/>
        </p:blipFill>
        <p:spPr>
          <a:xfrm>
            <a:off x="1619280" y="1200240"/>
            <a:ext cx="590544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95400"/>
            <a:ext cx="8229600" cy="65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пространение телевидения, видеоигр для приставок,  персональных компьюте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остигло апогея. В современной семье, живущей в мегаполисе, нередко есть несколько телевизоров и компьютеров. На приеме родители регулярно задают вопросы: "Сколько времени в ден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зволять ребенку смотре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левизор?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"Как долго можно разреш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грать в компьютер?»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2609640" cy="357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реден ли ребенку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умеется, занятия на компьютере, просмотр телевизионных программ лучше свести к минимуму. Глупо отрицать развивающий и обучающий потенциал телевизионных и ком­пьютерных технолог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блюдается тенденция к появлению специальных детских программ и целых каналов. В то же время существует масса аргументов, свидетельствующих о вреде компьютера и телевизора. Современная медицинская наука может четко указать на основные негативные аспект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ff6600"/>
                </a:solidFill>
                <a:latin typeface="Monotype Corsiva"/>
              </a:rPr>
              <a:t>Родителей волнует безопасность ребен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Monotype Corsiva"/>
              </a:rPr>
              <a:t>у монитора, влияние излучения на здоровь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Monotype Corsiva"/>
              </a:rPr>
              <a:t>и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G:\собрания\i_001.png"/>
          <p:cNvPicPr/>
          <p:nvPr/>
        </p:nvPicPr>
        <p:blipFill>
          <a:blip r:embed="rId1"/>
          <a:stretch/>
        </p:blipFill>
        <p:spPr>
          <a:xfrm>
            <a:off x="1116000" y="2133720"/>
            <a:ext cx="7201080" cy="470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онитор и з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оретически телевизор и компьютер являются источниками стимуляции мозга через глаза. Многие часы, проводимые перед телевизором и компьютером, буквально «перезагружают" мозг ребенка, переводят его в режим пассивного визуального обучения. Следовательно, этот «заново перезагруженный" мозг не научится использовать активную мультисенсорную модель обучения, которая интегрирует зрение, слух, тактильное чувство, вкус, движение и равновес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ак это влияет на обучение в школе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озг ребенка перепрограммирован на использование очень быстрых образов и изменяющихся звуков. Как следствие, ребенок не может перестроиться на восприятие медленных образов, которые часто сопровождаются единственным звуком - голосом воспитателя или учителя. Ребенок уже не может сидеть в группе, часами каждый день, с одной и той же доминирующей зрительной точкой, слушать одного человека, если его мозг постоянно работает совершенно в друг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омпьютерные игры развивают у ребе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люс 2"/>
          <p:cNvSpPr/>
          <p:nvPr/>
        </p:nvSpPr>
        <p:spPr>
          <a:xfrm>
            <a:off x="3882960" y="2881440"/>
            <a:ext cx="1660680" cy="1614240"/>
          </a:xfrm>
          <a:custGeom>
            <a:avLst/>
            <a:gdLst>
              <a:gd name="textAreaLeft" fmla="*/ 219960 w 1660680"/>
              <a:gd name="textAreaRight" fmla="*/ 1440720 w 1660680"/>
              <a:gd name="textAreaTop" fmla="*/ 617400 h 1614240"/>
              <a:gd name="textAreaBottom" fmla="*/ 996840 h 1614240"/>
            </a:gdLst>
            <a:ahLst/>
            <a:rect l="textAreaLeft" t="textAreaTop" r="textAreaRight" b="textAreaBottom"/>
            <a:pathLst>
              <a:path w="1660525" h="1614487">
                <a:moveTo>
                  <a:pt x="220103" y="617380"/>
                </a:moveTo>
                <a:lnTo>
                  <a:pt x="640399" y="617380"/>
                </a:lnTo>
                <a:lnTo>
                  <a:pt x="640399" y="214000"/>
                </a:lnTo>
                <a:lnTo>
                  <a:pt x="1020126" y="214000"/>
                </a:lnTo>
                <a:lnTo>
                  <a:pt x="1020126" y="617380"/>
                </a:lnTo>
                <a:lnTo>
                  <a:pt x="1440422" y="617380"/>
                </a:lnTo>
                <a:lnTo>
                  <a:pt x="1440422" y="997107"/>
                </a:lnTo>
                <a:lnTo>
                  <a:pt x="1020126" y="997107"/>
                </a:lnTo>
                <a:lnTo>
                  <a:pt x="1020126" y="1400487"/>
                </a:lnTo>
                <a:lnTo>
                  <a:pt x="640399" y="1400487"/>
                </a:lnTo>
                <a:lnTo>
                  <a:pt x="640399" y="997107"/>
                </a:lnTo>
                <a:lnTo>
                  <a:pt x="220103" y="9971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4"/>
          <p:cNvCxnSpPr/>
          <p:nvPr/>
        </p:nvCxnSpPr>
        <p:spPr>
          <a:xfrm flipH="1" flipV="1">
            <a:off x="3779280" y="2809440"/>
            <a:ext cx="648360" cy="548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Прямая со стрелкой 9"/>
          <p:cNvCxnSpPr/>
          <p:nvPr/>
        </p:nvCxnSpPr>
        <p:spPr>
          <a:xfrm>
            <a:off x="4917600" y="4109760"/>
            <a:ext cx="640440" cy="70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Прямая со стрелкой 11"/>
          <p:cNvCxnSpPr/>
          <p:nvPr/>
        </p:nvCxnSpPr>
        <p:spPr>
          <a:xfrm flipH="1">
            <a:off x="3203280" y="3652560"/>
            <a:ext cx="7992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Прямая со стрелкой 13"/>
          <p:cNvCxnSpPr/>
          <p:nvPr/>
        </p:nvCxnSpPr>
        <p:spPr>
          <a:xfrm flipV="1">
            <a:off x="4917600" y="2809440"/>
            <a:ext cx="640440" cy="52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/>
          <p:nvPr/>
        </p:nvCxnSpPr>
        <p:spPr>
          <a:xfrm>
            <a:off x="5146200" y="3682800"/>
            <a:ext cx="79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H="1">
            <a:off x="3779640" y="3882600"/>
            <a:ext cx="600480" cy="6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Блок-схема: альтернативный процесс 24"/>
          <p:cNvSpPr/>
          <p:nvPr/>
        </p:nvSpPr>
        <p:spPr>
          <a:xfrm>
            <a:off x="5508720" y="1557360"/>
            <a:ext cx="1727280" cy="11541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мелкую моторику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альтернативный процесс 27"/>
          <p:cNvSpPr/>
          <p:nvPr/>
        </p:nvSpPr>
        <p:spPr>
          <a:xfrm>
            <a:off x="6262560" y="3317760"/>
            <a:ext cx="1838520" cy="114300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логическое 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альтернативный процесс 28"/>
          <p:cNvSpPr/>
          <p:nvPr/>
        </p:nvSpPr>
        <p:spPr>
          <a:xfrm>
            <a:off x="5662440" y="4991040"/>
            <a:ext cx="2294280" cy="14623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зрительно-моторную координ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альтернативный процесс 29"/>
          <p:cNvSpPr/>
          <p:nvPr/>
        </p:nvSpPr>
        <p:spPr>
          <a:xfrm>
            <a:off x="2627280" y="4811760"/>
            <a:ext cx="1800360" cy="11383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память и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альтернативный процесс 30"/>
          <p:cNvSpPr/>
          <p:nvPr/>
        </p:nvSpPr>
        <p:spPr>
          <a:xfrm>
            <a:off x="1619280" y="1557360"/>
            <a:ext cx="1984320" cy="106668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быстроту реа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альтернативный процесс 31"/>
          <p:cNvSpPr/>
          <p:nvPr/>
        </p:nvSpPr>
        <p:spPr>
          <a:xfrm>
            <a:off x="836640" y="3195720"/>
            <a:ext cx="2039760" cy="13255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изуальное восприят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омпьютерные игры учат реб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люс 2"/>
          <p:cNvSpPr/>
          <p:nvPr/>
        </p:nvSpPr>
        <p:spPr>
          <a:xfrm>
            <a:off x="3882960" y="2881440"/>
            <a:ext cx="1660680" cy="1614240"/>
          </a:xfrm>
          <a:custGeom>
            <a:avLst/>
            <a:gdLst>
              <a:gd name="textAreaLeft" fmla="*/ 219960 w 1660680"/>
              <a:gd name="textAreaRight" fmla="*/ 1440720 w 1660680"/>
              <a:gd name="textAreaTop" fmla="*/ 617400 h 1614240"/>
              <a:gd name="textAreaBottom" fmla="*/ 996840 h 1614240"/>
            </a:gdLst>
            <a:ahLst/>
            <a:rect l="textAreaLeft" t="textAreaTop" r="textAreaRight" b="textAreaBottom"/>
            <a:pathLst>
              <a:path w="1660525" h="1614487">
                <a:moveTo>
                  <a:pt x="220103" y="617380"/>
                </a:moveTo>
                <a:lnTo>
                  <a:pt x="640399" y="617380"/>
                </a:lnTo>
                <a:lnTo>
                  <a:pt x="640399" y="214000"/>
                </a:lnTo>
                <a:lnTo>
                  <a:pt x="1020126" y="214000"/>
                </a:lnTo>
                <a:lnTo>
                  <a:pt x="1020126" y="617380"/>
                </a:lnTo>
                <a:lnTo>
                  <a:pt x="1440422" y="617380"/>
                </a:lnTo>
                <a:lnTo>
                  <a:pt x="1440422" y="997107"/>
                </a:lnTo>
                <a:lnTo>
                  <a:pt x="1020126" y="997107"/>
                </a:lnTo>
                <a:lnTo>
                  <a:pt x="1020126" y="1400487"/>
                </a:lnTo>
                <a:lnTo>
                  <a:pt x="640399" y="1400487"/>
                </a:lnTo>
                <a:lnTo>
                  <a:pt x="640399" y="997107"/>
                </a:lnTo>
                <a:lnTo>
                  <a:pt x="220103" y="9971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4"/>
          <p:cNvCxnSpPr/>
          <p:nvPr/>
        </p:nvCxnSpPr>
        <p:spPr>
          <a:xfrm flipH="1" flipV="1">
            <a:off x="3203280" y="2880720"/>
            <a:ext cx="1224720" cy="477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1" name="Прямая со стрелкой 11"/>
          <p:cNvCxnSpPr/>
          <p:nvPr/>
        </p:nvCxnSpPr>
        <p:spPr>
          <a:xfrm>
            <a:off x="5076360" y="4092120"/>
            <a:ext cx="864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Прямая со стрелкой 13"/>
          <p:cNvCxnSpPr/>
          <p:nvPr/>
        </p:nvCxnSpPr>
        <p:spPr>
          <a:xfrm flipV="1">
            <a:off x="4917600" y="2881080"/>
            <a:ext cx="878760" cy="452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Прямая со стрелкой 19"/>
          <p:cNvCxnSpPr/>
          <p:nvPr/>
        </p:nvCxnSpPr>
        <p:spPr>
          <a:xfrm flipH="1">
            <a:off x="3779640" y="3882600"/>
            <a:ext cx="600480" cy="6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Блок-схема: альтернативный процесс 24"/>
          <p:cNvSpPr/>
          <p:nvPr/>
        </p:nvSpPr>
        <p:spPr>
          <a:xfrm>
            <a:off x="5919840" y="1576440"/>
            <a:ext cx="2828880" cy="17571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совершенствовать интеллектуальные нав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альтернативный процесс 29"/>
          <p:cNvSpPr/>
          <p:nvPr/>
        </p:nvSpPr>
        <p:spPr>
          <a:xfrm>
            <a:off x="5919840" y="4430880"/>
            <a:ext cx="2608200" cy="12189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добиваться своей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альтернативный процесс 30"/>
          <p:cNvSpPr/>
          <p:nvPr/>
        </p:nvSpPr>
        <p:spPr>
          <a:xfrm>
            <a:off x="611280" y="1643040"/>
            <a:ext cx="2519280" cy="147636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классифицировать и обоб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альтернативный процесс 31"/>
          <p:cNvSpPr/>
          <p:nvPr/>
        </p:nvSpPr>
        <p:spPr>
          <a:xfrm>
            <a:off x="669960" y="4092480"/>
            <a:ext cx="2933640" cy="19321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аналитически мыслить в нестандартн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5"/>
          <p:cNvCxnSpPr/>
          <p:nvPr/>
        </p:nvCxnSpPr>
        <p:spPr>
          <a:xfrm>
            <a:off x="5940000" y="495756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учающие и развивающие иг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86600" y="1052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9600" y="45975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3"/>
          <a:stretch/>
        </p:blipFill>
        <p:spPr>
          <a:xfrm>
            <a:off x="3059280" y="162864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"/>
          <p:cNvPicPr/>
          <p:nvPr/>
        </p:nvPicPr>
        <p:blipFill>
          <a:blip r:embed="rId5"/>
          <a:stretch/>
        </p:blipFill>
        <p:spPr>
          <a:xfrm>
            <a:off x="6221520" y="46213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6"/>
          <a:stretch/>
        </p:blipFill>
        <p:spPr>
          <a:xfrm>
            <a:off x="0" y="98100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0:31Z</dcterms:created>
  <dc:creator>Файл скачан с сайта http://psy.5igorsk.ru;Psy.5igorsk.ru - первый психологический портал г.Пятигорска</dc:creator>
  <dc:description/>
  <dc:language>en-US</dc:language>
  <cp:lastModifiedBy>ххх</cp:lastModifiedBy>
  <dcterms:modified xsi:type="dcterms:W3CDTF">2020-08-23T08:13:59Z</dcterms:modified>
  <cp:revision>65</cp:revision>
  <dc:subject/>
  <dc:title>Слайд 1</dc:title>
</cp:coreProperties>
</file>