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5A03A-734D-4C9F-B282-2336B05E9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52C00-F77A-48F1-93E3-42263BB18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2F535-E0A9-4320-97D8-5099F02F3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A11EC-9A5A-48A3-9427-1035C1800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ECD4E-EC78-45A9-A904-5E2090E1D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2CBEE-7B7B-4D4F-9241-C9EF7D881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0268F-9051-4D69-9AE7-B88082361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14674-927D-440F-8260-E43F437A5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0E8E5-B333-49DB-ADDC-D59DD6854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0C02B-C7A3-4FD3-A1D1-9864566FE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D16A2-DEB8-4C32-BDE9-AE388C36B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CE3EB-3DCD-4C5F-BAD1-758111891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204B4-53CD-4B61-9E38-AA3CDD91F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BD9DD-72CE-4F5A-9E55-9803517DD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97CC5-C61C-4FD8-A98E-16E2C076F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AC03B-C2C0-408C-9B8E-A0D2F200B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C290A-0A17-49A4-B7AE-14D33ED25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2D48F-1C78-4F3D-8CB9-22E2E3AC9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B9BA1-E728-49A9-AFFA-6A846A114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C75E9-9E41-43A0-BF9E-492EB0C7D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82A4C-4380-47F3-86B0-595499911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4B81C-916D-4888-85EC-DA8B93617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2B2CA-A088-42C4-B0A5-C157CF03D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5E3F7-CE7F-4C8F-ADF9-F3CE9612B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E8D7B-280D-4EF9-8BCB-6E05692E8D6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5A5F2-9C89-4FEC-836A-F583113B10A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250560" y="981000"/>
            <a:ext cx="87138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Публичная лекция для родителей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«Дети и компьютер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cc0000"/>
                </a:solidFill>
                <a:latin typeface="Calibri"/>
              </a:rPr>
              <a:t>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cc0000"/>
                </a:solidFill>
                <a:latin typeface="Calibri"/>
              </a:rPr>
              <a:t>                                                                       </a:t>
            </a:r>
            <a:r>
              <a:rPr b="0" i="1" lang="ru-RU" sz="2400" spc="-1" strike="noStrike">
                <a:solidFill>
                  <a:srgbClr val="cc0000"/>
                </a:solidFill>
                <a:latin typeface="Calibri"/>
              </a:rPr>
              <a:t>        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Рисунок 6" descr=""/>
          <p:cNvPicPr/>
          <p:nvPr/>
        </p:nvPicPr>
        <p:blipFill>
          <a:blip r:embed="rId1"/>
          <a:stretch/>
        </p:blipFill>
        <p:spPr>
          <a:xfrm>
            <a:off x="250920" y="3213000"/>
            <a:ext cx="4897440" cy="3436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55280" y="0"/>
            <a:ext cx="747396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i="1" lang="ru-RU" sz="44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А что же тогда ПЛОХО?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Прямоугольник 6"/>
          <p:cNvSpPr/>
          <p:nvPr/>
        </p:nvSpPr>
        <p:spPr>
          <a:xfrm>
            <a:off x="263520" y="1052640"/>
            <a:ext cx="86407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Плохо то, что при не соблюдении режима компьютер превращается из друга во врага. Нельзя забывать о том, что все хорошо в меру. Добрые замечательные игры, столь полезные для детей, могут стать и вредными для ни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Обязательно помните о том, что для каждого детского возраста существует ограничение по времени для занятий: в 3-4 года – ребенок может находиться у компьютера 25 минут, в 5-6 лет – 35 минут, в 7-8 – 40 мину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Слишком длительное нахождение перед компьютером может привести к ухудшению зрения, а также к психологической зависимости ребенка от виртуального мира. Но в семьях, где не пренебрегают правилом золотой середины во всем, таких проблем никогда не возникне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Семь шагов к спасению от компьютеромани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55736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75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Самим ориентироваться в том, что интересно ребенку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75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Как можно больше времени проводить вместе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75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Первое время сидеть за компьютером вместе, тогда машина не станет для него большим авторитетом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75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Больше разговаривайте с ребенком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75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Прививайте ребенку «компьютерный вкус»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75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Не покупайте жестокие игры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75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Не забывайте, что дети по-прежнему с удовольствием рисуют, раскрашивают, играют с друзьями, лепят, занимаются спортом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Кстат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90756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ru-RU" sz="32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Психологи, к которым обращаются родители компьютерных маньяков, часто советуют приобрести ребенку собаку – она как ничто другое помогает вырвать малыша из компьютерного мир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Picture 2" descr="C:\Users\User\Desktop\200400806-001-410x230.jpg"/>
          <p:cNvPicPr/>
          <p:nvPr/>
        </p:nvPicPr>
        <p:blipFill>
          <a:blip r:embed="rId1"/>
          <a:stretch/>
        </p:blipFill>
        <p:spPr>
          <a:xfrm>
            <a:off x="2195640" y="3645000"/>
            <a:ext cx="5688000" cy="29527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400" y="11592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Всё в ваших руках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Picture 4" descr="C:\Users\Ната\Downloads\фото зан. комп\фото на презент..jpg"/>
          <p:cNvPicPr/>
          <p:nvPr/>
        </p:nvPicPr>
        <p:blipFill>
          <a:blip r:embed="rId1"/>
          <a:stretch/>
        </p:blipFill>
        <p:spPr>
          <a:xfrm>
            <a:off x="1619280" y="1200240"/>
            <a:ext cx="5905440" cy="52578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457200" y="95400"/>
            <a:ext cx="8229600" cy="657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Распространение телевидения, видеоигр для приставок,  персональных компьютеров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достигло апогея. В современной семье, живущей в мегаполисе, нередко есть несколько телевизоров и компьютеров. На приеме родители регулярно задают вопросы: "Сколько времени в день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позволять ребенку смотреть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телевизор?»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"Как долго можно разрешать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играть в компьютер?» и т. д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3" descr=""/>
          <p:cNvPicPr/>
          <p:nvPr/>
        </p:nvPicPr>
        <p:blipFill>
          <a:blip r:embed="rId1"/>
          <a:stretch/>
        </p:blipFill>
        <p:spPr>
          <a:xfrm>
            <a:off x="6156360" y="3141720"/>
            <a:ext cx="2609640" cy="35701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Вреден ли ребенку компьютер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75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Разумеется, занятия на компьютере, просмотр телевизионных программ лучше свести к минимуму. Глупо отрицать развивающий и обучающий потенциал телевизионных и ком­пьютерных технологий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75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Наблюдается тенденция к появлению специальных детских программ и целых каналов. В то же время существует масса аргументов, свидетельствующих о вреде компьютера и телевизора. Современная медицинская наука может четко указать на основные негативные аспекты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6600"/>
                </a:solidFill>
                <a:latin typeface="Calibri"/>
              </a:rPr>
              <a:t>         </a:t>
            </a:r>
            <a:r>
              <a:rPr b="1" lang="ru-RU" sz="3200" spc="-1" strike="noStrike">
                <a:solidFill>
                  <a:srgbClr val="ff6600"/>
                </a:solidFill>
                <a:latin typeface="Monotype Corsiva"/>
              </a:rPr>
              <a:t>Родителей волнует безопасность ребенк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6600"/>
                </a:solidFill>
                <a:latin typeface="Monotype Corsiva"/>
              </a:rPr>
              <a:t>у монитора, влияние излучения на здоровье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6600"/>
                </a:solidFill>
                <a:latin typeface="Monotype Corsiva"/>
              </a:rPr>
              <a:t>и развит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1" descr="G:\собрания\i_001.png"/>
          <p:cNvPicPr/>
          <p:nvPr/>
        </p:nvPicPr>
        <p:blipFill>
          <a:blip r:embed="rId1"/>
          <a:stretch/>
        </p:blipFill>
        <p:spPr>
          <a:xfrm>
            <a:off x="1116000" y="2133720"/>
            <a:ext cx="7201080" cy="47037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Монитор и зре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19700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8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Теоретически телевизор и компьютер являются источниками стимуляции мозга через глаза. Многие часы, проводимые перед телевизором и компьютером, буквально «перезагружают" мозг ребенка, переводят его в режим пассивного визуального обучения. Следовательно, этот «заново перезагруженный" мозг не научится использовать активную мультисенсорную модель обучения, которая интегрирует зрение, слух, тактильное чувство, вкус, движение и равновесие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Как это влияет на обучение в школе?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324000" y="1600200"/>
            <a:ext cx="8496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28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Мозг ребенка перепрограммирован на использование очень быстрых образов и изменяющихся звуков. Как следствие, ребенок не может перестроиться на восприятие медленных образов, которые часто сопровождаются единственным звуком - голосом воспитателя или учителя. Ребенок уже не может сидеть в группе, часами каждый день, с одной и той же доминирующей зрительной точкой, слушать одного человека, если его мозг постоянно работает совершенно в другом ритме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Компьютерные игры развивают у ребенк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Плюс 2"/>
          <p:cNvSpPr/>
          <p:nvPr/>
        </p:nvSpPr>
        <p:spPr>
          <a:xfrm>
            <a:off x="3882960" y="2881440"/>
            <a:ext cx="1660680" cy="1614240"/>
          </a:xfrm>
          <a:custGeom>
            <a:avLst/>
            <a:gdLst>
              <a:gd name="textAreaLeft" fmla="*/ 219960 w 1660680"/>
              <a:gd name="textAreaRight" fmla="*/ 1440720 w 1660680"/>
              <a:gd name="textAreaTop" fmla="*/ 617400 h 1614240"/>
              <a:gd name="textAreaBottom" fmla="*/ 996840 h 1614240"/>
            </a:gdLst>
            <a:ahLst/>
            <a:rect l="textAreaLeft" t="textAreaTop" r="textAreaRight" b="textAreaBottom"/>
            <a:pathLst>
              <a:path w="1660525" h="1614487">
                <a:moveTo>
                  <a:pt x="220103" y="617380"/>
                </a:moveTo>
                <a:lnTo>
                  <a:pt x="640399" y="617380"/>
                </a:lnTo>
                <a:lnTo>
                  <a:pt x="640399" y="214000"/>
                </a:lnTo>
                <a:lnTo>
                  <a:pt x="1020126" y="214000"/>
                </a:lnTo>
                <a:lnTo>
                  <a:pt x="1020126" y="617380"/>
                </a:lnTo>
                <a:lnTo>
                  <a:pt x="1440422" y="617380"/>
                </a:lnTo>
                <a:lnTo>
                  <a:pt x="1440422" y="997107"/>
                </a:lnTo>
                <a:lnTo>
                  <a:pt x="1020126" y="997107"/>
                </a:lnTo>
                <a:lnTo>
                  <a:pt x="1020126" y="1400487"/>
                </a:lnTo>
                <a:lnTo>
                  <a:pt x="640399" y="1400487"/>
                </a:lnTo>
                <a:lnTo>
                  <a:pt x="640399" y="997107"/>
                </a:lnTo>
                <a:lnTo>
                  <a:pt x="220103" y="997107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6" name="Прямая со стрелкой 4"/>
          <p:cNvCxnSpPr/>
          <p:nvPr/>
        </p:nvCxnSpPr>
        <p:spPr>
          <a:xfrm flipH="1" flipV="1">
            <a:off x="3779280" y="2809440"/>
            <a:ext cx="648360" cy="548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Прямая со стрелкой 9"/>
          <p:cNvCxnSpPr/>
          <p:nvPr/>
        </p:nvCxnSpPr>
        <p:spPr>
          <a:xfrm>
            <a:off x="4917600" y="4109760"/>
            <a:ext cx="640440" cy="702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Прямая со стрелкой 11"/>
          <p:cNvCxnSpPr/>
          <p:nvPr/>
        </p:nvCxnSpPr>
        <p:spPr>
          <a:xfrm flipH="1">
            <a:off x="3203280" y="3652560"/>
            <a:ext cx="79920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Прямая со стрелкой 13"/>
          <p:cNvCxnSpPr/>
          <p:nvPr/>
        </p:nvCxnSpPr>
        <p:spPr>
          <a:xfrm flipV="1">
            <a:off x="4917600" y="2809440"/>
            <a:ext cx="640440" cy="524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Прямая со стрелкой 17"/>
          <p:cNvCxnSpPr/>
          <p:nvPr/>
        </p:nvCxnSpPr>
        <p:spPr>
          <a:xfrm>
            <a:off x="5146200" y="3682800"/>
            <a:ext cx="79452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Прямая со стрелкой 19"/>
          <p:cNvCxnSpPr/>
          <p:nvPr/>
        </p:nvCxnSpPr>
        <p:spPr>
          <a:xfrm flipH="1">
            <a:off x="3779640" y="3882600"/>
            <a:ext cx="600480" cy="639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Блок-схема: альтернативный процесс 24"/>
          <p:cNvSpPr/>
          <p:nvPr/>
        </p:nvSpPr>
        <p:spPr>
          <a:xfrm>
            <a:off x="5508720" y="1557360"/>
            <a:ext cx="1727280" cy="1154160"/>
          </a:xfrm>
          <a:prstGeom prst="flowChartAlternate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Calibri"/>
              </a:rPr>
              <a:t>мелкую моторику ру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Блок-схема: альтернативный процесс 27"/>
          <p:cNvSpPr/>
          <p:nvPr/>
        </p:nvSpPr>
        <p:spPr>
          <a:xfrm>
            <a:off x="6262560" y="3317760"/>
            <a:ext cx="1838520" cy="1143000"/>
          </a:xfrm>
          <a:prstGeom prst="flowChartAlternate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Calibri"/>
              </a:rPr>
              <a:t>логическое мышл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Блок-схема: альтернативный процесс 28"/>
          <p:cNvSpPr/>
          <p:nvPr/>
        </p:nvSpPr>
        <p:spPr>
          <a:xfrm>
            <a:off x="5662440" y="4991040"/>
            <a:ext cx="2294280" cy="1462320"/>
          </a:xfrm>
          <a:prstGeom prst="flowChartAlternate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Calibri"/>
              </a:rPr>
              <a:t>зрительно-моторную координаци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Блок-схема: альтернативный процесс 29"/>
          <p:cNvSpPr/>
          <p:nvPr/>
        </p:nvSpPr>
        <p:spPr>
          <a:xfrm>
            <a:off x="2627280" y="4811760"/>
            <a:ext cx="1800360" cy="1138320"/>
          </a:xfrm>
          <a:prstGeom prst="flowChartAlternate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Calibri"/>
              </a:rPr>
              <a:t>память и вним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Блок-схема: альтернативный процесс 30"/>
          <p:cNvSpPr/>
          <p:nvPr/>
        </p:nvSpPr>
        <p:spPr>
          <a:xfrm>
            <a:off x="1619280" y="1557360"/>
            <a:ext cx="1984320" cy="1066680"/>
          </a:xfrm>
          <a:prstGeom prst="flowChartAlternate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Calibri"/>
              </a:rPr>
              <a:t>быстроту реакц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Блок-схема: альтернативный процесс 31"/>
          <p:cNvSpPr/>
          <p:nvPr/>
        </p:nvSpPr>
        <p:spPr>
          <a:xfrm>
            <a:off x="836640" y="3195720"/>
            <a:ext cx="2039760" cy="1325520"/>
          </a:xfrm>
          <a:prstGeom prst="flowChartAlternate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Calibri"/>
              </a:rPr>
              <a:t>визуальное восприятие объек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Компьютерные игры учат ребен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Плюс 2"/>
          <p:cNvSpPr/>
          <p:nvPr/>
        </p:nvSpPr>
        <p:spPr>
          <a:xfrm>
            <a:off x="3882960" y="2881440"/>
            <a:ext cx="1660680" cy="1614240"/>
          </a:xfrm>
          <a:custGeom>
            <a:avLst/>
            <a:gdLst>
              <a:gd name="textAreaLeft" fmla="*/ 219960 w 1660680"/>
              <a:gd name="textAreaRight" fmla="*/ 1440720 w 1660680"/>
              <a:gd name="textAreaTop" fmla="*/ 617400 h 1614240"/>
              <a:gd name="textAreaBottom" fmla="*/ 996840 h 1614240"/>
            </a:gdLst>
            <a:ahLst/>
            <a:rect l="textAreaLeft" t="textAreaTop" r="textAreaRight" b="textAreaBottom"/>
            <a:pathLst>
              <a:path w="1660525" h="1614487">
                <a:moveTo>
                  <a:pt x="220103" y="617380"/>
                </a:moveTo>
                <a:lnTo>
                  <a:pt x="640399" y="617380"/>
                </a:lnTo>
                <a:lnTo>
                  <a:pt x="640399" y="214000"/>
                </a:lnTo>
                <a:lnTo>
                  <a:pt x="1020126" y="214000"/>
                </a:lnTo>
                <a:lnTo>
                  <a:pt x="1020126" y="617380"/>
                </a:lnTo>
                <a:lnTo>
                  <a:pt x="1440422" y="617380"/>
                </a:lnTo>
                <a:lnTo>
                  <a:pt x="1440422" y="997107"/>
                </a:lnTo>
                <a:lnTo>
                  <a:pt x="1020126" y="997107"/>
                </a:lnTo>
                <a:lnTo>
                  <a:pt x="1020126" y="1400487"/>
                </a:lnTo>
                <a:lnTo>
                  <a:pt x="640399" y="1400487"/>
                </a:lnTo>
                <a:lnTo>
                  <a:pt x="640399" y="997107"/>
                </a:lnTo>
                <a:lnTo>
                  <a:pt x="220103" y="997107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Прямая со стрелкой 4"/>
          <p:cNvCxnSpPr/>
          <p:nvPr/>
        </p:nvCxnSpPr>
        <p:spPr>
          <a:xfrm flipH="1" flipV="1">
            <a:off x="3203280" y="2880720"/>
            <a:ext cx="1224720" cy="477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1" name="Прямая со стрелкой 11"/>
          <p:cNvCxnSpPr/>
          <p:nvPr/>
        </p:nvCxnSpPr>
        <p:spPr>
          <a:xfrm>
            <a:off x="5076360" y="4092120"/>
            <a:ext cx="864360" cy="429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2" name="Прямая со стрелкой 13"/>
          <p:cNvCxnSpPr/>
          <p:nvPr/>
        </p:nvCxnSpPr>
        <p:spPr>
          <a:xfrm flipV="1">
            <a:off x="4917600" y="2881080"/>
            <a:ext cx="878760" cy="452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3" name="Прямая со стрелкой 19"/>
          <p:cNvCxnSpPr/>
          <p:nvPr/>
        </p:nvCxnSpPr>
        <p:spPr>
          <a:xfrm flipH="1">
            <a:off x="3779640" y="3882600"/>
            <a:ext cx="600480" cy="639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4" name="Блок-схема: альтернативный процесс 24"/>
          <p:cNvSpPr/>
          <p:nvPr/>
        </p:nvSpPr>
        <p:spPr>
          <a:xfrm>
            <a:off x="5919840" y="1576440"/>
            <a:ext cx="2828880" cy="1757160"/>
          </a:xfrm>
          <a:prstGeom prst="flowChartAlternate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Calibri"/>
              </a:rPr>
              <a:t>совершенствовать интеллектуальные навы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Блок-схема: альтернативный процесс 29"/>
          <p:cNvSpPr/>
          <p:nvPr/>
        </p:nvSpPr>
        <p:spPr>
          <a:xfrm>
            <a:off x="5919840" y="4430880"/>
            <a:ext cx="2608200" cy="1218960"/>
          </a:xfrm>
          <a:prstGeom prst="flowChartAlternate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Calibri"/>
              </a:rPr>
              <a:t>добиваться своей це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Блок-схема: альтернативный процесс 30"/>
          <p:cNvSpPr/>
          <p:nvPr/>
        </p:nvSpPr>
        <p:spPr>
          <a:xfrm>
            <a:off x="611280" y="1643040"/>
            <a:ext cx="2519280" cy="1476360"/>
          </a:xfrm>
          <a:prstGeom prst="flowChartAlternate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Calibri"/>
              </a:rPr>
              <a:t>классифицировать и обобщ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Блок-схема: альтернативный процесс 31"/>
          <p:cNvSpPr/>
          <p:nvPr/>
        </p:nvSpPr>
        <p:spPr>
          <a:xfrm>
            <a:off x="669960" y="4092480"/>
            <a:ext cx="2933640" cy="1932120"/>
          </a:xfrm>
          <a:prstGeom prst="flowChartAlternate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Calibri"/>
              </a:rPr>
              <a:t>аналитически мыслить в нестандартной ситу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Прямая со стрелкой 5"/>
          <p:cNvCxnSpPr/>
          <p:nvPr/>
        </p:nvCxnSpPr>
        <p:spPr>
          <a:xfrm>
            <a:off x="5940000" y="4957560"/>
            <a:ext cx="108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p:transition>
    <p:dissolve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Обучающие и развивающие игр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8" descr=""/>
          <p:cNvPicPr/>
          <p:nvPr/>
        </p:nvPicPr>
        <p:blipFill>
          <a:blip r:embed="rId1"/>
          <a:stretch/>
        </p:blipFill>
        <p:spPr>
          <a:xfrm>
            <a:off x="6186600" y="105264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9" descr=""/>
          <p:cNvPicPr/>
          <p:nvPr/>
        </p:nvPicPr>
        <p:blipFill>
          <a:blip r:embed="rId2"/>
          <a:stretch/>
        </p:blipFill>
        <p:spPr>
          <a:xfrm>
            <a:off x="39600" y="459756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0" descr=""/>
          <p:cNvPicPr/>
          <p:nvPr/>
        </p:nvPicPr>
        <p:blipFill>
          <a:blip r:embed="rId3"/>
          <a:stretch/>
        </p:blipFill>
        <p:spPr>
          <a:xfrm>
            <a:off x="3059280" y="1628640"/>
            <a:ext cx="2916000" cy="21877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3" descr=""/>
          <p:cNvPicPr/>
          <p:nvPr/>
        </p:nvPicPr>
        <p:blipFill>
          <a:blip r:embed="rId4"/>
          <a:stretch/>
        </p:blipFill>
        <p:spPr>
          <a:xfrm>
            <a:off x="3132000" y="4005360"/>
            <a:ext cx="2916360" cy="21873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4" descr=""/>
          <p:cNvPicPr/>
          <p:nvPr/>
        </p:nvPicPr>
        <p:blipFill>
          <a:blip r:embed="rId5"/>
          <a:stretch/>
        </p:blipFill>
        <p:spPr>
          <a:xfrm>
            <a:off x="6221520" y="462132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5" descr=""/>
          <p:cNvPicPr/>
          <p:nvPr/>
        </p:nvPicPr>
        <p:blipFill>
          <a:blip r:embed="rId6"/>
          <a:stretch/>
        </p:blipFill>
        <p:spPr>
          <a:xfrm>
            <a:off x="0" y="981000"/>
            <a:ext cx="2916360" cy="21877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7T18:10:31Z</dcterms:created>
  <dc:creator>Файл скачан с сайта http://psy.5igorsk.ru;Psy.5igorsk.ru - первый психологический портал г.Пятигорска</dc:creator>
  <dc:description/>
  <dc:language>en-US</dc:language>
  <cp:lastModifiedBy>ххх</cp:lastModifiedBy>
  <dcterms:modified xsi:type="dcterms:W3CDTF">2020-08-23T08:13:59Z</dcterms:modified>
  <cp:revision>65</cp:revision>
  <dc:subject/>
  <dc:title>Слайд 1</dc:title>
</cp:coreProperties>
</file>