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60D-01DB-42F4-811F-3044EB5D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1D8-C281-4ADB-AF4D-1384E547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53C-63F4-4ADB-A154-459A0D27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048-A52D-470C-848F-F4767E72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C05-29D8-400B-9CDF-8633C03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DA2-8FF6-4C7A-8E51-D103EF3C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F35-BA0E-4BD0-BDC9-04AADCBF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D98-23DA-43BD-B50B-248FFDA7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58D-6A6A-49CE-BE45-BB46A768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8E7-A846-4E1D-9F9B-0F9BB756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755-D9F7-4BD4-92EB-318875F3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4FA-99FF-4593-93A9-4C499A6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2CBC-2506-4CA1-B5D4-6A4C9E242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У "Ужурская Сред Общеобразовательная школа №3" </cp:lastModifiedBy>
  <dcterms:modified xsi:type="dcterms:W3CDTF">2010-10-15T05:29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