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D8A-B07F-4E93-B6D0-F3D303FF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1D8-C6B1-4C6A-BC6B-87F86371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BE9-3D7A-40CB-B2AF-9625727B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BFD-2943-4EBD-A068-0CDEBDD4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D2C-D38E-44D7-A9FC-71AD8317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B28-3645-4738-90F2-14B05792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47A-F5BD-4277-9A9B-479DF4BD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044-3F56-4EA8-8169-C405CBAF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C95-8318-4113-8BCD-1A1CD35F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B9C-A47A-40CD-8B19-1C259C96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21B-E3F0-40B9-B1AF-9B10DA24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A30-98CE-4198-AD23-54622C97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1BA9-4943-4B02-A61B-91B52E73C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ОУ "Ужурская Сред Общеобразовательная школа №3" </cp:lastModifiedBy>
  <dcterms:modified xsi:type="dcterms:W3CDTF">2010-10-15T05:29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