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357-08F5-40B9-B41F-E6F5BA15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B34-F847-4CE1-B78F-2F727B5C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116-7B11-409D-944E-C2D4BF84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E5F-9CDA-488B-AFC4-B00ED281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BD5-A03A-4DE4-A719-3028E87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98D-3CFB-4577-AB2D-4B9F93E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905-3FEF-434F-ABAB-6A412BC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E5E-43B4-4073-9884-C57EF087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4D7-B006-4C6A-8723-FA56A0B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F83-87D1-472A-9DC7-BF0AC66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708-700A-405F-805C-4F4FD60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D7E-9614-4183-93A0-5741606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E6F5-D321-4CEE-9552-C84A0D6F6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543800" cy="40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СПОЛЬЗОВАНИЕ ПОДКАСТОВ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Х АНГЛИЙ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ЭФФЕКТИВНЫЙ МЕТОД РАБОТЫ НАД ФОНЕТИКОЙ, ЛЕКСИКОЙ И ГРАММАТИКОЙ СОВРЕМЕННОГО БРИТАНСКОГО ЯЗЫКА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5640" y="522900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БОУ «Марьянов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ьдяева А. 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ка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(от анг. iPod и broadcast) звуковой  или видеофайл, который распространяется бесплатно через интернет для массового прослушивания или просмотра. Вы можете загрузить файлы или слушать онла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подкас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удио-под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распространение звуковых файлов определенного тематического направления. Помимо музыки, это могут быть лекции, записи блога в аудио формате и другие типы конт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ео-под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подкаст в формате видеофайла,помимо текста, автор имеет возможность предоставлять визуальную и звуков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ринк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формат подкастинга включает в себя распространение роликов, состоящих их записи происходящих на экране компьютера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ритерии выбора подкаст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кая дикция и выразительная интон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ятный голос у спик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ественный темп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для вас 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rnoutloud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айт BBC Learning English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582560" y="1600200"/>
            <a:ext cx="597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itish Counci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606680" y="1600200"/>
            <a:ext cx="593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eslpod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йт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lendid Spea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192320" y="1600200"/>
            <a:ext cx="675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3T06:57:32Z</dcterms:created>
  <dc:creator>admin</dc:creator>
  <dc:description/>
  <dc:language>en-US</dc:language>
  <cp:lastModifiedBy>admin</cp:lastModifiedBy>
  <dcterms:modified xsi:type="dcterms:W3CDTF">2020-08-23T08:30:16Z</dcterms:modified>
  <cp:revision>8</cp:revision>
  <dc:subject/>
  <dc:title>ДОКЛАД Тема: «ИСПОЛЬЗОВАНИЕ ПОДКАСТОВ НА  УРОКАХ АНГЛИЙСКОГО   КАК ЭФФЕКТИВНЫЙ МЕТОД РАБОТЫ НАД ФОНЕТИКОЙ, ЛЕКСИКОЙ И ГРАММАТИКОЙ СОВРЕМЕННОГО БРИТАНСКОГО ЯЗЫКА.»</dc:title>
</cp:coreProperties>
</file>