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C17-7761-40A2-B268-888776C8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E7B-9DA3-4590-B7A5-5D43D9E4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544-81BA-4B91-B290-93C5833B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99D-0688-4E46-92FB-DA17D1B4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E48-521A-4BD9-B31C-44BFD3D7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18A-9650-46AF-9905-08678511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6AA6-481C-44E7-8F42-DB867F06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A8D-D31D-4462-B0E9-058B82DE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909-7A92-4586-A0FE-D504EA39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D2EC-4CE1-43F1-9F13-C2CE5A19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8CE-7B0B-433C-AB44-E8E95D72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065-6892-464B-A1ED-AA155BE6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A738-E31C-46F5-A325-54794428D5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543800" cy="40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ИСПОЛЬЗОВАНИЕ ПОДКАСТОВ 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АХ АНГЛИЙСКО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ЭФФЕКТИВНЫЙ МЕТОД РАБОТЫ НАД ФОНЕТИКОЙ, ЛЕКСИКОЙ И ГРАММАТИКОЙ СОВРЕМЕННОГО БРИТАНСКОГО ЯЗЫКА.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5640" y="522900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БОУ «Марьяновская СОШ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ьдяева А. 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А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кас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(от анг. iPod и broadcast) звуковой  или видеофайл, который распространяется бесплатно через интернет для массового прослушивания или просмотра. Вы можете загрузить файлы или слушать онлай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подкас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удио-подка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это распространение звуковых файлов определенного тематического направления. Помимо музыки, это могут быть лекции, записи блога в аудио формате и другие типы конте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ео-подка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это подкаст в формате видеофайла,помимо текста, автор имеет возможность предоставлять визуальную и звуковую информа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кринка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это формат подкастинга включает в себя распространение роликов, состоящих их записи происходящих на экране компьютера действ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критерии выбора подкаст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ткая дикция и выразительная интон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ятный голос у спик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тественный темп ре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ресная для вас тема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йт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arnoutloud.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Cайт BBC Learning English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1582560" y="1600200"/>
            <a:ext cx="597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йт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ritish Counci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1606680" y="1600200"/>
            <a:ext cx="5930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йт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eslpod.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62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йт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plendid Speak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1192320" y="1600200"/>
            <a:ext cx="675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3T06:57:32Z</dcterms:created>
  <dc:creator>admin</dc:creator>
  <dc:description/>
  <dc:language>en-US</dc:language>
  <cp:lastModifiedBy>admin</cp:lastModifiedBy>
  <dcterms:modified xsi:type="dcterms:W3CDTF">2020-08-23T08:30:16Z</dcterms:modified>
  <cp:revision>8</cp:revision>
  <dc:subject/>
  <dc:title>ДОКЛАД Тема: «ИСПОЛЬЗОВАНИЕ ПОДКАСТОВ НА  УРОКАХ АНГЛИЙСКОГО   КАК ЭФФЕКТИВНЫЙ МЕТОД РАБОТЫ НАД ФОНЕТИКОЙ, ЛЕКСИКОЙ И ГРАММАТИКОЙ СОВРЕМЕННОГО БРИТАНСКОГО ЯЗЫКА.»</dc:title>
</cp:coreProperties>
</file>