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168-9F56-4D11-A5A8-80165DD1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D42-675A-4083-AAA4-8B873111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DFD-C04C-4BCD-A052-D8178051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30E-BC17-4D46-A23A-B9DD198C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5042-8EBF-402B-9BF7-C3E02363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D307-6456-4B34-8189-F4033119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B563-C801-4541-93C0-05F5D55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562F-0B81-468C-85E9-94FCA08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6ADB-CACF-494C-8FF6-DE108CFD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4646-83A8-4654-8B12-6FD2AE96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5839-C6A9-405E-BBDC-F8624F0F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4FA-3113-456D-AAC4-748400BF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4540-B18F-47EB-AE01-64733D6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FB8F-DA0B-479F-9B1F-4FC3F83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3B45-4D5D-4F02-AFAB-41CFE8D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FC20-2D17-4798-9223-FD354846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186C-0D02-4515-BC49-EE7DAF2D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E7B-5E10-484A-87B1-A082C068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907-5203-4A7F-BE26-4F7A6C88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7A5-09B8-4BC5-84E0-D0B240EF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203-F69F-4CF6-B970-64896706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CA3-3DEF-4BC6-A854-0F64CC8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860-06EC-484C-98EF-31FF1109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965-BCF5-4F39-8F78-BDF05F02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A76A-8726-4B5B-8CB6-DF3C27750E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F021-5E96-4B4E-9A46-1FAEE950F9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268360" y="566640"/>
            <a:ext cx="686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Современные формы оценивания.</a:t>
            </a:r>
            <a:br>
              <a:rPr sz="4800"/>
            </a:b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Самооценка младших школьнико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ttp://novovikri.dagschool.com/_http_schools/1721/Novovikri/fck_user_files/images/ucheniki.jpg"/>
          <p:cNvPicPr/>
          <p:nvPr/>
        </p:nvPicPr>
        <p:blipFill>
          <a:blip r:embed="rId1"/>
          <a:stretch/>
        </p:blipFill>
        <p:spPr>
          <a:xfrm>
            <a:off x="3419640" y="3500280"/>
            <a:ext cx="4392360" cy="30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581"/>
          <p:cNvSpPr/>
          <p:nvPr/>
        </p:nvSpPr>
        <p:spPr>
          <a:xfrm>
            <a:off x="2771640" y="335520"/>
            <a:ext cx="547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 индивидуальных достиж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 для более информативной обратной связ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оводу результатов обучения учени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родителями, учителями и учащимис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Лист индивидуальных достижений — это отдельный лист, на котором изображена таблиц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ксирующая в успеш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ируемых основных навыков и уме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литературному чтению, русскому языку, математик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Листы индивидуальных достижений оформляю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ем после каждого тримест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Информация Лист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при рефлекс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й деятельности учащимися при итоговом повторении и постановке задач коррекции знаний и умен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ttp://images.myshared.ru/4/232324/slide_21.jpg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484360" y="928800"/>
            <a:ext cx="6480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005c"/>
                </a:solidFill>
                <a:latin typeface="Arial"/>
              </a:rPr>
              <a:t>Виды оценивания в начальной школе: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416ba3"/>
                </a:solidFill>
                <a:latin typeface="Arial"/>
              </a:rPr>
              <a:t>1. Стартовая диагностик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16ba3"/>
                </a:solidFill>
                <a:latin typeface="Arial"/>
              </a:rPr>
              <a:t>2. Текущее оценивани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16ba3"/>
                </a:solidFill>
                <a:latin typeface="Arial"/>
              </a:rPr>
              <a:t>3. Итоговое оценив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school56-3b.ucoz.ru/_si/0/30825615.jpg"/>
          <p:cNvPicPr/>
          <p:nvPr/>
        </p:nvPicPr>
        <p:blipFill>
          <a:blip r:embed="rId1"/>
          <a:stretch/>
        </p:blipFill>
        <p:spPr>
          <a:xfrm>
            <a:off x="3059280" y="3789360"/>
            <a:ext cx="3889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33600" y="733320"/>
            <a:ext cx="48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ооценка обучающих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1700280"/>
            <a:ext cx="865080" cy="8427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995640" y="191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980880" y="193680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16ba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16ba3"/>
                </a:solidFill>
                <a:latin typeface="Arial"/>
              </a:rPr>
              <a:t>усвоил. Не испытываю трудност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3"/>
          <p:cNvSpPr/>
          <p:nvPr/>
        </p:nvSpPr>
        <p:spPr>
          <a:xfrm>
            <a:off x="2916360" y="2852640"/>
            <a:ext cx="863640" cy="792360"/>
          </a:xfrm>
          <a:prstGeom prst="ellipse">
            <a:avLst/>
          </a:prstGeom>
          <a:solidFill>
            <a:srgbClr val="dfed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269240" y="29448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6ba3"/>
                </a:solidFill>
                <a:latin typeface="Arial"/>
              </a:rPr>
              <a:t>Иногда испытываю труд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916360" y="4076640"/>
            <a:ext cx="841320" cy="843120"/>
          </a:xfrm>
          <a:prstGeom prst="ellipse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287240" y="43657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6ba3"/>
                </a:solidFill>
                <a:latin typeface="Arial"/>
              </a:rPr>
              <a:t>Надо поработа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http://school10inta.ucoz.ru/_si/0/82746451.jpg"/>
          <p:cNvPicPr/>
          <p:nvPr/>
        </p:nvPicPr>
        <p:blipFill>
          <a:blip r:embed="rId1"/>
          <a:stretch/>
        </p:blipFill>
        <p:spPr>
          <a:xfrm>
            <a:off x="5724360" y="4724280"/>
            <a:ext cx="29512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http://school10inta.ucoz.ru/_si/0/82746451.jpg"/>
          <p:cNvPicPr/>
          <p:nvPr/>
        </p:nvPicPr>
        <p:blipFill>
          <a:blip r:embed="rId1"/>
          <a:stretch/>
        </p:blipFill>
        <p:spPr>
          <a:xfrm>
            <a:off x="7020000" y="5229360"/>
            <a:ext cx="1944720" cy="143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110"/>
          <p:cNvPicPr/>
          <p:nvPr/>
        </p:nvPicPr>
        <p:blipFill>
          <a:blip r:embed="rId2"/>
          <a:stretch/>
        </p:blipFill>
        <p:spPr>
          <a:xfrm>
            <a:off x="2987640" y="4149720"/>
            <a:ext cx="4000680" cy="1467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411280" y="620640"/>
            <a:ext cx="62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есенка успех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-я ступенька – ученик не понял новое знани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чего не запомнил, у него осталось много вопросов; с самостоятельн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ботой на уроке не справился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я и 3-я ступеньки – у ученика остались вопросы по новой те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самостоятельной работе были допущены ошибк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-я ступенька – ученик хорошо усвоил ново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е и может его рассказать, в самостоятельной работе ошибок не допусти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11280" y="456480"/>
            <a:ext cx="63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арточка сомнени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- «Я понял все»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 - «Не совсем усвоил, сомневаюсь»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– «Не понял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чтения и окружающего мира при самостоятельной работе с текстом учащиеся делают пометк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 – УЖЕ ЗНАЛ Э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  - НОВ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– НЕ ПОНЯЛ, ВОЗНИК ВОПРО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– ДУМАЛ ИНАЧ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school10inta.ucoz.ru/_si/0/82746451.jpg"/>
          <p:cNvPicPr/>
          <p:nvPr/>
        </p:nvPicPr>
        <p:blipFill>
          <a:blip r:embed="rId1"/>
          <a:stretch/>
        </p:blipFill>
        <p:spPr>
          <a:xfrm>
            <a:off x="3564000" y="4292640"/>
            <a:ext cx="4176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111"/>
          <p:cNvPicPr/>
          <p:nvPr/>
        </p:nvPicPr>
        <p:blipFill>
          <a:blip r:embed="rId1"/>
          <a:stretch/>
        </p:blipFill>
        <p:spPr>
          <a:xfrm>
            <a:off x="3924360" y="1484280"/>
            <a:ext cx="2595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3711240" y="69156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лшебные линеечки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484360" y="308916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шебные линеечки, описанные  Г. А. Цукерман, являются безобидной и содержательной формой отмет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article109"/>
          <p:cNvPicPr/>
          <p:nvPr/>
        </p:nvPicPr>
        <p:blipFill>
          <a:blip r:embed="rId2"/>
          <a:stretch/>
        </p:blipFill>
        <p:spPr>
          <a:xfrm>
            <a:off x="3924360" y="4005360"/>
            <a:ext cx="2663640" cy="23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4070520" y="54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ерево успехов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rticle109"/>
          <p:cNvPicPr/>
          <p:nvPr/>
        </p:nvPicPr>
        <p:blipFill>
          <a:blip r:embed="rId1"/>
          <a:stretch/>
        </p:blipFill>
        <p:spPr>
          <a:xfrm>
            <a:off x="6948360" y="4508640"/>
            <a:ext cx="1676520" cy="1885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2700360" y="19112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уроков дети прикрепляют на дерево (нарисован плакат) плод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 или листок: яблоко – все удалос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 – неплохо поработал, но что-то не совсем получилос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к – сегодня не получилось, но я не отчаиваюсь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627280" y="65520"/>
            <a:ext cx="60069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оворящие рисунки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ы доволен собой, у тебя все получалос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рисуй улы­бающееся лиц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бе на уроке было временами непросто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се получа­лось, то рисуй такое лицо «СПОКОЙНО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бе на уроке было сложно, мног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получалос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рисуй грустное лиц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               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19"/>
          <p:cNvPicPr/>
          <p:nvPr/>
        </p:nvPicPr>
        <p:blipFill>
          <a:blip r:embed="rId1"/>
          <a:stretch/>
        </p:blipFill>
        <p:spPr>
          <a:xfrm>
            <a:off x="2771640" y="3141720"/>
            <a:ext cx="4753080" cy="143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school10inta.ucoz.ru/_si/0/82746451.jpg"/>
          <p:cNvPicPr/>
          <p:nvPr/>
        </p:nvPicPr>
        <p:blipFill>
          <a:blip r:embed="rId2"/>
          <a:stretch/>
        </p:blipFill>
        <p:spPr>
          <a:xfrm>
            <a:off x="3851280" y="4581360"/>
            <a:ext cx="4176720" cy="20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700360" y="76428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ы индивидуальных достижен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ъективного и систематического оценивания учебных достижений ученик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ностирования качества образовательного процесса на каждого учени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основным предметам заводится «Лист индивидуальных достижений»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ый заносятся планируемые результаты по учебному предмету. Успехи фиксируются условными обозначениями («Светофор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article109"/>
          <p:cNvPicPr/>
          <p:nvPr/>
        </p:nvPicPr>
        <p:blipFill>
          <a:blip r:embed="rId1"/>
          <a:stretch/>
        </p:blipFill>
        <p:spPr>
          <a:xfrm>
            <a:off x="3708360" y="3933720"/>
            <a:ext cx="369252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8:56:14Z</dcterms:created>
  <dc:creator> </dc:creator>
  <dc:description/>
  <dc:language>en-US</dc:language>
  <cp:lastModifiedBy> </cp:lastModifiedBy>
  <dcterms:modified xsi:type="dcterms:W3CDTF">2015-02-08T13:36:41Z</dcterms:modified>
  <cp:revision>24</cp:revision>
  <dc:subject/>
  <dc:title>Слайд 1</dc:title>
</cp:coreProperties>
</file>