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31C0-1DCC-4CF3-95E2-0450F7F7F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7704-D471-4499-804D-E91B0244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32D1-181F-4218-8198-5CB777EFB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4F7F-6A5D-449A-8EA0-8C464A06D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E3B5-E977-46F8-8DF4-8BB873EAC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840E-2B22-4780-A6B1-0FDC1FAB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D51A-DFDD-4EF5-B230-C5CAC0A3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6B54-F0A8-4F84-8437-856A0018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C233-7658-4D8B-BB42-7F50B8A8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44F3-0A87-41B4-BA1A-3B99BA7E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FE5B-96E2-4F84-BCB2-6DE13037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5C20-3CBD-4E88-99A2-0360E9CB2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663C-15E1-4915-ADFE-164AB2D1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6E19B-1ED8-45AD-BFE5-7D0CE953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11AF0-26C1-4D38-81CD-28854542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73D5-3F70-4F72-B3A1-5D17437AA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FCA41-4D0F-42E0-B083-0B3C7A975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4DA2-80A0-4391-BDFE-5123DC24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9548-438B-4E93-91AC-50FB72CC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6933-A857-461F-877D-82C67DE2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BC05-6DFF-4B40-A931-D426A64F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CB1B-3C10-4D4C-99D9-3042FC3B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974D-711E-44FA-AD71-8AC5ECC0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1180-C07F-4B18-9D80-C8E50C16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9C61-9B77-44B1-A4F1-3EF0CFB5198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29CF-3FE7-4AA6-84ED-A75BB27827F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5"/>
          <p:cNvSpPr/>
          <p:nvPr/>
        </p:nvSpPr>
        <p:spPr>
          <a:xfrm>
            <a:off x="2268360" y="566640"/>
            <a:ext cx="6864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66"/>
                </a:solidFill>
                <a:latin typeface="Arial"/>
              </a:rPr>
              <a:t>Современные формы оценивания.</a:t>
            </a:r>
            <a:br>
              <a:rPr sz="4800"/>
            </a:br>
            <a:r>
              <a:rPr b="0" i="1" lang="ru-RU" sz="4800" spc="-1" strike="noStrike">
                <a:solidFill>
                  <a:srgbClr val="ff0066"/>
                </a:solidFill>
                <a:latin typeface="Arial"/>
              </a:rPr>
              <a:t>Самооценка младших школьников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http://novovikri.dagschool.com/_http_schools/1721/Novovikri/fck_user_files/images/ucheniki.jpg"/>
          <p:cNvPicPr/>
          <p:nvPr/>
        </p:nvPicPr>
        <p:blipFill>
          <a:blip r:embed="rId1"/>
          <a:stretch/>
        </p:blipFill>
        <p:spPr>
          <a:xfrm>
            <a:off x="3419640" y="3500280"/>
            <a:ext cx="4392360" cy="309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581"/>
          <p:cNvSpPr/>
          <p:nvPr/>
        </p:nvSpPr>
        <p:spPr>
          <a:xfrm>
            <a:off x="2771640" y="335520"/>
            <a:ext cx="5475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ст индивидуальных достижен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еден для более информативной обратной связ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 поводу результатов обучения ученик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 родителями, учителями и учащимис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Лист индивидуальных достижений — это отдельный лист, на котором изображена таблица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ксирующая в успешност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формируемых основных навыков и умени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 литературному чтению, русскому языку, математик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 Листы индивидуальных достижений оформляютс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чителем после каждого триместр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 Информация Листо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яется при рефлекси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бной деятельности учащимися при итоговом повторении и постановке задач коррекции знаний и умений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http://images.myshared.ru/4/232324/slide_21.jpg"/>
          <p:cNvPicPr/>
          <p:nvPr/>
        </p:nvPicPr>
        <p:blipFill>
          <a:blip r:embed="rId1"/>
          <a:stretch/>
        </p:blipFill>
        <p:spPr>
          <a:xfrm>
            <a:off x="2050920" y="0"/>
            <a:ext cx="70930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2484360" y="928800"/>
            <a:ext cx="648036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005c"/>
                </a:solidFill>
                <a:latin typeface="Arial"/>
              </a:rPr>
              <a:t>Виды оценивания в начальной школе:</a:t>
            </a: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416ba3"/>
                </a:solidFill>
                <a:latin typeface="Arial"/>
              </a:rPr>
              <a:t>1. Стартовая диагностика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416ba3"/>
                </a:solidFill>
                <a:latin typeface="Arial"/>
              </a:rPr>
              <a:t>2. Текущее оценивание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416ba3"/>
                </a:solidFill>
                <a:latin typeface="Arial"/>
              </a:rPr>
              <a:t>3. Итоговое оцениван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http://school56-3b.ucoz.ru/_si/0/30825615.jpg"/>
          <p:cNvPicPr/>
          <p:nvPr/>
        </p:nvPicPr>
        <p:blipFill>
          <a:blip r:embed="rId1"/>
          <a:stretch/>
        </p:blipFill>
        <p:spPr>
          <a:xfrm>
            <a:off x="3059280" y="3789360"/>
            <a:ext cx="388908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333600" y="733320"/>
            <a:ext cx="489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Самооценка обучающихс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8"/>
          <p:cNvSpPr/>
          <p:nvPr/>
        </p:nvSpPr>
        <p:spPr>
          <a:xfrm>
            <a:off x="2843280" y="1700280"/>
            <a:ext cx="865080" cy="8427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3995640" y="1916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3980880" y="1936800"/>
            <a:ext cx="44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416ba3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416ba3"/>
                </a:solidFill>
                <a:latin typeface="Arial"/>
              </a:rPr>
              <a:t>усвоил. Не испытываю трудностей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3"/>
          <p:cNvSpPr/>
          <p:nvPr/>
        </p:nvSpPr>
        <p:spPr>
          <a:xfrm>
            <a:off x="2916360" y="2852640"/>
            <a:ext cx="863640" cy="792360"/>
          </a:xfrm>
          <a:prstGeom prst="ellipse">
            <a:avLst/>
          </a:prstGeom>
          <a:solidFill>
            <a:srgbClr val="dfed9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4269240" y="2944800"/>
            <a:ext cx="36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6ba3"/>
                </a:solidFill>
                <a:latin typeface="Arial"/>
              </a:rPr>
              <a:t>Иногда испытываю трудност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6"/>
          <p:cNvSpPr/>
          <p:nvPr/>
        </p:nvSpPr>
        <p:spPr>
          <a:xfrm>
            <a:off x="2916360" y="4076640"/>
            <a:ext cx="841320" cy="843120"/>
          </a:xfrm>
          <a:prstGeom prst="ellipse">
            <a:avLst/>
          </a:prstGeom>
          <a:solidFill>
            <a:srgbClr val="e400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4287240" y="436572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6ba3"/>
                </a:solidFill>
                <a:latin typeface="Arial"/>
              </a:rPr>
              <a:t>Надо поработат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9" descr="http://school10inta.ucoz.ru/_si/0/82746451.jpg"/>
          <p:cNvPicPr/>
          <p:nvPr/>
        </p:nvPicPr>
        <p:blipFill>
          <a:blip r:embed="rId1"/>
          <a:stretch/>
        </p:blipFill>
        <p:spPr>
          <a:xfrm>
            <a:off x="5724360" y="4724280"/>
            <a:ext cx="295128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http://school10inta.ucoz.ru/_si/0/82746451.jpg"/>
          <p:cNvPicPr/>
          <p:nvPr/>
        </p:nvPicPr>
        <p:blipFill>
          <a:blip r:embed="rId1"/>
          <a:stretch/>
        </p:blipFill>
        <p:spPr>
          <a:xfrm>
            <a:off x="7020000" y="5229360"/>
            <a:ext cx="1944720" cy="1434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1110"/>
          <p:cNvPicPr/>
          <p:nvPr/>
        </p:nvPicPr>
        <p:blipFill>
          <a:blip r:embed="rId2"/>
          <a:stretch/>
        </p:blipFill>
        <p:spPr>
          <a:xfrm>
            <a:off x="2987640" y="4149720"/>
            <a:ext cx="4000680" cy="1467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8"/>
          <p:cNvSpPr/>
          <p:nvPr/>
        </p:nvSpPr>
        <p:spPr>
          <a:xfrm>
            <a:off x="2411280" y="620640"/>
            <a:ext cx="626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Лесенка успеха»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-я ступенька – ученик не понял новое знание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чего не запомнил, у него осталось много вопросов; с самостоятельно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ботой на уроке не справился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-я и 3-я ступеньки – у ученика остались вопросы по новой теме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самостоятельной работе были допущены ошибки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-я ступенька – ученик хорошо усвоил новое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нание и может его рассказать, в самостоятельной работе ошибок не допусти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2411280" y="456480"/>
            <a:ext cx="6337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Карточка сомнений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 - «Я понял все»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  - «Не совсем усвоил, сомневаюсь»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 – «Не понял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уроках чтения и окружающего мира при самостоятельной работе с текстом учащиеся делают пометки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V – УЖЕ ЗНАЛ ЭТ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  - НОВО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 – НЕ ПОНЯЛ, ВОЗНИК ВОПРО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 – ДУМАЛ ИНАЧ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http://school10inta.ucoz.ru/_si/0/82746451.jpg"/>
          <p:cNvPicPr/>
          <p:nvPr/>
        </p:nvPicPr>
        <p:blipFill>
          <a:blip r:embed="rId1"/>
          <a:stretch/>
        </p:blipFill>
        <p:spPr>
          <a:xfrm>
            <a:off x="3564000" y="4292640"/>
            <a:ext cx="4176720" cy="20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1111"/>
          <p:cNvPicPr/>
          <p:nvPr/>
        </p:nvPicPr>
        <p:blipFill>
          <a:blip r:embed="rId1"/>
          <a:stretch/>
        </p:blipFill>
        <p:spPr>
          <a:xfrm>
            <a:off x="3924360" y="1484280"/>
            <a:ext cx="2595600" cy="1143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0"/>
          <p:cNvSpPr/>
          <p:nvPr/>
        </p:nvSpPr>
        <p:spPr>
          <a:xfrm>
            <a:off x="3711240" y="691560"/>
            <a:ext cx="29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олшебные линеечки»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3276720" y="2852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2484360" y="3089160"/>
            <a:ext cx="57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лшебные линеечки, описанные  Г. А. Цукерман, являются безобидной и содержательной формой отметк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4" descr="article109"/>
          <p:cNvPicPr/>
          <p:nvPr/>
        </p:nvPicPr>
        <p:blipFill>
          <a:blip r:embed="rId2"/>
          <a:stretch/>
        </p:blipFill>
        <p:spPr>
          <a:xfrm>
            <a:off x="3924360" y="4005360"/>
            <a:ext cx="2663640" cy="238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4070520" y="54864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Дерево успехов»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article109"/>
          <p:cNvPicPr/>
          <p:nvPr/>
        </p:nvPicPr>
        <p:blipFill>
          <a:blip r:embed="rId1"/>
          <a:stretch/>
        </p:blipFill>
        <p:spPr>
          <a:xfrm>
            <a:off x="6948360" y="4508640"/>
            <a:ext cx="1676520" cy="18856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7"/>
          <p:cNvSpPr/>
          <p:nvPr/>
        </p:nvSpPr>
        <p:spPr>
          <a:xfrm>
            <a:off x="2700360" y="191124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 уроков дети прикрепляют на дерево (нарисован плакат) плод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ок или листок: яблоко – все удалось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ок – неплохо поработал, но что-то не совсем получилось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сток – сегодня не получилось, но я не отчаиваюсь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2627280" y="65520"/>
            <a:ext cx="600696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Говорящие рисунки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ты доволен собой, у тебя все получалось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рисуй улы­бающееся лицо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тебе на уроке было временами непросто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все получа­лось, то рисуй такое лицо «СПОКОЙНОЕ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тебе на уроке было сложно, много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 получалось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рисуй грустное лицо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                </a:t>
            </a:r>
            <a:r>
              <a:rPr b="0" lang="ru-RU" sz="4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119"/>
          <p:cNvPicPr/>
          <p:nvPr/>
        </p:nvPicPr>
        <p:blipFill>
          <a:blip r:embed="rId1"/>
          <a:stretch/>
        </p:blipFill>
        <p:spPr>
          <a:xfrm>
            <a:off x="2771640" y="3141720"/>
            <a:ext cx="4753080" cy="1439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http://school10inta.ucoz.ru/_si/0/82746451.jpg"/>
          <p:cNvPicPr/>
          <p:nvPr/>
        </p:nvPicPr>
        <p:blipFill>
          <a:blip r:embed="rId2"/>
          <a:stretch/>
        </p:blipFill>
        <p:spPr>
          <a:xfrm>
            <a:off x="3851280" y="4581360"/>
            <a:ext cx="4176720" cy="208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2700360" y="764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сты индивидуальных достижений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объективного и систематического оценивания учебных достижений ученика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агностирования качества образовательного процесса на каждого ученик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 основным предметам заводится «Лист индивидуальных достижений»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оторый заносятся планируемые результаты по учебному предмету. Успехи фиксируются условными обозначениями («Светофор»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article109"/>
          <p:cNvPicPr/>
          <p:nvPr/>
        </p:nvPicPr>
        <p:blipFill>
          <a:blip r:embed="rId1"/>
          <a:stretch/>
        </p:blipFill>
        <p:spPr>
          <a:xfrm>
            <a:off x="3708360" y="3933720"/>
            <a:ext cx="3692520" cy="273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1T18:56:14Z</dcterms:created>
  <dc:creator> </dc:creator>
  <dc:description/>
  <dc:language>en-US</dc:language>
  <cp:lastModifiedBy> </cp:lastModifiedBy>
  <dcterms:modified xsi:type="dcterms:W3CDTF">2015-02-08T13:36:41Z</dcterms:modified>
  <cp:revision>24</cp:revision>
  <dc:subject/>
  <dc:title>Слайд 1</dc:title>
</cp:coreProperties>
</file>