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2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0FE-5B3B-4498-B8D6-9C80240775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19A-06B1-43CA-A218-9B793CACA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47A-D84F-4C47-9AF6-63D8734E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1FF-314C-4138-95AE-575E92E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6C9-8199-47B9-8ECF-DB874EF2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405-C70C-40D2-98F5-ACF8D393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5EBD-C544-45B9-A064-63C130B6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5A59-E3ED-452E-A97F-ABEDCBA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C230-C19B-49BE-9C28-00028A55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840C-ACB3-47E3-998C-6505A545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0172-2ACC-488C-A41D-2E9AB059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B2A6-55BA-41A5-A922-B4388DD3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39C8-B04B-413A-BB56-C600A65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067-BB4A-486A-B80F-93F5625A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5D1C-E8CE-4B94-9069-EAE1E0CF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88CB-00EA-4AFC-B6A1-70E3869E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DF94-CD5D-4A73-899D-21B7DC42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D2D1-29E1-450F-866B-FE51BC04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E1C-76CB-44B7-98DC-876AFCDF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533-3629-499D-B62C-03282A4D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844-7D1A-4BC1-9E0C-F88ECF9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54A-EC69-45EB-B780-BC2AEB7F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1E6-019D-4EB1-9AAC-3EB5473D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FB2-236E-4A17-99C8-4894DA6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167-6698-4AE1-B0D0-8832A27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C41-B0F8-418A-91D6-005A2B0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7F4A-A36B-432E-9040-556449C30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C81-AAC4-43EC-B519-F5AE0A363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71;&#1085;&#1076;&#1077;&#1082;&#1089;_&#1050;&#1072;&#1088;&#1090;&#1080;&#1085;&#1082;&#1080;%20&#1082;&#1088;&#1080;&#1089;&#1090;&#1072;&#1083;&#1083;&#1080;&#1095;&#1077;&#1089;&#1082;&#1072;&#1103;%20&#1089;&#1086;&#1076;&#1072;1.files/image001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860400"/>
            <a:ext cx="450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рок № 1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Calibri"/>
              </a:rPr>
              <a:t>Предмет и задачи химии. О понятиях и теориях хими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692360" y="836640"/>
            <a:ext cx="5111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33cccc"/>
                  </a:solidFill>
                  <a:miter/>
                </a:ln>
                <a:solidFill>
                  <a:srgbClr val="3366ff">
                    <a:alpha val="87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44280">
                <a:solidFill>
                  <a:srgbClr val="33cccc"/>
                </a:solidFill>
                <a:miter/>
              </a:ln>
              <a:solidFill>
                <a:srgbClr val="3366ff">
                  <a:alpha val="87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673800" cy="244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2"/>
          <a:stretch/>
        </p:blipFill>
        <p:spPr>
          <a:xfrm>
            <a:off x="4716360" y="3260880"/>
            <a:ext cx="3581640" cy="2976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12157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Чем отличаются два вещества — стекло и алюминий?</a:t>
            </a:r>
            <a:br>
              <a:rPr sz="4400"/>
            </a:b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Физическое тело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1496880"/>
            <a:ext cx="7920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, который состоит из вещества и имеет определенный объем, определенную массу и форму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м те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 могут быть одинаковой формы, одинакового размера, одинакового цвета, но состоять из разны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шар из металла и шар из пласт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у металла и пластмассы разная плотность, разная электрическая провод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па 2"/>
          <p:cNvGrpSpPr/>
          <p:nvPr/>
        </p:nvGrpSpPr>
        <p:grpSpPr>
          <a:xfrm>
            <a:off x="7164360" y="5291280"/>
            <a:ext cx="1566720" cy="1162080"/>
            <a:chOff x="7164360" y="5291280"/>
            <a:chExt cx="1566720" cy="1162080"/>
          </a:xfrm>
        </p:grpSpPr>
        <p:grpSp>
          <p:nvGrpSpPr>
            <p:cNvPr id="113" name="Овал 1"/>
            <p:cNvGrpSpPr/>
            <p:nvPr/>
          </p:nvGrpSpPr>
          <p:grpSpPr>
            <a:xfrm>
              <a:off x="7164360" y="5574240"/>
              <a:ext cx="1093680" cy="879120"/>
              <a:chOff x="7164360" y="5574240"/>
              <a:chExt cx="1093680" cy="879120"/>
            </a:xfrm>
          </p:grpSpPr>
          <p:pic>
            <p:nvPicPr>
              <p:cNvPr id="114" name="Овал 1" descr=""/>
              <p:cNvPicPr/>
              <p:nvPr/>
            </p:nvPicPr>
            <p:blipFill>
              <a:blip r:embed="rId1"/>
              <a:stretch/>
            </p:blipFill>
            <p:spPr>
              <a:xfrm>
                <a:off x="7164360" y="5574240"/>
                <a:ext cx="1093680" cy="87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7334640" y="5709960"/>
                <a:ext cx="75708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Овал 6"/>
            <p:cNvSpPr/>
            <p:nvPr/>
          </p:nvSpPr>
          <p:spPr>
            <a:xfrm>
              <a:off x="7661160" y="5291280"/>
              <a:ext cx="1069920" cy="854640"/>
            </a:xfrm>
            <a:prstGeom prst="ellipse">
              <a:avLst/>
            </a:prstGeom>
            <a:solidFill>
              <a:srgbClr val="558ed5"/>
            </a:solidFill>
            <a:ln w="255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28494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ловарик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916280"/>
            <a:ext cx="7129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й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−  это признаки, по которым одни вещества отличаются от других или сходны между со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76720" y="3716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7"/>
          <p:cNvCxnSpPr/>
          <p:nvPr/>
        </p:nvCxnSpPr>
        <p:spPr>
          <a:xfrm flipH="1">
            <a:off x="2483640" y="4302000"/>
            <a:ext cx="1583640" cy="2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Прямая со стрелкой 9"/>
          <p:cNvCxnSpPr/>
          <p:nvPr/>
        </p:nvCxnSpPr>
        <p:spPr>
          <a:xfrm>
            <a:off x="4642920" y="4302000"/>
            <a:ext cx="1513800" cy="2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Box 11"/>
          <p:cNvSpPr/>
          <p:nvPr/>
        </p:nvSpPr>
        <p:spPr>
          <a:xfrm>
            <a:off x="971640" y="47656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5415120" y="476568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49370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войства веществ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6640" y="1484280"/>
            <a:ext cx="727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 свойствам веществ относя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грегатное состояние (твердое, жидкое, газообразно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лес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ку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ворим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600" y="6919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Научные понят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692360" y="213372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й элемен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ая реакц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ая технолог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3166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ловарик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971640" y="198900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 совокупность научных идей и положений, которая способна объяснять известные научные факты и давать прогноз по применению и дальнейшему развитию научн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826920" y="1963800"/>
            <a:ext cx="7491600" cy="3591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982800" y="6192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Теоретические уровни химическ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403200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eeece1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Безымянный"/>
          <p:cNvPicPr/>
          <p:nvPr/>
        </p:nvPicPr>
        <p:blipFill>
          <a:blip r:embed="rId1"/>
          <a:stretch/>
        </p:blipFill>
        <p:spPr>
          <a:xfrm>
            <a:off x="4724280" y="1447920"/>
            <a:ext cx="3868920" cy="4628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45752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lonna MT"/>
              </a:rPr>
              <a:t>«Химическая наука рассматривает свойства и изменения тел…, состав тел.., объясняет причину того, что с телами при химических превращениях происходи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24000" y="2221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Colonna MT"/>
              </a:rPr>
              <a:t>М.В. Ломоносов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594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Colonna MT"/>
              </a:rPr>
              <a:t>Д.И. Менделеев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8" name="Picture 4" descr="менд"/>
          <p:cNvPicPr/>
          <p:nvPr/>
        </p:nvPicPr>
        <p:blipFill>
          <a:blip r:embed="rId1"/>
          <a:stretch/>
        </p:blipFill>
        <p:spPr>
          <a:xfrm>
            <a:off x="5410080" y="2209680"/>
            <a:ext cx="3152880" cy="4086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5032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lonna MT"/>
              </a:rPr>
              <a:t>«Химия – это учение об элементах и их соединения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1280" y="11970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Природа окружает нас загадками и  попытка их решения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принадлежит</a:t>
            </a:r>
            <a:r>
              <a:rPr b="0" i="1" lang="ru-RU" sz="4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к величайшим радостям жизни.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.Рамз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928800"/>
            <a:ext cx="510552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lonna MT"/>
              </a:rPr>
              <a:t>«Вещество – это то, что наполняет пространство, имеет вес, т.е. представляет массы, притягиваемые землею и другими массами материи, то, из чего состоят тела природы и с чем совершаются движения и явления природы. Это - …целый организм, живущий, движущийся и вступающий во взаимодейств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мендел"/>
          <p:cNvPicPr/>
          <p:nvPr/>
        </p:nvPicPr>
        <p:blipFill>
          <a:blip r:embed="rId1"/>
          <a:stretch/>
        </p:blipFill>
        <p:spPr>
          <a:xfrm>
            <a:off x="5867280" y="1413000"/>
            <a:ext cx="3068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152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Химия в нашей жизн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43" name="Picture 4" descr="Картинка 4 из 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69360" y="533520"/>
            <a:ext cx="1574640" cy="334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505240" cy="239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0" y="4335480"/>
            <a:ext cx="297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4800600" y="1905120"/>
            <a:ext cx="257184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6"/>
          <a:stretch/>
        </p:blipFill>
        <p:spPr>
          <a:xfrm>
            <a:off x="2971800" y="4092480"/>
            <a:ext cx="2971800" cy="276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горы"/>
          <p:cNvPicPr/>
          <p:nvPr/>
        </p:nvPicPr>
        <p:blipFill>
          <a:blip r:embed="rId7"/>
          <a:stretch/>
        </p:blipFill>
        <p:spPr>
          <a:xfrm>
            <a:off x="5943600" y="4416480"/>
            <a:ext cx="3200400" cy="2441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стакан воды"/>
          <p:cNvPicPr/>
          <p:nvPr/>
        </p:nvPicPr>
        <p:blipFill>
          <a:blip r:embed="rId8"/>
          <a:stretch/>
        </p:blipFill>
        <p:spPr>
          <a:xfrm>
            <a:off x="2362320" y="1523880"/>
            <a:ext cx="2063520" cy="2438640"/>
          </a:xfrm>
          <a:prstGeom prst="rect">
            <a:avLst/>
          </a:prstGeom>
          <a:ln w="0">
            <a:noFill/>
          </a:ln>
          <a:effectLst>
            <a:outerShdw dist="234128" dir="2965642" blurRad="0" rotWithShape="0">
              <a:srgbClr val="33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Что изучает химия?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94" name="Picture 2" descr="https://www.colourbox.com/preview/6004878-chemistry-lab.jpg"/>
          <p:cNvPicPr/>
          <p:nvPr/>
        </p:nvPicPr>
        <p:blipFill>
          <a:blip r:embed="rId1"/>
          <a:stretch/>
        </p:blipFill>
        <p:spPr>
          <a:xfrm>
            <a:off x="703440" y="1628640"/>
            <a:ext cx="78292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2920" y="1267920"/>
            <a:ext cx="73137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Этимология слова «ХИМ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е (Египет.)- «черная « (земл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е (Египет.) – черная на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юма(древнегреч.)-«литье» мет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м ( древнекитайск.)-«золот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ages.myshared.ru/4/119026/slide_1.jp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i.pinimg.com/originals/44/f6/eb/44f6eb69b4472106395b521bc7a7a43f.png"/>
          <p:cNvPicPr/>
          <p:nvPr/>
        </p:nvPicPr>
        <p:blipFill>
          <a:blip r:embed="rId1"/>
          <a:stretch/>
        </p:blipFill>
        <p:spPr>
          <a:xfrm>
            <a:off x="1042920" y="836640"/>
            <a:ext cx="3819600" cy="4896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4862520" y="1557360"/>
            <a:ext cx="359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я – волшебство, фокусы или наук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360" y="1974600"/>
            <a:ext cx="5040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Хим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ука о веществах, их свойствах и превращени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G:\ColorVector\img\C41-23.jpg"/>
          <p:cNvPicPr/>
          <p:nvPr/>
        </p:nvPicPr>
        <p:blipFill>
          <a:blip r:embed="rId1"/>
          <a:stretch/>
        </p:blipFill>
        <p:spPr>
          <a:xfrm>
            <a:off x="5219640" y="1628640"/>
            <a:ext cx="2889360" cy="3657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852120"/>
            <a:ext cx="7929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Что такое вещество?</a:t>
            </a:r>
            <a:br>
              <a:rPr sz="4400"/>
            </a:b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698400" y="1557360"/>
            <a:ext cx="4003920" cy="266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372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28494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ловарик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2997360"/>
            <a:ext cx="7129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ещество – это то, из чего состоят физические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5:59:10Z</dcterms:created>
  <dc:creator>Елена</dc:creator>
  <dc:description/>
  <dc:language>en-US</dc:language>
  <cp:lastModifiedBy>pk</cp:lastModifiedBy>
  <dcterms:modified xsi:type="dcterms:W3CDTF">2020-08-23T09:08:07Z</dcterms:modified>
  <cp:revision>31</cp:revision>
  <dc:subject/>
  <dc:title>Вещества и их свойства</dc:title>
</cp:coreProperties>
</file>