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2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36C-8A73-46CC-A5AC-C077E8DC6C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4F23-1346-475C-95A0-718DDEBDE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020-1F95-4147-BD24-96C82458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4A8-93B5-47D7-8085-FFAAC8D2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AF8-2850-4FF0-BF65-EF358EF8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B9B-BAE0-4724-9AE3-BD570C5F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43E8-F5D3-4CA5-98CE-219B7055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DF45-C099-4DE1-A080-103F1ADC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70A9-045E-4DB2-8184-079168BF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3A70-E307-427B-8D6E-8D89EEE1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989C-C3DE-493C-8DF0-466D5908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04CE-27DE-42A3-AB0E-D595CC2A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8BDA-19E1-46E5-A161-7808485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82F-5F21-4981-B1F6-8EBCA04B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DB5C-C7AE-4F83-BA7F-B4CFE5ED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796C-4CC3-4F55-A776-81376F98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BE20-6192-4BD8-B2AD-9A688A7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B5AF-49B8-404E-B6C6-13EEC5C3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1350-7480-473C-B098-7C8B774D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F67-F2BD-4870-8B4E-75B8D28E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073-C4F3-4ECC-8C51-12167249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9F6-81A5-4BE3-9155-C0FC35DD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2EA-A9D4-46C3-A1E4-D11CE7CB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B81-5E7F-49C4-A5DD-6A1C0558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DB2-3308-4E22-9501-4760603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972-B2A4-4215-98DE-37B75416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4E4D-5E57-4DE5-9D55-E38A5C7FF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4A2E-3417-478E-9B14-4E815EB01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71;&#1085;&#1076;&#1077;&#1082;&#1089;_&#1050;&#1072;&#1088;&#1090;&#1080;&#1085;&#1082;&#1080;%20&#1082;&#1088;&#1080;&#1089;&#1090;&#1072;&#1083;&#1083;&#1080;&#1095;&#1077;&#1089;&#1082;&#1072;&#1103;%20&#1089;&#1086;&#1076;&#1072;1.files/image001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860400"/>
            <a:ext cx="450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рок № 1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Calibri"/>
              </a:rPr>
              <a:t>Предмет и задачи химии. О понятиях и теориях хими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692360" y="836640"/>
            <a:ext cx="51116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33cccc"/>
                  </a:solidFill>
                  <a:miter/>
                </a:ln>
                <a:solidFill>
                  <a:srgbClr val="3366ff">
                    <a:alpha val="87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44280">
                <a:solidFill>
                  <a:srgbClr val="33cccc"/>
                </a:solidFill>
                <a:miter/>
              </a:ln>
              <a:solidFill>
                <a:srgbClr val="3366ff">
                  <a:alpha val="87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3673800" cy="244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2"/>
          <a:stretch/>
        </p:blipFill>
        <p:spPr>
          <a:xfrm>
            <a:off x="4716360" y="3260880"/>
            <a:ext cx="3581640" cy="2976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12157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Чем отличаются два вещества — стекло и алюминий?</a:t>
            </a:r>
            <a:br>
              <a:rPr sz="4400"/>
            </a:b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Физическое тело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1496880"/>
            <a:ext cx="7920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, который состоит из вещества и имеет определенный объем, определенную массу и форму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им те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 могут быть одинаковой формы, одинакового размера, одинакового цвета, но состоять из разны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шар из металла и шар из пласт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у металла и пластмассы разная плотность, разная электрическая провод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Группа 2"/>
          <p:cNvGrpSpPr/>
          <p:nvPr/>
        </p:nvGrpSpPr>
        <p:grpSpPr>
          <a:xfrm>
            <a:off x="7164360" y="5291280"/>
            <a:ext cx="1566720" cy="1162080"/>
            <a:chOff x="7164360" y="5291280"/>
            <a:chExt cx="1566720" cy="1162080"/>
          </a:xfrm>
        </p:grpSpPr>
        <p:grpSp>
          <p:nvGrpSpPr>
            <p:cNvPr id="113" name="Овал 1"/>
            <p:cNvGrpSpPr/>
            <p:nvPr/>
          </p:nvGrpSpPr>
          <p:grpSpPr>
            <a:xfrm>
              <a:off x="7164360" y="5574240"/>
              <a:ext cx="1093680" cy="879120"/>
              <a:chOff x="7164360" y="5574240"/>
              <a:chExt cx="1093680" cy="879120"/>
            </a:xfrm>
          </p:grpSpPr>
          <p:pic>
            <p:nvPicPr>
              <p:cNvPr id="114" name="Овал 1" descr=""/>
              <p:cNvPicPr/>
              <p:nvPr/>
            </p:nvPicPr>
            <p:blipFill>
              <a:blip r:embed="rId1"/>
              <a:stretch/>
            </p:blipFill>
            <p:spPr>
              <a:xfrm>
                <a:off x="7164360" y="5574240"/>
                <a:ext cx="1093680" cy="87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7334640" y="5709960"/>
                <a:ext cx="75708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Овал 6"/>
            <p:cNvSpPr/>
            <p:nvPr/>
          </p:nvSpPr>
          <p:spPr>
            <a:xfrm>
              <a:off x="7661160" y="5291280"/>
              <a:ext cx="1069920" cy="854640"/>
            </a:xfrm>
            <a:prstGeom prst="ellipse">
              <a:avLst/>
            </a:prstGeom>
            <a:solidFill>
              <a:srgbClr val="558ed5"/>
            </a:solidFill>
            <a:ln w="255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28494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Словарик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1916280"/>
            <a:ext cx="7129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й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−  это признаки, по которым одни вещества отличаются от других или сходны между со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76720" y="37162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7"/>
          <p:cNvCxnSpPr/>
          <p:nvPr/>
        </p:nvCxnSpPr>
        <p:spPr>
          <a:xfrm flipH="1">
            <a:off x="2483640" y="4302000"/>
            <a:ext cx="1583640" cy="2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Прямая со стрелкой 9"/>
          <p:cNvCxnSpPr/>
          <p:nvPr/>
        </p:nvCxnSpPr>
        <p:spPr>
          <a:xfrm>
            <a:off x="4642920" y="4302000"/>
            <a:ext cx="1513800" cy="28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TextBox 11"/>
          <p:cNvSpPr/>
          <p:nvPr/>
        </p:nvSpPr>
        <p:spPr>
          <a:xfrm>
            <a:off x="971640" y="47656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5415120" y="476568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49370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Свойства веществ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6640" y="1484280"/>
            <a:ext cx="727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 свойствам веществ относя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грегатное состояние (твердое, жидкое, газообразное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лес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ку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ворим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600" y="6919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Научные понятия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692360" y="2133720"/>
            <a:ext cx="58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й элемен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ек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ая реакц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ая технолог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3166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Словарик 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971640" y="198900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 совокупность научных идей и положений, которая способна объяснять известные научные факты и давать прогноз по применению и дальнейшему развитию научн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826920" y="1963800"/>
            <a:ext cx="7491600" cy="3591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982800" y="6192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Теоретические уровни химическ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403200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Великий"/>
          <p:cNvPicPr/>
          <p:nvPr/>
        </p:nvPicPr>
        <p:blipFill>
          <a:blip r:embed="rId1"/>
          <a:stretch/>
        </p:blipFill>
        <p:spPr>
          <a:xfrm>
            <a:off x="5148360" y="838080"/>
            <a:ext cx="3398760" cy="4751640"/>
          </a:xfrm>
          <a:prstGeom prst="rect">
            <a:avLst/>
          </a:prstGeom>
          <a:ln w="127080">
            <a:solidFill>
              <a:srgbClr val="eeece1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Безымянный"/>
          <p:cNvPicPr/>
          <p:nvPr/>
        </p:nvPicPr>
        <p:blipFill>
          <a:blip r:embed="rId1"/>
          <a:stretch/>
        </p:blipFill>
        <p:spPr>
          <a:xfrm>
            <a:off x="4724280" y="1447920"/>
            <a:ext cx="3868920" cy="4628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45752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lonna MT"/>
              </a:rPr>
              <a:t>«Химическая наука рассматривает свойства и изменения тел…, состав тел.., объясняет причину того, что с телами при химических превращениях происходи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24000" y="2221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Colonna MT"/>
              </a:rPr>
              <a:t>М.В. Ломоносов</a:t>
            </a: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5940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Colonna MT"/>
              </a:rPr>
              <a:t>Д.И. Менделеев</a:t>
            </a: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38" name="Picture 4" descr="менд"/>
          <p:cNvPicPr/>
          <p:nvPr/>
        </p:nvPicPr>
        <p:blipFill>
          <a:blip r:embed="rId1"/>
          <a:stretch/>
        </p:blipFill>
        <p:spPr>
          <a:xfrm>
            <a:off x="5410080" y="2209680"/>
            <a:ext cx="3152880" cy="4086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5032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lonna MT"/>
              </a:rPr>
              <a:t>«Химия – это учение об элементах и их соединения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11280" y="11970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alibri"/>
              </a:rPr>
              <a:t>Природа окружает нас загадками и  попытка их решения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alibri"/>
              </a:rPr>
              <a:t>принадлежит</a:t>
            </a:r>
            <a:r>
              <a:rPr b="0" i="1" lang="ru-RU" sz="4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Calibri"/>
              </a:rPr>
              <a:t>к величайшим радостям жизни.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.Рамз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928800"/>
            <a:ext cx="510552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lonna MT"/>
              </a:rPr>
              <a:t>«Вещество – это то, что наполняет пространство, имеет вес, т.е. представляет массы, притягиваемые землею и другими массами материи, то, из чего состоят тела природы и с чем совершаются движения и явления природы. Это - …целый организм, живущий, движущийся и вступающий во взаимодейств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мендел"/>
          <p:cNvPicPr/>
          <p:nvPr/>
        </p:nvPicPr>
        <p:blipFill>
          <a:blip r:embed="rId1"/>
          <a:stretch/>
        </p:blipFill>
        <p:spPr>
          <a:xfrm>
            <a:off x="5867280" y="1413000"/>
            <a:ext cx="3068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152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Химия в нашей жизни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43" name="Picture 4" descr="Картинка 4 из 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69360" y="533520"/>
            <a:ext cx="1574640" cy="3343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505240" cy="239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0" y="4335480"/>
            <a:ext cx="2971800" cy="2522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5"/>
          <a:stretch/>
        </p:blipFill>
        <p:spPr>
          <a:xfrm>
            <a:off x="4800600" y="1905120"/>
            <a:ext cx="257184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6"/>
          <a:stretch/>
        </p:blipFill>
        <p:spPr>
          <a:xfrm>
            <a:off x="2971800" y="4092480"/>
            <a:ext cx="2971800" cy="276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горы"/>
          <p:cNvPicPr/>
          <p:nvPr/>
        </p:nvPicPr>
        <p:blipFill>
          <a:blip r:embed="rId7"/>
          <a:stretch/>
        </p:blipFill>
        <p:spPr>
          <a:xfrm>
            <a:off x="5943600" y="4416480"/>
            <a:ext cx="3200400" cy="2441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стакан воды"/>
          <p:cNvPicPr/>
          <p:nvPr/>
        </p:nvPicPr>
        <p:blipFill>
          <a:blip r:embed="rId8"/>
          <a:stretch/>
        </p:blipFill>
        <p:spPr>
          <a:xfrm>
            <a:off x="2362320" y="1523880"/>
            <a:ext cx="2063520" cy="2438640"/>
          </a:xfrm>
          <a:prstGeom prst="rect">
            <a:avLst/>
          </a:prstGeom>
          <a:ln w="0">
            <a:noFill/>
          </a:ln>
          <a:effectLst>
            <a:outerShdw dist="234128" dir="2965642" blurRad="0" rotWithShape="0">
              <a:srgbClr val="33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Что изучает химия?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94" name="Picture 2" descr="https://www.colourbox.com/preview/6004878-chemistry-lab.jpg"/>
          <p:cNvPicPr/>
          <p:nvPr/>
        </p:nvPicPr>
        <p:blipFill>
          <a:blip r:embed="rId1"/>
          <a:stretch/>
        </p:blipFill>
        <p:spPr>
          <a:xfrm>
            <a:off x="703440" y="1628640"/>
            <a:ext cx="78292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42920" y="1267920"/>
            <a:ext cx="73137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Этимология слова «ХИМ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еме (Египет.)- «черная « (земл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еме (Египет.) – черная на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юма(древнегреч.)-«литье» мета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м ( древнекитайск.)-«золот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ages.myshared.ru/4/119026/slide_1.jpg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i.pinimg.com/originals/44/f6/eb/44f6eb69b4472106395b521bc7a7a43f.png"/>
          <p:cNvPicPr/>
          <p:nvPr/>
        </p:nvPicPr>
        <p:blipFill>
          <a:blip r:embed="rId1"/>
          <a:stretch/>
        </p:blipFill>
        <p:spPr>
          <a:xfrm>
            <a:off x="1042920" y="836640"/>
            <a:ext cx="3819600" cy="4896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4862520" y="1557360"/>
            <a:ext cx="359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имия – волшебство, фокусы или наук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360" y="1974600"/>
            <a:ext cx="5040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Хим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ука о веществах, их свойствах и превращения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G:\ColorVector\img\C41-23.jpg"/>
          <p:cNvPicPr/>
          <p:nvPr/>
        </p:nvPicPr>
        <p:blipFill>
          <a:blip r:embed="rId1"/>
          <a:stretch/>
        </p:blipFill>
        <p:spPr>
          <a:xfrm>
            <a:off x="5219640" y="1628640"/>
            <a:ext cx="2889360" cy="3657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6600" y="852120"/>
            <a:ext cx="7929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Что такое вещество?</a:t>
            </a:r>
            <a:br>
              <a:rPr sz="4400"/>
            </a:b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698400" y="1557360"/>
            <a:ext cx="4003920" cy="266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372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28494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Словарик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640" y="2997360"/>
            <a:ext cx="7129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ещество – это то, из чего состоят физические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5:59:10Z</dcterms:created>
  <dc:creator>Елена</dc:creator>
  <dc:description/>
  <dc:language>en-US</dc:language>
  <cp:lastModifiedBy>pk</cp:lastModifiedBy>
  <dcterms:modified xsi:type="dcterms:W3CDTF">2020-08-23T09:08:07Z</dcterms:modified>
  <cp:revision>31</cp:revision>
  <dc:subject/>
  <dc:title>Вещества и их свойства</dc:title>
</cp:coreProperties>
</file>