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483920" y="899640"/>
            <a:ext cx="458316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0720" y="4679640"/>
            <a:ext cx="61135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280040" y="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280040" y="10156320"/>
            <a:ext cx="3273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B7BB2-103E-4DDC-9FEA-14DDF77221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3A2B9-4474-465E-8F12-FB880077D9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51DAC-E403-4DD5-AA99-45DAE84C63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7EBB6-6183-43D1-8783-61D51EC8F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1473-6D14-4D87-9395-E94E2A116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5D7BD-2956-4180-B33B-E24B788496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3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420A8-69E0-472B-A796-21324393D9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769F4-89E9-41C0-A6C1-4F6EA7AD19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7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2DDA4-97B6-408F-A1C2-50BBE32CCD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8415-6EF4-4B64-9E2B-B3DE4C77F6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1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E52E8-7410-487C-8F5F-5AF54FD49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6316-54B4-4A87-BA25-1670425D91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5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EFEA1-6758-45CA-975A-A37E259FBC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1735C-75D9-4112-869D-4968CF25C4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8FE0-9F16-4D7F-A7A6-A185E28260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24413-5E53-419D-B066-5389524D88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3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42C85-1C7C-4A00-8B90-801A5D5E27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3D3F9-E638-498E-9026-EA21B58DC1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66" name="Text Box 3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179D2-FDCD-456F-AB92-FC218224EF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683CB-9A90-4802-B9EE-FFE52FCFE8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8415F-45B1-4CD3-BA57-73CF507CBE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3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481B8-EF31-4237-BD63-8C423A2FA4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76613-3AB4-4E9F-9D18-D8DE9324DB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77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77EE-8860-4AD0-ADCD-CE965A3E6D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427C-2E8F-4279-B93A-CF16E971EC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1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80040" y="10156680"/>
            <a:ext cx="327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460E1-5849-4BAE-B532-304925D982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07BB7-0D7B-4813-9735-DAC1C6376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ABD3-CADC-4828-80F9-B2572CB7C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759C-0E2B-408E-8E97-1696E7157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0F05-656B-423D-9E21-C88FA08D5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3B55-CD2D-4B77-A91A-6C6B80FB9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4EE1-109E-4021-8082-3808BC1423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598A-9598-4983-9C60-C73D712FB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6BBA-538E-46A2-A199-F6FE146725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E9BE-1431-41A0-8241-79BEA201F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83B9-A346-4D4D-822D-967FF4D1C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360"/>
            <a:ext cx="71928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0240-14F0-4655-B712-33DDA2735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8401-E461-4285-B3B9-231E036C6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39AA-264C-4492-8C08-608C5DFC6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D4E0-8F36-46FB-9208-E29177488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B65E-F8DD-4585-9857-8EBE01B424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F083-154B-4E9F-BAFD-A4D1F7C30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7C32-7A6B-473B-A408-F36C4B9482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80036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08744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BBCA-AAAC-44DD-9C06-9676E1DF4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04C2-CB4E-4507-BF95-D67EEC6CD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4D39-9429-47BC-B940-4D69224CF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B6FA-F6B4-4E07-9F2E-03ABF28C7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360"/>
            <a:ext cx="71928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D142-0D53-451C-BF88-7F4E5D03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73E6-CD25-45F3-982A-8E849E2B8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8744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D586-0F96-42A1-80DD-F0F3410F2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80036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8744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AFB2-5C26-4046-AD4A-F3B743289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B2D236-7D63-422D-A67E-68BE30B8DD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WenQuanYi Zen He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11C0B3-1D6B-4B08-9092-5BE6CACF9F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-105120"/>
            <a:ext cx="8712360" cy="20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«Детский сад № 131» комбинирова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80000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85000"/>
          </a:bodyPr>
          <a:p>
            <a:pPr marL="291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Развивающие и игровые технолог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392720" y="4087800"/>
            <a:ext cx="5178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Выполнила: 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Группы компенсирующей направл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Бондарева Юлия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35280" y="6551640"/>
            <a:ext cx="316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Дзержинск -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431640"/>
            <a:ext cx="719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Игровые технолог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503280" y="1573200"/>
            <a:ext cx="90694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Вячеслав Вадимович Воскоб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12720" y="2303640"/>
            <a:ext cx="4751280" cy="47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5653080" y="2303640"/>
            <a:ext cx="349092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87280" y="128520"/>
            <a:ext cx="84963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Технология «Сказочные лабиринты игры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503280" y="1539720"/>
            <a:ext cx="906948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115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Технология решает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1. Развитие у ребенка познавательного интереса, желания и потребности узнать нов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2. Развитие наблюдательности, исследовательского подхода к явлениям и объектам окружающей действи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3. Развитие воображения, креативности мыш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4. Гармоничное, сбалансированное развитие у детей эмоционально-образного и логического нача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5. Формирование базисных представлений и речевых ум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6. Построение образовательной деятельности, способствующей интеллектуально-творческому развитию детей в иг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87280" y="228600"/>
            <a:ext cx="8640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ая среда - Фиолетовый ле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11280" y="1422360"/>
            <a:ext cx="7362720" cy="490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611440" y="1708200"/>
            <a:ext cx="6967440" cy="52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503280" y="141120"/>
            <a:ext cx="864072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Воскобович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03280" y="1655640"/>
            <a:ext cx="4425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Геок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Квадрат Воскоб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98520" y="2303640"/>
            <a:ext cx="4535280" cy="453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064120" y="2664000"/>
            <a:ext cx="458316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503280" y="404640"/>
            <a:ext cx="835344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Воскобович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31640" y="1465200"/>
            <a:ext cx="4426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Теремки Воскобови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69800" y="4248000"/>
            <a:ext cx="442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Головоломка «Чудо крест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Прозрачный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256360" y="2486160"/>
            <a:ext cx="4464000" cy="33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792000" y="2016000"/>
            <a:ext cx="311184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947880" y="4762440"/>
            <a:ext cx="24285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03280" y="431640"/>
            <a:ext cx="856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Monotype Corsiva"/>
                <a:ea typeface="WenQuanYi Zen Hei"/>
              </a:rPr>
              <a:t>Развивающие технологии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936720" y="1952640"/>
            <a:ext cx="38163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Золтан Дьенеш</a:t>
            </a:r>
            <a:br>
              <a:rPr sz="54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(Блоки Дьене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005440" y="1881360"/>
            <a:ext cx="442584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Джордж Кюизен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(Палочки Кюизене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79640" y="3311640"/>
            <a:ext cx="2692440" cy="36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586480" y="3240000"/>
            <a:ext cx="26226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Блоки Дьенеш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873760" y="2592360"/>
            <a:ext cx="370368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33440" y="1800360"/>
            <a:ext cx="518328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Палочки Кюизенер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87280" y="165564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614920" y="230364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60360"/>
            <a:ext cx="7194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</a:rPr>
              <a:t>Игровые технолог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орис Павлович Ники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4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ячеслав Вадимович Воскоб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20720" y="345600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256360" y="3456000"/>
            <a:ext cx="39589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503280" y="433440"/>
            <a:ext cx="7197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Игровые технолог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74560" y="1655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Борис Павлович Никит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76360" y="2486160"/>
            <a:ext cx="3600360" cy="457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543640" y="2519280"/>
            <a:ext cx="2995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503280" y="569880"/>
            <a:ext cx="719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Никит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03280" y="1800360"/>
            <a:ext cx="44258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Унику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03280" y="4089240"/>
            <a:ext cx="44258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Кубики для все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Точе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954000" y="4535640"/>
            <a:ext cx="3654360" cy="273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4824360" y="2592360"/>
            <a:ext cx="49798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03280" y="569880"/>
            <a:ext cx="7196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Развивающие игры Никит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50328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Сложи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149800" y="1800360"/>
            <a:ext cx="44258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WenQuanYi Zen Hei"/>
              </a:rPr>
              <a:t>Сложи уз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07960" y="2386080"/>
            <a:ext cx="3000240" cy="479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780000" y="2595600"/>
            <a:ext cx="58035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03280" y="431640"/>
            <a:ext cx="719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Monotype Corsiva"/>
                <a:ea typeface="WenQuanYi Zen Hei"/>
              </a:rPr>
              <a:t>Сложи узо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087640" y="1511280"/>
            <a:ext cx="5616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>1111</dc:creator>
  <dc:description/>
  <dc:language>en-US</dc:language>
  <cp:lastModifiedBy>1111</cp:lastModifiedBy>
  <dcterms:modified xsi:type="dcterms:W3CDTF">2020-08-24T16:09:35Z</dcterms:modified>
  <cp:revision>8</cp:revision>
  <dc:subject/>
  <dc:title>Развивающие технологии</dc:title>
</cp:coreProperties>
</file>