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483920" y="899640"/>
            <a:ext cx="458316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0720" y="4679640"/>
            <a:ext cx="61135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280040" y="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280040" y="10156320"/>
            <a:ext cx="3273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1D609-D2A9-4C8D-AEAE-1D688EA1D6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F7D3A-0A36-40A4-8E53-D426554DF0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9CFC0-6816-402A-ABE8-4AEFF5FAC2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7A01-5B36-491D-BF83-DCA66DD454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89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C7D09-8EB3-4EAE-95BA-4A700535C1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D95BB-4076-4CF3-8CEA-D788D7AB0B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3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86951-2E75-4B29-A743-D8D002666B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2050-7910-4AE8-9165-0D2D60D5B2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7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C30F1-640F-463D-B906-406FB10700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D3D0E-142E-434F-BA48-83B7665B14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1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5C813-65A2-4C81-8BBA-CFF9E5363D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DEB9D-AA30-47B4-AABC-A0D032F3DD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5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E73A9-279B-4CEC-9F33-30331F53C0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48270-CEAF-4163-8CFF-BD7AFB997E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34F4-807A-45CD-B598-EA5EAA1B4C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FCF1A-AB76-4BA6-8EDD-AED16D3752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3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F0DE-56AB-4DF2-AA39-7EA201C1D1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1173-1F6E-4BD4-AEC8-0B0CCA4D93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66" name="Text Box 3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CB30-C9C3-4C3E-90DD-9F76528CE8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5FE5F-1D0D-4CA2-9D73-013762D7DF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1AE2B-1CBD-4DF9-B4F4-639B6FA2E8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73" name="Text Box 3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47850-9086-4E68-9E8A-96D6AC02A5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61F35-08DB-4DAA-895F-7C56F6E562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77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3438-9CC0-4485-9080-5093B79D8A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2B51-63BD-4B5E-9142-CD83726835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81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8FB4B-7532-43AC-B80D-2C147E1F71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69C7-B3A4-44B9-A785-F50807851B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85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F8A8-2EE6-4380-8DEC-701681D1F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3B19-449C-41B0-942D-3DF07EFC0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DD6B-C630-45CD-93B9-12308E734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42A4-4A7A-4385-9356-E71AD9443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9203-5FFF-4642-992F-50EDB5FFAE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FB1A-29FF-4F67-94E7-E65540639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F6A8-F714-466A-8BB9-05F6964282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791A-1F64-4170-BD4E-1BF4039B2F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E129-C3A8-423A-81A5-1E9884C328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360"/>
            <a:ext cx="71928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6A49-DD15-4AEF-A667-A12EB438D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DEF7-6D41-4E71-9CB0-A24A96DC9F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29C2-881A-4AC0-9499-97E60EEF9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E267-CF90-4008-A6CC-1A9D456B5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9556-82B6-4D1A-92B7-9EE8DF8C5D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DF01-1C57-4A3E-8C51-1B9995FFF8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2566-ECE8-4476-A747-9E01DDBAA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0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44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0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44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237F-F304-4291-9026-E5F2F6296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DAA6-6216-42D8-82B3-78CBA2DB3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12AA-39F6-4C44-B103-2C624E22E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DBD8-7405-4AE2-BD37-25E04F21A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360"/>
            <a:ext cx="71928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3374-4826-4A26-A837-777594FD6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FF19-FDFC-4E49-A7F5-2DE1B36A8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F379-BD27-44D8-9892-FF030A6C2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317-0C85-456A-93E8-38AAD4921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1A6A80-C9FD-4E2E-97CC-79BF5BAD839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WenQuanYi Zen He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5C873C-6210-43E1-BE67-00629742D9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-105120"/>
            <a:ext cx="8712360" cy="20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«Детский сад № 131» комбинирован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80000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85000"/>
          </a:bodyPr>
          <a:p>
            <a:pPr marL="291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Развивающие и игровые технолог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392720" y="4087800"/>
            <a:ext cx="5178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Выполнила: восп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Группы компенсирующей направл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Бондарева Юлия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35280" y="6551640"/>
            <a:ext cx="316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Дзержинск -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431640"/>
            <a:ext cx="7196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Игровые технолог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503280" y="1573200"/>
            <a:ext cx="90694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Вячеслав Вадимович Воскобо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12720" y="2303640"/>
            <a:ext cx="4751280" cy="47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5653080" y="2303640"/>
            <a:ext cx="3490920" cy="46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87280" y="128520"/>
            <a:ext cx="84963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Технология «Сказочные лабиринты игры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503280" y="1539720"/>
            <a:ext cx="906948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Технология решает следующие 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1. Развитие у ребенка познавательного интереса, желания и потребности узнать нов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2. Развитие наблюдательности, исследовательского подхода к явлениям и объектам окружающей действи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3. Развитие воображения, креативности мыш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4. Гармоничное, сбалансированное развитие у детей эмоционально-образного и логического нача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5. Формирование базисных представлений и речевых ум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6. Построение образовательной деятельности, способствующей интеллектуально-творческому развитию детей в иг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87280" y="228600"/>
            <a:ext cx="8640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ая среда - Фиолетовый ле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11280" y="1422360"/>
            <a:ext cx="7362720" cy="490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611440" y="1708200"/>
            <a:ext cx="696744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503280" y="141120"/>
            <a:ext cx="864072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Воскобович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03280" y="1655640"/>
            <a:ext cx="4425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Геок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Квадрат Воскобов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98520" y="2303640"/>
            <a:ext cx="4535280" cy="453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064120" y="2664000"/>
            <a:ext cx="458316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503280" y="404640"/>
            <a:ext cx="835344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Воскобович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31640" y="1465200"/>
            <a:ext cx="4426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Теремки Воскобов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69800" y="4248000"/>
            <a:ext cx="442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Головоломка «Чудо крест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Прозрачный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256360" y="2486160"/>
            <a:ext cx="4464000" cy="33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792000" y="2016000"/>
            <a:ext cx="3111840" cy="232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947880" y="4762440"/>
            <a:ext cx="24285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03280" y="43164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Monotype Corsiva"/>
                <a:ea typeface="WenQuanYi Zen Hei"/>
              </a:rPr>
              <a:t>Развивающие технологии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36720" y="1952640"/>
            <a:ext cx="38163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Золтан Дьенеш</a:t>
            </a:r>
            <a:br>
              <a:rPr sz="54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(Блоки Дьене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005440" y="1881360"/>
            <a:ext cx="44258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Джордж Кюизен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(Палочки Кюизене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79640" y="3311640"/>
            <a:ext cx="2692440" cy="36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586480" y="3240000"/>
            <a:ext cx="26226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503280" y="433440"/>
            <a:ext cx="7197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Блоки Дьенеш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873760" y="2592360"/>
            <a:ext cx="370368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33440" y="1800360"/>
            <a:ext cx="5183280" cy="51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503280" y="433440"/>
            <a:ext cx="7197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Палочки Кюизенер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87280" y="1655640"/>
            <a:ext cx="5256360" cy="525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5614920" y="230364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60360"/>
            <a:ext cx="7194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</a:rPr>
              <a:t>Игровые технолог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орис Павлович Ники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ячеслав Вадимович Воскоб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20720" y="345600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256360" y="3456000"/>
            <a:ext cx="39589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503280" y="433440"/>
            <a:ext cx="7197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Игровые технолог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74560" y="1655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Борис Павлович Никит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576360" y="2486160"/>
            <a:ext cx="3600360" cy="457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543640" y="2519280"/>
            <a:ext cx="2995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503280" y="569880"/>
            <a:ext cx="719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Никит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03280" y="1800360"/>
            <a:ext cx="44258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Унику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03280" y="4089240"/>
            <a:ext cx="44258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Кубики для все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Точе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954000" y="4535640"/>
            <a:ext cx="3654360" cy="273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4824360" y="2592360"/>
            <a:ext cx="497988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03280" y="569880"/>
            <a:ext cx="719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Никит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50328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Сложи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Сложи уз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507960" y="2386080"/>
            <a:ext cx="3000240" cy="479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780000" y="2595600"/>
            <a:ext cx="58035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03280" y="431640"/>
            <a:ext cx="7196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Сложи узо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087640" y="1511280"/>
            <a:ext cx="5616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>1111</dc:creator>
  <dc:description/>
  <dc:language>en-US</dc:language>
  <cp:lastModifiedBy>1111</cp:lastModifiedBy>
  <dcterms:modified xsi:type="dcterms:W3CDTF">2020-08-24T16:09:35Z</dcterms:modified>
  <cp:revision>8</cp:revision>
  <dc:subject/>
  <dc:title>Развивающие технологии</dc:title>
</cp:coreProperties>
</file>