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8CD7-E8C3-4BBA-A058-0AE1A164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5EFF-43B6-496E-84EE-E28BD3FC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1D1-7E03-455D-BADA-A6184766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9FE9-A5AD-4FC4-8494-1AFC2194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A2C8-457F-4929-A8E7-B6B06289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FE01-E48A-4FCC-AD60-D37C7E58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45C8-CE41-4515-8945-DB7E7F72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604F-3036-46D4-AB99-08112B6B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A20A-E005-407C-8F58-CBED2BBC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9F9B-BA3B-4A78-899F-0C97B1C9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8B5B-B9FD-4CAB-A116-ADB91536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7355-A931-4FD7-B95B-09449997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6960-8AC5-4C8B-9D77-B517DFBB9820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57200" y="1219320"/>
            <a:ext cx="822960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57200" y="1219320"/>
            <a:ext cx="822960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219320"/>
            <a:ext cx="822960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457200" y="1219320"/>
            <a:ext cx="822960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457200" y="1219320"/>
            <a:ext cx="822960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57200" y="1219320"/>
            <a:ext cx="822960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457200" y="1219320"/>
            <a:ext cx="822960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1332000" y="1413000"/>
            <a:ext cx="66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ЖДУНАРОДНЫЕ ДОКУМЕН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 ПРАВАХ РЕБ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4211640" y="4869000"/>
            <a:ext cx="4248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Рисунок 2" descr=""/>
          <p:cNvPicPr/>
          <p:nvPr/>
        </p:nvPicPr>
        <p:blipFill>
          <a:blip r:embed="rId2"/>
          <a:stretch/>
        </p:blipFill>
        <p:spPr>
          <a:xfrm>
            <a:off x="34920" y="3656160"/>
            <a:ext cx="3384720" cy="3085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1"/>
          <p:cNvSpPr/>
          <p:nvPr/>
        </p:nvSpPr>
        <p:spPr>
          <a:xfrm>
            <a:off x="108000" y="404640"/>
            <a:ext cx="87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Уважение взглядов ребенка (статья 1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F:\ОБЩЕСТВОЗНАНИЕ\110.jpg"/>
          <p:cNvPicPr/>
          <p:nvPr/>
        </p:nvPicPr>
        <p:blipFill>
          <a:blip r:embed="rId2"/>
          <a:stretch/>
        </p:blipFill>
        <p:spPr>
          <a:xfrm>
            <a:off x="250920" y="2743200"/>
            <a:ext cx="8642160" cy="39988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2"/>
          <p:cNvSpPr/>
          <p:nvPr/>
        </p:nvSpPr>
        <p:spPr>
          <a:xfrm>
            <a:off x="108000" y="958680"/>
            <a:ext cx="892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тям необходимо давать возможность участвовать в решении всех вопросов, касающихся их жизни, и обеспечивать свободу выражения их мнений. Они имеют право на то, чтобы к их мнению прислушивались и самым серьезным образом принимали его во вним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"/>
          <p:cNvSpPr/>
          <p:nvPr/>
        </p:nvSpPr>
        <p:spPr>
          <a:xfrm>
            <a:off x="179280" y="333360"/>
            <a:ext cx="879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аждый ребенок имеет прав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"/>
          <p:cNvSpPr/>
          <p:nvPr/>
        </p:nvSpPr>
        <p:spPr>
          <a:xfrm>
            <a:off x="324000" y="1197000"/>
            <a:ext cx="8651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на жизн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на имя и гражданство при рожден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знать своих родителей и рассчитывать на их забот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свободно выражать свои мысл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на защиту от вмешательства в личную жизн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щита ребенка, лишенного семь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на получение медицинской помощ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на уровень жизни, необходимый для развития ребенк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на образовани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на отдых, участие в культурной и творческой жизн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на защиту от эксплуатац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и один ребенок не должен быть подвергнут пытка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говорить на родном языке и соблюдать родные обычаи, исповедовать свою религ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F:\ОБЩЕСТВОЗНАНИЕ\44.jpg"/>
          <p:cNvPicPr/>
          <p:nvPr/>
        </p:nvPicPr>
        <p:blipFill>
          <a:blip r:embed="rId2"/>
          <a:stretch/>
        </p:blipFill>
        <p:spPr>
          <a:xfrm>
            <a:off x="755640" y="549360"/>
            <a:ext cx="7777080" cy="5381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1"/>
          <p:cNvSpPr/>
          <p:nvPr/>
        </p:nvSpPr>
        <p:spPr>
          <a:xfrm>
            <a:off x="826920" y="1125360"/>
            <a:ext cx="777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МНИТЕ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ЛЬЗУЯСЬ   СВОИМИ   ПРАВАМИ,   НАДО   УВАЖАТЬ ПРАВА ДРУГИХ ЛЮДЕ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"/>
          <p:cNvSpPr/>
          <p:nvPr/>
        </p:nvSpPr>
        <p:spPr>
          <a:xfrm>
            <a:off x="2700360" y="4869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2"/>
          <p:cNvSpPr/>
          <p:nvPr/>
        </p:nvSpPr>
        <p:spPr>
          <a:xfrm>
            <a:off x="971640" y="47628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АВА РЕБЕН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611280" y="1413000"/>
            <a:ext cx="79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а ребен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вод прав детей, зафиксированных в международных документах по правам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бен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лицо, не достигшее 18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о взяло на себя обязательство защищать детей, поэтому они имеют такие же права, что и взросл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1"/>
          <p:cNvSpPr/>
          <p:nvPr/>
        </p:nvSpPr>
        <p:spPr>
          <a:xfrm>
            <a:off x="900000" y="333360"/>
            <a:ext cx="73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ЕЖДУНАРОДНЫЕ ДОКУМЕНТЫ О ПРАВАХ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"/>
          <p:cNvSpPr/>
          <p:nvPr/>
        </p:nvSpPr>
        <p:spPr>
          <a:xfrm>
            <a:off x="179280" y="1409760"/>
            <a:ext cx="856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24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Женевская декларация прав ребен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48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сеобщая декларация прав челове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F:\ОБЩЕСТВОЗНАНИЕ\88.jpg"/>
          <p:cNvPicPr/>
          <p:nvPr/>
        </p:nvPicPr>
        <p:blipFill>
          <a:blip r:embed="rId2"/>
          <a:stretch/>
        </p:blipFill>
        <p:spPr>
          <a:xfrm>
            <a:off x="179280" y="3471840"/>
            <a:ext cx="4392720" cy="319716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 1"/>
          <p:cNvSpPr/>
          <p:nvPr/>
        </p:nvSpPr>
        <p:spPr>
          <a:xfrm>
            <a:off x="4716360" y="3471840"/>
            <a:ext cx="442764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59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Декларация прав ребен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89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Конвенция о правах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3"/>
          <p:cNvSpPr/>
          <p:nvPr/>
        </p:nvSpPr>
        <p:spPr>
          <a:xfrm>
            <a:off x="324000" y="765000"/>
            <a:ext cx="741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еклар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от лат. «провозглашение») – не имеет обязательной силы. Это рекомендации, в которых провозглашаются основные принципы, программные по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1476360" y="3500280"/>
            <a:ext cx="698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онвен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от лат. «договор», «соглашение») – соглашение по специальному вопросу, имеющее обязательную силу для тех государств, которые к нему присоединил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1"/>
          <p:cNvSpPr/>
          <p:nvPr/>
        </p:nvSpPr>
        <p:spPr>
          <a:xfrm>
            <a:off x="108000" y="260280"/>
            <a:ext cx="583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20 ноября 1959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енеральной Ассамблеей ООН принят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кларация прав ребен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одержит 10 принципов обеспечения защиты и благополучия дет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2"/>
          <p:cNvSpPr/>
          <p:nvPr/>
        </p:nvSpPr>
        <p:spPr>
          <a:xfrm>
            <a:off x="4140360" y="5335560"/>
            <a:ext cx="4752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0 ноября – Всемирный день прав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F:\ОБЩЕСТВОЗНАНИЕ\slide_4 (2).jpg"/>
          <p:cNvPicPr/>
          <p:nvPr/>
        </p:nvPicPr>
        <p:blipFill>
          <a:blip r:embed="rId2"/>
          <a:stretch/>
        </p:blipFill>
        <p:spPr>
          <a:xfrm>
            <a:off x="6084720" y="260280"/>
            <a:ext cx="2951280" cy="230508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3"/>
          <p:cNvSpPr/>
          <p:nvPr/>
        </p:nvSpPr>
        <p:spPr>
          <a:xfrm>
            <a:off x="4140360" y="2781360"/>
            <a:ext cx="4895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20 ноября 1989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писан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нвенция ООН о правах ребен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одержит 54 статьи, учитывающие все моменты, связанные с жизнью и положением ребенка в обществ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территории России Конвенция о правах ребенка вступила в законную силу 15 сентября 1990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F:\ОБЩЕСТВОЗНАНИЕ\000 (2).jpg"/>
          <p:cNvPicPr/>
          <p:nvPr/>
        </p:nvPicPr>
        <p:blipFill>
          <a:blip r:embed="rId3"/>
          <a:stretch/>
        </p:blipFill>
        <p:spPr>
          <a:xfrm>
            <a:off x="108000" y="1628640"/>
            <a:ext cx="3900600" cy="5113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2"/>
          <a:stretch/>
        </p:blipFill>
        <p:spPr>
          <a:xfrm>
            <a:off x="444600" y="433440"/>
            <a:ext cx="8254800" cy="755640"/>
          </a:xfrm>
          <a:prstGeom prst="rect">
            <a:avLst/>
          </a:prstGeom>
          <a:ln w="0">
            <a:noFill/>
          </a:ln>
        </p:spPr>
      </p:pic>
      <p:pic>
        <p:nvPicPr>
          <p:cNvPr id="341" name="Схема 7" descr=""/>
          <p:cNvPicPr/>
          <p:nvPr/>
        </p:nvPicPr>
        <p:blipFill>
          <a:blip r:embed="rId3"/>
          <a:stretch/>
        </p:blipFill>
        <p:spPr>
          <a:xfrm>
            <a:off x="268200" y="1816200"/>
            <a:ext cx="8796600" cy="4066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1"/>
          <p:cNvSpPr/>
          <p:nvPr/>
        </p:nvSpPr>
        <p:spPr>
          <a:xfrm>
            <a:off x="179280" y="765000"/>
            <a:ext cx="885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Предотвращение дискриминации (статья 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F:\ОБЩЕСТВОЗНАНИЕ\22.jpg"/>
          <p:cNvPicPr/>
          <p:nvPr/>
        </p:nvPicPr>
        <p:blipFill>
          <a:blip r:embed="rId2"/>
          <a:stretch/>
        </p:blipFill>
        <p:spPr>
          <a:xfrm>
            <a:off x="4859280" y="1844640"/>
            <a:ext cx="4176720" cy="3960720"/>
          </a:xfrm>
          <a:prstGeom prst="rect">
            <a:avLst/>
          </a:prstGeom>
          <a:ln w="0">
            <a:noFill/>
          </a:ln>
        </p:spPr>
      </p:pic>
      <p:sp>
        <p:nvSpPr>
          <p:cNvPr id="344" name="TextBox 3"/>
          <p:cNvSpPr/>
          <p:nvPr/>
        </p:nvSpPr>
        <p:spPr>
          <a:xfrm>
            <a:off x="179280" y="1628640"/>
            <a:ext cx="4608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ти не должны подвергаться какой-либо дискриминации по признаку «расы, цвета кожи, пола, языка, религии, политических или иных убеждений, национального, этнического или социального происхождения, имущественного положения, состояния здоровья и обстоятельств рождения ребенка, его родителей или законных опекунов или каких-либо иных обстоятельств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5"/>
          <p:cNvSpPr/>
          <p:nvPr/>
        </p:nvSpPr>
        <p:spPr>
          <a:xfrm>
            <a:off x="108000" y="549360"/>
            <a:ext cx="8856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Наилучшее обеспечение интересов ребенка (статья 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" descr="http://schelkovo-blagochin.orthodoxy.ru/press/svetilnik/2008_102/images/ystic_1.jpg"/>
          <p:cNvPicPr/>
          <p:nvPr/>
        </p:nvPicPr>
        <p:blipFill>
          <a:blip r:embed="rId2"/>
          <a:stretch/>
        </p:blipFill>
        <p:spPr>
          <a:xfrm>
            <a:off x="108000" y="1795320"/>
            <a:ext cx="3743280" cy="3937320"/>
          </a:xfrm>
          <a:prstGeom prst="rect">
            <a:avLst/>
          </a:prstGeom>
          <a:ln w="0">
            <a:noFill/>
          </a:ln>
        </p:spPr>
      </p:pic>
      <p:sp>
        <p:nvSpPr>
          <p:cNvPr id="347" name="TextBox 7"/>
          <p:cNvSpPr/>
          <p:nvPr/>
        </p:nvSpPr>
        <p:spPr>
          <a:xfrm>
            <a:off x="4284720" y="1795320"/>
            <a:ext cx="46800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 всех решениях или действиях, которые затрагивают ребенка или детей как группу, в первую очередь необходимо учитывать наилучшие интересы ребенка. Это остается справедливым, независимо от того, принимаются ли решения правительственными, административными или судебными властями, либо семья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2"/>
          <p:cNvSpPr/>
          <p:nvPr/>
        </p:nvSpPr>
        <p:spPr>
          <a:xfrm>
            <a:off x="395280" y="836640"/>
            <a:ext cx="8569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Право на жизнь, выживание и развитие (статья 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2" descr="F:\ОБЩЕСТВОЗНАНИЕ\888.jpg"/>
          <p:cNvPicPr/>
          <p:nvPr/>
        </p:nvPicPr>
        <p:blipFill>
          <a:blip r:embed="rId2"/>
          <a:stretch/>
        </p:blipFill>
        <p:spPr>
          <a:xfrm>
            <a:off x="1116000" y="3097080"/>
            <a:ext cx="6985080" cy="3500640"/>
          </a:xfrm>
          <a:prstGeom prst="rect">
            <a:avLst/>
          </a:prstGeom>
          <a:ln w="0">
            <a:noFill/>
          </a:ln>
        </p:spPr>
      </p:pic>
      <p:sp>
        <p:nvSpPr>
          <p:cNvPr id="350" name="TextBox 4"/>
          <p:cNvSpPr/>
          <p:nvPr/>
        </p:nvSpPr>
        <p:spPr>
          <a:xfrm>
            <a:off x="395280" y="1989000"/>
            <a:ext cx="85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ти имеют право на выживание и всестороннее развитие, включая физическое, эмоциональное, психосоциальное, познавательное и культурн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2:28:57Z</dcterms:created>
  <dc:creator>школа</dc:creator>
  <dc:description/>
  <dc:language>en-US</dc:language>
  <cp:lastModifiedBy>User</cp:lastModifiedBy>
  <dcterms:modified xsi:type="dcterms:W3CDTF">2020-08-24T08:14:59Z</dcterms:modified>
  <cp:revision>108</cp:revision>
  <dc:subject/>
  <dc:title>Слайд 1</dc:title>
</cp:coreProperties>
</file>