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82A-35D2-4887-9BCD-A0ECFCE9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FE6-819C-4E01-8531-8B114C57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613-13A5-4A83-A323-593C121A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8F0-A5E0-4BB8-98F7-422946C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5FF-8DAE-465A-8C3E-5B4DF107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2D8-6E77-404F-B1A0-552C9313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4CD-0E33-4003-9675-ADBDDCF6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B18-09E6-4E9B-9E39-2C09161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DFD-73A7-42DE-A47D-7CF1CD64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600-CF12-41F0-A3CC-C76C1B73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3F7-6785-43AC-8638-38021BFF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5BC-89CB-484E-93DF-A035634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47E-2CE7-4A59-A810-C4E20FECF19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1332000" y="141300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НАРОДНЫЕ ДОК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ПРАВАХ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4211640" y="4869000"/>
            <a:ext cx="424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2" descr=""/>
          <p:cNvPicPr/>
          <p:nvPr/>
        </p:nvPicPr>
        <p:blipFill>
          <a:blip r:embed="rId2"/>
          <a:stretch/>
        </p:blipFill>
        <p:spPr>
          <a:xfrm>
            <a:off x="34920" y="3656160"/>
            <a:ext cx="3384720" cy="308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08000" y="4046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важение взглядов ребенка (статья 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F:\ОБЩЕСТВОЗНАНИЕ\110.jpg"/>
          <p:cNvPicPr/>
          <p:nvPr/>
        </p:nvPicPr>
        <p:blipFill>
          <a:blip r:embed="rId2"/>
          <a:stretch/>
        </p:blipFill>
        <p:spPr>
          <a:xfrm>
            <a:off x="250920" y="2743200"/>
            <a:ext cx="8642160" cy="3998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108000" y="958680"/>
            <a:ext cx="892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333360"/>
            <a:ext cx="87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ждый ребенок имеет пра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324000" y="1197000"/>
            <a:ext cx="865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имя и гражданство при рожд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знать своих родителей и рассчитывать на их забо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свободно выражать свои мыс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вмешательства в личную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ребенка, лишенного семь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получение медицинской помощ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уровень жизни, необходимый для развития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бразова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тдых, участие в культурной и творческой жиз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эксплуат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 один ребенок не должен быть подвергнут пыт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говорить на родном языке и соблюдать родные обычаи, исповедовать свою религ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ОБЩЕСТВОЗНАНИЕ\44.jpg"/>
          <p:cNvPicPr/>
          <p:nvPr/>
        </p:nvPicPr>
        <p:blipFill>
          <a:blip r:embed="rId2"/>
          <a:stretch/>
        </p:blipFill>
        <p:spPr>
          <a:xfrm>
            <a:off x="755640" y="549360"/>
            <a:ext cx="777708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826920" y="1125360"/>
            <a:ext cx="77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МНИТЕ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ЛЬЗУЯСЬ   СВОИМИ   ПРАВАМИ,   НАДО   УВАЖАТЬ ПРАВА ДРУГИХ ЛЮД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2700360" y="4869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971640" y="47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А РЕБ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11280" y="1413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а ребе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д прав детей, зафиксированных в международных документах по правам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лицо, не достигшее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 взяло на себя обязательство защищать детей, поэтому они имеют такие же права, что и взрос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900000" y="33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ЖДУНАРОДНЫЕ ДОКУМЕНТЫ О ПРАВАХ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79280" y="14097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4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Женевская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8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сеобщая декларация прав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F:\ОБЩЕСТВОЗНАНИЕ\88.jpg"/>
          <p:cNvPicPr/>
          <p:nvPr/>
        </p:nvPicPr>
        <p:blipFill>
          <a:blip r:embed="rId2"/>
          <a:stretch/>
        </p:blipFill>
        <p:spPr>
          <a:xfrm>
            <a:off x="179280" y="3471840"/>
            <a:ext cx="4392720" cy="31971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"/>
          <p:cNvSpPr/>
          <p:nvPr/>
        </p:nvSpPr>
        <p:spPr>
          <a:xfrm>
            <a:off x="4716360" y="3471840"/>
            <a:ext cx="44276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8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нвенция о правах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3"/>
          <p:cNvSpPr/>
          <p:nvPr/>
        </p:nvSpPr>
        <p:spPr>
          <a:xfrm>
            <a:off x="324000" y="765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провозглашение») – не имеет обязательной силы. Это рекомендации, в которых провозглашаются основные принципы, программны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476360" y="3500280"/>
            <a:ext cx="69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в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договор», «соглашение») – соглашение по специальному вопросу, имеющее обязательную силу для тех государств, которые к нему присоедин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08000" y="26028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5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енеральной Ассамблеей ООН принят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кларация прав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10 принципов обеспечения защиты и благополучия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4140360" y="5335560"/>
            <a:ext cx="4752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 ноября – Всемирный день прав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F:\ОБЩЕСТВОЗНАНИЕ\slide_4 (2).jpg"/>
          <p:cNvPicPr/>
          <p:nvPr/>
        </p:nvPicPr>
        <p:blipFill>
          <a:blip r:embed="rId2"/>
          <a:stretch/>
        </p:blipFill>
        <p:spPr>
          <a:xfrm>
            <a:off x="6084720" y="260280"/>
            <a:ext cx="2951280" cy="23050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3"/>
          <p:cNvSpPr/>
          <p:nvPr/>
        </p:nvSpPr>
        <p:spPr>
          <a:xfrm>
            <a:off x="4140360" y="2781360"/>
            <a:ext cx="48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8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писа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венция ООН о правах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54 статьи, учитывающие все моменты, связанные с жизнью и положением ребенка в общес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ерритории России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F:\ОБЩЕСТВОЗНАНИЕ\000 (2).jpg"/>
          <p:cNvPicPr/>
          <p:nvPr/>
        </p:nvPicPr>
        <p:blipFill>
          <a:blip r:embed="rId3"/>
          <a:stretch/>
        </p:blipFill>
        <p:spPr>
          <a:xfrm>
            <a:off x="108000" y="1628640"/>
            <a:ext cx="390060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2"/>
          <a:stretch/>
        </p:blipFill>
        <p:spPr>
          <a:xfrm>
            <a:off x="444600" y="433440"/>
            <a:ext cx="8254800" cy="755640"/>
          </a:xfrm>
          <a:prstGeom prst="rect">
            <a:avLst/>
          </a:prstGeom>
          <a:ln w="0">
            <a:noFill/>
          </a:ln>
        </p:spPr>
      </p:pic>
      <p:pic>
        <p:nvPicPr>
          <p:cNvPr id="341" name="Схема 7" descr=""/>
          <p:cNvPicPr/>
          <p:nvPr/>
        </p:nvPicPr>
        <p:blipFill>
          <a:blip r:embed="rId3"/>
          <a:stretch/>
        </p:blipFill>
        <p:spPr>
          <a:xfrm>
            <a:off x="268200" y="1816200"/>
            <a:ext cx="879660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79280" y="765000"/>
            <a:ext cx="88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едотвращение дискриминации (статья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F:\ОБЩЕСТВОЗНАНИЕ\22.jpg"/>
          <p:cNvPicPr/>
          <p:nvPr/>
        </p:nvPicPr>
        <p:blipFill>
          <a:blip r:embed="rId2"/>
          <a:stretch/>
        </p:blipFill>
        <p:spPr>
          <a:xfrm>
            <a:off x="4859280" y="1844640"/>
            <a:ext cx="4176720" cy="39607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179280" y="1628640"/>
            <a:ext cx="46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не должны подвергаться какой-либо дискриминации по признаку «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 обстоятельств рождения ребенка, его родителей или законных опекунов или каких-либо иных обстоятельств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5"/>
          <p:cNvSpPr/>
          <p:nvPr/>
        </p:nvSpPr>
        <p:spPr>
          <a:xfrm>
            <a:off x="108000" y="549360"/>
            <a:ext cx="885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илучшее обеспечение интересов ребенка (статья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http://schelkovo-blagochin.orthodoxy.ru/press/svetilnik/2008_102/images/ystic_1.jpg"/>
          <p:cNvPicPr/>
          <p:nvPr/>
        </p:nvPicPr>
        <p:blipFill>
          <a:blip r:embed="rId2"/>
          <a:stretch/>
        </p:blipFill>
        <p:spPr>
          <a:xfrm>
            <a:off x="108000" y="1795320"/>
            <a:ext cx="3743280" cy="39373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7"/>
          <p:cNvSpPr/>
          <p:nvPr/>
        </p:nvSpPr>
        <p:spPr>
          <a:xfrm>
            <a:off x="4284720" y="1795320"/>
            <a:ext cx="4680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"/>
          <p:cNvSpPr/>
          <p:nvPr/>
        </p:nvSpPr>
        <p:spPr>
          <a:xfrm>
            <a:off x="395280" y="836640"/>
            <a:ext cx="856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аво на жизнь, выживание и развитие (статья 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:\ОБЩЕСТВОЗНАНИЕ\888.jpg"/>
          <p:cNvPicPr/>
          <p:nvPr/>
        </p:nvPicPr>
        <p:blipFill>
          <a:blip r:embed="rId2"/>
          <a:stretch/>
        </p:blipFill>
        <p:spPr>
          <a:xfrm>
            <a:off x="1116000" y="3097080"/>
            <a:ext cx="6985080" cy="35006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395280" y="198900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имеют право на выживание и всестороннее развитие, включая физическое, эмоциональное, психосоциальное, познавательное и культур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User</cp:lastModifiedBy>
  <dcterms:modified xsi:type="dcterms:W3CDTF">2020-08-24T08:14:59Z</dcterms:modified>
  <cp:revision>108</cp:revision>
  <dc:subject/>
  <dc:title>Слайд 1</dc:title>
</cp:coreProperties>
</file>