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80C-6B40-4D5B-9BB0-2A5EA312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1AB-8E9E-4927-B1C8-69AAF107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186-568A-4431-9514-61A3DF08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721-300F-4FCE-95FC-83DCB335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6763-DB14-4ACD-BDC1-E8B2E171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ECB1-6F01-40CD-A6DF-9E67B456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0C52-B2E6-4EC5-83D7-EF34789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0282-AFFA-4E3D-8040-9DE72B4F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0D86-CBA0-406E-AD3A-065755EC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CCF4-A47F-4E70-9FD7-DFB59B84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5D99-668B-4D77-981F-BB56D67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32F-F803-4C3F-B704-9BAD25A0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1F46-F3DF-45ED-A68F-67A1D55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3243-2B68-42A1-A977-DC2B6F3F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119C-BEFC-4543-9A11-CFE1869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809E-0527-4C0E-A0D7-C797163F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CD50-09D5-4294-9937-748F39ED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C2C5-F07B-4088-B03A-D023EF57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EFE9-9AF9-428F-92B7-173E9A07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21A7-D370-4A36-A995-A194D7DE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9BC8-1637-409F-A203-BA1E485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F872-5F13-4B61-9D56-6C531580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71B-38CD-4EE2-8E2B-57F4F5B8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4C33-7C74-41F9-9DBD-52382A7C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C3B5-9A59-4DAF-B682-3E4447CA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5C8B-0137-48D8-A4D8-2E49749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BB7A-4AD3-4B2A-A3C7-307D7FA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6C0E-018B-476A-8170-0F478BFF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7129-2723-48DB-9268-34A249F3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420C-5302-49E9-AFE4-EBDBD4BB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94EB-AF95-4335-BB6F-3A4FFD1A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BED2-AE65-483C-A0AF-21AC5BF1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FBFB-D5E0-48D2-953E-25BDEEE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47E-7D2D-4C38-BE2F-5BBD63B4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18FC-A4C2-4405-B95F-4EA6C713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D632-1F62-4D2F-88BE-7E200A9F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AFEB-4731-428C-8448-F8DCDD85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EC67-89BB-4552-B28B-360155D4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316CD-81C0-475D-89FB-DF98D1A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3919-1E69-4ED3-95DA-1329D732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10AB-291B-435F-BDB3-F93B848F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C5AC-BB32-4EB3-B13D-01407B01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3CBE-DD76-4B49-B23D-E16B57EF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8009-74D1-42AC-8A54-7FDB989C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91B-D249-4783-80C1-6BB439EE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5979-ED5A-4EA7-989D-F03304E9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5F872-16EC-4E4E-90CB-FC0C59E5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4B8F-4BFD-4B51-84DA-4AD9E0C6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606D-D2E3-494A-B8A9-A6A97391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888F-D80D-4B4C-A08C-B3E8DF91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7DD6F-59E1-48CB-9546-0F57EC40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5CD86-78A5-4019-9491-532360D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DF463-5A60-4372-A728-383F708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02925-774D-49C7-9442-46653357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6BFD-C056-472A-8996-7C851414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332-9AC6-4C5B-91D6-721EE740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A1DEE-95F8-4789-928D-D1EF265A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A24-AF6A-499E-A7FE-D5A599B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2B6-3D56-44A6-8178-E3044EB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344-06CE-4A51-92A2-CB1ECC1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91A-284E-4FB6-A56E-C5CCA8956F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B063-5DDD-4E84-A960-37217725BF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F68B-B9D4-4B71-A874-5E0D92B4687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17F5-397C-4AB4-82BB-8BD534940D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F139-BDA5-4770-BFDA-87A2ECE733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7407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               у = ах² + n   и   у = а(х - m)² 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меноваС.М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СОШ № 126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инс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90" name="Picture 2" descr="C:\Users\Хома\Desktop\для конспекта\img2.jpg"/>
          <p:cNvPicPr/>
          <p:nvPr/>
        </p:nvPicPr>
        <p:blipFill>
          <a:blip r:embed="rId1"/>
          <a:stretch/>
        </p:blipFill>
        <p:spPr>
          <a:xfrm>
            <a:off x="1547640" y="1120680"/>
            <a:ext cx="7201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2916360" y="2924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87280" y="1125000"/>
            <a:ext cx="774720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алгоритм построения графика функции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0" i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разобьём построение на этапы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зовый график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2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жатие к оси ординат в два раза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имметричное отображение относительно Ох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двиг влево на 4 единицы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двиг вверх на 5 единиц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329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12 (правила учить)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, 111, 116 (составить алгоритмы построения графиков и их построить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187280" y="1197000"/>
          <a:ext cx="7499520" cy="492768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68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на 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ая 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исание пре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8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виг-перенос по оси ординат на 5 ед. ввер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8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 = x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метрия относите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8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 = (x + 3)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на 3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вл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8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на 4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вправо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8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я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а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д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187280" y="1197000"/>
          <a:ext cx="7777440" cy="5045040"/>
        </p:xfrm>
        <a:graphic>
          <a:graphicData uri="http://schemas.openxmlformats.org/drawingml/2006/table">
            <a:tbl>
              <a:tblPr/>
              <a:tblGrid>
                <a:gridCol w="2305080"/>
                <a:gridCol w="2159280"/>
                <a:gridCol w="331308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на 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ая 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исание пре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 = 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+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виг-перенос по оси ординат на 5 ед. ввер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 = x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двиг-перенос по оси ординат на 2 ед. </a:t>
                      </a: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ни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 = -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метрия относите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 = (x + 3)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на 3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вл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y = (x - 4)</a:t>
                      </a:r>
                      <a:r>
                        <a:rPr b="1" lang="uk-UA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на 4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вправо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0,5 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GB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я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а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д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497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 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  уро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ставления о построении графиков функций вид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преобразований; познакомить  учащихся с построением графиков функци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х) + 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f(x - 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34960" y="1447920"/>
          <a:ext cx="7499520" cy="462420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иведите основные свойства и график функции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ах²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стройте схематично график функ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у=-2х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у=1/3 х²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= (х³+х²)/(х+1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иведите основные свойства и график функции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ах²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а&lt; 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стройте схематично график функ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у=1/2х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 у=-3х²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= (х³-х²)/(х-1).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527720" y="3346560"/>
                <a:ext cx="8856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2944080" y="2997360"/>
            <a:ext cx="42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рафик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-f(x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 получается из графика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имметрии относительно оси абсцисс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рафик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получается из графика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м вдоль оси ординат 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 пр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или сжатием в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при 0 &lt;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1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02920" y="1196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ние 1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47640" y="1989000"/>
          <a:ext cx="7151760" cy="4143600"/>
        </p:xfrm>
        <a:graphic>
          <a:graphicData uri="http://schemas.openxmlformats.org/drawingml/2006/table">
            <a:tbl>
              <a:tblPr/>
              <a:tblGrid>
                <a:gridCol w="2384640"/>
                <a:gridCol w="2384280"/>
                <a:gridCol w="2382840"/>
              </a:tblGrid>
              <a:tr h="67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04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(x) = f(x)+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(x) = f(x)+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(x) = f(x)+n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497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547640" y="3933360"/>
            <a:ext cx="3600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+ 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 из графика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параллельного переноса вдоль оси ординат на |n| единиц: вверх при n &gt; 0, вниз при n &lt; 0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11"/>
          <p:cNvPicPr/>
          <p:nvPr/>
        </p:nvPicPr>
        <p:blipFill>
          <a:blip r:embed="rId1"/>
          <a:stretch/>
        </p:blipFill>
        <p:spPr>
          <a:xfrm>
            <a:off x="5292720" y="907920"/>
            <a:ext cx="3456000" cy="511992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1835280" y="126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4638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fc4638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1704960" y="184464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1713960" y="2565360"/>
            <a:ext cx="14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8"/>
          <p:cNvSpPr/>
          <p:nvPr/>
        </p:nvSpPr>
        <p:spPr>
          <a:xfrm>
            <a:off x="1692360" y="328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– 9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02920" y="1196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ние 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547640" y="1989000"/>
          <a:ext cx="7151760" cy="4143600"/>
        </p:xfrm>
        <a:graphic>
          <a:graphicData uri="http://schemas.openxmlformats.org/drawingml/2006/table">
            <a:tbl>
              <a:tblPr/>
              <a:tblGrid>
                <a:gridCol w="2384640"/>
                <a:gridCol w="2384280"/>
                <a:gridCol w="2382840"/>
              </a:tblGrid>
              <a:tr h="67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04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 = f(x-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 = f(x-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 = f(x-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03280" y="5229360"/>
            <a:ext cx="7561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 - m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 из графика функции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параллельного переноса вдоль оси абсцисс на |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единиц: вправо пр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 и влево пр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1495800" y="907920"/>
            <a:ext cx="9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4638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fc4638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4754520" y="907920"/>
            <a:ext cx="15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=( х + 2)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2725560" y="90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у =( х – 3)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"/>
          <p:cNvSpPr/>
          <p:nvPr/>
        </p:nvSpPr>
        <p:spPr>
          <a:xfrm>
            <a:off x="6970320" y="9079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 =( х – 5)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22"/>
          <p:cNvPicPr/>
          <p:nvPr/>
        </p:nvPicPr>
        <p:blipFill>
          <a:blip r:embed="rId1"/>
          <a:stretch/>
        </p:blipFill>
        <p:spPr>
          <a:xfrm>
            <a:off x="1908000" y="1341360"/>
            <a:ext cx="63360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3T07:15:05Z</dcterms:created>
  <dc:creator>Хома</dc:creator>
  <dc:description/>
  <dc:language>en-US</dc:language>
  <cp:lastModifiedBy>Хома</cp:lastModifiedBy>
  <dcterms:modified xsi:type="dcterms:W3CDTF">2020-08-24T09:13:54Z</dcterms:modified>
  <cp:revision>13</cp:revision>
  <dc:subject/>
  <dc:title>Графики функций                  у = ах² + n   и   у = а(х - m)²</dc:title>
</cp:coreProperties>
</file>