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1EF-EB3E-4D94-B180-C3ACAEAC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D8F6-54F1-473A-8E37-FEDA545E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EC0-B815-47B1-AE99-C7E98765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3AC1-AF88-4B11-8757-05D129B6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CA86-706A-4490-9CBC-2349B0CD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8BE3-F1BB-4BC1-81A3-EB554DC7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8A29-A80B-46ED-B624-2E748FCC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EB93-7CD0-44D0-8F87-C1307B32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240B-0CE4-4D26-98BF-A0C1950F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9CA2-FCD3-46A9-9200-1BB97227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F144-C74A-4512-847E-AE5F2938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D70-272E-490F-9891-95A7D8EE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3072-C370-4ACF-BCEF-B9B6861F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7058-A106-4171-8531-5021D991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1B7F-CE69-450A-921E-80BE07F0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14DA-74D6-4EBE-A6F9-1E9D00BF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0225-1E4F-4129-83E1-1341C4CC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0DC54-BDB3-4052-ABAE-EF613990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4BDA5-1014-4BDB-808A-8032037B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0B531-6F5B-4EBA-AF6C-8D04EEE0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1B99D-6727-481B-B92B-F214715E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A42FA-8453-4D62-8297-2553B09D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2FA-5C1D-4E32-AFF6-B1561144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1FDDB-E7C3-4AE8-8A11-AA9322E5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EBF80-54B6-4E7C-8752-1C9195E6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60C7A-FACE-477A-B194-3822A242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70CC5-CC87-4CBE-BEB1-9E0DF095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C0C91-CA31-43B0-BF78-EBC44DB0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03A04-7CE5-4091-8137-3DDF3799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78BD-90C0-4245-96C6-C4CF7813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6D22D-930B-4677-9E4C-81E3A919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7CB6C-E21F-4357-B672-1E6C19BF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C62DD-47DD-46E4-BCF7-76005351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FC7-96C5-4249-90CE-C22C86AD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C5C91-5B1D-4D8A-A111-2A61D22D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81834-BCDF-4544-A9D8-C43343B6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4D801-7F17-4E3D-89CC-A9F388F0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B9CA7-1254-4210-89F6-F1D951C9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15000-AB75-4188-A47F-11929EAC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1B2B1-4FEB-4CA9-9EBE-4BC236D8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30113-7764-4627-86CA-155AEF34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18765-1758-4EC0-A420-6915D4A4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2794F-C850-43FD-B78C-EDDBF64F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AEDD7-9BA9-49D9-918F-B9E7EFEA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378-701A-4F29-BCD8-A9E72DCD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461C8-DBA9-4B18-A35E-48DE2EC3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C2D5C-37F2-4C62-90FA-4ADA101A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4EFBA-7166-47E0-BFDC-0E037F8C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9EA35-B3B1-4166-BE51-58E7F39D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8B790-B095-44F5-8E5A-FB9AE054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72E41-A664-4D0A-9A94-08E28B9E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693B3-F3CA-4AF1-9231-608687A0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36037-6B54-4967-BCF8-9F8F991B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2DA31-C03E-49EB-818F-41B47EBF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0BE1C-2785-4510-9D4C-46EF84F8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86FB-3847-4DD2-908D-EF104971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C40E5-4824-4AC9-B924-8197CC44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912-6C6C-46B1-BB78-C96F1BC3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F84B-BE5B-4A13-BB40-B1354034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5EC1-E4B3-4DFC-80B1-AD581549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BFD8-74E1-483F-AC62-D6595F9A995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AE1D-7BF5-4817-A7B9-79EE7872631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C94C-09CA-44E2-B051-5CFE702D225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CD9F-2F6E-492C-9530-9F6FCE8F424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44A0-C736-409E-A07F-BFE85FB4CD0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3280" y="692280"/>
            <a:ext cx="7407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               у = ах² + n   и   у = а(х - m)² </a:t>
            </a:r>
            <a:br>
              <a:rPr sz="3900"/>
            </a:b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меноваС.М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СОШ № 126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ежинс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90" name="Picture 2" descr="C:\Users\Хома\Desktop\для конспекта\img2.jpg"/>
          <p:cNvPicPr/>
          <p:nvPr/>
        </p:nvPicPr>
        <p:blipFill>
          <a:blip r:embed="rId1"/>
          <a:stretch/>
        </p:blipFill>
        <p:spPr>
          <a:xfrm>
            <a:off x="1547640" y="1120680"/>
            <a:ext cx="720108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график функци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Прямоугольник 3"/>
          <p:cNvSpPr/>
          <p:nvPr/>
        </p:nvSpPr>
        <p:spPr>
          <a:xfrm>
            <a:off x="2916360" y="292428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– 2(х – 4)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187280" y="1125000"/>
            <a:ext cx="774720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м алгоритм построения графика функции  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– 2(х – 4)</a:t>
            </a:r>
            <a:r>
              <a:rPr b="0" i="1" lang="ru-RU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разобьём построение на этапы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х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азовый график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2 х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сжатие к оси ординат в два раза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– 2х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симметричное отображение относительно Ох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– 2(х – 4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сдвиг влево на 4 единицы)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– 2(х – 4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двиг вверх на 5 единиц)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4073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32944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12 (правила учить)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№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7, 111, 116 (составить алгоритмы построения графиков и их построить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187280" y="1197000"/>
          <a:ext cx="7499520" cy="4927680"/>
        </p:xfrm>
        <a:graphic>
          <a:graphicData uri="http://schemas.openxmlformats.org/drawingml/2006/table">
            <a:tbl>
              <a:tblPr/>
              <a:tblGrid>
                <a:gridCol w="2500560"/>
                <a:gridCol w="2498760"/>
                <a:gridCol w="2500200"/>
              </a:tblGrid>
              <a:tr h="684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на функ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вая функ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исание преобраз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8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виг-перенос по оси ординат на 5 ед. ввер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8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 = x</a:t>
                      </a:r>
                      <a:r>
                        <a:rPr b="0" lang="uk-UA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метрия относитель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и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ц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8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 = (x + 3)</a:t>
                      </a:r>
                      <a:r>
                        <a:rPr b="0" lang="uk-UA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 на 3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вл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и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ц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8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 на 4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вправо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и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ц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83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я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за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рди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187280" y="1197000"/>
          <a:ext cx="7777440" cy="5045040"/>
        </p:xfrm>
        <a:graphic>
          <a:graphicData uri="http://schemas.openxmlformats.org/drawingml/2006/table">
            <a:tbl>
              <a:tblPr/>
              <a:tblGrid>
                <a:gridCol w="2305080"/>
                <a:gridCol w="2159280"/>
                <a:gridCol w="3313080"/>
              </a:tblGrid>
              <a:tr h="72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на функ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вая функ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исание преобраз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 = </a:t>
                      </a: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18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+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виг-перенос по оси ординат на 5 ед. ввер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 = x</a:t>
                      </a:r>
                      <a:r>
                        <a:rPr b="0" lang="uk-UA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двиг-перенос по оси ординат на 2 ед. </a:t>
                      </a: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ни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 = -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метрия относитель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и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ц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 =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 = (x + 3)</a:t>
                      </a:r>
                      <a:r>
                        <a:rPr b="0" lang="uk-UA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 на 3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вл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и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ц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y = (x - 4)</a:t>
                      </a:r>
                      <a:r>
                        <a:rPr b="1" lang="uk-UA" sz="18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 на 4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вправо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и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ц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х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0,5 </a:t>
                      </a: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GB" sz="18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я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за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рди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7497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 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  урок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редставления о построении графиков функций вид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f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преобразований; познакомить  учащихся с построением графиков функци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f(х) + 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f(x - 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434960" y="1447920"/>
          <a:ext cx="7499520" cy="462420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риант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риант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3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иведите основные свойства и график функции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ах²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стройте схематично график функц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у=-2х²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у=1/3 х²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у= (х³+х²)/(х+1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иведите основные свойства и график функции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 ах²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а&lt; 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стройте схематично график функц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 у=1/2х²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 у=-3х²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у= (х³-х²)/(х-1).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4527720" y="3346560"/>
                <a:ext cx="8856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график функци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Прямоугольник 3"/>
          <p:cNvSpPr/>
          <p:nvPr/>
        </p:nvSpPr>
        <p:spPr>
          <a:xfrm>
            <a:off x="2944080" y="2997360"/>
            <a:ext cx="426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– 2(х – 4)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рафик функци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-f(x)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 получается из графика функци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f(x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симметрии относительно оси абсцисс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График функци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получается из графика функци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f(x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жением вдоль оси ординат в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 пр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 или сжатием в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при 0 &lt;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1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402920" y="11966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следование 1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547640" y="1989000"/>
          <a:ext cx="7151760" cy="4143600"/>
        </p:xfrm>
        <a:graphic>
          <a:graphicData uri="http://schemas.openxmlformats.org/drawingml/2006/table">
            <a:tbl>
              <a:tblPr/>
              <a:tblGrid>
                <a:gridCol w="2384640"/>
                <a:gridCol w="2384280"/>
                <a:gridCol w="2382840"/>
              </a:tblGrid>
              <a:tr h="673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 ря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ря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 ря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704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ть функцию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(x) = f(x)+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где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ти область опреде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х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ить графики обеих функций в одной системе координ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ть 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ть функцию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(x) = f(x)+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где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ти область опреде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х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ить графики обеих функций в одной системе координ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ть 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ть функцию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(x) = f(x)+n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где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- 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ти область опреде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х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ить графики обеих функций в одной системе коорди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ть 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497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547640" y="3933360"/>
            <a:ext cx="3600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f(x) + n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тся из графика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f(x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параллельного переноса вдоль оси ординат на |n| единиц: вверх при n &gt; 0, вниз при n &lt; 0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4" name="Picture 4" descr="11"/>
          <p:cNvPicPr/>
          <p:nvPr/>
        </p:nvPicPr>
        <p:blipFill>
          <a:blip r:embed="rId1"/>
          <a:stretch/>
        </p:blipFill>
        <p:spPr>
          <a:xfrm>
            <a:off x="5292720" y="907920"/>
            <a:ext cx="3456000" cy="511992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4"/>
          <p:cNvSpPr/>
          <p:nvPr/>
        </p:nvSpPr>
        <p:spPr>
          <a:xfrm>
            <a:off x="1835280" y="1268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c4638"/>
                </a:solidFill>
                <a:latin typeface="Times New Roman"/>
                <a:ea typeface="Times New Roman"/>
              </a:rPr>
              <a:t>у = х</a:t>
            </a:r>
            <a:r>
              <a:rPr b="1" i="1" lang="ru-RU" sz="2400" spc="-1" strike="noStrike" baseline="30000">
                <a:solidFill>
                  <a:srgbClr val="fc4638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6"/>
          <p:cNvSpPr/>
          <p:nvPr/>
        </p:nvSpPr>
        <p:spPr>
          <a:xfrm>
            <a:off x="1704960" y="184464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 = х</a:t>
            </a:r>
            <a:r>
              <a:rPr b="1" i="1" lang="ru-RU" sz="24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7"/>
          <p:cNvSpPr/>
          <p:nvPr/>
        </p:nvSpPr>
        <p:spPr>
          <a:xfrm>
            <a:off x="1713960" y="2565360"/>
            <a:ext cx="14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у = х</a:t>
            </a:r>
            <a:r>
              <a:rPr b="1" i="1" lang="ru-RU" sz="24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–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8"/>
          <p:cNvSpPr/>
          <p:nvPr/>
        </p:nvSpPr>
        <p:spPr>
          <a:xfrm>
            <a:off x="1692360" y="3284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 = х</a:t>
            </a:r>
            <a:r>
              <a:rPr b="1" i="1" lang="ru-RU" sz="2400" spc="-1" strike="noStrike" baseline="30000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– 9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402920" y="11966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следование 2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547640" y="1989000"/>
          <a:ext cx="7151760" cy="4143600"/>
        </p:xfrm>
        <a:graphic>
          <a:graphicData uri="http://schemas.openxmlformats.org/drawingml/2006/table">
            <a:tbl>
              <a:tblPr/>
              <a:tblGrid>
                <a:gridCol w="2384640"/>
                <a:gridCol w="2384280"/>
                <a:gridCol w="2382840"/>
              </a:tblGrid>
              <a:tr h="673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 ря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ря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 ря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704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ть функцию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) = f(x-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где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ти область опреде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х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ить графики обеих функций в одной системе координ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ть 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ть функцию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) = f(x-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где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-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ти область опреде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х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ить графики обеих функций в одной системе координ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ть 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ть функцию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) = f(x-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где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ти область опреде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х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ить графики обеих функций в одной системе коорди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ть 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ки функций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х² + n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= а(х - m)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03280" y="5229360"/>
            <a:ext cx="756144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ик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f(x - m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тся из графика функции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f(x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параллельного переноса вдоль оси абсцисс на |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единиц: вправо пр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 и влево пр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Прямоугольник 3"/>
          <p:cNvSpPr/>
          <p:nvPr/>
        </p:nvSpPr>
        <p:spPr>
          <a:xfrm>
            <a:off x="1495800" y="907920"/>
            <a:ext cx="95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c4638"/>
                </a:solidFill>
                <a:latin typeface="Times New Roman"/>
                <a:ea typeface="Times New Roman"/>
              </a:rPr>
              <a:t>у = х</a:t>
            </a:r>
            <a:r>
              <a:rPr b="1" i="1" lang="ru-RU" sz="2400" spc="-1" strike="noStrike" baseline="30000">
                <a:solidFill>
                  <a:srgbClr val="fc4638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4"/>
          <p:cNvSpPr/>
          <p:nvPr/>
        </p:nvSpPr>
        <p:spPr>
          <a:xfrm>
            <a:off x="4754520" y="907920"/>
            <a:ext cx="156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 =( х + 2)</a:t>
            </a:r>
            <a:r>
              <a:rPr b="1" i="1" lang="ru-RU" sz="24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5"/>
          <p:cNvSpPr/>
          <p:nvPr/>
        </p:nvSpPr>
        <p:spPr>
          <a:xfrm>
            <a:off x="2725560" y="9079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у =( х – 3)</a:t>
            </a:r>
            <a:r>
              <a:rPr b="1" i="1" lang="ru-RU" sz="24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6"/>
          <p:cNvSpPr/>
          <p:nvPr/>
        </p:nvSpPr>
        <p:spPr>
          <a:xfrm>
            <a:off x="6970320" y="9079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 =( х – 5)</a:t>
            </a:r>
            <a:r>
              <a:rPr b="1" i="1" lang="ru-RU" sz="2400" spc="-1" strike="noStrike" baseline="30000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22"/>
          <p:cNvPicPr/>
          <p:nvPr/>
        </p:nvPicPr>
        <p:blipFill>
          <a:blip r:embed="rId1"/>
          <a:stretch/>
        </p:blipFill>
        <p:spPr>
          <a:xfrm>
            <a:off x="1908000" y="1341360"/>
            <a:ext cx="63360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3T07:15:05Z</dcterms:created>
  <dc:creator>Хома</dc:creator>
  <dc:description/>
  <dc:language>en-US</dc:language>
  <cp:lastModifiedBy>Хома</cp:lastModifiedBy>
  <dcterms:modified xsi:type="dcterms:W3CDTF">2020-08-24T09:13:54Z</dcterms:modified>
  <cp:revision>13</cp:revision>
  <dc:subject/>
  <dc:title>Графики функций                  у = ах² + n   и   у = а(х - m)²</dc:title>
</cp:coreProperties>
</file>