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37"/>
          </p:nvPr>
        </p:nvSpPr>
        <p:spPr>
          <a:xfrm>
            <a:off x="3900240" y="-360"/>
            <a:ext cx="29811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ftr" idx="38"/>
          </p:nvPr>
        </p:nvSpPr>
        <p:spPr>
          <a:xfrm>
            <a:off x="0" y="95025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 type="sldNum" idx="39"/>
          </p:nvPr>
        </p:nvSpPr>
        <p:spPr>
          <a:xfrm>
            <a:off x="3900240" y="9502560"/>
            <a:ext cx="29811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8EF7-1F86-4041-9581-5D30C798246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56D7-5241-46E5-9455-D62BE6194C18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8B26-7ED3-42CF-A0DC-46E78F3C6C0C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0222-FCBC-441E-AD58-E59776E5C468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369C-73EA-418C-854C-BB4264077ADD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189-D974-42FF-AB79-08AB995F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E88-149A-47B0-9F06-4280BD4D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A5669-3D19-47CE-B100-A3476A8C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16FE2-CEC2-418D-8860-D63CCC93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C5B1F-94B1-4191-8A0B-8CD684E6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27FD3-EA4E-44D1-90DC-2468257D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A4E9B-4370-467F-BAF5-7C03B40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194A0-56E9-4A88-B60B-89E8AEC8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9A9B2-CFDF-4A33-B042-5A82A239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BCAA6-C744-4447-8DFF-7F22D224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D5610-18A5-4F45-9416-AF363867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C6F3A-C52D-4A46-8A83-27973E1C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62B-DA6F-41F9-8EEC-E4334B7B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A694A-2056-4014-BAAF-4CA87202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10D79-49C7-4B44-ADD1-60373A06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C6ECE-3850-46E9-8F9E-EB1ECB53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7D413-DE63-4DE3-B802-5631C4F6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5A810-69CD-4D4A-9A28-A5F91519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0B77D-42C6-414E-84E7-BC26C4E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A134D-F4DF-4685-86D5-ACFFBA15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42D1F-5631-4FFD-B942-B7ACDBC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B3FE4-682D-4E37-B9A4-AD206DC2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900A4-7552-4A84-A619-32042BD4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2CD-9CF0-4BCE-8D55-8E0F005F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F438E-3A5B-4878-A1D9-A0C447E8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22596-A31C-4942-9A72-0626C812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5E2CA-7FA0-4AEF-A37F-A951567D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DB3E9-FF76-4E1E-AE96-6B66A8CA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EED7D-8334-4E5A-8173-8B26EAC4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CF9A9-F81A-437C-8046-34AC5C2A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9D7F8-352D-4B0F-80F6-E87D3B30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D0798-4979-438F-B561-AB47F50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FAFEA-96AB-458F-8ED1-8AE1067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BB15A-BCC0-428B-92AD-A01B616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86A8-DE58-4520-BE3D-40D9E621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84CF9-54A0-4540-B269-C7C8D19E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62FD8-6B95-4E8C-828E-DB53E0FE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EE3CC-66F3-4BD9-86B3-A9B49C3B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D29B5-BF71-4991-8C67-3E3036AD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82BD2-E32E-4008-9F9D-050A6C38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D1498-CF5A-4F52-9578-4F970FD5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4BD96-EF9C-4DB8-A7CE-4C1DA03C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19F89-CEB5-419C-BBC5-B3DC05B8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EE527-B8A0-45BF-8A8E-C3B01944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E3B22-D903-41B8-A262-9172EA4D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AFD9-49F8-4E76-ACC7-7D4821F5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4C007-69FC-475D-AD6A-1F7E4A1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51DDF-2065-45CB-8F01-F58AA92D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5BF82-A781-42E6-873E-8E733171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DE649-A273-4615-9BD2-1FA71F5A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13F57-E519-43BB-972C-EAF4CD67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05C-A0AF-4803-B07F-E18FACCB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FE9B-80B6-4873-BA58-AD30A29C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257F-BC22-43F3-94DC-CBA3B5D6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6E75-D115-4460-A07A-A6CE1887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2CC2-F015-4AA9-9C2A-F39ACABB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DD2-50A0-469E-BB7A-AEE2525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69B2-9D27-40DD-8D8F-EF1AA258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391E-F97E-4D47-8250-FB270A51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C11B-C7CF-4781-96D3-15FD8EA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1102-FEA4-41C4-A52B-46685440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FEE3-794C-4D4D-A1F2-B3662152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91CA-7E60-4971-A620-3DF2A001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B841A-C773-4EBB-BB26-31E039A9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A7FA-51A4-494A-90DC-FCFA904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A222-BBFB-4085-A6EE-5FA65417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0B52-4313-4EAC-9A25-6E08C0E5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744-6D4F-4E12-A7AA-BEEE0F5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A71B-DB72-48BE-9C25-B3644E82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0C3B-305E-43BC-9179-585239B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5ED0-D5BA-4D9F-848F-0A12DD8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3E50-A944-4652-A1F9-EA7EAD34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11E4-41E6-44D3-8386-CFC1199E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7BEE-3156-4D48-B66E-E871D928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B415-447C-485E-81E8-1A3A505C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107B-7829-49CB-93EE-8040FF0A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DF87-D268-4C8B-ACEE-0E530EAB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A640-E8D4-4100-A850-A6C0AF82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FDF-B32E-4025-ACAE-68AE462C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41F3B-80E2-4BBE-901E-2690BC83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4015-AF05-425C-838C-2542B8B6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E542-9562-4AC5-AD09-2704D8BF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1F4B-BD98-407D-8CAB-F291A45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67FE-06C5-42D6-826A-05CD5285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1A78-A413-4833-A34B-6F900A8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280CB-D41C-4DAC-93CB-2079F379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6365-53FA-4DFF-9A5E-E672274C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CCDA-2EB7-4E20-AE47-8F0BC404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4ACA3-308F-4900-9348-3C37A0CF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CC1-09EC-43E9-9BA5-984256D1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B9E81-2A7E-40DF-9296-8F5EDDE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F0FF0-A9E5-470F-8932-9CCA001F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4FBED-1954-4519-9A86-9EE6182B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8B54-2F51-4DD0-99F0-1944B39A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9CBE3-C657-4242-A844-6DD01A33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008E6-5910-4477-BE07-41F7D34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9FD8-1541-4F71-AC2F-7976732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BF628-E9F7-40A2-92D2-F7879EB9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3E29-96CE-4B89-AE48-5624EA2E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BD0A-E58A-431E-B59E-C57F5D68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2B8-3937-484D-8040-B017DB93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43CD-4400-4E08-BB7A-A95287E5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E5422-5FF3-48B1-8C16-A88F8F57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96BF-F9AD-457C-A3DF-C6726BC0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5F36-7C2F-4212-8A1F-6EB68856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A9089-4B8A-418C-A799-2C169D7A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3D098-A640-4160-AC3E-37BC714C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D5AD-5602-4849-88D3-28E548FD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C7869-6F44-4F7B-A992-AB265D26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694DF-AAF4-4B16-9CA7-B977BD32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8AC4-A98C-4715-BBC2-124F4D59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DA0-0900-49F9-861D-04DD418B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AC2B6-38B5-4AA5-92D8-A9BC97EB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C59D5-2EB7-4638-9055-158B40BF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2A068-7899-4D9B-88F1-F2650EAF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05A9-43EE-4267-8693-03F90932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756D2-4338-473E-B994-77EF34B5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DE35E-AA2E-42D2-8AC6-13F114B2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5FA2D-B07C-46A6-9775-ED295729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C2F4-56FB-4AD0-9E02-AD9DCAF9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CD95-3635-43FB-955E-0A084F96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2515C-20B2-4202-B37B-CD0BC7CB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4A0-973E-43D5-A6EB-3919A796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3FD9E-C050-478B-A4FB-77E79C79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E9846-DC1C-4E30-8114-4E15921D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3F4E-7051-4185-8C4F-600AE179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55FB-F967-47E6-81AF-20EE9B51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CD6E9-C335-46AC-ACE1-7E4AF46A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7FA12-11BA-43A1-998E-1AA5603C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E511-C9ED-41F6-8130-32163330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07B92-92F9-4131-9742-25A2581F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01776-F07A-4E73-A281-0FAA4B4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1998F-6181-4815-8945-F57EBE61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7AC-67E1-477C-9CD9-71AD380F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28315-3508-45D0-8946-400DD42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D66A7-F736-4B0D-8BFE-16D66D5B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CF165-3740-4874-81C8-7C69D925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AE2A4-1C89-4085-B6FA-80D7FEC3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128FF-12D8-4429-B91B-E2F0C74C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23E5B-8D5A-4200-893F-5D8AC982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5A205-83F8-4A01-B3F7-D564E846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688BB-95A9-4015-80A4-178B7666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30626-1322-4408-9685-43FFA112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AE260-2DD6-4AB3-B245-AB43812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A09-F914-4D1F-AF68-E6AAB6D3D40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02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3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04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05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6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07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08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9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10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11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2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13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14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5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ED3D-8142-4E0D-9C22-2EA8016C436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58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9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0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61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2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3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64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5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6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67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8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9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70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1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ED76-5D8D-46B5-9E3B-05B396A45EB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14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5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16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7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8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19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20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1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2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23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4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5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26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7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948C-82A0-4B36-B5AB-C7206A953C2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2CE-86D3-4444-8E11-EFC525C9561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10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1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2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13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4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5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16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7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8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19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1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22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7E65-5775-4F99-AD53-BF89CE97FA7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6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7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7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9F46-8B22-480D-BF4F-7E1BE5D15B5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2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24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5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27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8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0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31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3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34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5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F06E-A091-480E-A1D6-F68E65F0CE2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78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0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81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3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84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6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87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9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90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2DD2-EAEF-4502-831E-6509AC78EF3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34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5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6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37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9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40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2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43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5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46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D8BE-4AAE-4B0E-920E-D4179EC1792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90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1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2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93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4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5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96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7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8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99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01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02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6427-3712-484D-BD09-0E5E2260A6C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4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4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4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5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5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5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D146-89C8-428B-8753-126A517B39A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0"/>
          <p:cNvSpPr/>
          <p:nvPr/>
        </p:nvSpPr>
        <p:spPr>
          <a:xfrm>
            <a:off x="755640" y="907920"/>
            <a:ext cx="78487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WordArt 11"/>
          <p:cNvSpPr txBox="1"/>
          <p:nvPr/>
        </p:nvSpPr>
        <p:spPr>
          <a:xfrm>
            <a:off x="1908000" y="2708280"/>
            <a:ext cx="54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8" name="Rectangle 12"/>
          <p:cNvSpPr/>
          <p:nvPr/>
        </p:nvSpPr>
        <p:spPr>
          <a:xfrm>
            <a:off x="468360" y="3860640"/>
            <a:ext cx="81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9" name="Прямоугольник 7"/>
          <p:cNvSpPr/>
          <p:nvPr/>
        </p:nvSpPr>
        <p:spPr>
          <a:xfrm>
            <a:off x="395280" y="4437000"/>
            <a:ext cx="849780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заимосвязь школы и семьи в профилактике безнадзорности и правонарушений несовершеннолетних»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готовила: Сушенцова Е.М.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      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0" name="Прямоугольник 5"/>
          <p:cNvSpPr/>
          <p:nvPr/>
        </p:nvSpPr>
        <p:spPr>
          <a:xfrm>
            <a:off x="1187280" y="4076640"/>
            <a:ext cx="6693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1" name="Picture 7" descr="H:\1368473066_0df8c04cf9.jpg"/>
          <p:cNvPicPr/>
          <p:nvPr/>
        </p:nvPicPr>
        <p:blipFill>
          <a:blip r:embed="rId1"/>
          <a:stretch/>
        </p:blipFill>
        <p:spPr>
          <a:xfrm>
            <a:off x="1633680" y="233280"/>
            <a:ext cx="597672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2"/>
          <p:cNvSpPr/>
          <p:nvPr/>
        </p:nvSpPr>
        <p:spPr>
          <a:xfrm>
            <a:off x="611280" y="404640"/>
            <a:ext cx="777708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рава и обязанности родителей определены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 статьях 38, 43 Конституции Российской Федерации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 главе 12 Семейного кодекса Российской Федерации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 статьях 19, 52 Закона Российской Федерац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«Об образовании»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Прямоугольник 2"/>
          <p:cNvSpPr/>
          <p:nvPr/>
        </p:nvSpPr>
        <p:spPr>
          <a:xfrm>
            <a:off x="395280" y="1008000"/>
            <a:ext cx="828036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ждый имеет право на образование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сновное общее образование обязательно. 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Российская Федерация устанавливает федеральные государственные образовательные стандарты, поддерживает различные формы образования и само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8" name="Прямоугольник 3"/>
          <p:cNvSpPr/>
          <p:nvPr/>
        </p:nvSpPr>
        <p:spPr>
          <a:xfrm>
            <a:off x="539640" y="333360"/>
            <a:ext cx="8136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ья 43 Конституции РФ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Прямоугольник 1"/>
          <p:cNvSpPr/>
          <p:nvPr/>
        </p:nvSpPr>
        <p:spPr>
          <a:xfrm>
            <a:off x="468360" y="1268280"/>
            <a:ext cx="82072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63. Права и обязанности родителей по воспитанию и образованию детей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одители имеют право и обязаны воспитывать своих дете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одители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0" name="Прямоугольник 2"/>
          <p:cNvSpPr/>
          <p:nvPr/>
        </p:nvSpPr>
        <p:spPr>
          <a:xfrm>
            <a:off x="1332000" y="692280"/>
            <a:ext cx="62643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а 12 Семейного кодекса РФ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Прямоугольник 1"/>
          <p:cNvSpPr/>
          <p:nvPr/>
        </p:nvSpPr>
        <p:spPr>
          <a:xfrm>
            <a:off x="395280" y="404640"/>
            <a:ext cx="8353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2. Права и обязанности родител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одители  несовершеннолетних детей до получения последними общего образования имеют право выбирать формы получения образования, образовательные учреждения, защищать законные права и интересы ребенка, принимать участие в управлении образовательным учреждение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одители  обучающихся, воспитанников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одители  обучающихся, воспитанников обязаны выполнять Устав образовательного учрежде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Родители  обучающихся, воспитанников несут ответственность за их воспитание, получение ими общего 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Прямоугольник 1"/>
          <p:cNvSpPr/>
          <p:nvPr/>
        </p:nvSpPr>
        <p:spPr>
          <a:xfrm>
            <a:off x="539640" y="404640"/>
            <a:ext cx="813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9 Закона РФ «Об образовании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3" name="Прямоугольник 2"/>
          <p:cNvSpPr/>
          <p:nvPr/>
        </p:nvSpPr>
        <p:spPr>
          <a:xfrm>
            <a:off x="684360" y="126828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бование обязательности общего образования применительно к конкретному обучающемуся сохраняет силу до достижения им возраста восемнадцати лет, если соответствующее образование не было получено обучающимся ранее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34" name="Picture 2" descr="C:\Users\Андрей\Desktop\risunok2_364x480.jpg"/>
          <p:cNvPicPr/>
          <p:nvPr/>
        </p:nvPicPr>
        <p:blipFill>
          <a:blip r:embed="rId1"/>
          <a:stretch/>
        </p:blipFill>
        <p:spPr>
          <a:xfrm>
            <a:off x="4305240" y="2857680"/>
            <a:ext cx="4105440" cy="3595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Прямоугольник 1"/>
          <p:cNvGrpSpPr/>
          <p:nvPr/>
        </p:nvGrpSpPr>
        <p:grpSpPr>
          <a:xfrm>
            <a:off x="2109960" y="603360"/>
            <a:ext cx="4492440" cy="592200"/>
            <a:chOff x="2109960" y="603360"/>
            <a:chExt cx="4492440" cy="592200"/>
          </a:xfrm>
        </p:grpSpPr>
        <p:pic>
          <p:nvPicPr>
            <p:cNvPr id="73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109960" y="603360"/>
              <a:ext cx="44924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2124000" y="620640"/>
              <a:ext cx="44640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Устав школы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38" name="Прямоугольник 2"/>
          <p:cNvSpPr/>
          <p:nvPr/>
        </p:nvSpPr>
        <p:spPr>
          <a:xfrm>
            <a:off x="684360" y="1484280"/>
            <a:ext cx="777528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 обязаны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устав учреждения, локальные акты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ять жизнь, физическое и психическое здоровье ребенка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ть условия договора с родителями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рудничать с семьей обучающихся учреждения по вопросам воспитания и обучения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и ответственность за обучение и воспитание детей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ть удовлетворению спроса родителей на воспитательные и образовательные услуг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рямоугольник 1"/>
          <p:cNvSpPr/>
          <p:nvPr/>
        </p:nvSpPr>
        <p:spPr>
          <a:xfrm>
            <a:off x="324000" y="1341360"/>
            <a:ext cx="84247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ать законные права и интересы детей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и ответственность за обучение и воспитание своих детей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получение детьми общего образования и создать условия для получения ими среднего (полного)  общего образования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ребенка необходимыми школьными принадлежностями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Устав школы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временно ставить в известность учреждение о возможности отсутствия или болезни ребенк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0" name="Прямоугольник 2"/>
          <p:cNvSpPr/>
          <p:nvPr/>
        </p:nvSpPr>
        <p:spPr>
          <a:xfrm>
            <a:off x="1619280" y="692280"/>
            <a:ext cx="5545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и обязаны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Прямоугольник 1"/>
          <p:cNvSpPr/>
          <p:nvPr/>
        </p:nvSpPr>
        <p:spPr>
          <a:xfrm>
            <a:off x="539640" y="476280"/>
            <a:ext cx="8209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учающиеся в Учреждении обязаны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2" name="Прямоугольник 2"/>
          <p:cNvSpPr/>
          <p:nvPr/>
        </p:nvSpPr>
        <p:spPr>
          <a:xfrm>
            <a:off x="539640" y="1887480"/>
            <a:ext cx="8136000" cy="28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номно расходовать электроэнергию и воду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установленные правила внутреннего трудового распорядка, техники безопасности, санитарии, гигиены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ажать права и считаться с интересами других обучающихся, работников, не подвергать опасности их жизнь и здоровье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Прямоугольник 1"/>
          <p:cNvSpPr/>
          <p:nvPr/>
        </p:nvSpPr>
        <p:spPr>
          <a:xfrm>
            <a:off x="324000" y="33336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99"/>
                </a:solidFill>
                <a:latin typeface="Times New Roman"/>
              </a:rPr>
              <a:t>Работа школы по профилактике правонарушений и безнадзорности среди несовершеннолетних: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4" name="Прямоугольник 2"/>
          <p:cNvSpPr/>
          <p:nvPr/>
        </p:nvSpPr>
        <p:spPr>
          <a:xfrm>
            <a:off x="539640" y="141300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ликвидация пробелов в знаниях учащихся;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7300e5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борьба с прогулами занятий;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- семья, находящаяся в социально-опасном положении;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пропаганда здорового образа жизни;</a:t>
            </a:r>
            <a:r>
              <a:rPr b="0" lang="ru-RU" sz="3600" spc="-1" strike="noStrike">
                <a:solidFill>
                  <a:srgbClr val="7300e5"/>
                </a:solidFill>
                <a:latin typeface="Times New Roman"/>
              </a:rPr>
              <a:t> 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проведение индивидуальной работы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6" name="Picture 4" descr="F:\1410.jpg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395280" y="3141720"/>
            <a:ext cx="8424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Чтобы узнать ребенка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до хорошо знать его семью»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3" name="Picture 3" descr="F:\i.jpg"/>
          <p:cNvPicPr/>
          <p:nvPr/>
        </p:nvPicPr>
        <p:blipFill>
          <a:blip r:embed="rId1"/>
          <a:stretch/>
        </p:blipFill>
        <p:spPr>
          <a:xfrm>
            <a:off x="971640" y="476280"/>
            <a:ext cx="20876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549360"/>
            <a:ext cx="8350560" cy="4248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F:\1365066700_reznik.jpg"/>
          <p:cNvPicPr/>
          <p:nvPr/>
        </p:nvPicPr>
        <p:blipFill>
          <a:blip r:embed="rId2"/>
          <a:stretch/>
        </p:blipFill>
        <p:spPr>
          <a:xfrm>
            <a:off x="5651640" y="3213000"/>
            <a:ext cx="3097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Прямоугольник 1"/>
          <p:cNvSpPr/>
          <p:nvPr/>
        </p:nvSpPr>
        <p:spPr>
          <a:xfrm>
            <a:off x="1979640" y="333360"/>
            <a:ext cx="67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равонарушение — это виновное поведение праводееспособного лица, которое противоречит предписаниям норм права,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причиняет вред другим лицам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и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влечет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за собой юридическую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ответственность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5" name="Прямоугольник 2"/>
          <p:cNvSpPr/>
          <p:nvPr/>
        </p:nvSpPr>
        <p:spPr>
          <a:xfrm>
            <a:off x="395280" y="299736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се правонарушения делят на две группы: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роступки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преступления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самые тяжёлые правонарушения)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Picture 2" descr="MC900438002[1]"/>
          <p:cNvPicPr/>
          <p:nvPr/>
        </p:nvPicPr>
        <p:blipFill>
          <a:blip r:embed="rId1"/>
          <a:stretch/>
        </p:blipFill>
        <p:spPr>
          <a:xfrm>
            <a:off x="395280" y="404640"/>
            <a:ext cx="1584360" cy="1140120"/>
          </a:xfrm>
          <a:prstGeom prst="rect">
            <a:avLst/>
          </a:prstGeom>
          <a:ln w="0">
            <a:noFill/>
          </a:ln>
        </p:spPr>
      </p:pic>
      <p:sp>
        <p:nvSpPr>
          <p:cNvPr id="687" name="Прямоугольник 3"/>
          <p:cNvSpPr/>
          <p:nvPr/>
        </p:nvSpPr>
        <p:spPr>
          <a:xfrm>
            <a:off x="8244000" y="2394000"/>
            <a:ext cx="504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П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Ш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8" name="Прямоугольник 3"/>
          <p:cNvSpPr/>
          <p:nvPr/>
        </p:nvSpPr>
        <p:spPr>
          <a:xfrm>
            <a:off x="936720" y="2987640"/>
            <a:ext cx="57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Picture 25" descr="MC900287591[1]"/>
          <p:cNvPicPr/>
          <p:nvPr/>
        </p:nvPicPr>
        <p:blipFill>
          <a:blip r:embed="rId2"/>
          <a:stretch/>
        </p:blipFill>
        <p:spPr>
          <a:xfrm flipH="1">
            <a:off x="6875640" y="2565360"/>
            <a:ext cx="1225440" cy="12906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1" descr="MC900237922[1]"/>
          <p:cNvPicPr/>
          <p:nvPr/>
        </p:nvPicPr>
        <p:blipFill>
          <a:blip r:embed="rId3"/>
          <a:stretch/>
        </p:blipFill>
        <p:spPr>
          <a:xfrm>
            <a:off x="7020000" y="4005360"/>
            <a:ext cx="1224000" cy="993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2" descr="MC900196536[1]"/>
          <p:cNvPicPr/>
          <p:nvPr/>
        </p:nvPicPr>
        <p:blipFill>
          <a:blip r:embed="rId4"/>
          <a:stretch/>
        </p:blipFill>
        <p:spPr>
          <a:xfrm>
            <a:off x="7308720" y="5084640"/>
            <a:ext cx="968400" cy="121932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9"/>
          <p:cNvSpPr/>
          <p:nvPr/>
        </p:nvSpPr>
        <p:spPr>
          <a:xfrm>
            <a:off x="395280" y="450864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оступок -это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действие, либо бездействие, посягающее на установленные законами или подзаконными актами общественные отношения, отличающиеся небольшой общественной опасность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Прямоугольник 1"/>
          <p:cNvSpPr/>
          <p:nvPr/>
        </p:nvSpPr>
        <p:spPr>
          <a:xfrm>
            <a:off x="395280" y="40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300e5"/>
                </a:solidFill>
                <a:latin typeface="Times New Roman"/>
              </a:rPr>
              <a:t>Виды правонарушен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4" name="Прямоугольник 4"/>
          <p:cNvSpPr/>
          <p:nvPr/>
        </p:nvSpPr>
        <p:spPr>
          <a:xfrm>
            <a:off x="5727240" y="20606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Гражданско-правова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95" name="Скругленный прямоугольник 5"/>
          <p:cNvGrpSpPr/>
          <p:nvPr/>
        </p:nvGrpSpPr>
        <p:grpSpPr>
          <a:xfrm>
            <a:off x="5126040" y="1676520"/>
            <a:ext cx="3713040" cy="1054080"/>
            <a:chOff x="5126040" y="1676520"/>
            <a:chExt cx="3713040" cy="1054080"/>
          </a:xfrm>
        </p:grpSpPr>
        <p:pic>
          <p:nvPicPr>
            <p:cNvPr id="696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126040" y="1676520"/>
              <a:ext cx="3713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5197320" y="1749600"/>
              <a:ext cx="357372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гражданско-правовая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98" name="Скругленный прямоугольник 7"/>
          <p:cNvGrpSpPr/>
          <p:nvPr/>
        </p:nvGrpSpPr>
        <p:grpSpPr>
          <a:xfrm>
            <a:off x="371520" y="1609560"/>
            <a:ext cx="3719520" cy="1121040"/>
            <a:chOff x="371520" y="1609560"/>
            <a:chExt cx="3719520" cy="1121040"/>
          </a:xfrm>
        </p:grpSpPr>
        <p:pic>
          <p:nvPicPr>
            <p:cNvPr id="699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71520" y="1609560"/>
              <a:ext cx="37195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47840" y="1681200"/>
              <a:ext cx="356688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уголовная 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01" name="Скругленный прямоугольник 8"/>
          <p:cNvGrpSpPr/>
          <p:nvPr/>
        </p:nvGrpSpPr>
        <p:grpSpPr>
          <a:xfrm>
            <a:off x="1090440" y="3981600"/>
            <a:ext cx="3359160" cy="1199880"/>
            <a:chOff x="1090440" y="3981600"/>
            <a:chExt cx="3359160" cy="1199880"/>
          </a:xfrm>
        </p:grpSpPr>
        <p:pic>
          <p:nvPicPr>
            <p:cNvPr id="70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1090440" y="3981600"/>
              <a:ext cx="33591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171440" y="4060800"/>
              <a:ext cx="320040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административная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04" name="Скругленный прямоугольник 9"/>
          <p:cNvGrpSpPr/>
          <p:nvPr/>
        </p:nvGrpSpPr>
        <p:grpSpPr>
          <a:xfrm>
            <a:off x="4767120" y="3981600"/>
            <a:ext cx="3498840" cy="1199880"/>
            <a:chOff x="4767120" y="3981600"/>
            <a:chExt cx="3498840" cy="1199880"/>
          </a:xfrm>
        </p:grpSpPr>
        <p:pic>
          <p:nvPicPr>
            <p:cNvPr id="705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767120" y="3981600"/>
              <a:ext cx="3498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844880" y="4060800"/>
              <a:ext cx="334332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дисциплинарная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cxnSp>
        <p:nvCxnSpPr>
          <p:cNvPr id="707" name="Прямая со стрелкой 11"/>
          <p:cNvCxnSpPr/>
          <p:nvPr/>
        </p:nvCxnSpPr>
        <p:spPr>
          <a:xfrm>
            <a:off x="4500720" y="907560"/>
            <a:ext cx="792720" cy="302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8" name="Прямая со стрелкой 15"/>
          <p:cNvCxnSpPr/>
          <p:nvPr/>
        </p:nvCxnSpPr>
        <p:spPr>
          <a:xfrm flipH="1">
            <a:off x="3995280" y="907560"/>
            <a:ext cx="432720" cy="302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9" name="Прямая со стрелкой 30"/>
          <p:cNvCxnSpPr/>
          <p:nvPr/>
        </p:nvCxnSpPr>
        <p:spPr>
          <a:xfrm>
            <a:off x="6084720" y="907920"/>
            <a:ext cx="50400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0" name="Прямая со стрелкой 35"/>
          <p:cNvCxnSpPr/>
          <p:nvPr/>
        </p:nvCxnSpPr>
        <p:spPr>
          <a:xfrm flipH="1">
            <a:off x="2483640" y="907920"/>
            <a:ext cx="648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Прямоугольник 1"/>
          <p:cNvGrpSpPr/>
          <p:nvPr/>
        </p:nvGrpSpPr>
        <p:grpSpPr>
          <a:xfrm>
            <a:off x="512640" y="517680"/>
            <a:ext cx="8193240" cy="707760"/>
            <a:chOff x="512640" y="517680"/>
            <a:chExt cx="8193240" cy="707760"/>
          </a:xfrm>
        </p:grpSpPr>
        <p:pic>
          <p:nvPicPr>
            <p:cNvPr id="71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12640" y="517680"/>
              <a:ext cx="81932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39640" y="549360"/>
              <a:ext cx="813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300e5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600" spc="-1" strike="noStrike">
                  <a:solidFill>
                    <a:srgbClr val="7300e5"/>
                  </a:solidFill>
                  <a:latin typeface="Times New Roman"/>
                  <a:ea typeface="Times New Roman"/>
                </a:rPr>
                <a:t>Стадии отклоняющегося поведения: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14" name="Прямоугольник 2"/>
          <p:cNvSpPr/>
          <p:nvPr/>
        </p:nvSpPr>
        <p:spPr>
          <a:xfrm>
            <a:off x="684360" y="170028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неодобряем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порицаем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- девиантн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- предпреступн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- противоправное или преступное поведение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Прямоугольник 1"/>
          <p:cNvSpPr/>
          <p:nvPr/>
        </p:nvSpPr>
        <p:spPr>
          <a:xfrm>
            <a:off x="826920" y="692280"/>
            <a:ext cx="7632720" cy="581400"/>
          </a:xfrm>
          <a:prstGeom prst="rect">
            <a:avLst/>
          </a:prstGeom>
          <a:gradFill rotWithShape="0">
            <a:gsLst>
              <a:gs pos="0">
                <a:srgbClr val="bf7eff"/>
              </a:gs>
              <a:gs pos="100000">
                <a:srgbClr val="ebd9ff"/>
              </a:gs>
            </a:gsLst>
            <a:lin ang="16200000"/>
          </a:gradFill>
          <a:ln w="9360">
            <a:solidFill>
              <a:srgbClr val="952d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8dc"/>
                </a:solidFill>
                <a:latin typeface="Tahoma"/>
              </a:rPr>
              <a:t>Признаки проблемных детей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6" name="Picture 2" descr="C:\Users\Андрей\Desktop\258915_html_m1b8885e9.jpg"/>
          <p:cNvPicPr/>
          <p:nvPr/>
        </p:nvPicPr>
        <p:blipFill>
          <a:blip r:embed="rId1"/>
          <a:stretch/>
        </p:blipFill>
        <p:spPr>
          <a:xfrm>
            <a:off x="6156360" y="4221000"/>
            <a:ext cx="2603520" cy="225288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оугольник 3"/>
          <p:cNvSpPr/>
          <p:nvPr/>
        </p:nvSpPr>
        <p:spPr>
          <a:xfrm>
            <a:off x="755640" y="141300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7300e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Уклонение от учеб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buClr>
                <a:srgbClr val="7300e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Низкая общественно-трудовая активность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3.   Негативные проявлени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4.   Негативизм в оценке действительности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5.   Повышенная критичность по отношению к педагогам и взрослы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7300e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Отношение к воспитательным мероприятия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8" name="Picture 3" descr="C:\Users\Андрей\Desktop\0020-016-Pamjatka-molodezhi.jpg"/>
          <p:cNvPicPr/>
          <p:nvPr/>
        </p:nvPicPr>
        <p:blipFill>
          <a:blip r:embed="rId2"/>
          <a:stretch/>
        </p:blipFill>
        <p:spPr>
          <a:xfrm>
            <a:off x="395280" y="4832280"/>
            <a:ext cx="1800360" cy="1623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6" descr="MC900438002[1]"/>
          <p:cNvPicPr/>
          <p:nvPr/>
        </p:nvPicPr>
        <p:blipFill>
          <a:blip r:embed="rId1"/>
          <a:stretch/>
        </p:blipFill>
        <p:spPr>
          <a:xfrm>
            <a:off x="179280" y="189000"/>
            <a:ext cx="1676520" cy="1139760"/>
          </a:xfrm>
          <a:prstGeom prst="rect">
            <a:avLst/>
          </a:prstGeom>
          <a:ln w="0">
            <a:noFill/>
          </a:ln>
        </p:spPr>
      </p:pic>
      <p:sp>
        <p:nvSpPr>
          <p:cNvPr id="720" name="Прямоугольник 2"/>
          <p:cNvSpPr/>
          <p:nvPr/>
        </p:nvSpPr>
        <p:spPr>
          <a:xfrm>
            <a:off x="1835280" y="40464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Почему формируется такое поведение? Что влияет на ребёнка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1" name="Прямоугольник 3"/>
          <p:cNvSpPr/>
          <p:nvPr/>
        </p:nvSpPr>
        <p:spPr>
          <a:xfrm>
            <a:off x="539640" y="198900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1. Неблагоприятные условия семейного воспитания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2. Недостаточное внимание и любовь со стороны родител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3. Гиперопек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4. Чрезмерное удовлетворение потребностей ребенк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5. Чрезмерная требовательность и авторитарность родител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Прямоугольник 1" descr=""/>
          <p:cNvPicPr/>
          <p:nvPr/>
        </p:nvPicPr>
        <p:blipFill>
          <a:blip r:embed="rId1"/>
          <a:stretch/>
        </p:blipFill>
        <p:spPr>
          <a:xfrm>
            <a:off x="3833640" y="317520"/>
            <a:ext cx="2341800" cy="615960"/>
          </a:xfrm>
          <a:prstGeom prst="rect">
            <a:avLst/>
          </a:prstGeom>
          <a:ln w="0">
            <a:noFill/>
          </a:ln>
        </p:spPr>
      </p:pic>
      <p:sp>
        <p:nvSpPr>
          <p:cNvPr id="723" name="Прямоугольник 2"/>
          <p:cNvSpPr/>
          <p:nvPr/>
        </p:nvSpPr>
        <p:spPr>
          <a:xfrm>
            <a:off x="395280" y="62064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1) ребёнка постоянно критикуют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4d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2) ребенок живет во вражде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3) ребенок растет в упреках, он учится ... 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                                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4) ребенок растет в честности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5) ребенок растет в безопасности,  он учится 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6) ребенка поддерживают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7) ребенка высмеивают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8) ребенок живет в понимании и дружелюбии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рямоугольник 3"/>
          <p:cNvSpPr/>
          <p:nvPr/>
        </p:nvSpPr>
        <p:spPr>
          <a:xfrm>
            <a:off x="365976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5" name="Прямоугольник 4"/>
          <p:cNvSpPr/>
          <p:nvPr/>
        </p:nvSpPr>
        <p:spPr>
          <a:xfrm>
            <a:off x="395280" y="1474920"/>
            <a:ext cx="835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филактика преступлений и  правонарушений среди несовершеннолетних- это система мер, направленных на выявление и устранение причин и условий, способствующих безнадзорности и правонарушениям несовершеннолетних.</a:t>
            </a: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07:53:35Z</dcterms:created>
  <dc:creator>Елена</dc:creator>
  <dc:description/>
  <dc:language>en-US</dc:language>
  <cp:lastModifiedBy>Elena</cp:lastModifiedBy>
  <cp:lastPrinted>2020-03-14T20:42:11Z</cp:lastPrinted>
  <dcterms:modified xsi:type="dcterms:W3CDTF">2020-08-23T20:59:23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