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12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dt" idx="37"/>
          </p:nvPr>
        </p:nvSpPr>
        <p:spPr>
          <a:xfrm>
            <a:off x="3900240" y="-360"/>
            <a:ext cx="29811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ftr" idx="38"/>
          </p:nvPr>
        </p:nvSpPr>
        <p:spPr>
          <a:xfrm>
            <a:off x="0" y="95025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 type="sldNum" idx="39"/>
          </p:nvPr>
        </p:nvSpPr>
        <p:spPr>
          <a:xfrm>
            <a:off x="3900240" y="9502560"/>
            <a:ext cx="29811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AFDC-C281-4A32-8A9A-03422072040B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900600" y="9502920"/>
            <a:ext cx="298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770C-E16E-4113-AC89-F2BC7B0EEC4B}" type="slidenum">
              <a:rPr b="0" lang="ru-RU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900600" y="9502920"/>
            <a:ext cx="298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72FF-7552-4894-BF6B-FC3FBB1A60C8}" type="slidenum">
              <a:rPr b="0" lang="ru-RU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900600" y="9502920"/>
            <a:ext cx="298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CF68-430D-46B1-A0D0-64BE23187791}" type="slidenum">
              <a:rPr b="0" lang="ru-RU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900600" y="9502920"/>
            <a:ext cx="298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B487-DF93-47EF-9E92-124742ED466D}" type="slidenum">
              <a:rPr b="0" lang="ru-RU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EBA-AF61-46F9-B1C9-66302FDD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6D5-88E8-4F57-B38B-2607F957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50317-6010-4043-B563-62DCC53A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B3202-013F-406E-9781-816F3C96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8CE87-E09F-4B2D-BC00-E35935B6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128ED-61FA-413B-A975-893F5E33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6E0D5-5236-4AB3-8206-6454A45E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7B512-30FF-492D-9528-A7C3D51B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D7719-76CC-43F2-9560-1CD22B70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A9275-7041-4262-9BC3-F5152143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36793-CCF7-418D-B971-FBC22DC8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73CCA-0C9F-467B-83A3-A13FD1AD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9F3-00D7-4BF2-89CF-007196BE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EE4C6-2014-4357-84C1-EBBF123B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654FF-FD0A-417F-BCAE-1C16D18F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B9543-6F5E-46EB-89B7-AA55E931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61169-1B2F-4599-BB43-B90E2CE0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D5C2B-734C-4EF3-B505-43FA2AF5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EF650-D7B3-4D96-A0BA-3AF50783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15950-6C3A-4751-A7AF-71ECD3E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A59E4-1234-4A6B-B12C-70E365D0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EF77D-751B-46BC-8EBD-7C132845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238DD-5819-4BD5-A677-D96E59F1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F38-29AB-4BA0-BEC8-67C50733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7ABA4-2CA6-48E2-A53E-FC4F38D3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199CD-D10A-4150-9D27-7E618708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1CA4B-E68E-48BE-89EE-15D73132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F31A8-8F34-4076-A0D1-B493929F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F3D17-B20D-422F-9B1F-284735AE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F3F78-8143-4144-AC94-C9F3071D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D52D9-2BB2-4DA0-9F61-9DF8F55A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747D5-9238-416D-9184-4A278896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C1185-9FD5-41D0-B4FB-C94DA1E1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E4BB3-46F1-4572-BC5E-7DE1EE5C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4766-6727-4738-A25E-AE78CCEA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1230D-8D7A-4531-B1F1-ECE708D8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39372-36E3-4624-BAF6-BDC211F6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0C3B7-0A21-4D03-A56F-9CA043FE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28F70-2F48-4F8E-981D-37606C8B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8F56D-3540-4888-8046-B1A75395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7F2E9-6B1F-4D95-BB79-AF4295A6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75E63-D8AC-4079-8C7C-07578D0B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F47F8-94D8-413A-A017-FCFC8031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22BFE-E6B3-4412-99E5-266C3E90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C0199-56A7-4362-AC4A-229F2B89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EE69-016E-4261-9854-C7DDF5B9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EDBCA-CF6F-4BCD-9CAF-72A2D8D1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07072-7E11-41C3-9E38-319768D2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C46A6-EB9B-4356-B7FE-B1E07C55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924BC-76CB-424D-9614-092B1AE2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852CB-71DA-480D-BEAD-A5838EDC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2EBF-07BE-458A-B6FF-A1AD569B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AC05-1E15-40B3-B806-87650D9C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96BD-4100-4584-8CF0-E1EBB230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3D63-61EF-4930-99E9-AE66E518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9D31-CBAB-45CF-9E08-BD132F17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F1F-1656-495B-9BA1-4CAB0BF1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15E0-8E47-49C0-956C-B624EF6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1296-C362-4556-972E-7130439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EDB8-C1AF-41D6-BB09-86D8918E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1F1A-5C6F-48C9-B6CA-FBF39159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C32E-F77B-4199-90BA-A66DCEAD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D744-9711-496A-B2F1-875CE720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2CDFE-E43A-46DC-8E4E-2641750D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36AB-18AE-455F-8EF2-B4C8DDCC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B454-DA1E-4318-9C4B-F53D3335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ACE1B-E664-4D36-A3A2-4CF8FC79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8AA-E9BC-4D69-A0F8-6BBC47D1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01482-C170-4037-B3BA-3280F842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5A53-1CCC-458C-8303-A9253904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66F77-14AC-46CD-B2C8-4652D499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B32D8-B5F1-4C56-B380-D0B1B7F0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BD44-0EFE-4D3F-95EF-224055EB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B6E2-7AEF-4AB5-9B58-831C36E8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AAB16-3BB6-476D-99A9-1608D836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14854-B416-40DE-B4E6-26AC686D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2EE1C-ED8F-4485-8424-6BED466A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36927-45AF-4225-8D93-9C124378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838-5CA5-4C24-AADC-F2FE251E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F97E-AFBA-4A69-8423-9F310F63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F0D39-85A0-4E33-B084-B8948E62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1BC48-7CAD-494C-889C-77149144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4BD0B-002B-4D08-8CE1-27AB4FD0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AFF6-D585-4C39-9821-9FDE2D2A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5B52F-34E6-4EE0-8D30-E8499A19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B8635-2CAA-413D-A4A4-2B175BA6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23821-6D7E-46B6-AFB9-ED5C6114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CE50-A4DF-4109-BA22-3BBB1B91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91C6-2101-4594-99D1-8AD99321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D71-D5B2-4DB7-8658-5D784EB7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98D8C-5AAA-48AB-BDFA-562950B9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B3B68-E08D-45A7-8A34-06F69984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C7881-31F0-458F-85D1-C6A61A08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D5A6D-4BD6-438A-B5CF-2DE2E8FD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46D66-89BA-4F9D-A09E-A75ADBEC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1F5E2-E14B-4FA4-B120-CE234689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709DC-2270-4CD6-9500-D2C40368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ADE93-7B4A-4E74-8754-42A15006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CB8AD-2246-4C84-A8C3-1F800AF0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CACB3-4143-4EE6-AED6-A7BCBDBF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659-AE63-47B3-A55E-802C2A08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2A5F5-0F9E-49CE-AEF1-E1F0E3DC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D13F-DEED-4947-8BEB-8770AEBA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D826-C5A9-47DA-97AA-F0331012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FB2AE-3490-459F-97CA-9501B1CA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9069E-7284-477B-8319-48A3D76B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4727C-7FDE-4219-B9B0-E42A95B0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31AE3-0A05-4742-BFF6-8C5B1E8A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0DA80-5EED-4267-82DC-6A8CAB66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85964-EAD2-45C7-9636-CAB3CCB6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A4329-ACA4-46A6-AE3A-B163E4E0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74C-55F1-4108-A4DD-D47FDCB6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8CFF5-9E0E-488C-8325-728C9633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00862-08A8-42CA-AB29-238AA917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E4B45-61A5-4E3C-B683-3676236B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AE66D-C851-4632-84ED-EC291B7F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50356-12DE-4BA8-B0DC-B4B04BF9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35B3E-AFEC-498A-82BC-A3EF1FF8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955A8-8509-4302-BFD4-12F4315B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F079C-64DC-4DB4-986D-778CF593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8AD71-7F8C-4A0C-ABE5-194A7FD2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988CC-96E4-4970-A519-65941E05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BA8-1368-48BA-8227-1578B455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47BE9-579E-4D10-AA94-86823BD7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B4D0C-4EAA-4592-9C9F-094088B7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5CF84-0D63-479B-A68F-7AEA6A09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99D1F-DBFF-417B-90E1-428F6511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0324B-C6CB-4262-BAE0-EC63CB47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42FDA-D003-4A5E-8545-EDFF9404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94AD3-ABCB-4E8A-ABEB-3620434B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76C42-7DB0-4E37-A1C8-18BB24F1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8286A-DDBF-4739-BF89-9B3D3E00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22FA3-7E37-4B83-9B86-A5067ED4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0C1-2536-492A-BE70-D457B72B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84BE4-FA8A-4BE9-B126-602C40F9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D1B28-AD2D-4117-8D57-40E3A09F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01B7F-C770-4A8E-8708-6B604F1F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DABE8-290B-4EDC-A3D9-A618F107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A49E6-F46F-410D-AFF6-FB1AC5A5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6D313-DC61-4DAB-8DB1-A4C086CD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CBBE3-8E27-4B0E-8160-AE221912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30B59-1889-49FD-ADF7-A81D2E38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36D65-F8A2-46CA-BB75-AD8430FB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4653C-FC38-4CEA-A9E8-B11FE74D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1C61-9DC8-4BC8-A386-B5DA83D35AA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02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03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04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05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06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07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08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09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10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11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2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13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514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5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8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9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0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695D-83AA-4274-A092-095CC28F6014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58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9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0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61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2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3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64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5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6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67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8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9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570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71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D61E-4E12-4C78-AD24-843D07DF620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14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5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16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7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8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19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20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1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2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23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4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5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626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7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A10D-0402-4B6F-939A-28CE932E7B12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05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205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205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205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205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205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205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205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206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206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206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206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3491-F3D2-4D2C-B89A-D88CFB616B8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10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1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2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13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4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5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16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7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8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19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1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22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3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EA20-32AF-432F-B2E7-65ADB3A73A2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6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6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6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7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7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7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5252-1E70-48AA-BE68-0403B0FCBD35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22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3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24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25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27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28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30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31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33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234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5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2019-79BC-4EB0-96C1-6520CC3B439D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78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9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0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81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3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84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6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87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9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290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3A7A-D4DC-4908-BF1C-BA580AF21648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34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5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36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37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39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40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1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42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43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4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45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46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7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48EC-BD2D-4510-8463-3A796F828F93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90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1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92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93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4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95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96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7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98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99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01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402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4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4618-BF09-442D-8C71-F6183D9AFA2C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4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4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4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5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5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5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45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5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45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1529-2BCC-4259-98C6-B2209552314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0"/>
          <p:cNvSpPr/>
          <p:nvPr/>
        </p:nvSpPr>
        <p:spPr>
          <a:xfrm>
            <a:off x="755640" y="907920"/>
            <a:ext cx="78487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7" name="WordArt 11"/>
          <p:cNvSpPr txBox="1"/>
          <p:nvPr/>
        </p:nvSpPr>
        <p:spPr>
          <a:xfrm>
            <a:off x="1908000" y="2708280"/>
            <a:ext cx="54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8" name="Rectangle 12"/>
          <p:cNvSpPr/>
          <p:nvPr/>
        </p:nvSpPr>
        <p:spPr>
          <a:xfrm>
            <a:off x="468360" y="3860640"/>
            <a:ext cx="81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9" name="Прямоугольник 7"/>
          <p:cNvSpPr/>
          <p:nvPr/>
        </p:nvSpPr>
        <p:spPr>
          <a:xfrm>
            <a:off x="395280" y="4437000"/>
            <a:ext cx="849780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Взаимосвязь школы и семьи в профилактике безнадзорности и правонарушений несовершеннолетних»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дготовила: Сушенцова Е.М.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       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0" name="Прямоугольник 5"/>
          <p:cNvSpPr/>
          <p:nvPr/>
        </p:nvSpPr>
        <p:spPr>
          <a:xfrm>
            <a:off x="1187280" y="4076640"/>
            <a:ext cx="6693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1" name="Picture 7" descr="H:\1368473066_0df8c04cf9.jpg"/>
          <p:cNvPicPr/>
          <p:nvPr/>
        </p:nvPicPr>
        <p:blipFill>
          <a:blip r:embed="rId1"/>
          <a:stretch/>
        </p:blipFill>
        <p:spPr>
          <a:xfrm>
            <a:off x="1633680" y="233280"/>
            <a:ext cx="597672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2"/>
          <p:cNvSpPr/>
          <p:nvPr/>
        </p:nvSpPr>
        <p:spPr>
          <a:xfrm>
            <a:off x="611280" y="404640"/>
            <a:ext cx="7777080" cy="58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Права и обязанности родителей определены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В статьях 38, 43 Конституции Российской Федерации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В главе 12 Семейного кодекса Российской Федерации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В статьях 19, 52 Закона Российской Федерац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«Об образовании»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Прямоугольник 2"/>
          <p:cNvSpPr/>
          <p:nvPr/>
        </p:nvSpPr>
        <p:spPr>
          <a:xfrm>
            <a:off x="395280" y="1008000"/>
            <a:ext cx="828036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аждый имеет право на образование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сновное общее образование обязательно. Родители или лица, их заменяющие, обеспечивают получение детьми основного общего образования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Российская Федерация устанавливает федеральные государственные образовательные стандарты, поддерживает различные формы образования и самообразова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8" name="Прямоугольник 3"/>
          <p:cNvSpPr/>
          <p:nvPr/>
        </p:nvSpPr>
        <p:spPr>
          <a:xfrm>
            <a:off x="539640" y="333360"/>
            <a:ext cx="8136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ья 43 Конституции РФ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Прямоугольник 1"/>
          <p:cNvSpPr/>
          <p:nvPr/>
        </p:nvSpPr>
        <p:spPr>
          <a:xfrm>
            <a:off x="468360" y="1268280"/>
            <a:ext cx="820728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63. Права и обязанности родителей по воспитанию и образованию детей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одители имеют право и обязаны воспитывать своих детей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и несут ответственность за воспитание и развитие своих детей. Они обязаны заботиться о здоровье, физическом, психическом, духовном и нравственном развитии своих детей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одители обязаны обеспечить получение детьми основного общего образования и создать условия для получения ими среднего (полного) общего образова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0" name="Прямоугольник 2"/>
          <p:cNvSpPr/>
          <p:nvPr/>
        </p:nvSpPr>
        <p:spPr>
          <a:xfrm>
            <a:off x="1332000" y="692280"/>
            <a:ext cx="62643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а 12 Семейного кодекса РФ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Прямоугольник 1"/>
          <p:cNvSpPr/>
          <p:nvPr/>
        </p:nvSpPr>
        <p:spPr>
          <a:xfrm>
            <a:off x="395280" y="404640"/>
            <a:ext cx="8353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2. Права и обязанности родител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одители  несовершеннолетних детей до получения последними общего образования имеют право выбирать формы получения образования, образовательные учреждения, защищать законные права и интересы ребенка, принимать участие в управлении образовательным учреждением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одители  обучающихся, воспитанников обязаны обеспечить получение детьми основного общего образования и создать условия для получения ими среднего (полного) общего образова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Родители  обучающихся, воспитанников обязаны выполнять Устав образовательного учрежде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Родители  обучающихся, воспитанников несут ответственность за их воспитание, получение ими общего образова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Прямоугольник 1"/>
          <p:cNvSpPr/>
          <p:nvPr/>
        </p:nvSpPr>
        <p:spPr>
          <a:xfrm>
            <a:off x="539640" y="404640"/>
            <a:ext cx="813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19 Закона РФ «Об образовании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3" name="Прямоугольник 2"/>
          <p:cNvSpPr/>
          <p:nvPr/>
        </p:nvSpPr>
        <p:spPr>
          <a:xfrm>
            <a:off x="684360" y="1268280"/>
            <a:ext cx="77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бование обязательности общего образования применительно к конкретному обучающемуся сохраняет силу до достижения им возраста восемнадцати лет, если соответствующее образование не было получено обучающимся ранее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34" name="Picture 2" descr="C:\Users\Андрей\Desktop\risunok2_364x480.jpg"/>
          <p:cNvPicPr/>
          <p:nvPr/>
        </p:nvPicPr>
        <p:blipFill>
          <a:blip r:embed="rId1"/>
          <a:stretch/>
        </p:blipFill>
        <p:spPr>
          <a:xfrm>
            <a:off x="4305240" y="2857680"/>
            <a:ext cx="4105440" cy="3595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Прямоугольник 1"/>
          <p:cNvGrpSpPr/>
          <p:nvPr/>
        </p:nvGrpSpPr>
        <p:grpSpPr>
          <a:xfrm>
            <a:off x="2109960" y="603360"/>
            <a:ext cx="4492440" cy="592200"/>
            <a:chOff x="2109960" y="603360"/>
            <a:chExt cx="4492440" cy="592200"/>
          </a:xfrm>
        </p:grpSpPr>
        <p:pic>
          <p:nvPicPr>
            <p:cNvPr id="73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109960" y="603360"/>
              <a:ext cx="44924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2124000" y="620640"/>
              <a:ext cx="44640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Устав школы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738" name="Прямоугольник 2"/>
          <p:cNvSpPr/>
          <p:nvPr/>
        </p:nvSpPr>
        <p:spPr>
          <a:xfrm>
            <a:off x="684360" y="1484280"/>
            <a:ext cx="777528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 обязаны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устав учреждения, локальные акты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ранять жизнь, физическое и психическое здоровье ребенка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ть условия договора с родителями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трудничать с семьей обучающихся учреждения по вопросам воспитания и обучения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и ответственность за обучение и воспитание детей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овать удовлетворению спроса родителей на воспитательные и образовательные услуги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рямоугольник 1"/>
          <p:cNvSpPr/>
          <p:nvPr/>
        </p:nvSpPr>
        <p:spPr>
          <a:xfrm>
            <a:off x="324000" y="1341360"/>
            <a:ext cx="84247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щать законные права и интересы детей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и ответственность за обучение и воспитание своих детей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ть получение детьми общего образования и создать условия для получения ими среднего (полного)  общего образования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ть ребенка необходимыми школьными принадлежностями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Устав школы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временно ставить в известность учреждение о возможности отсутствия или болезни ребенк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0" name="Прямоугольник 2"/>
          <p:cNvSpPr/>
          <p:nvPr/>
        </p:nvSpPr>
        <p:spPr>
          <a:xfrm>
            <a:off x="1619280" y="692280"/>
            <a:ext cx="55450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дители обязаны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Прямоугольник 1"/>
          <p:cNvSpPr/>
          <p:nvPr/>
        </p:nvSpPr>
        <p:spPr>
          <a:xfrm>
            <a:off x="539640" y="476280"/>
            <a:ext cx="82090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учающиеся в Учреждении обязаны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2" name="Прямоугольник 2"/>
          <p:cNvSpPr/>
          <p:nvPr/>
        </p:nvSpPr>
        <p:spPr>
          <a:xfrm>
            <a:off x="539640" y="1887480"/>
            <a:ext cx="8136000" cy="28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номно расходовать электроэнергию и воду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установленные правила внутреннего трудового распорядка, техники безопасности, санитарии, гигиены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ажать права и считаться с интересами других обучающихся, работников, не подвергать опасности их жизнь и здоровье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Прямоугольник 1"/>
          <p:cNvSpPr/>
          <p:nvPr/>
        </p:nvSpPr>
        <p:spPr>
          <a:xfrm>
            <a:off x="324000" y="33336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99"/>
                </a:solidFill>
                <a:latin typeface="Times New Roman"/>
              </a:rPr>
              <a:t>Работа школы по профилактике правонарушений и безнадзорности среди несовершеннолетних: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4" name="Прямоугольник 2"/>
          <p:cNvSpPr/>
          <p:nvPr/>
        </p:nvSpPr>
        <p:spPr>
          <a:xfrm>
            <a:off x="539640" y="1413000"/>
            <a:ext cx="820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ликвидация пробелов в знаниях учащихся;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7300e5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борьба с прогулами занятий;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- семья, находящаяся в социально-опасном положении;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7300e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пропаганда здорового образа жизни;</a:t>
            </a:r>
            <a:r>
              <a:rPr b="0" lang="ru-RU" sz="3600" spc="-1" strike="noStrike">
                <a:solidFill>
                  <a:srgbClr val="7300e5"/>
                </a:solidFill>
                <a:latin typeface="Times New Roman"/>
              </a:rPr>
              <a:t> 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7300e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проведение индивидуальной работы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6" name="Picture 4" descr="F:\1410.jpg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395280" y="3141720"/>
            <a:ext cx="8424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Чтобы узнать ребенка,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до хорошо знать его семью»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.А. Сухомлинский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3" name="Picture 3" descr="F:\i.jpg"/>
          <p:cNvPicPr/>
          <p:nvPr/>
        </p:nvPicPr>
        <p:blipFill>
          <a:blip r:embed="rId1"/>
          <a:stretch/>
        </p:blipFill>
        <p:spPr>
          <a:xfrm>
            <a:off x="971640" y="476280"/>
            <a:ext cx="208764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Прямоугольник 3" descr=""/>
          <p:cNvPicPr/>
          <p:nvPr/>
        </p:nvPicPr>
        <p:blipFill>
          <a:blip r:embed="rId1"/>
          <a:stretch/>
        </p:blipFill>
        <p:spPr>
          <a:xfrm>
            <a:off x="396720" y="549360"/>
            <a:ext cx="8350560" cy="42480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F:\1365066700_reznik.jpg"/>
          <p:cNvPicPr/>
          <p:nvPr/>
        </p:nvPicPr>
        <p:blipFill>
          <a:blip r:embed="rId2"/>
          <a:stretch/>
        </p:blipFill>
        <p:spPr>
          <a:xfrm>
            <a:off x="5651640" y="3213000"/>
            <a:ext cx="3097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Прямоугольник 1"/>
          <p:cNvSpPr/>
          <p:nvPr/>
        </p:nvSpPr>
        <p:spPr>
          <a:xfrm>
            <a:off x="1979640" y="333360"/>
            <a:ext cx="67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Правонарушение — это виновное поведение праводееспособного лица, которое противоречит предписаниям норм права, 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причиняет вред другим лицам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и 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влечет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за собой юридическую 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ответственность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5" name="Прямоугольник 2"/>
          <p:cNvSpPr/>
          <p:nvPr/>
        </p:nvSpPr>
        <p:spPr>
          <a:xfrm>
            <a:off x="395280" y="299736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се правонарушения делят на две группы: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роступки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преступления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(самые тяжёлые правонарушения)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6" name="Picture 2" descr="MC900438002[1]"/>
          <p:cNvPicPr/>
          <p:nvPr/>
        </p:nvPicPr>
        <p:blipFill>
          <a:blip r:embed="rId1"/>
          <a:stretch/>
        </p:blipFill>
        <p:spPr>
          <a:xfrm>
            <a:off x="395280" y="404640"/>
            <a:ext cx="1584360" cy="1140120"/>
          </a:xfrm>
          <a:prstGeom prst="rect">
            <a:avLst/>
          </a:prstGeom>
          <a:ln w="0">
            <a:noFill/>
          </a:ln>
        </p:spPr>
      </p:pic>
      <p:sp>
        <p:nvSpPr>
          <p:cNvPr id="687" name="Прямоугольник 3"/>
          <p:cNvSpPr/>
          <p:nvPr/>
        </p:nvSpPr>
        <p:spPr>
          <a:xfrm>
            <a:off x="8244000" y="2394000"/>
            <a:ext cx="504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П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Ш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8" name="Прямоугольник 3"/>
          <p:cNvSpPr/>
          <p:nvPr/>
        </p:nvSpPr>
        <p:spPr>
          <a:xfrm>
            <a:off x="936720" y="2987640"/>
            <a:ext cx="57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9" name="Picture 25" descr="MC900287591[1]"/>
          <p:cNvPicPr/>
          <p:nvPr/>
        </p:nvPicPr>
        <p:blipFill>
          <a:blip r:embed="rId2"/>
          <a:stretch/>
        </p:blipFill>
        <p:spPr>
          <a:xfrm flipH="1">
            <a:off x="6875640" y="2565360"/>
            <a:ext cx="1225440" cy="12906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1" descr="MC900237922[1]"/>
          <p:cNvPicPr/>
          <p:nvPr/>
        </p:nvPicPr>
        <p:blipFill>
          <a:blip r:embed="rId3"/>
          <a:stretch/>
        </p:blipFill>
        <p:spPr>
          <a:xfrm>
            <a:off x="7020000" y="4005360"/>
            <a:ext cx="1224000" cy="9936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2" descr="MC900196536[1]"/>
          <p:cNvPicPr/>
          <p:nvPr/>
        </p:nvPicPr>
        <p:blipFill>
          <a:blip r:embed="rId4"/>
          <a:stretch/>
        </p:blipFill>
        <p:spPr>
          <a:xfrm>
            <a:off x="7308720" y="5084640"/>
            <a:ext cx="968400" cy="1219320"/>
          </a:xfrm>
          <a:prstGeom prst="rect">
            <a:avLst/>
          </a:prstGeom>
          <a:ln w="0">
            <a:noFill/>
          </a:ln>
        </p:spPr>
      </p:pic>
      <p:sp>
        <p:nvSpPr>
          <p:cNvPr id="692" name="Прямоугольник 9"/>
          <p:cNvSpPr/>
          <p:nvPr/>
        </p:nvSpPr>
        <p:spPr>
          <a:xfrm>
            <a:off x="395280" y="450864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оступок -это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действие, либо бездействие, посягающее на установленные законами или подзаконными актами общественные отношения, отличающиеся небольшой общественной опасностью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Прямоугольник 1"/>
          <p:cNvSpPr/>
          <p:nvPr/>
        </p:nvSpPr>
        <p:spPr>
          <a:xfrm>
            <a:off x="395280" y="404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300e5"/>
                </a:solidFill>
                <a:latin typeface="Times New Roman"/>
              </a:rPr>
              <a:t>Виды правонарушений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4" name="Прямоугольник 4"/>
          <p:cNvSpPr/>
          <p:nvPr/>
        </p:nvSpPr>
        <p:spPr>
          <a:xfrm>
            <a:off x="5727240" y="206064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Гражданско-правова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95" name="Скругленный прямоугольник 5"/>
          <p:cNvGrpSpPr/>
          <p:nvPr/>
        </p:nvGrpSpPr>
        <p:grpSpPr>
          <a:xfrm>
            <a:off x="5126040" y="1676520"/>
            <a:ext cx="3713040" cy="1054080"/>
            <a:chOff x="5126040" y="1676520"/>
            <a:chExt cx="3713040" cy="1054080"/>
          </a:xfrm>
        </p:grpSpPr>
        <p:pic>
          <p:nvPicPr>
            <p:cNvPr id="696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5126040" y="1676520"/>
              <a:ext cx="3713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5197320" y="1749600"/>
              <a:ext cx="357372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гражданско-правовая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ответственн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98" name="Скругленный прямоугольник 7"/>
          <p:cNvGrpSpPr/>
          <p:nvPr/>
        </p:nvGrpSpPr>
        <p:grpSpPr>
          <a:xfrm>
            <a:off x="371520" y="1609560"/>
            <a:ext cx="3719520" cy="1121040"/>
            <a:chOff x="371520" y="1609560"/>
            <a:chExt cx="3719520" cy="1121040"/>
          </a:xfrm>
        </p:grpSpPr>
        <p:pic>
          <p:nvPicPr>
            <p:cNvPr id="699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71520" y="1609560"/>
              <a:ext cx="371952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447840" y="1681200"/>
              <a:ext cx="356688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уголовная ответственн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01" name="Скругленный прямоугольник 8"/>
          <p:cNvGrpSpPr/>
          <p:nvPr/>
        </p:nvGrpSpPr>
        <p:grpSpPr>
          <a:xfrm>
            <a:off x="1090440" y="3981600"/>
            <a:ext cx="3359160" cy="1199880"/>
            <a:chOff x="1090440" y="3981600"/>
            <a:chExt cx="3359160" cy="1199880"/>
          </a:xfrm>
        </p:grpSpPr>
        <p:pic>
          <p:nvPicPr>
            <p:cNvPr id="70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1090440" y="3981600"/>
              <a:ext cx="33591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1171440" y="4060800"/>
              <a:ext cx="320040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административная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ответственн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04" name="Скругленный прямоугольник 9"/>
          <p:cNvGrpSpPr/>
          <p:nvPr/>
        </p:nvGrpSpPr>
        <p:grpSpPr>
          <a:xfrm>
            <a:off x="4767120" y="3981600"/>
            <a:ext cx="3498840" cy="1199880"/>
            <a:chOff x="4767120" y="3981600"/>
            <a:chExt cx="3498840" cy="1199880"/>
          </a:xfrm>
        </p:grpSpPr>
        <p:pic>
          <p:nvPicPr>
            <p:cNvPr id="705" name="Скругленный 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4767120" y="3981600"/>
              <a:ext cx="34988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844880" y="4060800"/>
              <a:ext cx="334332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дисциплинарная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ответственн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cxnSp>
        <p:nvCxnSpPr>
          <p:cNvPr id="707" name="Прямая со стрелкой 11"/>
          <p:cNvCxnSpPr/>
          <p:nvPr/>
        </p:nvCxnSpPr>
        <p:spPr>
          <a:xfrm>
            <a:off x="4500720" y="907560"/>
            <a:ext cx="792720" cy="302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8" name="Прямая со стрелкой 15"/>
          <p:cNvCxnSpPr/>
          <p:nvPr/>
        </p:nvCxnSpPr>
        <p:spPr>
          <a:xfrm flipH="1">
            <a:off x="3995280" y="907560"/>
            <a:ext cx="432720" cy="302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9" name="Прямая со стрелкой 30"/>
          <p:cNvCxnSpPr/>
          <p:nvPr/>
        </p:nvCxnSpPr>
        <p:spPr>
          <a:xfrm>
            <a:off x="6084720" y="907920"/>
            <a:ext cx="50400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10" name="Прямая со стрелкой 35"/>
          <p:cNvCxnSpPr/>
          <p:nvPr/>
        </p:nvCxnSpPr>
        <p:spPr>
          <a:xfrm flipH="1">
            <a:off x="2483640" y="907920"/>
            <a:ext cx="648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Прямоугольник 1"/>
          <p:cNvGrpSpPr/>
          <p:nvPr/>
        </p:nvGrpSpPr>
        <p:grpSpPr>
          <a:xfrm>
            <a:off x="512640" y="517680"/>
            <a:ext cx="8193240" cy="707760"/>
            <a:chOff x="512640" y="517680"/>
            <a:chExt cx="8193240" cy="707760"/>
          </a:xfrm>
        </p:grpSpPr>
        <p:pic>
          <p:nvPicPr>
            <p:cNvPr id="712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512640" y="517680"/>
              <a:ext cx="819324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539640" y="549360"/>
              <a:ext cx="813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300e5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600" spc="-1" strike="noStrike">
                  <a:solidFill>
                    <a:srgbClr val="7300e5"/>
                  </a:solidFill>
                  <a:latin typeface="Times New Roman"/>
                  <a:ea typeface="Times New Roman"/>
                </a:rPr>
                <a:t>Стадии отклоняющегося поведения: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714" name="Прямоугольник 2"/>
          <p:cNvSpPr/>
          <p:nvPr/>
        </p:nvSpPr>
        <p:spPr>
          <a:xfrm>
            <a:off x="684360" y="1700280"/>
            <a:ext cx="79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300e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неодобряемое поведение;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7300e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порицаемое поведение;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- девиантное поведение;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- предпреступное поведение;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- противоправное или преступное поведение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Прямоугольник 1"/>
          <p:cNvSpPr/>
          <p:nvPr/>
        </p:nvSpPr>
        <p:spPr>
          <a:xfrm>
            <a:off x="826920" y="692280"/>
            <a:ext cx="7632720" cy="581400"/>
          </a:xfrm>
          <a:prstGeom prst="rect">
            <a:avLst/>
          </a:prstGeom>
          <a:gradFill rotWithShape="0">
            <a:gsLst>
              <a:gs pos="0">
                <a:srgbClr val="bf7eff"/>
              </a:gs>
              <a:gs pos="100000">
                <a:srgbClr val="ebd9ff"/>
              </a:gs>
            </a:gsLst>
            <a:lin ang="16200000"/>
          </a:gradFill>
          <a:ln w="9360">
            <a:solidFill>
              <a:srgbClr val="952d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8dc"/>
                </a:solidFill>
                <a:latin typeface="Tahoma"/>
              </a:rPr>
              <a:t>Признаки проблемных детей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6" name="Picture 2" descr="C:\Users\Андрей\Desktop\258915_html_m1b8885e9.jpg"/>
          <p:cNvPicPr/>
          <p:nvPr/>
        </p:nvPicPr>
        <p:blipFill>
          <a:blip r:embed="rId1"/>
          <a:stretch/>
        </p:blipFill>
        <p:spPr>
          <a:xfrm>
            <a:off x="6156360" y="4221000"/>
            <a:ext cx="2603520" cy="2252880"/>
          </a:xfrm>
          <a:prstGeom prst="rect">
            <a:avLst/>
          </a:prstGeom>
          <a:ln w="0">
            <a:noFill/>
          </a:ln>
        </p:spPr>
      </p:pic>
      <p:sp>
        <p:nvSpPr>
          <p:cNvPr id="717" name="Прямоугольник 3"/>
          <p:cNvSpPr/>
          <p:nvPr/>
        </p:nvSpPr>
        <p:spPr>
          <a:xfrm>
            <a:off x="755640" y="141300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7300e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Уклонение от учеб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buClr>
                <a:srgbClr val="7300e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Низкая общественно-трудовая активность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3.   Негативные проявления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4.   Негативизм в оценке действительности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5.   Повышенная критичность по отношению к педагогам и взрослы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7300e5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Отношение к воспитательным мероприятия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8" name="Picture 3" descr="C:\Users\Андрей\Desktop\0020-016-Pamjatka-molodezhi.jpg"/>
          <p:cNvPicPr/>
          <p:nvPr/>
        </p:nvPicPr>
        <p:blipFill>
          <a:blip r:embed="rId2"/>
          <a:stretch/>
        </p:blipFill>
        <p:spPr>
          <a:xfrm>
            <a:off x="395280" y="4832280"/>
            <a:ext cx="1800360" cy="1623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6" descr="MC900438002[1]"/>
          <p:cNvPicPr/>
          <p:nvPr/>
        </p:nvPicPr>
        <p:blipFill>
          <a:blip r:embed="rId1"/>
          <a:stretch/>
        </p:blipFill>
        <p:spPr>
          <a:xfrm>
            <a:off x="179280" y="189000"/>
            <a:ext cx="1676520" cy="1139760"/>
          </a:xfrm>
          <a:prstGeom prst="rect">
            <a:avLst/>
          </a:prstGeom>
          <a:ln w="0">
            <a:noFill/>
          </a:ln>
        </p:spPr>
      </p:pic>
      <p:sp>
        <p:nvSpPr>
          <p:cNvPr id="720" name="Прямоугольник 2"/>
          <p:cNvSpPr/>
          <p:nvPr/>
        </p:nvSpPr>
        <p:spPr>
          <a:xfrm>
            <a:off x="1835280" y="40464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Почему формируется такое поведение? Что влияет на ребёнка?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1" name="Прямоугольник 3"/>
          <p:cNvSpPr/>
          <p:nvPr/>
        </p:nvSpPr>
        <p:spPr>
          <a:xfrm>
            <a:off x="539640" y="198900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1. Неблагоприятные условия семейного воспитания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2. Недостаточное внимание и любовь со стороны родител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3. Гиперопек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4. Чрезмерное удовлетворение потребностей ребенк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5. Чрезмерная требовательность и авторитарность родител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Прямоугольник 1" descr=""/>
          <p:cNvPicPr/>
          <p:nvPr/>
        </p:nvPicPr>
        <p:blipFill>
          <a:blip r:embed="rId1"/>
          <a:stretch/>
        </p:blipFill>
        <p:spPr>
          <a:xfrm>
            <a:off x="3833640" y="317520"/>
            <a:ext cx="2341800" cy="615960"/>
          </a:xfrm>
          <a:prstGeom prst="rect">
            <a:avLst/>
          </a:prstGeom>
          <a:ln w="0">
            <a:noFill/>
          </a:ln>
        </p:spPr>
      </p:pic>
      <p:sp>
        <p:nvSpPr>
          <p:cNvPr id="723" name="Прямоугольник 2"/>
          <p:cNvSpPr/>
          <p:nvPr/>
        </p:nvSpPr>
        <p:spPr>
          <a:xfrm>
            <a:off x="395280" y="62064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1) ребёнка постоянно критикуют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4d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2) ребенок живет во вражде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3) ребенок растет в упреках, он учится ...  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                                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4) ребенок растет в честности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5) ребенок растет в безопасности,  он учится 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6) ребенка поддерживают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7) ребенка высмеивают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8) ребенок живет в понимании и дружелюбии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рямоугольник 3"/>
          <p:cNvSpPr/>
          <p:nvPr/>
        </p:nvSpPr>
        <p:spPr>
          <a:xfrm>
            <a:off x="365976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5" name="Прямоугольник 4"/>
          <p:cNvSpPr/>
          <p:nvPr/>
        </p:nvSpPr>
        <p:spPr>
          <a:xfrm>
            <a:off x="395280" y="1474920"/>
            <a:ext cx="835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филактика преступлений и  правонарушений среди несовершеннолетних- это система мер, направленных на выявление и устранение причин и условий, способствующих безнадзорности и правонарушениям несовершеннолетних.</a:t>
            </a:r>
            <a:r>
              <a:rPr b="1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07:53:35Z</dcterms:created>
  <dc:creator>Елена</dc:creator>
  <dc:description/>
  <dc:language>en-US</dc:language>
  <cp:lastModifiedBy>Elena</cp:lastModifiedBy>
  <cp:lastPrinted>2020-03-14T20:42:11Z</cp:lastPrinted>
  <dcterms:modified xsi:type="dcterms:W3CDTF">2020-08-23T20:59:23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