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2F3F4-BDB2-4022-B776-9965ED428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06B11-A8C5-42D4-A268-D2FBB4CD0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EEAB9-F4D4-457D-AB9D-898EE7216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E6918-0853-4EEA-8EBC-A2B8DF4FF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03AF2-005E-4931-969D-C01D8E857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33A5F-182F-4323-A071-EA41A82E8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CCB5A-5767-4A63-BF17-AF26A501C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A3362-8DDD-452A-AEDE-4E8AF6EAE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FBAA1-6237-42C5-8025-9C578AF52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1574E-C211-459A-87C5-A1483FF08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30B5B-FD2B-4127-A2A2-D371506F9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8DD59-1EDB-4E3B-94A8-2B3A2FD89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27B6D-5FF5-4F4D-9E83-A4D6DFD27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09DBF-CD52-4A8D-88BE-6EA3AE955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6B0ED-7341-49B2-B510-13FA7867B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3D27B-8F7D-4C56-B315-6BA5184B7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6BF38-CE71-4DD8-8A00-C9CD7A3B9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EA88C-7CAA-4E4A-8693-1211A42C7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FBB7E-E0AD-4735-8C2F-14D6DD126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5E6AE-FA0E-4DF3-A072-32ECDC691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C0578-340E-44A2-B4C3-408332ADF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596F0-B32E-453B-87B9-718779209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A1166-51AA-4F17-9976-E8A55CA5B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A2054-B6E3-4F83-B8CC-50F75B9E0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90A52-792E-4B2F-8DDF-1B5718D826B1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616D1-EA62-4A18-923E-C653A1427F7B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250560" y="1980720"/>
            <a:ext cx="8569080" cy="48769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 fontScale="97000"/>
          </a:bodyPr>
          <a:p>
            <a:pPr marL="3326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ИКТ и цифровые образовательные ресурсы по общественным дисциплинам: технологии и проблемы использования на уроках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Tahoma"/>
              </a:rPr>
              <a:t>Учитель обществознания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Tahoma"/>
              </a:rPr>
              <a:t>МБОУ </a:t>
            </a: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«Шугуровская </a:t>
            </a:r>
            <a:r>
              <a:rPr b="1" lang="ru-RU" sz="1800" spc="-1" strike="noStrike">
                <a:solidFill>
                  <a:srgbClr val="ff3300"/>
                </a:solidFill>
                <a:latin typeface="Tahoma"/>
              </a:rPr>
              <a:t>СОШ</a:t>
            </a: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»</a:t>
            </a:r>
            <a:r>
              <a:rPr b="1" lang="ru-RU" sz="1800" spc="-1" strike="noStrike">
                <a:solidFill>
                  <a:srgbClr val="ff33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Астайкина Людмила Дмитриевн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2020 год</a:t>
            </a:r>
            <a:r>
              <a:rPr b="1" lang="ru-RU" sz="1800" spc="-1" strike="noStrike">
                <a:solidFill>
                  <a:srgbClr val="ff33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324000" y="549000"/>
            <a:ext cx="842472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en-US" sz="2800" spc="-1" strike="noStrike">
                <a:solidFill>
                  <a:srgbClr val="ff3300"/>
                </a:solidFill>
                <a:latin typeface="Tahoma"/>
              </a:rPr>
              <a:t>Современный учитель не может и не должен быть единственным источником информации. Интернет может стать не только другом, но и врагом ученика. Учитель должен стать эффективным навигатором ученик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ahoma"/>
              </a:rPr>
              <a:t>       </a:t>
            </a:r>
            <a:r>
              <a:rPr b="1" lang="en-US" sz="2800" spc="-1" strike="noStrike">
                <a:solidFill>
                  <a:srgbClr val="ff3300"/>
                </a:solidFill>
                <a:latin typeface="Tahoma"/>
              </a:rPr>
              <a:t>ИКТ в обучении общественным дисциплинам нельзя назвать данью моде. Это прежде всего возможность улучшить качество образования. С помощью ИКТ успешно решаются образовательные задачи, как в урочное, так и во внеурочное врем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0" y="549000"/>
            <a:ext cx="85788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2200" spc="-1" strike="noStrike">
                <a:solidFill>
                  <a:srgbClr val="ff3300"/>
                </a:solidFill>
                <a:latin typeface="Tahoma"/>
              </a:rPr>
              <a:t>В условиях становления новой системы образования, особую актуальность приобретают вопросы освоения и применения современных образовательных технологий. Важнейшей составляющей педагогического процесса становится личностно-ориентированное взаимодействие учителя с учениками. Наблюдаются тенденции совершенствования образовательных технологий, характеризующихся переходом от учения как функции запоминания, к учению как процессу умственного развития. Важнейшим направлением реализации концепции модернизации образования являются информатизация и компьютеризация. Первостепенной здесь становиться задача выбора учителем  оптимальной методики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178920" y="259920"/>
            <a:ext cx="87138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66ff"/>
                </a:solidFill>
                <a:uFillTx/>
                <a:latin typeface="Tahoma"/>
              </a:rPr>
              <a:t>Какая форма использования лучше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       </a:t>
            </a:r>
            <a:r>
              <a:rPr b="0" lang="en-US" sz="2200" spc="-1" strike="noStrike">
                <a:solidFill>
                  <a:srgbClr val="ff3300"/>
                </a:solidFill>
                <a:latin typeface="Tahoma"/>
              </a:rPr>
              <a:t>Разрабатывая методику, целесообразно исходить из идеи органичного введения новых технологических средств в традиционный урок. Для достижения цели урока надо думать не только об эмоциональной окраске и зрелищности, а органично сочетать вербальные методы обучения с методами поисковой и творческой деятельности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Picture 6" descr="http://3.bp.blogspot.com/-5lLZmmx6VBw/UUA2l8gd3MI/AAAAAAAAAE8/2T2teDSHDrg/s1600/ucheniki_w450_h468_jpg.jpg"/>
          <p:cNvPicPr/>
          <p:nvPr/>
        </p:nvPicPr>
        <p:blipFill>
          <a:blip r:embed="rId1"/>
          <a:stretch/>
        </p:blipFill>
        <p:spPr>
          <a:xfrm>
            <a:off x="2411280" y="3429000"/>
            <a:ext cx="4286520" cy="28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899640" y="1700280"/>
            <a:ext cx="7139160" cy="38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ff"/>
                </a:solidFill>
                <a:latin typeface="Tahoma"/>
              </a:rPr>
              <a:t>Так реализуется задача перехода от «знаниевой» парадигмы образования к «деятельностной»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1115640" y="1000080"/>
            <a:ext cx="7581960" cy="49500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ff"/>
                </a:solidFill>
                <a:uFillTx/>
                <a:latin typeface="Tahoma"/>
              </a:rPr>
              <a:t>Цели использования компьютерных технологий ИКТ и ЦОР на уроках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Создание индивидуальной заинтересованности учащихся в приобретении знаний и умений по предмету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Расширение интеллектуальных возможностей ученика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Облегчение процесса обучения в условиях постоянного увеличения потока информаци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468000" y="476280"/>
            <a:ext cx="843588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66ff"/>
                </a:solidFill>
                <a:uFillTx/>
                <a:latin typeface="Tahoma"/>
              </a:rPr>
              <a:t>Как начать освоение информационных технологий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ahoma"/>
              </a:rPr>
              <a:t>Приступая к работе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ahoma"/>
              </a:rPr>
              <a:t>прежде всего определить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ahoma"/>
              </a:rPr>
              <a:t>в каком режиме учитель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ahoma"/>
              </a:rPr>
              <a:t>собирается использовать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ahoma"/>
              </a:rPr>
              <a:t>компьютер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Picture 4" descr="Копия ан77"/>
          <p:cNvPicPr/>
          <p:nvPr/>
        </p:nvPicPr>
        <p:blipFill>
          <a:blip r:embed="rId1"/>
          <a:stretch/>
        </p:blipFill>
        <p:spPr>
          <a:xfrm>
            <a:off x="5219640" y="1844640"/>
            <a:ext cx="2335320" cy="34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Diagram 2"/>
          <p:cNvGrpSpPr/>
          <p:nvPr/>
        </p:nvGrpSpPr>
        <p:grpSpPr>
          <a:xfrm>
            <a:off x="1171440" y="379080"/>
            <a:ext cx="6871320" cy="5524920"/>
            <a:chOff x="1171440" y="379080"/>
            <a:chExt cx="6871320" cy="5524920"/>
          </a:xfrm>
        </p:grpSpPr>
        <p:sp>
          <p:nvSpPr>
            <p:cNvPr id="97" name="_s1028"/>
            <p:cNvSpPr/>
            <p:nvPr/>
          </p:nvSpPr>
          <p:spPr>
            <a:xfrm flipH="1" flipV="1">
              <a:off x="2768400" y="2100240"/>
              <a:ext cx="1194840" cy="7326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" name="_s1029"/>
            <p:cNvSpPr/>
            <p:nvPr/>
          </p:nvSpPr>
          <p:spPr>
            <a:xfrm>
              <a:off x="1171440" y="1024560"/>
              <a:ext cx="1666080" cy="1578960"/>
            </a:xfrm>
            <a:prstGeom prst="ellipse">
              <a:avLst/>
            </a:prstGeom>
            <a:solidFill>
              <a:srgbClr val="8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Franklin Gothic Heavy"/>
                </a:rPr>
                <a:t>Подготовка</a:t>
              </a:r>
              <a:endParaRPr b="0" lang="en-US" sz="15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Franklin Gothic Heavy"/>
                </a:rPr>
                <a:t> </a:t>
              </a:r>
              <a:r>
                <a:rPr b="0" lang="en-US" sz="1500" spc="-1" strike="noStrike">
                  <a:solidFill>
                    <a:srgbClr val="ffffff"/>
                  </a:solidFill>
                  <a:latin typeface="Franklin Gothic Heavy"/>
                </a:rPr>
                <a:t>презентации</a:t>
              </a:r>
              <a:endParaRPr b="0" lang="en-US" sz="15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_s1030"/>
            <p:cNvSpPr/>
            <p:nvPr/>
          </p:nvSpPr>
          <p:spPr>
            <a:xfrm flipH="1">
              <a:off x="2906640" y="3515040"/>
              <a:ext cx="1056960" cy="667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" name="_s1031"/>
            <p:cNvSpPr/>
            <p:nvPr/>
          </p:nvSpPr>
          <p:spPr>
            <a:xfrm>
              <a:off x="1171440" y="3894480"/>
              <a:ext cx="1943280" cy="150804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Franklin Gothic Heavy"/>
                </a:rPr>
                <a:t>Организация </a:t>
              </a:r>
              <a:endParaRPr b="0" lang="en-US" sz="13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Franklin Gothic Heavy"/>
                </a:rPr>
                <a:t>проектной</a:t>
              </a:r>
              <a:endParaRPr b="0" lang="en-US" sz="13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Franklin Gothic Heavy"/>
                </a:rPr>
                <a:t> </a:t>
              </a:r>
              <a:r>
                <a:rPr b="0" lang="en-US" sz="1300" spc="-1" strike="noStrike">
                  <a:solidFill>
                    <a:srgbClr val="ffffff"/>
                  </a:solidFill>
                  <a:latin typeface="Franklin Gothic Heavy"/>
                </a:rPr>
                <a:t>и внеурочной</a:t>
              </a:r>
              <a:endParaRPr b="0" lang="en-US" sz="13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Franklin Gothic Heavy"/>
                </a:rPr>
                <a:t> </a:t>
              </a:r>
              <a:r>
                <a:rPr b="0" lang="en-US" sz="1300" spc="-1" strike="noStrike">
                  <a:solidFill>
                    <a:srgbClr val="ffffff"/>
                  </a:solidFill>
                  <a:latin typeface="Franklin Gothic Heavy"/>
                </a:rPr>
                <a:t>деятельности </a:t>
              </a:r>
              <a:endParaRPr b="0" lang="en-US" sz="13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Franklin Gothic Heavy"/>
                </a:rPr>
                <a:t>по предмету</a:t>
              </a:r>
              <a:endParaRPr b="0" lang="en-US" sz="13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_s1032"/>
            <p:cNvSpPr/>
            <p:nvPr/>
          </p:nvSpPr>
          <p:spPr>
            <a:xfrm>
              <a:off x="4534920" y="3855240"/>
              <a:ext cx="0" cy="6818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" name="_s1033"/>
            <p:cNvSpPr/>
            <p:nvPr/>
          </p:nvSpPr>
          <p:spPr>
            <a:xfrm>
              <a:off x="3670200" y="4540320"/>
              <a:ext cx="1874160" cy="136368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Franklin Gothic Heavy"/>
                </a:rPr>
                <a:t>Проведение</a:t>
              </a:r>
              <a:endParaRPr b="0" lang="en-US" sz="13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Franklin Gothic Heavy"/>
                </a:rPr>
                <a:t> </a:t>
              </a:r>
              <a:r>
                <a:rPr b="0" lang="en-US" sz="1300" spc="-1" strike="noStrike">
                  <a:solidFill>
                    <a:srgbClr val="ffffff"/>
                  </a:solidFill>
                  <a:latin typeface="Franklin Gothic Heavy"/>
                </a:rPr>
                <a:t>тестирования, </a:t>
              </a:r>
              <a:endParaRPr b="0" lang="en-US" sz="13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Franklin Gothic Heavy"/>
                </a:rPr>
                <a:t>рубежного и </a:t>
              </a:r>
              <a:endParaRPr b="0" lang="en-US" sz="13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Franklin Gothic Heavy"/>
                </a:rPr>
                <a:t>итогового </a:t>
              </a:r>
              <a:endParaRPr b="0" lang="en-US" sz="13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Franklin Gothic Heavy"/>
                </a:rPr>
                <a:t>контроля</a:t>
              </a:r>
              <a:endParaRPr b="0" lang="en-US" sz="13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" name="_s1034"/>
            <p:cNvSpPr/>
            <p:nvPr/>
          </p:nvSpPr>
          <p:spPr>
            <a:xfrm>
              <a:off x="5105520" y="3515040"/>
              <a:ext cx="1202400" cy="7387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_s1035"/>
            <p:cNvSpPr/>
            <p:nvPr/>
          </p:nvSpPr>
          <p:spPr>
            <a:xfrm>
              <a:off x="6168600" y="3894480"/>
              <a:ext cx="1666440" cy="148428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Franklin Gothic Heavy"/>
                </a:rPr>
                <a:t>Работа с </a:t>
              </a:r>
              <a:endParaRPr b="0" lang="en-US" sz="13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Franklin Gothic Heavy"/>
                </a:rPr>
                <a:t>тематическими</a:t>
              </a:r>
              <a:endParaRPr b="0" lang="en-US" sz="13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Franklin Gothic Heavy"/>
                </a:rPr>
                <a:t>(предметными</a:t>
              </a:r>
              <a:endParaRPr b="0" lang="en-US" sz="13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Franklin Gothic Heavy"/>
                </a:rPr>
                <a:t> </a:t>
              </a:r>
              <a:r>
                <a:rPr b="0" lang="en-US" sz="1300" spc="-1" strike="noStrike">
                  <a:solidFill>
                    <a:srgbClr val="ffffff"/>
                  </a:solidFill>
                  <a:latin typeface="Franklin Gothic Heavy"/>
                </a:rPr>
                <a:t>компакт –</a:t>
              </a:r>
              <a:endParaRPr b="0" lang="en-US" sz="13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Franklin Gothic Heavy"/>
                </a:rPr>
                <a:t> </a:t>
              </a:r>
              <a:r>
                <a:rPr b="0" lang="en-US" sz="1300" spc="-1" strike="noStrike">
                  <a:solidFill>
                    <a:srgbClr val="ffffff"/>
                  </a:solidFill>
                  <a:latin typeface="Franklin Gothic Heavy"/>
                </a:rPr>
                <a:t>дисками)</a:t>
              </a:r>
              <a:endParaRPr b="0" lang="en-US" sz="13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_s1036"/>
            <p:cNvSpPr/>
            <p:nvPr/>
          </p:nvSpPr>
          <p:spPr>
            <a:xfrm flipV="1">
              <a:off x="5105520" y="2173320"/>
              <a:ext cx="1341720" cy="6595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" name="_s1037"/>
            <p:cNvSpPr/>
            <p:nvPr/>
          </p:nvSpPr>
          <p:spPr>
            <a:xfrm>
              <a:off x="6447240" y="1239840"/>
              <a:ext cx="1595520" cy="164988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Franklin Gothic Heavy"/>
                </a:rPr>
                <a:t>Сравнение </a:t>
              </a:r>
              <a:endParaRPr b="0" lang="en-US" sz="13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Franklin Gothic Heavy"/>
                </a:rPr>
                <a:t>отчетности и </a:t>
              </a:r>
              <a:endParaRPr b="0" lang="en-US" sz="13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Franklin Gothic Heavy"/>
                </a:rPr>
                <a:t>документации</a:t>
              </a:r>
              <a:endParaRPr b="0" lang="en-US" sz="13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" name="_s1038"/>
            <p:cNvSpPr/>
            <p:nvPr/>
          </p:nvSpPr>
          <p:spPr>
            <a:xfrm flipV="1">
              <a:off x="4534920" y="1810800"/>
              <a:ext cx="0" cy="6814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_s1039"/>
            <p:cNvSpPr/>
            <p:nvPr/>
          </p:nvSpPr>
          <p:spPr>
            <a:xfrm>
              <a:off x="3601440" y="379080"/>
              <a:ext cx="2012040" cy="1431720"/>
            </a:xfrm>
            <a:prstGeom prst="ellipse">
              <a:avLst/>
            </a:prstGeom>
            <a:solidFill>
              <a:srgbClr val="80008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Franklin Gothic Heavy"/>
                </a:rPr>
                <a:t>Средство для </a:t>
              </a:r>
              <a:endParaRPr b="0" lang="en-US" sz="13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Franklin Gothic Heavy"/>
                </a:rPr>
                <a:t>выхода в</a:t>
              </a:r>
              <a:endParaRPr b="0" lang="en-US" sz="13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Franklin Gothic Heavy"/>
                </a:rPr>
                <a:t> </a:t>
              </a:r>
              <a:r>
                <a:rPr b="0" lang="en-US" sz="1300" spc="-1" strike="noStrike">
                  <a:solidFill>
                    <a:srgbClr val="ffffff"/>
                  </a:solidFill>
                  <a:latin typeface="Franklin Gothic Heavy"/>
                </a:rPr>
                <a:t>Интернет и</a:t>
              </a:r>
              <a:endParaRPr b="0" lang="en-US" sz="13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Franklin Gothic Heavy"/>
                </a:rPr>
                <a:t> </a:t>
              </a:r>
              <a:r>
                <a:rPr b="0" lang="en-US" sz="1300" spc="-1" strike="noStrike">
                  <a:solidFill>
                    <a:srgbClr val="ffffff"/>
                  </a:solidFill>
                  <a:latin typeface="Franklin Gothic Heavy"/>
                </a:rPr>
                <a:t>поиска</a:t>
              </a:r>
              <a:endParaRPr b="0" lang="en-US" sz="13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Franklin Gothic Heavy"/>
                </a:rPr>
                <a:t> </a:t>
              </a:r>
              <a:r>
                <a:rPr b="0" lang="en-US" sz="1300" spc="-1" strike="noStrike">
                  <a:solidFill>
                    <a:srgbClr val="ffffff"/>
                  </a:solidFill>
                  <a:latin typeface="Franklin Gothic Heavy"/>
                </a:rPr>
                <a:t>в нем</a:t>
              </a:r>
              <a:endParaRPr b="0" lang="en-US" sz="13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Franklin Gothic Heavy"/>
                </a:rPr>
                <a:t> </a:t>
              </a:r>
              <a:r>
                <a:rPr b="0" lang="en-US" sz="1300" spc="-1" strike="noStrike">
                  <a:solidFill>
                    <a:srgbClr val="ffffff"/>
                  </a:solidFill>
                  <a:latin typeface="Franklin Gothic Heavy"/>
                </a:rPr>
                <a:t>информации</a:t>
              </a:r>
              <a:r>
                <a:rPr b="0" lang="en-US" sz="900" spc="-1" strike="noStrike">
                  <a:solidFill>
                    <a:srgbClr val="ffffff"/>
                  </a:solidFill>
                  <a:latin typeface="Kozuka Gothic Pro M"/>
                </a:rPr>
                <a:t> </a:t>
              </a:r>
              <a:endParaRPr b="0" lang="en-US" sz="9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" name="_s1040"/>
            <p:cNvSpPr/>
            <p:nvPr/>
          </p:nvSpPr>
          <p:spPr>
            <a:xfrm>
              <a:off x="3532320" y="2244600"/>
              <a:ext cx="1943280" cy="186516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Franklin Gothic Heavy"/>
                </a:rPr>
                <a:t>Режим 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Franklin Gothic Heavy"/>
                </a:rPr>
                <a:t>Использования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Franklin Gothic Heavy"/>
                </a:rPr>
                <a:t>информации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250560" y="620280"/>
            <a:ext cx="843588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После выбора задач необходимо определиться с материальной базой. Когда все найдено, можно смело работать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  </a:t>
            </a:r>
            <a:r>
              <a:rPr b="1" lang="en-US" sz="4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Кроме того, можно посетить в Интернете сайты и познакомиться с опытом работы коллег в данном направлении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71760" y="499680"/>
            <a:ext cx="6657840" cy="14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i="1" lang="en-US" sz="4000" spc="-1" strike="noStrike">
                <a:solidFill>
                  <a:srgbClr val="0066ff"/>
                </a:solidFill>
                <a:latin typeface="Tahoma"/>
              </a:rPr>
              <a:t>Две основные проблемы использования ИКТ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0" y="1988640"/>
            <a:ext cx="9144000" cy="43354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1. Организация и распределение рабочего времени учителя на урок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2. Рациональное сочетание традиционных педагогических приемов и современных средств обучения.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2T07:27:31Z</dcterms:created>
  <dc:creator>пользователь</dc:creator>
  <dc:description/>
  <dc:language>en-US</dc:language>
  <cp:lastModifiedBy>user</cp:lastModifiedBy>
  <dcterms:modified xsi:type="dcterms:W3CDTF">2020-08-23T13:01:10Z</dcterms:modified>
  <cp:revision>42</cp:revision>
  <dc:subject/>
  <dc:title>Использование ИКТ на уроках истории и обществознания:</dc:title>
</cp:coreProperties>
</file>