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6BF-79BE-4E89-A208-7E0FDD6F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C00-726F-4B1C-B11D-F54C11A4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5BC-BFB5-41B3-9C5A-47E54F82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32A-0459-4DE6-9C01-034C822A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FD80-D6D5-43EF-96F8-61115130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CB46-29F2-4670-A3A5-F4B82408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3D3C-2EF5-4E9E-9E0F-11AF7390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8DB8-BBAD-42E7-B168-EA86B1B7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C743-876E-472E-89BE-220639DC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29A9-A713-4024-AF38-FA009CA6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B34D-05DF-480C-B32C-BD8A0F1B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804-B593-46D4-AAE9-41EFC174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1642-2CF3-4E95-8298-F5976AD0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55D6-CF65-475F-A0ED-2D5222E3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C7CC-70B1-445A-BCD3-679ACC74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0DB9-7E70-4202-9EE2-11E51013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E093-0DE5-453D-B4D3-A57F0BE2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3B0-2F3D-4B97-88CF-613B7B09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151-AED0-4695-928F-68212BFC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47D-1C77-4A1A-B7BF-327BA49B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FB4-5060-4B93-B7E1-B343E5C2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B87-4C15-4E09-81EE-E3F25869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E42-E95C-4085-AEA9-215B95ED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205-A8CA-4051-A1FA-A6CE519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E817-925C-4B01-BB14-B81FF6D8A2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7BB4-61C5-4595-8A38-3C9DE0DF8A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9807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КТ и цифровые образовательные ресурсы по общественным дисциплинам: технологии и проблемы использования на уроках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Учитель обществозна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МБОУ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Шугуровская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ОШ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стайкина Людмила Дмитри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020 год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овременный учитель не может и не должен быть единственным источником информации. Интернет может стать не только другом, но и врагом ученика. Учитель должен стать эффективным навигатором уче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ИКТ в обучении общественным дисциплинам нельзя назвать данью моде. Это прежде всего возможность улучшить качество образования. С помощью ИКТ успешно решаются образовательные задачи, как в урочное, так и во внеурочное врем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5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В условиях становления новой системы образования, особую актуальность приобретают вопросы освоения и применения современных образовательных технологий. Важнейшей составляющей педагогического процесса становится личностно-ориентированное взаимодействие учителя с учениками. Наблюдаются тенденции совершенствования образовательных технологий, характеризующихся переходом от учения как функции запоминания, к учению как процессу умственного развития. Важнейшим направлением реализации концепции модернизации образования являются информатизация и компьютеризация. Первостепенной здесь становиться задача выбора учителем  оптимальной методик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Tahoma"/>
              </a:rPr>
              <a:t>Какая форма использования лучш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Разрабатывая методику, целесообразно исходить из идеи органичного введения новых технологических средств в традиционный урок. Для достижения цели урока надо думать не только об эмоциональной окраске и зрелищности, а органично сочетать вербальные методы обучения с методами поисковой и творческой деятельност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http://3.bp.blogspot.com/-5lLZmmx6VBw/UUA2l8gd3MI/AAAAAAAAAE8/2T2teDSHDrg/s1600/ucheniki_w450_h468_jpg.jpg"/>
          <p:cNvPicPr/>
          <p:nvPr/>
        </p:nvPicPr>
        <p:blipFill>
          <a:blip r:embed="rId1"/>
          <a:stretch/>
        </p:blipFill>
        <p:spPr>
          <a:xfrm>
            <a:off x="2411280" y="3429000"/>
            <a:ext cx="42865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1391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Так реализуется задача перехода от «знаниевой» парадигмы образования к «деятельностной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15640" y="1000080"/>
            <a:ext cx="7581960" cy="495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Tahoma"/>
              </a:rPr>
              <a:t>Цели использования компьютерных технологий ИКТ и ЦОР на урока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Создание индивидуальной заинтересованности учащихся в приобретении знаний и умений по предме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Расширение интеллектуальных возможностей учен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Облегчение процесса обучения в условиях постоянного увеличения потока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ahoma"/>
              </a:rPr>
              <a:t>Как начать освоение информационных технологи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Приступая к работ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прежде всего определи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в каком режиме учите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обирается использ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компью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Копия ан77"/>
          <p:cNvPicPr/>
          <p:nvPr/>
        </p:nvPicPr>
        <p:blipFill>
          <a:blip r:embed="rId1"/>
          <a:stretch/>
        </p:blipFill>
        <p:spPr>
          <a:xfrm>
            <a:off x="5219640" y="1844640"/>
            <a:ext cx="2335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Diagram 2"/>
          <p:cNvGrpSpPr/>
          <p:nvPr/>
        </p:nvGrpSpPr>
        <p:grpSpPr>
          <a:xfrm>
            <a:off x="1171440" y="379080"/>
            <a:ext cx="6871320" cy="5524920"/>
            <a:chOff x="1171440" y="379080"/>
            <a:chExt cx="6871320" cy="5524920"/>
          </a:xfrm>
        </p:grpSpPr>
        <p:sp>
          <p:nvSpPr>
            <p:cNvPr id="97" name="_s1028"/>
            <p:cNvSpPr/>
            <p:nvPr/>
          </p:nvSpPr>
          <p:spPr>
            <a:xfrm flipH="1" flipV="1">
              <a:off x="2768400" y="2100240"/>
              <a:ext cx="1194840" cy="73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29"/>
            <p:cNvSpPr/>
            <p:nvPr/>
          </p:nvSpPr>
          <p:spPr>
            <a:xfrm>
              <a:off x="1171440" y="1024560"/>
              <a:ext cx="1666080" cy="1578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Franklin Gothic Heavy"/>
                </a:rPr>
                <a:t>Подготовка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Franklin Gothic Heavy"/>
                </a:rPr>
                <a:t>презентац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0"/>
            <p:cNvSpPr/>
            <p:nvPr/>
          </p:nvSpPr>
          <p:spPr>
            <a:xfrm flipH="1">
              <a:off x="2906640" y="3515040"/>
              <a:ext cx="1056960" cy="66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1171440" y="3894480"/>
              <a:ext cx="1943280" cy="1508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Организация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проектной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и внеурочной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деятельности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по предмету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>
              <a:off x="4534920" y="3855240"/>
              <a:ext cx="0" cy="681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3670200" y="4540320"/>
              <a:ext cx="1874160" cy="136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Проведение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тестирования,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рубежного и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итогового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контроля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>
              <a:off x="5105520" y="3515040"/>
              <a:ext cx="1202400" cy="738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6168600" y="3894480"/>
              <a:ext cx="1666440" cy="1484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Работа с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тематическим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(предметным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компакт –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дисками)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6"/>
            <p:cNvSpPr/>
            <p:nvPr/>
          </p:nvSpPr>
          <p:spPr>
            <a:xfrm flipV="1">
              <a:off x="5105520" y="2173320"/>
              <a:ext cx="1341720" cy="65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7"/>
            <p:cNvSpPr/>
            <p:nvPr/>
          </p:nvSpPr>
          <p:spPr>
            <a:xfrm>
              <a:off x="6447240" y="1239840"/>
              <a:ext cx="1595520" cy="16498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Сравнение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отчетности и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документаци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1038"/>
            <p:cNvSpPr/>
            <p:nvPr/>
          </p:nvSpPr>
          <p:spPr>
            <a:xfrm flipV="1">
              <a:off x="4534920" y="1810800"/>
              <a:ext cx="0" cy="68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9"/>
            <p:cNvSpPr/>
            <p:nvPr/>
          </p:nvSpPr>
          <p:spPr>
            <a:xfrm>
              <a:off x="3601440" y="379080"/>
              <a:ext cx="2012040" cy="14317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Средство для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выхода в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Интернет 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поиска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в нем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информации</a:t>
              </a:r>
              <a:r>
                <a:rPr b="0" lang="en-US" sz="900" spc="-1" strike="noStrike">
                  <a:solidFill>
                    <a:srgbClr val="ffffff"/>
                  </a:solidFill>
                  <a:latin typeface="Kozuka Gothic Pro M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_s1040"/>
            <p:cNvSpPr/>
            <p:nvPr/>
          </p:nvSpPr>
          <p:spPr>
            <a:xfrm>
              <a:off x="3532320" y="2244600"/>
              <a:ext cx="1943280" cy="18651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ranklin Gothic Heavy"/>
                </a:rPr>
                <a:t>Режим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ranklin Gothic Heavy"/>
                </a:rPr>
                <a:t>Использо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ranklin Gothic Heavy"/>
                </a:rPr>
                <a:t>информац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сле выбора задач необходимо определиться с материальной базой. Когда все найдено, можно смело работа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оме того, можно посетить в Интернете сайты и познакомиться с опытом работы коллег в данном направле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1760" y="499680"/>
            <a:ext cx="6657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0066ff"/>
                </a:solidFill>
                <a:latin typeface="Tahoma"/>
              </a:rPr>
              <a:t>Две основные проблемы использования ИК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988640"/>
            <a:ext cx="9144000" cy="4335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 Организация и распределение рабочего времени учителя на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Рациональное сочетание традиционных педагогических приемов и современных средств обучения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7:27:31Z</dcterms:created>
  <dc:creator>пользователь</dc:creator>
  <dc:description/>
  <dc:language>en-US</dc:language>
  <cp:lastModifiedBy>user</cp:lastModifiedBy>
  <dcterms:modified xsi:type="dcterms:W3CDTF">2020-08-23T13:01:10Z</dcterms:modified>
  <cp:revision>42</cp:revision>
  <dc:subject/>
  <dc:title>Использование ИКТ на уроках истории и обществознания:</dc:title>
</cp:coreProperties>
</file>