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380520" y="685800"/>
            <a:ext cx="609300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4A49-A0B2-45C8-B763-80E8AEF0F7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6DC9C-7896-4654-A8E1-DFE7B3E5D7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0CD8C-ABAB-42FC-8280-5ACD28066C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B3085-56ED-4C7E-AE12-BB70B32365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7A920-200E-4929-9196-22FFCD099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C6D4-06D3-4AD4-8507-A8312328F8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B6914-CEBC-4C62-A9E3-5EF71B84281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5D7A7-09E7-45F9-BB4D-6C7B8ADC5A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7D8B-0530-4901-BAD5-4ED57DBDC1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072C-0B7E-4867-A9E1-8F19F845B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A2EA-8D57-47A1-8CE8-712FCBE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E51D-2F99-47A2-92EA-7B472A0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2D31-608B-46A1-867F-7E514AE1DD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DF19-2079-4B56-B202-A8AB13B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1058-26D0-45DB-AC6F-BE20E868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C9B7-955E-4D03-94E8-5F309F9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01B7-A1DE-4EF7-9DF6-14093ED8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F48D-4BC5-4F2E-BC14-FB529B7A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A067-73A4-4DAB-9955-F237AB6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356C-40B0-4C1E-A729-F3F912B5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8652-AD78-4F58-ACDA-04687B96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423967-91EF-4120-9714-C47F79FBDAD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925560" y="1465200"/>
            <a:ext cx="2274840" cy="171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743040" y="181080"/>
            <a:ext cx="105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реб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21320" y="5560920"/>
            <a:ext cx="283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320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9334440" y="1528920"/>
            <a:ext cx="1498680" cy="130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5349960" y="143208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225360" y="3060720"/>
            <a:ext cx="3554640" cy="353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7"/>
          <a:stretch/>
        </p:blipFill>
        <p:spPr>
          <a:xfrm>
            <a:off x="8418600" y="2901960"/>
            <a:ext cx="3468600" cy="36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8"/>
          <a:stretch/>
        </p:blipFill>
        <p:spPr>
          <a:xfrm>
            <a:off x="4145040" y="3097080"/>
            <a:ext cx="4078080" cy="3273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1603440" y="121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9420120" y="11397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560920" y="1089000"/>
            <a:ext cx="15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Современные образовательные методы и технолог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828720" y="1809720"/>
            <a:ext cx="1054080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9693360" y="3319560"/>
            <a:ext cx="2498760" cy="1876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88920" y="152280"/>
            <a:ext cx="10515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840" y="6275520"/>
            <a:ext cx="444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378160" y="725400"/>
            <a:ext cx="8137440" cy="5430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574560" y="566640"/>
            <a:ext cx="3043440" cy="21891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 flipH="1">
            <a:off x="3708360" y="1628640"/>
            <a:ext cx="951120" cy="3636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228600" y="4183200"/>
            <a:ext cx="3016080" cy="2261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 flipH="1">
            <a:off x="3268800" y="5248440"/>
            <a:ext cx="814320" cy="31248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9069480" y="4008600"/>
            <a:ext cx="977760" cy="376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8169120" y="776160"/>
            <a:ext cx="1420920" cy="82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8686800" y="4968720"/>
            <a:ext cx="26668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917800" y="563400"/>
            <a:ext cx="49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Школьный рэп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66840" y="2133720"/>
            <a:ext cx="40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а каждый за свои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08160" y="304632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т Димка, для прикол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20760" y="385452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Васька вслед за ни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128960" y="461808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Рита для того, чтоб наряды показ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14200" y="5796000"/>
            <a:ext cx="67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Оля для того, чтоб все новости узн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95280" y="114300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чем мы ходим в школу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7170840" y="1917720"/>
            <a:ext cx="1628640" cy="75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4"/>
          <a:stretch/>
        </p:blipFill>
        <p:spPr>
          <a:xfrm>
            <a:off x="6029280" y="2832120"/>
            <a:ext cx="20383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9115560" y="3557520"/>
            <a:ext cx="1636560" cy="7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6"/>
          <a:stretch/>
        </p:blipFill>
        <p:spPr>
          <a:xfrm>
            <a:off x="8456760" y="4576680"/>
            <a:ext cx="1427040" cy="76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7"/>
          <a:stretch/>
        </p:blipFill>
        <p:spPr>
          <a:xfrm>
            <a:off x="9496440" y="5460840"/>
            <a:ext cx="158760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Школьный рэп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108080" y="1174680"/>
            <a:ext cx="18939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3433680" y="1246320"/>
            <a:ext cx="2059200" cy="94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714240" y="2517840"/>
            <a:ext cx="231804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3441600" y="2502000"/>
            <a:ext cx="2090880" cy="96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6"/>
          <a:stretch/>
        </p:blipFill>
        <p:spPr>
          <a:xfrm>
            <a:off x="907920" y="3767040"/>
            <a:ext cx="2140200" cy="113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7"/>
          <a:stretch/>
        </p:blipFill>
        <p:spPr>
          <a:xfrm>
            <a:off x="3300480" y="3919680"/>
            <a:ext cx="1996920" cy="10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189440" y="5273640"/>
            <a:ext cx="6361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ипев:</a:t>
            </a:r>
            <a:br>
              <a:rPr sz="1800"/>
            </a:b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ты, а я. Скажи, зачем ты ходишь в школу?</a:t>
            </a:r>
            <a:br>
              <a:rPr sz="2000"/>
            </a:br>
            <a:r>
              <a:rPr b="1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 вы скажите мне друзья для вас, что значит шко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838080" y="317520"/>
            <a:ext cx="10515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355840" y="4269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09:59:58Z</dcterms:created>
  <dc:creator>Татьяна Масленицына</dc:creator>
  <dc:description/>
  <dc:language>en-US</dc:language>
  <cp:lastModifiedBy>users</cp:lastModifiedBy>
  <dcterms:modified xsi:type="dcterms:W3CDTF">2020-08-24T12:29:56Z</dcterms:modified>
  <cp:revision>141</cp:revision>
  <dc:subject/>
  <dc:title>Презентация PowerPoint</dc:title>
</cp:coreProperties>
</file>