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380520" y="685800"/>
            <a:ext cx="609300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FE2EE-C61C-42AF-BBFA-1BBAD20335F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8F4FC-37BA-4B19-9184-50822731DD3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13863-368C-4703-8BD6-DA3D4A3BF9F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B8212-FD55-452E-870B-BC7A0D8CEEC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FA869-B253-45D5-9A91-5BF3CD8989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8F9CD-EDB4-4FAF-861E-2F3E2AD7A97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225BB-A1B7-41CD-BAE3-C5CA5FA4781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046AE-DD34-46AE-8C28-852AD6D2820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C6AD7-C362-454E-9A4C-B4F4DEB2FA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4CC7F-534A-47D2-97A1-CD22D1FD3C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2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6800"/>
            <a:ext cx="10512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5904F-3396-4E76-AE80-A5B9B107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12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2F857-7B54-4232-85D8-A9280CDA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2360" y="182556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6640" y="182556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680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2360" y="409680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6640" y="409680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695FD-6E87-4106-AAB5-0F7874560A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2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1B83F-4B87-42C7-B0C7-DBEFE70F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272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3C379-654C-4071-B145-2C8B3A8D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15FC6-F512-48EA-AAF0-2D2CC938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41591-BF3B-47F5-B0F4-5EC32187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68809-AC72-4774-BEFB-53B3DA02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EE24F-5C4E-4623-882E-274EB0CE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12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87523-3A3E-4FB5-BACD-AE920CAE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6800"/>
            <a:ext cx="10512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E99BC-0DD4-4791-AC6E-0B50C3F5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272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03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03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7B12E1-21AC-4B7F-9973-5BCB9AA52BD9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2"/>
          <a:stretch/>
        </p:blipFill>
        <p:spPr>
          <a:xfrm>
            <a:off x="925560" y="1465200"/>
            <a:ext cx="2274840" cy="1711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743040" y="181080"/>
            <a:ext cx="10515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требност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621320" y="5560920"/>
            <a:ext cx="283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303200" cy="123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4"/>
          <a:stretch/>
        </p:blipFill>
        <p:spPr>
          <a:xfrm>
            <a:off x="9334440" y="1528920"/>
            <a:ext cx="1498680" cy="1307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5"/>
          <a:stretch/>
        </p:blipFill>
        <p:spPr>
          <a:xfrm>
            <a:off x="5349960" y="1432080"/>
            <a:ext cx="1627200" cy="1628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6"/>
          <a:stretch/>
        </p:blipFill>
        <p:spPr>
          <a:xfrm>
            <a:off x="225360" y="3060720"/>
            <a:ext cx="3554640" cy="3535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7"/>
          <a:stretch/>
        </p:blipFill>
        <p:spPr>
          <a:xfrm>
            <a:off x="8418600" y="2901960"/>
            <a:ext cx="3468600" cy="3693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8"/>
          <a:stretch/>
        </p:blipFill>
        <p:spPr>
          <a:xfrm>
            <a:off x="4145040" y="3097080"/>
            <a:ext cx="4078080" cy="32734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1603440" y="121428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9420120" y="113976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5560920" y="1089000"/>
            <a:ext cx="15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Georgia"/>
              </a:rPr>
              <a:t>Современные образовательные методы и технологи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828720" y="1809720"/>
            <a:ext cx="10540800" cy="43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2"/>
          <a:stretch/>
        </p:blipFill>
        <p:spPr>
          <a:xfrm>
            <a:off x="9693360" y="3319560"/>
            <a:ext cx="2498760" cy="18763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988920" y="152280"/>
            <a:ext cx="105156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12840" y="6275520"/>
            <a:ext cx="444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2378160" y="725400"/>
            <a:ext cx="8137440" cy="5430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4"/>
          <a:stretch/>
        </p:blipFill>
        <p:spPr>
          <a:xfrm>
            <a:off x="574560" y="566640"/>
            <a:ext cx="3043440" cy="218916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6"/>
          <p:cNvSpPr/>
          <p:nvPr/>
        </p:nvSpPr>
        <p:spPr>
          <a:xfrm flipH="1">
            <a:off x="3708360" y="1628640"/>
            <a:ext cx="951120" cy="36360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5b9bd5"/>
          </a:solidFill>
          <a:ln cap="sq"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5"/>
          <a:stretch/>
        </p:blipFill>
        <p:spPr>
          <a:xfrm>
            <a:off x="228600" y="4183200"/>
            <a:ext cx="3016080" cy="226188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8"/>
          <p:cNvSpPr/>
          <p:nvPr/>
        </p:nvSpPr>
        <p:spPr>
          <a:xfrm flipH="1">
            <a:off x="3268800" y="5248440"/>
            <a:ext cx="814320" cy="312480"/>
          </a:xfrm>
          <a:prstGeom prst="rightArrow">
            <a:avLst>
              <a:gd name="adj1" fmla="val 50000"/>
              <a:gd name="adj2" fmla="val 50033"/>
            </a:avLst>
          </a:prstGeom>
          <a:solidFill>
            <a:srgbClr val="5b9bd5"/>
          </a:solidFill>
          <a:ln cap="sq"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9069480" y="4008600"/>
            <a:ext cx="977760" cy="3762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5b9bd5"/>
          </a:solidFill>
          <a:ln cap="sq"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8169120" y="776160"/>
            <a:ext cx="1420920" cy="827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8686800" y="4968720"/>
            <a:ext cx="266688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917800" y="563400"/>
            <a:ext cx="49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Школьный рэп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266840" y="2133720"/>
            <a:ext cx="40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Да каждый за свои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208160" y="3046320"/>
            <a:ext cx="422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Вот Димка, для прикола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20760" y="3854520"/>
            <a:ext cx="38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А Васька вслед за ни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128960" y="4618080"/>
            <a:ext cx="65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А Рита для того, чтоб наряды показать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114200" y="5796000"/>
            <a:ext cx="67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А Оля для того, чтоб все новости узнать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295280" y="114300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Зачем мы ходим в школу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10" descr=""/>
          <p:cNvPicPr/>
          <p:nvPr/>
        </p:nvPicPr>
        <p:blipFill>
          <a:blip r:embed="rId3"/>
          <a:stretch/>
        </p:blipFill>
        <p:spPr>
          <a:xfrm>
            <a:off x="7170840" y="1917720"/>
            <a:ext cx="1628640" cy="750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4"/>
          <a:stretch/>
        </p:blipFill>
        <p:spPr>
          <a:xfrm>
            <a:off x="6029280" y="2832120"/>
            <a:ext cx="203832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5"/>
          <a:stretch/>
        </p:blipFill>
        <p:spPr>
          <a:xfrm>
            <a:off x="9115560" y="3557520"/>
            <a:ext cx="1636560" cy="754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6"/>
          <a:stretch/>
        </p:blipFill>
        <p:spPr>
          <a:xfrm>
            <a:off x="8456760" y="4576680"/>
            <a:ext cx="1427040" cy="760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"/>
          <p:cNvPicPr/>
          <p:nvPr/>
        </p:nvPicPr>
        <p:blipFill>
          <a:blip r:embed="rId7"/>
          <a:stretch/>
        </p:blipFill>
        <p:spPr>
          <a:xfrm>
            <a:off x="9496440" y="5460840"/>
            <a:ext cx="1587600" cy="8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Школьный рэп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108080" y="1174680"/>
            <a:ext cx="1893960" cy="1100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3433680" y="1246320"/>
            <a:ext cx="2059200" cy="947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4"/>
          <a:stretch/>
        </p:blipFill>
        <p:spPr>
          <a:xfrm>
            <a:off x="714240" y="2517840"/>
            <a:ext cx="2318040" cy="1066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5"/>
          <a:stretch/>
        </p:blipFill>
        <p:spPr>
          <a:xfrm>
            <a:off x="3441600" y="2502000"/>
            <a:ext cx="2090880" cy="961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6"/>
          <a:stretch/>
        </p:blipFill>
        <p:spPr>
          <a:xfrm>
            <a:off x="907920" y="3767040"/>
            <a:ext cx="2140200" cy="1139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7"/>
          <a:stretch/>
        </p:blipFill>
        <p:spPr>
          <a:xfrm>
            <a:off x="3300480" y="3919680"/>
            <a:ext cx="1996920" cy="1063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1189440" y="5273640"/>
            <a:ext cx="63619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Припев:</a:t>
            </a:r>
            <a:br>
              <a:rPr sz="1800"/>
            </a:br>
            <a:r>
              <a:rPr b="1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А ты, а я. Скажи, зачем ты ходишь в школу?</a:t>
            </a:r>
            <a:br>
              <a:rPr sz="2000"/>
            </a:br>
            <a:r>
              <a:rPr b="1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А вы скажите мне друзья для вас, что значит школа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838080" y="317520"/>
            <a:ext cx="105156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2355840" y="426960"/>
            <a:ext cx="7656480" cy="574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2T09:59:58Z</dcterms:created>
  <dc:creator>Татьяна Масленицына</dc:creator>
  <dc:description/>
  <dc:language>en-US</dc:language>
  <cp:lastModifiedBy>users</cp:lastModifiedBy>
  <dcterms:modified xsi:type="dcterms:W3CDTF">2020-08-24T12:29:56Z</dcterms:modified>
  <cp:revision>141</cp:revision>
  <dc:subject/>
  <dc:title>Презентация PowerPoint</dc:title>
</cp:coreProperties>
</file>