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6BF-B4A3-459B-A44A-9CB7E926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1FF-FAB4-402C-9992-2CDAC65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6BF-AB45-4115-8FF6-81E17306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1BA-F23D-452D-8598-C6351576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F979-261F-434F-8D9C-5A3682C7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B160-ECC0-4CA3-85EE-81A6FBF1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9022-FCCC-43C6-9500-65A7EE9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884-3D97-4EE8-A13B-A7109489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A50D-A368-4A65-AAF1-2B071DDF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2C44-8D3E-47F4-BF6D-994BADA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D229-43A0-4429-9C0E-2459847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266-D2F5-4F3D-AB01-3B4DA955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B1F6-23A1-4335-BD75-D0A1474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5072-8DEE-491B-B8A4-9DB74EAE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E93A-7334-4F91-9CE0-5BFD75B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25A8-79BD-48C3-A4B0-A054690B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981B-4E15-4B50-BDC9-79A81D67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29D-83EF-4BEA-AF10-1995ED29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F72-A226-49AD-82AA-9EF2FC6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B9A-EBF4-4EDC-A759-BF14F43C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4F0-3C42-44CF-9959-3B491D22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420-24CD-4CD6-97BB-9E74E298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5C5-B37E-4968-B5D9-7340FA1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DFE-B03A-41D9-8DFC-FEFB362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F1E6-BAB1-44C6-A8E3-A00382878F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26F-E443-4BE3-A511-65D84727431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Monotype Corsiva"/>
              </a:rPr>
              <a:t>Проверка домашнего задания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Что такое поч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ой состав имеет поч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Докажите, что в почве есть воздух, вод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ие живые существа есть в почв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 они влияют на плодороди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Как образуется поч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Что нужно делать для сохранения почв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Arial"/>
              </a:rPr>
              <a:t>Лиственниц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9" descr="Лиственница"/>
          <p:cNvPicPr/>
          <p:nvPr/>
        </p:nvPicPr>
        <p:blipFill>
          <a:blip r:embed="rId1"/>
          <a:stretch/>
        </p:blipFill>
        <p:spPr>
          <a:xfrm>
            <a:off x="684360" y="1600200"/>
            <a:ext cx="3889080" cy="4530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астет в Сибири. Не боится морозов. Живёт 400-500 ле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расивую стройную лиственницу выращивают в парках. Есть и на территории ВДЦ «Орленок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979640" y="5300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32720" y="530064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Что общего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7" descr="Клён"/>
          <p:cNvPicPr/>
          <p:nvPr/>
        </p:nvPicPr>
        <p:blipFill>
          <a:blip r:embed="rId1"/>
          <a:stretch/>
        </p:blipFill>
        <p:spPr>
          <a:xfrm>
            <a:off x="466560" y="1623960"/>
            <a:ext cx="3427560" cy="447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ель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Чем отличаются?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13" descr="ябло"/>
          <p:cNvPicPr/>
          <p:nvPr/>
        </p:nvPicPr>
        <p:blipFill>
          <a:blip r:embed="rId1"/>
          <a:stretch/>
        </p:blipFill>
        <p:spPr>
          <a:xfrm>
            <a:off x="4933800" y="1623960"/>
            <a:ext cx="3525840" cy="2192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Яблоня"/>
          <p:cNvPicPr/>
          <p:nvPr/>
        </p:nvPicPr>
        <p:blipFill>
          <a:blip r:embed="rId2"/>
          <a:stretch/>
        </p:blipFill>
        <p:spPr>
          <a:xfrm>
            <a:off x="4933800" y="3943440"/>
            <a:ext cx="3525840" cy="2187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шишка2"/>
          <p:cNvPicPr/>
          <p:nvPr/>
        </p:nvPicPr>
        <p:blipFill>
          <a:blip r:embed="rId3"/>
          <a:stretch/>
        </p:blipFill>
        <p:spPr>
          <a:xfrm>
            <a:off x="457200" y="162864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8040" y="277920"/>
            <a:ext cx="7927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Папоротник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5" descr="Папоротник"/>
          <p:cNvPicPr/>
          <p:nvPr/>
        </p:nvPicPr>
        <p:blipFill>
          <a:blip r:embed="rId1"/>
          <a:stretch/>
        </p:blipFill>
        <p:spPr>
          <a:xfrm>
            <a:off x="1714680" y="171756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Споры папоротн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Picture 5" descr="споры2"/>
          <p:cNvPicPr/>
          <p:nvPr/>
        </p:nvPicPr>
        <p:blipFill>
          <a:blip r:embed="rId1"/>
          <a:stretch/>
        </p:blipFill>
        <p:spPr>
          <a:xfrm>
            <a:off x="2593800" y="1600200"/>
            <a:ext cx="39564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99"/>
                </a:solidFill>
                <a:uFillTx/>
                <a:latin typeface="Verdana"/>
              </a:rPr>
              <a:t>МХИ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7" descr="Мхи"/>
          <p:cNvPicPr/>
          <p:nvPr/>
        </p:nvPicPr>
        <p:blipFill>
          <a:blip r:embed="rId1"/>
          <a:stretch/>
        </p:blipFill>
        <p:spPr>
          <a:xfrm>
            <a:off x="466560" y="1843200"/>
            <a:ext cx="4040280" cy="418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МХи2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2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5e855b"/>
                </a:solidFill>
                <a:uFillTx/>
                <a:latin typeface="Verdana"/>
              </a:rPr>
              <a:t>Споры мх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5" descr="споры"/>
          <p:cNvPicPr/>
          <p:nvPr/>
        </p:nvPicPr>
        <p:blipFill>
          <a:blip r:embed="rId1"/>
          <a:stretch/>
        </p:blipFill>
        <p:spPr>
          <a:xfrm>
            <a:off x="2338560" y="2063880"/>
            <a:ext cx="41781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0000"/>
                </a:solidFill>
                <a:uFillTx/>
                <a:latin typeface="Verdana"/>
              </a:rPr>
              <a:t>Водоросли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Водоросли2"/>
          <p:cNvPicPr/>
          <p:nvPr/>
        </p:nvPicPr>
        <p:blipFill>
          <a:blip r:embed="rId1"/>
          <a:stretch/>
        </p:blipFill>
        <p:spPr>
          <a:xfrm>
            <a:off x="1522440" y="1600200"/>
            <a:ext cx="60991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e855b"/>
                </a:solidFill>
                <a:latin typeface="Arial"/>
              </a:rPr>
              <a:t>Царство растений: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95280" y="1557360"/>
            <a:ext cx="5977080" cy="934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5.Цветковые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348000" y="2708280"/>
            <a:ext cx="5616720" cy="720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4.Хвойные 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4000" y="3716280"/>
            <a:ext cx="640872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. Водоросли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3419640" y="4869000"/>
            <a:ext cx="554508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3.Папоротники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6021360"/>
            <a:ext cx="6192720" cy="8366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2.Мхи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1619280" y="260280"/>
            <a:ext cx="619272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Природа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1692000" y="1268280"/>
            <a:ext cx="2808360" cy="2089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3500280"/>
            <a:ext cx="3600360" cy="8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ЖИВАЯ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219640" y="1268280"/>
            <a:ext cx="2233800" cy="2089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724360" y="3500280"/>
            <a:ext cx="3240360" cy="792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НЕЖИВАЯ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6"/>
          <p:cNvSpPr/>
          <p:nvPr/>
        </p:nvSpPr>
        <p:spPr>
          <a:xfrm>
            <a:off x="2916360" y="333360"/>
            <a:ext cx="2881080" cy="2808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Живая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-2268360" y="-747720"/>
            <a:ext cx="85168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0" y="3284640"/>
            <a:ext cx="2354400" cy="2158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Царство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сте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6789600" y="2924280"/>
            <a:ext cx="2354400" cy="2160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Царство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животны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Oval 19"/>
          <p:cNvSpPr/>
          <p:nvPr/>
        </p:nvSpPr>
        <p:spPr>
          <a:xfrm>
            <a:off x="4932360" y="4697280"/>
            <a:ext cx="2354400" cy="2160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Бак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Oval 20"/>
          <p:cNvSpPr/>
          <p:nvPr/>
        </p:nvSpPr>
        <p:spPr>
          <a:xfrm>
            <a:off x="2268360" y="4697280"/>
            <a:ext cx="2374920" cy="2160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3059280" y="249228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3640" y="26370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1547640" y="2637000"/>
            <a:ext cx="1872000" cy="122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Line 40"/>
          <p:cNvSpPr/>
          <p:nvPr/>
        </p:nvSpPr>
        <p:spPr>
          <a:xfrm>
            <a:off x="5292720" y="2637000"/>
            <a:ext cx="2158920" cy="863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Freeform 41"/>
          <p:cNvSpPr/>
          <p:nvPr/>
        </p:nvSpPr>
        <p:spPr>
          <a:xfrm>
            <a:off x="3421080" y="2924280"/>
            <a:ext cx="790560" cy="244296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Freeform 42"/>
          <p:cNvSpPr/>
          <p:nvPr/>
        </p:nvSpPr>
        <p:spPr>
          <a:xfrm>
            <a:off x="4657680" y="2871720"/>
            <a:ext cx="1209600" cy="243036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Line 65"/>
          <p:cNvSpPr/>
          <p:nvPr/>
        </p:nvSpPr>
        <p:spPr>
          <a:xfrm>
            <a:off x="5651640" y="48690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Line 69"/>
          <p:cNvSpPr/>
          <p:nvPr/>
        </p:nvSpPr>
        <p:spPr>
          <a:xfrm>
            <a:off x="3851280" y="414972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Lucida Console"/>
              </a:rPr>
              <a:t>Загадк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7840" y="1843200"/>
            <a:ext cx="7697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8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Franklin Gothic Medium"/>
              </a:rPr>
              <a:t>Дышит, растёт, а ходить не может.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Verdana"/>
              </a:rPr>
              <a:t>Разнообразие растений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Части растен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Части растения"/>
          <p:cNvPicPr/>
          <p:nvPr/>
        </p:nvPicPr>
        <p:blipFill>
          <a:blip r:embed="rId1"/>
          <a:stretch/>
        </p:blipFill>
        <p:spPr>
          <a:xfrm>
            <a:off x="2843280" y="1557360"/>
            <a:ext cx="3384360" cy="4824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7164360" y="57340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Корен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 flipV="1">
            <a:off x="5796000" y="5734080"/>
            <a:ext cx="1440000" cy="21600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948360" y="2997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Стеб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>
            <a:off x="4716000" y="3213000"/>
            <a:ext cx="2303640" cy="1447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826920" y="5084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Лис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1763640" y="5229360"/>
            <a:ext cx="1728720" cy="7128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484360" y="522936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1042920" y="177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Цвето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2268360" y="1916280"/>
            <a:ext cx="18720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95280" y="2708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Плод 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семен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1835280" y="3213000"/>
            <a:ext cx="1441440" cy="43200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Цветковые расте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10" descr="Пшеница"/>
          <p:cNvPicPr/>
          <p:nvPr/>
        </p:nvPicPr>
        <p:blipFill>
          <a:blip r:embed="rId1"/>
          <a:stretch/>
        </p:blipFill>
        <p:spPr>
          <a:xfrm>
            <a:off x="5002200" y="1623960"/>
            <a:ext cx="3457440" cy="219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Подсолнух"/>
          <p:cNvPicPr/>
          <p:nvPr/>
        </p:nvPicPr>
        <p:blipFill>
          <a:blip r:embed="rId2"/>
          <a:stretch/>
        </p:blipFill>
        <p:spPr>
          <a:xfrm>
            <a:off x="684360" y="4005360"/>
            <a:ext cx="3671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Персик"/>
          <p:cNvPicPr/>
          <p:nvPr/>
        </p:nvPicPr>
        <p:blipFill>
          <a:blip r:embed="rId3"/>
          <a:stretch/>
        </p:blipFill>
        <p:spPr>
          <a:xfrm>
            <a:off x="4932360" y="4005360"/>
            <a:ext cx="3672000" cy="218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Цветы5"/>
          <p:cNvPicPr/>
          <p:nvPr/>
        </p:nvPicPr>
        <p:blipFill>
          <a:blip r:embed="rId4"/>
          <a:stretch/>
        </p:blipFill>
        <p:spPr>
          <a:xfrm>
            <a:off x="684360" y="1600200"/>
            <a:ext cx="360036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Arial"/>
              </a:rPr>
              <a:t>Хвойные растен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11" descr="Пихта"/>
          <p:cNvPicPr/>
          <p:nvPr/>
        </p:nvPicPr>
        <p:blipFill>
          <a:blip r:embed="rId1"/>
          <a:stretch/>
        </p:blipFill>
        <p:spPr>
          <a:xfrm>
            <a:off x="4716360" y="1623960"/>
            <a:ext cx="3603600" cy="4471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Сосна пицун"/>
          <p:cNvPicPr/>
          <p:nvPr/>
        </p:nvPicPr>
        <p:blipFill>
          <a:blip r:embed="rId2"/>
          <a:stretch/>
        </p:blipFill>
        <p:spPr>
          <a:xfrm>
            <a:off x="466560" y="1623960"/>
            <a:ext cx="4040280" cy="447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4"/>
          <p:cNvSpPr/>
          <p:nvPr/>
        </p:nvSpPr>
        <p:spPr>
          <a:xfrm>
            <a:off x="1979640" y="5300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ицундская сос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732720" y="530064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6443640" y="530064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вказская пих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8000"/>
                </a:solidFill>
                <a:uFillTx/>
                <a:latin typeface="Arial"/>
              </a:rPr>
              <a:t>Хвойные растен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732720" y="530064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Picture 10" descr="Можж"/>
          <p:cNvPicPr/>
          <p:nvPr/>
        </p:nvPicPr>
        <p:blipFill>
          <a:blip r:embed="rId1"/>
          <a:stretch/>
        </p:blipFill>
        <p:spPr>
          <a:xfrm>
            <a:off x="457200" y="1676520"/>
            <a:ext cx="3743280" cy="4824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5"/>
          <p:cNvSpPr/>
          <p:nvPr/>
        </p:nvSpPr>
        <p:spPr>
          <a:xfrm>
            <a:off x="1116000" y="5084640"/>
            <a:ext cx="31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жжевельни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ревовидны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6" descr="Кедр"/>
          <p:cNvPicPr/>
          <p:nvPr/>
        </p:nvPicPr>
        <p:blipFill>
          <a:blip r:embed="rId2"/>
          <a:stretch/>
        </p:blipFill>
        <p:spPr>
          <a:xfrm>
            <a:off x="4965840" y="1628640"/>
            <a:ext cx="3394080" cy="482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7"/>
          <p:cNvSpPr/>
          <p:nvPr/>
        </p:nvSpPr>
        <p:spPr>
          <a:xfrm>
            <a:off x="6659640" y="5661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Кед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16:06:37Z</dcterms:created>
  <dc:creator>Школа Ищеино</dc:creator>
  <dc:description/>
  <dc:language>en-US</dc:language>
  <cp:lastModifiedBy>Windows User</cp:lastModifiedBy>
  <dcterms:modified xsi:type="dcterms:W3CDTF">2020-08-24T16:20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