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82B-D738-4E3D-AE85-3D25D0A1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924-B378-44D7-9123-536E5D54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D0A-82DC-4894-991C-FCCB6938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3D1-9BE8-416A-AA07-F7103E31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1423-8018-4C02-A65C-D705CDDC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371F-6880-45C2-AE75-B91165AE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D404-8FD2-49B4-ACC2-D7CAB349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90DA-B0C4-4ECE-B77A-8A3900FF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76EC-493F-4AAD-BBBF-9447442F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CDCC-B308-4243-A9F9-AD5DEDF7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7838-B893-4CFD-BB9B-31989511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49C-1EF2-41FB-BE4D-27452A59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079F-265B-4F6D-8EAE-F7B67415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5AE5-696F-4384-9861-6434B278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BDD6-0995-4471-9F9B-9ACD48B2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197F-9EEA-4601-8590-E3DD5991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2700-F5CD-4396-9861-5A744ACE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E1D-B7B6-4AAC-B179-7107AD74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AE1-8E1A-4149-AD32-D777BFB5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CD2-F924-4C0E-86B5-30CD1118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273-6925-4281-9205-8E5584CF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203-9468-4798-9C19-3D71455B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630-3AC1-49C2-8094-AF831E94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D14-AC72-43E1-8D82-D9CA430D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D6A0-1CCC-41A8-8AD2-3CE536046FE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8D51-1D13-4765-BE21-7EDAD57E30B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Monotype Corsiva"/>
              </a:rPr>
              <a:t>Проверка домашнего задания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Что такое почв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Какой состав имеет почв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Докажите, что в почве есть воздух, вод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Какие живые существа есть в почв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Как они влияют на плодороди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Как образуется почв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Что нужно делать для сохранения почвы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8000"/>
                </a:solidFill>
                <a:uFillTx/>
                <a:latin typeface="Arial"/>
              </a:rPr>
              <a:t>Лиственниц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8" name="Picture 9" descr="Лиственница"/>
          <p:cNvPicPr/>
          <p:nvPr/>
        </p:nvPicPr>
        <p:blipFill>
          <a:blip r:embed="rId1"/>
          <a:stretch/>
        </p:blipFill>
        <p:spPr>
          <a:xfrm>
            <a:off x="684360" y="1600200"/>
            <a:ext cx="3889080" cy="4530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Растет в Сибири. Не боится морозов. Живёт 400-500 ле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расивую стройную лиственницу выращивают в парках. Есть и на территории ВДЦ «Орленок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979640" y="5300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732720" y="5300640"/>
            <a:ext cx="16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Что общего?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7" descr="Клён"/>
          <p:cNvPicPr/>
          <p:nvPr/>
        </p:nvPicPr>
        <p:blipFill>
          <a:blip r:embed="rId1"/>
          <a:stretch/>
        </p:blipFill>
        <p:spPr>
          <a:xfrm>
            <a:off x="466560" y="1623960"/>
            <a:ext cx="3427560" cy="4471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ель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Чем отличаются?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13" descr="ябло"/>
          <p:cNvPicPr/>
          <p:nvPr/>
        </p:nvPicPr>
        <p:blipFill>
          <a:blip r:embed="rId1"/>
          <a:stretch/>
        </p:blipFill>
        <p:spPr>
          <a:xfrm>
            <a:off x="4933800" y="1623960"/>
            <a:ext cx="3525840" cy="2192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Яблоня"/>
          <p:cNvPicPr/>
          <p:nvPr/>
        </p:nvPicPr>
        <p:blipFill>
          <a:blip r:embed="rId2"/>
          <a:stretch/>
        </p:blipFill>
        <p:spPr>
          <a:xfrm>
            <a:off x="4933800" y="3943440"/>
            <a:ext cx="3525840" cy="2187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шишка2"/>
          <p:cNvPicPr/>
          <p:nvPr/>
        </p:nvPicPr>
        <p:blipFill>
          <a:blip r:embed="rId3"/>
          <a:stretch/>
        </p:blipFill>
        <p:spPr>
          <a:xfrm>
            <a:off x="457200" y="1628640"/>
            <a:ext cx="40384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8040" y="277920"/>
            <a:ext cx="79279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ffcc"/>
                </a:solidFill>
                <a:uFillTx/>
                <a:latin typeface="Arial"/>
              </a:rPr>
              <a:t>Папоротник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0" name="Picture 5" descr="Папоротник"/>
          <p:cNvPicPr/>
          <p:nvPr/>
        </p:nvPicPr>
        <p:blipFill>
          <a:blip r:embed="rId1"/>
          <a:stretch/>
        </p:blipFill>
        <p:spPr>
          <a:xfrm>
            <a:off x="1714680" y="171756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Споры папоротн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Picture 5" descr="споры2"/>
          <p:cNvPicPr/>
          <p:nvPr/>
        </p:nvPicPr>
        <p:blipFill>
          <a:blip r:embed="rId1"/>
          <a:stretch/>
        </p:blipFill>
        <p:spPr>
          <a:xfrm>
            <a:off x="2593800" y="1600200"/>
            <a:ext cx="39564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000099"/>
                </a:solidFill>
                <a:uFillTx/>
                <a:latin typeface="Verdana"/>
              </a:rPr>
              <a:t>МХИ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Picture 7" descr="Мхи"/>
          <p:cNvPicPr/>
          <p:nvPr/>
        </p:nvPicPr>
        <p:blipFill>
          <a:blip r:embed="rId1"/>
          <a:stretch/>
        </p:blipFill>
        <p:spPr>
          <a:xfrm>
            <a:off x="466560" y="1843200"/>
            <a:ext cx="4040280" cy="418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МХи2"/>
          <p:cNvPicPr/>
          <p:nvPr/>
        </p:nvPicPr>
        <p:blipFill>
          <a:blip r:embed="rId2"/>
          <a:stretch/>
        </p:blipFill>
        <p:spPr>
          <a:xfrm>
            <a:off x="4648320" y="1843200"/>
            <a:ext cx="4038480" cy="42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5e855b"/>
                </a:solidFill>
                <a:uFillTx/>
                <a:latin typeface="Verdana"/>
              </a:rPr>
              <a:t>Споры мх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7" name="Picture 5" descr="споры"/>
          <p:cNvPicPr/>
          <p:nvPr/>
        </p:nvPicPr>
        <p:blipFill>
          <a:blip r:embed="rId1"/>
          <a:stretch/>
        </p:blipFill>
        <p:spPr>
          <a:xfrm>
            <a:off x="2338560" y="2063880"/>
            <a:ext cx="417816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0000"/>
                </a:solidFill>
                <a:uFillTx/>
                <a:latin typeface="Verdana"/>
              </a:rPr>
              <a:t>Водоросли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6" descr="Водоросли2"/>
          <p:cNvPicPr/>
          <p:nvPr/>
        </p:nvPicPr>
        <p:blipFill>
          <a:blip r:embed="rId1"/>
          <a:stretch/>
        </p:blipFill>
        <p:spPr>
          <a:xfrm>
            <a:off x="1522440" y="1600200"/>
            <a:ext cx="609912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e855b"/>
                </a:solidFill>
                <a:latin typeface="Arial"/>
              </a:rPr>
              <a:t>Царство растений: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95280" y="1557360"/>
            <a:ext cx="5977080" cy="9349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5.Цветковые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348000" y="2708280"/>
            <a:ext cx="5616720" cy="7207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4.Хвойные 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4000" y="3716280"/>
            <a:ext cx="640872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1. Водоросли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3419640" y="4869000"/>
            <a:ext cx="554508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3.Папоротники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6021360"/>
            <a:ext cx="6192720" cy="8366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2.Мхи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1619280" y="260280"/>
            <a:ext cx="6192720" cy="1008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Природа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H="1">
            <a:off x="1692000" y="1268280"/>
            <a:ext cx="2808360" cy="2089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24000" y="3500280"/>
            <a:ext cx="3600360" cy="8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ЖИВАЯ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219640" y="1268280"/>
            <a:ext cx="2233800" cy="2089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5724360" y="3500280"/>
            <a:ext cx="3240360" cy="7923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НЕЖИВАЯ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6"/>
          <p:cNvSpPr/>
          <p:nvPr/>
        </p:nvSpPr>
        <p:spPr>
          <a:xfrm>
            <a:off x="2916360" y="333360"/>
            <a:ext cx="2881080" cy="2808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Живая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рирод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-2268360" y="-747720"/>
            <a:ext cx="85168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0" y="3284640"/>
            <a:ext cx="2354400" cy="21589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Царство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расте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Oval 18"/>
          <p:cNvSpPr/>
          <p:nvPr/>
        </p:nvSpPr>
        <p:spPr>
          <a:xfrm>
            <a:off x="6789600" y="2924280"/>
            <a:ext cx="2354400" cy="2160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Царство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животны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Oval 19"/>
          <p:cNvSpPr/>
          <p:nvPr/>
        </p:nvSpPr>
        <p:spPr>
          <a:xfrm>
            <a:off x="4932360" y="4697280"/>
            <a:ext cx="2354400" cy="2160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Бак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Oval 20"/>
          <p:cNvSpPr/>
          <p:nvPr/>
        </p:nvSpPr>
        <p:spPr>
          <a:xfrm>
            <a:off x="2268360" y="4697280"/>
            <a:ext cx="2374920" cy="2160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Гриб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3059280" y="249228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>
            <a:off x="3203640" y="263700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Line 38"/>
          <p:cNvSpPr/>
          <p:nvPr/>
        </p:nvSpPr>
        <p:spPr>
          <a:xfrm flipH="1">
            <a:off x="1547640" y="2637000"/>
            <a:ext cx="1872000" cy="1223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Line 40"/>
          <p:cNvSpPr/>
          <p:nvPr/>
        </p:nvSpPr>
        <p:spPr>
          <a:xfrm>
            <a:off x="5292720" y="2637000"/>
            <a:ext cx="2158920" cy="863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Freeform 41"/>
          <p:cNvSpPr/>
          <p:nvPr/>
        </p:nvSpPr>
        <p:spPr>
          <a:xfrm>
            <a:off x="3421080" y="2924280"/>
            <a:ext cx="790560" cy="2442960"/>
          </a:xfrm>
          <a:prstGeom prst="pie">
            <a:avLst/>
          </a:pr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Freeform 42"/>
          <p:cNvSpPr/>
          <p:nvPr/>
        </p:nvSpPr>
        <p:spPr>
          <a:xfrm>
            <a:off x="4657680" y="2871720"/>
            <a:ext cx="1209600" cy="2430360"/>
          </a:xfrm>
          <a:prstGeom prst="pie">
            <a:avLst/>
          </a:pr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Line 65"/>
          <p:cNvSpPr/>
          <p:nvPr/>
        </p:nvSpPr>
        <p:spPr>
          <a:xfrm>
            <a:off x="5651640" y="486900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Line 69"/>
          <p:cNvSpPr/>
          <p:nvPr/>
        </p:nvSpPr>
        <p:spPr>
          <a:xfrm>
            <a:off x="3851280" y="414972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Lucida Console"/>
              </a:rPr>
              <a:t>Загадк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7840" y="1843200"/>
            <a:ext cx="7697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8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Franklin Gothic Medium"/>
              </a:rPr>
              <a:t>Дышит, растёт, а ходить не может.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Verdana"/>
              </a:rPr>
              <a:t>Разнообразие растений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Части растен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Части растения"/>
          <p:cNvPicPr/>
          <p:nvPr/>
        </p:nvPicPr>
        <p:blipFill>
          <a:blip r:embed="rId1"/>
          <a:stretch/>
        </p:blipFill>
        <p:spPr>
          <a:xfrm>
            <a:off x="2843280" y="1557360"/>
            <a:ext cx="3384360" cy="4824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7164360" y="57340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Корен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H="1" flipV="1">
            <a:off x="5796000" y="5734080"/>
            <a:ext cx="1440000" cy="21600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948360" y="2997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Стебел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H="1">
            <a:off x="4716000" y="3213000"/>
            <a:ext cx="2303640" cy="14472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826920" y="50846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Лис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 flipV="1">
            <a:off x="1763640" y="5229360"/>
            <a:ext cx="1728720" cy="7128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484360" y="522936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1042920" y="177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Цвето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2268360" y="1916280"/>
            <a:ext cx="187200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395280" y="270828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Плод 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семена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1835280" y="3213000"/>
            <a:ext cx="1441440" cy="43200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Цветковые расте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10" descr="Пшеница"/>
          <p:cNvPicPr/>
          <p:nvPr/>
        </p:nvPicPr>
        <p:blipFill>
          <a:blip r:embed="rId1"/>
          <a:stretch/>
        </p:blipFill>
        <p:spPr>
          <a:xfrm>
            <a:off x="5002200" y="1623960"/>
            <a:ext cx="3457440" cy="2198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Подсолнух"/>
          <p:cNvPicPr/>
          <p:nvPr/>
        </p:nvPicPr>
        <p:blipFill>
          <a:blip r:embed="rId2"/>
          <a:stretch/>
        </p:blipFill>
        <p:spPr>
          <a:xfrm>
            <a:off x="684360" y="4005360"/>
            <a:ext cx="367164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Персик"/>
          <p:cNvPicPr/>
          <p:nvPr/>
        </p:nvPicPr>
        <p:blipFill>
          <a:blip r:embed="rId3"/>
          <a:stretch/>
        </p:blipFill>
        <p:spPr>
          <a:xfrm>
            <a:off x="4932360" y="4005360"/>
            <a:ext cx="3672000" cy="2187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Цветы5"/>
          <p:cNvPicPr/>
          <p:nvPr/>
        </p:nvPicPr>
        <p:blipFill>
          <a:blip r:embed="rId4"/>
          <a:stretch/>
        </p:blipFill>
        <p:spPr>
          <a:xfrm>
            <a:off x="684360" y="1600200"/>
            <a:ext cx="360036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8000"/>
                </a:solidFill>
                <a:uFillTx/>
                <a:latin typeface="Arial"/>
              </a:rPr>
              <a:t>Хвойные растения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11" descr="Пихта"/>
          <p:cNvPicPr/>
          <p:nvPr/>
        </p:nvPicPr>
        <p:blipFill>
          <a:blip r:embed="rId1"/>
          <a:stretch/>
        </p:blipFill>
        <p:spPr>
          <a:xfrm>
            <a:off x="4716360" y="1623960"/>
            <a:ext cx="3603600" cy="4471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Сосна пицун"/>
          <p:cNvPicPr/>
          <p:nvPr/>
        </p:nvPicPr>
        <p:blipFill>
          <a:blip r:embed="rId2"/>
          <a:stretch/>
        </p:blipFill>
        <p:spPr>
          <a:xfrm>
            <a:off x="466560" y="1623960"/>
            <a:ext cx="4040280" cy="4471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4"/>
          <p:cNvSpPr/>
          <p:nvPr/>
        </p:nvSpPr>
        <p:spPr>
          <a:xfrm>
            <a:off x="1979640" y="530064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ицундская сосн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6732720" y="5300640"/>
            <a:ext cx="16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6443640" y="530064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вказская пих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8000"/>
                </a:solidFill>
                <a:uFillTx/>
                <a:latin typeface="Arial"/>
              </a:rPr>
              <a:t>Хвойные растения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732720" y="5300640"/>
            <a:ext cx="16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Picture 10" descr="Можж"/>
          <p:cNvPicPr/>
          <p:nvPr/>
        </p:nvPicPr>
        <p:blipFill>
          <a:blip r:embed="rId1"/>
          <a:stretch/>
        </p:blipFill>
        <p:spPr>
          <a:xfrm>
            <a:off x="457200" y="1676520"/>
            <a:ext cx="3743280" cy="4824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5"/>
          <p:cNvSpPr/>
          <p:nvPr/>
        </p:nvSpPr>
        <p:spPr>
          <a:xfrm>
            <a:off x="1116000" y="5084640"/>
            <a:ext cx="316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ожжевельни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ревовидны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6" descr="Кедр"/>
          <p:cNvPicPr/>
          <p:nvPr/>
        </p:nvPicPr>
        <p:blipFill>
          <a:blip r:embed="rId2"/>
          <a:stretch/>
        </p:blipFill>
        <p:spPr>
          <a:xfrm>
            <a:off x="4965840" y="1628640"/>
            <a:ext cx="3394080" cy="4824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7"/>
          <p:cNvSpPr/>
          <p:nvPr/>
        </p:nvSpPr>
        <p:spPr>
          <a:xfrm>
            <a:off x="6659640" y="566100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Кедр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16:06:37Z</dcterms:created>
  <dc:creator>Школа Ищеино</dc:creator>
  <dc:description/>
  <dc:language>en-US</dc:language>
  <cp:lastModifiedBy>Windows User</cp:lastModifiedBy>
  <dcterms:modified xsi:type="dcterms:W3CDTF">2020-08-24T16:20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