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EB3-9BA7-402F-9165-DDF4B40E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F4A-5931-4FB9-9DEE-536CD04D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700-DF84-4813-98C9-BD94EEE8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588-5AF2-4A7D-B11B-E71703ED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D5C-B1E3-49A9-AC31-2EA3BB21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9EB-EAEE-462D-B7AC-5C5A6936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9DA-8CE0-4FE6-85A7-2DB5D93A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42A-2287-4377-95FB-12A5800B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516-18B5-435D-8B4B-98EA4F6F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E76-BBB4-4EE8-84FF-5076D50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212-3BFB-44D9-B03A-C4C5EE9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F64-6A53-4D58-BBDA-89902B4A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385C-FA28-47BE-919C-0ECE38F5E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днейская оп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1.jpg"/>
          <p:cNvPicPr/>
          <p:nvPr/>
        </p:nvPicPr>
        <p:blipFill>
          <a:blip r:embed="rId1"/>
          <a:stretch/>
        </p:blipFill>
        <p:spPr>
          <a:xfrm>
            <a:off x="1266840" y="1681200"/>
            <a:ext cx="6610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днейский Оперный Театр признан одним из самых выдающихся сооружений современной архитектуры в мире и наряду с мостом Харбор-Бридж является визитной карточкой Сидне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clipso_art131.jpg"/>
          <p:cNvPicPr/>
          <p:nvPr/>
        </p:nvPicPr>
        <p:blipFill>
          <a:blip r:embed="rId1"/>
          <a:stretch/>
        </p:blipFill>
        <p:spPr>
          <a:xfrm>
            <a:off x="500040" y="1362240"/>
            <a:ext cx="82422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представить себе Сидней без Оперы, однако до 1958 года на ее месте располагался форт, а затем — обычное трамвайное деп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TheOperaHouse.jpg"/>
          <p:cNvPicPr/>
          <p:nvPr/>
        </p:nvPicPr>
        <p:blipFill>
          <a:blip r:embed="rId1"/>
          <a:stretch/>
        </p:blipFill>
        <p:spPr>
          <a:xfrm>
            <a:off x="4643280" y="1996920"/>
            <a:ext cx="4510080" cy="33800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7" descr="SydneyOperaHouseandSkylineAustralia.jpg"/>
          <p:cNvPicPr/>
          <p:nvPr/>
        </p:nvPicPr>
        <p:blipFill>
          <a:blip r:embed="rId2"/>
          <a:stretch/>
        </p:blipFill>
        <p:spPr>
          <a:xfrm>
            <a:off x="-9360" y="2000160"/>
            <a:ext cx="45050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хитектором Сиднейского Оперного Театра является датчанин Джон Уотс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5" descr="enc_entry_8250.jpg"/>
          <p:cNvPicPr/>
          <p:nvPr/>
        </p:nvPicPr>
        <p:blipFill>
          <a:blip r:embed="rId1"/>
          <a:stretch/>
        </p:blipFill>
        <p:spPr>
          <a:xfrm>
            <a:off x="552600" y="1600200"/>
            <a:ext cx="803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всей видимости, конструкция была слишком сложна для строителей в то время. Планировалось что строительство Оперы займет 4 года и будет стоить 7 миллионов австралийских долларов. Вместо этого, опера строилась целых 14 лет и обошлась в 102 миллиона доллар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3704100148_1785456cc0_o-0.jpg"/>
          <p:cNvPicPr/>
          <p:nvPr/>
        </p:nvPicPr>
        <p:blipFill>
          <a:blip r:embed="rId1"/>
          <a:stretch/>
        </p:blipFill>
        <p:spPr>
          <a:xfrm>
            <a:off x="4680" y="2214720"/>
            <a:ext cx="4491000" cy="299556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5" descr="3553300387_f2a0657b96_o.jpg"/>
          <p:cNvPicPr/>
          <p:nvPr/>
        </p:nvPicPr>
        <p:blipFill>
          <a:blip r:embed="rId2"/>
          <a:stretch/>
        </p:blipFill>
        <p:spPr>
          <a:xfrm>
            <a:off x="4565520" y="2214720"/>
            <a:ext cx="45784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Sydney_Opera_House_Close_up_HDR_Sydney_Australia.jpg"/>
          <p:cNvPicPr/>
          <p:nvPr/>
        </p:nvPicPr>
        <p:blipFill>
          <a:blip r:embed="rId1"/>
          <a:srcRect l="5909" t="0" r="5909" b="0"/>
          <a:stretch/>
        </p:blipFill>
        <p:spPr>
          <a:xfrm>
            <a:off x="1571760" y="447840"/>
            <a:ext cx="5929200" cy="444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днейский Оперный Театр был открыт 20 Октября 1973 года королевой Англии Елизаветой 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усообразные оболочки, образующие крышу, делают это здание непохожим ни на одно другое в ми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Sydney_opera_house_and_skyline.jpg"/>
          <p:cNvPicPr/>
          <p:nvPr/>
        </p:nvPicPr>
        <p:blipFill>
          <a:blip r:embed="rId1"/>
          <a:stretch/>
        </p:blipFill>
        <p:spPr>
          <a:xfrm>
            <a:off x="-1440" y="2357280"/>
            <a:ext cx="4606920" cy="31435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7" descr="20060330215725Sydney_Opera_House_Australia.42182650.jpg"/>
          <p:cNvPicPr/>
          <p:nvPr/>
        </p:nvPicPr>
        <p:blipFill>
          <a:blip r:embed="rId2"/>
          <a:stretch/>
        </p:blipFill>
        <p:spPr>
          <a:xfrm>
            <a:off x="4645080" y="2357280"/>
            <a:ext cx="44132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ыша выложена из миллионов кафельных пли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2624488638_70b45e7695_o.jpg"/>
          <p:cNvPicPr/>
          <p:nvPr/>
        </p:nvPicPr>
        <p:blipFill>
          <a:blip r:embed="rId1"/>
          <a:stretch/>
        </p:blipFill>
        <p:spPr>
          <a:xfrm>
            <a:off x="1000080" y="1714680"/>
            <a:ext cx="725796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дании Сиднейского оперного театра около 1000 комнат, включая 5 театральных залов, 2 главных холла, 4 ресторана, несколько баров и сувенирных магази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sydney_opera_house_concert_hall.jpg"/>
          <p:cNvPicPr/>
          <p:nvPr/>
        </p:nvPicPr>
        <p:blipFill>
          <a:blip r:embed="rId1"/>
          <a:stretch/>
        </p:blipFill>
        <p:spPr>
          <a:xfrm>
            <a:off x="457200" y="2397240"/>
            <a:ext cx="4038480" cy="29318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5" descr="sydney.jpg"/>
          <p:cNvPicPr/>
          <p:nvPr/>
        </p:nvPicPr>
        <p:blipFill>
          <a:blip r:embed="rId2"/>
          <a:stretch/>
        </p:blipFill>
        <p:spPr>
          <a:xfrm>
            <a:off x="4648320" y="2349360"/>
            <a:ext cx="40384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днейская Опера находится в живописной Сиднейской Гавани, отсюда во все стороны открывается прекрасный в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sydneyoperahousecchewychua1.jpg"/>
          <p:cNvPicPr/>
          <p:nvPr/>
        </p:nvPicPr>
        <p:blipFill>
          <a:blip r:embed="rId1"/>
          <a:stretch/>
        </p:blipFill>
        <p:spPr>
          <a:xfrm>
            <a:off x="1227240" y="1341360"/>
            <a:ext cx="66308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8:42:07Z</dcterms:created>
  <dc:creator>Admin</dc:creator>
  <dc:description/>
  <dc:language>en-US</dc:language>
  <cp:lastModifiedBy>Трак В.Я.</cp:lastModifiedBy>
  <dcterms:modified xsi:type="dcterms:W3CDTF">2010-11-29T09:35:23Z</dcterms:modified>
  <cp:revision>4</cp:revision>
  <dc:subject/>
  <dc:title>Сиднейская опера</dc:title>
</cp:coreProperties>
</file>