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9C2-362B-49F0-A836-64A3006F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6F6-0F0D-43DE-9B83-A2CD9F9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939-6D8F-4157-A2D9-0A3EFFEA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18F-B184-41C9-AC58-490E3D51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E9F-41F5-468D-8C94-2B5ED932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EC5-93F4-48B4-A647-58571A5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D3E-D68E-43CF-985F-CCA32F3D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6BA-603A-49B3-B9F5-1FCC4F6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876-A71F-4340-BC31-3CE0CBB7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95E-8501-4212-8700-2487DB8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FBC-2C56-4ED3-BE05-9196EAF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141-1D5E-4501-BD05-AE46D77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5B8-66A7-42F0-A4B6-7003FA2E4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днейская оп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1.jpg"/>
          <p:cNvPicPr/>
          <p:nvPr/>
        </p:nvPicPr>
        <p:blipFill>
          <a:blip r:embed="rId1"/>
          <a:stretch/>
        </p:blipFill>
        <p:spPr>
          <a:xfrm>
            <a:off x="1266840" y="1681200"/>
            <a:ext cx="6610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днейский Оперный Театр признан одним из самых выдающихся сооружений современной архитектуры в мире и наряду с мостом Харбор-Бридж является визитной карточкой Сидне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clipso_art131.jpg"/>
          <p:cNvPicPr/>
          <p:nvPr/>
        </p:nvPicPr>
        <p:blipFill>
          <a:blip r:embed="rId1"/>
          <a:stretch/>
        </p:blipFill>
        <p:spPr>
          <a:xfrm>
            <a:off x="500040" y="1362240"/>
            <a:ext cx="82422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представить себе Сидней без Оперы, однако до 1958 года на ее месте располагался форт, а затем — обычное трамвайное деп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TheOperaHouse.jpg"/>
          <p:cNvPicPr/>
          <p:nvPr/>
        </p:nvPicPr>
        <p:blipFill>
          <a:blip r:embed="rId1"/>
          <a:stretch/>
        </p:blipFill>
        <p:spPr>
          <a:xfrm>
            <a:off x="4643280" y="1996920"/>
            <a:ext cx="4510080" cy="33800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7" descr="SydneyOperaHouseandSkylineAustralia.jpg"/>
          <p:cNvPicPr/>
          <p:nvPr/>
        </p:nvPicPr>
        <p:blipFill>
          <a:blip r:embed="rId2"/>
          <a:stretch/>
        </p:blipFill>
        <p:spPr>
          <a:xfrm>
            <a:off x="-9360" y="2000160"/>
            <a:ext cx="45050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тектором Сиднейского Оперного Театра является датчанин Джон Уотс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enc_entry_8250.jpg"/>
          <p:cNvPicPr/>
          <p:nvPr/>
        </p:nvPicPr>
        <p:blipFill>
          <a:blip r:embed="rId1"/>
          <a:stretch/>
        </p:blipFill>
        <p:spPr>
          <a:xfrm>
            <a:off x="552600" y="1600200"/>
            <a:ext cx="803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всей видимости, конструкция была слишком сложна для строителей в то время. Планировалось что строительство Оперы займет 4 года и будет стоить 7 миллионов австралийских долларов. Вместо этого, опера строилась целых 14 лет и обошлась в 102 миллиона доллар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3704100148_1785456cc0_o-0.jpg"/>
          <p:cNvPicPr/>
          <p:nvPr/>
        </p:nvPicPr>
        <p:blipFill>
          <a:blip r:embed="rId1"/>
          <a:stretch/>
        </p:blipFill>
        <p:spPr>
          <a:xfrm>
            <a:off x="4680" y="2214720"/>
            <a:ext cx="4491000" cy="299556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3553300387_f2a0657b96_o.jpg"/>
          <p:cNvPicPr/>
          <p:nvPr/>
        </p:nvPicPr>
        <p:blipFill>
          <a:blip r:embed="rId2"/>
          <a:stretch/>
        </p:blipFill>
        <p:spPr>
          <a:xfrm>
            <a:off x="4565520" y="2214720"/>
            <a:ext cx="45784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Sydney_Opera_House_Close_up_HDR_Sydney_Australia.jpg"/>
          <p:cNvPicPr/>
          <p:nvPr/>
        </p:nvPicPr>
        <p:blipFill>
          <a:blip r:embed="rId1"/>
          <a:srcRect l="5909" t="0" r="5909" b="0"/>
          <a:stretch/>
        </p:blipFill>
        <p:spPr>
          <a:xfrm>
            <a:off x="1571760" y="447840"/>
            <a:ext cx="5929200" cy="444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днейский Оперный Театр был открыт 20 Октября 1973 года королевой Англии Елизаветой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усообразные оболочки, образующие крышу, делают это здание непохожим ни на одно другое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Sydney_opera_house_and_skyline.jpg"/>
          <p:cNvPicPr/>
          <p:nvPr/>
        </p:nvPicPr>
        <p:blipFill>
          <a:blip r:embed="rId1"/>
          <a:stretch/>
        </p:blipFill>
        <p:spPr>
          <a:xfrm>
            <a:off x="-1440" y="2357280"/>
            <a:ext cx="4606920" cy="31435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7" descr="20060330215725Sydney_Opera_House_Australia.42182650.jpg"/>
          <p:cNvPicPr/>
          <p:nvPr/>
        </p:nvPicPr>
        <p:blipFill>
          <a:blip r:embed="rId2"/>
          <a:stretch/>
        </p:blipFill>
        <p:spPr>
          <a:xfrm>
            <a:off x="4645080" y="2357280"/>
            <a:ext cx="44132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ша выложена из миллионов кафельных пли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2624488638_70b45e7695_o.jpg"/>
          <p:cNvPicPr/>
          <p:nvPr/>
        </p:nvPicPr>
        <p:blipFill>
          <a:blip r:embed="rId1"/>
          <a:stretch/>
        </p:blipFill>
        <p:spPr>
          <a:xfrm>
            <a:off x="1000080" y="1714680"/>
            <a:ext cx="725796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дании Сиднейского оперного театра около 1000 комнат, включая 5 театральных залов, 2 главных холла, 4 ресторана, несколько баров и сувенирных магази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sydney_opera_house_concert_hall.jpg"/>
          <p:cNvPicPr/>
          <p:nvPr/>
        </p:nvPicPr>
        <p:blipFill>
          <a:blip r:embed="rId1"/>
          <a:stretch/>
        </p:blipFill>
        <p:spPr>
          <a:xfrm>
            <a:off x="457200" y="2397240"/>
            <a:ext cx="4038480" cy="29318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sydney.jpg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днейская Опера находится в живописной Сиднейской Гавани, отсюда во все стороны открывается прекрасный в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sydneyoperahousecchewychua1.jpg"/>
          <p:cNvPicPr/>
          <p:nvPr/>
        </p:nvPicPr>
        <p:blipFill>
          <a:blip r:embed="rId1"/>
          <a:stretch/>
        </p:blipFill>
        <p:spPr>
          <a:xfrm>
            <a:off x="1227240" y="1341360"/>
            <a:ext cx="6630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8:42:07Z</dcterms:created>
  <dc:creator>Admin</dc:creator>
  <dc:description/>
  <dc:language>en-US</dc:language>
  <cp:lastModifiedBy>Трак В.Я.</cp:lastModifiedBy>
  <dcterms:modified xsi:type="dcterms:W3CDTF">2010-11-29T09:35:23Z</dcterms:modified>
  <cp:revision>4</cp:revision>
  <dc:subject/>
  <dc:title>Сиднейская опера</dc:title>
</cp:coreProperties>
</file>