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-360"/>
            <a:ext cx="85726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0067"/>
                </a:solidFill>
                <a:latin typeface="Times New Roman"/>
                <a:ea typeface="Times New Roman"/>
              </a:rPr>
              <a:t>Основные жанры научного стиля и устной речи.  Правила корректной дискуссии. Анализ тек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2771640" y="5877000"/>
            <a:ext cx="388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2"/>
          <p:cNvSpPr/>
          <p:nvPr/>
        </p:nvSpPr>
        <p:spPr>
          <a:xfrm>
            <a:off x="2428920" y="189000"/>
            <a:ext cx="6500880" cy="57402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Тезисы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утверждения, которые необходимо обосновать. Тезис включает в себя предмет речи (то, о чем говорится в тексте) и главный анализируемый признак (то, что говорится об этом предмете).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вичные тезисы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– сжатое отражение собственного текста, а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торичные тезисы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здаются на основе текстов, принадлежавших другому автору.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"/>
          <p:cNvSpPr/>
          <p:nvPr/>
        </p:nvSpPr>
        <p:spPr>
          <a:xfrm>
            <a:off x="0" y="214200"/>
            <a:ext cx="9144000" cy="638352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же составлять тезисы?</a:t>
            </a: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ле предварительного ознакомления книжный текст читают вторично. При этом разбивают текст (с помощью плана или без него – подчеркиванием) на ряд отрывков.</a:t>
            </a: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лее находят в каждой части выделенного текста то, что определило первоначальное его членение; выписывают или временно просто отмечают это главное в самОм тексте книги. Затем, хорошо продумав выделенное, уяснив его суть, формулируют отдельные положения.</a:t>
            </a: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https://presentacii.ru/documents_4/7dec123490eac5d3c206f7f834a0016e/img4.jpg"/>
          <p:cNvPicPr/>
          <p:nvPr/>
        </p:nvPicPr>
        <p:blipFill>
          <a:blip r:embed="rId1"/>
          <a:stretch/>
        </p:blipFill>
        <p:spPr>
          <a:xfrm>
            <a:off x="2352600" y="633240"/>
            <a:ext cx="64375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2"/>
          <p:cNvSpPr/>
          <p:nvPr/>
        </p:nvSpPr>
        <p:spPr>
          <a:xfrm>
            <a:off x="3214800" y="428760"/>
            <a:ext cx="5500440" cy="492912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Дискуссия</a:t>
            </a: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 обсуждение спорного вопроса, проблемы; разновидность спора, направленного на достижение истины и использующего только корректные приёмы ведения спора.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елей.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2"/>
          <p:cNvSpPr/>
          <p:nvPr/>
        </p:nvSpPr>
        <p:spPr>
          <a:xfrm>
            <a:off x="2214720" y="428760"/>
            <a:ext cx="6715080" cy="5500440"/>
          </a:xfrm>
          <a:prstGeom prst="roundRect">
            <a:avLst>
              <a:gd name="adj" fmla="val 7273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ки дискуссии: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работа группы лиц, выступающих обычно в ролях ведущего и участников;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роцесс общения протекает как взаимодействие участников;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взаимодействие включает высказывания, выслушивание, а также использование невербальных выразительных средств;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направленность на достижение учебных целей.</a:t>
            </a:r>
            <a:endParaRPr b="0" lang="en-US" sz="29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кругленный прямоугольник 2"/>
          <p:cNvSpPr/>
          <p:nvPr/>
        </p:nvSpPr>
        <p:spPr>
          <a:xfrm>
            <a:off x="2571840" y="285840"/>
            <a:ext cx="6143400" cy="550044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ловек убил человека с особой жестокостью. Его приговаривают к пожизненному заключению. Правильно дли это? Зло ли это? А может быть, добро?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Хорошему или плохому учит нас наше телевидение?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кругленный прямоугольник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а проведения корректной дискуссии: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)Всегда помните о цели дискуссии — найти истину, решение, выход. 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)С уважением относитесь к мнению другого человека.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)Любое высказываемое мнение должно быть аргументировано.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) Придерживайтесь дружелюбного тона. 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) Не спорьте ради спора! 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) В дискуссии может участвовать только тот, кто открыт для другой точки зрения и терпим к иному мнению.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286000" y="0"/>
            <a:ext cx="6643800" cy="59292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)Реферат 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– краткое изложение содержания статьи (книги), включающее основные фактические сведения и выводы, необходимые для первоначального ознакомления с ней и определение целесообразности обращения к ней.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2"/>
          <p:cNvSpPr/>
          <p:nvPr/>
        </p:nvSpPr>
        <p:spPr>
          <a:xfrm>
            <a:off x="2428920" y="214200"/>
            <a:ext cx="6429240" cy="585792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) Научная статья 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законченное авторское произведение, описывающее результаты оригинального научного исследования или посвящённая рассмотрению ранее опубликованных научных статей, связанных общей темой.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2"/>
          <p:cNvSpPr/>
          <p:nvPr/>
        </p:nvSpPr>
        <p:spPr>
          <a:xfrm>
            <a:off x="2286000" y="357120"/>
            <a:ext cx="6858000" cy="564372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знаки научной статьи :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небольшой объем (3-5 страниц)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аналитический характер ;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центре статьи одна узкая проблема;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еткая последовательность изложения темы;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радиционная композиция;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онизм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стоверность всех приведенных примеров и фактов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онце статей размещается список библиографии, использованной автором при написании текста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обенный набор языковых единиц.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57160" y="857160"/>
            <a:ext cx="77868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новная цель нашего урока – обобщить знания о научном стиле, познакомиться с основными жанрами научного стиля и их особенност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Скругленный прямоугольник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новидности научных статей: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теоретические научные статьи (разработка теории на основе уже имеющихся научных материалов)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собственно-научная статья излагает информацию о результатах исследования, проведенного автором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обзорные статьи «собирают» воедино сведения о проблеме из разных источников, анализируют степень изученности проблемы и отдельных ее аспектов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научно-популярная статья рассчитана на широкий круг читателей, поэтому предполагает минимум терминологии, научных клише и разбавление основной информации научными фактами; 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маркетинговая (рекламная) статья – маленькая по объему, так как ее цель – привлечь внимание читателя и быстро ознакомить его с темой.</a:t>
            </a: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2"/>
          <p:cNvSpPr/>
          <p:nvPr/>
        </p:nvSpPr>
        <p:spPr>
          <a:xfrm>
            <a:off x="2571840" y="428760"/>
            <a:ext cx="6357960" cy="542916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)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цензия</a:t>
            </a: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 это изложение анализа текста, в котором рассматриваются его содержание и форма, отмечаются и аргументируются его достоинства и недостатки, делаются выводы и обобщения.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2"/>
          <p:cNvSpPr/>
          <p:nvPr/>
        </p:nvSpPr>
        <p:spPr>
          <a:xfrm>
            <a:off x="2214720" y="214200"/>
            <a:ext cx="6929280" cy="585792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лан написания рецензии: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мет анализа.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ктуальность темы.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ормулировка основного тезиса.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раткое содержание работы.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щая оценка. 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достатки, недочеты. 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indent="442800"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воды.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"/>
          <p:cNvSpPr/>
          <p:nvPr/>
        </p:nvSpPr>
        <p:spPr>
          <a:xfrm>
            <a:off x="1428840" y="214200"/>
            <a:ext cx="7500960" cy="57150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мерная схема анализа текста научного стиля</a:t>
            </a:r>
            <a:endParaRPr b="0" lang="en-US" sz="36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Тема: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Идея: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Читательский адре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(кому предназначен)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Жанр: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Лексические особенности научного текста 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Морфологические особенности научного текста.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) Синтаксические особенности научного текста.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0067"/>
                </a:solidFill>
                <a:latin typeface="Times New Roman"/>
              </a:rPr>
              <a:t>ЛЕКСИЧЕСКИЕ ОСОБЕННОСТИ НАУЧНОГО СТИ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34920" y="1483920"/>
            <a:ext cx="705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 Преимущественно книжная, специальная, терминологическая, а также стилистически нейтральная лекс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ретные существительные используется для обозначения общих поняти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лоло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ж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нимат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ерёза хорош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носит морозы…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гол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отребляются в обобщенно-отвлечённ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речь идет о проблемах…, следует сделать вывод…, привести к общему знаменателю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ладание местоимений 3 лица, значение лица при этом ослабле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0067"/>
                </a:solidFill>
                <a:latin typeface="Times New Roman"/>
              </a:rPr>
              <a:t>СИНТАКСИЧЕСКИЕ ОСОБЕННОСТИ НАУЧНОГО СТИ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8360" y="1989000"/>
            <a:ext cx="66088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й порядок с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оподчиненные предложения, в составе которых неопределённо-личны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читают, 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…), безличны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в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), определенно-личны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смотр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бл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восклицательных предло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пустимость личного, субъективного мнения. Неличная манера изложения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акт имеется…, теорема доказывается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56760" y="285480"/>
            <a:ext cx="835812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ть в совершенстве язык значит владеть его стил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5500800" y="28576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.Солганик</a:t>
            </a:r>
            <a:endParaRPr b="0" lang="en-US" sz="40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fs00.infourok.ru/images/doc/319/318371/img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143160" y="142848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52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обенности научного стиля реч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очность, логичность, строгое излож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отребление терми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обладание имен существитель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ямой порядок слов в предложе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обладание неопределенно-личных и безличных предлож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илие сложных предлож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потребление причастных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еепричастных оборо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9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9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2"/>
          <p:cNvSpPr/>
          <p:nvPr/>
        </p:nvSpPr>
        <p:spPr>
          <a:xfrm>
            <a:off x="0" y="189000"/>
            <a:ext cx="9144000" cy="66690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ывок научной статьи Б. Кузнецова «Пути физической мысли»: </a:t>
            </a:r>
            <a:endParaRPr b="0" lang="en-US" sz="30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1905 году, когда была опубликована первая статья Эйнштейна о теории относительности, никто не мог предвидеть конкретных путей научно-технической революции, призванной воплотить в жизнь новое учение о пространстве, времени и движении. В теории относительности видели поразительно глубокое, стройное и смелое обобщение и истолкование уже известных экспериментальных данных, прежде всего фактов, свидетельствовавших о постоянстве скорости света, о ее независимости от прямолинейного и равномерного движения системы, через которую проходит световой луч.</a:t>
            </a: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C:\Users\747\Desktop\slide-2.jpg"/>
          <p:cNvPicPr/>
          <p:nvPr/>
        </p:nvPicPr>
        <p:blipFill>
          <a:blip r:embed="rId1"/>
          <a:stretch/>
        </p:blipFill>
        <p:spPr>
          <a:xfrm>
            <a:off x="0" y="3240"/>
            <a:ext cx="91519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2"/>
          <p:cNvSpPr/>
          <p:nvPr/>
        </p:nvSpPr>
        <p:spPr>
          <a:xfrm>
            <a:off x="2286000" y="189000"/>
            <a:ext cx="6643800" cy="57402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Выступление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 это публичное сообщение, развернутое изложение определенной научной проблемы (темы, вопроса).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кругленный прямоугольник 2"/>
          <p:cNvSpPr/>
          <p:nvPr/>
        </p:nvSpPr>
        <p:spPr>
          <a:xfrm>
            <a:off x="3071880" y="189000"/>
            <a:ext cx="5857920" cy="5740200"/>
          </a:xfrm>
          <a:prstGeom prst="roundRect">
            <a:avLst>
              <a:gd name="adj" fmla="val 6579"/>
            </a:avLst>
          </a:prstGeom>
          <a:solidFill>
            <a:srgbClr val="ffffff"/>
          </a:solidFill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уществуют жанровые разновидности выступления: дискуссионные и полемические выступления; развернутые вопросы аудитории, ответы председателя и выступающего. </a:t>
            </a: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ngLiU-Ext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3:58:46Z</dcterms:created>
  <dc:creator>Олег</dc:creator>
  <dc:description/>
  <dc:language>en-US</dc:language>
  <cp:lastModifiedBy>747</cp:lastModifiedBy>
  <dcterms:modified xsi:type="dcterms:W3CDTF">2020-08-16T09:46:12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93013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