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9.png" ContentType="image/png"/>
  <Override PartName="/ppt/media/image18.gif" ContentType="image/gif"/>
  <Override PartName="/ppt/media/image16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E2BF-12DB-49F1-9FE0-818C7D6D32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F34D-9AB0-4683-9A51-6F3DB7221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B5D-68A3-4CC0-8FEF-E33AA0CE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130-BD66-4D66-846C-EBDA2F00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2F5AD-8761-496D-BE29-7A332E68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7A1C8-AA0E-481F-865E-CFB650A3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5BC5A-4DEC-4619-9013-BDD776F8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60A38-000E-4775-B31A-6865B75A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6944F-6EAC-4C38-91C1-07E3689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7124C-1480-4B12-89E1-C11C89D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E2BD2-5387-4F75-B19D-8E6A760A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AA717-F54C-4F71-B99C-D5936AEF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B1F19-1DD4-4BD0-A040-9B2E5E06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6B7-EE1A-4320-83C8-E7E72309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AEA-B909-43DC-9C8E-F6C24A2F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F97B-54B7-463C-B4F8-395A4F3C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68DF-7185-45D5-B494-B485AD95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FBF0-D981-4600-82D3-FBBF524F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FC7E-AFE1-4B09-B729-197B4510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A6CB-C479-49BA-84BF-648331AB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8FD-F50F-4F32-B419-54139DA4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B259-610B-4534-96C8-AB74BFEC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627-D722-4BE8-A5D2-308E5527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4AFF-B544-4DF4-80A4-843209D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F85A-4E83-4747-805B-F5155085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D8E8-9124-4D53-8940-35F03EF3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4A72-D4DE-4302-9467-8B45876B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D943-C0E6-4C54-B6CB-797AB585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094F-9C1A-4ABC-9648-C534D3C5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E11C-2010-4C2E-B904-9FB971E3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EBD0-4523-4000-9C61-3698C776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4705-F65F-4A86-9148-9F2560FF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58F3E-AFC4-4766-B0BE-C03A9045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ED7-CEFE-41BA-AB2D-F9BA4117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ACF0-F397-4EED-913F-0276D733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E560-C28A-4675-97CF-DE8FECD3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DE44-E2DE-4D36-9CEA-3EC71DCD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BA61A-6DB6-44A3-9288-CF1D33FA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E000-432E-4A27-99B1-A44B82A5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A298-2BA5-45E6-87E6-47DD7E4A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E22B-146E-4879-8B60-7BE11EB6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A24F-9349-4BBA-8591-62ABCA33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94E38-E323-47D9-9634-2536CBAA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1456-AA40-402E-856F-5E245D9F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F5A-1EDB-49FA-8B73-43E05319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8255B-FFDC-4A2B-AE6C-CD433259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EED2-F7E3-43D5-A7E9-31A76E11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67CC-75D2-4C4A-AECF-508CDD51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6F7C-885B-492F-8FA6-DB476A6A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34E4-F2C1-405B-813B-0A742A34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D39E-7215-435A-8B11-C34762EB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6D65-EE9F-46E0-8F80-838B7D0F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81D02-CB1B-4A61-8C9A-BDD348B6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6344-D54F-49C3-B07F-F8EDA810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784D-90C3-43DF-ADAE-10ED490A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330-F1A5-494F-9DE2-54560043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66AF4-3A25-46C1-ACC1-0FCE3B74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A6FDA-7CCA-4C44-97B7-D4063841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0E517-13C0-4D44-B4DD-BAAD67E2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75A3D-C60C-4E85-B3E0-099D372D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F7FA5-3AFE-4DFF-8C00-3AFE4C74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1FBBB-32FF-4A18-9893-B4F8D5BC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5FDB4-D93A-4E34-888B-1327EA9D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A436C-E082-4B8F-B4C4-370D9707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18D41-BC3D-4BB9-BE20-48D2AC6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6E3D-6083-48EB-B565-EE0A1F95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E6D-6DEA-4A6B-8590-BCF86367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0C1B-D8F7-4324-B7BF-69A02D05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1D18-C4B9-42CF-A8EE-27C39437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93A3C-8483-4C65-B9A1-3E5C4DC0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0F9B9-0DB6-4848-8DC4-FF76072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98D9A-8C59-4EDB-9470-04AA42A9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2180-00B4-413C-B52A-E8A547B7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990DA-D514-407E-B4D6-CD481AFB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9CD52-CC9E-4E6C-B5B5-9F1B178F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23F66-78B4-425E-A551-F481768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08393-6962-4C2B-A6E5-35C5AD2C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96D-FD8D-4AB4-924E-2E46030E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E520B-4CD1-4F46-86FB-A9B84AB6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3862-9B2E-439A-8B98-61F09D56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5B2A3-81B9-4940-BA1B-6451448E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25BCC-1180-45ED-9ACD-10F5A38F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824C6-EBC6-4CE7-ABC3-7D5C87E1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EA0E2-6C0E-4019-80CA-AF44B2C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D912A-2975-409F-8AA9-746CA828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21A1-EB6A-473A-8A65-ADD8A48C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2FBC2-34FA-4DD8-87C6-828E8631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E53A-2BAA-4BEF-B5E4-0C49204F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BCF-BE9F-47AD-9326-D339A23F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C18F2-DB4C-4364-AD0C-61589D07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CE2A-7055-4E5E-8A4E-FE81F2E2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D0EAB-A48A-44A7-B264-653155B7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207B7-D665-45A9-89D8-06E2C3E9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AC1D-6DA7-415D-8E9B-CBE7BD7D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2BDB1-21A8-4B58-8A54-BC5684CC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60515-D995-4756-9088-52638E89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AAB7C-5AFE-4D3F-AD2E-BC3643BF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89150-BECD-4A22-BB76-DC436E11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ED3AF-8FC2-4F96-8235-767ED576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02B-0574-42AE-A93D-303E0F9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813D5-DCAC-4969-8939-B4B0190D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20D35-4186-4BB8-9EE6-C23E97F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30E60-7640-4E41-AFA6-22B61CFD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26F7-9CDE-4883-9B54-9C55628B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FA3A3-F756-44B8-BF71-3317BC74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67363-1461-4418-A421-BA869630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2784-A7B3-4394-AFF1-859F1696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10682-C54D-4E54-A90A-E3438EDB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37415-FD69-4D3E-9BDF-745C6A09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8FD34-F736-430A-8F60-5F70E82E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6960-DDBD-4D91-80F4-5F60D9D565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4D84-A567-49C7-9D76-F5D6160C2C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4920-1AB5-4A53-B65C-E10EE9F624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0574-32CB-4531-9235-F1EE566615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C1A-370F-4A6F-8706-FA591FA5CC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E7F6-6A95-4126-9496-CEF6D69CFB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C66C-B2E5-4301-9068-5B767C4629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F434-1F34-4482-885B-352093F3E1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2EF5-28C8-4CC5-A99B-97BC334490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e3b30"/>
                </a:solidFill>
                <a:latin typeface="Cooper Black"/>
              </a:rPr>
              <a:t> </a:t>
            </a:r>
            <a:br>
              <a:rPr sz="3400"/>
            </a:br>
            <a:r>
              <a:rPr b="1" lang="ru-RU" sz="3400" spc="-1" strike="noStrike">
                <a:solidFill>
                  <a:srgbClr val="4e3b30"/>
                </a:solidFill>
                <a:latin typeface="Cooper Black"/>
              </a:rPr>
              <a:t>«ВОСПИТАНИЕ ЛИЧНОСТИ ШКОЛЬНИКА – ВАЖНЕЙШЕЕ УСЛОВИЕ ОПТИМИЗАЦИИ ОБРАЗОВАТЕЛЬНОГО ПРОЦЕССА»</a:t>
            </a:r>
            <a:endParaRPr b="0" lang="en-US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566640" y="353880"/>
            <a:ext cx="6973920" cy="11336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1143000" y="-649080"/>
            <a:ext cx="68580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mbria"/>
              </a:rPr>
              <a:t>I. </a:t>
            </a:r>
            <a:r>
              <a:rPr b="1" i="1" lang="ru-RU" sz="3200" spc="-1" strike="noStrike">
                <a:solidFill>
                  <a:srgbClr val="cc0000"/>
                </a:solidFill>
                <a:latin typeface="Cambria"/>
              </a:rPr>
              <a:t>Познавательный потенциал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объемом и количеством информации, которой располагает ученик. Включает психологические качества, обеспечивающие продуктивност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знавательной деятельности уче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15"/>
          <p:cNvPicPr/>
          <p:nvPr/>
        </p:nvPicPr>
        <p:blipFill>
          <a:blip r:embed="rId2"/>
          <a:stretch/>
        </p:blipFill>
        <p:spPr>
          <a:xfrm>
            <a:off x="1000080" y="4356000"/>
            <a:ext cx="26654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539640" y="765000"/>
            <a:ext cx="696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684360" y="3105000"/>
            <a:ext cx="669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1571760" y="785880"/>
            <a:ext cx="6264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mbria"/>
              </a:rPr>
              <a:t>II. </a:t>
            </a:r>
            <a:r>
              <a:rPr b="1" i="1" lang="ru-RU" sz="3200" spc="-1" strike="noStrike">
                <a:solidFill>
                  <a:srgbClr val="cc0000"/>
                </a:solidFill>
                <a:latin typeface="Cambria"/>
              </a:rPr>
              <a:t>Морально-нравственный потенциал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приобретенными нравственно-этическими нормами, жизнен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целями, убеждения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устремлен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еализуе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ировоззрен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ироустремл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ироощущени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1131"/>
          <p:cNvPicPr/>
          <p:nvPr/>
        </p:nvPicPr>
        <p:blipFill>
          <a:blip r:embed="rId2"/>
          <a:stretch/>
        </p:blipFill>
        <p:spPr>
          <a:xfrm>
            <a:off x="5786280" y="2500200"/>
            <a:ext cx="17528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928800" y="406080"/>
            <a:ext cx="66942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mbria"/>
              </a:rPr>
              <a:t>III. </a:t>
            </a:r>
            <a:r>
              <a:rPr b="1" i="1" lang="ru-RU" sz="3200" spc="-1" strike="noStrike">
                <a:solidFill>
                  <a:srgbClr val="cc0000"/>
                </a:solidFill>
                <a:latin typeface="Cambria"/>
              </a:rPr>
              <a:t>Творческий потенциал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умениям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навыками, способ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 действ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еализуется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 об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мир прекрасен"/>
          <p:cNvPicPr/>
          <p:nvPr/>
        </p:nvPicPr>
        <p:blipFill>
          <a:blip r:embed="rId2"/>
          <a:stretch/>
        </p:blipFill>
        <p:spPr>
          <a:xfrm>
            <a:off x="4071960" y="2143080"/>
            <a:ext cx="4298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1000080" y="635760"/>
            <a:ext cx="698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mbria"/>
              </a:rPr>
              <a:t>IV. </a:t>
            </a:r>
            <a:r>
              <a:rPr b="1" i="1" lang="ru-RU" sz="3200" spc="-1" strike="noStrike">
                <a:solidFill>
                  <a:srgbClr val="cc0000"/>
                </a:solidFill>
                <a:latin typeface="Cambria"/>
              </a:rPr>
              <a:t>Коммуникативный потенциал</a:t>
            </a:r>
            <a:r>
              <a:rPr b="1" lang="ru-RU" sz="3200" spc="-1" strike="noStrike">
                <a:solidFill>
                  <a:srgbClr val="cc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mbria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бщительность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характе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 проч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онт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 друг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ыраж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 разнообра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оциальных ро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которые играет личность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5" descr="1018"/>
          <p:cNvPicPr/>
          <p:nvPr/>
        </p:nvPicPr>
        <p:blipFill>
          <a:blip r:embed="rId2"/>
          <a:stretch/>
        </p:blipFill>
        <p:spPr>
          <a:xfrm>
            <a:off x="1428840" y="1428840"/>
            <a:ext cx="31608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000080" y="879120"/>
            <a:ext cx="66945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ambria"/>
              </a:rPr>
              <a:t>V. </a:t>
            </a:r>
            <a:r>
              <a:rPr b="1" i="1" lang="ru-RU" sz="3600" spc="-1" strike="noStrike">
                <a:solidFill>
                  <a:srgbClr val="cc0000"/>
                </a:solidFill>
                <a:latin typeface="Cambria"/>
              </a:rPr>
              <a:t>Эстетический потенциал </a:t>
            </a:r>
            <a:r>
              <a:rPr b="1" lang="ru-RU" sz="3600" spc="-1" strike="noStrike">
                <a:solidFill>
                  <a:srgbClr val="cc0000"/>
                </a:solidFill>
                <a:latin typeface="Cambria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одерж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 интенсив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треб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 прекрас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еализ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 творче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 в «потребле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оизведений искус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6" descr="дети читают"/>
          <p:cNvPicPr/>
          <p:nvPr/>
        </p:nvPicPr>
        <p:blipFill>
          <a:blip r:embed="rId1"/>
          <a:stretch/>
        </p:blipFill>
        <p:spPr>
          <a:xfrm>
            <a:off x="4572000" y="1857240"/>
            <a:ext cx="33847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785880" y="7617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Franklin Gothic Book"/>
              </a:rPr>
              <a:t>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Franklin Gothic Book"/>
              </a:rPr>
              <a:t> </a:t>
            </a:r>
            <a:r>
              <a:rPr b="0" i="1" lang="ru-RU" sz="2400" spc="-1" strike="noStrike">
                <a:solidFill>
                  <a:srgbClr val="ff0066"/>
                </a:solidFill>
                <a:latin typeface="Cambria"/>
              </a:rPr>
              <a:t>Роль школы</a:t>
            </a:r>
            <a:r>
              <a:rPr b="0" lang="ru-RU" sz="2400" spc="-1" strike="noStrike">
                <a:solidFill>
                  <a:srgbClr val="4e3b30"/>
                </a:solidFill>
                <a:latin typeface="Cambria"/>
              </a:rPr>
              <a:t>: она – центр психолого-педагогического руководства развития личности ребен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ambria"/>
              </a:rPr>
              <a:t>   </a:t>
            </a:r>
            <a:r>
              <a:rPr b="0" i="1" lang="ru-RU" sz="2400" spc="-1" strike="noStrike">
                <a:solidFill>
                  <a:srgbClr val="ff0066"/>
                </a:solidFill>
                <a:latin typeface="Cambria"/>
              </a:rPr>
              <a:t>Решающий фактор</a:t>
            </a:r>
            <a:r>
              <a:rPr b="0" lang="ru-RU" sz="2400" spc="-1" strike="noStrike">
                <a:solidFill>
                  <a:srgbClr val="4e3b30"/>
                </a:solidFill>
                <a:latin typeface="Cambria"/>
              </a:rPr>
              <a:t> – социальная среда, с ее социально-психологическими и традиционными отношениями. Воспитание не способно изменить социальную среду и микросреду ребенку, нов состоянии оказать на нее влияние, а главное – помочь ребенку выработать необходимое отношение к позитивным и негативным сторонам социальной среды, научить ребенка активному участию в изменении обстоятельств жизн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mbria"/>
              </a:rPr>
              <a:t>Хорошо организованное воспитание – это обеспечение широкого взаимодействия ребенка с многообразиями явлений жизни, в процессе которого у него формируются отношения к миру на уровне человеческой культуры, требований общества и личных индивидуальных особенностей, максимальное развитие которых является условием его счасть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5"/>
          <p:cNvSpPr txBox="1"/>
          <p:nvPr/>
        </p:nvSpPr>
        <p:spPr>
          <a:xfrm>
            <a:off x="1357200" y="428760"/>
            <a:ext cx="6000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ие принципы воспита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Формирование всесторонне и гармонически  развитой личности. Выработка жизненной позиц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связи с жизнь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Воспитание в условиях коллекти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единства и целости воспитательного процесса, который включает в себя целостность развития самой личности учащих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активности и самостоятельности учащихся в сочетании с педагогическим руководство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уважения личности ребенка в сочетании с разумной требовательность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индивидуализации воспитания (учет индивидуальных качеств ребенка, его сущностных сфер при выборе воспитательных средств, направленных на его развитие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инцип соответствия воспитательного процесса возрастным индивидуальным особенностям учащих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9720" y="42840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Franklin Gothic Medium"/>
              </a:rPr>
              <a:t>ФОРМИРОВАНИЕ МИРОВОЗЗРЕНИЯ       И ВОСПИТАНИЯ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599840"/>
            <a:ext cx="7186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Cambria"/>
              </a:rPr>
              <a:t>Нравственное воспитание: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ambria"/>
              </a:rPr>
              <a:t>формирование простых и сложных нравственных качеств, простые – это элементарные правила общежития: вежливость, доброжелательность, готовность помочь; к сложным нравственным качествам относится потребность добросовестно выполнять гражданские, правовые и т.п. обязанн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Cambria"/>
              </a:rPr>
              <a:t>Эстетическое воспитание: </a:t>
            </a:r>
            <a:r>
              <a:rPr b="0" lang="ru-RU" sz="1800" spc="-1" strike="noStrike">
                <a:solidFill>
                  <a:srgbClr val="4e3b30"/>
                </a:solidFill>
                <a:latin typeface="Cambria"/>
              </a:rPr>
              <a:t>формирование восприимчивости к искусству и к тому прекрасному, что есть в творениях человека и в природ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Cambria"/>
              </a:rPr>
              <a:t>Экономическое и экологическое воспитание: </a:t>
            </a:r>
            <a:r>
              <a:rPr b="0" lang="ru-RU" sz="1800" spc="-1" strike="noStrike">
                <a:solidFill>
                  <a:srgbClr val="4e3b30"/>
                </a:solidFill>
                <a:latin typeface="Cambria"/>
              </a:rPr>
              <a:t>бережное отношение к собственности и природе, обучение основам экономики, ознакомление с основными положениями экономики города, района, стран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Cambria"/>
              </a:rPr>
              <a:t>Воспитание у учащихся интереса к учебному предмету: </a:t>
            </a:r>
            <a:r>
              <a:rPr b="0" lang="ru-RU" sz="1800" spc="-1" strike="noStrike">
                <a:solidFill>
                  <a:srgbClr val="4e3b30"/>
                </a:solidFill>
                <a:latin typeface="Cambria"/>
              </a:rPr>
              <a:t>формирование познавательного интереса школьников. Познавательный интерес обостряет творческое воображение. Интерес снимает утомление, нервное напряжение, а в силу чего учение становится более плодотворным. Чем активнее познавательная деятельность учащихся, тем с большей уверенностью можно говорить о самостоятельном усвоении умений и навыков. Формировать активную творческую личность – задача каждого учител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6" name="Picture 10" descr="солнышко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1212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4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9EF5-AFD6-43D1-9661-9E37551CA9E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571680" y="357120"/>
            <a:ext cx="76435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7 действий педагога, способствующих воспитанию личности школьника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оскорбля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унижа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отражать свои отрицательные эмоции на ребен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быть безразличным к проблемам уче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отказывать в помощ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быть пассивным по отношению к учащим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л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2268360" y="2421000"/>
            <a:ext cx="5029200" cy="936720"/>
          </a:xfrm>
          <a:prstGeom prst="rect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 научно-методическими, психологическими подходами к понятию личности школьника и школьн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68360" y="3500280"/>
            <a:ext cx="5029200" cy="936720"/>
          </a:xfrm>
          <a:prstGeom prst="rect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знание  и осмысление членами педагогического коллектива основных направлений школьн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268360" y="4581360"/>
            <a:ext cx="5029200" cy="800280"/>
          </a:xfrm>
          <a:prstGeom prst="rect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воение эффективных методов взаимодействия с учащими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2195640" y="907920"/>
            <a:ext cx="5029200" cy="1160640"/>
          </a:xfrm>
          <a:prstGeom prst="rect">
            <a:avLst/>
          </a:prstGeom>
          <a:solidFill>
            <a:srgbClr val="f3cd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уровня методической подготовки педагогов в вопросах планирования, организации и осуществления воспитания учащихся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468360" y="1197000"/>
            <a:ext cx="1625400" cy="50328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42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684360" y="2276640"/>
            <a:ext cx="457200" cy="3384360"/>
          </a:xfrm>
          <a:prstGeom prst="rect">
            <a:avLst/>
          </a:prstGeom>
          <a:solidFill>
            <a:srgbClr val="ffc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1187280" y="2708280"/>
            <a:ext cx="978120" cy="485640"/>
          </a:xfrm>
          <a:prstGeom prst="rightArrow">
            <a:avLst>
              <a:gd name="adj1" fmla="val 50000"/>
              <a:gd name="adj2" fmla="val 50352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1187280" y="3645000"/>
            <a:ext cx="978120" cy="485640"/>
          </a:xfrm>
          <a:prstGeom prst="rightArrow">
            <a:avLst>
              <a:gd name="adj1" fmla="val 50000"/>
              <a:gd name="adj2" fmla="val 50352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>
            <a:off x="1187280" y="4724280"/>
            <a:ext cx="978120" cy="486000"/>
          </a:xfrm>
          <a:prstGeom prst="rightArrow">
            <a:avLst>
              <a:gd name="adj1" fmla="val 50000"/>
              <a:gd name="adj2" fmla="val 50315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5B9D-C83C-4729-84C1-C971B65E0A9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428760" y="28800"/>
            <a:ext cx="735804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 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Десять заповедей успешного воспи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Любовь к де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важительное отношение к ребе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 подавлять в ребенке личность, инициати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Жить и работать интересами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спитывать в ребенке способность преодолевать труд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орожить доверием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Воспитание должно быть систем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Дети должны быть лучше на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9.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меть жить в ногу со временем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Быть искренним, не обманывать, иметь чистые и справедливы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853920" y="1279440"/>
            <a:ext cx="7363080" cy="4078440"/>
          </a:xfrm>
          <a:prstGeom prst="rect">
            <a:avLst/>
          </a:prstGeom>
          <a:ln w="0">
            <a:noFill/>
          </a:ln>
        </p:spPr>
      </p:pic>
      <p:sp>
        <p:nvSpPr>
          <p:cNvPr id="472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8275-0672-4AA5-94E1-95616E6FBCF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928800" y="565920"/>
            <a:ext cx="705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учение и воспитание… Эти понятия еще со времен Я.А. Коменского стоят в одном ряду неразлучной пар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чебно-воспитательный процес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х связывают сотни, тысячи, а может быть, и больше зависимостей, причем достаточно сложн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однознач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аще обращ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 процессу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школьн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ассматри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омер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этого процес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инципы орган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CAEB0Q3P"/>
          <p:cNvPicPr/>
          <p:nvPr/>
        </p:nvPicPr>
        <p:blipFill>
          <a:blip r:embed="rId2"/>
          <a:stretch/>
        </p:blipFill>
        <p:spPr>
          <a:xfrm>
            <a:off x="611280" y="2924280"/>
            <a:ext cx="33447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56800" y="713880"/>
            <a:ext cx="735804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cc"/>
                </a:solidFill>
                <a:latin typeface="Cambria"/>
              </a:rPr>
              <a:t>Воспитание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– это целенаправленное управление процессом развития лич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cc"/>
                </a:solidFill>
                <a:latin typeface="Cambria"/>
              </a:rPr>
              <a:t>Воспитательный процесс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отличается длительностью. Процесс школьного воспитания – это процесс непрерывного систематического взаимодействия воспитателей и воспитанников. Это проявляется в процессе обучения и во внеклассной и внешкольной работ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cc"/>
                </a:solidFill>
                <a:latin typeface="Cambria"/>
              </a:rPr>
              <a:t>Процесс воспитания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– процесс комплексный. Это единство целей, задач, содержания, форм и методов воспитательного процесса, подчиненное идее целости формирования лич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Процесс воспитания имеет двусторонний характер: от воспитателя к воспитаннику (прямая связь) и от воспитанника к воспитателю (обратная связь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Cambria"/>
              </a:rPr>
              <a:t>Управление воспитательным процессом строится на обратных связях, т.е. на той информации, что поступает от воспитанник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9" descr="j0292122"/>
          <p:cNvPicPr/>
          <p:nvPr/>
        </p:nvPicPr>
        <p:blipFill>
          <a:blip r:embed="rId1"/>
          <a:stretch/>
        </p:blipFill>
        <p:spPr>
          <a:xfrm>
            <a:off x="6858000" y="4857840"/>
            <a:ext cx="2087640" cy="149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000080" y="685440"/>
            <a:ext cx="7056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воспитания школьников за последнее время претерпел существенные изме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ериод социально-экономической перестройки общества, когда происходит переоценка системы общественных отношений, когда жестокие войны, межнациональные конфликты, рост преступности и наркомании и многие другие социальные явления поставили под сомнение многие педагогические идеи и принцип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школа вынуждена противопоставлять истинные ценности – ложным, гуманистические идеи – варварским, доброе – жестокому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 объектом воспитательного процесса в школе является личность школьника как носитель социально-ценностных отношений, как индивидуальность с неповторимым своеобразием черт и качеств, свободно проявляющая личностное «я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1000080" y="-25560"/>
            <a:ext cx="7056360" cy="69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ворот школы к личности ребенка вынуждает искать методические решения, особенно в воспитательной работе. Основным элементом школьного образования является урок, он зеркально отраж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проблемы воспитания в шко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отношения в семь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влияние социу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mbria"/>
              </a:rPr>
              <a:t>несет на себе отпечаток личности учителя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mbria"/>
              </a:rPr>
              <a:t>На уроке ребенок</a:t>
            </a:r>
            <a:r>
              <a:rPr b="0" lang="ru-RU" sz="3600" spc="-1" strike="noStrike">
                <a:solidFill>
                  <a:srgbClr val="cc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учится работ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он учится анализировать явл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он вступает во взаимоотношения с людьми и коллектив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он утверждает свое «Я», обретая самооценку и способность к саморегулированию поведения и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mbria"/>
              </a:rPr>
              <a:t>он с разных сторон изучает прекрасный и сложный мир, прикасаясь к науке, морали, искусству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1000080" y="502200"/>
            <a:ext cx="705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 обыденной речи мы часто употребляем понятие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ичность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оворя о личности вообще, мы подразумеваем некоторое своеобразие поведения, оригинальность мышления, богатство внутреннего мира (чувств, эмоций, воображения, морально-этических ценностей)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Cambria"/>
              </a:rPr>
              <a:t>	</a:t>
            </a:r>
            <a:r>
              <a:rPr b="0" i="1" lang="ru-RU" sz="1800" spc="-1" strike="noStrike">
                <a:solidFill>
                  <a:srgbClr val="cc0000"/>
                </a:solidFill>
                <a:latin typeface="Cambria"/>
              </a:rPr>
              <a:t>Термин «личность» (person)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 взят из греческого языка,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где обозначал маску, а позже – роль арт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мо происхождение понятия уже вклад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 него особое содержани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згляд на человека со сторо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его включенность в сист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бщечеловеческих отнош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бенок, рождаясь, станов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ндивидом, имеющим огром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тенциальные возмож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к он их реализует, ка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личностью станет, зависит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бщества и его культуры,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питания и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так, индивидом рождаю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личностью становя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5" descr="ребенок"/>
          <p:cNvPicPr/>
          <p:nvPr/>
        </p:nvPicPr>
        <p:blipFill>
          <a:blip r:embed="rId2"/>
          <a:stretch/>
        </p:blipFill>
        <p:spPr>
          <a:xfrm>
            <a:off x="4643280" y="2997360"/>
            <a:ext cx="2649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6980040" cy="11336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826920" y="692280"/>
            <a:ext cx="6966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285920" y="430560"/>
            <a:ext cx="6694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уществуют различные подходы к описанию и пониманию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 частности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личность определяется тем,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что она зн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что она це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что и как она созид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 кем и как она общ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аковы 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эсте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треб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как она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довлетвор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8" descr="nastrtosch"/>
          <p:cNvPicPr/>
          <p:nvPr/>
        </p:nvPicPr>
        <p:blipFill>
          <a:blip r:embed="rId7"/>
          <a:stretch/>
        </p:blipFill>
        <p:spPr>
          <a:xfrm>
            <a:off x="3924360" y="3933720"/>
            <a:ext cx="374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08E9-432E-462D-9C26-3DF7D910B46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684360" y="62064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Личность ученика можно охарактеризовать пятью основными потенциалами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C:\Users\1\Desktop\188584_html_3c2f3719.png"/>
          <p:cNvPicPr/>
          <p:nvPr/>
        </p:nvPicPr>
        <p:blipFill>
          <a:blip r:embed="rId1"/>
          <a:stretch/>
        </p:blipFill>
        <p:spPr>
          <a:xfrm>
            <a:off x="1143000" y="2500200"/>
            <a:ext cx="76438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6:01:37Z</dcterms:created>
  <dc:creator>User</dc:creator>
  <dc:description/>
  <dc:language>en-US</dc:language>
  <cp:lastModifiedBy>User</cp:lastModifiedBy>
  <dcterms:modified xsi:type="dcterms:W3CDTF">2020-08-23T19:00:53Z</dcterms:modified>
  <cp:revision>34</cp:revision>
  <dc:subject/>
  <dc:title>Семинар  «Воспитание личности школьника – важнейшее условие оптимизации образовательного процесса»</dc:title>
</cp:coreProperties>
</file>