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19.png" ContentType="image/png"/>
  <Override PartName="/ppt/media/image18.gif" ContentType="image/gif"/>
  <Override PartName="/ppt/media/image16.wmf" ContentType="image/x-wmf"/>
  <Override PartName="/ppt/media/image15.jpeg" ContentType="image/jpeg"/>
  <Override PartName="/ppt/media/image14.wmf" ContentType="image/x-wmf"/>
  <Override PartName="/ppt/media/image1.jpeg" ContentType="image/jpeg"/>
  <Override PartName="/ppt/media/image10.jpeg" ContentType="image/jpeg"/>
  <Override PartName="/ppt/media/image13.wmf" ContentType="image/x-wmf"/>
  <Override PartName="/ppt/media/image8.jpeg" ContentType="image/jpeg"/>
  <Override PartName="/ppt/media/image5.png" ContentType="image/png"/>
  <Override PartName="/ppt/media/image9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4FAB-F4C8-4974-9ECB-4BCDFF50D5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696A-68D6-4BB1-8F44-3B0F1B8EBB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1A4A-4672-4143-801B-CB1F16C8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A4D7-A061-4478-A66F-30612CB4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87837-4024-4B5F-BC61-DDD8C475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F2ECA-EEC8-4FCB-894A-055C4FE1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834F2-4A7D-423D-82F7-B04CA8A0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F0D48-7F9D-4EB9-80E6-B41BC3D2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69C95-8ECB-4B48-A76C-7E30C3ED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C26C8-360D-43F7-A53F-E7A9114A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7EFB3-5EDE-4FBD-A289-F956C156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FD3AA-BD76-4D09-8BCC-132F694D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1DE90-EE74-48BA-885C-E960276D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B4D1-8057-42E6-90B1-96C41C0B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AF78-5498-494A-B50E-321F9085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6864-2860-45E5-B854-67166422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FEF1-2389-453D-AE0E-BB0C19DF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334B-8CCD-40BF-97E0-0557A23E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F836-A644-4770-A981-ECCBE2C8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1FF4-DFFA-494B-B76F-B6F25D67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0E70-3A79-4A8E-9ACF-90E2205E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773B-A819-4F6E-8389-7D697ABA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A7CF-F2F0-4B7F-A83A-1976C651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291C-6291-4553-B0A5-E3E075B9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6235-0107-4C53-A23E-56A126A2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92D0-4F34-4E45-9893-B8988423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048F-5464-4EB6-94A9-1A31E952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0DE3-8298-4FDB-89E4-8E12FFC7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45195-2626-4303-99F8-F41C2D7F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C4ADB-D5C7-4FC3-BE04-9D9C03BC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551E0-98DB-4CC3-8D7C-91FDBFF7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46E1B-1488-40A7-90C4-C6575815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83451-E6E6-4DAA-9832-F10A8B2E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0F12-C179-4B65-8D8C-859C9216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0E2AD-21B2-4A88-8730-24F00DAC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3F82D-914C-4153-A8FA-0D95E3FE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89C1B-36EE-4AC7-8B84-4C90C395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D3FC6-72F4-4AC6-8891-AE4F0603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5C30F-CBFB-4A4A-9B55-B61F2A99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6A8DC-47EB-4FCB-8D8F-64BB2EBE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3D9F8-8242-4DC7-B34B-CE7AE84A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2BD62-5EFB-4A40-A03D-62D00167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2ECD0-2DE6-4948-BF10-E3804B21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A0908-3BAF-4986-9134-43B827EF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EBF8-C602-4EF2-A21B-96BD38C4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7D67B-B6AE-4463-8BA0-D27C2180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6263F-5478-4F4B-890A-3D71DA62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1E45D-25C6-4D35-AC7F-7ADEE856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740EA-1407-43E1-8CB1-2BB920CD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8C70D-859B-40E4-8157-846D1854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EDA51-DBD0-4C85-9835-7D8CB217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74162-D2D6-48B6-97BB-87D7F57C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247BB-0F35-4156-A132-18A547F9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54DE2-096D-4C29-AC8B-56F22235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6D124-A92C-4E37-9B35-4B6A6446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BE4F-C4EB-4F88-83CA-4DFF11DA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69746-0D04-4F61-8448-AFAA40A2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24FBB-49B5-41C5-AD25-D4A8E703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F7E95-100F-42EA-85F2-33A50151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943EC-82DA-4646-A2A4-279CA6DD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8D7AC-3041-454D-91FD-41C245C6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E6843-4C7B-4DD1-9D57-12AC0378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3664B-B3FE-44BC-8FDC-22B71D09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40BAE-6EED-48E6-80FC-68C21520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B1BCA-AA7D-41E2-A257-2CE86174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F92A9-59E2-4740-A14D-3EBFC3F6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4A55-A490-4983-8716-2EDB6053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B43DB-FACA-4EB0-8D01-66911F35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210A0-727F-453E-8924-BA9F9AE1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F1373-0AC2-4777-A706-CA58F93A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6B672-74B0-47B1-8212-F3CDA84D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D86E6-DCAE-4C0B-AFDD-BFDCC1C9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81FDE-B672-41F9-BA27-619B5118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B4D68-232B-4A2C-961C-936C998A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1F806-977A-42E7-BB62-9326EBCE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14BDA-7C35-4391-A4CF-56D4DDAF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B6742-7E06-41A7-B2BC-A77AB397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466C-D38C-41EC-84A2-ED79F33D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4C016-0B1E-4475-B152-B7B3FEA1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193C9-2C0F-4C64-A9F8-0015D3AC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62963-F24C-4157-AB43-977220FA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BF1E1-0207-4614-A5A5-60C3BF8F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5B30A-B5D6-493C-A267-B663D142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BE603-2E66-4A61-8302-2AF4D7EC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DD8DD-B28D-48AE-A495-012707ED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A37A2-6F13-4A94-9999-16E33676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F1DE4-A963-458C-AA84-2E4FECA4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C84AD-AFEB-4EFE-A7D4-7C1F744D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AA3D-1E0C-4EC4-AC6A-0BA05ACF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D2EC9-B109-4723-89A8-8410D211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2287B-CF25-476D-A3B9-D62F2EF2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540D0-7996-4250-B73B-9D2E2B17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26ADC-32C8-47B6-BBCA-E19D370E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19696-C3CA-4B25-AC1F-D973C9B5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F24DE-5208-465A-B4A4-530AC0C9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0C87D-222A-4829-A8FD-F7D75574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708FA-C6AD-4F70-BC4A-2F5B37F6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836A6-4114-48EA-A181-4B609ADE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14741-9F08-4684-A941-D21309DF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8B45-5D97-4D32-81E4-9DFE67CB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C0C4D-340E-4F8D-9385-A3D2134E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BB2DF-95EF-4036-8650-7BD17243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CD4FF-462D-4136-A443-7131E117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50D11-7D57-465D-ABCF-7CD7B67B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041EE-5DDC-41E2-8EA1-D8B69B4A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4FB3B-CC37-4DB2-89EC-6DF25B87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E20AE-D83A-44EA-998F-94B035B8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43635-55D5-4CE9-B9CE-C0109AE4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B94B9-B4D8-4787-B3C9-0FC8806C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13356-8B66-45F3-B6DD-BFFE648A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E584-C3D5-467B-9F30-32BE06FE5F7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66C8-19D1-407B-8AEF-32AD547D321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772A-570E-4509-B8C3-D185BB10672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49A9-2664-4B5C-8645-9E0B94217A8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0429-3DC6-4B5D-8A4A-F0F2D8F1F89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47DB-C02A-45EA-9EDF-7B2835FACD8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1234-FBCD-4138-AC18-3F97D0C1102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7EA4-1B6F-497C-A5FD-56D23A9CD33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8DCA-B8DE-4DE0-B9C9-E33F18C23B6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56760" y="121428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e3b30"/>
                </a:solidFill>
                <a:latin typeface="Cooper Black"/>
              </a:rPr>
              <a:t> </a:t>
            </a:r>
            <a:br>
              <a:rPr sz="3400"/>
            </a:br>
            <a:r>
              <a:rPr b="1" lang="ru-RU" sz="3400" spc="-1" strike="noStrike">
                <a:solidFill>
                  <a:srgbClr val="4e3b30"/>
                </a:solidFill>
                <a:latin typeface="Cooper Black"/>
              </a:rPr>
              <a:t>«ВОСПИТАНИЕ ЛИЧНОСТИ ШКОЛЬНИКА – ВАЖНЕЙШЕЕ УСЛОВИЕ ОПТИМИЗАЦИИ ОБРАЗОВАТЕЛЬНОГО ПРОЦЕССА»</a:t>
            </a:r>
            <a:endParaRPr b="0" lang="en-US" sz="34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566640" y="353880"/>
            <a:ext cx="6973920" cy="113364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3"/>
          <p:cNvSpPr/>
          <p:nvPr/>
        </p:nvSpPr>
        <p:spPr>
          <a:xfrm>
            <a:off x="826920" y="692280"/>
            <a:ext cx="696600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1143000" y="-649080"/>
            <a:ext cx="685800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ambria"/>
              </a:rPr>
              <a:t>I. </a:t>
            </a:r>
            <a:r>
              <a:rPr b="1" i="1" lang="ru-RU" sz="3200" spc="-1" strike="noStrike">
                <a:solidFill>
                  <a:srgbClr val="cc0000"/>
                </a:solidFill>
                <a:latin typeface="Cambria"/>
              </a:rPr>
              <a:t>Познавательный потенциал</a:t>
            </a: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определяется объемом и количеством информации, которой располагает ученик. Включает психологические качества, обеспечивающие продуктивност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ознавательной деятельности уче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6" descr="15"/>
          <p:cNvPicPr/>
          <p:nvPr/>
        </p:nvPicPr>
        <p:blipFill>
          <a:blip r:embed="rId2"/>
          <a:stretch/>
        </p:blipFill>
        <p:spPr>
          <a:xfrm>
            <a:off x="1000080" y="4356000"/>
            <a:ext cx="266544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603360" y="469800"/>
            <a:ext cx="6980040" cy="113364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3"/>
          <p:cNvSpPr/>
          <p:nvPr/>
        </p:nvSpPr>
        <p:spPr>
          <a:xfrm>
            <a:off x="539640" y="765000"/>
            <a:ext cx="696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684360" y="3105000"/>
            <a:ext cx="6694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1571760" y="785880"/>
            <a:ext cx="626400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ambria"/>
              </a:rPr>
              <a:t>II. </a:t>
            </a:r>
            <a:r>
              <a:rPr b="1" i="1" lang="ru-RU" sz="3200" spc="-1" strike="noStrike">
                <a:solidFill>
                  <a:srgbClr val="cc0000"/>
                </a:solidFill>
                <a:latin typeface="Cambria"/>
              </a:rPr>
              <a:t>Морально-нравственный потенциал</a:t>
            </a: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определяется приобретенными нравственно-этическими нормами, жизненн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целями, убеждения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устремлени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еализуется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мировоззрен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мироустремления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мироощущении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6" descr="1131"/>
          <p:cNvPicPr/>
          <p:nvPr/>
        </p:nvPicPr>
        <p:blipFill>
          <a:blip r:embed="rId2"/>
          <a:stretch/>
        </p:blipFill>
        <p:spPr>
          <a:xfrm>
            <a:off x="5786280" y="2500200"/>
            <a:ext cx="175284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2" descr=""/>
          <p:cNvPicPr/>
          <p:nvPr/>
        </p:nvPicPr>
        <p:blipFill>
          <a:blip r:embed="rId1"/>
          <a:stretch/>
        </p:blipFill>
        <p:spPr>
          <a:xfrm>
            <a:off x="603360" y="469800"/>
            <a:ext cx="6980040" cy="113364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"/>
          <p:cNvSpPr/>
          <p:nvPr/>
        </p:nvSpPr>
        <p:spPr>
          <a:xfrm>
            <a:off x="826920" y="692280"/>
            <a:ext cx="696600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928800" y="406080"/>
            <a:ext cx="66942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ambria"/>
              </a:rPr>
              <a:t>III. </a:t>
            </a:r>
            <a:r>
              <a:rPr b="1" i="1" lang="ru-RU" sz="3200" spc="-1" strike="noStrike">
                <a:solidFill>
                  <a:srgbClr val="cc0000"/>
                </a:solidFill>
                <a:latin typeface="Cambria"/>
              </a:rPr>
              <a:t>Творческий потенциал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определяется умениям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навыками, способно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к действ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еализуется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и общ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5" descr="мир прекрасен"/>
          <p:cNvPicPr/>
          <p:nvPr/>
        </p:nvPicPr>
        <p:blipFill>
          <a:blip r:embed="rId2"/>
          <a:stretch/>
        </p:blipFill>
        <p:spPr>
          <a:xfrm>
            <a:off x="4071960" y="2143080"/>
            <a:ext cx="42987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603360" y="469800"/>
            <a:ext cx="6980040" cy="113364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3"/>
          <p:cNvSpPr/>
          <p:nvPr/>
        </p:nvSpPr>
        <p:spPr>
          <a:xfrm>
            <a:off x="826920" y="692280"/>
            <a:ext cx="696600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1000080" y="635760"/>
            <a:ext cx="698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ambria"/>
              </a:rPr>
              <a:t>IV. </a:t>
            </a:r>
            <a:r>
              <a:rPr b="1" i="1" lang="ru-RU" sz="3200" spc="-1" strike="noStrike">
                <a:solidFill>
                  <a:srgbClr val="cc0000"/>
                </a:solidFill>
                <a:latin typeface="Cambria"/>
              </a:rPr>
              <a:t>Коммуникативный потенциал</a:t>
            </a:r>
            <a:r>
              <a:rPr b="1" lang="ru-RU" sz="3200" spc="-1" strike="noStrike">
                <a:solidFill>
                  <a:srgbClr val="cc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Cambria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опреде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общительность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характер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и прочно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конт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с другими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Выраж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в разнообраз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социальных рол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которые играет личность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5" descr="1018"/>
          <p:cNvPicPr/>
          <p:nvPr/>
        </p:nvPicPr>
        <p:blipFill>
          <a:blip r:embed="rId2"/>
          <a:stretch/>
        </p:blipFill>
        <p:spPr>
          <a:xfrm>
            <a:off x="1428840" y="1428840"/>
            <a:ext cx="31608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3"/>
          <p:cNvSpPr/>
          <p:nvPr/>
        </p:nvSpPr>
        <p:spPr>
          <a:xfrm>
            <a:off x="826920" y="692280"/>
            <a:ext cx="696600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1000080" y="879120"/>
            <a:ext cx="669456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ambria"/>
              </a:rPr>
              <a:t>V. </a:t>
            </a:r>
            <a:r>
              <a:rPr b="1" i="1" lang="ru-RU" sz="3600" spc="-1" strike="noStrike">
                <a:solidFill>
                  <a:srgbClr val="cc0000"/>
                </a:solidFill>
                <a:latin typeface="Cambria"/>
              </a:rPr>
              <a:t>Эстетический потенциал </a:t>
            </a:r>
            <a:r>
              <a:rPr b="1" lang="ru-RU" sz="3600" spc="-1" strike="noStrike">
                <a:solidFill>
                  <a:srgbClr val="cc0000"/>
                </a:solidFill>
                <a:latin typeface="Cambria"/>
              </a:rPr>
              <a:t>–</a:t>
            </a: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опреде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содержа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и интенсивно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отребнос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в прекрасн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еализу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в творчест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и в «потреблен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роизведений искус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6" descr="дети читают"/>
          <p:cNvPicPr/>
          <p:nvPr/>
        </p:nvPicPr>
        <p:blipFill>
          <a:blip r:embed="rId1"/>
          <a:stretch/>
        </p:blipFill>
        <p:spPr>
          <a:xfrm>
            <a:off x="4572000" y="1857240"/>
            <a:ext cx="338472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785880" y="761760"/>
            <a:ext cx="7386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Franklin Gothic Book"/>
              </a:rPr>
              <a:t>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Franklin Gothic Book"/>
              </a:rPr>
              <a:t> </a:t>
            </a:r>
            <a:r>
              <a:rPr b="0" i="1" lang="ru-RU" sz="2400" spc="-1" strike="noStrike">
                <a:solidFill>
                  <a:srgbClr val="ff0066"/>
                </a:solidFill>
                <a:latin typeface="Cambria"/>
              </a:rPr>
              <a:t>Роль школы</a:t>
            </a:r>
            <a:r>
              <a:rPr b="0" lang="ru-RU" sz="2400" spc="-1" strike="noStrike">
                <a:solidFill>
                  <a:srgbClr val="4e3b30"/>
                </a:solidFill>
                <a:latin typeface="Cambria"/>
              </a:rPr>
              <a:t>: она – центр психолого-педагогического руководства развития личности ребенк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ambria"/>
              </a:rPr>
              <a:t>   </a:t>
            </a:r>
            <a:r>
              <a:rPr b="0" i="1" lang="ru-RU" sz="2400" spc="-1" strike="noStrike">
                <a:solidFill>
                  <a:srgbClr val="ff0066"/>
                </a:solidFill>
                <a:latin typeface="Cambria"/>
              </a:rPr>
              <a:t>Решающий фактор</a:t>
            </a:r>
            <a:r>
              <a:rPr b="0" lang="ru-RU" sz="2400" spc="-1" strike="noStrike">
                <a:solidFill>
                  <a:srgbClr val="4e3b30"/>
                </a:solidFill>
                <a:latin typeface="Cambria"/>
              </a:rPr>
              <a:t> – социальная среда, с ее социально-психологическими и традиционными отношениями. Воспитание не способно изменить социальную среду и микросреду ребенку, нов состоянии оказать на нее влияние, а главное – помочь ребенку выработать необходимое отношение к позитивным и негативным сторонам социальной среды, научить ребенка активному участию в изменении обстоятельств жизн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57200" y="1285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ambria"/>
              </a:rPr>
              <a:t>Хорошо организованное воспитание – это обеспечение широкого взаимодействия ребенка с многообразиями явлений жизни, в процессе которого у него формируются отношения к миру на уровне человеческой культуры, требований общества и личных индивидуальных особенностей, максимальное развитие которых является условием его счасть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ordArt 5"/>
          <p:cNvSpPr txBox="1"/>
          <p:nvPr/>
        </p:nvSpPr>
        <p:spPr>
          <a:xfrm>
            <a:off x="1357200" y="428760"/>
            <a:ext cx="6000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ие принципы воспита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214200" y="1285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Формирование всесторонне и гармонически  развитой личности. Выработка жизненной позици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Принцип связи с жизнь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Воспитание в условиях коллектив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Принцип единства и целости воспитательного процесса, который включает в себя целостность развития самой личности учащих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Принцип активности и самостоятельности учащихся в сочетании с педагогическим руководством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Принцип уважения личности ребенка в сочетании с разумной требовательность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Принцип индивидуализации воспитания (учет индивидуальных качеств ребенка, его сущностных сфер при выборе воспитательных средств, направленных на его развитие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Принцип соответствия воспитательного процесса возрастным индивидуальным особенностям учащих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9720" y="42840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Franklin Gothic Medium"/>
              </a:rPr>
              <a:t>ФОРМИРОВАНИЕ МИРОВОЗЗРЕНИЯ       И ВОСПИТАНИЯ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599840"/>
            <a:ext cx="71866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Cambria"/>
              </a:rPr>
              <a:t>Нравственное воспитание:</a:t>
            </a: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Cambria"/>
              </a:rPr>
              <a:t>формирование простых и сложных нравственных качеств, простые – это элементарные правила общежития: вежливость, доброжелательность, готовность помочь; к сложным нравственным качествам относится потребность добросовестно выполнять гражданские, правовые и т.п. обязанност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Cambria"/>
              </a:rPr>
              <a:t>Эстетическое воспитание: </a:t>
            </a:r>
            <a:r>
              <a:rPr b="0" lang="ru-RU" sz="1800" spc="-1" strike="noStrike">
                <a:solidFill>
                  <a:srgbClr val="4e3b30"/>
                </a:solidFill>
                <a:latin typeface="Cambria"/>
              </a:rPr>
              <a:t>формирование восприимчивости к искусству и к тому прекрасному, что есть в творениях человека и в природе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Cambria"/>
              </a:rPr>
              <a:t>Экономическое и экологическое воспитание: </a:t>
            </a:r>
            <a:r>
              <a:rPr b="0" lang="ru-RU" sz="1800" spc="-1" strike="noStrike">
                <a:solidFill>
                  <a:srgbClr val="4e3b30"/>
                </a:solidFill>
                <a:latin typeface="Cambria"/>
              </a:rPr>
              <a:t>бережное отношение к собственности и природе, обучение основам экономики, ознакомление с основными положениями экономики города, района, страны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Cambria"/>
              </a:rPr>
              <a:t>Воспитание у учащихся интереса к учебному предмету: </a:t>
            </a:r>
            <a:r>
              <a:rPr b="0" lang="ru-RU" sz="1800" spc="-1" strike="noStrike">
                <a:solidFill>
                  <a:srgbClr val="4e3b30"/>
                </a:solidFill>
                <a:latin typeface="Cambria"/>
              </a:rPr>
              <a:t>формирование познавательного интереса школьников. Познавательный интерес обостряет творческое воображение. Интерес снимает утомление, нервное напряжение, а в силу чего учение становится более плодотворным. Чем активнее познавательная деятельность учащихся, тем с большей уверенностью можно говорить о самостоятельном усвоении умений и навыков. Формировать активную творческую личность – задача каждого учителя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6" name="Picture 10" descr="солнышко"/>
          <p:cNvPicPr/>
          <p:nvPr/>
        </p:nvPicPr>
        <p:blipFill>
          <a:blip r:embed="rId1"/>
          <a:stretch/>
        </p:blipFill>
        <p:spPr>
          <a:xfrm>
            <a:off x="179280" y="189000"/>
            <a:ext cx="1368360" cy="1212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68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68" fill="hold"/>
                                        <p:tgtEl>
                                          <p:spTgt spid="4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Номер слайда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94B4-72F6-41FC-BFC6-B5E411AAA94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2"/>
          <p:cNvSpPr/>
          <p:nvPr/>
        </p:nvSpPr>
        <p:spPr>
          <a:xfrm>
            <a:off x="571680" y="357120"/>
            <a:ext cx="764352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7 действий педагога, способствующих воспитанию личности школьника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е оскорбля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е унижа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е отражать свои отрицательные эмоции на ребенк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е быть безразличным к проблемам учени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е отказывать в помощ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е быть пассивным по отношению к учащим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е лг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603360" y="469800"/>
            <a:ext cx="6980040" cy="11336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4"/>
          <p:cNvSpPr/>
          <p:nvPr/>
        </p:nvSpPr>
        <p:spPr>
          <a:xfrm>
            <a:off x="2268360" y="2421000"/>
            <a:ext cx="5029200" cy="936720"/>
          </a:xfrm>
          <a:prstGeom prst="rect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комство с научно-методическими, психологическими подходами к понятию личности школьника и школьного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2268360" y="3500280"/>
            <a:ext cx="5029200" cy="936720"/>
          </a:xfrm>
          <a:prstGeom prst="rect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ознание  и осмысление членами педагогического коллектива основных направлений школьного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268360" y="4581360"/>
            <a:ext cx="5029200" cy="800280"/>
          </a:xfrm>
          <a:prstGeom prst="rect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воение эффективных методов взаимодействия с учащими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2195640" y="907920"/>
            <a:ext cx="5029200" cy="1160640"/>
          </a:xfrm>
          <a:prstGeom prst="rect">
            <a:avLst/>
          </a:prstGeom>
          <a:solidFill>
            <a:srgbClr val="f3cd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ение уровня методической подготовки педагогов в вопросах планирования, организации и осуществления воспитания учащихся в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8"/>
          <p:cNvSpPr/>
          <p:nvPr/>
        </p:nvSpPr>
        <p:spPr>
          <a:xfrm>
            <a:off x="468360" y="1197000"/>
            <a:ext cx="1625400" cy="503280"/>
          </a:xfrm>
          <a:custGeom>
            <a:avLst/>
            <a:gdLst>
              <a:gd name="textAreaLeft" fmla="*/ 0 w 1625400"/>
              <a:gd name="textAreaRight" fmla="*/ 1625760 w 16254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42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684360" y="2276640"/>
            <a:ext cx="457200" cy="3384360"/>
          </a:xfrm>
          <a:prstGeom prst="rect">
            <a:avLst/>
          </a:prstGeom>
          <a:solidFill>
            <a:srgbClr val="ffc4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0"/>
          <p:cNvSpPr/>
          <p:nvPr/>
        </p:nvSpPr>
        <p:spPr>
          <a:xfrm>
            <a:off x="1187280" y="2708280"/>
            <a:ext cx="978120" cy="485640"/>
          </a:xfrm>
          <a:prstGeom prst="rightArrow">
            <a:avLst>
              <a:gd name="adj1" fmla="val 50000"/>
              <a:gd name="adj2" fmla="val 50352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1"/>
          <p:cNvSpPr/>
          <p:nvPr/>
        </p:nvSpPr>
        <p:spPr>
          <a:xfrm>
            <a:off x="1187280" y="3645000"/>
            <a:ext cx="978120" cy="485640"/>
          </a:xfrm>
          <a:prstGeom prst="rightArrow">
            <a:avLst>
              <a:gd name="adj1" fmla="val 50000"/>
              <a:gd name="adj2" fmla="val 50352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2"/>
          <p:cNvSpPr/>
          <p:nvPr/>
        </p:nvSpPr>
        <p:spPr>
          <a:xfrm>
            <a:off x="1187280" y="4724280"/>
            <a:ext cx="978120" cy="486000"/>
          </a:xfrm>
          <a:prstGeom prst="rightArrow">
            <a:avLst>
              <a:gd name="adj1" fmla="val 50000"/>
              <a:gd name="adj2" fmla="val 50315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Номер слайда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9AAB-AF2B-4BD4-8993-135AFDBCE9F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428760" y="28800"/>
            <a:ext cx="735804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  </a:t>
            </a: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Десять заповедей успешного воспит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 Любовь к дет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важительное отношение к ребен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е подавлять в ребенке личность, инициати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Жить и работать интересами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5.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оспитывать в ребенке способность преодолевать труд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6.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Дорожить доверием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 Воспитание должно быть систем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 Дети должны быть лучше на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9.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меть жить в ногу со временем;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 Быть искренним, не обманывать, иметь чистые и справедливые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Заголовок 1" descr=""/>
          <p:cNvPicPr/>
          <p:nvPr/>
        </p:nvPicPr>
        <p:blipFill>
          <a:blip r:embed="rId1"/>
          <a:stretch/>
        </p:blipFill>
        <p:spPr>
          <a:xfrm>
            <a:off x="853920" y="1279440"/>
            <a:ext cx="7363080" cy="4078440"/>
          </a:xfrm>
          <a:prstGeom prst="rect">
            <a:avLst/>
          </a:prstGeom>
          <a:ln w="0">
            <a:noFill/>
          </a:ln>
        </p:spPr>
      </p:pic>
      <p:sp>
        <p:nvSpPr>
          <p:cNvPr id="472" name="Номер слайда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6BB3-4256-4CAF-8027-8486481CC3A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603360" y="469800"/>
            <a:ext cx="6980040" cy="11336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3"/>
          <p:cNvSpPr/>
          <p:nvPr/>
        </p:nvSpPr>
        <p:spPr>
          <a:xfrm>
            <a:off x="826920" y="692280"/>
            <a:ext cx="696600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928800" y="565920"/>
            <a:ext cx="705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бучение и воспитание… Эти понятия еще со времен Я.А. Коменского стоят в одном ряду неразлучной паро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учебно-воспитательный процес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их связывают сотни, тысячи, а может быть, и больше зависимостей, причем достаточно сложных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еоднознач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Чаще обращ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к процессу обу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школьни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рассматри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закономер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этого процесс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ринципы организ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CAEB0Q3P"/>
          <p:cNvPicPr/>
          <p:nvPr/>
        </p:nvPicPr>
        <p:blipFill>
          <a:blip r:embed="rId2"/>
          <a:stretch/>
        </p:blipFill>
        <p:spPr>
          <a:xfrm>
            <a:off x="611280" y="2924280"/>
            <a:ext cx="33447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856800" y="713880"/>
            <a:ext cx="735804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cc"/>
                </a:solidFill>
                <a:latin typeface="Cambria"/>
              </a:rPr>
              <a:t>Воспитание</a:t>
            </a: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 – это целенаправленное управление процессом развития лич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cc"/>
                </a:solidFill>
                <a:latin typeface="Cambria"/>
              </a:rPr>
              <a:t>Воспитательный процесс</a:t>
            </a: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 отличается длительностью. Процесс школьного воспитания – это процесс непрерывного систематического взаимодействия воспитателей и воспитанников. Это проявляется в процессе обучения и во внеклассной и внешкольной работ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cc"/>
                </a:solidFill>
                <a:latin typeface="Cambria"/>
              </a:rPr>
              <a:t>Процесс воспитания</a:t>
            </a: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 – процесс комплексный. Это единство целей, задач, содержания, форм и методов воспитательного процесса, подчиненное идее целости формирования лич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    </a:t>
            </a: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Процесс воспитания имеет двусторонний характер: от воспитателя к воспитаннику (прямая связь) и от воспитанника к воспитателю (обратная связь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    </a:t>
            </a: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Управление воспитательным процессом строится на обратных связях, т.е. на той информации, что поступает от воспитаннико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icture 9" descr="j0292122"/>
          <p:cNvPicPr/>
          <p:nvPr/>
        </p:nvPicPr>
        <p:blipFill>
          <a:blip r:embed="rId1"/>
          <a:stretch/>
        </p:blipFill>
        <p:spPr>
          <a:xfrm>
            <a:off x="6858000" y="4857840"/>
            <a:ext cx="2087640" cy="1496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603360" y="469800"/>
            <a:ext cx="6980040" cy="1133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826920" y="692280"/>
            <a:ext cx="696600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1000080" y="685440"/>
            <a:ext cx="7056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сс воспитания школьников за последнее время претерпел существенные измен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ериод социально-экономической перестройки общества, когда происходит переоценка системы общественных отношений, когда жестокие войны, межнациональные конфликты, рост преступности и наркомании и многие другие социальные явления поставили под сомнение многие педагогические идеи и принцип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школа вынуждена противопоставлять истинные ценности – ложным, гуманистические идеи – варварским, доброе – жестокому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м объектом воспитательного процесса в школе является личность школьника как носитель социально-ценностных отношений, как индивидуальность с неповторимым своеобразием черт и качеств, свободно проявляющая личностное «я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603360" y="469800"/>
            <a:ext cx="6980040" cy="113364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3"/>
          <p:cNvSpPr/>
          <p:nvPr/>
        </p:nvSpPr>
        <p:spPr>
          <a:xfrm>
            <a:off x="826920" y="692280"/>
            <a:ext cx="696600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1000080" y="-25560"/>
            <a:ext cx="7056360" cy="69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оворот школы к личности ребенка вынуждает искать методические решения, особенно в воспитательной работе. Основным элементом школьного образования является урок, он зеркально отраж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mbria"/>
              </a:rPr>
              <a:t>проблемы воспитания в школ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mbria"/>
              </a:rPr>
              <a:t>отношения в семь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mbria"/>
              </a:rPr>
              <a:t>влияние социум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mbria"/>
              </a:rPr>
              <a:t>несет на себе отпечаток личности учителя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mbria"/>
              </a:rPr>
              <a:t>На уроке ребенок</a:t>
            </a:r>
            <a:r>
              <a:rPr b="0" lang="ru-RU" sz="3600" spc="-1" strike="noStrike">
                <a:solidFill>
                  <a:srgbClr val="cc0000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mbria"/>
              </a:rPr>
              <a:t>учится работ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mbria"/>
              </a:rPr>
              <a:t>он учится анализировать явл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mbria"/>
              </a:rPr>
              <a:t>он вступает во взаимоотношения с людьми и коллектив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mbria"/>
              </a:rPr>
              <a:t>он утверждает свое «Я», обретая самооценку и способность к саморегулированию поведения и деятель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mbria"/>
              </a:rPr>
              <a:t>он с разных сторон изучает прекрасный и сложный мир, прикасаясь к науке, морали, искусству.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603360" y="469800"/>
            <a:ext cx="6980040" cy="113364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826920" y="692280"/>
            <a:ext cx="696600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1000080" y="502200"/>
            <a:ext cx="7056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 обыденной речи мы часто употребляем понятие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личность.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Говоря о личности вообще, мы подразумеваем некоторое своеобразие поведения, оригинальность мышления, богатство внутреннего мира (чувств, эмоций, воображения, морально-этических ценностей) и т.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0000"/>
                </a:solidFill>
                <a:latin typeface="Cambria"/>
              </a:rPr>
              <a:t>	</a:t>
            </a:r>
            <a:r>
              <a:rPr b="0" i="1" lang="ru-RU" sz="1800" spc="-1" strike="noStrike">
                <a:solidFill>
                  <a:srgbClr val="cc0000"/>
                </a:solidFill>
                <a:latin typeface="Cambria"/>
              </a:rPr>
              <a:t>Термин «личность» (person)</a:t>
            </a:r>
            <a:r>
              <a:rPr b="0" i="1" lang="ru-RU" sz="1800" spc="-1" strike="noStrike">
                <a:solidFill>
                  <a:srgbClr val="000000"/>
                </a:solidFill>
                <a:latin typeface="Cambria"/>
              </a:rPr>
              <a:t> взят из греческого языка,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где обозначал маску, а позже – роль арти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амо происхождение понятия уже вклад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 него особое содержани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згляд на человека со сторо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его включенность в систе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бщечеловеческих отнош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Ребенок, рождаясь, станов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индивидом, имеющим огром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отенциальные возмож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как он их реализует, ка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личностью станет, зависит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бщества и его культуры, сис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оспитания и обу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Итак, индивидом рождаю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личностью становя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5" descr="ребенок"/>
          <p:cNvPicPr/>
          <p:nvPr/>
        </p:nvPicPr>
        <p:blipFill>
          <a:blip r:embed="rId2"/>
          <a:stretch/>
        </p:blipFill>
        <p:spPr>
          <a:xfrm>
            <a:off x="4643280" y="2997360"/>
            <a:ext cx="26496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603360" y="469800"/>
            <a:ext cx="6980040" cy="11336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3"/>
          <p:cNvSpPr/>
          <p:nvPr/>
        </p:nvSpPr>
        <p:spPr>
          <a:xfrm>
            <a:off x="826920" y="692280"/>
            <a:ext cx="696600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1285920" y="430560"/>
            <a:ext cx="6694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уществуют различные подходы к описанию и пониманию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 частности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личность определяется тем,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что она зн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что она цен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что и как она созид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 кем и как она общает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аковы 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эстет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отреб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и как она 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удовлетворя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8" descr="nastrtosch"/>
          <p:cNvPicPr/>
          <p:nvPr/>
        </p:nvPicPr>
        <p:blipFill>
          <a:blip r:embed="rId7"/>
          <a:stretch/>
        </p:blipFill>
        <p:spPr>
          <a:xfrm>
            <a:off x="3924360" y="3933720"/>
            <a:ext cx="3749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Номер слайда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A5FA-C0AE-49F4-80F5-A7C2079B337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2"/>
          <p:cNvSpPr/>
          <p:nvPr/>
        </p:nvSpPr>
        <p:spPr>
          <a:xfrm>
            <a:off x="684360" y="620640"/>
            <a:ext cx="77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Личность ученика можно охарактеризовать пятью основными потенциалами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" descr="C:\Users\1\Desktop\188584_html_3c2f3719.png"/>
          <p:cNvPicPr/>
          <p:nvPr/>
        </p:nvPicPr>
        <p:blipFill>
          <a:blip r:embed="rId1"/>
          <a:stretch/>
        </p:blipFill>
        <p:spPr>
          <a:xfrm>
            <a:off x="1143000" y="2500200"/>
            <a:ext cx="76438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06:01:37Z</dcterms:created>
  <dc:creator>User</dc:creator>
  <dc:description/>
  <dc:language>en-US</dc:language>
  <cp:lastModifiedBy>User</cp:lastModifiedBy>
  <dcterms:modified xsi:type="dcterms:W3CDTF">2020-08-23T19:00:53Z</dcterms:modified>
  <cp:revision>34</cp:revision>
  <dc:subject/>
  <dc:title>Семинар  «Воспитание личности школьника – важнейшее условие оптимизации образовательного процесса»</dc:title>
</cp:coreProperties>
</file>