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215-CEBF-4E8A-9D13-3EC2A851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95B-8E99-433F-A629-930EA212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615-D69B-465E-986B-8B5857C7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8BA-E1FE-4234-A72A-139F4A0D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466-1F11-4C21-B9A3-27DF9631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B44-A2A2-4DE3-B1AD-4B4D7E83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FB2-356E-4817-999A-96EF3A53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9E9-266B-49E3-8F77-8D426DD6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CAE-54B3-42F0-8D59-D480E5AB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3E9-C032-4C2A-BA76-25E73A0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FD6-187C-4A46-80C6-7A509C5B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D0C-274F-4C15-A941-56A8A0D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5965-2073-42F3-B10C-43BEC83E9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a                                   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                 закрыты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ры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г                             слог                                  слог                          с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ei]            [æ]                [i:]              [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          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                sh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p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          m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            m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h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         l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                 b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ee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 L57 ex 3                                                                                                                    U3 L49 ex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 flipH="1">
            <a:off x="971640" y="333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2340000" y="33336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 flipH="1">
            <a:off x="5364000" y="33336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6732720" y="33336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824241tpvj70j7a0"/>
          <p:cNvPicPr/>
          <p:nvPr/>
        </p:nvPicPr>
        <p:blipFill>
          <a:blip r:embed="rId1"/>
          <a:stretch/>
        </p:blipFill>
        <p:spPr>
          <a:xfrm>
            <a:off x="3348000" y="4076640"/>
            <a:ext cx="17859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a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                 закрытый                       открытый                     закры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г                             слог                                слог                                 с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i]                   [i]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ʊ]                 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                  p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f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                 h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                f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                sw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              c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 L54 ex 2                                                                                                                                                            U4 L60 ex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 flipH="1">
            <a:off x="684360" y="189000"/>
            <a:ext cx="79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2050920" y="189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 flipH="1">
            <a:off x="5148000" y="333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6443640" y="333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Бантик"/>
          <p:cNvPicPr/>
          <p:nvPr/>
        </p:nvPicPr>
        <p:blipFill>
          <a:blip r:embed="rId1"/>
          <a:stretch/>
        </p:blipFill>
        <p:spPr>
          <a:xfrm>
            <a:off x="3419640" y="3819600"/>
            <a:ext cx="271440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Ink 10"/>
          <p:cNvSpPr/>
          <p:nvPr/>
        </p:nvSpPr>
        <p:spPr>
          <a:xfrm>
            <a:off x="4802040" y="1143000"/>
            <a:ext cx="63720" cy="87480"/>
          </a:xfrm>
          <a:custGeom>
            <a:avLst/>
            <a:gdLst/>
            <a:ahLst/>
            <a:rect l="l" t="t" r="r" b="b"/>
            <a:pathLst>
              <a:path w="178" h="244">
                <a:moveTo>
                  <a:pt x="13472" y="3197"/>
                </a:moveTo>
                <a:cubicBezTo>
                  <a:pt x="13426" y="3197"/>
                  <a:pt x="13428" y="3195"/>
                  <a:pt x="13428" y="3241"/>
                </a:cubicBezTo>
                <a:cubicBezTo>
                  <a:pt x="13428" y="3285"/>
                  <a:pt x="13428" y="3329"/>
                  <a:pt x="13428" y="3373"/>
                </a:cubicBezTo>
                <a:cubicBezTo>
                  <a:pt x="13391" y="3373"/>
                  <a:pt x="13344" y="3388"/>
                  <a:pt x="13339" y="3351"/>
                </a:cubicBezTo>
                <a:cubicBezTo>
                  <a:pt x="13335" y="3323"/>
                  <a:pt x="13330" y="3278"/>
                  <a:pt x="13361" y="3263"/>
                </a:cubicBezTo>
                <a:cubicBezTo>
                  <a:pt x="13394" y="3247"/>
                  <a:pt x="13478" y="3263"/>
                  <a:pt x="13516" y="3263"/>
                </a:cubicBezTo>
                <a:cubicBezTo>
                  <a:pt x="13516" y="3315"/>
                  <a:pt x="13516" y="3366"/>
                  <a:pt x="13516" y="3418"/>
                </a:cubicBezTo>
                <a:cubicBezTo>
                  <a:pt x="13464" y="3418"/>
                  <a:pt x="13413" y="3418"/>
                  <a:pt x="13361" y="3418"/>
                </a:cubicBezTo>
                <a:cubicBezTo>
                  <a:pt x="13361" y="3367"/>
                  <a:pt x="13355" y="3351"/>
                  <a:pt x="13384" y="3329"/>
                </a:cubicBezTo>
                <a:cubicBezTo>
                  <a:pt x="13420" y="3303"/>
                  <a:pt x="13406" y="3259"/>
                  <a:pt x="13406" y="3219"/>
                </a:cubicBezTo>
                <a:cubicBezTo>
                  <a:pt x="13406" y="3185"/>
                  <a:pt x="13421" y="3197"/>
                  <a:pt x="13450" y="3197"/>
                </a:cubicBezTo>
                <a:cubicBezTo>
                  <a:pt x="13439" y="3230"/>
                  <a:pt x="13424" y="3219"/>
                  <a:pt x="13384" y="3219"/>
                </a:cubicBezTo>
              </a:path>
              <a:path w="178" h="244">
                <a:moveTo>
                  <a:pt x="13339" y="3175"/>
                </a:moveTo>
                <a:lnTo>
                  <a:pt x="13339" y="3175"/>
                </a:lnTo>
              </a:path>
              <a:path w="178" h="244">
                <a:moveTo>
                  <a:pt x="13361" y="3197"/>
                </a:moveTo>
                <a:lnTo>
                  <a:pt x="13361" y="3197"/>
                </a:lnTo>
              </a:path>
            </a:pathLst>
          </a:custGeom>
          <a:noFill/>
          <a:ln cap="rnd" w="34920">
            <a:solidFill>
              <a:srgbClr val="fff3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fff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U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кры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г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ju: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u: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     bl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b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d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j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4 L61 ex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 flipH="1">
            <a:off x="1619280" y="692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132000" y="69228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Далматинец"/>
          <p:cNvPicPr/>
          <p:nvPr/>
        </p:nvPicPr>
        <p:blipFill>
          <a:blip r:embed="rId1"/>
          <a:stretch/>
        </p:blipFill>
        <p:spPr>
          <a:xfrm>
            <a:off x="5330880" y="2832120"/>
            <a:ext cx="3813120" cy="4025880"/>
          </a:xfrm>
          <a:prstGeom prst="rect">
            <a:avLst/>
          </a:prstGeom>
          <a:ln w="0">
            <a:noFill/>
          </a:ln>
        </p:spPr>
      </p:pic>
      <p:sp>
        <p:nvSpPr>
          <p:cNvPr id="58" name="Line 8"/>
          <p:cNvSpPr/>
          <p:nvPr/>
        </p:nvSpPr>
        <p:spPr>
          <a:xfrm>
            <a:off x="2124000" y="692280"/>
            <a:ext cx="216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596000" cy="5697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684360" y="5013360"/>
            <a:ext cx="763272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84360" y="5102280"/>
            <a:ext cx="81374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нце слова читается ка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ai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если в слове нет других глас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mai],   f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flai],   w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i],   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ʃa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ffff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       A       O       I      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[ei]  [æ]  [i:]  [e]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[ai]  [i]   [əʊ]  [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ɒ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]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[ju:]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[u:] 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 Rounded MT Bold"/>
              </a:rPr>
              <a:t> ʌ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Изображение 5046"/>
          <p:cNvPicPr/>
          <p:nvPr/>
        </p:nvPicPr>
        <p:blipFill>
          <a:blip r:embed="rId1"/>
          <a:stretch/>
        </p:blipFill>
        <p:spPr>
          <a:xfrm>
            <a:off x="4643280" y="371628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1:16:49Z</dcterms:created>
  <dc:creator>Алёна Власова</dc:creator>
  <dc:description/>
  <dc:language>en-US</dc:language>
  <cp:lastModifiedBy>Win7</cp:lastModifiedBy>
  <dcterms:modified xsi:type="dcterms:W3CDTF">2020-08-25T13:15:19Z</dcterms:modified>
  <cp:revision>18</cp:revision>
  <dc:subject/>
  <dc:title>Слайд 1</dc:title>
</cp:coreProperties>
</file>