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3AB-D441-47DC-9707-958A75FB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CF4-9CDA-4EC4-A430-7E8C8413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4CB-B206-4963-A239-DDA532B2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9E9-6975-4FC3-983D-964272D1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4A1-3431-4BB1-83FD-BAA3B95D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6BF-710F-44BF-971B-4E7E3FA3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BFF-2BD2-4C55-A701-224BA7F3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9ED-3B73-4023-B4B6-6F3B91A8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6A9-C9BA-49B7-B7B7-D5183392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672-B60B-4A7F-BDFD-713007EF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3AF-806A-4FA7-97BE-A00D9BCE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FF8-62FF-4F3D-8365-B4DEB8F5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1F26-0992-4D05-B201-4B116663E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a                                   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                 закрыты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ры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г                             слог                                  слог                          с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ei]            [æ]                [i:]              [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          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                sh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p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          m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            m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h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         l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                 b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ee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 L57 ex 3                                                                                                                    U3 L49 ex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 flipH="1">
            <a:off x="971640" y="333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2340000" y="33336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 flipH="1">
            <a:off x="5364000" y="33336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6732720" y="33336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824241tpvj70j7a0"/>
          <p:cNvPicPr/>
          <p:nvPr/>
        </p:nvPicPr>
        <p:blipFill>
          <a:blip r:embed="rId1"/>
          <a:stretch/>
        </p:blipFill>
        <p:spPr>
          <a:xfrm>
            <a:off x="3348000" y="4076640"/>
            <a:ext cx="17859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a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                 закрытый                       открытый                     закры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г                             слог                                слог                                 с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i]                   [i]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ʊ]                 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                  p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f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                 h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                f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                sw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              c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 L54 ex 2                                                                                                                                                            U4 L60 ex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 flipH="1">
            <a:off x="684360" y="189000"/>
            <a:ext cx="79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2050920" y="189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 flipH="1">
            <a:off x="5148000" y="333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6443640" y="333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Бантик"/>
          <p:cNvPicPr/>
          <p:nvPr/>
        </p:nvPicPr>
        <p:blipFill>
          <a:blip r:embed="rId1"/>
          <a:stretch/>
        </p:blipFill>
        <p:spPr>
          <a:xfrm>
            <a:off x="3419640" y="3819600"/>
            <a:ext cx="271440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Ink 10"/>
          <p:cNvSpPr/>
          <p:nvPr/>
        </p:nvSpPr>
        <p:spPr>
          <a:xfrm>
            <a:off x="4802040" y="1143000"/>
            <a:ext cx="63720" cy="87480"/>
          </a:xfrm>
          <a:custGeom>
            <a:avLst/>
            <a:gdLst/>
            <a:ahLst/>
            <a:rect l="l" t="t" r="r" b="b"/>
            <a:pathLst>
              <a:path w="178" h="244">
                <a:moveTo>
                  <a:pt x="13472" y="3197"/>
                </a:moveTo>
                <a:cubicBezTo>
                  <a:pt x="13426" y="3197"/>
                  <a:pt x="13428" y="3195"/>
                  <a:pt x="13428" y="3241"/>
                </a:cubicBezTo>
                <a:cubicBezTo>
                  <a:pt x="13428" y="3285"/>
                  <a:pt x="13428" y="3329"/>
                  <a:pt x="13428" y="3373"/>
                </a:cubicBezTo>
                <a:cubicBezTo>
                  <a:pt x="13391" y="3373"/>
                  <a:pt x="13344" y="3388"/>
                  <a:pt x="13339" y="3351"/>
                </a:cubicBezTo>
                <a:cubicBezTo>
                  <a:pt x="13335" y="3323"/>
                  <a:pt x="13330" y="3278"/>
                  <a:pt x="13361" y="3263"/>
                </a:cubicBezTo>
                <a:cubicBezTo>
                  <a:pt x="13394" y="3247"/>
                  <a:pt x="13478" y="3263"/>
                  <a:pt x="13516" y="3263"/>
                </a:cubicBezTo>
                <a:cubicBezTo>
                  <a:pt x="13516" y="3315"/>
                  <a:pt x="13516" y="3366"/>
                  <a:pt x="13516" y="3418"/>
                </a:cubicBezTo>
                <a:cubicBezTo>
                  <a:pt x="13464" y="3418"/>
                  <a:pt x="13413" y="3418"/>
                  <a:pt x="13361" y="3418"/>
                </a:cubicBezTo>
                <a:cubicBezTo>
                  <a:pt x="13361" y="3367"/>
                  <a:pt x="13355" y="3351"/>
                  <a:pt x="13384" y="3329"/>
                </a:cubicBezTo>
                <a:cubicBezTo>
                  <a:pt x="13420" y="3303"/>
                  <a:pt x="13406" y="3259"/>
                  <a:pt x="13406" y="3219"/>
                </a:cubicBezTo>
                <a:cubicBezTo>
                  <a:pt x="13406" y="3185"/>
                  <a:pt x="13421" y="3197"/>
                  <a:pt x="13450" y="3197"/>
                </a:cubicBezTo>
                <a:cubicBezTo>
                  <a:pt x="13439" y="3230"/>
                  <a:pt x="13424" y="3219"/>
                  <a:pt x="13384" y="3219"/>
                </a:cubicBezTo>
              </a:path>
              <a:path w="178" h="244">
                <a:moveTo>
                  <a:pt x="13339" y="3175"/>
                </a:moveTo>
                <a:lnTo>
                  <a:pt x="13339" y="3175"/>
                </a:lnTo>
              </a:path>
              <a:path w="178" h="244">
                <a:moveTo>
                  <a:pt x="13361" y="3197"/>
                </a:moveTo>
                <a:lnTo>
                  <a:pt x="13361" y="3197"/>
                </a:lnTo>
              </a:path>
            </a:pathLst>
          </a:custGeom>
          <a:noFill/>
          <a:ln cap="rnd" w="34920">
            <a:solidFill>
              <a:srgbClr val="fff3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fff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U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кры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г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ju: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u: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     bl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b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d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j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4 L61 ex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 flipH="1">
            <a:off x="1619280" y="692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132000" y="69228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Далматинец"/>
          <p:cNvPicPr/>
          <p:nvPr/>
        </p:nvPicPr>
        <p:blipFill>
          <a:blip r:embed="rId1"/>
          <a:stretch/>
        </p:blipFill>
        <p:spPr>
          <a:xfrm>
            <a:off x="5330880" y="2832120"/>
            <a:ext cx="3813120" cy="4025880"/>
          </a:xfrm>
          <a:prstGeom prst="rect">
            <a:avLst/>
          </a:prstGeom>
          <a:ln w="0">
            <a:noFill/>
          </a:ln>
        </p:spPr>
      </p:pic>
      <p:sp>
        <p:nvSpPr>
          <p:cNvPr id="58" name="Line 8"/>
          <p:cNvSpPr/>
          <p:nvPr/>
        </p:nvSpPr>
        <p:spPr>
          <a:xfrm>
            <a:off x="2124000" y="69228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596000" cy="5697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684360" y="5013360"/>
            <a:ext cx="763272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84360" y="5102280"/>
            <a:ext cx="81374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нце слова читается ка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ai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если в слове нет других глас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mai],   f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flai],   w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i],   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ʃa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ffff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       A       O       I      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[ei]  [æ]  [i:]  [e]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[ai]  [i]   [əʊ]  [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ɒ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]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[ju:]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[u:] 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ʌ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Изображение 5046"/>
          <p:cNvPicPr/>
          <p:nvPr/>
        </p:nvPicPr>
        <p:blipFill>
          <a:blip r:embed="rId1"/>
          <a:stretch/>
        </p:blipFill>
        <p:spPr>
          <a:xfrm>
            <a:off x="4643280" y="371628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1:16:49Z</dcterms:created>
  <dc:creator>Алёна Власова</dc:creator>
  <dc:description/>
  <dc:language>en-US</dc:language>
  <cp:lastModifiedBy>Win7</cp:lastModifiedBy>
  <dcterms:modified xsi:type="dcterms:W3CDTF">2020-08-25T13:15:19Z</dcterms:modified>
  <cp:revision>18</cp:revision>
  <dc:subject/>
  <dc:title>Слайд 1</dc:title>
</cp:coreProperties>
</file>