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82E1-28AB-468E-9A13-654CB7D65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7550-44B7-4573-8323-BDD273C22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 6 класс. Н.Я.Виленкин.   Стр. 3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FA7-4D37-4ACB-A397-3F916989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10B-4A3C-472C-A730-2582E8D4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EF7-0C73-460C-9649-B51C6427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E77-9DEE-4131-A42F-F8D87ABD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B4C-7A1D-44CA-9A49-89066E8D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C45-D83A-40F9-9A1C-13EC1622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EBB-D299-4A78-B6AC-84AD6EA1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004-873A-4CCD-92B5-6FC0C215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F64-4AA6-4010-BF63-E95AD6BC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4C9-797F-4E9D-9D14-35C6DBBA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83E-33EA-4116-BED2-B1F2B34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4A6-6E5D-4C3B-8CA4-E7A7AAEF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F9ED-84D0-4DC6-A1C5-58F04FD43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flipV="1" rot="12019800">
            <a:off x="186120" y="5949720"/>
            <a:ext cx="74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готовил: Спирин Альфред, 6А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9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428840" y="1000080"/>
            <a:ext cx="59040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바탕"/>
                <a:ea typeface="바탕"/>
              </a:rPr>
              <a:t>Простые чис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바탕"/>
                <a:ea typeface="바탕"/>
              </a:rPr>
              <a:t>Решето Эратосф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643040" y="528624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й руководитель: Гачегова Наталь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: ученик 6 Агкласса Дылгыров Ал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428760" y="404640"/>
            <a:ext cx="828648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Задача №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тим, что числа от 90 до 96 ВКЛЮЧИТЕЛЬНО являются семью последовательными составн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девять последовательных состав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71680" y="435780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вять последовательных составных чисел: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140 – 148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потому что они находятся между числами простыми числами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139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149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785960" y="2142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дача №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826920" y="104292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11280" y="692280"/>
            <a:ext cx="8064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тавьте таблицы простых чисел для каждой из соте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– 100, 101 – 200, …, 901 – 1000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00040" y="2500200"/>
            <a:ext cx="8280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) 1 – 1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, 3, 5, 7, 11, 13, 17, 19, 23, 29, 31, 37, 41, 43, 47, 53, 59, 61, 67, 71, 73, 79, 83, 89, 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101 – 2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01, 103, 107, 109, 113, 127, 131, 137, 139, 149, 151, 157, 163, 167, 17, 179, 181, 191, 193, 197,199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) 201 – 3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11, 223, 227, 229, 233, 239, 241, 251, 257, 263, 269, 271, 277, 281, 283, 2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) 301 – 4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07, 311, 313, 317, 331, 337, 347, 349, 353, 359, 367, 373, 379, 383, 389, 3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) 401 – 5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01, 409, 419, 421, 431, 433, 439, 443, 449, 457, 461, 463, 467, 479, 487, 491, 4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) 501 – 6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3, 509, 521, 523, 541, 547, 557, 563, 569, 571, 577, 587, 593, 5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) 601 – 7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1, 607, 613, 617, 619, 631, 641, 643, 647, 653, 659, 661, 673, 677, 683, 69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8) 701 – 8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01, 709, 719, 727, 733, 739, 743, 751, 757, 761, 769, 773, 787, 7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9) 801 – 9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9, 811, 821, 823, 827, 829, 839, 853, 857, 859, 863, 877, 881, 883, 88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) 901 – 1000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907, 911, 919, 929, 937, 941, 947, 953, 967, 971, 977, 983, 991. 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428760" y="285840"/>
            <a:ext cx="80308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дача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пытайтесь определить количество простых чисел  в диапазоне 10001 – 10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428760" y="2571840"/>
            <a:ext cx="8501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10007, 10009, 10037, 1039, 1061, 10067, 10069, 10079, 10091, 10093, 10099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11 прост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071800" y="1429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дача  №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95280" y="76500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Кто и когда впервые разделил числа на чётные и нечётные, простые и составны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Как Вы думаете, как учёный пришёл к этому открыти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Могло ли случиться так, что простые числа так и не были откры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9"/>
          <p:cNvSpPr/>
          <p:nvPr/>
        </p:nvSpPr>
        <p:spPr>
          <a:xfrm>
            <a:off x="357120" y="92880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ть ли какой – то другой способ (кроме Решета Эратосфена), позволяющий найти простые числ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214280" y="4286160"/>
            <a:ext cx="531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) 0 х 0 - 0 + 41 = 4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) 5 х 5 – 5 + 41 = 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) 20 х 20 – 20 + 41 =  4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) 3 х 3 – 3 + 41 = 4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) 40 х 40 – 40 = 16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2357280" y="28584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дача №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6715080" y="2286000"/>
            <a:ext cx="1584360" cy="2016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2"/>
          <p:cNvSpPr/>
          <p:nvPr/>
        </p:nvSpPr>
        <p:spPr>
          <a:xfrm>
            <a:off x="214200" y="2643120"/>
            <a:ext cx="62866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 Эйлер указал формул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x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x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+ 4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воляющая вычислять сорок одно простое число, если х = 0, 1, 2… 4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миллиметро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71680" y="42876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Числа-близнецы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это простые числа, находящиеся на расстоянии друг от друга в одно состав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7286760" y="5286240"/>
            <a:ext cx="1295280" cy="1224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428760" y="3214800"/>
            <a:ext cx="82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17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1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1997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199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1301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1303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14400" y="35712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 математика земная, гордись прекрасная со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ы всем наукам мать родная  и дорожат  они то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вои  расчеты величаво ведут к планетам  кораб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е ради праздничной забавы, а ради жизни на зем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 чтобы мысль людская в поколенья несла  бесценные д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еликих гениев  творенья, полеты в дальние миры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 веках овеяна ты славой, светило всех земных свети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ебе царице величавой  недаром Гаусс окрест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трога, логична, величава, стройна в полете как стре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воя немеркнущая слава в веках  бессмертье обре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Я славлю  разум  человека, дела  его волшебных ру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дежду  нынешнего века, царицу всех земных нау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9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9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429000" y="64296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древних времен известно, что во множестве натуральных чисел встречаются числа, которые делятся только на 1 и на само число. Такие числа назвал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ост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4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6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8, 9, 10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12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14, 15, 16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18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20, 21, 22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24, 25, 26, 27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evklid.jpg"/>
          <p:cNvPicPr/>
          <p:nvPr/>
        </p:nvPicPr>
        <p:blipFill>
          <a:blip r:embed="rId2"/>
          <a:stretch/>
        </p:blipFill>
        <p:spPr>
          <a:xfrm>
            <a:off x="1352520" y="853920"/>
            <a:ext cx="1940040" cy="281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714680" y="37148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вкл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3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977760" y="324000"/>
            <a:ext cx="87638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     3     4     5    6    7    8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     12     13     14     15   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      18     19      20       21      22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    24     25      26      27     28     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      31      32     33      34      35     3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7     38     39     40     41     42     43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4       45     46       47      48      49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3759120" y="144792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4"/>
          <p:cNvGrpSpPr/>
          <p:nvPr/>
        </p:nvGrpSpPr>
        <p:grpSpPr>
          <a:xfrm>
            <a:off x="2011680" y="-383760"/>
            <a:ext cx="624600" cy="1117800"/>
            <a:chOff x="2011680" y="-383760"/>
            <a:chExt cx="624600" cy="1117800"/>
          </a:xfrm>
        </p:grpSpPr>
        <p:sp>
          <p:nvSpPr>
            <p:cNvPr id="67" name="Freeform 13"/>
            <p:cNvSpPr/>
            <p:nvPr/>
          </p:nvSpPr>
          <p:spPr>
            <a:xfrm rot="1159200">
              <a:off x="2184840" y="-370800"/>
              <a:ext cx="263520" cy="10922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 rot="1159200">
              <a:off x="2468160" y="-319680"/>
              <a:ext cx="155160" cy="1026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Oval 24"/>
          <p:cNvSpPr/>
          <p:nvPr/>
        </p:nvSpPr>
        <p:spPr>
          <a:xfrm>
            <a:off x="5600880" y="140976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5"/>
          <p:cNvSpPr/>
          <p:nvPr/>
        </p:nvSpPr>
        <p:spPr>
          <a:xfrm>
            <a:off x="7480440" y="143496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6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7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8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9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0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1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2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3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4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5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6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7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8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9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0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5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6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7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8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9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0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1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5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6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7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58"/>
          <p:cNvGrpSpPr/>
          <p:nvPr/>
        </p:nvGrpSpPr>
        <p:grpSpPr>
          <a:xfrm>
            <a:off x="6202440" y="-383760"/>
            <a:ext cx="625320" cy="1118160"/>
            <a:chOff x="6202440" y="-383760"/>
            <a:chExt cx="625320" cy="1118160"/>
          </a:xfrm>
        </p:grpSpPr>
        <p:sp>
          <p:nvSpPr>
            <p:cNvPr id="97" name="Freeform 59"/>
            <p:cNvSpPr/>
            <p:nvPr/>
          </p:nvSpPr>
          <p:spPr>
            <a:xfrm rot="1159200">
              <a:off x="6375600" y="-370800"/>
              <a:ext cx="263880" cy="10922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 rot="1159200">
              <a:off x="6659280" y="-319680"/>
              <a:ext cx="155520" cy="102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Oval 61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1"/>
          <p:cNvGrpSpPr/>
          <p:nvPr/>
        </p:nvGrpSpPr>
        <p:grpSpPr>
          <a:xfrm>
            <a:off x="7447320" y="-345600"/>
            <a:ext cx="624600" cy="1117800"/>
            <a:chOff x="7447320" y="-345600"/>
            <a:chExt cx="624600" cy="1117800"/>
          </a:xfrm>
        </p:grpSpPr>
        <p:sp>
          <p:nvSpPr>
            <p:cNvPr id="101" name="Freeform 42"/>
            <p:cNvSpPr/>
            <p:nvPr/>
          </p:nvSpPr>
          <p:spPr>
            <a:xfrm rot="1159200">
              <a:off x="7620480" y="-332640"/>
              <a:ext cx="263520" cy="10922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3"/>
            <p:cNvSpPr/>
            <p:nvPr/>
          </p:nvSpPr>
          <p:spPr>
            <a:xfrm rot="1159200">
              <a:off x="7903800" y="-281520"/>
              <a:ext cx="155160" cy="1026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52"/>
          <p:cNvGrpSpPr/>
          <p:nvPr/>
        </p:nvGrpSpPr>
        <p:grpSpPr>
          <a:xfrm>
            <a:off x="4932720" y="-205920"/>
            <a:ext cx="624600" cy="1117800"/>
            <a:chOff x="4932720" y="-205920"/>
            <a:chExt cx="624600" cy="1117800"/>
          </a:xfrm>
        </p:grpSpPr>
        <p:sp>
          <p:nvSpPr>
            <p:cNvPr id="104" name="Freeform 53"/>
            <p:cNvSpPr/>
            <p:nvPr/>
          </p:nvSpPr>
          <p:spPr>
            <a:xfrm rot="1159200">
              <a:off x="5105880" y="-192960"/>
              <a:ext cx="263520" cy="10922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4"/>
            <p:cNvSpPr/>
            <p:nvPr/>
          </p:nvSpPr>
          <p:spPr>
            <a:xfrm rot="1159200">
              <a:off x="5389200" y="-141840"/>
              <a:ext cx="155160" cy="1026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07407E-006 L 0.38611 0.01111 E">
                                      <p:cBhvr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611 0.01111 L 0.51944 0.01111 E">
                                      <p:cBhvr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44 0.01111 L -0.00556 0.12963 E">
                                      <p:cBhvr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12963 L 0.19722 0.12592 E">
                                      <p:cBhvr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12592 L 0.4 0.12592 E">
                                      <p:cBhvr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500"/>
                            </p:stCondLst>
                            <p:childTnLst>
                              <p:par>
                                <p:cTn id="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 0.12592 L 0.6 0.11851 E">
                                      <p:cBhvr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500"/>
                            </p:stCondLst>
                            <p:childTnLst>
                              <p:par>
                                <p:cTn id="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0.11851 L 0.13333 0.25926 E">
                                      <p:cBhvr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0.25926 L 0.35555 0.25185 E">
                                      <p:cBhvr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55 0.25185 L 0.58611 0.25926 E">
                                      <p:cBhvr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11 0.25926 L 0.11389 0.38888 E">
                                      <p:cBhvr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89 0.38888 L 0.33889 0.38518 E">
                                      <p:cBhvr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0.38518 L 0.55277 0.38518 E">
                                      <p:cBhvr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78 0.38518 L 0.04723 0.52592 E">
                                      <p:cBhvr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52592 L 0.29444 0.51851 E">
                                      <p:cBhvr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444 0.51851 L 0.50277 0.51851 E">
                                      <p:cBhvr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77 0.51851 L 0.71666 0.51851 E">
                                      <p:cBhvr>
                                        <p:cTn id="19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6 0.51851 L 0.15555 0.65926 E">
                                      <p:cBhvr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0.65926 L 0.38055 0.64814 E">
                                      <p:cBhvr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055 0.64814 L 0.58055 0.65555 E">
                                      <p:cBhvr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55 0.65555 L 0.08611 0.8074 E">
                                      <p:cBhvr>
                                        <p:cTn id="23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3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11 0.8074 L 0.30555 0.8 E">
                                      <p:cBhvr>
                                        <p:cTn id="24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55 0.8 L 0.56111 0.79629 E">
                                      <p:cBhvr>
                                        <p:cTn id="250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8611 0.12592 E">
                                      <p:cBhvr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0.12592 L -0.11389 0.25925 E">
                                      <p:cBhvr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89 0.25925 L -0.13611 0.38518 E">
                                      <p:cBhvr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0.38518 L -0.21389 0.53333 E">
                                      <p:cBhvr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500"/>
                            </p:stCondLst>
                            <p:childTnLst>
                              <p:par>
                                <p:cTn id="3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89 0.53333 L -0.32222 0.67777 E">
                                      <p:cBhvr>
                                        <p:cTn id="32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22 0.67777 L -0.38333 0.82222 E">
                                      <p:cBhvr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10833 0.37778 E">
                                      <p:cBhvr>
                                        <p:cTn id="372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0.37778 L 0.27778 0.51852 E">
                                      <p:cBhvr>
                                        <p:cTn id="383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18611 0.8037 E">
                                      <p:cBhvr>
                                        <p:cTn id="41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9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977760" y="324000"/>
            <a:ext cx="87638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     3     4     5    6    7    8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     12     13      14     15   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      18     19      20       21      22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    24     25      26      27     28     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      31      32     33      34      35     3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7     38     39     40     41     42     43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4       45     46       47      48      49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372040" y="2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3822840" y="140976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7"/>
          <p:cNvSpPr/>
          <p:nvPr/>
        </p:nvSpPr>
        <p:spPr>
          <a:xfrm>
            <a:off x="5600880" y="13842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8"/>
          <p:cNvSpPr/>
          <p:nvPr/>
        </p:nvSpPr>
        <p:spPr>
          <a:xfrm>
            <a:off x="7556400" y="140976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0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1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2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3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4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2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7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8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9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0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1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7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8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9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3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3375360" y="2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5"/>
          <p:cNvSpPr/>
          <p:nvPr/>
        </p:nvSpPr>
        <p:spPr>
          <a:xfrm>
            <a:off x="4798080" y="2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6"/>
          <p:cNvSpPr/>
          <p:nvPr/>
        </p:nvSpPr>
        <p:spPr>
          <a:xfrm>
            <a:off x="6017040" y="2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2643120" y="10764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8"/>
          <p:cNvSpPr/>
          <p:nvPr/>
        </p:nvSpPr>
        <p:spPr>
          <a:xfrm>
            <a:off x="4471920" y="10764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9"/>
          <p:cNvSpPr/>
          <p:nvPr/>
        </p:nvSpPr>
        <p:spPr>
          <a:xfrm>
            <a:off x="2084400" y="19908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0"/>
          <p:cNvSpPr/>
          <p:nvPr/>
        </p:nvSpPr>
        <p:spPr>
          <a:xfrm>
            <a:off x="5775480" y="5861160"/>
            <a:ext cx="10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1"/>
          <p:cNvSpPr/>
          <p:nvPr/>
        </p:nvSpPr>
        <p:spPr>
          <a:xfrm>
            <a:off x="4014720" y="19908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2"/>
          <p:cNvSpPr/>
          <p:nvPr/>
        </p:nvSpPr>
        <p:spPr>
          <a:xfrm>
            <a:off x="2084400" y="29052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2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3"/>
          <p:cNvSpPr/>
          <p:nvPr/>
        </p:nvSpPr>
        <p:spPr>
          <a:xfrm>
            <a:off x="7773840" y="29052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4"/>
          <p:cNvSpPr/>
          <p:nvPr/>
        </p:nvSpPr>
        <p:spPr>
          <a:xfrm>
            <a:off x="3303360" y="38703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3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5"/>
          <p:cNvSpPr/>
          <p:nvPr/>
        </p:nvSpPr>
        <p:spPr>
          <a:xfrm>
            <a:off x="24224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3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60800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7"/>
          <p:cNvSpPr/>
          <p:nvPr/>
        </p:nvSpPr>
        <p:spPr>
          <a:xfrm>
            <a:off x="7908840" y="4883040"/>
            <a:ext cx="94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0"/>
          <p:cNvSpPr/>
          <p:nvPr/>
        </p:nvSpPr>
        <p:spPr>
          <a:xfrm>
            <a:off x="2808360" y="0"/>
            <a:ext cx="418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바탕"/>
                <a:ea typeface="바탕"/>
              </a:rPr>
              <a:t>Реше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바탕"/>
                <a:ea typeface="바탕"/>
              </a:rPr>
              <a:t>Эратосфе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решето"/>
          <p:cNvPicPr/>
          <p:nvPr/>
        </p:nvPicPr>
        <p:blipFill>
          <a:blip r:embed="rId2"/>
          <a:stretch/>
        </p:blipFill>
        <p:spPr>
          <a:xfrm>
            <a:off x="3643200" y="1500120"/>
            <a:ext cx="3899160" cy="4456080"/>
          </a:xfrm>
          <a:prstGeom prst="rect">
            <a:avLst/>
          </a:prstGeom>
          <a:ln w="0">
            <a:noFill/>
          </a:ln>
        </p:spPr>
      </p:pic>
      <p:pic>
        <p:nvPicPr>
          <p:cNvPr id="160" name="Содержимое 4" descr="eratostenes-retrato.jpg"/>
          <p:cNvPicPr/>
          <p:nvPr/>
        </p:nvPicPr>
        <p:blipFill>
          <a:blip r:embed="rId3"/>
          <a:stretch/>
        </p:blipFill>
        <p:spPr>
          <a:xfrm>
            <a:off x="642960" y="2000160"/>
            <a:ext cx="30844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"/>
          <p:cNvPicPr/>
          <p:nvPr/>
        </p:nvPicPr>
        <p:blipFill>
          <a:blip r:embed="rId2"/>
          <a:stretch/>
        </p:blipFill>
        <p:spPr>
          <a:xfrm>
            <a:off x="1000080" y="1500120"/>
            <a:ext cx="1798560" cy="22208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928800" y="378612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Ле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простые числа таблица"/>
          <p:cNvPicPr/>
          <p:nvPr/>
        </p:nvPicPr>
        <p:blipFill>
          <a:blip r:embed="rId3"/>
          <a:stretch/>
        </p:blipFill>
        <p:spPr>
          <a:xfrm>
            <a:off x="2928960" y="500040"/>
            <a:ext cx="4500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000240" y="500040"/>
            <a:ext cx="3394080" cy="3143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1214280" y="3643200"/>
            <a:ext cx="692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В Научно-исследовательской лаборатории Лос-Аламоса были получены все простые числа до 100 000 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2857680" y="642960"/>
            <a:ext cx="3166920" cy="2387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857160" y="3214800"/>
            <a:ext cx="7715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фред Гарриевич Шнит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934 - 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바탕"/>
              </a:rPr>
              <a:t>советский и российский композитор, теоретик музыки и педагог (автор статей о русских и советских композиторах), один из наиболее значительных музыкальных деятелей второй половины ХХ века. Заслуженный деятель искусств РСФСР (198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 flipV="1" rot="10800000">
            <a:off x="1143000" y="427680"/>
            <a:ext cx="698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л свой знаменитый Двойной концерт для гобоя, арфы и струнного оркестра в конце 70 года с использование простых чисел нотного ряд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3"/>
          <p:cNvPicPr/>
          <p:nvPr/>
        </p:nvPicPr>
        <p:blipFill>
          <a:blip r:embed="rId2"/>
          <a:stretch/>
        </p:blipFill>
        <p:spPr>
          <a:xfrm>
            <a:off x="714240" y="3500280"/>
            <a:ext cx="73580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9:13:53Z</dcterms:created>
  <dc:creator>Фрэд</dc:creator>
  <dc:description/>
  <dc:language>en-US</dc:language>
  <cp:lastModifiedBy>Jester_03</cp:lastModifiedBy>
  <dcterms:modified xsi:type="dcterms:W3CDTF">2019-11-12T12:12:54Z</dcterms:modified>
  <cp:revision>18</cp:revision>
  <dc:subject/>
  <dc:title>Слайд 1</dc:title>
</cp:coreProperties>
</file>