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8768-5EF3-4920-B3AC-A3EBAE1D9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239F-1C2B-40F3-A579-5F0C039E4D9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7E7F-EFCD-462B-8DA1-941234D7448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861E-C7CF-4AF9-88D1-E0087021520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98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30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98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30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98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30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666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98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30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melkie.net/wp-content/uploads/2018/03/genrih-altshuller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Microsoft Sans Serif"/>
              </a:rPr>
              <a:t>Технология ТРИЗ в детском саду: применяем грамотно, работаем творчески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114800" y="4267080"/>
            <a:ext cx="4495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Microsoft Sans Serif"/>
              </a:rPr>
              <a:t>Подготовила – Ковальчук Юлия Константиновна  - педагог - психолог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066320" y="2361960"/>
            <a:ext cx="5410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Calibri"/>
              </a:rPr>
              <a:t>ТРИЗ или теория решения изобретательских задач в наше время стала очень популярной технологией в дошкольной педагогике. Автором её является Генрих Саулович Альтшуллер, изобретатель, писатель-фантаст, создатель первого в мире центра по изучению ТРИЗ — Школы молодого изобретателя.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86" name="Рисунок 3" descr="Генрих Альтшуллер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514600"/>
            <a:ext cx="2046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828440" y="144756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«Каждый ребёнок изначально талантлив и даже гениален, но его надо научить ориентироваться в современном мире, чтобы при минимуме затрат достичь максимального эффекта»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Г. С. Альтшуллер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860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Использование ТРИЗ в детском саду помогает решить такие образовательные задачи: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Развитие гибкости и неординарности мышления ребёнка, формирование всестороннего интеллекта, умения быстро и результативно совершать мыслительные операции.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Совершенствование речи, умения чётко, связно, обоснованно высказать свою мысль, смело выступать перед слушателями.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Содействие становлению свободной личности, раскрепощённой в творческих проявлениях, разноплановой и креативной в поиске решений поставленной задачи и способов их воплощения в реальность.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Воспитание уважения к себе и окружающим, умения отстаивать собственные интересы не в ущерб общественным.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Microsoft Sans Serif"/>
              </a:rPr>
              <a:t>Основные методы ТРИЗ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  <a:ea typeface="Calibri"/>
              </a:rPr>
              <a:t>Метод изобретательской задачи.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  <a:ea typeface="Calibri"/>
              </a:rPr>
              <a:t>"Да-нет-ка"</a:t>
            </a:r>
            <a:r>
              <a:rPr b="0" lang="ru-RU" sz="2400" spc="-1" strike="noStrike">
                <a:solidFill>
                  <a:srgbClr val="4d4d4d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  <a:ea typeface="Calibri"/>
              </a:rPr>
              <a:t>Мозговой штурм и синектика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  <a:ea typeface="Calibri"/>
              </a:rPr>
              <a:t>Морфологический анализ</a:t>
            </a:r>
            <a:r>
              <a:rPr b="0" lang="ru-RU" sz="2400" spc="-1" strike="noStrike">
                <a:solidFill>
                  <a:srgbClr val="4d4d4d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  <a:ea typeface="Calibri"/>
              </a:rPr>
              <a:t>Метод фокальных объектов</a:t>
            </a:r>
            <a:r>
              <a:rPr b="0" lang="ru-RU" sz="2400" spc="-1" strike="noStrike">
                <a:solidFill>
                  <a:srgbClr val="4d4d4d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  <a:ea typeface="Calibri"/>
              </a:rPr>
              <a:t>Метод Робинзона</a:t>
            </a:r>
            <a:r>
              <a:rPr b="0" lang="ru-RU" sz="2400" spc="-1" strike="noStrike">
                <a:solidFill>
                  <a:srgbClr val="4d4d4d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  <a:ea typeface="Calibri"/>
              </a:rPr>
              <a:t>Моделирование маленькими человечками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1</cp:lastModifiedBy>
  <dcterms:modified xsi:type="dcterms:W3CDTF">2018-12-11T07:20:50Z</dcterms:modified>
  <cp:revision>11</cp:revision>
  <dc:subject/>
  <dc:title>Name of presentation</dc:title>
</cp:coreProperties>
</file>