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084-66DF-46D0-8417-2388165F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4A5-1669-43C6-84FB-3972D6C5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424-7473-4F96-87AF-EC2BADD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908-E77E-4284-B465-BC674F36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2DA-CEE8-4893-BD27-25E76C9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B01-8855-4687-B2FF-87107A9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8D7-7C6A-47D5-B58B-1CB1B7A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388-D94C-4215-82D5-4E1F7CF7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F71-9696-47CA-932D-D5F979E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1FB-D06E-4C42-AF95-00283A1B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7C2-F862-42C3-90D3-7FB3619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7D5-C101-4DA8-A668-195F748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553-3736-470E-862B-506141A3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улка по ска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КОМ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остях у Бабы - Я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66720" y="3200040"/>
            <a:ext cx="44197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ША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306440"/>
            <a:ext cx="64501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три котла ныря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Т И СКАЗКЕ 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email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 kailashool@yandex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01:44:54Z</dcterms:created>
  <dc:creator>user</dc:creator>
  <dc:description/>
  <dc:language>en-US</dc:language>
  <cp:lastModifiedBy>user</cp:lastModifiedBy>
  <dcterms:modified xsi:type="dcterms:W3CDTF">2020-03-17T03:34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