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BF8-ADEE-4AE1-9D24-F549BF10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700-96DF-41A9-B430-8F1C24D8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D0C-40D3-4B8D-B65E-6F69405C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627-1183-43EC-BC35-C953E159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81C-C5C8-4FF9-9536-A9EB3DCE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C0A-A821-4A1D-9829-6873330D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313-5A1D-486C-88DA-18A58340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82B-C8C8-4483-8C95-E5BDC980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1EA-81D2-414C-823E-AFD9897F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CF2-0FA3-44DC-8E9D-EE1DC02A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528-22AA-43E8-9DAF-C2AAF93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DB5-EA20-4029-84AA-86DC6103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553A-D6F3-4469-B157-305121DE5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улка по сказ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43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УКОМ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остях у Бабы - Я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66720" y="3200040"/>
            <a:ext cx="44197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ЛАШАТ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306440"/>
            <a:ext cx="64501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три котла ныряй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Т И СКАЗКЕ 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email</a:t>
            </a: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 kailashool@yandex</a:t>
            </a: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5T01:44:54Z</dcterms:created>
  <dc:creator>user</dc:creator>
  <dc:description/>
  <dc:language>en-US</dc:language>
  <cp:lastModifiedBy>user</cp:lastModifiedBy>
  <dcterms:modified xsi:type="dcterms:W3CDTF">2020-03-17T03:34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