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E4E7-CDFF-44E8-AC6B-407E30E295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2413-6908-4293-A3C8-F3082AB51E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066-B6EC-4EA8-A921-8C6F0857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E98-D82F-42B1-9E4D-1D95669D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2F8-8883-4111-AC0E-EB5AED35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CF1D-542B-49AB-BD39-02739EBC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D6A-0FF8-45B3-9FB1-CBF5FCBA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04F-618B-4E28-B8B8-1F28D88C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B9C-78D5-4483-8597-A73D3CC7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791-1146-49F6-8045-30183D59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FDA-3CC6-4053-B722-68F769A3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1FC-A25C-4608-88F9-47520E10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B3A-1849-4BAF-9B82-D4F108E2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BBB-BB4A-49F1-9548-42FB9E04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C61B-C6F2-4CF1-B9E1-CE83B602A5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3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2071800" y="500040"/>
            <a:ext cx="45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500040" y="521496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Федченко Оксан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БДОУ «Детский сад №10 «Терем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 flipH="1">
            <a:off x="570960" y="442908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Моя Росс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original.png"/>
          <p:cNvPicPr/>
          <p:nvPr/>
        </p:nvPicPr>
        <p:blipFill>
          <a:blip r:embed="rId2"/>
          <a:stretch/>
        </p:blipFill>
        <p:spPr>
          <a:xfrm>
            <a:off x="7093080" y="65160"/>
            <a:ext cx="1861920" cy="1298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113804677_large_3290568_Zolotoe_kolco_Rossii.JPG"/>
          <p:cNvPicPr/>
          <p:nvPr/>
        </p:nvPicPr>
        <p:blipFill>
          <a:blip r:embed="rId3"/>
          <a:stretch/>
        </p:blipFill>
        <p:spPr>
          <a:xfrm>
            <a:off x="324000" y="1413000"/>
            <a:ext cx="3527280" cy="2658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" descr=""/>
          <p:cNvPicPr/>
          <p:nvPr/>
        </p:nvPicPr>
        <p:blipFill>
          <a:blip r:embed="rId4"/>
          <a:stretch/>
        </p:blipFill>
        <p:spPr>
          <a:xfrm>
            <a:off x="5219640" y="4429080"/>
            <a:ext cx="3456000" cy="19130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"/>
          <p:cNvPicPr/>
          <p:nvPr/>
        </p:nvPicPr>
        <p:blipFill>
          <a:blip r:embed="rId5"/>
          <a:stretch/>
        </p:blipFill>
        <p:spPr>
          <a:xfrm>
            <a:off x="4500720" y="1413000"/>
            <a:ext cx="367164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3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571680" y="35712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знания детей о природе России, о народных умельцах, о русских народных инструментах. Воспитывать у детей интерес к истории своей страны, чувство любви и гордости за свою страну. Закрепить знания детей о символики страны: флаг, герб, гим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deti.jpg"/>
          <p:cNvPicPr/>
          <p:nvPr/>
        </p:nvPicPr>
        <p:blipFill>
          <a:blip r:embed="rId2"/>
          <a:stretch/>
        </p:blipFill>
        <p:spPr>
          <a:xfrm>
            <a:off x="357120" y="2428920"/>
            <a:ext cx="4357800" cy="4000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deti_1.jpg"/>
          <p:cNvPicPr/>
          <p:nvPr/>
        </p:nvPicPr>
        <p:blipFill>
          <a:blip r:embed="rId3"/>
          <a:stretch/>
        </p:blipFill>
        <p:spPr>
          <a:xfrm>
            <a:off x="4929120" y="2428920"/>
            <a:ext cx="3929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3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bbba8990-9688-0131-578d-10604ba4c9b1.jpg"/>
          <p:cNvPicPr/>
          <p:nvPr/>
        </p:nvPicPr>
        <p:blipFill>
          <a:blip r:embed="rId2"/>
          <a:stretch/>
        </p:blipFill>
        <p:spPr>
          <a:xfrm>
            <a:off x="2428920" y="642960"/>
            <a:ext cx="3857760" cy="27860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500040" y="428616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велика моя земля, как широки простор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ера, реки и поля, леса, и степь, и г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улась моя страна от севера до ю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одном краю весна, в  другом - снега и вьюг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gerb-RF-F48M-b.jpg"/>
          <p:cNvPicPr/>
          <p:nvPr/>
        </p:nvPicPr>
        <p:blipFill>
          <a:blip r:embed="rId3"/>
          <a:stretch/>
        </p:blipFill>
        <p:spPr>
          <a:xfrm>
            <a:off x="285840" y="557280"/>
            <a:ext cx="2071440" cy="2871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55d081c3250cc.jpg"/>
          <p:cNvPicPr/>
          <p:nvPr/>
        </p:nvPicPr>
        <p:blipFill>
          <a:blip r:embed="rId4"/>
          <a:stretch/>
        </p:blipFill>
        <p:spPr>
          <a:xfrm>
            <a:off x="6357960" y="642960"/>
            <a:ext cx="2428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3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3005568_africa.jpg"/>
          <p:cNvPicPr/>
          <p:nvPr/>
        </p:nvPicPr>
        <p:blipFill>
          <a:blip r:embed="rId2"/>
          <a:stretch/>
        </p:blipFill>
        <p:spPr>
          <a:xfrm>
            <a:off x="500040" y="2857680"/>
            <a:ext cx="3429000" cy="3571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642960" y="21420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а Росси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3.jpg"/>
          <p:cNvPicPr/>
          <p:nvPr/>
        </p:nvPicPr>
        <p:blipFill>
          <a:blip r:embed="rId3"/>
          <a:stretch/>
        </p:blipFill>
        <p:spPr>
          <a:xfrm>
            <a:off x="4143240" y="714240"/>
            <a:ext cx="4357800" cy="20718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img6.jpg"/>
          <p:cNvPicPr/>
          <p:nvPr/>
        </p:nvPicPr>
        <p:blipFill>
          <a:blip r:embed="rId4"/>
          <a:stretch/>
        </p:blipFill>
        <p:spPr>
          <a:xfrm>
            <a:off x="4143240" y="29289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3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0" y="500040"/>
            <a:ext cx="914400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, которое у славян издревне считалось священным - Бер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белых платьицах подружки из русской выросли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есной стоят опушке, листья в косы заплел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3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285840" y="388800"/>
            <a:ext cx="885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руки ты ее возьмешь, т о растянешь, то сожм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кая, нарядная ,веселая, трехряд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грает, только тронь Наша русская» (гармон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й, звенит, она звен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в округе весел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сего-то три стру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й, для музыки, нуж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, такая, отгадай-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ша» (балалайк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i_iauvy.jpg"/>
          <p:cNvPicPr/>
          <p:nvPr/>
        </p:nvPicPr>
        <p:blipFill>
          <a:blip r:embed="rId2"/>
          <a:stretch/>
        </p:blipFill>
        <p:spPr>
          <a:xfrm>
            <a:off x="5857920" y="228600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balalaika1.gif"/>
          <p:cNvPicPr/>
          <p:nvPr/>
        </p:nvPicPr>
        <p:blipFill>
          <a:blip r:embed="rId3"/>
          <a:stretch/>
        </p:blipFill>
        <p:spPr>
          <a:xfrm>
            <a:off x="5929200" y="457200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3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428760" y="357120"/>
            <a:ext cx="82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этой молодице прячутся девиц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сестрица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еньшей тем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е щечки, пестрые плато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ают в ладоши веселые (матрешки)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matrezka.jpg"/>
          <p:cNvPicPr/>
          <p:nvPr/>
        </p:nvPicPr>
        <p:blipFill>
          <a:blip r:embed="rId2"/>
          <a:stretch/>
        </p:blipFill>
        <p:spPr>
          <a:xfrm>
            <a:off x="428760" y="3000240"/>
            <a:ext cx="364320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3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285840" y="357120"/>
            <a:ext cx="657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юблю тебя моя Р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й задумчивую гру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лю все то, что наз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широким словом «РУ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461s.jpg"/>
          <p:cNvPicPr/>
          <p:nvPr/>
        </p:nvPicPr>
        <p:blipFill>
          <a:blip r:embed="rId2"/>
          <a:stretch/>
        </p:blipFill>
        <p:spPr>
          <a:xfrm>
            <a:off x="500040" y="2571840"/>
            <a:ext cx="7929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3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500040" y="435780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ется надеяться, что заложенные в детях все эти  знания, умения, навыки, накопленные русским народом веками, помогут стать нашим детям хорошими, мудрыми людьми с доброй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071720" y="35712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8T16:31:33Z</dcterms:created>
  <dc:creator>user</dc:creator>
  <dc:description/>
  <dc:language>en-US</dc:language>
  <cp:lastModifiedBy>МБДОУ детский сад № 10 "Теремок п.Головкино</cp:lastModifiedBy>
  <dcterms:modified xsi:type="dcterms:W3CDTF">2020-08-19T14:51:31Z</dcterms:modified>
  <cp:revision>35</cp:revision>
  <dc:subject/>
  <dc:title>Слайд 1</dc:title>
</cp:coreProperties>
</file>