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1422-D815-4C24-AEA0-3C5A0C1C67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C04C-A337-47B2-A30D-9AE114BCCD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8039-005E-48E0-B869-9F014B81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3DC2-553D-4E89-9EC6-A5FA1D4F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0FFD-2B06-4A76-851B-79303E686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322F-B251-4FCF-9ACE-45324AB4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C184-7B9B-495B-AA36-761129CC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21FF-EA4A-4635-9AD8-3BDF87E2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19C1-11DE-4D78-B03B-6FDFD53A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FB9A-F1A7-4E19-B784-48997647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294D-B8E2-408B-8731-FE9DE4E5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2810-1393-4A13-AA2B-060B4A30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BFA8-1B2D-481C-A422-0CD2885C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43D0-3A28-47B0-BE6A-AB5EA0D8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BE45-3FD8-4ABC-A6AD-9AADA0A673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39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2071800" y="500040"/>
            <a:ext cx="45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е 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500040" y="521496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Федченко Оксан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МБДОУ «Детский сад №10 «Терем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 flipH="1">
            <a:off x="570960" y="4429080"/>
            <a:ext cx="67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«Моя Росс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5" descr="original.png"/>
          <p:cNvPicPr/>
          <p:nvPr/>
        </p:nvPicPr>
        <p:blipFill>
          <a:blip r:embed="rId2"/>
          <a:stretch/>
        </p:blipFill>
        <p:spPr>
          <a:xfrm>
            <a:off x="7093080" y="65160"/>
            <a:ext cx="1861920" cy="12985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113804677_large_3290568_Zolotoe_kolco_Rossii.JPG"/>
          <p:cNvPicPr/>
          <p:nvPr/>
        </p:nvPicPr>
        <p:blipFill>
          <a:blip r:embed="rId3"/>
          <a:stretch/>
        </p:blipFill>
        <p:spPr>
          <a:xfrm>
            <a:off x="324000" y="1413000"/>
            <a:ext cx="3527280" cy="26589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" descr=""/>
          <p:cNvPicPr/>
          <p:nvPr/>
        </p:nvPicPr>
        <p:blipFill>
          <a:blip r:embed="rId4"/>
          <a:stretch/>
        </p:blipFill>
        <p:spPr>
          <a:xfrm>
            <a:off x="5219640" y="4429080"/>
            <a:ext cx="3456000" cy="19130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"/>
          <p:cNvPicPr/>
          <p:nvPr/>
        </p:nvPicPr>
        <p:blipFill>
          <a:blip r:embed="rId5"/>
          <a:stretch/>
        </p:blipFill>
        <p:spPr>
          <a:xfrm>
            <a:off x="4500720" y="1413000"/>
            <a:ext cx="3671640" cy="26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39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2"/>
          <p:cNvSpPr/>
          <p:nvPr/>
        </p:nvSpPr>
        <p:spPr>
          <a:xfrm>
            <a:off x="571680" y="357120"/>
            <a:ext cx="807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знания детей о природе России, о народных умельцах, о русских народных инструментах. Воспитывать у детей интерес к истории своей страны, чувство любви и гордости за свою страну. Закрепить знания детей о символики страны: флаг, герб, гим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deti.jpg"/>
          <p:cNvPicPr/>
          <p:nvPr/>
        </p:nvPicPr>
        <p:blipFill>
          <a:blip r:embed="rId2"/>
          <a:stretch/>
        </p:blipFill>
        <p:spPr>
          <a:xfrm>
            <a:off x="357120" y="2428920"/>
            <a:ext cx="4357800" cy="40003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deti_1.jpg"/>
          <p:cNvPicPr/>
          <p:nvPr/>
        </p:nvPicPr>
        <p:blipFill>
          <a:blip r:embed="rId3"/>
          <a:stretch/>
        </p:blipFill>
        <p:spPr>
          <a:xfrm>
            <a:off x="4929120" y="2428920"/>
            <a:ext cx="39290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39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" descr="bbba8990-9688-0131-578d-10604ba4c9b1.jpg"/>
          <p:cNvPicPr/>
          <p:nvPr/>
        </p:nvPicPr>
        <p:blipFill>
          <a:blip r:embed="rId2"/>
          <a:stretch/>
        </p:blipFill>
        <p:spPr>
          <a:xfrm>
            <a:off x="2428920" y="642960"/>
            <a:ext cx="3857760" cy="278604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500040" y="4286160"/>
            <a:ext cx="864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 велика моя земля, как широки простор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ера, реки и поля, леса, и степь, и го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инулась моя страна от севера до юг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 одном краю весна, в  другом - снега и вьюг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4" descr="gerb-RF-F48M-b.jpg"/>
          <p:cNvPicPr/>
          <p:nvPr/>
        </p:nvPicPr>
        <p:blipFill>
          <a:blip r:embed="rId3"/>
          <a:stretch/>
        </p:blipFill>
        <p:spPr>
          <a:xfrm>
            <a:off x="285840" y="557280"/>
            <a:ext cx="2071440" cy="28717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55d081c3250cc.jpg"/>
          <p:cNvPicPr/>
          <p:nvPr/>
        </p:nvPicPr>
        <p:blipFill>
          <a:blip r:embed="rId4"/>
          <a:stretch/>
        </p:blipFill>
        <p:spPr>
          <a:xfrm>
            <a:off x="6357960" y="642960"/>
            <a:ext cx="24289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39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3005568_africa.jpg"/>
          <p:cNvPicPr/>
          <p:nvPr/>
        </p:nvPicPr>
        <p:blipFill>
          <a:blip r:embed="rId2"/>
          <a:stretch/>
        </p:blipFill>
        <p:spPr>
          <a:xfrm>
            <a:off x="500040" y="2857680"/>
            <a:ext cx="3429000" cy="357156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642960" y="214200"/>
            <a:ext cx="69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ства Росси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4" descr="3.jpg"/>
          <p:cNvPicPr/>
          <p:nvPr/>
        </p:nvPicPr>
        <p:blipFill>
          <a:blip r:embed="rId3"/>
          <a:stretch/>
        </p:blipFill>
        <p:spPr>
          <a:xfrm>
            <a:off x="4143240" y="714240"/>
            <a:ext cx="4357800" cy="20718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img6.jpg"/>
          <p:cNvPicPr/>
          <p:nvPr/>
        </p:nvPicPr>
        <p:blipFill>
          <a:blip r:embed="rId4"/>
          <a:stretch/>
        </p:blipFill>
        <p:spPr>
          <a:xfrm>
            <a:off x="4143240" y="29289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39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2"/>
          <p:cNvSpPr/>
          <p:nvPr/>
        </p:nvSpPr>
        <p:spPr>
          <a:xfrm>
            <a:off x="0" y="500040"/>
            <a:ext cx="914400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о, которое у славян издревне считалось священным - Берез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белых платьицах подружки из русской выросли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лесной стоят опушке, листья в косы заплел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39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"/>
          <p:cNvSpPr/>
          <p:nvPr/>
        </p:nvSpPr>
        <p:spPr>
          <a:xfrm>
            <a:off x="285840" y="388800"/>
            <a:ext cx="885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дк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руки ты ее возьмешь, т о растянешь, то сожме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нкая, нарядная ,веселая, трехряд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играет, только тронь Наша русская» (гармонь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й, звенит, она звен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х в округе весел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сего-то три стру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й, для музыки, нуж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, такая, отгадай-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аша» (балалайк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3" descr="i_iauvy.jpg"/>
          <p:cNvPicPr/>
          <p:nvPr/>
        </p:nvPicPr>
        <p:blipFill>
          <a:blip r:embed="rId2"/>
          <a:stretch/>
        </p:blipFill>
        <p:spPr>
          <a:xfrm>
            <a:off x="5857920" y="2286000"/>
            <a:ext cx="2928960" cy="21430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4" descr="balalaika1.gif"/>
          <p:cNvPicPr/>
          <p:nvPr/>
        </p:nvPicPr>
        <p:blipFill>
          <a:blip r:embed="rId3"/>
          <a:stretch/>
        </p:blipFill>
        <p:spPr>
          <a:xfrm>
            <a:off x="5929200" y="4572000"/>
            <a:ext cx="27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39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428760" y="357120"/>
            <a:ext cx="82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этой молодице прячутся девиц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ая сестрица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меньшей тем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ые щечки, пестрые платоч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пают в ладоши веселые (матрешки)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3" descr="matrezka.jpg"/>
          <p:cNvPicPr/>
          <p:nvPr/>
        </p:nvPicPr>
        <p:blipFill>
          <a:blip r:embed="rId2"/>
          <a:stretch/>
        </p:blipFill>
        <p:spPr>
          <a:xfrm>
            <a:off x="428760" y="3000240"/>
            <a:ext cx="364320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39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2"/>
          <p:cNvSpPr/>
          <p:nvPr/>
        </p:nvSpPr>
        <p:spPr>
          <a:xfrm>
            <a:off x="285840" y="357120"/>
            <a:ext cx="657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юблю тебя моя Ро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й задумчивую гру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лю все то, что назыв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м широким словом «РУС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3" descr="461s.jpg"/>
          <p:cNvPicPr/>
          <p:nvPr/>
        </p:nvPicPr>
        <p:blipFill>
          <a:blip r:embed="rId2"/>
          <a:stretch/>
        </p:blipFill>
        <p:spPr>
          <a:xfrm>
            <a:off x="500040" y="2571840"/>
            <a:ext cx="79297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39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2"/>
          <p:cNvSpPr/>
          <p:nvPr/>
        </p:nvSpPr>
        <p:spPr>
          <a:xfrm>
            <a:off x="500040" y="4357800"/>
            <a:ext cx="8358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чется надеяться, что заложенные в детях все эти  знания, умения, навыки, накопленные русским народом веками, помогут стать нашим детям хорошими, мудрыми людьми с доброй душ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071720" y="357120"/>
            <a:ext cx="757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8T16:31:33Z</dcterms:created>
  <dc:creator>user</dc:creator>
  <dc:description/>
  <dc:language>en-US</dc:language>
  <cp:lastModifiedBy>МБДОУ детский сад № 10 "Теремок п.Головкино</cp:lastModifiedBy>
  <dcterms:modified xsi:type="dcterms:W3CDTF">2020-08-19T14:51:31Z</dcterms:modified>
  <cp:revision>35</cp:revision>
  <dc:subject/>
  <dc:title>Слайд 1</dc:title>
</cp:coreProperties>
</file>