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C4F-C7C0-4CC9-8B30-E821EBF1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7D0-952D-4833-91C0-01839C2B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3E9-44B3-47AD-978D-AC6F84AA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12D-69AB-42EB-A0CE-0B288055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C26-BD76-4B73-A866-06951F66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33DA-62C9-4FC6-A542-329B7AEE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BD14-C4CE-4E4F-B55F-FEAA3127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9826-FD68-4BF8-BDC5-6B5C3ED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E01-CFA5-45CF-8BF3-3ACFB3B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E10-442E-4BFB-85E4-559E026D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2DE-A836-4EF7-9A18-3C75629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130-27FA-4CFB-B191-5287D96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DC78-B806-4FFF-9475-F99F1BA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ED99-53A4-4519-BE31-7C63C01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D24C-7A52-4F09-808D-A86B8837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CDF-DCF4-40E7-B025-AD8FC0FB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5DC-D271-4572-ADF1-BCAB9DB4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BC4-E339-47A6-9CB4-B7CA3C7D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B5E-02BF-477B-A2D4-CF22909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DEF-29BB-44E9-9161-527EDF3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D91-1A3C-46C5-835F-0637FEE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E8B-AC61-4B4B-A7DB-AD07264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AE7-E052-4A39-B9DA-2C1DC68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2AC-6C66-4D4A-8B19-02DF6D86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43E2-952C-4259-83C5-663862FB8D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FC2B-82EB-45DA-BB30-5895638A32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Здоровый образ </a:t>
            </a:r>
            <a:br>
              <a:rPr sz="6000"/>
            </a:b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жизн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6520" y="115560"/>
            <a:ext cx="3670200" cy="695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Физкульту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9" descr=""/>
          <p:cNvPicPr/>
          <p:nvPr/>
        </p:nvPicPr>
        <p:blipFill>
          <a:blip r:embed="rId1"/>
          <a:stretch/>
        </p:blipFill>
        <p:spPr>
          <a:xfrm>
            <a:off x="2916360" y="4532400"/>
            <a:ext cx="2952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960" y="361440"/>
            <a:ext cx="366876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ff"/>
                </a:solidFill>
                <a:latin typeface="Times New Roman"/>
              </a:rPr>
              <a:t>Закал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"/>
          <p:cNvPicPr/>
          <p:nvPr/>
        </p:nvPicPr>
        <p:blipFill>
          <a:blip r:embed="rId1"/>
          <a:stretch/>
        </p:blipFill>
        <p:spPr>
          <a:xfrm>
            <a:off x="5292720" y="2495520"/>
            <a:ext cx="32418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af458"/>
                </a:solidFill>
                <a:latin typeface="Times New Roman"/>
              </a:rPr>
              <a:t>Правильное пит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Рисунок 8" descr="img-d8c3a"/>
          <p:cNvPicPr/>
          <p:nvPr/>
        </p:nvPicPr>
        <p:blipFill>
          <a:blip r:embed="rId1"/>
          <a:stretch/>
        </p:blipFill>
        <p:spPr>
          <a:xfrm>
            <a:off x="1258920" y="162864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fasol"/>
          <p:cNvPicPr/>
          <p:nvPr/>
        </p:nvPicPr>
        <p:blipFill>
          <a:blip r:embed="rId2"/>
          <a:stretch/>
        </p:blipFill>
        <p:spPr>
          <a:xfrm>
            <a:off x="5364000" y="1628640"/>
            <a:ext cx="280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banan"/>
          <p:cNvPicPr/>
          <p:nvPr/>
        </p:nvPicPr>
        <p:blipFill>
          <a:blip r:embed="rId3"/>
          <a:stretch/>
        </p:blipFill>
        <p:spPr>
          <a:xfrm>
            <a:off x="3203640" y="4076640"/>
            <a:ext cx="2952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онятие здоровья и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важнейш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человека, определяющая способность его к труду и обеспечивающая гармоническое развитие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является важнейшей предпосылкой к счасть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. 9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4" descr="CAW5U34P"/>
          <p:cNvPicPr/>
          <p:nvPr/>
        </p:nvPicPr>
        <p:blipFill>
          <a:blip r:embed="rId1"/>
          <a:stretch/>
        </p:blipFill>
        <p:spPr>
          <a:xfrm>
            <a:off x="611280" y="1916280"/>
            <a:ext cx="1519200" cy="1519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6" descr="m-zhir"/>
          <p:cNvPicPr/>
          <p:nvPr/>
        </p:nvPicPr>
        <p:blipFill>
          <a:blip r:embed="rId2"/>
          <a:stretch/>
        </p:blipFill>
        <p:spPr>
          <a:xfrm>
            <a:off x="6732720" y="19162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9" descr="img-d8c3a"/>
          <p:cNvPicPr/>
          <p:nvPr/>
        </p:nvPicPr>
        <p:blipFill>
          <a:blip r:embed="rId3"/>
          <a:stretch/>
        </p:blipFill>
        <p:spPr>
          <a:xfrm>
            <a:off x="611280" y="4869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ff"/>
                </a:solidFill>
                <a:latin typeface="Times New Roman"/>
              </a:rPr>
              <a:t>Резервы здоровь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Organization Chart 6"/>
          <p:cNvGrpSpPr/>
          <p:nvPr/>
        </p:nvGrpSpPr>
        <p:grpSpPr>
          <a:xfrm>
            <a:off x="322560" y="1628640"/>
            <a:ext cx="8496720" cy="4404240"/>
            <a:chOff x="322560" y="1628640"/>
            <a:chExt cx="8496720" cy="440424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415840" y="2257560"/>
              <a:ext cx="1082160" cy="284436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976200" y="3661560"/>
              <a:ext cx="1082160" cy="36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53480" y="2239560"/>
              <a:ext cx="1082160" cy="2880720"/>
            </a:xfrm>
            <a:prstGeom prst="bentConnector3">
              <a:avLst>
                <a:gd name="adj1" fmla="val 105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2482920" y="1628640"/>
              <a:ext cx="4107240" cy="1510560"/>
            </a:xfrm>
            <a:prstGeom prst="roundRect">
              <a:avLst>
                <a:gd name="adj" fmla="val 16667"/>
              </a:avLst>
            </a:prstGeom>
            <a:solidFill>
              <a:srgbClr val="31c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50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стема функциональ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ов орган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322560" y="4221000"/>
              <a:ext cx="2664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иохи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реакции обмена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03280" y="4221000"/>
              <a:ext cx="259200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сихические резервы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5938920" y="4221000"/>
              <a:ext cx="2880360" cy="181188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зиолог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ер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на</a:t>
              </a:r>
              <a:r>
                <a:rPr b="0" lang="en-US" sz="1800" spc="-1" strike="noStrike">
                  <a:solidFill>
                    <a:srgbClr val="0af45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ровне клеток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ганов, систем органо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агубные привычки вредящие нашему здоровью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Рисунок 6" descr="аленка"/>
          <p:cNvPicPr/>
          <p:nvPr/>
        </p:nvPicPr>
        <p:blipFill>
          <a:blip r:embed="rId1"/>
          <a:stretch/>
        </p:blipFill>
        <p:spPr>
          <a:xfrm>
            <a:off x="2806560" y="2060640"/>
            <a:ext cx="32022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бъект WordArt 19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Прямоуг. 28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0" descr="no_smoking_j2"/>
          <p:cNvPicPr/>
          <p:nvPr/>
        </p:nvPicPr>
        <p:blipFill>
          <a:blip r:embed="rId1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ъект WordArt 7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Рисунок 9" descr="60c473449a9492364b5cb066d44da1d1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0" descr=""/>
          <p:cNvPicPr/>
          <p:nvPr/>
        </p:nvPicPr>
        <p:blipFill>
          <a:blip r:embed="rId1"/>
          <a:stretch/>
        </p:blipFill>
        <p:spPr>
          <a:xfrm>
            <a:off x="5221440" y="2062080"/>
            <a:ext cx="3454200" cy="359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6" name="Объект WordArt 35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10800000">
            <a:off x="4876200" y="1530000"/>
            <a:ext cx="380988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0179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ъект WordArt 7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Рисунок 17" descr="CA7U2X7F"/>
          <p:cNvPicPr/>
          <p:nvPr/>
        </p:nvPicPr>
        <p:blipFill>
          <a:blip r:embed="rId1"/>
          <a:stretch/>
        </p:blipFill>
        <p:spPr>
          <a:xfrm>
            <a:off x="6227640" y="2781360"/>
            <a:ext cx="2052720" cy="1827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. 18"/>
          <p:cNvSpPr/>
          <p:nvPr/>
        </p:nvSpPr>
        <p:spPr>
          <a:xfrm>
            <a:off x="971640" y="4581360"/>
            <a:ext cx="48956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Times New Roman"/>
              </a:rPr>
              <a:t>Гигиена</a:t>
            </a:r>
            <a:br>
              <a:rPr sz="6000"/>
            </a:b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а детей и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а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3" descr="ph10_rd6"/>
          <p:cNvPicPr/>
          <p:nvPr/>
        </p:nvPicPr>
        <p:blipFill>
          <a:blip r:embed="rId1"/>
          <a:stretch/>
        </p:blipFill>
        <p:spPr>
          <a:xfrm>
            <a:off x="5076720" y="1916280"/>
            <a:ext cx="2860920" cy="19065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4" descr="ph02_general_rd6"/>
          <p:cNvPicPr/>
          <p:nvPr/>
        </p:nvPicPr>
        <p:blipFill>
          <a:blip r:embed="rId2"/>
          <a:stretch/>
        </p:blipFill>
        <p:spPr>
          <a:xfrm>
            <a:off x="5076720" y="411804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Admin</cp:lastModifiedBy>
  <dcterms:modified xsi:type="dcterms:W3CDTF">2010-10-18T17:55:53Z</dcterms:modified>
  <cp:revision>11</cp:revision>
  <dc:subject/>
  <dc:title>Здоровый образ  жизни</dc:title>
</cp:coreProperties>
</file>