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8C0-0EFB-4D5B-B864-758E7530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317-DA78-40C4-B01B-FFCB4028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1F9-BBAE-4C6D-A8F5-B979AAE5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716-131B-4F0E-BAA3-A47FDA4F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0D36-E179-46E1-833F-011C83D8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0A3-D32B-4E69-87DB-28519A34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4C56-25EC-4980-8CDF-09AE26EA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E4B1-23F3-4311-B5F5-DC2D08D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D088-89BF-4831-A13B-F6F4C8B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C3DB-9673-444F-BBD2-72F0F98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1607-F397-4783-97A2-89A2C20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B6D-52A9-4C0D-9DC8-818A3F6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52F4-4DF8-46FC-962A-3DD8A7E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105F-231F-4413-AB4E-4ADC8AF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2E61-732B-49BA-870C-C6D6CB5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B99-1757-4CDD-9E8F-F094E888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ED00-C31B-425A-AE12-9B0D4953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C75-130F-41BF-8387-F3B0CA66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0E1-1D91-4575-BD01-9C936D76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E95-9B67-4B41-B254-C52BD96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4F3-3BC0-4448-909B-2B7F6F5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EFE-2EF3-41F3-B0E3-BD0B129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217-6813-4CCB-ABF6-B38A0D2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1EC-4A91-43FB-AF88-7C26CCE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206-D59D-4293-8DB8-7B9462FB33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B7D-7D9D-4DFB-AC50-77E28D4191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Здоровый образ </a:t>
            </a:r>
            <a:br>
              <a:rPr sz="6000"/>
            </a:b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жизн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6520" y="115560"/>
            <a:ext cx="3670200" cy="695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Физкульту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9" descr=""/>
          <p:cNvPicPr/>
          <p:nvPr/>
        </p:nvPicPr>
        <p:blipFill>
          <a:blip r:embed="rId1"/>
          <a:stretch/>
        </p:blipFill>
        <p:spPr>
          <a:xfrm>
            <a:off x="2916360" y="453240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960" y="361440"/>
            <a:ext cx="366876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ff"/>
                </a:solidFill>
                <a:latin typeface="Times New Roman"/>
              </a:rPr>
              <a:t>Закал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"/>
          <p:cNvPicPr/>
          <p:nvPr/>
        </p:nvPicPr>
        <p:blipFill>
          <a:blip r:embed="rId1"/>
          <a:stretch/>
        </p:blipFill>
        <p:spPr>
          <a:xfrm>
            <a:off x="5292720" y="2495520"/>
            <a:ext cx="32418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af458"/>
                </a:solidFill>
                <a:latin typeface="Times New Roman"/>
              </a:rPr>
              <a:t>Правильное п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Рисунок 8" descr="img-d8c3a"/>
          <p:cNvPicPr/>
          <p:nvPr/>
        </p:nvPicPr>
        <p:blipFill>
          <a:blip r:embed="rId1"/>
          <a:stretch/>
        </p:blipFill>
        <p:spPr>
          <a:xfrm>
            <a:off x="1258920" y="162864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fasol"/>
          <p:cNvPicPr/>
          <p:nvPr/>
        </p:nvPicPr>
        <p:blipFill>
          <a:blip r:embed="rId2"/>
          <a:stretch/>
        </p:blipFill>
        <p:spPr>
          <a:xfrm>
            <a:off x="5364000" y="1628640"/>
            <a:ext cx="280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banan"/>
          <p:cNvPicPr/>
          <p:nvPr/>
        </p:nvPicPr>
        <p:blipFill>
          <a:blip r:embed="rId3"/>
          <a:stretch/>
        </p:blipFill>
        <p:spPr>
          <a:xfrm>
            <a:off x="3203640" y="4076640"/>
            <a:ext cx="2952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важней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4" descr="CAW5U34P"/>
          <p:cNvPicPr/>
          <p:nvPr/>
        </p:nvPicPr>
        <p:blipFill>
          <a:blip r:embed="rId1"/>
          <a:stretch/>
        </p:blipFill>
        <p:spPr>
          <a:xfrm>
            <a:off x="611280" y="191628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6" descr="m-zhir"/>
          <p:cNvPicPr/>
          <p:nvPr/>
        </p:nvPicPr>
        <p:blipFill>
          <a:blip r:embed="rId2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9" descr="img-d8c3a"/>
          <p:cNvPicPr/>
          <p:nvPr/>
        </p:nvPicPr>
        <p:blipFill>
          <a:blip r:embed="rId3"/>
          <a:stretch/>
        </p:blipFill>
        <p:spPr>
          <a:xfrm>
            <a:off x="611280" y="4869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ff"/>
                </a:solidFill>
                <a:latin typeface="Times New Roman"/>
              </a:rPr>
              <a:t>Резервы здоровь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Organization Chart 6"/>
          <p:cNvGrpSpPr/>
          <p:nvPr/>
        </p:nvGrpSpPr>
        <p:grpSpPr>
          <a:xfrm>
            <a:off x="322560" y="1628640"/>
            <a:ext cx="8496720" cy="4404240"/>
            <a:chOff x="322560" y="1628640"/>
            <a:chExt cx="8496720" cy="440424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415840" y="2257560"/>
              <a:ext cx="1082160" cy="284436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976200" y="3661560"/>
              <a:ext cx="1082160" cy="36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53480" y="2239560"/>
              <a:ext cx="1082160" cy="2880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2482920" y="16286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322560" y="4221000"/>
              <a:ext cx="2664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03280" y="4221000"/>
              <a:ext cx="2592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5938920" y="4221000"/>
              <a:ext cx="288036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Рисунок 6" descr="аленка"/>
          <p:cNvPicPr/>
          <p:nvPr/>
        </p:nvPicPr>
        <p:blipFill>
          <a:blip r:embed="rId1"/>
          <a:stretch/>
        </p:blipFill>
        <p:spPr>
          <a:xfrm>
            <a:off x="2806560" y="2060640"/>
            <a:ext cx="32022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0" descr="no_smoking_j2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0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6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10800000">
            <a:off x="4876200" y="1530000"/>
            <a:ext cx="38098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Рисунок 17" descr="CA7U2X7F"/>
          <p:cNvPicPr/>
          <p:nvPr/>
        </p:nvPicPr>
        <p:blipFill>
          <a:blip r:embed="rId1"/>
          <a:stretch/>
        </p:blipFill>
        <p:spPr>
          <a:xfrm>
            <a:off x="6227640" y="2781360"/>
            <a:ext cx="2052720" cy="1827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. 18"/>
          <p:cNvSpPr/>
          <p:nvPr/>
        </p:nvSpPr>
        <p:spPr>
          <a:xfrm>
            <a:off x="971640" y="4581360"/>
            <a:ext cx="48956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</a:rPr>
              <a:t>Гигиена</a:t>
            </a:r>
            <a:br>
              <a:rPr sz="6000"/>
            </a:b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3" descr="ph10_rd6"/>
          <p:cNvPicPr/>
          <p:nvPr/>
        </p:nvPicPr>
        <p:blipFill>
          <a:blip r:embed="rId1"/>
          <a:stretch/>
        </p:blipFill>
        <p:spPr>
          <a:xfrm>
            <a:off x="5076720" y="1916280"/>
            <a:ext cx="2860920" cy="19065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4" descr="ph02_general_rd6"/>
          <p:cNvPicPr/>
          <p:nvPr/>
        </p:nvPicPr>
        <p:blipFill>
          <a:blip r:embed="rId2"/>
          <a:stretch/>
        </p:blipFill>
        <p:spPr>
          <a:xfrm>
            <a:off x="5076720" y="41180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Admin</cp:lastModifiedBy>
  <dcterms:modified xsi:type="dcterms:W3CDTF">2010-10-18T17:55:53Z</dcterms:modified>
  <cp:revision>11</cp:revision>
  <dc:subject/>
  <dc:title>Здоровый образ  жизни</dc:title>
</cp:coreProperties>
</file>