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DDD-09E8-4175-B1F3-E23DDB55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B39-6B7A-4F08-8903-78C8EDF1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B44-EE5F-48DD-AE78-D16EF06B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119-44B3-4565-9FD0-FF18BAB7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37BE-1A0E-4720-859D-6E85C021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741B-1E2A-41AB-B74B-E7AEBC61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F21A-E3FA-4CB0-94A9-3AD015AC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93A7-0473-48B4-A1CF-5D02ED9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8C60-EBFB-497D-9865-F0F01669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8757-50BB-4B5C-8AD9-1A62D295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1D40-DA25-4032-8FEB-B75BEAD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243-F01D-4E87-B145-BCD57EDB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BA89-4221-4002-9401-B66FED2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B3D2-6EA4-4334-8DAD-C9B70EA0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4506-31B8-451B-B19F-27B80549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0858-94B7-4E8F-A30F-804EAB74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3534-87E2-44A3-91A6-A0530D6E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0C3B-1148-4ECA-985C-1B7C4BC6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B0A7-4127-45DD-A43C-7DE44DB7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7926-6E86-4469-8B79-405421F9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5E53-143B-4BAF-B905-F2523E7D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EC58B-CB37-41C0-971A-33E3A504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A7A-893F-4EA5-98C3-0A5D9F06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5224-5AF9-404E-B9F3-44D71666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9458-C43E-4497-9F9C-92B76F89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1FD1-2BF6-471C-8382-EAEEE386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D419-29FB-43CD-8BB2-AC03B8AD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FEDC-D68B-4F00-B694-FAE49C89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7400-84C6-4B03-BDE5-0801F58B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5E3D-B2E2-41F9-8B38-2549805D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3BF-AD65-4BCF-9C9B-800E500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D29-548B-402D-9FC5-2CF7E7F4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0ED-14DB-4FF4-9AE0-B2D86C2E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899-8AC1-4D49-B821-13FD513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8AB-60C7-41DE-B696-25DACC5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937-EC42-48F4-9145-651EEE8C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DC9D94-CC06-4E87-B457-F6044CD2F410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FF223C1-8C9C-427D-805D-8DB78F6913BA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CACA46-9678-462A-8497-6497CD30F2EE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body"/>
          </p:nvPr>
        </p:nvSpPr>
        <p:spPr>
          <a:xfrm>
            <a:off x="464508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"/>
          </a:bodyPr>
          <a:p>
            <a:pPr indent="0" algn="r">
              <a:lnSpc>
                <a:spcPct val="100000"/>
              </a:lnSpc>
              <a:buNone/>
            </a:pP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5300"/>
            </a:br>
            <a:br>
              <a:rPr sz="4600"/>
            </a:br>
            <a:br>
              <a:rPr sz="4600"/>
            </a:br>
            <a:br>
              <a:rPr sz="10700"/>
            </a:b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251640" y="188640"/>
            <a:ext cx="8136720" cy="11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ПРОЕКТ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«В гостях  у  сказки» 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10700"/>
            </a:br>
            <a:br>
              <a:rPr sz="10700"/>
            </a:br>
            <a:br>
              <a:rPr sz="10700"/>
            </a:br>
            <a:r>
              <a:rPr b="1" lang="ru-RU" sz="107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0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743200" y="3403440"/>
            <a:ext cx="5644800" cy="2833200"/>
          </a:xfrm>
          <a:prstGeom prst="rect">
            <a:avLst/>
          </a:prstGeom>
          <a:ln w="0">
            <a:noFill/>
          </a:ln>
        </p:spPr>
      </p:pic>
      <p:sp>
        <p:nvSpPr>
          <p:cNvPr id="139" name="Picture 4"/>
          <p:cNvSpPr/>
          <p:nvPr/>
        </p:nvSpPr>
        <p:spPr>
          <a:xfrm>
            <a:off x="1547640" y="2781000"/>
            <a:ext cx="6504120" cy="3744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436000" y="5157360"/>
            <a:ext cx="3384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едняя группа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тели: Курочкина Татьяна Ивановна, Самарцева Светлана Александ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700640"/>
            <a:ext cx="8305560" cy="479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ведение утренней гимнастики, занятий по физическому воспитанию, прогулок с элементами игр из сказ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- Подвижные игры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Гуси – лебеди», «Два мороза», «У медведя во бору», «Палочка выручалочка», «Хитрая лиса», «Рыбак и рыбки», «Дети и волк», «Зайцы и медведь», «Волки и ягнята», «Ванюша и лебеди», «Волк и поросята».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23640" y="-742320"/>
            <a:ext cx="849672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ФИЗИЧЕСКОЕ РАЗВИТИЕ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30556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ЗНАНИЕ 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Самостоятельное создание проекта группой детей по инсценировке сказ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Использование сказочности и сказочных персонажей в формировании элементарных математических понятий, в математических дидактических играх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- Использование волшебства в познании окружающего мира (вопросы, создание проблемы) 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Дидактические игры «Отгадай сказку», «Из какой сказки герой? », «Чей костюм», «Кто и из какой сказки использовал данный предмет? », «Произнеси слова персонажа», «Вспомни слова героя».</a:t>
            </a:r>
            <a:br>
              <a:rPr sz="20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8640"/>
            <a:ext cx="83055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ТРУДОВОЕ ОБУЧЕ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- Подготовка атрибутов и декораций к спектаклям (эстетический вид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УЧНОЙ ТРУД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елки из природного материал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2098800" y="260640"/>
            <a:ext cx="5022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427320" y="261000"/>
            <a:ext cx="853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ХУДОЖЕСТВЕННО – ЭСТЕТИЧЕСК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214200" y="142920"/>
            <a:ext cx="85338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удожественное творчест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Рисование героев сказок «Колобок», Снегурочка», «Курочка Ряба»; сюжетное рисование «Три медвед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Лепка героев и сюжетов сказок «Заюшкина избушка», «Маша и медведь», «Колоб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Аппликации к сказкам «Заюшкина избушка»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Самостоятельное детское творч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8" descr="IMG_20190311_160421.jpg"/>
          <p:cNvPicPr/>
          <p:nvPr/>
        </p:nvPicPr>
        <p:blipFill>
          <a:blip r:embed="rId1"/>
          <a:stretch/>
        </p:blipFill>
        <p:spPr>
          <a:xfrm>
            <a:off x="0" y="2205000"/>
            <a:ext cx="2571480" cy="3428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9" descr="IMG_20190311_160450.jpg"/>
          <p:cNvPicPr/>
          <p:nvPr/>
        </p:nvPicPr>
        <p:blipFill>
          <a:blip r:embed="rId2"/>
          <a:stretch/>
        </p:blipFill>
        <p:spPr>
          <a:xfrm rot="16441800">
            <a:off x="6381360" y="2142360"/>
            <a:ext cx="2301480" cy="30686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0" descr="IMG_20190311_160441.jpg"/>
          <p:cNvPicPr/>
          <p:nvPr/>
        </p:nvPicPr>
        <p:blipFill>
          <a:blip r:embed="rId3"/>
          <a:stretch/>
        </p:blipFill>
        <p:spPr>
          <a:xfrm rot="16200000">
            <a:off x="3191040" y="3920760"/>
            <a:ext cx="2517480" cy="33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32640"/>
            <a:ext cx="86864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8400" indent="-2484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Социально –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ммуникативное развитие 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Рассказ по памяти.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1000080"/>
            <a:ext cx="8631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ЕАТРАЛИЗОВАННАЯ ДЕЯТЕЛЬНОСТЬ:</a:t>
            </a:r>
            <a:br>
              <a:rPr sz="4000"/>
            </a:b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- Инсценировка сказки: «Зайкина избушка»</a:t>
            </a:r>
            <a:br>
              <a:rPr sz="3100"/>
            </a:br>
            <a:br>
              <a:rPr sz="4600"/>
            </a:br>
            <a:endParaRPr b="0" lang="ru-RU" sz="3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0" name="Рисунок 2" descr="IMG_20190321_152456.jpg"/>
          <p:cNvPicPr/>
          <p:nvPr/>
        </p:nvPicPr>
        <p:blipFill>
          <a:blip r:embed="rId1"/>
          <a:stretch/>
        </p:blipFill>
        <p:spPr>
          <a:xfrm>
            <a:off x="428760" y="2786040"/>
            <a:ext cx="3928680" cy="2946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IMG_20190321_152641.jpg"/>
          <p:cNvPicPr/>
          <p:nvPr/>
        </p:nvPicPr>
        <p:blipFill>
          <a:blip r:embed="rId2"/>
          <a:stretch/>
        </p:blipFill>
        <p:spPr>
          <a:xfrm>
            <a:off x="4429080" y="2786040"/>
            <a:ext cx="41428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640" y="548640"/>
            <a:ext cx="7693920" cy="49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Вывод  </a:t>
            </a:r>
            <a:endParaRPr b="0" lang="ru-RU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ambria"/>
              </a:rPr>
              <a:t>Использование сказок в познавательной деятельности помогает  эффективно решать проблему воспитания интереса к художественной литературе, развивать нравственно-эстетические чувства, формировать позицию гражданина, воспитывать волевые качества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305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73240" indent="-2732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Сказка – ложь, да в ней – намек, добрым молодцам урок. </a:t>
            </a: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А. С. Пушкин. 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75603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ЦЕЛЬ</a:t>
            </a:r>
            <a:endParaRPr b="0" lang="ru-RU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240" cy="41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onstantia"/>
              </a:rPr>
              <a:t>Приобщать детей к художественной литературе, формировать у них запас литературных художественных впечатлений, прививать интерес к театральной деятельности, раскрывать ценности совместного творчества детей и их родителей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ЗАДАЧИ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229240" cy="5643360"/>
          </a:xfrm>
          <a:prstGeom prst="rect">
            <a:avLst/>
          </a:prstGeom>
          <a:gradFill rotWithShape="0">
            <a:gsLst>
              <a:gs pos="28000">
                <a:srgbClr val="d2f7b5"/>
              </a:gs>
              <a:gs pos="100000">
                <a:srgbClr val="abe67c"/>
              </a:gs>
            </a:gsLst>
            <a:lin ang="5400000"/>
          </a:gradFill>
          <a:ln w="9360">
            <a:solidFill>
              <a:srgbClr val="a7ea52"/>
            </a:solidFill>
            <a:round/>
          </a:ln>
          <a:effectLst>
            <a:outerShdw dist="50760" dir="5400000" blurRad="63360" rotWithShape="0">
              <a:srgbClr val="000000">
                <a:alpha val="20000"/>
              </a:srgbClr>
            </a:outerShdw>
          </a:effectLst>
        </p:spPr>
        <p:txBody>
          <a:bodyPr anchor="t">
            <a:normAutofit fontScale="95000"/>
          </a:bodyPr>
          <a:p>
            <a:pPr marL="217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Знакомить с различными видами сказочных произведений, учить узнавать персонажи сказок, знать название и автора, пересказывать содержание, высказывать свое отношение к героям сказки;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Развивать творческую самостоятельность и эстетический вкус дошкольников в организации театрализованных игр, в создании и передаче образов, отчетливость произношения, традиции семейного чтения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Воспитывать партнерские отношения между детьми, коммуникативные качества, создавать радостный эмоциональный настрой, поощрять творческую инициативу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ГИПОТЕЗА</a:t>
            </a:r>
            <a:endParaRPr b="0" lang="ru-RU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62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казка обладает преимуществом над другими воспитательными приемами. Это своего рода нравственный кодекс народа, их героика – это хотя и воображаемые, но примеры истинного поведения честного человека, умеющего постоять за свое достоинство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казка играет важнейшую роль в развитии воображения – способности, без которой невозможна ни умственная деятельность ребенка в период дошкольного и школьного обучения, ни любая творческая деятельность взрослого. Сказки прививают интерес к чтению художественной литературы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640" y="33264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45160" indent="-2451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АКТУАЛЬНОСТЬ ТЕМ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484640"/>
            <a:ext cx="7128360" cy="43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17080" indent="0" algn="ctr">
              <a:lnSpc>
                <a:spcPct val="100000"/>
              </a:lnSpc>
              <a:spcBef>
                <a:spcPts val="51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Огромной любовью пользуется у детей сказка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 algn="ctr">
              <a:lnSpc>
                <a:spcPct val="100000"/>
              </a:lnSpc>
              <a:spcBef>
                <a:spcPts val="51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казка – древнейший жанр устного народного творчества. Она учит человека жить, вселяет в него оптимизм, веру в торжество добра и справедливости. За фантастикой и вымыслом скрываются реальные человеческие отношения. Отсюда и идет огромное воспитательное значение сказки. На сегодняшнем этапе жизни современного общества данная тема очень актуальна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ЕДПОЛАГАЕМЫЙ РЕЗУЛЬТАТ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77000"/>
            <a:ext cx="8229240" cy="42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ети должны: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проявлять любовь к сказкам и театральной деятельности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знать и называть прочитанные сказочные произведения, их авторов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уметь самостоятельно выбирать сказку, вживаться в свою роль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9200" indent="-2592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остоинства использования сказки в интегративной деятельности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3" name="Содержимое 3"/>
          <p:cNvGraphicFramePr/>
          <p:nvPr/>
        </p:nvGraphicFramePr>
        <p:xfrm>
          <a:off x="457200" y="2071800"/>
          <a:ext cx="8229240" cy="5347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Развитие лич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Развитие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зволяет самореализо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образ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оспитывает а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етафорич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сширяет словарный зап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риучает к самосто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связную, логическую, диалогическую ре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923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ает возможность найти общий язык со сверстниками и со взросл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силу голоса, тембр голоса, интонацию, выразитель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пособствует пробуждению творческих с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пособствует проявлению своей индивидуа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богащает впечатл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chemeClr val="dk1"/>
                        </a:solidFill>
                        <a:latin typeface="Constantia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зволяет накопить богатый жизненный оп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chemeClr val="dk1"/>
                        </a:solidFill>
                        <a:latin typeface="Constantia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30760" indent="-2307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держание  практической деятельности  по реализации  проекта: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642960" y="2571840"/>
            <a:ext cx="792936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ЦИАЛЬНОЕ  - КОММУНИКАТИВНОЕ РАЗВИТ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роведение сюжетно-ролевых, театрализованных, дидактических игр с элементами волшебств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омощь семьи, сотворчество детей и родителей в конкурсе рисунков «В гостях у сказки»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285</TotalTime>
  <Application>LibreOffice/7.4.7.2$Linux_X86_64 LibreOffice_project/40$Build-2</Application>
  <AppVersion>15.0000</AppVersion>
  <Words>163</Words>
  <Paragraphs>63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1:40:36Z</dcterms:created>
  <dc:creator>UserXP</dc:creator>
  <dc:description/>
  <dc:language>en-US</dc:language>
  <cp:lastModifiedBy>Боровичок</cp:lastModifiedBy>
  <dcterms:modified xsi:type="dcterms:W3CDTF">2019-03-21T09:24:27Z</dcterms:modified>
  <cp:revision>34</cp:revision>
  <dc:subject/>
  <dc:title>   Проект  «В гостях у сказ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