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B01-85F7-45C3-B101-F9D1A4CB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F595-A84A-4EBC-980F-D58CEFB3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4C36-73F4-4D3E-B1A2-48C1E40D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696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7128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3E02-5518-47CA-8658-3B57A68B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D14C-FDD3-4A80-AF75-3BAE8334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228C-C728-4FF5-8021-43766463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B821-0FAD-4D73-A37E-492098D7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FF9F-A012-4B9B-8B28-4BC5EF66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7A3E-CA11-4C0F-808B-4DD19702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93160" y="4372200"/>
            <a:ext cx="651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36C2-4621-4ACD-94FC-783EC2B1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22CA-7019-4A5A-B99F-80DCE9AD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EF55-E8A3-45DA-BF80-3016EDB5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3E2D-BA50-4CDC-ADC1-48F9BF3B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CDD2-4130-4E19-8EC3-16D42DE9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1A57-FEAF-4E64-AB00-55CCD7F8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13FF-4133-4F38-B99E-EE8A8A72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0696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47128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916C-C1B6-453D-A891-75EBE291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1A2B6-2F0F-45D0-9891-E1615591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26922-3E88-4B3C-902A-935692E3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F48A6-26B1-47DB-9DAA-89706E0D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9C5DF-3EF8-4D0E-8BB6-5EE01C0D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E236C-0AE8-4EBB-BDDC-A0FF4B97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B947-04FE-4A28-AE9A-28A4CD5B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793160" y="4372200"/>
            <a:ext cx="651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FD52A-0E07-4EF8-94BD-355C1416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77442-49F5-411F-805F-6117B7EA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FCC59-31DB-4D1D-BEBF-8FE80378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81FFD-0F57-4B9F-8B9E-27E23F9D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25FDA-7EAB-49BF-A38E-16BA09D8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F57F5-85E8-4EFF-A419-A4BE4E7E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0696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47128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B9E7E-D4FE-4427-89C3-B0604EFC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9397-FE6E-49C7-B690-1DA7FC0D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A4CB-0F7D-42A0-BAB2-DD0DE429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3160" y="4372200"/>
            <a:ext cx="651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5E7D-48F6-40A3-BA97-020E6C90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81A1-40F5-4D79-B930-F66091E3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DC2D-814C-4F14-B7EA-D7FA4CDC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C8AE-AA51-482C-A6CC-AE7850B1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3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63E77D5-D42B-452E-8C0B-11EAA4CBFAD1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8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54E0645-FC9C-4725-96A9-21225B0FF537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4" marL="1389960" indent="-18288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dt" idx="7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8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21976B2-2812-47E4-9A95-C1FA72DF505A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4" marL="1389960" indent="-18288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body"/>
          </p:nvPr>
        </p:nvSpPr>
        <p:spPr>
          <a:xfrm>
            <a:off x="464508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4" marL="1389960" indent="-18288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"/>
          </a:bodyPr>
          <a:p>
            <a:pPr indent="0" algn="r">
              <a:lnSpc>
                <a:spcPct val="100000"/>
              </a:lnSpc>
              <a:buNone/>
            </a:pP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5300"/>
            </a:br>
            <a:br>
              <a:rPr sz="4600"/>
            </a:br>
            <a:br>
              <a:rPr sz="4600"/>
            </a:br>
            <a:br>
              <a:rPr sz="10700"/>
            </a:b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251640" y="188640"/>
            <a:ext cx="8136720" cy="11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ПРОЕКТ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«В гостях  у  сказки» 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10700"/>
            </a:br>
            <a:br>
              <a:rPr sz="10700"/>
            </a:br>
            <a:br>
              <a:rPr sz="10700"/>
            </a:br>
            <a:r>
              <a:rPr b="1" lang="ru-RU" sz="107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0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743200" y="3403440"/>
            <a:ext cx="5644800" cy="2833200"/>
          </a:xfrm>
          <a:prstGeom prst="rect">
            <a:avLst/>
          </a:prstGeom>
          <a:ln w="0">
            <a:noFill/>
          </a:ln>
        </p:spPr>
      </p:pic>
      <p:sp>
        <p:nvSpPr>
          <p:cNvPr id="139" name="Picture 4"/>
          <p:cNvSpPr/>
          <p:nvPr/>
        </p:nvSpPr>
        <p:spPr>
          <a:xfrm>
            <a:off x="1547640" y="2781000"/>
            <a:ext cx="6504120" cy="3744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5436000" y="5157360"/>
            <a:ext cx="33840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редняя группа «Солныш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оспитатели: Курочкина Татьяна Ивановна, Самарцева Светлана Александр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700640"/>
            <a:ext cx="8305560" cy="479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оведение утренней гимнастики, занятий по физическому воспитанию, прогулок с элементами игр из сказок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- Подвижные игры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«Гуси – лебеди», «Два мороза», «У медведя во бору», «Палочка выручалочка», «Хитрая лиса», «Рыбак и рыбки», «Дети и волк», «Зайцы и медведь», «Волки и ягнята», «Ванюша и лебеди», «Волк и поросята».</a:t>
            </a:r>
            <a:br>
              <a:rPr sz="2000"/>
            </a:br>
            <a:br>
              <a:rPr sz="20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323640" y="-742320"/>
            <a:ext cx="849672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ФИЗИЧЕСКОЕ РАЗВИТИЕ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305560" cy="59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ПОЗНАНИЕ :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- Самостоятельное создание проекта группой детей по инсценировке сказок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- Использование сказочности и сказочных персонажей в формировании элементарных математических понятий, в математических дидактических играх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- Использование волшебства в познании окружающего мира (вопросы, создание проблемы) 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- Дидактические игры «Отгадай сказку», «Из какой сказки герой? », «Чей костюм», «Кто и из какой сказки использовал данный предмет? », «Произнеси слова персонажа», «Вспомни слова героя».</a:t>
            </a:r>
            <a:br>
              <a:rPr sz="20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08640"/>
            <a:ext cx="83055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ТРУДОВОЕ ОБУЧЕНИЕ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- Подготовка атрибутов и декораций к спектаклям (эстетический вид)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РУЧНОЙ ТРУД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оделки из природного материал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2098800" y="260640"/>
            <a:ext cx="50220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427320" y="261000"/>
            <a:ext cx="8531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ХУДОЖЕСТВЕННО – ЭСТЕТИЧЕСКОЕ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5400"/>
            </a:b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Прямоугольник 5"/>
          <p:cNvSpPr/>
          <p:nvPr/>
        </p:nvSpPr>
        <p:spPr>
          <a:xfrm>
            <a:off x="214200" y="142920"/>
            <a:ext cx="853380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Художественное творчеств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Рисование героев сказок «Колобок», Снегурочка», «Курочка Ряба»; сюжетное рисование «Три медвед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Лепка героев и сюжетов сказок «Заюшкина избушка», «Маша и медведь», «Колоб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Аппликации к сказкам «Заюшкина избушка»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Самостоятельное детское творче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8" descr="IMG_20190311_160421.jpg"/>
          <p:cNvPicPr/>
          <p:nvPr/>
        </p:nvPicPr>
        <p:blipFill>
          <a:blip r:embed="rId1"/>
          <a:stretch/>
        </p:blipFill>
        <p:spPr>
          <a:xfrm>
            <a:off x="0" y="2205000"/>
            <a:ext cx="2571480" cy="342864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9" descr="IMG_20190311_160450.jpg"/>
          <p:cNvPicPr/>
          <p:nvPr/>
        </p:nvPicPr>
        <p:blipFill>
          <a:blip r:embed="rId2"/>
          <a:stretch/>
        </p:blipFill>
        <p:spPr>
          <a:xfrm rot="16441800">
            <a:off x="6381360" y="2142360"/>
            <a:ext cx="2301480" cy="30686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0" descr="IMG_20190311_160441.jpg"/>
          <p:cNvPicPr/>
          <p:nvPr/>
        </p:nvPicPr>
        <p:blipFill>
          <a:blip r:embed="rId3"/>
          <a:stretch/>
        </p:blipFill>
        <p:spPr>
          <a:xfrm rot="16200000">
            <a:off x="3191040" y="3920760"/>
            <a:ext cx="2517480" cy="335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332640"/>
            <a:ext cx="868644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8400" indent="-24840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600" spc="-1" strike="noStrike">
                <a:solidFill>
                  <a:srgbClr val="000000"/>
                </a:solidFill>
                <a:latin typeface="Monotype Corsiva"/>
              </a:rPr>
              <a:t>Социально –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оммуникативное развитие :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rebuchet MS"/>
              </a:rPr>
              <a:t>Рассказ по памяти. 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rebuchet MS"/>
              </a:rPr>
              <a:t>	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ru-RU" sz="2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7120" y="1000080"/>
            <a:ext cx="8631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ТЕАТРАЛИЗОВАННАЯ ДЕЯТЕЛЬНОСТЬ:</a:t>
            </a:r>
            <a:br>
              <a:rPr sz="4000"/>
            </a:br>
            <a:r>
              <a:rPr b="1" lang="ru-RU" sz="4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100" spc="-1" strike="noStrike">
                <a:solidFill>
                  <a:srgbClr val="000000"/>
                </a:solidFill>
                <a:latin typeface="Constantia"/>
              </a:rPr>
              <a:t>- Инсценировка сказки: «Зайкина избушка»</a:t>
            </a:r>
            <a:br>
              <a:rPr sz="3100"/>
            </a:br>
            <a:br>
              <a:rPr sz="4600"/>
            </a:br>
            <a:endParaRPr b="0" lang="ru-RU" sz="3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0" name="Рисунок 2" descr="IMG_20190321_152456.jpg"/>
          <p:cNvPicPr/>
          <p:nvPr/>
        </p:nvPicPr>
        <p:blipFill>
          <a:blip r:embed="rId1"/>
          <a:stretch/>
        </p:blipFill>
        <p:spPr>
          <a:xfrm>
            <a:off x="428760" y="2786040"/>
            <a:ext cx="3928680" cy="29466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3" descr="IMG_20190321_152641.jpg"/>
          <p:cNvPicPr/>
          <p:nvPr/>
        </p:nvPicPr>
        <p:blipFill>
          <a:blip r:embed="rId2"/>
          <a:stretch/>
        </p:blipFill>
        <p:spPr>
          <a:xfrm>
            <a:off x="4429080" y="2786040"/>
            <a:ext cx="414288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640" y="548640"/>
            <a:ext cx="7693920" cy="496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8800" spc="-1" strike="noStrike">
                <a:solidFill>
                  <a:srgbClr val="000000"/>
                </a:solidFill>
                <a:latin typeface="Monotype Corsiva"/>
              </a:rPr>
              <a:t>Вывод  </a:t>
            </a:r>
            <a:endParaRPr b="0" lang="ru-RU" sz="8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08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0" algn="ctr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ambria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Cambria"/>
              </a:rPr>
              <a:t>Использование сказок в познавательной деятельности помогает  эффективно решать проблему воспитания интереса к художественной литературе, развивать нравственно-эстетические чувства, формировать позицию гражданина, воспитывать волевые качества.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357200"/>
            <a:ext cx="83055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73240" indent="-2732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Сказка – ложь, да в ней – намек, добрым молодцам урок. </a:t>
            </a:r>
            <a:br>
              <a:rPr sz="7200"/>
            </a:b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А. С. Пушкин. </a:t>
            </a:r>
            <a:endParaRPr b="0" lang="ru-RU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548640"/>
            <a:ext cx="756036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8800" spc="-1" strike="noStrike">
                <a:solidFill>
                  <a:srgbClr val="000000"/>
                </a:solidFill>
                <a:latin typeface="Monotype Corsiva"/>
              </a:rPr>
              <a:t>ЦЕЛЬ</a:t>
            </a:r>
            <a:endParaRPr b="0" lang="ru-RU" sz="8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29240" cy="41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 Black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Constantia"/>
              </a:rPr>
              <a:t>Приобщать детей к художественной литературе, формировать у них запас литературных художественных впечатлений, прививать интерес к театральной деятельности, раскрывать ценности совместного творчества детей и их родителей. 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ЗАДАЧИ</a:t>
            </a:r>
            <a:endParaRPr b="0" lang="ru-RU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8760" y="1000080"/>
            <a:ext cx="8229240" cy="5643360"/>
          </a:xfrm>
          <a:prstGeom prst="rect">
            <a:avLst/>
          </a:prstGeom>
          <a:gradFill rotWithShape="0">
            <a:gsLst>
              <a:gs pos="28000">
                <a:srgbClr val="d2f7b5"/>
              </a:gs>
              <a:gs pos="100000">
                <a:srgbClr val="abe67c"/>
              </a:gs>
            </a:gsLst>
            <a:lin ang="5400000"/>
          </a:gradFill>
          <a:ln w="9360">
            <a:solidFill>
              <a:srgbClr val="a7ea52"/>
            </a:solidFill>
            <a:round/>
          </a:ln>
          <a:effectLst>
            <a:outerShdw dist="50760" dir="5400000" blurRad="63360" rotWithShape="0">
              <a:srgbClr val="000000">
                <a:alpha val="20000"/>
              </a:srgbClr>
            </a:outerShdw>
          </a:effectLst>
        </p:spPr>
        <p:txBody>
          <a:bodyPr anchor="t">
            <a:normAutofit fontScale="95000"/>
          </a:bodyPr>
          <a:p>
            <a:pPr marL="217080" indent="0" algn="ctr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. Знакомить с различными видами сказочных произведений, учить узнавать персонажи сказок, знать название и автора, пересказывать содержание, высказывать свое отношение к героям сказки;. 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 algn="ctr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2. Развивать творческую самостоятельность и эстетический вкус дошкольников в организации театрализованных игр, в создании и передаче образов, отчетливость произношения, традиции семейного чтения. 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 algn="ctr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3. Воспитывать партнерские отношения между детьми, коммуникативные качества, создавать радостный эмоциональный настрой, поощрять творческую инициативу. 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ГИПОТЕЗА</a:t>
            </a:r>
            <a:endParaRPr b="0" lang="ru-RU" sz="6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00640"/>
            <a:ext cx="8229240" cy="462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казка обладает преимуществом над другими воспитательными приемами. Это своего рода нравственный кодекс народа, их героика – это хотя и воображаемые, но примеры истинного поведения честного человека, умеющего постоять за свое достоинство.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казка играет важнейшую роль в развитии воображения – способности, без которой невозможна ни умственная деятельность ребенка в период дошкольного и школьного обучения, ни любая творческая деятельность взрослого. Сказки прививают интерес к чтению художественной литературы.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640" y="33264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45160" indent="-24516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АКТУАЛЬНОСТЬ ТЕМЫ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99640" y="1484640"/>
            <a:ext cx="7128360" cy="43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17080" indent="0" algn="ctr">
              <a:lnSpc>
                <a:spcPct val="100000"/>
              </a:lnSpc>
              <a:spcBef>
                <a:spcPts val="51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Огромной любовью пользуется у детей сказка. </a:t>
            </a:r>
            <a:endParaRPr b="0" lang="ru-RU" sz="26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 algn="ctr">
              <a:lnSpc>
                <a:spcPct val="100000"/>
              </a:lnSpc>
              <a:spcBef>
                <a:spcPts val="51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Сказка – древнейший жанр устного народного творчества. Она учит человека жить, вселяет в него оптимизм, веру в торжество добра и справедливости. За фантастикой и вымыслом скрываются реальные человеческие отношения. Отсюда и идет огромное воспитательное значение сказки. На сегодняшнем этапе жизни современного общества данная тема очень актуальна. </a:t>
            </a:r>
            <a:endParaRPr b="0" lang="ru-RU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7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ПРЕДПОЛАГАЕМЫЙ РЕЗУЛЬТАТ</a:t>
            </a:r>
            <a:endParaRPr b="0" lang="ru-RU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77000"/>
            <a:ext cx="8229240" cy="42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Дети должны: 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проявлять любовь к сказкам и театральной деятельности;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знать и называть прочитанные сказочные произведения, их авторов;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уметь самостоятельно выбирать сказку, вживаться в свою роль.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9200" indent="-25920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Достоинства использования сказки в интегративной деятельности</a:t>
            </a:r>
            <a:br>
              <a:rPr sz="4600"/>
            </a:b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53" name="Содержимое 3"/>
          <p:cNvGraphicFramePr/>
          <p:nvPr/>
        </p:nvGraphicFramePr>
        <p:xfrm>
          <a:off x="457200" y="2071800"/>
          <a:ext cx="8229240" cy="5347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4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Развитие лич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Развитие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</a:tr>
              <a:tr h="374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Позволяет самореализова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c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Развивает образность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cfa"/>
                    </a:solidFill>
                  </a:tcPr>
                </a:tc>
              </a:tr>
              <a:tr h="374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Воспитывает актив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f5f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Метафоричность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f5fc"/>
                    </a:solidFill>
                  </a:tcPr>
                </a:tc>
              </a:tr>
              <a:tr h="374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Развивает творч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c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Расширяет словарный запа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cfa"/>
                    </a:solidFill>
                  </a:tcPr>
                </a:tc>
              </a:tr>
              <a:tr h="615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Приучает к самосто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f5f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Развивает связную, логическую, диалогическую реч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f5fc"/>
                    </a:solidFill>
                  </a:tcPr>
                </a:tc>
              </a:tr>
              <a:tr h="923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Дает возможность найти общий язык со сверстниками и со взрослы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c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Развивает силу голоса, тембр голоса, интонацию, выразительность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cfa"/>
                    </a:solidFill>
                  </a:tcPr>
                </a:tc>
              </a:tr>
              <a:tr h="615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Способствует пробуждению творческих с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f5f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Способствует проявлению своей индивидуа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f5fc"/>
                    </a:solidFill>
                  </a:tcPr>
                </a:tc>
              </a:tr>
              <a:tr h="374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Обогащает впечатлен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c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000" spc="-1" strike="noStrike">
                        <a:solidFill>
                          <a:schemeClr val="dk1"/>
                        </a:solidFill>
                        <a:latin typeface="Constantia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cfa"/>
                    </a:solidFill>
                  </a:tcPr>
                </a:tc>
              </a:tr>
              <a:tr h="615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Позволяет накопить богатый жизненный опы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f5f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000" spc="-1" strike="noStrike">
                        <a:solidFill>
                          <a:schemeClr val="dk1"/>
                        </a:solidFill>
                        <a:latin typeface="Constantia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f5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2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30760" indent="-23076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одержание  практической деятельности  по реализации  проекта:</a:t>
            </a:r>
            <a:br>
              <a:rPr sz="4600"/>
            </a:b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28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Прямоугольник 4"/>
          <p:cNvSpPr/>
          <p:nvPr/>
        </p:nvSpPr>
        <p:spPr>
          <a:xfrm>
            <a:off x="642960" y="2571840"/>
            <a:ext cx="7929360" cy="44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ОЦИАЛЬНОЕ  - КОММУНИКАТИВНОЕ РАЗВИТИЕ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Проведение сюжетно-ролевых, театрализованных, дидактических игр с элементами волшебства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Помощь семьи, сотворчество детей и родителей в конкурсе рисунков «В гостях у сказки»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pstream</Template>
  <TotalTime>285</TotalTime>
  <Application>LibreOffice/7.4.7.2$Linux_X86_64 LibreOffice_project/40$Build-2</Application>
  <AppVersion>15.0000</AppVersion>
  <Words>163</Words>
  <Paragraphs>63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11:40:36Z</dcterms:created>
  <dc:creator>UserXP</dc:creator>
  <dc:description/>
  <dc:language>en-US</dc:language>
  <cp:lastModifiedBy>Боровичок</cp:lastModifiedBy>
  <dcterms:modified xsi:type="dcterms:W3CDTF">2019-03-21T09:24:27Z</dcterms:modified>
  <cp:revision>34</cp:revision>
  <dc:subject/>
  <dc:title>   Проект  «В гостях у сказк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6</vt:r8>
  </property>
</Properties>
</file>