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130-4B7D-4A29-9167-C361A0DE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C53-42C5-4873-87B4-0C9D5D3A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2D60-0AD4-4BC1-BD43-209F285D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37029-45D4-47F0-8E40-DE2E8867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314F-E0EF-4D84-BCC7-477A0B50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0EA78-87A8-4698-90CC-D1BB1930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06B36-3974-419E-B883-69D7449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071D1-424D-48FD-9215-C6F8A896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34577-A49C-4F28-B280-320D91AC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26BFE-EFA7-4A8D-A665-E33CC101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7E33E-82C0-4711-B76A-9295D17F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BF32-5896-45F8-873D-AEFFC107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40E-3240-49AD-98A1-BCFE37C5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5436A-A667-4141-AE4D-2A441BE2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4BB10-C343-4865-9DA6-0726C6E0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159EA-4967-4D50-80E0-5672EBF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6F32E-74C6-40E4-9A25-62FE0A8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2BD42-C121-46D4-986B-E532FAE7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C0AB2-D5A3-45CB-8DD7-9410B08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04174-7E53-40A3-9686-85F6482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03DCE-F10D-44E6-AD7D-C79D171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A00EE-84F1-4F0C-800F-69C582F7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F7F30-38D9-467F-BFEE-028B242A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FD7-B700-4054-9AFB-7B11E08E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82564-6DBC-49F1-9439-56D2BEE1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54865-A6FD-41D6-9EC9-B6EA515F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85788-D848-4EA2-BD78-7C3E5DD1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DE756-338A-4520-8D09-57130CAF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FC271-9F62-4AA4-935F-3613A9BF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7D6CA-0C64-4FA8-9B98-1715B301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08768-0A36-4B10-A462-6F504BD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BA384-220E-4BE3-AA46-FF5D21A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B2BBC-AA70-4623-BD1D-CCDD1FE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76D80-FE50-4BC7-90EA-13A1C5FE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71D3-9AC3-4780-B0A3-906CDF03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B6EA6-A1B7-4F6A-9C44-97F12F74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BF4B5-3331-4744-A91C-AB2D35C0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675EF-B8FE-4DDD-8E41-C3D93484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363A-1CA4-4AA8-A45E-DCD77223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F419B-4C76-4F8E-A751-52B5067D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9659A-29FE-49DD-A532-8C15D1D4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3551E-23FA-4FA0-ADBF-C7CB21AE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78E06-331F-41E6-8A4B-EB05C776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F562E-B50C-4342-8144-1A08F94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CEB15-D330-495E-B8AF-68139F4D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B4FF-A269-40F4-A5AF-2AF1749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F277A-2FEC-4660-B007-DA26C9A0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21CCC-B63F-4853-9F5C-2142F85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B57C5-77E2-46F4-992B-34DF7E51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A4787-3F73-4A79-8C81-B3C40469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8C958-0FFB-41F5-A5FC-21D7460F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2489-5D71-40BA-BBC8-9B8215D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7409-B96E-42B1-94E5-43D0931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62B4-553D-4A0F-96D6-2AE3915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BB9C-97AD-47AE-87CA-5882E15C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0C12-A47E-40D2-8C6D-C9DCD043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F80-CFF2-4B32-A674-201D03FD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1F66-1AAB-4638-B07E-2498628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7AE-9555-4713-825A-CD500740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5479-0EA7-4522-81B0-4DDDF34C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E1F9-9127-4A71-8B5C-99E503D4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2465-C8EA-49EB-BFDC-8B1ACDE8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202E-BFC3-4130-A167-22A8A786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9888-E681-428E-84A6-4B9755ED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6F4E-28A9-4599-ABA7-9F92C018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B26A-30D2-4E0C-ABF4-4479FB3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BC4B-2B9A-4455-A13E-9932D6E9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FDD-09D8-4787-8C4D-47DA83EB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B28C-00E1-446A-84FA-FAD9512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4C27-2B71-446A-AA01-6B8D182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2003-517F-4002-B88A-B0E36423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F567-932F-4601-BAF3-B91CA8D3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B4FC-4D00-4E87-B49E-73802889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BB17-7844-4F1C-9843-5BFF7ED2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5500-B109-4469-AFEF-FBAF8212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2AC2-F710-4F2C-B3AD-EB842EA1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9F159-B9B8-4BDF-955E-A7B2CD8D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1F7D-1CD0-4A46-B136-F25D7F3C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E32-8054-484A-B370-95F7E841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71D4-77ED-4C8C-9700-FDA09778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6EFE-E33F-40AA-B2F4-1357BFB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0E90-4E4E-4D53-8F97-75025E59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8A10B-0244-41DE-86E5-E8B55C4A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DB0F-2C72-4B0C-9243-E14003C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65F2-8F12-471D-A210-CD3353C8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3529-461B-41AB-BFF7-4CC8BDC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8CEC-468A-4DB4-830C-7D78DC03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052E-AD5C-420F-BF7F-3DB5EC6C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C506E-0F11-4339-B39F-A5538E7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9A5-843A-4B05-8529-239FAC14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C3CE-46C1-459A-B0F9-9B396C18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A152-59AC-4D54-80C8-B186B327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C991-3815-41AB-9926-8DADF3FD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0235-CE88-4041-AB9D-D392ACA6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6904-5349-4C66-8090-DDA9ABFE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379E-3C5B-4C33-B3A0-845695C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1180-A029-49B6-B2C5-04B263E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71FC-D0B9-4440-8836-9A647AD8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BBC2-16C1-4F7F-BAF0-76ED3A03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C87EB-3EB5-4977-8DF6-621B30E0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D09-16B9-49F0-B911-11EC9F84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A51B-0F4D-45D7-BDD9-5642B4C6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9EEC-AB83-4F63-9997-D7F5C9C0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E25C8-9D72-4326-A0BC-BB4871C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049C-0FDF-49C3-BEF2-E8B7D559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8F572-EEFB-48C1-9E0D-B151952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C6BE5-5B7B-4711-8C4D-7D81881C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0E0D5-2746-4F2C-8FB4-C8F69FF5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074A2-EF13-49B0-B549-5F4E61A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5CE3A-067C-413F-88F1-CF184A7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3DF2-B5E5-483F-9F1E-700FAB8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0ED-200E-44D1-B5BC-DC89946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783C-530D-4DA0-8BE5-5806B373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11D3-7B48-4E6A-A194-AE463CF1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6DF63-8C99-44E7-B5BE-4134A7E2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7D77D-99A7-4061-B8C7-EBEC821D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30047-878A-4986-955E-CACB6531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AC182-855A-4147-98C6-3C1C3400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6070-A560-4E5B-81B7-28572F2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0149-A798-404A-99F6-22A6A55B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F4250-C604-4703-93C1-BEA93F7F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579B-CF2B-4E1F-912E-175174A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52E-758F-4A40-A73D-605AE24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79C7-D263-4442-9521-C9E011E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219D3-3F16-4961-B773-470C5B9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CF79D-87FC-4C3C-91A4-91C4B594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2C89-A04A-4F3F-9712-C9CBC267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03B34-0A5F-48F4-B4D9-499E82FE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EC522-8D29-434E-BB12-D62351A4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C5D9-331A-44D8-8726-D1425AD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97D1-BB13-4EEB-A104-38E6D4ED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287DC-208D-44FC-9CC4-9B16CC3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4BF10-E15B-4DF2-8711-C2F7A751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564-184A-4C88-952D-5F33FA9F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5B8C4-0710-47C0-A57B-338A8AB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CA485-E16D-4284-87C6-64CFFE14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88BC-6E2F-4EFD-A773-73B1A91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BA74-6CE3-4733-8A1A-891E987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1E0AF-C1C1-44AD-BF4F-254A9BE6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29D35-C98A-42F4-BFE1-7400C104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6B3B-0D7D-4578-A78D-D3DD917B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6113B-F833-4758-9646-AE42A7E9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0C437-7C35-4F95-B61A-9FE51BB1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C71B0-B044-463F-BA1D-B787CDB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8B0-FF52-4B2D-9965-439D68099FD4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C91-1526-4AED-8AD1-892471346029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240E-FF59-460A-A1E5-C0267F1E0F71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FC7B-6900-48D2-99FD-FF7F32AAD6F5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CE43-104C-4943-8DB3-B7EBAF95BD35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D1E9-F57C-4045-B54F-656E8D18CC6E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AF4-8D87-4F50-B5AA-842F1B19142E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20A4-6704-4780-A953-98AB371F8ED2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2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92C6-3BBF-41E4-849B-06F8296CC425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68F3-B991-404F-B9D8-3C79CAB2D6CA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F87-5A16-4A91-BCA0-CD549D823F2E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4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B593-0C5A-40EC-9425-136D227B8100}" type="slidenum">
              <a:rPr b="0" lang="ru-RU" sz="1200" spc="-1" strike="noStrike">
                <a:solidFill>
                  <a:srgbClr val="307f9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268200" y="189000"/>
            <a:ext cx="8541000" cy="42544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4581000"/>
            <a:ext cx="7643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686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рыльник -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цветок у него белый и напоминает крыло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2" name="Содержимое 4" descr="Белокрыльник.JPG"/>
          <p:cNvPicPr/>
          <p:nvPr/>
        </p:nvPicPr>
        <p:blipFill>
          <a:blip r:embed="rId1"/>
          <a:stretch/>
        </p:blipFill>
        <p:spPr>
          <a:xfrm>
            <a:off x="2714760" y="271476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как колокол маленький, но не звени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4" name="Содержимое 6" descr="Колокольчик.jpeg"/>
          <p:cNvPicPr/>
          <p:nvPr/>
        </p:nvPicPr>
        <p:blipFill>
          <a:blip r:embed="rId1"/>
          <a:stretch/>
        </p:blipFill>
        <p:spPr>
          <a:xfrm>
            <a:off x="785880" y="2428920"/>
            <a:ext cx="3612960" cy="4286160"/>
          </a:xfrm>
          <a:prstGeom prst="rect">
            <a:avLst/>
          </a:prstGeom>
          <a:ln w="0">
            <a:noFill/>
          </a:ln>
        </p:spPr>
      </p:pic>
      <p:pic>
        <p:nvPicPr>
          <p:cNvPr id="545" name="Содержимое 9" descr="Колокольчик1.jpg"/>
          <p:cNvPicPr/>
          <p:nvPr/>
        </p:nvPicPr>
        <p:blipFill>
          <a:blip r:embed="rId2"/>
          <a:stretch/>
        </p:blipFill>
        <p:spPr>
          <a:xfrm>
            <a:off x="5072040" y="2500200"/>
            <a:ext cx="3290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жетк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листья манжетку напоминаю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7" name="Содержимое 6" descr="Манжетка.jpeg"/>
          <p:cNvPicPr/>
          <p:nvPr/>
        </p:nvPicPr>
        <p:blipFill>
          <a:blip r:embed="rId1"/>
          <a:stretch/>
        </p:blipFill>
        <p:spPr>
          <a:xfrm>
            <a:off x="214200" y="2643120"/>
            <a:ext cx="4297320" cy="4000680"/>
          </a:xfrm>
          <a:prstGeom prst="rect">
            <a:avLst/>
          </a:prstGeom>
          <a:ln w="0">
            <a:noFill/>
          </a:ln>
        </p:spPr>
      </p:pic>
      <p:pic>
        <p:nvPicPr>
          <p:cNvPr id="548" name="Содержимое 9" descr="Манжетка1.jpg"/>
          <p:cNvPicPr/>
          <p:nvPr/>
        </p:nvPicPr>
        <p:blipFill>
          <a:blip r:embed="rId2"/>
          <a:stretch/>
        </p:blipFill>
        <p:spPr>
          <a:xfrm>
            <a:off x="5062680" y="2643120"/>
            <a:ext cx="3755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ь-и-мачех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лист с одной стороны теплый, нежный, как мама, а с другой – холодный, как мачеха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0" name="Содержимое 7" descr="Мать-и мачеха.jpeg"/>
          <p:cNvPicPr/>
          <p:nvPr/>
        </p:nvPicPr>
        <p:blipFill>
          <a:blip r:embed="rId1"/>
          <a:stretch/>
        </p:blipFill>
        <p:spPr>
          <a:xfrm>
            <a:off x="214200" y="3214800"/>
            <a:ext cx="4357800" cy="3500280"/>
          </a:xfrm>
          <a:prstGeom prst="rect">
            <a:avLst/>
          </a:prstGeom>
          <a:ln w="0">
            <a:noFill/>
          </a:ln>
        </p:spPr>
      </p:pic>
      <p:pic>
        <p:nvPicPr>
          <p:cNvPr id="551" name="Содержимое 8" descr="Мать-и мачеха1.jpeg"/>
          <p:cNvPicPr/>
          <p:nvPr/>
        </p:nvPicPr>
        <p:blipFill>
          <a:blip r:embed="rId2"/>
          <a:stretch/>
        </p:blipFill>
        <p:spPr>
          <a:xfrm>
            <a:off x="4857840" y="3143160"/>
            <a:ext cx="4111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стянк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цветочки с маленькими «наперсточками»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3" name="Содержимое 6" descr="Наперстянка.jpg"/>
          <p:cNvPicPr/>
          <p:nvPr/>
        </p:nvPicPr>
        <p:blipFill>
          <a:blip r:embed="rId1"/>
          <a:stretch/>
        </p:blipFill>
        <p:spPr>
          <a:xfrm>
            <a:off x="785880" y="2523960"/>
            <a:ext cx="3929040" cy="4191120"/>
          </a:xfrm>
          <a:prstGeom prst="rect">
            <a:avLst/>
          </a:prstGeom>
          <a:ln w="0">
            <a:noFill/>
          </a:ln>
        </p:spPr>
      </p:pic>
      <p:pic>
        <p:nvPicPr>
          <p:cNvPr id="554" name="Содержимое 9" descr="Наперстянка1.jpeg"/>
          <p:cNvPicPr/>
          <p:nvPr/>
        </p:nvPicPr>
        <p:blipFill>
          <a:blip r:embed="rId2"/>
          <a:stretch/>
        </p:blipFill>
        <p:spPr>
          <a:xfrm>
            <a:off x="5238720" y="2463840"/>
            <a:ext cx="3262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ух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под солнцем растет и за ним голову свою поворачивае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6" name="Содержимое 7" descr="Подсолнух.jpg"/>
          <p:cNvPicPr/>
          <p:nvPr/>
        </p:nvPicPr>
        <p:blipFill>
          <a:blip r:embed="rId1"/>
          <a:stretch/>
        </p:blipFill>
        <p:spPr>
          <a:xfrm>
            <a:off x="142920" y="3222720"/>
            <a:ext cx="4209840" cy="3349440"/>
          </a:xfrm>
          <a:prstGeom prst="rect">
            <a:avLst/>
          </a:prstGeom>
          <a:ln w="0">
            <a:noFill/>
          </a:ln>
        </p:spPr>
      </p:pic>
      <p:pic>
        <p:nvPicPr>
          <p:cNvPr id="557" name="Содержимое 8" descr="Подсолнух1.jpg"/>
          <p:cNvPicPr/>
          <p:nvPr/>
        </p:nvPicPr>
        <p:blipFill>
          <a:blip r:embed="rId2"/>
          <a:stretch/>
        </p:blipFill>
        <p:spPr>
          <a:xfrm>
            <a:off x="4844880" y="3214800"/>
            <a:ext cx="4156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6868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ырн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на пустырях растет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59" name="Содержимое 6" descr="Пустырник.jpeg"/>
          <p:cNvPicPr/>
          <p:nvPr/>
        </p:nvPicPr>
        <p:blipFill>
          <a:blip r:embed="rId1"/>
          <a:stretch/>
        </p:blipFill>
        <p:spPr>
          <a:xfrm>
            <a:off x="571680" y="2174760"/>
            <a:ext cx="3660480" cy="4540320"/>
          </a:xfrm>
          <a:prstGeom prst="rect">
            <a:avLst/>
          </a:prstGeom>
          <a:ln w="0">
            <a:noFill/>
          </a:ln>
        </p:spPr>
      </p:pic>
      <p:pic>
        <p:nvPicPr>
          <p:cNvPr id="560" name="Содержимое 9" descr="Пустырник1.jpeg"/>
          <p:cNvPicPr/>
          <p:nvPr/>
        </p:nvPicPr>
        <p:blipFill>
          <a:blip r:embed="rId2"/>
          <a:stretch/>
        </p:blipFill>
        <p:spPr>
          <a:xfrm>
            <a:off x="4786200" y="2216160"/>
            <a:ext cx="37148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6868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ушья сумка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 так за то, что семена словно в простой «пастушьей» сумке спрятаны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62" name="Содержимое 7" descr="Пастушья сумка.JPG"/>
          <p:cNvPicPr/>
          <p:nvPr/>
        </p:nvPicPr>
        <p:blipFill>
          <a:blip r:embed="rId1"/>
          <a:stretch/>
        </p:blipFill>
        <p:spPr>
          <a:xfrm>
            <a:off x="428760" y="2500200"/>
            <a:ext cx="4000320" cy="421488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8" descr="Пастушья сумка1.JPG.jpeg"/>
          <p:cNvPicPr/>
          <p:nvPr/>
        </p:nvPicPr>
        <p:blipFill>
          <a:blip r:embed="rId2"/>
          <a:stretch/>
        </p:blipFill>
        <p:spPr>
          <a:xfrm>
            <a:off x="5137200" y="2571840"/>
            <a:ext cx="3435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C:\Users\ADMIN\Pictures\Для powerpoint\1236027338_hedgeho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Содержимое 7"/>
          <p:cNvSpPr/>
          <p:nvPr/>
        </p:nvSpPr>
        <p:spPr>
          <a:xfrm>
            <a:off x="1214280" y="928800"/>
            <a:ext cx="66438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мы 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ли наше волшебное путешествие в мир расте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последок задан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6716880" y="4500720"/>
            <a:ext cx="221292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C:\Users\ADMIN\Pictures\Для powerpoint\5603c362a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2"/>
          <p:cNvSpPr/>
          <p:nvPr/>
        </p:nvSpPr>
        <p:spPr>
          <a:xfrm>
            <a:off x="1714680" y="1214280"/>
            <a:ext cx="557208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юсь вам понравилос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орых встре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Хочувсезнайк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6715080" y="4564080"/>
            <a:ext cx="2143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Users\ADMIN\Pictures\Для powerpoint\2fcf6def9e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4572000" y="4500720"/>
            <a:ext cx="2260440" cy="2071440"/>
          </a:xfrm>
          <a:prstGeom prst="rect">
            <a:avLst/>
          </a:prstGeom>
          <a:ln w="0">
            <a:noFill/>
          </a:ln>
        </p:spPr>
      </p:pic>
      <p:grpSp>
        <p:nvGrpSpPr>
          <p:cNvPr id="517" name="Прямоугольник 10"/>
          <p:cNvGrpSpPr/>
          <p:nvPr/>
        </p:nvGrpSpPr>
        <p:grpSpPr>
          <a:xfrm>
            <a:off x="2292480" y="2200320"/>
            <a:ext cx="4059000" cy="2322360"/>
            <a:chOff x="2292480" y="2200320"/>
            <a:chExt cx="4059000" cy="2322360"/>
          </a:xfrm>
        </p:grpSpPr>
        <p:pic>
          <p:nvPicPr>
            <p:cNvPr id="518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2292480" y="2200320"/>
              <a:ext cx="4059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500200" y="2357280"/>
              <a:ext cx="350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дравствуйте, меня зову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очувсезнайка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C:\Users\ADMIN\Pictures\Для powerpoint\1224167175_det_1-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2"/>
          <p:cNvSpPr/>
          <p:nvPr/>
        </p:nvSpPr>
        <p:spPr>
          <a:xfrm>
            <a:off x="1357200" y="1285920"/>
            <a:ext cx="5929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ывались ли вы,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е или растение называется так, а не инач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воду некоторых наз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мало версий, ин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его лишь догадки. И все же, давайте попробуем раз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вам пом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C:\Users\ADMIN\Pictures\Для powerpoint\001.gif"/>
          <p:cNvPicPr/>
          <p:nvPr/>
        </p:nvPicPr>
        <p:blipFill>
          <a:blip r:embed="rId2"/>
          <a:stretch/>
        </p:blipFill>
        <p:spPr>
          <a:xfrm>
            <a:off x="7286760" y="2143080"/>
            <a:ext cx="185724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Заголовок 1" descr=""/>
          <p:cNvPicPr/>
          <p:nvPr/>
        </p:nvPicPr>
        <p:blipFill>
          <a:blip r:embed="rId1"/>
          <a:stretch/>
        </p:blipFill>
        <p:spPr>
          <a:xfrm>
            <a:off x="212760" y="360360"/>
            <a:ext cx="8759880" cy="16398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304560" y="2142720"/>
            <a:ext cx="41907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шариком пушистым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ю в поле чистом,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унул ветерок, -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ся стебелёк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25" name="Содержимое 7" descr="8d2772398804.jpg"/>
          <p:cNvPicPr/>
          <p:nvPr/>
        </p:nvPicPr>
        <p:blipFill>
          <a:blip r:embed="rId2"/>
          <a:stretch/>
        </p:blipFill>
        <p:spPr>
          <a:xfrm>
            <a:off x="4346640" y="2286000"/>
            <a:ext cx="4645080" cy="4357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C:\Users\ADMIN\Pictures\Для powerpoint\001.gif"/>
          <p:cNvPicPr/>
          <p:nvPr/>
        </p:nvPicPr>
        <p:blipFill>
          <a:blip r:embed="rId3"/>
          <a:stretch/>
        </p:blipFill>
        <p:spPr>
          <a:xfrm>
            <a:off x="857160" y="4781520"/>
            <a:ext cx="20304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75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ник -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изящное, маленькое, растет только в мае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28" name="Содержимое 7" descr="Майник.jpeg"/>
          <p:cNvPicPr/>
          <p:nvPr/>
        </p:nvPicPr>
        <p:blipFill>
          <a:blip r:embed="rId1"/>
          <a:stretch/>
        </p:blipFill>
        <p:spPr>
          <a:xfrm>
            <a:off x="642960" y="2676600"/>
            <a:ext cx="3335400" cy="4038480"/>
          </a:xfrm>
          <a:prstGeom prst="rect">
            <a:avLst/>
          </a:prstGeom>
          <a:ln w="0">
            <a:noFill/>
          </a:ln>
        </p:spPr>
      </p:pic>
      <p:pic>
        <p:nvPicPr>
          <p:cNvPr id="529" name="Содержимое 9" descr="Майник1.jpg"/>
          <p:cNvPicPr/>
          <p:nvPr/>
        </p:nvPicPr>
        <p:blipFill>
          <a:blip r:embed="rId2"/>
          <a:stretch/>
        </p:blipFill>
        <p:spPr>
          <a:xfrm>
            <a:off x="4395960" y="2643120"/>
            <a:ext cx="4390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87580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ел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 из цветов и стеблей этого растения заживляет болячки, сыпь, то есть тело становится чистым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31" name="Содержимое 6" descr="Чистотел.jpeg"/>
          <p:cNvPicPr/>
          <p:nvPr/>
        </p:nvPicPr>
        <p:blipFill>
          <a:blip r:embed="rId1"/>
          <a:stretch/>
        </p:blipFill>
        <p:spPr>
          <a:xfrm>
            <a:off x="428760" y="3154320"/>
            <a:ext cx="4066920" cy="3489480"/>
          </a:xfrm>
          <a:prstGeom prst="rect">
            <a:avLst/>
          </a:prstGeom>
          <a:ln w="0">
            <a:noFill/>
          </a:ln>
        </p:spPr>
      </p:pic>
      <p:pic>
        <p:nvPicPr>
          <p:cNvPr id="532" name="Содержимое 8" descr="Чистотел1.jpeg"/>
          <p:cNvPicPr/>
          <p:nvPr/>
        </p:nvPicPr>
        <p:blipFill>
          <a:blip r:embed="rId2"/>
          <a:stretch/>
        </p:blipFill>
        <p:spPr>
          <a:xfrm>
            <a:off x="4929120" y="3105000"/>
            <a:ext cx="3882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5920" y="571320"/>
            <a:ext cx="87580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ванч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дано из-за легкости семечек- парашютиков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34" name="Содержимое 7" descr="Одуванчик.jpeg"/>
          <p:cNvPicPr/>
          <p:nvPr/>
        </p:nvPicPr>
        <p:blipFill>
          <a:blip r:embed="rId1"/>
          <a:stretch/>
        </p:blipFill>
        <p:spPr>
          <a:xfrm>
            <a:off x="214200" y="321480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535" name="Содержимое 9" descr="Одуванчик1.jpeg"/>
          <p:cNvPicPr/>
          <p:nvPr/>
        </p:nvPicPr>
        <p:blipFill>
          <a:blip r:embed="rId2"/>
          <a:stretch/>
        </p:blipFill>
        <p:spPr>
          <a:xfrm>
            <a:off x="4648320" y="3267000"/>
            <a:ext cx="42814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5920" y="499680"/>
            <a:ext cx="87580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овник -</a:t>
            </a:r>
            <a:br>
              <a:rPr sz="5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ты с яркими Розовыми цветами. Но попробуй сорвать – сразу шип вопьется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37" name="Содержимое 8" descr="Шиповник1.JPG.jpeg"/>
          <p:cNvPicPr/>
          <p:nvPr/>
        </p:nvPicPr>
        <p:blipFill>
          <a:blip r:embed="rId1"/>
          <a:stretch/>
        </p:blipFill>
        <p:spPr>
          <a:xfrm>
            <a:off x="4917960" y="3000240"/>
            <a:ext cx="4083120" cy="3714840"/>
          </a:xfrm>
          <a:prstGeom prst="rect">
            <a:avLst/>
          </a:prstGeom>
          <a:ln w="0">
            <a:noFill/>
          </a:ln>
        </p:spPr>
      </p:pic>
      <p:pic>
        <p:nvPicPr>
          <p:cNvPr id="538" name="Содержимое 6" descr="Шиповник.JPG"/>
          <p:cNvPicPr/>
          <p:nvPr/>
        </p:nvPicPr>
        <p:blipFill>
          <a:blip r:embed="rId2"/>
          <a:stretch/>
        </p:blipFill>
        <p:spPr>
          <a:xfrm>
            <a:off x="214200" y="3046320"/>
            <a:ext cx="4381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мертник -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имой не умирает, жив, цветет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540" name="Содержимое 7" descr="бессмертник.jpg"/>
          <p:cNvPicPr/>
          <p:nvPr/>
        </p:nvPicPr>
        <p:blipFill>
          <a:blip r:embed="rId1"/>
          <a:stretch/>
        </p:blipFill>
        <p:spPr>
          <a:xfrm>
            <a:off x="2286000" y="218916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3:47:32Z</dcterms:created>
  <dc:creator>ADMIN</dc:creator>
  <dc:description/>
  <dc:language>en-US</dc:language>
  <cp:lastModifiedBy>User</cp:lastModifiedBy>
  <dcterms:modified xsi:type="dcterms:W3CDTF">2020-07-20T23:48:29Z</dcterms:modified>
  <cp:revision>53</cp:revision>
  <dc:subject/>
  <dc:title>Почему они так называются?</dc:title>
</cp:coreProperties>
</file>