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.jpeg" ContentType="image/jpeg"/>
  <Override PartName="/ppt/media/image7.png" ContentType="image/png"/>
  <Override PartName="/ppt/media/image34.jpeg" ContentType="image/jpeg"/>
  <Override PartName="/ppt/media/image11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EDCC-3C97-4EE9-9507-8611A0B5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4F0D-78DD-4FD8-A846-854CC38D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16C0E-703B-4D12-A6E9-5F124A85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F09B6-8503-4AC2-BD5A-2179EC2A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93163-7BA4-47C8-90FF-62687EA3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A7AA3-4740-4618-B7CC-BDAD7918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072E4-AF21-4D57-A497-D1A25495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12771-A6F2-4648-8398-385BA919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A7B3D-B9D6-4093-BCC9-99953EA5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44C55-E5EF-4D08-9153-0C4A0251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8199A-D891-489E-9A55-B010D1D9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2B712-7950-4CB8-B082-274BFF80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166A-C4FB-4E5A-B1B3-8754BACF6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1E881-B604-432C-BB21-A657AF32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9876F-FC47-498B-A9F3-6E230B99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8F3FB-F301-4398-9531-46BE9783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8FBD8-C403-4D13-8D8F-9B996D38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EE604-B877-4FCC-94A8-C119BC99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60095-CA5A-4112-A783-10D21A91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17B95-6648-4E2F-BAF2-30DE5E79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22C11-9A9C-4AEE-8D81-C485218D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65D3C-4536-4897-92DB-7B67611B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95754-3F0C-45C6-A91F-897A03EC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C530-60B9-4255-8F11-3896E3EB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2C5E6-370C-420F-8BBA-30A60417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D6D25-23BC-4F84-989F-F0F9A45E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39643-7050-4C8E-892C-A41CC2F2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51343-17BC-41D0-A8B4-C92C24BF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824E9-5775-424F-9948-C6689F0B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D11FF-79BE-4CC9-A52F-3350F90C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E6D65-AF39-430E-8B80-08DAB4D1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D5295-315C-4B41-AA80-1B90E13E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33C01-B505-4FD8-B092-ADD0614C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0FFF2-BE4F-46FB-B6A9-CE9F33CE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EFA4-4C38-4745-AF95-C5CB99A8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37A04-D244-4B4F-BB57-5D01522B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79BE3-72EB-41C2-A581-3C7124D6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99FF8-E9BE-4DD5-91BE-1DEDDB35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07CE5-E9C5-4AC9-9FD2-7558960E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0D256-83E8-4397-A076-E26B405E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C9D2C-BFBA-49A5-AFB2-D931BBF0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78B58-3D98-4B7C-BA1E-42B31FC3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8F520-F2B5-4F24-98F5-731EFCB2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DCA6C-5C6A-484A-BECA-B4C96B1F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CF0BC-49E2-4D64-8DE9-B9FEC576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B4BA-670C-4029-B919-A58D1A00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581EC-16F1-4B22-A0C8-3EF2FD8B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1640E-45CE-46CF-B10A-ABA38179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8D284-69F5-4B80-971A-7DA23A02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35971-1C2B-43B4-91B5-327CD366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E2689-6492-4C24-B4CF-E9E9B0EB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1E27-C366-4697-A7A6-7BA32E81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3C4B-DDEA-4878-A34B-A95CFE0A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B8E9-76A6-446B-A85E-BD0641CB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4844-603C-4CB5-A4B1-158BCB28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B7B1-098E-41EA-A6BC-89E37F3C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35AB-62A1-4371-89A8-147DBF23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6612-4AC6-48D5-936F-F719F0E4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DF67-0724-4B63-8E75-83CDE088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5199-47DD-4490-93D6-AE356635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C5BE-E9FA-4964-B83A-9732AF9A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2939-437C-4140-A02B-B56F8BC0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37AF8-EA4C-43D8-9AD9-8C6F6AE6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94C23-AE25-4891-95D2-504885FA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76F5E-0060-4025-A7FA-F6793B3A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230E5-AE69-464D-96FD-68AFB63B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E0334-27A9-4789-A62D-2DDF81AF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A776-D76A-4B1D-8F04-325A9040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6A911-4F11-4663-B992-BCE73A28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DC7DC-29DA-4AE7-AA87-1B5AF596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C8DE3-C3AE-40D5-B7FC-A08104BD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C4675-0316-4FB4-A5BA-38E585D8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CD6E2-6EC4-4C60-AFB1-2E189DA0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1AD3E-3FDF-4EB7-8A0E-77CDF584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24B0A-12B3-4874-AB02-DD6E5971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59A28-E9FC-46E7-85C5-0D200C0F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5B6E1-B5AB-4AA8-A4A6-C810DF84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10F47-C877-431C-88AE-CE6E2975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C720-0107-48F0-A5EC-7BD407E1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AA7F0-C67C-45CD-A5D9-213B6A80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21963-7169-42BB-AB49-04807D55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48B51-1A28-4502-B3F5-5D096B34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BE6D9-D6F0-4E40-AD39-BFAE1374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80DEC-092F-4AF9-8835-09D9DF31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80AE0-9D20-4E0F-9990-9186828C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9C537-6207-4E21-8E6D-D555A238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8FA4F-24D3-4B52-9733-41DE2867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1C8DA-72B1-4B44-8BC3-F509C325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F0B76-027B-4E8F-8CBE-4C09A779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A759-1555-4E20-B20F-EFA3853C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B1F0E-0E73-401B-A682-0A212660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706D4-AED9-4254-8290-8A06A3C8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A627A-5E3E-44E8-8320-69608F03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72A09-2167-49DE-95E2-C62DAFC9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3C9D9-513F-4F6F-A59D-8DA8473E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70CFD-E60C-44C2-9308-B74DC1E6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7D1CA-CD0D-4094-BF05-E2F9AE45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3A0DF-C8D9-4557-BF37-6532FD75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C95C6-8634-4C65-BE61-63DB6293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1722E-7C8B-4595-95DD-EB37BC82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8C15-3CBC-430E-BCF2-08610E4E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F504A-CD2C-4836-AA77-44F99DE9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E198A-BD4E-4F92-9EFE-B57C00BB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33253-CA4C-4BAA-A5DD-706A39AA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BA400-C8D5-487F-B81F-58ED2873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64825-F5A8-4662-B0F4-4CC69D53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E9303-B0BF-4666-BD6B-B9A59045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3EF6A-D8EA-4ACC-A91A-02137E40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22EA2-B9C8-4BB7-8C57-99E0FF79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7159A-6351-4965-B64A-4CD6419E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53F85-EBE1-491A-B008-5ED24AE5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5108-D39A-47E8-88FE-B0111F37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6CFA9-91B4-4182-881A-2159B767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29179-BE08-4426-89CA-9D7A789A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E213E-D629-4E9B-90CD-0245DD2F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1F948-7626-4695-BDFA-6D34ED67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D4B7B-56F3-41BB-986C-59B542D7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F9AEC-0F6D-41A7-93ED-9CCF0864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A1253-AF21-4A0E-8B6D-CE1E7202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92F07-0FAB-4484-8E06-5588D58A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0F675-E8A2-4DEB-84F9-7542737A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1B17C-7012-4AE9-9330-06CF6694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0E68-A98C-49FF-AF23-E193C6AB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DB26A-0A17-484C-8240-B9D75572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A3F72-F35F-4856-BF21-4346FC9F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E5033-7C68-4B03-ADFB-D91690B1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D3677-24E7-4ABE-921C-E11ABBB5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487E2-7CE1-4901-80A7-D3DCEA8F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24C7F-6258-43F7-8C7F-2118239A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58AAE-5AB8-422B-94EA-A8FEB49C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E7534-88B2-408A-964A-F5BBCD58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7FCB3-2833-44F9-8D74-273B8778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1ADA2-88CE-4B47-B423-F23C7B8C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98D2-451D-458F-8491-B04386EE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D40C9-0647-47C6-BF3C-C8392C44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9F6E4-F9E8-44A3-AC80-40FC6F71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8D6E6-087A-43C5-B8F5-2DA07BE5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F829E-74D5-45A1-A246-3A803652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7DA82-2DCB-4D09-9E96-7A5B44E7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0EA1A-A4AE-407A-B295-1F1239BF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8DD9B-1F54-478E-B59E-C31F0A66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015D4-C583-4021-83E4-CE5D087C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2C80C-453C-4FE2-85B4-0CE7CED2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83146-938B-4A21-A9FD-DD519785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62D5-4192-4097-8450-83AE92635C7E}" type="slidenum">
              <a:rPr b="0" lang="ru-RU" sz="1200" spc="-1" strike="noStrike">
                <a:solidFill>
                  <a:srgbClr val="307f9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9BE9-A39D-41EA-9E3C-35893C69EEAF}" type="slidenum">
              <a:rPr b="0" lang="ru-RU" sz="1200" spc="-1" strike="noStrike">
                <a:solidFill>
                  <a:srgbClr val="307f9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4C7B-ED72-4A9A-A030-7E0CB257C4AD}" type="slidenum">
              <a:rPr b="0" lang="ru-RU" sz="1200" spc="-1" strike="noStrike">
                <a:solidFill>
                  <a:srgbClr val="307f9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ADA1-D326-4D4E-A301-1DDE55544E92}" type="slidenum">
              <a:rPr b="0" lang="ru-RU" sz="1200" spc="-1" strike="noStrike">
                <a:solidFill>
                  <a:srgbClr val="307f9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F8B5-EBFA-42CA-96CD-AC2B40B77EAB}" type="slidenum">
              <a:rPr b="0" lang="ru-RU" sz="1200" spc="-1" strike="noStrike">
                <a:solidFill>
                  <a:srgbClr val="307f9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A111-39CB-4F83-9424-B0542D959825}" type="slidenum">
              <a:rPr b="0" lang="ru-RU" sz="1200" spc="-1" strike="noStrike">
                <a:solidFill>
                  <a:srgbClr val="307f9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3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e7dec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e7dec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e7dec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e7dec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e7dec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e7dec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dec9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E683-5F86-4A22-91FF-23124E49039E}" type="slidenum">
              <a:rPr b="0" lang="ru-RU" sz="1200" spc="-1" strike="noStrike">
                <a:solidFill>
                  <a:srgbClr val="307f9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7156-DD14-4929-9139-E44AFCD2B67E}" type="slidenum">
              <a:rPr b="0" lang="ru-RU" sz="1200" spc="-1" strike="noStrike">
                <a:solidFill>
                  <a:srgbClr val="307f9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2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07AD-4D75-46E3-B037-EEED0B7A9072}" type="slidenum">
              <a:rPr b="0" lang="ru-RU" sz="1200" spc="-1" strike="noStrike">
                <a:solidFill>
                  <a:srgbClr val="307f9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829C-85CB-49CD-A2E4-ACD057492724}" type="slidenum">
              <a:rPr b="0" lang="ru-RU" sz="1200" spc="-1" strike="noStrike">
                <a:solidFill>
                  <a:srgbClr val="307f9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0EA9-4A14-446A-99F0-65CECF2D54C4}" type="slidenum">
              <a:rPr b="0" lang="ru-RU" sz="1200" spc="-1" strike="noStrike">
                <a:solidFill>
                  <a:srgbClr val="307f9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347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5DA2-FC1D-41E9-8B77-A48CF2F1C13D}" type="slidenum">
              <a:rPr b="0" lang="ru-RU" sz="1200" spc="-1" strike="noStrike">
                <a:solidFill>
                  <a:srgbClr val="307f9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Заголовок 1" descr=""/>
          <p:cNvPicPr/>
          <p:nvPr/>
        </p:nvPicPr>
        <p:blipFill>
          <a:blip r:embed="rId1"/>
          <a:stretch/>
        </p:blipFill>
        <p:spPr>
          <a:xfrm>
            <a:off x="268200" y="189000"/>
            <a:ext cx="8541000" cy="425448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115640" y="4581000"/>
            <a:ext cx="76438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686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крыльник -</a:t>
            </a:r>
            <a:br>
              <a:rPr sz="54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 так за то, что цветок у него белый и напоминает крыло</a:t>
            </a:r>
            <a:endParaRPr b="0" lang="en-US" sz="40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542" name="Содержимое 4" descr="Белокрыльник.JPG"/>
          <p:cNvPicPr/>
          <p:nvPr/>
        </p:nvPicPr>
        <p:blipFill>
          <a:blip r:embed="rId1"/>
          <a:stretch/>
        </p:blipFill>
        <p:spPr>
          <a:xfrm>
            <a:off x="2714760" y="2714760"/>
            <a:ext cx="40003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680" y="1429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кольчик -</a:t>
            </a:r>
            <a:br>
              <a:rPr sz="5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 так за то, что как колокол маленький, но не звенит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544" name="Содержимое 6" descr="Колокольчик.jpeg"/>
          <p:cNvPicPr/>
          <p:nvPr/>
        </p:nvPicPr>
        <p:blipFill>
          <a:blip r:embed="rId1"/>
          <a:stretch/>
        </p:blipFill>
        <p:spPr>
          <a:xfrm>
            <a:off x="785880" y="2428920"/>
            <a:ext cx="3612960" cy="4286160"/>
          </a:xfrm>
          <a:prstGeom prst="rect">
            <a:avLst/>
          </a:prstGeom>
          <a:ln w="0">
            <a:noFill/>
          </a:ln>
        </p:spPr>
      </p:pic>
      <p:pic>
        <p:nvPicPr>
          <p:cNvPr id="545" name="Содержимое 9" descr="Колокольчик1.jpg"/>
          <p:cNvPicPr/>
          <p:nvPr/>
        </p:nvPicPr>
        <p:blipFill>
          <a:blip r:embed="rId2"/>
          <a:stretch/>
        </p:blipFill>
        <p:spPr>
          <a:xfrm>
            <a:off x="5072040" y="2500200"/>
            <a:ext cx="32907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1429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жетка -</a:t>
            </a:r>
            <a:br>
              <a:rPr sz="5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 так за то, что листья манжетку напоминают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547" name="Содержимое 6" descr="Манжетка.jpeg"/>
          <p:cNvPicPr/>
          <p:nvPr/>
        </p:nvPicPr>
        <p:blipFill>
          <a:blip r:embed="rId1"/>
          <a:stretch/>
        </p:blipFill>
        <p:spPr>
          <a:xfrm>
            <a:off x="214200" y="2643120"/>
            <a:ext cx="4297320" cy="4000680"/>
          </a:xfrm>
          <a:prstGeom prst="rect">
            <a:avLst/>
          </a:prstGeom>
          <a:ln w="0">
            <a:noFill/>
          </a:ln>
        </p:spPr>
      </p:pic>
      <p:pic>
        <p:nvPicPr>
          <p:cNvPr id="548" name="Содержимое 9" descr="Манжетка1.jpg"/>
          <p:cNvPicPr/>
          <p:nvPr/>
        </p:nvPicPr>
        <p:blipFill>
          <a:blip r:embed="rId2"/>
          <a:stretch/>
        </p:blipFill>
        <p:spPr>
          <a:xfrm>
            <a:off x="5062680" y="2643120"/>
            <a:ext cx="37558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142560"/>
            <a:ext cx="86868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ь-и-мачеха -</a:t>
            </a:r>
            <a:br>
              <a:rPr sz="5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 так за то, что лист с одной стороны теплый, нежный, как мама, а с другой – холодный, как мачеха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550" name="Содержимое 7" descr="Мать-и мачеха.jpeg"/>
          <p:cNvPicPr/>
          <p:nvPr/>
        </p:nvPicPr>
        <p:blipFill>
          <a:blip r:embed="rId1"/>
          <a:stretch/>
        </p:blipFill>
        <p:spPr>
          <a:xfrm>
            <a:off x="214200" y="3214800"/>
            <a:ext cx="4357800" cy="3500280"/>
          </a:xfrm>
          <a:prstGeom prst="rect">
            <a:avLst/>
          </a:prstGeom>
          <a:ln w="0">
            <a:noFill/>
          </a:ln>
        </p:spPr>
      </p:pic>
      <p:pic>
        <p:nvPicPr>
          <p:cNvPr id="551" name="Содержимое 8" descr="Мать-и мачеха1.jpeg"/>
          <p:cNvPicPr/>
          <p:nvPr/>
        </p:nvPicPr>
        <p:blipFill>
          <a:blip r:embed="rId2"/>
          <a:stretch/>
        </p:blipFill>
        <p:spPr>
          <a:xfrm>
            <a:off x="4857840" y="3143160"/>
            <a:ext cx="41115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680" y="142560"/>
            <a:ext cx="868680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ерстянка -</a:t>
            </a:r>
            <a:br>
              <a:rPr sz="5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 так за то, что цветочки с маленькими «наперсточками»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553" name="Содержимое 6" descr="Наперстянка.jpg"/>
          <p:cNvPicPr/>
          <p:nvPr/>
        </p:nvPicPr>
        <p:blipFill>
          <a:blip r:embed="rId1"/>
          <a:stretch/>
        </p:blipFill>
        <p:spPr>
          <a:xfrm>
            <a:off x="785880" y="2523960"/>
            <a:ext cx="3929040" cy="4191120"/>
          </a:xfrm>
          <a:prstGeom prst="rect">
            <a:avLst/>
          </a:prstGeom>
          <a:ln w="0">
            <a:noFill/>
          </a:ln>
        </p:spPr>
      </p:pic>
      <p:pic>
        <p:nvPicPr>
          <p:cNvPr id="554" name="Содержимое 9" descr="Наперстянка1.jpeg"/>
          <p:cNvPicPr/>
          <p:nvPr/>
        </p:nvPicPr>
        <p:blipFill>
          <a:blip r:embed="rId2"/>
          <a:stretch/>
        </p:blipFill>
        <p:spPr>
          <a:xfrm>
            <a:off x="5238720" y="2463840"/>
            <a:ext cx="32623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142560"/>
            <a:ext cx="868680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олнух -</a:t>
            </a:r>
            <a:br>
              <a:rPr sz="5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 так за то, что под солнцем растет и за ним голову свою поворачивает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556" name="Содержимое 7" descr="Подсолнух.jpg"/>
          <p:cNvPicPr/>
          <p:nvPr/>
        </p:nvPicPr>
        <p:blipFill>
          <a:blip r:embed="rId1"/>
          <a:stretch/>
        </p:blipFill>
        <p:spPr>
          <a:xfrm>
            <a:off x="142920" y="3222720"/>
            <a:ext cx="4209840" cy="3349440"/>
          </a:xfrm>
          <a:prstGeom prst="rect">
            <a:avLst/>
          </a:prstGeom>
          <a:ln w="0">
            <a:noFill/>
          </a:ln>
        </p:spPr>
      </p:pic>
      <p:pic>
        <p:nvPicPr>
          <p:cNvPr id="557" name="Содержимое 8" descr="Подсолнух1.jpg"/>
          <p:cNvPicPr/>
          <p:nvPr/>
        </p:nvPicPr>
        <p:blipFill>
          <a:blip r:embed="rId2"/>
          <a:stretch/>
        </p:blipFill>
        <p:spPr>
          <a:xfrm>
            <a:off x="4844880" y="3214800"/>
            <a:ext cx="41562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680" y="142920"/>
            <a:ext cx="86868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ырник -</a:t>
            </a:r>
            <a:br>
              <a:rPr sz="5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 так за то, что на пустырях растет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559" name="Содержимое 6" descr="Пустырник.jpeg"/>
          <p:cNvPicPr/>
          <p:nvPr/>
        </p:nvPicPr>
        <p:blipFill>
          <a:blip r:embed="rId1"/>
          <a:stretch/>
        </p:blipFill>
        <p:spPr>
          <a:xfrm>
            <a:off x="571680" y="2174760"/>
            <a:ext cx="3660480" cy="4540320"/>
          </a:xfrm>
          <a:prstGeom prst="rect">
            <a:avLst/>
          </a:prstGeom>
          <a:ln w="0">
            <a:noFill/>
          </a:ln>
        </p:spPr>
      </p:pic>
      <p:pic>
        <p:nvPicPr>
          <p:cNvPr id="560" name="Содержимое 9" descr="Пустырник1.jpeg"/>
          <p:cNvPicPr/>
          <p:nvPr/>
        </p:nvPicPr>
        <p:blipFill>
          <a:blip r:embed="rId2"/>
          <a:stretch/>
        </p:blipFill>
        <p:spPr>
          <a:xfrm>
            <a:off x="4786200" y="2216160"/>
            <a:ext cx="371484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142560"/>
            <a:ext cx="868680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тушья сумка -</a:t>
            </a:r>
            <a:br>
              <a:rPr sz="5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 так за то, что семена словно в простой «пастушьей» сумке спрятаны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562" name="Содержимое 7" descr="Пастушья сумка.JPG"/>
          <p:cNvPicPr/>
          <p:nvPr/>
        </p:nvPicPr>
        <p:blipFill>
          <a:blip r:embed="rId1"/>
          <a:stretch/>
        </p:blipFill>
        <p:spPr>
          <a:xfrm>
            <a:off x="428760" y="2500200"/>
            <a:ext cx="4000320" cy="4214880"/>
          </a:xfrm>
          <a:prstGeom prst="rect">
            <a:avLst/>
          </a:prstGeom>
          <a:ln w="0">
            <a:noFill/>
          </a:ln>
        </p:spPr>
      </p:pic>
      <p:pic>
        <p:nvPicPr>
          <p:cNvPr id="563" name="Содержимое 8" descr="Пастушья сумка1.JPG.jpeg"/>
          <p:cNvPicPr/>
          <p:nvPr/>
        </p:nvPicPr>
        <p:blipFill>
          <a:blip r:embed="rId2"/>
          <a:stretch/>
        </p:blipFill>
        <p:spPr>
          <a:xfrm>
            <a:off x="5137200" y="2571840"/>
            <a:ext cx="34354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C:\Users\ADMIN\Pictures\Для powerpoint\1236027338_hedgeho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Содержимое 7"/>
          <p:cNvSpPr/>
          <p:nvPr/>
        </p:nvSpPr>
        <p:spPr>
          <a:xfrm>
            <a:off x="1214280" y="928800"/>
            <a:ext cx="6643800" cy="52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мы 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чили наше волшебное путешествие в мир растени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последок задани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2" descr="C:\Users\ADMIN\Pictures\Для powerpoint\001.gif"/>
          <p:cNvPicPr/>
          <p:nvPr/>
        </p:nvPicPr>
        <p:blipFill>
          <a:blip r:embed="rId2"/>
          <a:stretch/>
        </p:blipFill>
        <p:spPr>
          <a:xfrm>
            <a:off x="6716880" y="4500720"/>
            <a:ext cx="2212920" cy="21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C:\Users\ADMIN\Pictures\Для powerpoint\5603c362a8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Прямоугольник 2"/>
          <p:cNvSpPr/>
          <p:nvPr/>
        </p:nvSpPr>
        <p:spPr>
          <a:xfrm>
            <a:off x="1714680" y="1214280"/>
            <a:ext cx="557208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юсь вам понравилось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корых встреч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 Хочувсезнайк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2" descr="C:\Users\ADMIN\Pictures\Для powerpoint\001.gif"/>
          <p:cNvPicPr/>
          <p:nvPr/>
        </p:nvPicPr>
        <p:blipFill>
          <a:blip r:embed="rId2"/>
          <a:stretch/>
        </p:blipFill>
        <p:spPr>
          <a:xfrm>
            <a:off x="6715080" y="4564080"/>
            <a:ext cx="214308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C:\Users\ADMIN\Pictures\Для powerpoint\2fcf6def9e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" descr="C:\Users\ADMIN\Pictures\Для powerpoint\001.gif"/>
          <p:cNvPicPr/>
          <p:nvPr/>
        </p:nvPicPr>
        <p:blipFill>
          <a:blip r:embed="rId2"/>
          <a:stretch/>
        </p:blipFill>
        <p:spPr>
          <a:xfrm>
            <a:off x="4572000" y="4500720"/>
            <a:ext cx="2260440" cy="2071440"/>
          </a:xfrm>
          <a:prstGeom prst="rect">
            <a:avLst/>
          </a:prstGeom>
          <a:ln w="0">
            <a:noFill/>
          </a:ln>
        </p:spPr>
      </p:pic>
      <p:grpSp>
        <p:nvGrpSpPr>
          <p:cNvPr id="517" name="Прямоугольник 10"/>
          <p:cNvGrpSpPr/>
          <p:nvPr/>
        </p:nvGrpSpPr>
        <p:grpSpPr>
          <a:xfrm>
            <a:off x="2292480" y="2200320"/>
            <a:ext cx="4059000" cy="2322360"/>
            <a:chOff x="2292480" y="2200320"/>
            <a:chExt cx="4059000" cy="2322360"/>
          </a:xfrm>
        </p:grpSpPr>
        <p:pic>
          <p:nvPicPr>
            <p:cNvPr id="518" name="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2292480" y="2200320"/>
              <a:ext cx="405900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2500200" y="2357280"/>
              <a:ext cx="3500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дравствуйте, меня зовут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очувсезнайка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C:\Users\ADMIN\Pictures\Для powerpoint\1224167175_det_1-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1" name="Прямоугольник 2"/>
          <p:cNvSpPr/>
          <p:nvPr/>
        </p:nvSpPr>
        <p:spPr>
          <a:xfrm>
            <a:off x="1357200" y="1285920"/>
            <a:ext cx="59295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мывались ли вы, 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ое или растение называется так, а не инач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воду некоторых наз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немало версий, ин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сего лишь догадки. И все же, давайте попробуем разобр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я вам помо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C:\Users\ADMIN\Pictures\Для powerpoint\001.gif"/>
          <p:cNvPicPr/>
          <p:nvPr/>
        </p:nvPicPr>
        <p:blipFill>
          <a:blip r:embed="rId2"/>
          <a:stretch/>
        </p:blipFill>
        <p:spPr>
          <a:xfrm>
            <a:off x="7286760" y="2143080"/>
            <a:ext cx="185724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Заголовок 1" descr=""/>
          <p:cNvPicPr/>
          <p:nvPr/>
        </p:nvPicPr>
        <p:blipFill>
          <a:blip r:embed="rId1"/>
          <a:stretch/>
        </p:blipFill>
        <p:spPr>
          <a:xfrm>
            <a:off x="212760" y="360360"/>
            <a:ext cx="8759880" cy="16398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 txBox="1"/>
          <p:nvPr/>
        </p:nvSpPr>
        <p:spPr>
          <a:xfrm>
            <a:off x="304560" y="2142720"/>
            <a:ext cx="419076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шариком пушистым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ею в поле чистом,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унул ветерок, -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ся стебелёк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525" name="Содержимое 7" descr="8d2772398804.jpg"/>
          <p:cNvPicPr/>
          <p:nvPr/>
        </p:nvPicPr>
        <p:blipFill>
          <a:blip r:embed="rId2"/>
          <a:stretch/>
        </p:blipFill>
        <p:spPr>
          <a:xfrm>
            <a:off x="4346640" y="2286000"/>
            <a:ext cx="4645080" cy="43578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" descr="C:\Users\ADMIN\Pictures\Для powerpoint\001.gif"/>
          <p:cNvPicPr/>
          <p:nvPr/>
        </p:nvPicPr>
        <p:blipFill>
          <a:blip r:embed="rId3"/>
          <a:stretch/>
        </p:blipFill>
        <p:spPr>
          <a:xfrm>
            <a:off x="857160" y="4781520"/>
            <a:ext cx="203040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13840" y="428760"/>
            <a:ext cx="875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ник -</a:t>
            </a:r>
            <a:br>
              <a:rPr sz="54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е изящное, маленькое, растет только в мае</a:t>
            </a:r>
            <a:endParaRPr b="0" lang="en-US" sz="40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528" name="Содержимое 7" descr="Майник.jpeg"/>
          <p:cNvPicPr/>
          <p:nvPr/>
        </p:nvPicPr>
        <p:blipFill>
          <a:blip r:embed="rId1"/>
          <a:stretch/>
        </p:blipFill>
        <p:spPr>
          <a:xfrm>
            <a:off x="642960" y="2676600"/>
            <a:ext cx="3335400" cy="4038480"/>
          </a:xfrm>
          <a:prstGeom prst="rect">
            <a:avLst/>
          </a:prstGeom>
          <a:ln w="0">
            <a:noFill/>
          </a:ln>
        </p:spPr>
      </p:pic>
      <p:pic>
        <p:nvPicPr>
          <p:cNvPr id="529" name="Содержимое 9" descr="Майник1.jpg"/>
          <p:cNvPicPr/>
          <p:nvPr/>
        </p:nvPicPr>
        <p:blipFill>
          <a:blip r:embed="rId2"/>
          <a:stretch/>
        </p:blipFill>
        <p:spPr>
          <a:xfrm>
            <a:off x="4395960" y="2643120"/>
            <a:ext cx="43909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2920" y="499680"/>
            <a:ext cx="875808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отел -</a:t>
            </a:r>
            <a:br>
              <a:rPr sz="5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ар из цветов и стеблей этого растения заживляет болячки, сыпь, то есть тело становится чистым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531" name="Содержимое 6" descr="Чистотел.jpeg"/>
          <p:cNvPicPr/>
          <p:nvPr/>
        </p:nvPicPr>
        <p:blipFill>
          <a:blip r:embed="rId1"/>
          <a:stretch/>
        </p:blipFill>
        <p:spPr>
          <a:xfrm>
            <a:off x="428760" y="3154320"/>
            <a:ext cx="4066920" cy="3489480"/>
          </a:xfrm>
          <a:prstGeom prst="rect">
            <a:avLst/>
          </a:prstGeom>
          <a:ln w="0">
            <a:noFill/>
          </a:ln>
        </p:spPr>
      </p:pic>
      <p:pic>
        <p:nvPicPr>
          <p:cNvPr id="532" name="Содержимое 8" descr="Чистотел1.jpeg"/>
          <p:cNvPicPr/>
          <p:nvPr/>
        </p:nvPicPr>
        <p:blipFill>
          <a:blip r:embed="rId2"/>
          <a:stretch/>
        </p:blipFill>
        <p:spPr>
          <a:xfrm>
            <a:off x="4929120" y="3105000"/>
            <a:ext cx="38829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5920" y="571320"/>
            <a:ext cx="875808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уванчик -</a:t>
            </a:r>
            <a:br>
              <a:rPr sz="5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дано из-за легкости семечек- парашютиков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534" name="Содержимое 7" descr="Одуванчик.jpeg"/>
          <p:cNvPicPr/>
          <p:nvPr/>
        </p:nvPicPr>
        <p:blipFill>
          <a:blip r:embed="rId1"/>
          <a:stretch/>
        </p:blipFill>
        <p:spPr>
          <a:xfrm>
            <a:off x="214200" y="3214800"/>
            <a:ext cx="4191120" cy="3429000"/>
          </a:xfrm>
          <a:prstGeom prst="rect">
            <a:avLst/>
          </a:prstGeom>
          <a:ln w="0">
            <a:noFill/>
          </a:ln>
        </p:spPr>
      </p:pic>
      <p:pic>
        <p:nvPicPr>
          <p:cNvPr id="535" name="Содержимое 9" descr="Одуванчик1.jpeg"/>
          <p:cNvPicPr/>
          <p:nvPr/>
        </p:nvPicPr>
        <p:blipFill>
          <a:blip r:embed="rId2"/>
          <a:stretch/>
        </p:blipFill>
        <p:spPr>
          <a:xfrm>
            <a:off x="4648320" y="3267000"/>
            <a:ext cx="428148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5920" y="499680"/>
            <a:ext cx="875808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повник -</a:t>
            </a:r>
            <a:br>
              <a:rPr sz="5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сты с яркими Розовыми цветами. Но попробуй сорвать – сразу шип вопьется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537" name="Содержимое 8" descr="Шиповник1.JPG.jpeg"/>
          <p:cNvPicPr/>
          <p:nvPr/>
        </p:nvPicPr>
        <p:blipFill>
          <a:blip r:embed="rId1"/>
          <a:stretch/>
        </p:blipFill>
        <p:spPr>
          <a:xfrm>
            <a:off x="4917960" y="3000240"/>
            <a:ext cx="4083120" cy="3714840"/>
          </a:xfrm>
          <a:prstGeom prst="rect">
            <a:avLst/>
          </a:prstGeom>
          <a:ln w="0">
            <a:noFill/>
          </a:ln>
        </p:spPr>
      </p:pic>
      <p:pic>
        <p:nvPicPr>
          <p:cNvPr id="538" name="Содержимое 6" descr="Шиповник.JPG"/>
          <p:cNvPicPr/>
          <p:nvPr/>
        </p:nvPicPr>
        <p:blipFill>
          <a:blip r:embed="rId2"/>
          <a:stretch/>
        </p:blipFill>
        <p:spPr>
          <a:xfrm>
            <a:off x="214200" y="3046320"/>
            <a:ext cx="43815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смертник -</a:t>
            </a:r>
            <a:br>
              <a:rPr sz="54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имой не умирает, жив, цветет</a:t>
            </a:r>
            <a:endParaRPr b="0" lang="en-US" sz="40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540" name="Содержимое 7" descr="бессмертник.jpg"/>
          <p:cNvPicPr/>
          <p:nvPr/>
        </p:nvPicPr>
        <p:blipFill>
          <a:blip r:embed="rId1"/>
          <a:stretch/>
        </p:blipFill>
        <p:spPr>
          <a:xfrm>
            <a:off x="2286000" y="2189160"/>
            <a:ext cx="445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3:47:32Z</dcterms:created>
  <dc:creator>ADMIN</dc:creator>
  <dc:description/>
  <dc:language>en-US</dc:language>
  <cp:lastModifiedBy>User</cp:lastModifiedBy>
  <dcterms:modified xsi:type="dcterms:W3CDTF">2020-07-20T23:48:29Z</dcterms:modified>
  <cp:revision>53</cp:revision>
  <dc:subject/>
  <dc:title>Почему они так называются?</dc:title>
</cp:coreProperties>
</file>