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A4C-DB82-4E86-AF12-FD9D90A61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6A75-E31C-4AD0-AEAD-141253F52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DBA1-4202-4DBE-AAD4-633EF6B4F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7EF6-B9CB-40C5-ACA9-D5F44FAA7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C940-2E71-4793-A2AB-DC7583F8A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637-F087-479F-B3E9-5A863BD1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BA7-BA53-4EA5-8D71-9D4563C5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8B6-1D68-420D-A8C4-821C3F1D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A8A-0D7B-40E0-AC5C-8AF872CF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034-BAC2-4D38-8558-8802154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DD9-6987-4E91-90C0-FFC6696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858-DEF9-43DE-8A6A-83C975D7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21A-8596-4990-AAC6-6BC832B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A18-F44C-45F4-871E-6140F207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314-3D5A-4827-9A12-9601EA9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AEF-09E8-4EA9-90E0-6E374C6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F0E-0AD3-4193-B428-123A797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4962-A799-46D9-8D7F-F1A10CD23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Горизонтальный свиток 5"/>
          <p:cNvGrpSpPr/>
          <p:nvPr/>
        </p:nvGrpSpPr>
        <p:grpSpPr>
          <a:xfrm>
            <a:off x="-285840" y="49320"/>
            <a:ext cx="9715680" cy="5497560"/>
            <a:chOff x="-285840" y="49320"/>
            <a:chExt cx="9715680" cy="5497560"/>
          </a:xfrm>
        </p:grpSpPr>
        <p:pic>
          <p:nvPicPr>
            <p:cNvPr id="50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-285840" y="49320"/>
              <a:ext cx="97156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15960" y="933480"/>
              <a:ext cx="8220240" cy="36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00000"/>
                  </a:solidFill>
                  <a:uFillTx/>
                  <a:latin typeface="Arial"/>
                </a:rPr>
                <a:t>Выступление на тему: </a:t>
              </a: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«</a:t>
              </a: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Skysmart (</a:t>
              </a: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Скайсмарт)</a:t>
              </a: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 –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обучение с учётом возможностей ребён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2214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атформа Skysmart заставляет учащихся задумываться о грамотности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исания ответов на задания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2857680"/>
            <a:ext cx="8643960" cy="328608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чителям очень хорошо использовать  платформу Skysma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для подготовки уча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 ОГЭ, ЕГЭ, предметным олимпиад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8358120" y="63579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F809-8C0C-4CE7-A097-4415BE9F8181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Н\Desktop\75-let-fotografiya.jpg"/>
          <p:cNvPicPr/>
          <p:nvPr/>
        </p:nvPicPr>
        <p:blipFill>
          <a:blip r:embed="rId1"/>
          <a:srcRect l="2514" t="0" r="4394" b="0"/>
          <a:stretch/>
        </p:blipFill>
        <p:spPr>
          <a:xfrm>
            <a:off x="0" y="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Н\Desktop\6-9 кл-контакты\Мараф-дипломы\парад.jpg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30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Н\Desktop\6-9 кл-контакты\Мараф-дипломы\1-Рома Ягупов.jpg"/>
          <p:cNvPicPr/>
          <p:nvPr/>
        </p:nvPicPr>
        <p:blipFill>
          <a:blip r:embed="rId3"/>
          <a:srcRect l="6753" t="38194" r="4282" b="6249"/>
          <a:stretch/>
        </p:blipFill>
        <p:spPr>
          <a:xfrm>
            <a:off x="2928960" y="3127320"/>
            <a:ext cx="3357720" cy="373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2" name="Picture 4" descr="C:\Users\Н\Desktop\6-9 кл-контакты\Мараф-дипломы\2-Ева Сурина.jpg"/>
          <p:cNvPicPr/>
          <p:nvPr/>
        </p:nvPicPr>
        <p:blipFill>
          <a:blip r:embed="rId4"/>
          <a:srcRect l="0" t="4688" r="0" b="9674"/>
          <a:stretch/>
        </p:blipFill>
        <p:spPr>
          <a:xfrm>
            <a:off x="530280" y="3143160"/>
            <a:ext cx="2168640" cy="3714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Н\Desktop\6-9 кл-контакты\Мараф-дипломы\3-Ксюша Ополева.jpg"/>
          <p:cNvPicPr/>
          <p:nvPr/>
        </p:nvPicPr>
        <p:blipFill>
          <a:blip r:embed="rId5"/>
          <a:srcRect l="0" t="0" r="0" b="13022"/>
          <a:stretch/>
        </p:blipFill>
        <p:spPr>
          <a:xfrm>
            <a:off x="6500880" y="3143160"/>
            <a:ext cx="2135160" cy="37148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8643960" y="63579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9636-FD33-4A13-B7C4-04AF25115FA4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86" name="Picture 2" descr="https://edu-skysmart.skyeng.ru/assets/og-image.png"/>
          <p:cNvPicPr/>
          <p:nvPr/>
        </p:nvPicPr>
        <p:blipFill>
          <a:blip r:embed="rId2"/>
          <a:stretch/>
        </p:blipFill>
        <p:spPr>
          <a:xfrm>
            <a:off x="0" y="0"/>
            <a:ext cx="7483320" cy="392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Н\Pictures\серт.jpg"/>
          <p:cNvPicPr/>
          <p:nvPr/>
        </p:nvPicPr>
        <p:blipFill>
          <a:blip r:embed="rId3"/>
          <a:stretch/>
        </p:blipFill>
        <p:spPr>
          <a:xfrm>
            <a:off x="3500280" y="3063960"/>
            <a:ext cx="5643720" cy="379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407200"/>
            <a:ext cx="9156960" cy="1298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Н\Pictures\детки.jpg"/>
          <p:cNvPicPr/>
          <p:nvPr/>
        </p:nvPicPr>
        <p:blipFill>
          <a:blip r:embed="rId3"/>
          <a:srcRect l="2599" t="2752" r="2599" b="3723"/>
          <a:stretch/>
        </p:blipFill>
        <p:spPr>
          <a:xfrm>
            <a:off x="1714680" y="214200"/>
            <a:ext cx="544500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E9FE-083A-40AC-9094-102AC19DD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sun9-50.userapi.com/c857124/v857124224/16ce3d/Y-WJ7JaWvTk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8358120" y="62150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16A-C18C-410B-B616-9BB3EA9683DD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sun9-19.userapi.com/0m7qO_7yuHcI71OSlW66YZ1y6MhT0yHNui5hDA/cOKg3DDOnek.jpg"/>
          <p:cNvPicPr/>
          <p:nvPr/>
        </p:nvPicPr>
        <p:blipFill>
          <a:blip r:embed="rId1"/>
          <a:stretch/>
        </p:blipFill>
        <p:spPr>
          <a:xfrm>
            <a:off x="6480" y="357120"/>
            <a:ext cx="9137520" cy="5113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8572680" y="621504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F294-3589-44F1-8F70-B5C2093FD95E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7929720" y="6245280"/>
            <a:ext cx="1000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12F-C5B8-4755-A986-F682ECEFDB0A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avatars.mds.yandex.net/get-zen_doc/1925603/pub_5ea6ec79a391b87553951edb_5ea7c2985bba1914159d5fa1/scale_1200"/>
          <p:cNvPicPr/>
          <p:nvPr/>
        </p:nvPicPr>
        <p:blipFill>
          <a:blip r:embed="rId1"/>
          <a:srcRect l="1564" t="0" r="3125" b="0"/>
          <a:stretch/>
        </p:blipFill>
        <p:spPr>
          <a:xfrm>
            <a:off x="0" y="457200"/>
            <a:ext cx="9102600" cy="48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ttps://sun9-27.userapi.com/LLk-9sGeOcF5cbe0y2eXWmFRIsY_MrDNNlnPJA/0HEtg88vWwU.jpg"/>
          <p:cNvPicPr/>
          <p:nvPr/>
        </p:nvPicPr>
        <p:blipFill>
          <a:blip r:embed="rId1"/>
          <a:stretch/>
        </p:blipFill>
        <p:spPr>
          <a:xfrm>
            <a:off x="11160" y="98280"/>
            <a:ext cx="9132840" cy="6759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8643960" y="6429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653-7BAF-459B-A07C-72FFA91DBB3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643960" cy="100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еревод баллов в оценки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429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-19 баллов – «1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-39 баллов – «2»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40-59 баллов – «3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0-79 баллов – «4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-100 баллов – «5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8501040" y="6286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F8D7-67F2-41AD-8265-917AC70B3045}" type="slidenum">
              <a:rPr b="1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lack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Н\Desktop\6-9 кл-контакты\Интер. тетрадь\Настя Силкина.jpg"/>
          <p:cNvPicPr/>
          <p:nvPr/>
        </p:nvPicPr>
        <p:blipFill>
          <a:blip r:embed="rId2"/>
          <a:srcRect l="0" t="3776" r="0" b="0"/>
          <a:stretch/>
        </p:blipFill>
        <p:spPr>
          <a:xfrm>
            <a:off x="0" y="3143160"/>
            <a:ext cx="2170080" cy="371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Н\Desktop\6-9 кл-контакты\Интер. тетрадь\ВАЛЯ Б..jpg"/>
          <p:cNvPicPr/>
          <p:nvPr/>
        </p:nvPicPr>
        <p:blipFill>
          <a:blip r:embed="rId3"/>
          <a:srcRect l="0" t="10349" r="0" b="5174"/>
          <a:stretch/>
        </p:blipFill>
        <p:spPr>
          <a:xfrm>
            <a:off x="4643280" y="3071880"/>
            <a:ext cx="2241720" cy="378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Н\Desktop\6-9 кл-контакты\Интер. тетрадь\Сурина Ева.jpg"/>
          <p:cNvPicPr/>
          <p:nvPr/>
        </p:nvPicPr>
        <p:blipFill>
          <a:blip r:embed="rId4"/>
          <a:srcRect l="0" t="11764" r="0" b="5882"/>
          <a:stretch/>
        </p:blipFill>
        <p:spPr>
          <a:xfrm>
            <a:off x="2286000" y="3117960"/>
            <a:ext cx="2270160" cy="374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Н\Desktop\6-9 кл-контакты\Интер. тетрадь\ДАША Х..jpg"/>
          <p:cNvPicPr/>
          <p:nvPr/>
        </p:nvPicPr>
        <p:blipFill>
          <a:blip r:embed="rId5"/>
          <a:srcRect l="0" t="10871" r="0" b="6667"/>
          <a:stretch/>
        </p:blipFill>
        <p:spPr>
          <a:xfrm>
            <a:off x="6929280" y="3102120"/>
            <a:ext cx="2214720" cy="375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Н\Desktop\6-9 кл-контакты\Интер. тетрадь\Стёпа Д..jpg"/>
          <p:cNvPicPr/>
          <p:nvPr/>
        </p:nvPicPr>
        <p:blipFill>
          <a:blip r:embed="rId6"/>
          <a:srcRect l="24456" t="8266" r="8853" b="57029"/>
          <a:stretch/>
        </p:blipFill>
        <p:spPr>
          <a:xfrm>
            <a:off x="5000760" y="214200"/>
            <a:ext cx="3571920" cy="250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Н\Desktop\Выст. МОЁ\Зев. Мар.-100.jpg"/>
          <p:cNvPicPr/>
          <p:nvPr/>
        </p:nvPicPr>
        <p:blipFill>
          <a:blip r:embed="rId7"/>
          <a:srcRect l="14725" t="17094" r="15387" b="4276"/>
          <a:stretch/>
        </p:blipFill>
        <p:spPr>
          <a:xfrm>
            <a:off x="571680" y="214200"/>
            <a:ext cx="3951000" cy="2500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8572680" y="6500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3EE3-D076-4E76-B061-24930B8C6A3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3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те утверждения, которые иллюстрирую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цели принят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арной реформы А.П. Столып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643040"/>
            <a:ext cx="8643960" cy="521496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 производительности крестьянского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лная ликвидация крепост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квидация социальной напряженности в крестьянской ср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едение кулаков из зависимости от общины и окончательное разрушение общины;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крепление крестьянской общины, как гаранта социальной ответственности крестьян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зделение части помещичьей земли между крестьянами на наделы;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гашение задолженности крестьян перед государством и помещиками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 1,3,4                                                                                </a:t>
            </a:r>
            <a:fld id="{F69C6E7F-4D1A-4B04-9360-FCB6EFDB792E}" type="slidenum"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714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диво утверждение или нет (правда или ложь)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ередины 18 века при царском дворце перед вельможами выступали иностранные театральные труппы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едпосылки для создания национального театра заложил царь Алексей Михайлович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В царствовании Елизаветы Петровны появились первые театры при учебных заведениях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Первым успех пришел к ярославскому актеру и режиссеру Фёдору Григорьевичу  Волкову. Елизавета Петровна вызвала его в Петербург, и он стал директором первого русского профессионального театра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атре стали активно ставить трагедии на русские сюжеты, но эта тема публике не нравилась и их быстро сняли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67 г. был поставлен балет "Забавы о святках"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е время не было русских танцовщиков, поэтому в балете "Забавы о святках" танцевали артисты из Ита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.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8 веке началось строительство помещений для театров. В 1756г. на Царицыном лугу был построен Постоянный русский театр. В 1760 г. в Москве построили Театр для русских комедий, трагедий и опер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Ответ: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5, 7 – ложь;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 3, 4, 6, 8 – правда                                                </a:t>
            </a:r>
            <a:fld id="{A297EBA4-73B5-44B1-9A10-E8F42B2D3D75}" type="slidenum"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5:39:40Z</dcterms:created>
  <dc:creator>Азисоиа</dc:creator>
  <dc:description/>
  <dc:language>en-US</dc:language>
  <cp:lastModifiedBy>Н</cp:lastModifiedBy>
  <dcterms:modified xsi:type="dcterms:W3CDTF">2020-08-26T20:45:57Z</dcterms:modified>
  <cp:revision>4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