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1E7D-9D4F-49E5-9251-8DA999096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0E2-9525-45C8-A901-516DD043E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8DF2-82D6-49CE-8B52-9BB654737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3434-934D-4588-B5D0-09D5C722F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5B7-6B98-4901-AAD4-7509ECD3A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782-7584-4F04-B3D2-38471902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C21-94E3-4CF8-9A52-C474A2C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33F-C4BB-4B32-87F7-539D8A95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28A-CFEE-4D89-AD75-5E7130E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C68-6667-463A-B3E6-ED26165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292-4A94-4F05-AC10-E8BFB103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491-08CB-47FC-8AFF-00DAEF12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FD-9FCE-4762-852F-ACA6D50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E89-7CBF-4C4B-94FC-19A00E5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49F-5C47-4DE7-B888-7596208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92A-A17C-4331-9127-1F0EB49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77D-9095-4B66-B796-0FA0293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6059-1458-4220-A9C3-10C80FAB8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Горизонтальный свиток 5"/>
          <p:cNvGrpSpPr/>
          <p:nvPr/>
        </p:nvGrpSpPr>
        <p:grpSpPr>
          <a:xfrm>
            <a:off x="-285840" y="49320"/>
            <a:ext cx="9715680" cy="5497560"/>
            <a:chOff x="-285840" y="49320"/>
            <a:chExt cx="9715680" cy="5497560"/>
          </a:xfrm>
        </p:grpSpPr>
        <p:pic>
          <p:nvPicPr>
            <p:cNvPr id="50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-285840" y="49320"/>
              <a:ext cx="97156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5960" y="933480"/>
              <a:ext cx="8220240" cy="36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00000"/>
                  </a:solidFill>
                  <a:uFillTx/>
                  <a:latin typeface="Arial"/>
                </a:rPr>
                <a:t>Выступление на тему: </a:t>
              </a: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«</a:t>
              </a: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Skysmart (</a:t>
              </a: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Скайсмарт)</a:t>
              </a: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 –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обучение с учётом возможностей ребён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214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тформа Skysmart заставляет учащихся задумываться о грамотност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исания ответов на задания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2857680"/>
            <a:ext cx="8643960" cy="328608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чителям очень хорошо использовать  платформу Skysma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ля подготовки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 ОГЭ, ЕГЭ, предметным олимпиад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8358120" y="63579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853-2E2F-4E77-B847-229C5E2CE386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Н\Desktop\75-let-fotografiya.jpg"/>
          <p:cNvPicPr/>
          <p:nvPr/>
        </p:nvPicPr>
        <p:blipFill>
          <a:blip r:embed="rId1"/>
          <a:srcRect l="2514" t="0" r="4394" b="0"/>
          <a:stretch/>
        </p:blipFill>
        <p:spPr>
          <a:xfrm>
            <a:off x="0" y="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Н\Desktop\6-9 кл-контакты\Мараф-дипломы\парад.jpg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Н\Desktop\6-9 кл-контакты\Мараф-дипломы\1-Рома Ягупов.jpg"/>
          <p:cNvPicPr/>
          <p:nvPr/>
        </p:nvPicPr>
        <p:blipFill>
          <a:blip r:embed="rId3"/>
          <a:srcRect l="6753" t="38194" r="4282" b="6249"/>
          <a:stretch/>
        </p:blipFill>
        <p:spPr>
          <a:xfrm>
            <a:off x="2928960" y="3127320"/>
            <a:ext cx="3357720" cy="373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2" name="Picture 4" descr="C:\Users\Н\Desktop\6-9 кл-контакты\Мараф-дипломы\2-Ева Сурина.jpg"/>
          <p:cNvPicPr/>
          <p:nvPr/>
        </p:nvPicPr>
        <p:blipFill>
          <a:blip r:embed="rId4"/>
          <a:srcRect l="0" t="4688" r="0" b="9674"/>
          <a:stretch/>
        </p:blipFill>
        <p:spPr>
          <a:xfrm>
            <a:off x="530280" y="3143160"/>
            <a:ext cx="216864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Н\Desktop\6-9 кл-контакты\Мараф-дипломы\3-Ксюша Ополева.jpg"/>
          <p:cNvPicPr/>
          <p:nvPr/>
        </p:nvPicPr>
        <p:blipFill>
          <a:blip r:embed="rId5"/>
          <a:srcRect l="0" t="0" r="0" b="13022"/>
          <a:stretch/>
        </p:blipFill>
        <p:spPr>
          <a:xfrm>
            <a:off x="6500880" y="3143160"/>
            <a:ext cx="2135160" cy="37148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8643960" y="63579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082-8FAE-454C-B3DB-ABB324CC5065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6" name="Picture 2" descr="https://edu-skysmart.skyeng.ru/assets/og-image.png"/>
          <p:cNvPicPr/>
          <p:nvPr/>
        </p:nvPicPr>
        <p:blipFill>
          <a:blip r:embed="rId2"/>
          <a:stretch/>
        </p:blipFill>
        <p:spPr>
          <a:xfrm>
            <a:off x="0" y="0"/>
            <a:ext cx="7483320" cy="392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Н\Pictures\серт.jpg"/>
          <p:cNvPicPr/>
          <p:nvPr/>
        </p:nvPicPr>
        <p:blipFill>
          <a:blip r:embed="rId3"/>
          <a:stretch/>
        </p:blipFill>
        <p:spPr>
          <a:xfrm>
            <a:off x="3500280" y="3063960"/>
            <a:ext cx="5643720" cy="37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407200"/>
            <a:ext cx="9156960" cy="129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Н\Pictures\детки.jpg"/>
          <p:cNvPicPr/>
          <p:nvPr/>
        </p:nvPicPr>
        <p:blipFill>
          <a:blip r:embed="rId3"/>
          <a:srcRect l="2599" t="2752" r="2599" b="3723"/>
          <a:stretch/>
        </p:blipFill>
        <p:spPr>
          <a:xfrm>
            <a:off x="1714680" y="214200"/>
            <a:ext cx="544500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BA0-E11C-44F7-8A60-4CD503390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sun9-50.userapi.com/c857124/v857124224/16ce3d/Y-WJ7JaWvTk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8358120" y="6215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94BB-DF32-4083-AAAB-DDF1B3CB5438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sun9-19.userapi.com/0m7qO_7yuHcI71OSlW66YZ1y6MhT0yHNui5hDA/cOKg3DDOnek.jpg"/>
          <p:cNvPicPr/>
          <p:nvPr/>
        </p:nvPicPr>
        <p:blipFill>
          <a:blip r:embed="rId1"/>
          <a:stretch/>
        </p:blipFill>
        <p:spPr>
          <a:xfrm>
            <a:off x="6480" y="357120"/>
            <a:ext cx="9137520" cy="5113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8572680" y="62150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C71-5FD9-4EAE-8F55-6E666535BB38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929720" y="6245280"/>
            <a:ext cx="1000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73DC-AAE6-4DC9-B48A-264E9716ADC1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avatars.mds.yandex.net/get-zen_doc/1925603/pub_5ea6ec79a391b87553951edb_5ea7c2985bba1914159d5fa1/scale_1200"/>
          <p:cNvPicPr/>
          <p:nvPr/>
        </p:nvPicPr>
        <p:blipFill>
          <a:blip r:embed="rId1"/>
          <a:srcRect l="1564" t="0" r="3125" b="0"/>
          <a:stretch/>
        </p:blipFill>
        <p:spPr>
          <a:xfrm>
            <a:off x="0" y="457200"/>
            <a:ext cx="9102600" cy="48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ttps://sun9-27.userapi.com/LLk-9sGeOcF5cbe0y2eXWmFRIsY_MrDNNlnPJA/0HEtg88vWwU.jpg"/>
          <p:cNvPicPr/>
          <p:nvPr/>
        </p:nvPicPr>
        <p:blipFill>
          <a:blip r:embed="rId1"/>
          <a:stretch/>
        </p:blipFill>
        <p:spPr>
          <a:xfrm>
            <a:off x="11160" y="98280"/>
            <a:ext cx="9132840" cy="6759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8643960" y="6429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970A-198F-4A96-BB11-BAB65C85C45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еревод баллов в оценк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429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-19 баллов – «1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-39 баллов – «2»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0-59 баллов – «3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0-79 баллов – «4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-100 баллов – «5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8501040" y="6286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236-8641-4F48-82E4-07C541796062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Н\Desktop\6-9 кл-контакты\Интер. тетрадь\Настя Силкина.jpg"/>
          <p:cNvPicPr/>
          <p:nvPr/>
        </p:nvPicPr>
        <p:blipFill>
          <a:blip r:embed="rId2"/>
          <a:srcRect l="0" t="3776" r="0" b="0"/>
          <a:stretch/>
        </p:blipFill>
        <p:spPr>
          <a:xfrm>
            <a:off x="0" y="3143160"/>
            <a:ext cx="2170080" cy="37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Н\Desktop\6-9 кл-контакты\Интер. тетрадь\ВАЛЯ Б..jpg"/>
          <p:cNvPicPr/>
          <p:nvPr/>
        </p:nvPicPr>
        <p:blipFill>
          <a:blip r:embed="rId3"/>
          <a:srcRect l="0" t="10349" r="0" b="5174"/>
          <a:stretch/>
        </p:blipFill>
        <p:spPr>
          <a:xfrm>
            <a:off x="4643280" y="3071880"/>
            <a:ext cx="2241720" cy="378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Н\Desktop\6-9 кл-контакты\Интер. тетрадь\Сурина Ева.jpg"/>
          <p:cNvPicPr/>
          <p:nvPr/>
        </p:nvPicPr>
        <p:blipFill>
          <a:blip r:embed="rId4"/>
          <a:srcRect l="0" t="11764" r="0" b="5882"/>
          <a:stretch/>
        </p:blipFill>
        <p:spPr>
          <a:xfrm>
            <a:off x="2286000" y="3117960"/>
            <a:ext cx="2270160" cy="37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\Desktop\6-9 кл-контакты\Интер. тетрадь\ДАША Х..jpg"/>
          <p:cNvPicPr/>
          <p:nvPr/>
        </p:nvPicPr>
        <p:blipFill>
          <a:blip r:embed="rId5"/>
          <a:srcRect l="0" t="10871" r="0" b="6667"/>
          <a:stretch/>
        </p:blipFill>
        <p:spPr>
          <a:xfrm>
            <a:off x="6929280" y="3102120"/>
            <a:ext cx="2214720" cy="375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Н\Desktop\6-9 кл-контакты\Интер. тетрадь\Стёпа Д..jpg"/>
          <p:cNvPicPr/>
          <p:nvPr/>
        </p:nvPicPr>
        <p:blipFill>
          <a:blip r:embed="rId6"/>
          <a:srcRect l="24456" t="8266" r="8853" b="57029"/>
          <a:stretch/>
        </p:blipFill>
        <p:spPr>
          <a:xfrm>
            <a:off x="5000760" y="214200"/>
            <a:ext cx="3571920" cy="250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Н\Desktop\Выст. МОЁ\Зев. Мар.-100.jpg"/>
          <p:cNvPicPr/>
          <p:nvPr/>
        </p:nvPicPr>
        <p:blipFill>
          <a:blip r:embed="rId7"/>
          <a:srcRect l="14725" t="17094" r="15387" b="4276"/>
          <a:stretch/>
        </p:blipFill>
        <p:spPr>
          <a:xfrm>
            <a:off x="571680" y="214200"/>
            <a:ext cx="3951000" cy="2500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857268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DF5-BAA6-4B98-B7FD-55F479297FB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3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те утверждения, которые иллюстрирую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цели принят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арной реформы А.П. Столып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3040"/>
            <a:ext cx="8643960" cy="521496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производительности крестьянск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ная ликвидация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квидация социальной напряженности в крестьянско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едение кулаков из зависимости от общины и окончательное разрушение общины;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крепление крестьянской общины, как гаранта социальной ответственности крестьян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деление части помещичьей земли между крестьянами на наделы;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гашение задолженности крестьян перед государством и помещиками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 1,3,4                                                                                </a:t>
            </a:r>
            <a:fld id="{AE53860F-9963-4A9F-A55C-8F422CC22BA1}" type="slidenum"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714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диво утверждение или нет (правда или ложь)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ередины 18 века при царском дворце перед вельможами выступали иностранные театральные труппы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посылки для создания национального театра заложил царь Алексей Михайлович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В царствовании Елизаветы Петровны появились первые театры при учебных заведения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Первым успех пришел к ярославскому актеру и режиссеру Фёдору Григорьевичу  Волкову. Елизавета Петровна вызвала его в Петербург, и он стал директором первого русского профессионального театра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атре стали активно ставить трагедии на русские сюжеты, но эта тема публике не нравилась и их быстро сняли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67 г. был поставлен балет "Забавы о святках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е время не было русских танцовщиков, поэтому в балете "Забавы о святках" танцевали артисты из Ит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8 веке началось строительство помещений для театров. В 1756г. на Царицыном лугу был построен Постоянный русский театр. В 1760 г. в Москве построили Театр для русских комедий, трагедий и опер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твет: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5, 7 – ложь;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 3, 4, 6, 8 – правда                                                </a:t>
            </a:r>
            <a:fld id="{70A8F8F8-106F-42E5-9C89-BB10100245FE}" type="slidenum"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5:39:40Z</dcterms:created>
  <dc:creator>Азисоиа</dc:creator>
  <dc:description/>
  <dc:language>en-US</dc:language>
  <cp:lastModifiedBy>Н</cp:lastModifiedBy>
  <dcterms:modified xsi:type="dcterms:W3CDTF">2020-08-26T20:45:57Z</dcterms:modified>
  <cp:revision>4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