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566-4D76-41EB-AEB0-0D845BE0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343-BBD7-45A6-8865-549B0E3B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11C-ADFD-4078-AF5D-3F385350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61B-43E8-4758-8AFB-48AD4C51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576-0FA7-4640-AA51-FE4C459F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A33-7522-4496-B609-8FEE6101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8AB-E62F-4D71-A385-AED8E130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377-82F7-41EB-B493-EA5964BD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EE4-68B2-4EBF-88F1-8CCBE36E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444-D1FE-4251-9D8F-3AC8264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984-10E1-44BB-9A61-A79687F8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58E-655D-4B32-8879-5D6930B0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5CD8D-2B19-4353-A6E3-7168BA8492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1640" y="1152360"/>
            <a:ext cx="475164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Скверная истор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иженьем полон горо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ут машины в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ветные свето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ень, и ночь г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кто при красном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агает напрям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это мальчик Пет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вастун и озор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59560" y="1284120"/>
            <a:ext cx="391608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лнуются шоф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 все гудки гу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еса и мо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ановить хо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нул водитель кру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тел как нико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ще одна минут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илась бы бе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691" t="21509" r="70685" b="60591"/>
          <a:stretch/>
        </p:blipFill>
        <p:spPr>
          <a:xfrm>
            <a:off x="216000" y="165564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64671" t="21509" r="10699" b="60591"/>
          <a:stretch/>
        </p:blipFill>
        <p:spPr>
          <a:xfrm>
            <a:off x="5364000" y="1728720"/>
            <a:ext cx="424836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4691" t="40320" r="70685" b="41776"/>
          <a:stretch/>
        </p:blipFill>
        <p:spPr>
          <a:xfrm>
            <a:off x="720720" y="1871640"/>
            <a:ext cx="4103640" cy="410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64986" t="40320" r="9869" b="41776"/>
          <a:stretch/>
        </p:blipFill>
        <p:spPr>
          <a:xfrm>
            <a:off x="5506920" y="1871640"/>
            <a:ext cx="41878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691" t="60054" r="70685" b="22042"/>
          <a:stretch/>
        </p:blipFill>
        <p:spPr>
          <a:xfrm>
            <a:off x="719280" y="1944720"/>
            <a:ext cx="3887640" cy="388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64427" t="61049" r="10032" b="22042"/>
          <a:stretch/>
        </p:blipFill>
        <p:spPr>
          <a:xfrm>
            <a:off x="5356080" y="1957320"/>
            <a:ext cx="4176720" cy="38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6000" y="2178000"/>
            <a:ext cx="993600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 я узнал(а) 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этом уроке я похвалил(а) бы себя за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сле урока мне захотелось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егодня я сумел(а)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21:11:15Z</dcterms:created>
  <dc:creator/>
  <dc:description/>
  <dc:language>en-US</dc:language>
  <cp:lastModifiedBy/>
  <dcterms:modified xsi:type="dcterms:W3CDTF">2018-03-01T21:45:05Z</dcterms:modified>
  <cp:revision>1</cp:revision>
  <dc:subject/>
  <dc:title/>
</cp:coreProperties>
</file>