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67B-5B24-43EF-A507-F75BCBA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391-832C-400D-9E2B-0F42752C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6E5-7AD6-494F-B741-660E3FE3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595-E0EC-4F8D-8309-02C26B58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73A-B2F1-4B61-8E4F-BE8C9C4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5C9-3A76-42B1-9F91-E5C9609F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AD8-ACF4-4F8F-8229-1BDBF58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29A-6881-4439-8999-29566B4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E2B-641A-4653-AA3C-996CC83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16E-F7E2-4789-B076-BEFE5F3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C0B-163D-471D-963A-E30ED73E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4B0-E77B-400F-B8BD-5EF8284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E65AA-B2C6-4B1B-8665-98AB22C34C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1152360"/>
            <a:ext cx="475164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кверная исто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ьем полон горо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ут машины в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ные свето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ень, и ночь г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кто при крас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гает напрям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это мальчик Пет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астун и озо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59560" y="1284120"/>
            <a:ext cx="39160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нуются шоф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се гудки гу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са и мо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новить х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нул водитель кру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тел как ник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ще одна мину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илась бы бе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691" t="21509" r="70685" b="60591"/>
          <a:stretch/>
        </p:blipFill>
        <p:spPr>
          <a:xfrm>
            <a:off x="216000" y="165564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64671" t="21509" r="10699" b="60591"/>
          <a:stretch/>
        </p:blipFill>
        <p:spPr>
          <a:xfrm>
            <a:off x="5364000" y="1728720"/>
            <a:ext cx="42483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4691" t="40320" r="70685" b="41776"/>
          <a:stretch/>
        </p:blipFill>
        <p:spPr>
          <a:xfrm>
            <a:off x="720720" y="1871640"/>
            <a:ext cx="4103640" cy="410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64986" t="40320" r="9869" b="41776"/>
          <a:stretch/>
        </p:blipFill>
        <p:spPr>
          <a:xfrm>
            <a:off x="5506920" y="1871640"/>
            <a:ext cx="41878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691" t="60054" r="70685" b="22042"/>
          <a:stretch/>
        </p:blipFill>
        <p:spPr>
          <a:xfrm>
            <a:off x="719280" y="194472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64427" t="61049" r="10032" b="22042"/>
          <a:stretch/>
        </p:blipFill>
        <p:spPr>
          <a:xfrm>
            <a:off x="5356080" y="1957320"/>
            <a:ext cx="417672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2178000"/>
            <a:ext cx="993600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 я узнал(а)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этом уроке я похвалил(а) бы себя за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е урока мне захотелось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годня я сумел(а)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21:11:15Z</dcterms:created>
  <dc:creator/>
  <dc:description/>
  <dc:language>en-US</dc:language>
  <cp:lastModifiedBy/>
  <dcterms:modified xsi:type="dcterms:W3CDTF">2018-03-01T21:45:05Z</dcterms:modified>
  <cp:revision>1</cp:revision>
  <dc:subject/>
  <dc:title/>
</cp:coreProperties>
</file>