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6CD-CD24-46E7-9ABA-CC45FA4BE39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656-5FFE-4C0F-A975-5DEF8DC2129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1408-4E9B-4DE4-9555-DCFF4121D1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6BA-4070-44ED-9C4B-97306188FB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6CD5-3DB9-4511-9383-7654B13F1D1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BCAE-A6DF-4ECA-BAB3-3F37575A9BD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BAA0-DED1-4AF4-9155-B280E148266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97AC-8972-4783-8D49-CCD55FCFF4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D7D-35F0-42D8-BC70-3C678FD6E98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134-4F1C-480A-B5FE-D8DFBD292CB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DFC1-8CBA-452A-B48D-8FC4EEC35C0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583-03A4-46C0-8384-021B2DCA90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40CC-F578-429A-9328-F12A6401B5C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22B-4247-467C-BF53-4934DD6CDA8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3ED-E2F9-4B18-B5BB-483869B8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7CB-C21C-4311-ACE3-5CCD25F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2B4-A256-4B03-B065-640CF22C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3B5-159C-4FB2-9BBA-AD579A1E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91A-20FE-4EF1-ABF9-BD5EBCD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AC0-E3D3-40DA-8E4C-70179AC6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96-5FBE-4E17-B267-31DC3BA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9F3-DDC7-4185-9986-EBDD743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8D4-F851-487C-84A1-9885680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2F2-B3B8-4F85-88CE-4C6AE6A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61F-630D-4885-B139-E0A45FA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1B5-7B46-4089-A2C5-8876005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83E-B763-478A-B640-EDC563F71C4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89440" y="549000"/>
            <a:ext cx="600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ff"/>
                </a:solidFill>
                <a:latin typeface="Verdana"/>
              </a:rPr>
              <a:t>London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0" lang="pl-PL" sz="4800" spc="-1" strike="noStrike">
                <a:solidFill>
                  <a:srgbClr val="ffffff"/>
                </a:solidFill>
                <a:latin typeface="Verdana"/>
              </a:rPr>
              <a:t>landma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971640" y="3968640"/>
            <a:ext cx="540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10"/>
          <p:cNvPicPr/>
          <p:nvPr/>
        </p:nvPicPr>
        <p:blipFill>
          <a:blip r:embed="rId1"/>
          <a:stretch/>
        </p:blipFill>
        <p:spPr>
          <a:xfrm>
            <a:off x="465768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191040" y="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-1230480" y="4883040"/>
            <a:ext cx="5040360" cy="3651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2960640" y="541008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rafalga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 Sq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50920" y="549360"/>
            <a:ext cx="4968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 square in central Lond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ich commemo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Battle of Trafalgar in 180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elson’s column is in the cent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urrounded by fount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nd four huge bronze l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1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1219320" y="5111640"/>
            <a:ext cx="4440240" cy="36514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52280" y="5562720"/>
            <a:ext cx="852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ritish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Muse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43000" y="1523880"/>
            <a:ext cx="1332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of the world’s larg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ost import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useums of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y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cultu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 to over se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llion objects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 conti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5562720" y="4952880"/>
            <a:ext cx="3886200" cy="365148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916360" y="556272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Piccadilly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Circ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304920"/>
            <a:ext cx="5219640" cy="348444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50920" y="549360"/>
            <a:ext cx="5113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mous traffic inters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owned for its video 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eon signs as w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Shaftesbury memo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tain and the stat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ngel of Christi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ity, often called „Er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You have seen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just a few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f the attractions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f London.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Visit the British capital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to see what else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it has got in st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5" descr="2"/>
          <p:cNvPicPr/>
          <p:nvPr/>
        </p:nvPicPr>
        <p:blipFill>
          <a:blip r:embed="rId1"/>
          <a:stretch/>
        </p:blipFill>
        <p:spPr>
          <a:xfrm>
            <a:off x="4656240" y="0"/>
            <a:ext cx="448776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17196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3433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37"/>
          <p:cNvSpPr/>
          <p:nvPr/>
        </p:nvSpPr>
        <p:spPr>
          <a:xfrm>
            <a:off x="-609480" y="5638680"/>
            <a:ext cx="4114800" cy="2362320"/>
          </a:xfrm>
          <a:prstGeom prst="ellipse">
            <a:avLst/>
          </a:prstGeom>
          <a:solidFill>
            <a:srgbClr val="ff9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0" y="5867280"/>
            <a:ext cx="267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ig Ben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6"/>
          <p:cNvSpPr/>
          <p:nvPr/>
        </p:nvSpPr>
        <p:spPr>
          <a:xfrm>
            <a:off x="358920" y="380880"/>
            <a:ext cx="35049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e of the most f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landmarks of Lond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name „Big B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does not re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o the whole clocktow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ut to the thirteen-ton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ell that strikes the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3a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Oval 15"/>
          <p:cNvSpPr/>
          <p:nvPr/>
        </p:nvSpPr>
        <p:spPr>
          <a:xfrm>
            <a:off x="-1066680" y="-1523880"/>
            <a:ext cx="6095880" cy="3581280"/>
          </a:xfrm>
          <a:prstGeom prst="ellipse">
            <a:avLst/>
          </a:prstGeom>
          <a:solidFill>
            <a:srgbClr val="e9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63440" y="22860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he Houses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of Parlia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8920" y="4800600"/>
            <a:ext cx="66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ig Ben is a part of The Houses of Parlia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lso known as the Palace of Westminst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building consists of The House of Common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House of Lords and Westminster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4"/>
          <p:cNvPicPr/>
          <p:nvPr/>
        </p:nvPicPr>
        <p:blipFill>
          <a:blip r:embed="rId1"/>
          <a:stretch/>
        </p:blipFill>
        <p:spPr>
          <a:xfrm>
            <a:off x="465768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7524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58920" y="401760"/>
            <a:ext cx="41068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 the other 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the River Tha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you can s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London Ey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ometimes cal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Millenium Whee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larges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eel in the wor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t was ope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 December 31,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-988920" y="5394240"/>
            <a:ext cx="5332320" cy="33688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-2198520" y="586728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London Ey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5"/>
          <p:cNvPicPr/>
          <p:nvPr/>
        </p:nvPicPr>
        <p:blipFill>
          <a:blip r:embed="rId1"/>
          <a:stretch/>
        </p:blipFill>
        <p:spPr>
          <a:xfrm>
            <a:off x="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Oval 9"/>
          <p:cNvSpPr/>
          <p:nvPr/>
        </p:nvSpPr>
        <p:spPr>
          <a:xfrm>
            <a:off x="4653000" y="4876920"/>
            <a:ext cx="4871880" cy="28954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257800" y="556272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Westminste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Abb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68560" y="415800"/>
            <a:ext cx="41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Just next to th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Westmins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is gothic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s the traditional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coronation and bu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ite for English monarchs</a:t>
            </a:r>
            <a:r>
              <a:rPr b="0" lang="pl-PL" sz="2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9098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45268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4572000" y="5029200"/>
            <a:ext cx="5408640" cy="274320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2916360" y="556272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uckingham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 Pa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8560" y="410760"/>
            <a:ext cx="86756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is is the official London residence of the British mon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front of it stands a sculpture called the Victoria Memori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 large statue of Queen Vic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256716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5551560" y="5264280"/>
            <a:ext cx="5040360" cy="3651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715000" y="5562720"/>
            <a:ext cx="320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owe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of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58320" y="3123720"/>
            <a:ext cx="5365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ituated by the River Tham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t is the most famous fort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the UK. It is a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f buildings which have 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s treasury, mint, palace,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f execution and pri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69560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114800" y="-990720"/>
            <a:ext cx="6913440" cy="2422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724280" y="-76320"/>
            <a:ext cx="420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ower Bri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0" y="4419720"/>
            <a:ext cx="6705720" cy="229536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50920" y="4694400"/>
            <a:ext cx="83534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e Bridge, constructed in the 1890s, took 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me from the nearby Tower of Lond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e road over the bridge can be rai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o allow ships to pass throu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Oval 13"/>
          <p:cNvSpPr/>
          <p:nvPr/>
        </p:nvSpPr>
        <p:spPr>
          <a:xfrm>
            <a:off x="5562720" y="5181480"/>
            <a:ext cx="5040360" cy="3651480"/>
          </a:xfrm>
          <a:prstGeom prst="ellipse">
            <a:avLst/>
          </a:prstGeom>
          <a:solidFill>
            <a:srgbClr val="e9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59280" y="563868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St Paul’s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Cathed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2050920" y="6958080"/>
            <a:ext cx="1944720" cy="71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25" h="45">
                <a:moveTo>
                  <a:pt x="0" y="45"/>
                </a:moveTo>
                <a:cubicBezTo>
                  <a:pt x="488" y="22"/>
                  <a:pt x="976" y="0"/>
                  <a:pt x="1225" y="4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50920" y="351000"/>
            <a:ext cx="4168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present cathedral d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from the 17th centur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en it was rebuilt af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Great Fi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London, and w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design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Christopher W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1:14:22Z</dcterms:created>
  <dc:creator>Анастасия Измайлова</dc:creator>
  <dc:description/>
  <dc:language>en-US</dc:language>
  <cp:lastModifiedBy>missis.nikitina-elena@yandex.ru</cp:lastModifiedBy>
  <dcterms:modified xsi:type="dcterms:W3CDTF">2020-08-23T19:13:39Z</dcterms:modified>
  <cp:revision>238</cp:revision>
  <dc:subject/>
  <dc:title>Famous London sites</dc:title>
</cp:coreProperties>
</file>