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A056-EADD-4D94-B786-B9D806E87D4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214B-B203-4610-9DCF-E5FEACE17DC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4FD-8441-49F4-8757-B348677890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275-63D2-410A-8B2B-D754FB18E85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478E-2A15-45C2-9285-BF4B377B81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22E2-DB63-4A08-B787-D6B5A82047E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3598-15B8-4DF7-82AF-0015D051FBF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682-C2D8-4AAE-A31D-CD390230F26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83C6-345E-47CD-A618-D8FCCEAB96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715-277B-429B-86BE-95BD92B94C4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974-7882-4AB3-A273-516F4635974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F16-8CD8-483A-BA7E-162FE350AEC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8E29-FDD4-46E6-8990-61703FBBAE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D939-E5BA-49C5-96EC-6406AE55F8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A9F-950C-4003-B072-0DB0CD59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634-5BF2-4263-BE2A-A72A8620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A78-C095-4E25-AB25-139130AF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63C-8155-4433-BF18-3BF61A2D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F51-948B-4ABF-AE67-2FCE50C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BB7-F8B7-4333-BF59-97EE5AC7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962-028E-43AC-A334-6AFF31A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592-0F21-4D1D-BFA7-E89D39D8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521-0B7B-400F-BF51-49699A7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857-8A20-4AA2-9AD4-9EE2336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510-B955-4091-92F0-ED5F127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0F3-0BC4-4AD9-A653-05F5C875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413E-F0E3-4748-A1FC-8C9FDB0A1AA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89440" y="549000"/>
            <a:ext cx="600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ff"/>
                </a:solidFill>
                <a:latin typeface="Verdana"/>
              </a:rPr>
              <a:t>London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0" lang="pl-PL" sz="4800" spc="-1" strike="noStrike">
                <a:solidFill>
                  <a:srgbClr val="ffffff"/>
                </a:solidFill>
                <a:latin typeface="Verdana"/>
              </a:rPr>
              <a:t>landmar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971640" y="3968640"/>
            <a:ext cx="540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10"/>
          <p:cNvPicPr/>
          <p:nvPr/>
        </p:nvPicPr>
        <p:blipFill>
          <a:blip r:embed="rId1"/>
          <a:stretch/>
        </p:blipFill>
        <p:spPr>
          <a:xfrm>
            <a:off x="465768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191040" y="12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-1230480" y="4883040"/>
            <a:ext cx="5040360" cy="3651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-2960640" y="5410080"/>
            <a:ext cx="60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rafalgar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 Squ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50920" y="549360"/>
            <a:ext cx="4968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A square in central Lond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which commemo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Battle of Trafalgar in 180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Nelson’s column is in the cent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urrounded by fount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and four huge bronze l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1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5146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1219320" y="5111640"/>
            <a:ext cx="4440240" cy="36514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52280" y="5562720"/>
            <a:ext cx="852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British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Muse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43000" y="1523880"/>
            <a:ext cx="1332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of the world’s larg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ost import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useums of 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y</a:t>
            </a: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cultu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 to over sev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llion objects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 conti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5562720" y="4952880"/>
            <a:ext cx="3886200" cy="365148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916360" y="556272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Piccadilly 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Circ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304920"/>
            <a:ext cx="5219640" cy="348444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50920" y="549360"/>
            <a:ext cx="5113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mous traffic inters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owned for its video displ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eon signs as w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Shaftesbury memo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tain and the stat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ngel of Christi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ity, often called „Er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You have seen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just a few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of the attractions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of London.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Visit the British capital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to see what else 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it has got in st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5" descr="2"/>
          <p:cNvPicPr/>
          <p:nvPr/>
        </p:nvPicPr>
        <p:blipFill>
          <a:blip r:embed="rId1"/>
          <a:stretch/>
        </p:blipFill>
        <p:spPr>
          <a:xfrm>
            <a:off x="4656240" y="0"/>
            <a:ext cx="448776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17196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34332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37"/>
          <p:cNvSpPr/>
          <p:nvPr/>
        </p:nvSpPr>
        <p:spPr>
          <a:xfrm>
            <a:off x="-609480" y="5638680"/>
            <a:ext cx="4114800" cy="2362320"/>
          </a:xfrm>
          <a:prstGeom prst="ellipse">
            <a:avLst/>
          </a:prstGeom>
          <a:solidFill>
            <a:srgbClr val="ff9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0" y="5867280"/>
            <a:ext cx="267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Big Ben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6"/>
          <p:cNvSpPr/>
          <p:nvPr/>
        </p:nvSpPr>
        <p:spPr>
          <a:xfrm>
            <a:off x="358920" y="380880"/>
            <a:ext cx="35049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ne of the most f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landmarks of Lond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name „Big B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does not re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o the whole clocktow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but to the thirteen-ton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bell that strikes the h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3a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Oval 15"/>
          <p:cNvSpPr/>
          <p:nvPr/>
        </p:nvSpPr>
        <p:spPr>
          <a:xfrm>
            <a:off x="-1066680" y="-1523880"/>
            <a:ext cx="6095880" cy="3581280"/>
          </a:xfrm>
          <a:prstGeom prst="ellipse">
            <a:avLst/>
          </a:prstGeom>
          <a:solidFill>
            <a:srgbClr val="e96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63440" y="228600"/>
            <a:ext cx="60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he Houses 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of Parlia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8920" y="4800600"/>
            <a:ext cx="66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Big Ben is a part of The Houses of Parlia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also known as the Palace of Westminst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building consists of The House of Common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House of Lords and Westminster H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4"/>
          <p:cNvPicPr/>
          <p:nvPr/>
        </p:nvPicPr>
        <p:blipFill>
          <a:blip r:embed="rId1"/>
          <a:stretch/>
        </p:blipFill>
        <p:spPr>
          <a:xfrm>
            <a:off x="465768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7524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58920" y="401760"/>
            <a:ext cx="41068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n the other 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the River Tha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you can s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London Ey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ometimes cal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Millenium Whee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larges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wheel in the wor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t was open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n December 31,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-988920" y="5394240"/>
            <a:ext cx="5332320" cy="33688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-2198520" y="586728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London Ey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5"/>
          <p:cNvPicPr/>
          <p:nvPr/>
        </p:nvPicPr>
        <p:blipFill>
          <a:blip r:embed="rId1"/>
          <a:stretch/>
        </p:blipFill>
        <p:spPr>
          <a:xfrm>
            <a:off x="0" y="0"/>
            <a:ext cx="4486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Oval 9"/>
          <p:cNvSpPr/>
          <p:nvPr/>
        </p:nvSpPr>
        <p:spPr>
          <a:xfrm>
            <a:off x="4653000" y="4876920"/>
            <a:ext cx="4871880" cy="28954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257800" y="5562720"/>
            <a:ext cx="60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Westminster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Abb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68560" y="415800"/>
            <a:ext cx="41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Just next to the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Westmins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is gothic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is the traditional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coronation and bu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site for English monarchs</a:t>
            </a:r>
            <a:r>
              <a:rPr b="0" lang="pl-PL" sz="2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29098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45268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4572000" y="5029200"/>
            <a:ext cx="5408640" cy="274320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2916360" y="556272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Buckingham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 Pa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8560" y="410760"/>
            <a:ext cx="86756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his is the official London residence of the British mon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 front of it stands a sculpture called the Victoria Memori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 large statue of Queen Vic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256716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5551560" y="5264280"/>
            <a:ext cx="5040360" cy="36511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715000" y="5562720"/>
            <a:ext cx="320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ower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of Lond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58320" y="3123720"/>
            <a:ext cx="5365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ituated by the River Tham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t is the most famous fort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 the UK. It is a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f buildings which have ser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s treasury, mint, palace,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f execution and pri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69560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114800" y="-990720"/>
            <a:ext cx="6913440" cy="24228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724280" y="-76320"/>
            <a:ext cx="420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Tower Bri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0" y="4419720"/>
            <a:ext cx="6705720" cy="229536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50920" y="4694400"/>
            <a:ext cx="83534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he Bridge, constructed in the 1890s, took 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me from the nearby Tower of Lond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he road over the bridge can be rai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o allow ships to pass throu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Oval 13"/>
          <p:cNvSpPr/>
          <p:nvPr/>
        </p:nvSpPr>
        <p:spPr>
          <a:xfrm>
            <a:off x="5562720" y="5181480"/>
            <a:ext cx="5040360" cy="3651480"/>
          </a:xfrm>
          <a:prstGeom prst="ellipse">
            <a:avLst/>
          </a:prstGeom>
          <a:solidFill>
            <a:srgbClr val="e96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59280" y="5638680"/>
            <a:ext cx="600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St Paul’s 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Verdana"/>
              </a:rPr>
              <a:t>Cathed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2050920" y="6958080"/>
            <a:ext cx="1944720" cy="71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25" h="45">
                <a:moveTo>
                  <a:pt x="0" y="45"/>
                </a:moveTo>
                <a:cubicBezTo>
                  <a:pt x="488" y="22"/>
                  <a:pt x="976" y="0"/>
                  <a:pt x="1225" y="4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50920" y="351000"/>
            <a:ext cx="4168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present cathedral d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from the 17th centur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when it was rebuilt af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the Great Fi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of London, and w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design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99"/>
                </a:solidFill>
                <a:latin typeface="Arial"/>
              </a:rPr>
              <a:t>Christopher W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1:14:22Z</dcterms:created>
  <dc:creator>Анастасия Измайлова</dc:creator>
  <dc:description/>
  <dc:language>en-US</dc:language>
  <cp:lastModifiedBy>missis.nikitina-elena@yandex.ru</cp:lastModifiedBy>
  <dcterms:modified xsi:type="dcterms:W3CDTF">2020-08-23T19:13:39Z</dcterms:modified>
  <cp:revision>238</cp:revision>
  <dc:subject/>
  <dc:title>Famous London sites</dc:title>
</cp:coreProperties>
</file>