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FEEB-D35F-4F9F-A565-AF1926E9B9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58E4-4C74-4B48-92B0-C9261DBA23D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8B67-2418-4723-83DD-9576199A7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5253-0C99-4B45-B12F-AD382301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86AF-4CF6-4DD7-B8B8-271E0DF14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973C-C32E-4B00-8A91-9ACE79EA6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CEDF-4DDF-4972-8400-40A391182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7CC1-F714-4B20-9836-5EA3AA92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36F4-C3DC-428C-9E38-0A52216A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920F-35EE-4D5A-B956-9CDECA2A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7CE9-8D72-4437-A9E2-3E183E43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50DF-C10A-449E-BD5F-12BF25F2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06D8-52BC-4394-986A-D8139BC7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D6DC-DA7E-4F8D-8102-186393DB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8A5E8-BE2F-4BA7-AA53-3D558009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DF55-9E41-4A77-8AAC-29D985F7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DD7D-154D-48FC-8924-B7FFDD70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53BE3-BA66-40E4-B4D7-F4CB3A9D6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AFBA-D2BF-4781-AA7A-D396C1326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3285C-E4B2-4403-AACE-3D825D6C1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B779F-4B55-4E01-9C9B-FBFBDD99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4299C-78C4-4DAA-9673-D73B9158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328F5-B078-4BC4-9C8B-2D676C28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F067F-AACD-4732-B5FC-B8C1BA4D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7D8E-318C-4011-AB3A-EF021D00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3A8B9-2955-4AA5-8A86-6A91690E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5476C-5D00-4D34-AB47-3D3DF3B2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AC97D-A659-46EF-96EE-65EFF38E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644A9-B4D6-4B5B-B2B1-A609DD87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F1A2C-5394-4388-A010-45CAC1A3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C49C1-E0C8-498B-A654-D2916F5AF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CDD0F-2C58-4848-9360-A7F79FF1A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DEE80-4EA7-41F2-A7C4-9459B3E1F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218BB-99E3-4564-8C6C-5E1897B7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91197-88EF-45FC-BF76-CFF18C60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844C-1C7C-4B2D-9435-554D86A3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EC4AD-60F5-42EB-B298-28DC00B5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05C81-8DC6-4427-A8B2-2B977834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004B3-A461-403D-92B8-C6B6A78E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2D7F0-2125-4395-925F-8466E81D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24696-9AC2-4C92-B2FB-71C42895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24AB0-D418-4763-AFE0-1BF42A63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55828-2BE6-46FD-94F2-3C769395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7F083-A23C-4715-861E-615B6A4C0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E2D46-99C1-4D34-95EB-8A594C258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92602-D868-461A-A9D5-A03F17335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4C62-025C-47F1-9428-A07E2E27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49774-A158-4365-9642-D24C6B9B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A2A38-E72B-40BD-8692-3DCDF7CB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3DFD6-015E-4794-AE69-A84A31B9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75876-C26D-4FFB-A60E-E5231BEC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F3642-8B89-431A-8008-1E7FA543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6574A-2A80-4D6D-9EDE-4A86842F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3DE7D-970A-46F8-9984-E5252187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E7C09-AF74-411F-AC9F-FBFF4051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8A860-AD2A-4393-BED7-96AF0B36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09E6F-4872-4B97-9B47-B1FDA49DD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A1E2-CBEA-4241-91DF-1AABE08F6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0D3E4-4E6C-4756-AD6D-64F5F45E7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C0F4-EC82-42BE-841C-F0A5EE41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7C26-C7F6-4362-9AEF-C6FC8E6E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3DC6-0658-4007-B5F8-9C799BD2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D882-DF5B-46F9-B7CA-13C6D3615CB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3"/>
          <a:stretch/>
        </p:blipFill>
        <p:spPr>
          <a:xfrm>
            <a:off x="611280" y="4653000"/>
            <a:ext cx="1861920" cy="1862280"/>
          </a:xfrm>
          <a:prstGeom prst="rect">
            <a:avLst/>
          </a:prstGeom>
          <a:ln w="0">
            <a:noFill/>
          </a:ln>
        </p:spPr>
      </p:pic>
      <p:sp>
        <p:nvSpPr>
          <p:cNvPr id="42" name="Рамка 7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71450" y="171450"/>
                </a:moveTo>
                <a:lnTo>
                  <a:pt x="171450" y="6686550"/>
                </a:lnTo>
                <a:lnTo>
                  <a:pt x="8972550" y="6686550"/>
                </a:lnTo>
                <a:lnTo>
                  <a:pt x="8972550" y="171450"/>
                </a:lnTo>
                <a:lnTo>
                  <a:pt x="171450" y="17145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665e5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287F-1636-44B5-BA2A-3396133D6E0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Скругленный прямоугольник 6"/>
          <p:cNvSpPr/>
          <p:nvPr/>
        </p:nvSpPr>
        <p:spPr>
          <a:xfrm>
            <a:off x="179280" y="293760"/>
            <a:ext cx="8785440" cy="6337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7" descr=""/>
          <p:cNvPicPr/>
          <p:nvPr/>
        </p:nvPicPr>
        <p:blipFill>
          <a:blip r:embed="rId3"/>
          <a:stretch/>
        </p:blipFill>
        <p:spPr>
          <a:xfrm>
            <a:off x="179280" y="5487840"/>
            <a:ext cx="1141560" cy="1143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1E33-1DDB-4C45-AF6F-06206862B10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A138-41C0-477E-905A-0C128A0D66B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DE21-9730-4C1D-9A38-F255D3E4CBC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Уст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692360" y="1268280"/>
            <a:ext cx="662616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1.</a:t>
            </a: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  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х</a:t>
            </a:r>
            <a:r>
              <a:rPr b="1" lang="ru-RU" sz="4000" spc="-1" strike="noStrike" baseline="30000">
                <a:solidFill>
                  <a:srgbClr val="00b050"/>
                </a:solidFill>
                <a:latin typeface="Calibri"/>
              </a:rPr>
              <a:t>2 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+ 9х - 12 = 0;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2. 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4х</a:t>
            </a:r>
            <a:r>
              <a:rPr b="1" lang="ru-RU" sz="4000" spc="-1" strike="noStrike" baseline="30000">
                <a:solidFill>
                  <a:srgbClr val="00b05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 – 1 = 0; 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3. 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z</a:t>
            </a:r>
            <a:r>
              <a:rPr b="1" lang="ru-RU" sz="4000" spc="-1" strike="noStrike" baseline="30000">
                <a:solidFill>
                  <a:srgbClr val="00b05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 – 5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z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 +2 = 0;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4. 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-2х</a:t>
            </a:r>
            <a:r>
              <a:rPr b="1" lang="ru-RU" sz="4000" spc="-1" strike="noStrike" baseline="30000">
                <a:solidFill>
                  <a:srgbClr val="00b05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 – х + 1 = 0;      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5.  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х</a:t>
            </a:r>
            <a:r>
              <a:rPr b="1" lang="ru-RU" sz="4000" spc="-1" strike="noStrike" baseline="30000">
                <a:solidFill>
                  <a:srgbClr val="00b050"/>
                </a:solidFill>
                <a:latin typeface="Calibri"/>
              </a:rPr>
              <a:t>2 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+ 8х = 0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6.  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2х</a:t>
            </a:r>
            <a:r>
              <a:rPr b="1" lang="ru-RU" sz="4000" spc="-1" strike="noStrike" baseline="30000">
                <a:solidFill>
                  <a:srgbClr val="00b050"/>
                </a:solidFill>
                <a:latin typeface="Calibri"/>
              </a:rPr>
              <a:t>2 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= 0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7. 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2х + х</a:t>
            </a:r>
            <a:r>
              <a:rPr b="1" lang="ru-RU" sz="4000" spc="-1" strike="noStrike" baseline="30000">
                <a:solidFill>
                  <a:srgbClr val="00b05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 – 1 = 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ьте квадратные уравнения по коэффициента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539640" y="2409840"/>
          <a:ext cx="8229600" cy="3016080"/>
        </p:xfrm>
        <a:graphic>
          <a:graphicData uri="http://schemas.openxmlformats.org/drawingml/2006/table">
            <a:tbl>
              <a:tblPr/>
              <a:tblGrid>
                <a:gridCol w="1154160"/>
                <a:gridCol w="1011240"/>
                <a:gridCol w="1009800"/>
                <a:gridCol w="939600"/>
                <a:gridCol w="4114800"/>
              </a:tblGrid>
              <a:tr h="722160"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840" marR="87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840" marR="87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840" marR="87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840" marR="87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Уравнени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840" marR="87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520"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840" marR="87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840" marR="87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840" marR="87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840" marR="87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840" marR="87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840" marR="87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840" marR="87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840" marR="87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840" marR="87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840" marR="87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440"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840" marR="87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840" marR="87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840" marR="87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840" marR="87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840" marR="87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Text Box 273"/>
          <p:cNvSpPr/>
          <p:nvPr/>
        </p:nvSpPr>
        <p:spPr>
          <a:xfrm>
            <a:off x="5164200" y="3213000"/>
            <a:ext cx="197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2х+4=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 Box 274"/>
          <p:cNvSpPr/>
          <p:nvPr/>
        </p:nvSpPr>
        <p:spPr>
          <a:xfrm>
            <a:off x="5100480" y="3933720"/>
            <a:ext cx="22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+3х-25=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 Box 275"/>
          <p:cNvSpPr/>
          <p:nvPr/>
        </p:nvSpPr>
        <p:spPr>
          <a:xfrm>
            <a:off x="5164200" y="4724280"/>
            <a:ext cx="197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+5х-3=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68360" y="1699920"/>
            <a:ext cx="82296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70c0"/>
                </a:solidFill>
                <a:uFillTx/>
                <a:latin typeface="Calibri"/>
              </a:rPr>
              <a:t>Тема урока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b050"/>
                </a:solidFill>
                <a:latin typeface="Calibri"/>
              </a:rPr>
              <a:t>«Решение квадратных уравнений по формуле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6"/>
          <p:cNvSpPr/>
          <p:nvPr/>
        </p:nvSpPr>
        <p:spPr>
          <a:xfrm>
            <a:off x="3332160" y="333360"/>
            <a:ext cx="2521080" cy="57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Calibri"/>
              </a:rPr>
              <a:t>a</a:t>
            </a: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х</a:t>
            </a:r>
            <a:r>
              <a:rPr b="0" lang="ru-RU" sz="36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+</a:t>
            </a: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b</a:t>
            </a: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х+с=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Стрелка вниз 9"/>
          <p:cNvSpPr/>
          <p:nvPr/>
        </p:nvSpPr>
        <p:spPr>
          <a:xfrm>
            <a:off x="4537080" y="907920"/>
            <a:ext cx="44280" cy="505080"/>
          </a:xfrm>
          <a:prstGeom prst="downArrow">
            <a:avLst>
              <a:gd name="adj1" fmla="val 50000"/>
              <a:gd name="adj2" fmla="val 5022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Прямоугольник 10"/>
          <p:cNvSpPr/>
          <p:nvPr/>
        </p:nvSpPr>
        <p:spPr>
          <a:xfrm>
            <a:off x="3244680" y="1413000"/>
            <a:ext cx="2695680" cy="576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Выписать коэффициенты </a:t>
            </a:r>
            <a:r>
              <a:rPr b="1" i="1" lang="ru-RU" sz="2000" spc="-1" strike="noStrike">
                <a:solidFill>
                  <a:srgbClr val="ffff00"/>
                </a:solidFill>
                <a:latin typeface="Calibri"/>
              </a:rPr>
              <a:t>а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,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b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,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Стрелка вниз 11"/>
          <p:cNvSpPr/>
          <p:nvPr/>
        </p:nvSpPr>
        <p:spPr>
          <a:xfrm>
            <a:off x="4537080" y="1989000"/>
            <a:ext cx="55440" cy="432000"/>
          </a:xfrm>
          <a:prstGeom prst="downArrow">
            <a:avLst>
              <a:gd name="adj1" fmla="val 50000"/>
              <a:gd name="adj2" fmla="val 5014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Прямоугольник 12"/>
          <p:cNvSpPr/>
          <p:nvPr/>
        </p:nvSpPr>
        <p:spPr>
          <a:xfrm>
            <a:off x="3235320" y="2425680"/>
            <a:ext cx="2693880" cy="498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Дискриминан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D=b</a:t>
            </a:r>
            <a:r>
              <a:rPr b="1" lang="en-US" sz="20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-4</a:t>
            </a:r>
            <a:r>
              <a:rPr b="1" i="1" lang="en-US" sz="2000" spc="-1" strike="noStrike">
                <a:solidFill>
                  <a:srgbClr val="ffff00"/>
                </a:solidFill>
                <a:latin typeface="Calibri"/>
              </a:rPr>
              <a:t>a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9" name="Прямая со стрелкой 14"/>
          <p:cNvCxnSpPr>
            <a:endCxn id="230" idx="0"/>
          </p:cNvCxnSpPr>
          <p:nvPr/>
        </p:nvCxnSpPr>
        <p:spPr>
          <a:xfrm flipH="1">
            <a:off x="2268000" y="2924280"/>
            <a:ext cx="967680" cy="57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1" name="Прямая со стрелкой 16"/>
          <p:cNvCxnSpPr>
            <a:stCxn id="228" idx="2"/>
          </p:cNvCxnSpPr>
          <p:nvPr/>
        </p:nvCxnSpPr>
        <p:spPr>
          <a:xfrm flipH="1">
            <a:off x="4558680" y="2924280"/>
            <a:ext cx="22680" cy="57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2" name="Прямая со стрелкой 18"/>
          <p:cNvCxnSpPr/>
          <p:nvPr/>
        </p:nvCxnSpPr>
        <p:spPr>
          <a:xfrm>
            <a:off x="5929200" y="2924280"/>
            <a:ext cx="659520" cy="57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30" name="Прямоугольник 19"/>
          <p:cNvSpPr/>
          <p:nvPr/>
        </p:nvSpPr>
        <p:spPr>
          <a:xfrm>
            <a:off x="1835280" y="3500280"/>
            <a:ext cx="865080" cy="649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D&gt;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Прямоугольник 20"/>
          <p:cNvSpPr/>
          <p:nvPr/>
        </p:nvSpPr>
        <p:spPr>
          <a:xfrm>
            <a:off x="4079880" y="3511440"/>
            <a:ext cx="914400" cy="638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D=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Прямоугольник 21"/>
          <p:cNvSpPr/>
          <p:nvPr/>
        </p:nvSpPr>
        <p:spPr>
          <a:xfrm>
            <a:off x="6372360" y="3500280"/>
            <a:ext cx="863640" cy="649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D&lt;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Стрелка вниз 24"/>
          <p:cNvSpPr/>
          <p:nvPr/>
        </p:nvSpPr>
        <p:spPr>
          <a:xfrm>
            <a:off x="2311560" y="4149720"/>
            <a:ext cx="45720" cy="503280"/>
          </a:xfrm>
          <a:prstGeom prst="downArrow">
            <a:avLst>
              <a:gd name="adj1" fmla="val 50000"/>
              <a:gd name="adj2" fmla="val 5035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Стрелка вниз 25"/>
          <p:cNvSpPr/>
          <p:nvPr/>
        </p:nvSpPr>
        <p:spPr>
          <a:xfrm>
            <a:off x="4537080" y="4149720"/>
            <a:ext cx="44280" cy="503280"/>
          </a:xfrm>
          <a:prstGeom prst="downArrow">
            <a:avLst>
              <a:gd name="adj1" fmla="val 50000"/>
              <a:gd name="adj2" fmla="val 5019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Стрелка вниз 26"/>
          <p:cNvSpPr/>
          <p:nvPr/>
        </p:nvSpPr>
        <p:spPr>
          <a:xfrm>
            <a:off x="6746760" y="4149720"/>
            <a:ext cx="46080" cy="503280"/>
          </a:xfrm>
          <a:prstGeom prst="downArrow">
            <a:avLst>
              <a:gd name="adj1" fmla="val 50000"/>
              <a:gd name="adj2" fmla="val 4995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Прямоугольник 28" descr=""/>
          <p:cNvPicPr/>
          <p:nvPr/>
        </p:nvPicPr>
        <p:blipFill>
          <a:blip r:embed="rId1"/>
          <a:stretch/>
        </p:blipFill>
        <p:spPr>
          <a:xfrm>
            <a:off x="1328760" y="4675320"/>
            <a:ext cx="2004840" cy="1633320"/>
          </a:xfrm>
          <a:prstGeom prst="rect">
            <a:avLst/>
          </a:prstGeom>
          <a:ln w="0">
            <a:noFill/>
          </a:ln>
        </p:spPr>
      </p:pic>
      <p:pic>
        <p:nvPicPr>
          <p:cNvPr id="239" name="Прямоугольник 29" descr=""/>
          <p:cNvPicPr/>
          <p:nvPr/>
        </p:nvPicPr>
        <p:blipFill>
          <a:blip r:embed="rId2"/>
          <a:stretch/>
        </p:blipFill>
        <p:spPr>
          <a:xfrm>
            <a:off x="3633840" y="4651200"/>
            <a:ext cx="1839960" cy="1657440"/>
          </a:xfrm>
          <a:prstGeom prst="rect">
            <a:avLst/>
          </a:prstGeom>
          <a:ln w="0">
            <a:noFill/>
          </a:ln>
        </p:spPr>
      </p:pic>
      <p:sp>
        <p:nvSpPr>
          <p:cNvPr id="240" name="Прямоугольник 30"/>
          <p:cNvSpPr/>
          <p:nvPr/>
        </p:nvSpPr>
        <p:spPr>
          <a:xfrm>
            <a:off x="5940360" y="4657680"/>
            <a:ext cx="2808360" cy="1650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Уравнение не имеет действительных корн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611280" y="15652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0" lang="ru-RU" sz="4400" spc="-1" strike="noStrike">
                <a:solidFill>
                  <a:srgbClr val="ff0066"/>
                </a:solidFill>
                <a:latin typeface="Arial"/>
                <a:ea typeface="Arial"/>
              </a:rPr>
              <a:t>2Х</a:t>
            </a:r>
            <a:r>
              <a:rPr b="0" lang="ru-RU" sz="4400" spc="-1" strike="noStrike" baseline="30000">
                <a:solidFill>
                  <a:srgbClr val="ff0066"/>
                </a:solidFill>
                <a:latin typeface="Arial"/>
                <a:ea typeface="Arial"/>
              </a:rPr>
              <a:t>2</a:t>
            </a:r>
            <a:r>
              <a:rPr b="0" lang="ru-RU" sz="4400" spc="-1" strike="noStrike">
                <a:solidFill>
                  <a:srgbClr val="ff0066"/>
                </a:solidFill>
                <a:latin typeface="Arial"/>
                <a:ea typeface="Arial"/>
              </a:rPr>
              <a:t> –5Х-3=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ешить уравнение по формул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ВЕРН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поднимай 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левую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уку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НЕВЕРН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поднимай 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правую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у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х-3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=0    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+16=0    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=25         ±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16=0     ±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(х+7)=0    0;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полнить таблиц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8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4360" y="1915920"/>
            <a:ext cx="7416720" cy="76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Calibri"/>
              </a:rPr>
              <a:t>№</a:t>
            </a:r>
            <a:r>
              <a:rPr b="1" lang="ru-RU" sz="4800" spc="-1" strike="noStrike">
                <a:solidFill>
                  <a:srgbClr val="00b050"/>
                </a:solidFill>
                <a:latin typeface="Calibri"/>
              </a:rPr>
              <a:t>436 (2,4), 437 (2,4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4T20:05:23Z</dcterms:created>
  <dc:creator>Ольга Михайловна</dc:creator>
  <dc:description/>
  <dc:language>en-US</dc:language>
  <cp:lastModifiedBy>k403</cp:lastModifiedBy>
  <dcterms:modified xsi:type="dcterms:W3CDTF">2019-01-31T06:51:43Z</dcterms:modified>
  <cp:revision>70</cp:revision>
  <dc:subject/>
  <dc:title>Математика 3</dc:title>
</cp:coreProperties>
</file>