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0095-AF4A-43F3-8EE0-501961B08D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52F-7749-4381-A6DC-F3A5DE07A8D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DAB-77EE-4AB4-893D-9C133EAD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35C-3D49-4899-B281-D9DCCD0A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3B0-B1AE-4C43-8219-BC313D61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061-80C9-4E2A-AE94-9C38D4FE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A62A-A6CE-4263-8C8A-711D1699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0818-0807-40AD-865C-AF8947C7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52B9-DDFB-41EC-8971-EB345849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A8F1-31DE-4696-83F1-5A3F3149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DBE9-942E-46DC-9CB1-9469F6EE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96F2-AEF9-48C3-BE8F-B152CA11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696F-8A89-4BE7-9C1C-8A1B3AE8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6FB-D561-4692-ABBC-C3FFEECE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835-2743-4820-B63E-149D3FAB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AD30-D34C-40D4-8087-F7D9AAC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C8BB-8BA6-4F52-9A2B-705C453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DB0E-1E4A-45D1-B523-8F727FFF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298C-9743-4C01-A6F6-CAAD5D27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3318-A41F-4616-8043-49003BB4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E4A1-9144-4312-BE23-EB83B64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3B5E-3241-4E66-8DCB-11ACDAB2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44C9-A336-458D-8CFC-17491623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C5D0-EDFF-4DDD-B95C-2746251F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34C-55C1-4952-AC32-6456124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DCEE-E251-417D-9B20-832EA7B0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5987-CD3F-4965-AA5F-FF12DD18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DD09-7D2A-473C-9135-6029D031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8731-B102-4848-9341-1E356D5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829A-EDD5-435A-89D4-6E2D3E82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D3C2-F5EE-4E64-BAE2-4DEAE1A6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D5CF-94A6-44AA-91C7-8274C7FB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F705-9DBB-455F-9AED-86DB545E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8E1D-49F6-4138-8340-1573FDB1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248F-2B0D-4236-8B3F-CCBA716E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9FC-159E-4756-A9B0-E83408D9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41D5-4F1A-453E-8492-F73BAD3C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D9EF-3DAF-4EC4-BE61-A300BF97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C583-8A16-449B-A4B7-2421352E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2A03-763D-409A-BCBA-3EAED3C2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9C16-0B40-43F3-A7E1-DA881B18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1A5A-6C4D-4A1C-AD13-613CBBBF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0D1A-7A20-4F32-A31A-138F12CB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89EC-A1FA-4378-99A0-AC740357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A485-A644-4FF5-8F8C-5F65B481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1C748-BC5B-46C2-B88E-1FBB5BD3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3E1-33D9-4DD0-9D92-0EE56096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7B222-5A12-4056-AADF-69B044B3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325D3-FDD1-4ABE-8275-42921BE3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F07B-E4C9-4DFD-991B-9F7D7BB8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45F2-2C1B-4809-910E-376A8D7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74A9-6F1E-49E3-9456-B4AD5DA5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F269-BDAC-4F2B-908E-E38ED871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E1D03-BBA6-4A67-9B3B-8FCA8FBF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F9029-BEB2-4F22-BF7B-75C08E8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EFD7D-33E2-456F-BB21-0D6C784B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F8D7B-798A-4049-86A3-576F5177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593-8A3E-49F4-A43B-A43DAB45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11AC8-6880-4446-B124-26A7083C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969-A346-4D0D-A149-459E01CE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AFA-7602-47C4-8857-89F60017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1B3-2777-4A94-B28C-64804F2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4EED-8062-4E92-8B75-A8AD3E2BEC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3"/>
          <a:stretch/>
        </p:blipFill>
        <p:spPr>
          <a:xfrm>
            <a:off x="611280" y="4653000"/>
            <a:ext cx="1861920" cy="1862280"/>
          </a:xfrm>
          <a:prstGeom prst="rect">
            <a:avLst/>
          </a:prstGeom>
          <a:ln w="0">
            <a:noFill/>
          </a:ln>
        </p:spPr>
      </p:pic>
      <p:sp>
        <p:nvSpPr>
          <p:cNvPr id="42" name="Рамка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1450" y="171450"/>
                </a:moveTo>
                <a:lnTo>
                  <a:pt x="171450" y="6686550"/>
                </a:lnTo>
                <a:lnTo>
                  <a:pt x="8972550" y="6686550"/>
                </a:lnTo>
                <a:lnTo>
                  <a:pt x="8972550" y="171450"/>
                </a:lnTo>
                <a:lnTo>
                  <a:pt x="171450" y="17145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65e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07D8-13E7-4530-A518-B4F7038E3B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6"/>
          <p:cNvSpPr/>
          <p:nvPr/>
        </p:nvSpPr>
        <p:spPr>
          <a:xfrm>
            <a:off x="179280" y="293760"/>
            <a:ext cx="8785440" cy="633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7" descr=""/>
          <p:cNvPicPr/>
          <p:nvPr/>
        </p:nvPicPr>
        <p:blipFill>
          <a:blip r:embed="rId3"/>
          <a:stretch/>
        </p:blipFill>
        <p:spPr>
          <a:xfrm>
            <a:off x="179280" y="5487840"/>
            <a:ext cx="114156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FF15-99E6-40FD-82D5-AE1CB86CBC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3161-A842-4AB8-A15E-B777F37883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DBE9-71CE-45F2-89AA-F2DC33F92C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92360" y="1268280"/>
            <a:ext cx="66261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1.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+ 9х - 12 = 0;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4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– 1 = 0;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3.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– 5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+2 = 0;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4.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-2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– х + 1 = 0;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5. 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+ 8х = 0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6. 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= 0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7.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х + 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– 1 =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те квадратные уравнения по коэффициент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2409840"/>
          <a:ext cx="8229600" cy="3016080"/>
        </p:xfrm>
        <a:graphic>
          <a:graphicData uri="http://schemas.openxmlformats.org/drawingml/2006/table">
            <a:tbl>
              <a:tblPr/>
              <a:tblGrid>
                <a:gridCol w="1154160"/>
                <a:gridCol w="1011240"/>
                <a:gridCol w="1009800"/>
                <a:gridCol w="939600"/>
                <a:gridCol w="4114800"/>
              </a:tblGrid>
              <a:tr h="72216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Уравн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273"/>
          <p:cNvSpPr/>
          <p:nvPr/>
        </p:nvSpPr>
        <p:spPr>
          <a:xfrm>
            <a:off x="5164200" y="321300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2х+4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274"/>
          <p:cNvSpPr/>
          <p:nvPr/>
        </p:nvSpPr>
        <p:spPr>
          <a:xfrm>
            <a:off x="5100480" y="393372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3х-25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275"/>
          <p:cNvSpPr/>
          <p:nvPr/>
        </p:nvSpPr>
        <p:spPr>
          <a:xfrm>
            <a:off x="5164200" y="472428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5х-3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360" y="1699920"/>
            <a:ext cx="82296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70c0"/>
                </a:solidFill>
                <a:uFillTx/>
                <a:latin typeface="Calibri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alibri"/>
              </a:rPr>
              <a:t>«Решение квадратных уравнений по формул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6"/>
          <p:cNvSpPr/>
          <p:nvPr/>
        </p:nvSpPr>
        <p:spPr>
          <a:xfrm>
            <a:off x="3332160" y="333360"/>
            <a:ext cx="2521080" cy="57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х</a:t>
            </a:r>
            <a:r>
              <a:rPr b="0" lang="ru-RU" sz="36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х+с=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Стрелка вниз 9"/>
          <p:cNvSpPr/>
          <p:nvPr/>
        </p:nvSpPr>
        <p:spPr>
          <a:xfrm>
            <a:off x="4537080" y="907920"/>
            <a:ext cx="44280" cy="505080"/>
          </a:xfrm>
          <a:prstGeom prst="downArrow">
            <a:avLst>
              <a:gd name="adj1" fmla="val 50000"/>
              <a:gd name="adj2" fmla="val 502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3244680" y="1413000"/>
            <a:ext cx="269568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ыписать коэффициенты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Стрелка вниз 11"/>
          <p:cNvSpPr/>
          <p:nvPr/>
        </p:nvSpPr>
        <p:spPr>
          <a:xfrm>
            <a:off x="4537080" y="1989000"/>
            <a:ext cx="55440" cy="432000"/>
          </a:xfrm>
          <a:prstGeom prst="downArrow">
            <a:avLst>
              <a:gd name="adj1" fmla="val 50000"/>
              <a:gd name="adj2" fmla="val 501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2"/>
          <p:cNvSpPr/>
          <p:nvPr/>
        </p:nvSpPr>
        <p:spPr>
          <a:xfrm>
            <a:off x="3235320" y="2425680"/>
            <a:ext cx="2693880" cy="49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Дискримина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D=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-4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Прямая со стрелкой 14"/>
          <p:cNvCxnSpPr>
            <a:endCxn id="230" idx="0"/>
          </p:cNvCxnSpPr>
          <p:nvPr/>
        </p:nvCxnSpPr>
        <p:spPr>
          <a:xfrm flipH="1">
            <a:off x="2268000" y="2924280"/>
            <a:ext cx="9676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16"/>
          <p:cNvCxnSpPr>
            <a:stCxn id="228" idx="2"/>
          </p:cNvCxnSpPr>
          <p:nvPr/>
        </p:nvCxnSpPr>
        <p:spPr>
          <a:xfrm flipH="1">
            <a:off x="4558680" y="2924280"/>
            <a:ext cx="226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18"/>
          <p:cNvCxnSpPr/>
          <p:nvPr/>
        </p:nvCxnSpPr>
        <p:spPr>
          <a:xfrm>
            <a:off x="5929200" y="2924280"/>
            <a:ext cx="65952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0" name="Прямоугольник 19"/>
          <p:cNvSpPr/>
          <p:nvPr/>
        </p:nvSpPr>
        <p:spPr>
          <a:xfrm>
            <a:off x="1835280" y="3500280"/>
            <a:ext cx="865080" cy="64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&gt;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0"/>
          <p:cNvSpPr/>
          <p:nvPr/>
        </p:nvSpPr>
        <p:spPr>
          <a:xfrm>
            <a:off x="4079880" y="3511440"/>
            <a:ext cx="914400" cy="63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6372360" y="3500280"/>
            <a:ext cx="863640" cy="64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&lt;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трелка вниз 24"/>
          <p:cNvSpPr/>
          <p:nvPr/>
        </p:nvSpPr>
        <p:spPr>
          <a:xfrm>
            <a:off x="2311560" y="4149720"/>
            <a:ext cx="45720" cy="50328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трелка вниз 25"/>
          <p:cNvSpPr/>
          <p:nvPr/>
        </p:nvSpPr>
        <p:spPr>
          <a:xfrm>
            <a:off x="4537080" y="4149720"/>
            <a:ext cx="44280" cy="503280"/>
          </a:xfrm>
          <a:prstGeom prst="downArrow">
            <a:avLst>
              <a:gd name="adj1" fmla="val 50000"/>
              <a:gd name="adj2" fmla="val 501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трелка вниз 26"/>
          <p:cNvSpPr/>
          <p:nvPr/>
        </p:nvSpPr>
        <p:spPr>
          <a:xfrm>
            <a:off x="6746760" y="414972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Прямоугольник 28" descr=""/>
          <p:cNvPicPr/>
          <p:nvPr/>
        </p:nvPicPr>
        <p:blipFill>
          <a:blip r:embed="rId1"/>
          <a:stretch/>
        </p:blipFill>
        <p:spPr>
          <a:xfrm>
            <a:off x="1328760" y="4675320"/>
            <a:ext cx="2004840" cy="163332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29" descr=""/>
          <p:cNvPicPr/>
          <p:nvPr/>
        </p:nvPicPr>
        <p:blipFill>
          <a:blip r:embed="rId2"/>
          <a:stretch/>
        </p:blipFill>
        <p:spPr>
          <a:xfrm>
            <a:off x="3633840" y="4651200"/>
            <a:ext cx="1839960" cy="165744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0"/>
          <p:cNvSpPr/>
          <p:nvPr/>
        </p:nvSpPr>
        <p:spPr>
          <a:xfrm>
            <a:off x="5940360" y="4657680"/>
            <a:ext cx="2808360" cy="1650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равнение не имеет действительных кор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11280" y="156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2Х</a:t>
            </a:r>
            <a:r>
              <a:rPr b="0" lang="ru-RU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 –5Х-3=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шить уравнение по форму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ВЕР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нимай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ев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ук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НЕВЕР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нимай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прав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у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х-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0    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16=0  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25         ±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16=0     ±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(х+7)=0    0;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8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4360" y="191592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№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436 (2,4), 437 (2,4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20:05:23Z</dcterms:created>
  <dc:creator>Ольга Михайловна</dc:creator>
  <dc:description/>
  <dc:language>en-US</dc:language>
  <cp:lastModifiedBy>k403</cp:lastModifiedBy>
  <dcterms:modified xsi:type="dcterms:W3CDTF">2019-01-31T06:51:43Z</dcterms:modified>
  <cp:revision>70</cp:revision>
  <dc:subject/>
  <dc:title>Математика 3</dc:title>
</cp:coreProperties>
</file>