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583A5-038B-4BE9-9DE1-B96465CEE45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600A8-EB63-472F-A5C5-CD3B105C5C8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FBC05-58CB-4705-AF4A-671C856F5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7AF9A-9DF8-4B66-8CF8-363103203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8381D-5E31-4F2A-B6A8-D4BBA310F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BFE9A-50C6-4813-B3A9-61B390BC7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66763-D11F-4981-AC91-A8C40CCAB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B2714-FD87-4EAF-8D81-59642B099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1A1E0-F5E2-45EA-B526-5CCACEE57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71280-5FEA-4BC9-956E-0F627476E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A1B07-6E9D-41C1-B6C6-0874F4478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E689E-039E-408A-B511-370682C77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18590-03CD-42EC-9597-620359441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9D8C3-A727-4B9F-AE59-7CF6CDB45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1D131-C86D-4314-AD29-DFF5E91BE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F2335-FF69-4EC1-8F7C-A815AA2EA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1F190-9568-44E2-AFEE-A9CFD08B2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2250D-C3AD-49B5-9A36-FF0D4C28F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03D9C-55DF-44DA-B463-D2BFC7F65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01AE17A-9E04-41E6-85A7-1D367D3C5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D652FF-2C05-468E-AFB6-9CED37385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497B2ED-AFB0-43A8-BECC-DCFC87FD6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8F1025-64B6-4A9D-AFFC-15EACB5A2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0E78968-7081-4078-BEC7-7C7887BC4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71A84-AD80-4590-B9BB-F2863E667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B38B7C8-EC31-4BC1-B6D6-F39D4CA65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68726FC-21D1-4487-BAFC-221FA1284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BC1AEAB-050E-47C4-B0F4-4AEF87630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24402FD-9B23-49B5-A574-EE466DB85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CE2239A-E56A-4984-8021-23F22E6C7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10CFB5C-A1E4-4C44-B123-067503A40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4C1953C-8B21-4D57-A84E-50625AC90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C49807-2D94-4FD4-A69B-D8F2238C1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D572CE-FD9F-4D74-A029-AE9B9FD83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9219B2-17D8-4C99-9864-C66E47AF5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5F7F0-306F-4D52-B4D4-006DB6DB7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9E294C-7240-4AC8-9018-690217C15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4D76A5-1CB1-4CD8-8281-8BE794B31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77DA99-6740-45B1-B1CF-DD53CF387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F69312-52A9-4025-8C97-D93BA4D73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561F4B-723E-45F7-8D8E-F3DE4C4CB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C3247B-9586-4AEC-970C-007CD6AF9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44978D-7266-4D3F-A58F-107F7A594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61A367-285F-4A35-871F-D133D1443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DAFDBA-3044-44EB-83D3-ACDD926A2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AC8BA-7F11-4D1B-B0EC-0417956B8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F833D-B396-41AE-A40D-5B78B0CA7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99CFF-0F81-4F10-B04A-9FE15BA19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E8114-66AC-4907-9809-4AF463513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876F7-03D9-41D5-8015-C0F8485D2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E7226-B926-4792-AC23-47FFDC372983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Скругленный прямоугольник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Скругленный прямоугольник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0FD67-70F1-4F89-A7DE-5AD40D45B0DF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500C5-BC04-47B6-8116-4DFB86270936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436ED-EE73-49A9-A7CA-B811085244C4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5084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МЕТОДИКА ОРГАНИЗАЦИИ НОД ПО ПОДГОТОВКЕ </a:t>
            </a:r>
            <a:br>
              <a:rPr sz="4000"/>
            </a:br>
            <a:r>
              <a:rPr b="1" lang="ru-RU" sz="40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К ОБУЧЕНИЮ ГРАМОТЕ В ПОДГОТОВИТЕЛЬНОЙ ГРУППЕ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Trebuchet MS"/>
              </a:rPr>
              <a:t> 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6840" y="3571560"/>
            <a:ext cx="8258040" cy="30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24456"/>
                </a:solidFill>
                <a:latin typeface="Georgia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3360"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3360" indent="0" algn="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3360" indent="0" algn="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3360" indent="0" algn="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3360" indent="0" algn="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Подготовила: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3360" indent="0" algn="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Имамова Гульшат Фановна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3360" indent="0" algn="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24456"/>
                </a:solidFill>
                <a:latin typeface="Georgia"/>
              </a:rPr>
              <a:t>                              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>
    <p:wheel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Прямоугольник 1"/>
          <p:cNvSpPr/>
          <p:nvPr/>
        </p:nvSpPr>
        <p:spPr>
          <a:xfrm>
            <a:off x="468360" y="1125360"/>
            <a:ext cx="7920000" cy="39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7.Знакомство с букв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 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Методические рекомендации: для осознанного восприятия образа буквы могут быть использованы различные приёмы  сенсорного развития: зрительный анализ, тактильные ощущения, создание образа буквы из нетрадиционных материалов, прописывание буквы в воздухе и на поверхности стол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Прямоугольник 1"/>
          <p:cNvSpPr/>
          <p:nvPr/>
        </p:nvSpPr>
        <p:spPr>
          <a:xfrm>
            <a:off x="324000" y="907920"/>
            <a:ext cx="3743280" cy="43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8.Чтение слоговых табли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Методические рекомендации: проводится для формирования послогового навыка чтения, профилактики дислекси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Рисунок 2" descr=""/>
          <p:cNvPicPr/>
          <p:nvPr/>
        </p:nvPicPr>
        <p:blipFill>
          <a:blip r:embed="rId1"/>
          <a:stretch/>
        </p:blipFill>
        <p:spPr>
          <a:xfrm>
            <a:off x="4067280" y="907920"/>
            <a:ext cx="4752720" cy="532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Прямоугольник 1"/>
          <p:cNvSpPr/>
          <p:nvPr/>
        </p:nvSpPr>
        <p:spPr>
          <a:xfrm>
            <a:off x="468360" y="981000"/>
            <a:ext cx="8351640" cy="40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9.Звукобуквенный анали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Методические рекомендации: звукобуквенный анализ проводится с целью предупреждения нарушений письменной речи. Для проведения анализа используются карточки - символы трёх цветов (красный - гласный звук, синий - согласный твёрдый звук, зелёный - согласный мягкий звук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1"/>
          <p:cNvSpPr/>
          <p:nvPr/>
        </p:nvSpPr>
        <p:spPr>
          <a:xfrm>
            <a:off x="2052720" y="5373720"/>
            <a:ext cx="518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Работа в тетрадя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Прямоугольник 1"/>
          <p:cNvSpPr/>
          <p:nvPr/>
        </p:nvSpPr>
        <p:spPr>
          <a:xfrm>
            <a:off x="539640" y="1557360"/>
            <a:ext cx="8064720" cy="338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10.Подведение итог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Методические рекомендации: проводится с целью выявления эффективности использованных приемов, форм и методов.  При подведении итогов дети вспоминают, какой звук они сегодня узнали, особенность этого звука, какой буквой он обозначаетс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785520" y="2286000"/>
            <a:ext cx="7900920" cy="145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Спасибо за внимание!!!</a:t>
            </a:r>
            <a:endParaRPr b="0" lang="en-US" sz="5400" spc="-1" strike="noStrike">
              <a:solidFill>
                <a:srgbClr val="424456"/>
              </a:solidFill>
              <a:latin typeface="Trebuchet MS"/>
            </a:endParaRPr>
          </a:p>
        </p:txBody>
      </p:sp>
    </p:spTree>
  </p:cSld>
  <p:transition spd="slow"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1"/>
          <p:cNvSpPr/>
          <p:nvPr/>
        </p:nvSpPr>
        <p:spPr>
          <a:xfrm>
            <a:off x="179280" y="1956240"/>
            <a:ext cx="8496360" cy="336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Цель: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вышение профессиональной компетентности воспитателей по подготовке к обучению грамоте в подготовительной группе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Рисунок 1" descr=""/>
          <p:cNvPicPr/>
          <p:nvPr/>
        </p:nvPicPr>
        <p:blipFill>
          <a:blip r:embed="rId1"/>
          <a:stretch/>
        </p:blipFill>
        <p:spPr>
          <a:xfrm>
            <a:off x="3564000" y="1628640"/>
            <a:ext cx="5184720" cy="4753080"/>
          </a:xfrm>
          <a:prstGeom prst="rect">
            <a:avLst/>
          </a:prstGeom>
          <a:ln w="0">
            <a:noFill/>
          </a:ln>
        </p:spPr>
      </p:pic>
      <p:sp>
        <p:nvSpPr>
          <p:cNvPr id="225" name="Прямоугольник 2"/>
          <p:cNvSpPr/>
          <p:nvPr/>
        </p:nvSpPr>
        <p:spPr>
          <a:xfrm>
            <a:off x="369720" y="2421000"/>
            <a:ext cx="27370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1.Организационный момен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ические рекомендации: проводится для активизации внимания и мотивации детей к познавательной деятельност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Дидактическая игра «Почта»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ические рекомендации: проводится для дифференциации гласных и согласных звуков, дифференциации согласных звуков по твёрдости- мягкости.</a:t>
            </a:r>
            <a:endParaRPr b="0" lang="en-US" sz="2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1857240"/>
            <a:ext cx="8229600" cy="47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108000" algn="just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1080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28" name="Рисунок 3" descr=""/>
          <p:cNvPicPr/>
          <p:nvPr/>
        </p:nvPicPr>
        <p:blipFill>
          <a:blip r:embed="rId1"/>
          <a:stretch/>
        </p:blipFill>
        <p:spPr>
          <a:xfrm>
            <a:off x="611280" y="2565360"/>
            <a:ext cx="2736720" cy="4038480"/>
          </a:xfrm>
          <a:prstGeom prst="rect">
            <a:avLst/>
          </a:prstGeom>
          <a:ln w="0">
            <a:noFill/>
          </a:ln>
        </p:spPr>
      </p:pic>
      <p:pic>
        <p:nvPicPr>
          <p:cNvPr id="229" name="Рисунок 1" descr=""/>
          <p:cNvPicPr/>
          <p:nvPr/>
        </p:nvPicPr>
        <p:blipFill>
          <a:blip r:embed="rId2"/>
          <a:stretch/>
        </p:blipFill>
        <p:spPr>
          <a:xfrm>
            <a:off x="3332160" y="2514600"/>
            <a:ext cx="2451240" cy="4059360"/>
          </a:xfrm>
          <a:prstGeom prst="rect">
            <a:avLst/>
          </a:prstGeom>
          <a:ln w="0">
            <a:noFill/>
          </a:ln>
        </p:spPr>
      </p:pic>
      <p:pic>
        <p:nvPicPr>
          <p:cNvPr id="230" name="Рисунок 5" descr="http://rossantech.ru/components/com_virtuemart/shop_image/product/_________________4d89a4c35cff4.jpg"/>
          <p:cNvPicPr/>
          <p:nvPr/>
        </p:nvPicPr>
        <p:blipFill>
          <a:blip r:embed="rId3"/>
          <a:srcRect l="2177" t="2003" r="1814" b="2331"/>
          <a:stretch/>
        </p:blipFill>
        <p:spPr>
          <a:xfrm>
            <a:off x="5940360" y="2708280"/>
            <a:ext cx="2664000" cy="389556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Прямоугольник 4"/>
          <p:cNvSpPr/>
          <p:nvPr/>
        </p:nvSpPr>
        <p:spPr>
          <a:xfrm>
            <a:off x="468360" y="620640"/>
            <a:ext cx="820728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1"/>
          <p:cNvSpPr/>
          <p:nvPr/>
        </p:nvSpPr>
        <p:spPr>
          <a:xfrm>
            <a:off x="468360" y="1545120"/>
            <a:ext cx="82915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Создание образовательной  педагогической ситуац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ические рекомендации: проводится для осознанного произнесения звука, выделения его из ряда других звуков, правильного его артикулирования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Рисунок 1" descr=""/>
          <p:cNvPicPr/>
          <p:nvPr/>
        </p:nvPicPr>
        <p:blipFill>
          <a:blip r:embed="rId1"/>
          <a:stretch/>
        </p:blipFill>
        <p:spPr>
          <a:xfrm>
            <a:off x="4427640" y="765000"/>
            <a:ext cx="4248000" cy="4176720"/>
          </a:xfrm>
          <a:prstGeom prst="rect">
            <a:avLst/>
          </a:prstGeom>
          <a:ln w="0">
            <a:noFill/>
          </a:ln>
        </p:spPr>
      </p:pic>
      <p:pic>
        <p:nvPicPr>
          <p:cNvPr id="234" name="Рисунок 2" descr=""/>
          <p:cNvPicPr/>
          <p:nvPr/>
        </p:nvPicPr>
        <p:blipFill>
          <a:blip r:embed="rId2"/>
          <a:stretch/>
        </p:blipFill>
        <p:spPr>
          <a:xfrm>
            <a:off x="684360" y="2133720"/>
            <a:ext cx="4032000" cy="4317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Прямоугольник 1"/>
          <p:cNvSpPr/>
          <p:nvPr/>
        </p:nvSpPr>
        <p:spPr>
          <a:xfrm>
            <a:off x="755640" y="1341360"/>
            <a:ext cx="7777080" cy="29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4.Дидактическая игра для развития  фонематического слух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 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Методические рекомендации: игра проводится для развития слухового восприятия, фонематического слуха. Воспитатель называет слова, утрированно выделяя голосом зву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Прямоугольник 1"/>
          <p:cNvSpPr/>
          <p:nvPr/>
        </p:nvSpPr>
        <p:spPr>
          <a:xfrm>
            <a:off x="684360" y="1125360"/>
            <a:ext cx="7993080" cy="28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5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.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Игра «Где живёт звук?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Методические рекомендации: игра проводится для формирования умения определять позицию звука в слове. В игре используются звуковые линейк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Рисунок 1" descr=""/>
          <p:cNvPicPr/>
          <p:nvPr/>
        </p:nvPicPr>
        <p:blipFill>
          <a:blip r:embed="rId1"/>
          <a:stretch/>
        </p:blipFill>
        <p:spPr>
          <a:xfrm>
            <a:off x="468360" y="692280"/>
            <a:ext cx="3959280" cy="4176720"/>
          </a:xfrm>
          <a:prstGeom prst="rect">
            <a:avLst/>
          </a:prstGeom>
          <a:ln w="0">
            <a:noFill/>
          </a:ln>
        </p:spPr>
      </p:pic>
      <p:pic>
        <p:nvPicPr>
          <p:cNvPr id="238" name="Рисунок 2" descr=""/>
          <p:cNvPicPr/>
          <p:nvPr/>
        </p:nvPicPr>
        <p:blipFill>
          <a:blip r:embed="rId2"/>
          <a:stretch/>
        </p:blipFill>
        <p:spPr>
          <a:xfrm>
            <a:off x="4427640" y="2852640"/>
            <a:ext cx="4392360" cy="37450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7T06:02:30Z</dcterms:created>
  <dc:creator>мои</dc:creator>
  <dc:description/>
  <dc:language>en-US</dc:language>
  <cp:lastModifiedBy>Пользователь</cp:lastModifiedBy>
  <dcterms:modified xsi:type="dcterms:W3CDTF">2016-11-23T03:56:26Z</dcterms:modified>
  <cp:revision>120</cp:revision>
  <dc:subject/>
  <dc:title>ВЫПУСКНАЯ КВАЛИФИКАЦИОННАЯ РАБОТА</dc:title>
</cp:coreProperties>
</file>