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FB6-6F12-44A6-A6D0-49A7997D4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EEAF-148D-4441-90C6-A5B7AD9FF3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A14-1B1B-4BFD-8E82-F9426AF6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572-F197-4CC9-8DDA-0964583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1C4-2BF2-4EE0-A8A0-E2D5F879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3FC-59BA-49E4-9362-4C1F3CD9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AC6A-9E42-439A-A4E4-F0149AF3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95F-7773-4C75-9AC4-6E964E12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4086-11A4-4ED4-8F01-8D8E344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9F6-58F4-40AD-AA44-9579AADF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2898-D3FC-4566-A3D3-16C5417D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3BB-2309-4FE1-9A71-FFC9503B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0A1-5049-48AB-A2A8-4D2D0D0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ACA-8D3D-4E3A-99FC-74544C3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525-61BB-4B66-99ED-89367E4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4C71-2327-4EA6-AC95-32624D3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DC3B-72A8-4A3A-B018-C4CEA4A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6CB0-D909-488F-A165-224C0825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287-8EDA-429A-9114-3A950EAB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FF269-3E0C-4594-B6C3-DDD55D2D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89DFD-F88B-4CCF-BF1C-16E5F10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437FA-01FE-41D3-A55E-519F838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F0A65-A4E0-4BC2-A29F-014704A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BFDBE-DD99-435B-8EFD-F0D440F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682-0769-4A41-AEB0-1911BD1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77F34-74EE-4822-847F-CA56841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60E4F-38EF-4820-9559-16FF655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2969E-EF02-4938-8AD2-A065B795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9CE11-1AC4-4F9B-8DF9-3DD9FBCA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52606-ADA8-45BD-AB39-7F556B55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BCEA3-FB58-4478-85E3-764E3675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79236-62B4-4906-9662-21B26288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79F8-7111-4F30-AC3D-1C4931D1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701B-3897-4F20-BCD4-DAEA172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4450-E46D-4BEA-91D7-50AC310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617-09C2-40B0-8B73-C166B52F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F94E-6225-4B94-9784-2DBC5E8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AB6F-8D70-4436-944A-DE0E19E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28AD-BB90-450A-B4BD-479B5575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E422-D6B1-4FDE-B35A-368EAD2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6453-EF57-4F79-9793-BE333E5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1829-0A29-4C1B-ACEC-D8F2FE4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592D-AA43-485A-AD30-BA16EE79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CE6D-76E1-4809-BC6E-30F5AD0C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1657-4D6E-4EA4-B983-DF9BDF7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727-A219-4882-822B-C71F09F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F43-E1B5-4CB1-BD5E-6CBE0EC8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BC2-9462-45A4-95C9-2A636AA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759-F84C-491C-89F2-1D65D0B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F97-B70C-42C9-93DE-400A230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5765-02AE-47C4-BB6F-9542A1A74C7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4AD-2BC8-4BCD-9277-9B73612AC0E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1537-2A3D-4F37-81C3-944868DC6BE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6E3C-AB18-459D-A5C6-A7A6406FDDF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50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ТОДИКА ОРГАНИЗАЦИИ НОД ПО ПОДГОТОВКЕ </a:t>
            </a:r>
            <a:br>
              <a:rPr sz="4000"/>
            </a:b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 ОБУЧЕНИЮ ГРАМОТЕ В ПОДГОТОВИТЕЛЬНОЙ ГРУПП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571560"/>
            <a:ext cx="8258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мамова Гульшат Фанов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68360" y="1125360"/>
            <a:ext cx="7920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.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для осознанного восприятия образа буквы могут быть использованы различные приёмы  сенсорного развития: зрительный анализ, тактильные ощущения, создание образа буквы из нетрадиционных материалов, прописывание буквы в воздухе и на поверхности ст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24000" y="907920"/>
            <a:ext cx="37432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.Чтение слоговых таб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проводится для формирования послогового навыка чтения, профилактики дислек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47527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68360" y="981000"/>
            <a:ext cx="835164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.Звукобуквен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звукобуквенный анализ проводится с целью предупреждения нарушений письменной речи. Для проведения анализа используются карточки - символы трёх цветов (красный - гласный звук, синий - согласный твёрдый звук, зелёный - согласный мягкий зв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2052720" y="537372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Работа в тетрад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539640" y="1557360"/>
            <a:ext cx="8064720" cy="33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Подведение ит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проводится с целью выявления эффективности использованных приемов, форм и методов.  При подведении итогов дети вспоминают, какой звук они сегодня узнали, особенность этого звука, какой буквой он обознач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2286000"/>
            <a:ext cx="79009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79280" y="1956240"/>
            <a:ext cx="8496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профессиональной компетентности воспитателей по подготовке к обучению грамоте в подготовительной групп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184720" cy="4753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369720" y="242100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активизации внимания и мотивации детей к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идактическая игра «Почт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дифференциации гласных и согласных звуков, дифференциации согласных звуков по твёрдости- мягкости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2736720" cy="403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" descr=""/>
          <p:cNvPicPr/>
          <p:nvPr/>
        </p:nvPicPr>
        <p:blipFill>
          <a:blip r:embed="rId2"/>
          <a:stretch/>
        </p:blipFill>
        <p:spPr>
          <a:xfrm>
            <a:off x="3332160" y="2514600"/>
            <a:ext cx="2451240" cy="40593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http://rossantech.ru/components/com_virtuemart/shop_image/product/_________________4d89a4c35cff4.jpg"/>
          <p:cNvPicPr/>
          <p:nvPr/>
        </p:nvPicPr>
        <p:blipFill>
          <a:blip r:embed="rId3"/>
          <a:srcRect l="2177" t="2003" r="1814" b="2331"/>
          <a:stretch/>
        </p:blipFill>
        <p:spPr>
          <a:xfrm>
            <a:off x="5940360" y="2708280"/>
            <a:ext cx="2664000" cy="3895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468360" y="620640"/>
            <a:ext cx="8207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468360" y="154512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здание образовательной  педагогическ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осознанного произнесения звука, выделения его из ряда других звуков, правильного его артикулир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403200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755640" y="1341360"/>
            <a:ext cx="7777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Дидактическая игра для развития  фонематического сл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игра проводится для развития слухового восприятия, фонематического слуха. Воспитатель называет слова, утрированно выделяя голосом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4360" y="1125360"/>
            <a:ext cx="7993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Где живёт звук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игра проводится для формирования умения определять позицию звука в слове. В игре используются звуковые линей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4176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4427640" y="2852640"/>
            <a:ext cx="43923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6:02:30Z</dcterms:created>
  <dc:creator>мои</dc:creator>
  <dc:description/>
  <dc:language>en-US</dc:language>
  <cp:lastModifiedBy>Пользователь</cp:lastModifiedBy>
  <dcterms:modified xsi:type="dcterms:W3CDTF">2016-11-23T03:56:26Z</dcterms:modified>
  <cp:revision>120</cp:revision>
  <dc:subject/>
  <dc:title>ВЫПУСКНАЯ КВАЛИФИКАЦИОННАЯ РАБОТА</dc:title>
</cp:coreProperties>
</file>