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CCE-FDA4-49A9-94DF-D1B4FB02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34E-8993-46B1-88BC-D969FC70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6A5-15BE-4AD7-99CB-61A68438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8D4-377A-4779-907F-C0528BF7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C88B3-5283-4D7D-9EA9-CB3CFDBF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738B2-BCEA-4255-8124-E0946074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35E0C-0FD3-4183-AA5F-4F6106BE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78AD2-11C9-494A-85B4-CBC63257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D5130-623D-4F35-8627-731B4500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849C1-0B75-436B-8DF1-BB90688E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6948F-7AC6-49E6-B9EF-A947D0D4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754-294A-4B9F-8094-A9D33AD5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39459-2C63-46CC-9EC0-E368CC63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9FA0C-E4CF-49BC-87E3-3AEC6746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CC8E5-AC43-4EB0-82A1-30A2B579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A615F-C5A2-4CC9-84E3-D2053D8E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4EF4C-C603-45DF-9337-91118F01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E03-060C-417E-8D7F-8AEF370F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783-544C-47FD-87F2-183D79D4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FBB-CC45-4693-AE9B-026C6C9C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771-97A2-4659-8041-0FF3A07C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D951-A001-4428-A427-15B6630B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5598-6C9B-459D-BE94-5AEE582F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F39-4240-48AB-9D40-EE324D04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A5AB-574C-44A7-B1D7-2C4825BFF4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4990-D001-4C83-9884-697D6DFCDF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«Первобытные рисунки»</a:t>
            </a: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Угольные карандаш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ксперимент: выполнение рисунка углем и определение его изобразительно-выразительных возможносте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ь создавать предметное или сюжетное изображение в стиле «наскальной живописи» первобытных лю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крепить умение детей рисовать углем разными способами: концом угля и боковой стороной; учить регулировать силу нажи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ширять кругозор детей, развивать фантаз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ервобытные люд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47720" y="1600200"/>
            <a:ext cx="1657440" cy="2170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024520" y="1600200"/>
            <a:ext cx="3284280" cy="2170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57200" y="4302000"/>
            <a:ext cx="4038480" cy="1416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208480" y="3924360"/>
            <a:ext cx="291636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аскальный рисун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3T11:19:32Z</dcterms:created>
  <dc:creator>МАДОУ ЦРР ДС7</dc:creator>
  <dc:description/>
  <dc:language>en-US</dc:language>
  <cp:lastModifiedBy>МАДОУ ЦРР ДС7</cp:lastModifiedBy>
  <dcterms:modified xsi:type="dcterms:W3CDTF">2019-04-09T06:21:0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