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ED6-35F5-4A01-8E18-4403ACF8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4D4-A5CC-482D-A075-6581FE43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8FA1-73B6-4FC0-81B9-DACDF973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219-2E85-4D51-8AAE-36EDC010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FB3C7-8E54-4D46-A364-182FC74C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4747E-4274-4884-85FB-12C6F2D5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36396-A1F0-4215-A693-C4DDA218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3E62F-B33D-4952-9E97-3F52EAF4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AB3D5-DD19-4613-85CA-89E61828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69D56-90CC-46F1-A23B-7327C247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4713D-BFF8-47B0-9A96-7BFC0BD4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699-BC76-47DA-9A4A-74514607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CCDD4-1579-4EC2-8D38-92E6F8D9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0D452-E696-4458-9134-C651C6A6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DC429-35E8-4B1E-A094-A7F15214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A1792-CED6-4467-B37E-B54B24F4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0A0C5-8ADF-41B6-B5F9-80BA3B40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140-BAFF-41DC-BFE5-981B9E9D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2BE-84EE-4D77-9C85-355AD1C1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A6E-7E9C-4C76-A96D-5D17466F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875-F197-48FC-B62E-F4700CF4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CFC-B37E-4FC4-AB5B-0CBD8F2A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5CF-E718-4A46-9C14-7674352D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FD7-9792-4827-9699-EA5692F3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6D36-F4BD-4AD8-9C34-4DCDEF70FF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A4C8-43FB-47D6-B94D-8FC17F705A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«Первобытные рисунки»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Угольные карандаш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ксперимент: выполнение рисунка углем и определение его изобразительно-выразительных возможност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ь создавать предметное или сюжетное изображение в стиле «наскальной живописи» первобытных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крепить умение детей рисовать углем разными способами: концом угля и боковой стороной; учить регулировать силу нажи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ширять кругозор детей, развивать фантаз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ервобытные люд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47720" y="1600200"/>
            <a:ext cx="1657440" cy="2170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024520" y="1600200"/>
            <a:ext cx="3284280" cy="2170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57200" y="4302000"/>
            <a:ext cx="4038480" cy="1416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208480" y="3924360"/>
            <a:ext cx="291636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аскальный рисун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3T11:19:32Z</dcterms:created>
  <dc:creator>МАДОУ ЦРР ДС7</dc:creator>
  <dc:description/>
  <dc:language>en-US</dc:language>
  <cp:lastModifiedBy>МАДОУ ЦРР ДС7</cp:lastModifiedBy>
  <dcterms:modified xsi:type="dcterms:W3CDTF">2019-04-09T06:21:0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