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B43-3BE9-4AA7-95D0-68213B1F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1C8-BFE4-4DE7-8043-85E05D6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10B-45E9-4F12-AD38-BF7A3F45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3CF-1E29-49F7-8162-5A310D51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913F-DD07-4AFB-8663-E1E32A9F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33D5-D7B5-4457-BEFC-6634DC77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5021-A414-42F0-BE7E-CA79817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783-AAF1-4EC7-A7B3-F3826403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EFF4-BB75-42B7-A4AC-872670BE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BBF5-B73B-48E7-86D3-07780D1F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3D2-4E1D-4DD2-A263-0102FD4A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766-648A-46FC-BC75-1CF89141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F4C9-3073-4F29-96F8-FE0F772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1D59-DEFC-4AA0-B9D9-41504C65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B1B-F622-4B21-851A-D55F6740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D0B9-D4A6-4CA2-907A-90CD06B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042C-E753-4C56-AED9-80609F06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A1F1-3CF0-4FF0-B28B-DE7E54AE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4A13-57BC-4DFB-8CA7-03EB1676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C10B-FCA7-442E-8E73-D9D3DA27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D584-2A50-4414-9FA2-352BC4DB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E665-B5DE-4127-A57B-787C1EAA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2EB-EBA7-42A7-B9EF-10D7C56E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3614-719E-4B2A-AA00-925E0EE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DB38-F9C0-4A8B-9ACA-1A14EB71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1A8B-4665-4315-8301-41CA1880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2A1D-921B-451E-8F0F-9B6A68C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8278E-7071-43CA-BF22-1C666E21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163C-B5F7-4823-9E11-7E90EDD3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3FB5-8943-48F8-8D71-0B1590FE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50B-5993-4B17-91CF-2982ADA7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4BD-A0D1-4060-9E0B-D7CEF877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A3B-2788-4382-8101-30BF137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C7F-2739-4E6E-84AD-79CC8A9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E75-F56C-4542-A722-62B4097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86A-5328-4DAE-B03B-DB2AFCB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9047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3456000"/>
            <a:ext cx="9069480" cy="26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2000"/>
          </a:bodyPr>
          <a:p>
            <a:pPr marL="21240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8664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81212-64AF-4863-9513-D4358FC885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407880"/>
            <a:ext cx="9069480" cy="1260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021040"/>
            <a:ext cx="9069480" cy="4673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1564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2300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E8467-BEB5-40D6-B4E3-1A6B3E5A25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17640" y="-12600"/>
            <a:ext cx="10096560" cy="947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969840"/>
            <a:ext cx="906948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2920" y="2231640"/>
            <a:ext cx="90694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79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58664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B0B2A-2DC0-481D-B2F8-6D96BAE048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" y="588960"/>
            <a:ext cx="8110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NewRomanPS"/>
              </a:rPr>
              <a:t>Тема проекта: Фразеологиз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440" y="1247760"/>
            <a:ext cx="89089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NewRomanPS"/>
              </a:rPr>
              <a:t>Происхождение фразеологическ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1908000"/>
            <a:ext cx="67611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NewRomanPS"/>
              </a:rPr>
              <a:t>оборотов в рус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62600" y="4938840"/>
            <a:ext cx="41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Выполнил работу ученик 6 «А» класс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62600" y="5207040"/>
            <a:ext cx="183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Миронов Викто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5486400"/>
            <a:ext cx="499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Руководитель: Козловская Инэсса Романовна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21200" y="5780160"/>
            <a:ext cx="4703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учитель русского языка и литературы МА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21200" y="6031080"/>
            <a:ext cx="3278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Гимназия №22 г.Калинингра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8720" y="2716200"/>
            <a:ext cx="4789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Величайшее богатство народ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94360" y="3052800"/>
            <a:ext cx="384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его язык! Тысячелет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65560" y="3390840"/>
            <a:ext cx="4791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накапливаются и вечно живу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37160" y="3727440"/>
            <a:ext cx="429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слове несметные сокровищ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88120" y="4064040"/>
            <a:ext cx="885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человеческой мысли и опыта.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7120" y="50515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077920" y="50515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57120" y="32353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077920" y="32353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17520" y="3182760"/>
            <a:ext cx="4206960" cy="3849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93760" y="3168720"/>
            <a:ext cx="4335480" cy="3984480"/>
          </a:xfrm>
          <a:custGeom>
            <a:avLst/>
            <a:gdLst/>
            <a:ahLst/>
            <a:rect l="l" t="t" r="r" b="b"/>
            <a:pathLst>
              <a:path w="12042" h="11070">
                <a:moveTo>
                  <a:pt x="0" y="0"/>
                </a:moveTo>
                <a:lnTo>
                  <a:pt x="12041" y="0"/>
                </a:lnTo>
                <a:lnTo>
                  <a:pt x="12041" y="11069"/>
                </a:lnTo>
                <a:lnTo>
                  <a:pt x="0" y="11069"/>
                </a:lnTo>
                <a:lnTo>
                  <a:pt x="0" y="0"/>
                </a:lnTo>
                <a:close/>
                <a:moveTo>
                  <a:pt x="36" y="11032"/>
                </a:moveTo>
                <a:lnTo>
                  <a:pt x="12006" y="11032"/>
                </a:lnTo>
                <a:lnTo>
                  <a:pt x="12006" y="38"/>
                </a:lnTo>
                <a:lnTo>
                  <a:pt x="36" y="38"/>
                </a:lnTo>
                <a:lnTo>
                  <a:pt x="36" y="11032"/>
                </a:lnTo>
                <a:close/>
                <a:moveTo>
                  <a:pt x="72" y="76"/>
                </a:moveTo>
                <a:lnTo>
                  <a:pt x="11971" y="76"/>
                </a:lnTo>
                <a:lnTo>
                  <a:pt x="11971" y="10993"/>
                </a:lnTo>
                <a:lnTo>
                  <a:pt x="72" y="10993"/>
                </a:lnTo>
                <a:lnTo>
                  <a:pt x="72" y="76"/>
                </a:lnTo>
                <a:close/>
                <a:moveTo>
                  <a:pt x="177" y="10882"/>
                </a:moveTo>
                <a:lnTo>
                  <a:pt x="11864" y="10882"/>
                </a:lnTo>
                <a:lnTo>
                  <a:pt x="11864" y="187"/>
                </a:lnTo>
                <a:lnTo>
                  <a:pt x="177" y="187"/>
                </a:lnTo>
                <a:lnTo>
                  <a:pt x="177" y="108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80400" y="4402080"/>
            <a:ext cx="1881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М.А.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757680" y="620640"/>
            <a:ext cx="2570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14280" y="1233360"/>
            <a:ext cx="336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87480" y="1233360"/>
            <a:ext cx="76597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издавна использовались в реч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87480" y="1593720"/>
            <a:ext cx="18032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4280" y="195588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87480" y="1955880"/>
            <a:ext cx="8348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исходит постоянный обмен фразеологизмами и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87480" y="2317680"/>
            <a:ext cx="4397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значениями между язы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4280" y="267984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87480" y="2679840"/>
            <a:ext cx="7520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Всё  время появляются новые фразеолог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480" y="3041640"/>
            <a:ext cx="5781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единицы, меняются значения стар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3403440"/>
            <a:ext cx="336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87480" y="3403440"/>
            <a:ext cx="7807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Все фразеологизмы можно разделить на 4 групп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87480" y="3765600"/>
            <a:ext cx="81104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сращения, фразеологизмы един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87480" y="4127400"/>
            <a:ext cx="8467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сочетания, фразеологизмы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4280" y="448776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87480" y="4487760"/>
            <a:ext cx="733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Ученики редко используют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в своей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87480" y="4851360"/>
            <a:ext cx="822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речи, значение некоторых им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неизвестно.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5040" y="5315040"/>
            <a:ext cx="290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44640" y="5327640"/>
            <a:ext cx="7335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Нужно больше читать книг, что бы быть грамот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0000" y="620640"/>
            <a:ext cx="727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Использованная литература и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4280" y="1233360"/>
            <a:ext cx="336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87480" y="1233360"/>
            <a:ext cx="76597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изведение  Э. Успен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4280" y="1728720"/>
            <a:ext cx="33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87480" y="1728720"/>
            <a:ext cx="8348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NewRoman"/>
              </a:rPr>
              <a:t>Произведение А. Курляндский</a:t>
            </a:r>
            <a:r>
              <a:rPr b="1" lang="ru-RU" sz="2400" spc="-1" strike="noStrike">
                <a:solidFill>
                  <a:srgbClr val="ffffff"/>
                </a:solidFill>
                <a:latin typeface="TimesNewRomanP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040" y="2232000"/>
            <a:ext cx="363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36720" y="2232000"/>
            <a:ext cx="757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Интернет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7280" y="273528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6720" y="2735280"/>
            <a:ext cx="78580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ловарь. С. Ожег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8160" y="455760"/>
            <a:ext cx="2433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9966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0280" y="449280"/>
            <a:ext cx="5348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Выбор темы обусловлен тем, что рече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70280" y="716040"/>
            <a:ext cx="5516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культура современных школьников оч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70280" y="981000"/>
            <a:ext cx="5668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низкая. Это связано с тем, что соврем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70280" y="1247760"/>
            <a:ext cx="5327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дети мало читают, отдавая предпочт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0280" y="1512720"/>
            <a:ext cx="5302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Интернету, телевидению. Речь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70280" y="1778040"/>
            <a:ext cx="5608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тличается бедностью словарного запаса,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70280" y="2046240"/>
            <a:ext cx="533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ней часто отсутствуют фразеолог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70280" y="2311560"/>
            <a:ext cx="5203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бороты, которые являются 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70280" y="2576520"/>
            <a:ext cx="3301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выразительности язы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375000"/>
            <a:ext cx="5388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Проблема изучения фразеологии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70280" y="3639960"/>
            <a:ext cx="6083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чень  актуальна, так как знание фразе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70280" y="3906720"/>
            <a:ext cx="5443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понимание её при чтении художе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70280" y="4173480"/>
            <a:ext cx="6100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литературы, а также правильное употреб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70280" y="4438800"/>
            <a:ext cx="5346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является одним из показателей хоро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4705200"/>
            <a:ext cx="3529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владения родным язык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0680" y="5067360"/>
            <a:ext cx="5332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Человек, знающий фразеологию род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77920" y="2397240"/>
            <a:ext cx="3174840" cy="3314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2760" y="2328840"/>
            <a:ext cx="3303720" cy="3451320"/>
          </a:xfrm>
          <a:custGeom>
            <a:avLst/>
            <a:gdLst/>
            <a:ahLst/>
            <a:rect l="l" t="t" r="r" b="b"/>
            <a:pathLst>
              <a:path w="9177" h="9587">
                <a:moveTo>
                  <a:pt x="0" y="0"/>
                </a:moveTo>
                <a:lnTo>
                  <a:pt x="9176" y="0"/>
                </a:lnTo>
                <a:lnTo>
                  <a:pt x="9176" y="9586"/>
                </a:lnTo>
                <a:lnTo>
                  <a:pt x="0" y="9586"/>
                </a:lnTo>
                <a:lnTo>
                  <a:pt x="0" y="0"/>
                </a:lnTo>
                <a:close/>
                <a:moveTo>
                  <a:pt x="35" y="9548"/>
                </a:moveTo>
                <a:lnTo>
                  <a:pt x="9141" y="9548"/>
                </a:lnTo>
                <a:lnTo>
                  <a:pt x="9141" y="37"/>
                </a:lnTo>
                <a:lnTo>
                  <a:pt x="35" y="37"/>
                </a:lnTo>
                <a:lnTo>
                  <a:pt x="35" y="9548"/>
                </a:lnTo>
                <a:close/>
                <a:moveTo>
                  <a:pt x="71" y="74"/>
                </a:moveTo>
                <a:lnTo>
                  <a:pt x="9106" y="74"/>
                </a:lnTo>
                <a:lnTo>
                  <a:pt x="9106" y="9511"/>
                </a:lnTo>
                <a:lnTo>
                  <a:pt x="71" y="9511"/>
                </a:lnTo>
                <a:lnTo>
                  <a:pt x="71" y="74"/>
                </a:lnTo>
                <a:close/>
                <a:moveTo>
                  <a:pt x="177" y="9398"/>
                </a:moveTo>
                <a:lnTo>
                  <a:pt x="8999" y="9398"/>
                </a:lnTo>
                <a:lnTo>
                  <a:pt x="8999" y="187"/>
                </a:lnTo>
                <a:lnTo>
                  <a:pt x="177" y="187"/>
                </a:lnTo>
                <a:lnTo>
                  <a:pt x="177" y="9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361120"/>
            <a:ext cx="5488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языка, обычно легко излагает свои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049400"/>
            <a:ext cx="1271880" cy="27000"/>
          </a:xfrm>
          <a:custGeom>
            <a:avLst/>
            <a:gdLst/>
            <a:ahLst/>
            <a:rect l="l" t="t" r="r" b="b"/>
            <a:pathLst>
              <a:path w="3534" h="75">
                <a:moveTo>
                  <a:pt x="0" y="0"/>
                </a:moveTo>
                <a:lnTo>
                  <a:pt x="1766" y="0"/>
                </a:lnTo>
                <a:lnTo>
                  <a:pt x="3533" y="0"/>
                </a:lnTo>
                <a:lnTo>
                  <a:pt x="3533" y="74"/>
                </a:lnTo>
                <a:lnTo>
                  <a:pt x="1766" y="74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2880" y="522360"/>
            <a:ext cx="12729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ru-RU" sz="3600" spc="-1" strike="noStrike">
                <a:solidFill>
                  <a:srgbClr val="e6e6e6"/>
                </a:solidFill>
                <a:latin typeface="TimesNewRomanPS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360" y="1082520"/>
            <a:ext cx="4121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вести исследовани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360" y="1444680"/>
            <a:ext cx="366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тему: «Фразеологиз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360" y="1806480"/>
            <a:ext cx="2478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ис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8360" y="2168640"/>
            <a:ext cx="4591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ческих оборотов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360" y="2530440"/>
            <a:ext cx="2416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русском язы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9960" y="1049400"/>
            <a:ext cx="1724040" cy="27000"/>
          </a:xfrm>
          <a:custGeom>
            <a:avLst/>
            <a:gdLst/>
            <a:ahLst/>
            <a:rect l="l" t="t" r="r" b="b"/>
            <a:pathLst>
              <a:path w="4791" h="75">
                <a:moveTo>
                  <a:pt x="0" y="0"/>
                </a:moveTo>
                <a:lnTo>
                  <a:pt x="2394" y="0"/>
                </a:lnTo>
                <a:lnTo>
                  <a:pt x="4790" y="0"/>
                </a:lnTo>
                <a:lnTo>
                  <a:pt x="4790" y="74"/>
                </a:lnTo>
                <a:lnTo>
                  <a:pt x="2394" y="74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400" y="522360"/>
            <a:ext cx="18511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e6e6e6"/>
                </a:solidFill>
                <a:latin typeface="TimesNewRomanPS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83040" y="1082520"/>
            <a:ext cx="49546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изучить литературу, рассмотр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83040" y="1444680"/>
            <a:ext cx="3979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различные точки зре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3040" y="1806480"/>
            <a:ext cx="446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определение «фразеологизм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83040" y="2168640"/>
            <a:ext cx="4638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выяснить основные прич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3040" y="2530440"/>
            <a:ext cx="4681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источники появления в русс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83040" y="2890800"/>
            <a:ext cx="3613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языке фразе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83040" y="3252960"/>
            <a:ext cx="140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оборо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90520" y="3811680"/>
            <a:ext cx="2460600" cy="3351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84320" y="3753000"/>
            <a:ext cx="2589120" cy="3485880"/>
          </a:xfrm>
          <a:custGeom>
            <a:avLst/>
            <a:gdLst/>
            <a:ahLst/>
            <a:rect l="l" t="t" r="r" b="b"/>
            <a:pathLst>
              <a:path w="7194" h="9685">
                <a:moveTo>
                  <a:pt x="0" y="0"/>
                </a:moveTo>
                <a:lnTo>
                  <a:pt x="7193" y="0"/>
                </a:lnTo>
                <a:lnTo>
                  <a:pt x="7193" y="9684"/>
                </a:lnTo>
                <a:lnTo>
                  <a:pt x="0" y="9684"/>
                </a:lnTo>
                <a:lnTo>
                  <a:pt x="0" y="0"/>
                </a:lnTo>
                <a:close/>
                <a:moveTo>
                  <a:pt x="35" y="9647"/>
                </a:moveTo>
                <a:lnTo>
                  <a:pt x="7158" y="9647"/>
                </a:lnTo>
                <a:lnTo>
                  <a:pt x="7158" y="38"/>
                </a:lnTo>
                <a:lnTo>
                  <a:pt x="35" y="38"/>
                </a:lnTo>
                <a:lnTo>
                  <a:pt x="35" y="9647"/>
                </a:lnTo>
                <a:close/>
                <a:moveTo>
                  <a:pt x="72" y="76"/>
                </a:moveTo>
                <a:lnTo>
                  <a:pt x="7122" y="76"/>
                </a:lnTo>
                <a:lnTo>
                  <a:pt x="7122" y="9610"/>
                </a:lnTo>
                <a:lnTo>
                  <a:pt x="72" y="9610"/>
                </a:lnTo>
                <a:lnTo>
                  <a:pt x="72" y="76"/>
                </a:lnTo>
                <a:close/>
                <a:moveTo>
                  <a:pt x="178" y="9497"/>
                </a:moveTo>
                <a:lnTo>
                  <a:pt x="7016" y="9497"/>
                </a:lnTo>
                <a:lnTo>
                  <a:pt x="7016" y="187"/>
                </a:lnTo>
                <a:lnTo>
                  <a:pt x="178" y="187"/>
                </a:lnTo>
                <a:lnTo>
                  <a:pt x="178" y="94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800" y="2100240"/>
            <a:ext cx="7834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Определение понятий фразеологизм, фразе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9800" y="2505240"/>
            <a:ext cx="6213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ичины образования фразеолог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9800" y="2909880"/>
            <a:ext cx="4362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Источники фразеолог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8520" y="914400"/>
            <a:ext cx="4424400" cy="696960"/>
          </a:xfrm>
          <a:custGeom>
            <a:avLst/>
            <a:gdLst/>
            <a:ahLst/>
            <a:rect l="l" t="t" r="r" b="b"/>
            <a:pathLst>
              <a:path w="12292" h="1935">
                <a:moveTo>
                  <a:pt x="8198" y="771"/>
                </a:moveTo>
                <a:cubicBezTo>
                  <a:pt x="8180" y="837"/>
                  <a:pt x="8161" y="902"/>
                  <a:pt x="8142" y="970"/>
                </a:cubicBezTo>
                <a:cubicBezTo>
                  <a:pt x="8191" y="979"/>
                  <a:pt x="8238" y="989"/>
                  <a:pt x="8285" y="1000"/>
                </a:cubicBezTo>
                <a:cubicBezTo>
                  <a:pt x="8288" y="993"/>
                  <a:pt x="8289" y="986"/>
                  <a:pt x="8290" y="979"/>
                </a:cubicBezTo>
                <a:cubicBezTo>
                  <a:pt x="8297" y="942"/>
                  <a:pt x="8311" y="893"/>
                  <a:pt x="8327" y="832"/>
                </a:cubicBezTo>
                <a:cubicBezTo>
                  <a:pt x="8331" y="822"/>
                  <a:pt x="8333" y="812"/>
                  <a:pt x="8336" y="802"/>
                </a:cubicBezTo>
                <a:cubicBezTo>
                  <a:pt x="8290" y="792"/>
                  <a:pt x="8245" y="781"/>
                  <a:pt x="8198" y="771"/>
                </a:cubicBezTo>
                <a:close/>
                <a:moveTo>
                  <a:pt x="416" y="807"/>
                </a:moveTo>
                <a:cubicBezTo>
                  <a:pt x="392" y="911"/>
                  <a:pt x="370" y="1017"/>
                  <a:pt x="347" y="1124"/>
                </a:cubicBezTo>
                <a:cubicBezTo>
                  <a:pt x="374" y="1111"/>
                  <a:pt x="391" y="1099"/>
                  <a:pt x="402" y="1086"/>
                </a:cubicBezTo>
                <a:cubicBezTo>
                  <a:pt x="413" y="1073"/>
                  <a:pt x="422" y="1043"/>
                  <a:pt x="433" y="997"/>
                </a:cubicBezTo>
                <a:cubicBezTo>
                  <a:pt x="441" y="958"/>
                  <a:pt x="450" y="919"/>
                  <a:pt x="459" y="881"/>
                </a:cubicBezTo>
                <a:cubicBezTo>
                  <a:pt x="470" y="833"/>
                  <a:pt x="472" y="807"/>
                  <a:pt x="466" y="801"/>
                </a:cubicBezTo>
                <a:cubicBezTo>
                  <a:pt x="461" y="795"/>
                  <a:pt x="443" y="796"/>
                  <a:pt x="416" y="807"/>
                </a:cubicBezTo>
                <a:close/>
                <a:moveTo>
                  <a:pt x="7933" y="491"/>
                </a:moveTo>
                <a:cubicBezTo>
                  <a:pt x="7928" y="495"/>
                  <a:pt x="7924" y="497"/>
                  <a:pt x="7920" y="501"/>
                </a:cubicBezTo>
                <a:cubicBezTo>
                  <a:pt x="7896" y="517"/>
                  <a:pt x="7869" y="527"/>
                  <a:pt x="7834" y="533"/>
                </a:cubicBezTo>
                <a:cubicBezTo>
                  <a:pt x="7863" y="543"/>
                  <a:pt x="7884" y="560"/>
                  <a:pt x="7900" y="582"/>
                </a:cubicBezTo>
                <a:cubicBezTo>
                  <a:pt x="7902" y="584"/>
                  <a:pt x="7903" y="588"/>
                  <a:pt x="7904" y="590"/>
                </a:cubicBezTo>
                <a:cubicBezTo>
                  <a:pt x="7914" y="558"/>
                  <a:pt x="7923" y="525"/>
                  <a:pt x="7933" y="491"/>
                </a:cubicBezTo>
                <a:close/>
                <a:moveTo>
                  <a:pt x="5820" y="973"/>
                </a:moveTo>
                <a:cubicBezTo>
                  <a:pt x="5792" y="1111"/>
                  <a:pt x="5762" y="1250"/>
                  <a:pt x="5732" y="1387"/>
                </a:cubicBezTo>
                <a:cubicBezTo>
                  <a:pt x="5737" y="1386"/>
                  <a:pt x="5742" y="1384"/>
                  <a:pt x="5747" y="1383"/>
                </a:cubicBezTo>
                <a:cubicBezTo>
                  <a:pt x="5763" y="1376"/>
                  <a:pt x="5781" y="1358"/>
                  <a:pt x="5798" y="1330"/>
                </a:cubicBezTo>
                <a:cubicBezTo>
                  <a:pt x="5815" y="1302"/>
                  <a:pt x="5827" y="1269"/>
                  <a:pt x="5836" y="1229"/>
                </a:cubicBezTo>
                <a:cubicBezTo>
                  <a:pt x="5847" y="1174"/>
                  <a:pt x="5858" y="1120"/>
                  <a:pt x="5869" y="1065"/>
                </a:cubicBezTo>
                <a:cubicBezTo>
                  <a:pt x="5877" y="1025"/>
                  <a:pt x="5878" y="996"/>
                  <a:pt x="5870" y="980"/>
                </a:cubicBezTo>
                <a:cubicBezTo>
                  <a:pt x="5862" y="964"/>
                  <a:pt x="5850" y="959"/>
                  <a:pt x="5835" y="967"/>
                </a:cubicBezTo>
                <a:cubicBezTo>
                  <a:pt x="5830" y="968"/>
                  <a:pt x="5825" y="971"/>
                  <a:pt x="5820" y="973"/>
                </a:cubicBezTo>
                <a:close/>
                <a:moveTo>
                  <a:pt x="5497" y="1096"/>
                </a:moveTo>
                <a:cubicBezTo>
                  <a:pt x="5481" y="1101"/>
                  <a:pt x="5463" y="1116"/>
                  <a:pt x="5446" y="1141"/>
                </a:cubicBezTo>
                <a:cubicBezTo>
                  <a:pt x="5428" y="1165"/>
                  <a:pt x="5414" y="1196"/>
                  <a:pt x="5405" y="1235"/>
                </a:cubicBezTo>
                <a:cubicBezTo>
                  <a:pt x="5392" y="1286"/>
                  <a:pt x="5380" y="1336"/>
                  <a:pt x="5367" y="1387"/>
                </a:cubicBezTo>
                <a:cubicBezTo>
                  <a:pt x="5359" y="1426"/>
                  <a:pt x="5357" y="1452"/>
                  <a:pt x="5365" y="1471"/>
                </a:cubicBezTo>
                <a:cubicBezTo>
                  <a:pt x="5373" y="1488"/>
                  <a:pt x="5385" y="1495"/>
                  <a:pt x="5403" y="1492"/>
                </a:cubicBezTo>
                <a:cubicBezTo>
                  <a:pt x="5406" y="1491"/>
                  <a:pt x="5409" y="1490"/>
                  <a:pt x="5413" y="1490"/>
                </a:cubicBezTo>
                <a:cubicBezTo>
                  <a:pt x="5445" y="1358"/>
                  <a:pt x="5477" y="1225"/>
                  <a:pt x="5507" y="1093"/>
                </a:cubicBezTo>
                <a:cubicBezTo>
                  <a:pt x="5504" y="1094"/>
                  <a:pt x="5500" y="1095"/>
                  <a:pt x="5497" y="1096"/>
                </a:cubicBezTo>
                <a:close/>
                <a:moveTo>
                  <a:pt x="7039" y="323"/>
                </a:moveTo>
                <a:cubicBezTo>
                  <a:pt x="6966" y="543"/>
                  <a:pt x="6916" y="702"/>
                  <a:pt x="6885" y="798"/>
                </a:cubicBezTo>
                <a:cubicBezTo>
                  <a:pt x="6910" y="793"/>
                  <a:pt x="6933" y="787"/>
                  <a:pt x="6957" y="781"/>
                </a:cubicBezTo>
                <a:cubicBezTo>
                  <a:pt x="6972" y="662"/>
                  <a:pt x="6999" y="509"/>
                  <a:pt x="7039" y="323"/>
                </a:cubicBezTo>
                <a:close/>
                <a:moveTo>
                  <a:pt x="3422" y="815"/>
                </a:moveTo>
                <a:cubicBezTo>
                  <a:pt x="3352" y="990"/>
                  <a:pt x="3303" y="1115"/>
                  <a:pt x="3273" y="1189"/>
                </a:cubicBezTo>
                <a:cubicBezTo>
                  <a:pt x="3296" y="1198"/>
                  <a:pt x="3320" y="1205"/>
                  <a:pt x="3343" y="1213"/>
                </a:cubicBezTo>
                <a:cubicBezTo>
                  <a:pt x="3358" y="1107"/>
                  <a:pt x="3384" y="974"/>
                  <a:pt x="3422" y="815"/>
                </a:cubicBezTo>
                <a:close/>
                <a:moveTo>
                  <a:pt x="8309" y="387"/>
                </a:moveTo>
                <a:cubicBezTo>
                  <a:pt x="8293" y="441"/>
                  <a:pt x="8278" y="497"/>
                  <a:pt x="8261" y="552"/>
                </a:cubicBezTo>
                <a:cubicBezTo>
                  <a:pt x="8306" y="562"/>
                  <a:pt x="8353" y="574"/>
                  <a:pt x="8398" y="586"/>
                </a:cubicBezTo>
                <a:cubicBezTo>
                  <a:pt x="8401" y="574"/>
                  <a:pt x="8404" y="562"/>
                  <a:pt x="8408" y="552"/>
                </a:cubicBezTo>
                <a:cubicBezTo>
                  <a:pt x="8424" y="497"/>
                  <a:pt x="8439" y="455"/>
                  <a:pt x="8451" y="425"/>
                </a:cubicBezTo>
                <a:cubicBezTo>
                  <a:pt x="8451" y="424"/>
                  <a:pt x="8451" y="423"/>
                  <a:pt x="8451" y="423"/>
                </a:cubicBezTo>
                <a:cubicBezTo>
                  <a:pt x="8403" y="410"/>
                  <a:pt x="8356" y="398"/>
                  <a:pt x="8309" y="387"/>
                </a:cubicBezTo>
                <a:close/>
                <a:moveTo>
                  <a:pt x="6470" y="435"/>
                </a:moveTo>
                <a:cubicBezTo>
                  <a:pt x="6450" y="532"/>
                  <a:pt x="6430" y="629"/>
                  <a:pt x="6410" y="726"/>
                </a:cubicBezTo>
                <a:lnTo>
                  <a:pt x="6409" y="726"/>
                </a:lnTo>
                <a:cubicBezTo>
                  <a:pt x="6409" y="728"/>
                  <a:pt x="6409" y="728"/>
                  <a:pt x="6410" y="726"/>
                </a:cubicBezTo>
                <a:cubicBezTo>
                  <a:pt x="6412" y="725"/>
                  <a:pt x="6415" y="724"/>
                  <a:pt x="6417" y="723"/>
                </a:cubicBezTo>
                <a:cubicBezTo>
                  <a:pt x="6438" y="714"/>
                  <a:pt x="6453" y="701"/>
                  <a:pt x="6463" y="686"/>
                </a:cubicBezTo>
                <a:cubicBezTo>
                  <a:pt x="6473" y="671"/>
                  <a:pt x="6482" y="641"/>
                  <a:pt x="6492" y="598"/>
                </a:cubicBezTo>
                <a:cubicBezTo>
                  <a:pt x="6498" y="565"/>
                  <a:pt x="6506" y="530"/>
                  <a:pt x="6514" y="496"/>
                </a:cubicBezTo>
                <a:cubicBezTo>
                  <a:pt x="6523" y="458"/>
                  <a:pt x="6523" y="435"/>
                  <a:pt x="6516" y="429"/>
                </a:cubicBezTo>
                <a:cubicBezTo>
                  <a:pt x="6509" y="423"/>
                  <a:pt x="6494" y="424"/>
                  <a:pt x="6470" y="435"/>
                </a:cubicBezTo>
                <a:close/>
                <a:moveTo>
                  <a:pt x="2856" y="575"/>
                </a:moveTo>
                <a:cubicBezTo>
                  <a:pt x="2835" y="651"/>
                  <a:pt x="2813" y="725"/>
                  <a:pt x="2791" y="800"/>
                </a:cubicBezTo>
                <a:lnTo>
                  <a:pt x="2790" y="800"/>
                </a:lnTo>
                <a:cubicBezTo>
                  <a:pt x="2789" y="800"/>
                  <a:pt x="2790" y="800"/>
                  <a:pt x="2791" y="800"/>
                </a:cubicBezTo>
                <a:cubicBezTo>
                  <a:pt x="2794" y="801"/>
                  <a:pt x="2797" y="801"/>
                  <a:pt x="2799" y="802"/>
                </a:cubicBezTo>
                <a:cubicBezTo>
                  <a:pt x="2821" y="809"/>
                  <a:pt x="2837" y="810"/>
                  <a:pt x="2847" y="803"/>
                </a:cubicBezTo>
                <a:cubicBezTo>
                  <a:pt x="2858" y="797"/>
                  <a:pt x="2868" y="778"/>
                  <a:pt x="2877" y="744"/>
                </a:cubicBezTo>
                <a:cubicBezTo>
                  <a:pt x="2885" y="717"/>
                  <a:pt x="2894" y="690"/>
                  <a:pt x="2900" y="665"/>
                </a:cubicBezTo>
                <a:cubicBezTo>
                  <a:pt x="2909" y="634"/>
                  <a:pt x="2910" y="615"/>
                  <a:pt x="2903" y="603"/>
                </a:cubicBezTo>
                <a:cubicBezTo>
                  <a:pt x="2896" y="593"/>
                  <a:pt x="2880" y="583"/>
                  <a:pt x="2856" y="575"/>
                </a:cubicBezTo>
                <a:close/>
                <a:moveTo>
                  <a:pt x="521" y="339"/>
                </a:moveTo>
                <a:cubicBezTo>
                  <a:pt x="503" y="420"/>
                  <a:pt x="484" y="501"/>
                  <a:pt x="466" y="582"/>
                </a:cubicBezTo>
                <a:cubicBezTo>
                  <a:pt x="472" y="579"/>
                  <a:pt x="477" y="577"/>
                  <a:pt x="481" y="576"/>
                </a:cubicBezTo>
                <a:cubicBezTo>
                  <a:pt x="503" y="568"/>
                  <a:pt x="519" y="558"/>
                  <a:pt x="528" y="545"/>
                </a:cubicBezTo>
                <a:cubicBezTo>
                  <a:pt x="536" y="531"/>
                  <a:pt x="548" y="490"/>
                  <a:pt x="564" y="420"/>
                </a:cubicBezTo>
                <a:cubicBezTo>
                  <a:pt x="573" y="385"/>
                  <a:pt x="575" y="362"/>
                  <a:pt x="573" y="351"/>
                </a:cubicBezTo>
                <a:cubicBezTo>
                  <a:pt x="571" y="339"/>
                  <a:pt x="567" y="333"/>
                  <a:pt x="559" y="332"/>
                </a:cubicBezTo>
                <a:cubicBezTo>
                  <a:pt x="552" y="332"/>
                  <a:pt x="539" y="334"/>
                  <a:pt x="521" y="339"/>
                </a:cubicBezTo>
                <a:close/>
                <a:moveTo>
                  <a:pt x="10157" y="885"/>
                </a:moveTo>
                <a:cubicBezTo>
                  <a:pt x="10147" y="881"/>
                  <a:pt x="10138" y="883"/>
                  <a:pt x="10131" y="890"/>
                </a:cubicBezTo>
                <a:cubicBezTo>
                  <a:pt x="10122" y="895"/>
                  <a:pt x="10111" y="923"/>
                  <a:pt x="10097" y="973"/>
                </a:cubicBezTo>
                <a:cubicBezTo>
                  <a:pt x="10052" y="1129"/>
                  <a:pt x="10008" y="1285"/>
                  <a:pt x="9963" y="1440"/>
                </a:cubicBezTo>
                <a:cubicBezTo>
                  <a:pt x="9948" y="1495"/>
                  <a:pt x="9939" y="1529"/>
                  <a:pt x="9941" y="1541"/>
                </a:cubicBezTo>
                <a:cubicBezTo>
                  <a:pt x="9941" y="1551"/>
                  <a:pt x="9948" y="1558"/>
                  <a:pt x="9961" y="1562"/>
                </a:cubicBezTo>
                <a:cubicBezTo>
                  <a:pt x="9973" y="1565"/>
                  <a:pt x="9983" y="1562"/>
                  <a:pt x="9991" y="1551"/>
                </a:cubicBezTo>
                <a:cubicBezTo>
                  <a:pt x="9998" y="1540"/>
                  <a:pt x="10011" y="1506"/>
                  <a:pt x="10027" y="1449"/>
                </a:cubicBezTo>
                <a:cubicBezTo>
                  <a:pt x="10071" y="1295"/>
                  <a:pt x="10115" y="1143"/>
                  <a:pt x="10159" y="988"/>
                </a:cubicBezTo>
                <a:cubicBezTo>
                  <a:pt x="10173" y="943"/>
                  <a:pt x="10178" y="915"/>
                  <a:pt x="10177" y="904"/>
                </a:cubicBezTo>
                <a:cubicBezTo>
                  <a:pt x="10175" y="894"/>
                  <a:pt x="10168" y="887"/>
                  <a:pt x="10157" y="885"/>
                </a:cubicBezTo>
                <a:close/>
                <a:moveTo>
                  <a:pt x="8813" y="473"/>
                </a:moveTo>
                <a:cubicBezTo>
                  <a:pt x="8803" y="469"/>
                  <a:pt x="8795" y="470"/>
                  <a:pt x="8787" y="476"/>
                </a:cubicBezTo>
                <a:cubicBezTo>
                  <a:pt x="8779" y="482"/>
                  <a:pt x="8768" y="509"/>
                  <a:pt x="8754" y="556"/>
                </a:cubicBezTo>
                <a:cubicBezTo>
                  <a:pt x="8710" y="710"/>
                  <a:pt x="8666" y="864"/>
                  <a:pt x="8622" y="1018"/>
                </a:cubicBezTo>
                <a:cubicBezTo>
                  <a:pt x="8605" y="1074"/>
                  <a:pt x="8597" y="1109"/>
                  <a:pt x="8598" y="1120"/>
                </a:cubicBezTo>
                <a:cubicBezTo>
                  <a:pt x="8600" y="1130"/>
                  <a:pt x="8606" y="1137"/>
                  <a:pt x="8618" y="1141"/>
                </a:cubicBezTo>
                <a:cubicBezTo>
                  <a:pt x="8631" y="1144"/>
                  <a:pt x="8641" y="1141"/>
                  <a:pt x="8649" y="1130"/>
                </a:cubicBezTo>
                <a:cubicBezTo>
                  <a:pt x="8657" y="1118"/>
                  <a:pt x="8669" y="1085"/>
                  <a:pt x="8686" y="1029"/>
                </a:cubicBezTo>
                <a:cubicBezTo>
                  <a:pt x="8729" y="878"/>
                  <a:pt x="8773" y="726"/>
                  <a:pt x="8816" y="576"/>
                </a:cubicBezTo>
                <a:cubicBezTo>
                  <a:pt x="8829" y="532"/>
                  <a:pt x="8834" y="505"/>
                  <a:pt x="8832" y="494"/>
                </a:cubicBezTo>
                <a:cubicBezTo>
                  <a:pt x="8831" y="483"/>
                  <a:pt x="8824" y="476"/>
                  <a:pt x="8813" y="473"/>
                </a:cubicBezTo>
                <a:close/>
                <a:moveTo>
                  <a:pt x="7692" y="206"/>
                </a:moveTo>
                <a:cubicBezTo>
                  <a:pt x="7679" y="205"/>
                  <a:pt x="7668" y="209"/>
                  <a:pt x="7660" y="218"/>
                </a:cubicBezTo>
                <a:cubicBezTo>
                  <a:pt x="7653" y="226"/>
                  <a:pt x="7643" y="251"/>
                  <a:pt x="7632" y="289"/>
                </a:cubicBezTo>
                <a:cubicBezTo>
                  <a:pt x="7623" y="323"/>
                  <a:pt x="7613" y="359"/>
                  <a:pt x="7604" y="392"/>
                </a:cubicBezTo>
                <a:cubicBezTo>
                  <a:pt x="7499" y="387"/>
                  <a:pt x="7396" y="387"/>
                  <a:pt x="7292" y="392"/>
                </a:cubicBezTo>
                <a:cubicBezTo>
                  <a:pt x="7281" y="491"/>
                  <a:pt x="7269" y="591"/>
                  <a:pt x="7258" y="691"/>
                </a:cubicBezTo>
                <a:cubicBezTo>
                  <a:pt x="7346" y="684"/>
                  <a:pt x="7435" y="682"/>
                  <a:pt x="7524" y="683"/>
                </a:cubicBezTo>
                <a:cubicBezTo>
                  <a:pt x="7506" y="747"/>
                  <a:pt x="7489" y="811"/>
                  <a:pt x="7472" y="876"/>
                </a:cubicBezTo>
                <a:cubicBezTo>
                  <a:pt x="7459" y="922"/>
                  <a:pt x="7454" y="950"/>
                  <a:pt x="7455" y="958"/>
                </a:cubicBezTo>
                <a:cubicBezTo>
                  <a:pt x="7457" y="968"/>
                  <a:pt x="7465" y="972"/>
                  <a:pt x="7478" y="972"/>
                </a:cubicBezTo>
                <a:cubicBezTo>
                  <a:pt x="7495" y="972"/>
                  <a:pt x="7507" y="965"/>
                  <a:pt x="7516" y="953"/>
                </a:cubicBezTo>
                <a:cubicBezTo>
                  <a:pt x="7526" y="940"/>
                  <a:pt x="7539" y="901"/>
                  <a:pt x="7557" y="835"/>
                </a:cubicBezTo>
                <a:cubicBezTo>
                  <a:pt x="7564" y="809"/>
                  <a:pt x="7571" y="785"/>
                  <a:pt x="7578" y="759"/>
                </a:cubicBezTo>
                <a:cubicBezTo>
                  <a:pt x="7589" y="719"/>
                  <a:pt x="7592" y="693"/>
                  <a:pt x="7588" y="675"/>
                </a:cubicBezTo>
                <a:cubicBezTo>
                  <a:pt x="7583" y="658"/>
                  <a:pt x="7574" y="646"/>
                  <a:pt x="7558" y="640"/>
                </a:cubicBezTo>
                <a:cubicBezTo>
                  <a:pt x="7542" y="634"/>
                  <a:pt x="7503" y="630"/>
                  <a:pt x="7439" y="630"/>
                </a:cubicBezTo>
                <a:cubicBezTo>
                  <a:pt x="7455" y="567"/>
                  <a:pt x="7472" y="505"/>
                  <a:pt x="7489" y="442"/>
                </a:cubicBezTo>
                <a:cubicBezTo>
                  <a:pt x="7567" y="444"/>
                  <a:pt x="7613" y="445"/>
                  <a:pt x="7626" y="442"/>
                </a:cubicBezTo>
                <a:cubicBezTo>
                  <a:pt x="7642" y="439"/>
                  <a:pt x="7653" y="431"/>
                  <a:pt x="7663" y="418"/>
                </a:cubicBezTo>
                <a:cubicBezTo>
                  <a:pt x="7672" y="404"/>
                  <a:pt x="7682" y="381"/>
                  <a:pt x="7691" y="348"/>
                </a:cubicBezTo>
                <a:cubicBezTo>
                  <a:pt x="7697" y="327"/>
                  <a:pt x="7702" y="308"/>
                  <a:pt x="7708" y="288"/>
                </a:cubicBezTo>
                <a:cubicBezTo>
                  <a:pt x="7718" y="253"/>
                  <a:pt x="7721" y="231"/>
                  <a:pt x="7717" y="223"/>
                </a:cubicBezTo>
                <a:cubicBezTo>
                  <a:pt x="7713" y="213"/>
                  <a:pt x="7706" y="207"/>
                  <a:pt x="7692" y="206"/>
                </a:cubicBezTo>
                <a:close/>
                <a:moveTo>
                  <a:pt x="262" y="213"/>
                </a:moveTo>
                <a:cubicBezTo>
                  <a:pt x="358" y="170"/>
                  <a:pt x="460" y="133"/>
                  <a:pt x="561" y="105"/>
                </a:cubicBezTo>
                <a:cubicBezTo>
                  <a:pt x="655" y="78"/>
                  <a:pt x="726" y="73"/>
                  <a:pt x="774" y="78"/>
                </a:cubicBezTo>
                <a:cubicBezTo>
                  <a:pt x="820" y="85"/>
                  <a:pt x="853" y="111"/>
                  <a:pt x="873" y="154"/>
                </a:cubicBezTo>
                <a:cubicBezTo>
                  <a:pt x="893" y="197"/>
                  <a:pt x="890" y="270"/>
                  <a:pt x="863" y="374"/>
                </a:cubicBezTo>
                <a:cubicBezTo>
                  <a:pt x="846" y="446"/>
                  <a:pt x="821" y="498"/>
                  <a:pt x="790" y="532"/>
                </a:cubicBezTo>
                <a:cubicBezTo>
                  <a:pt x="761" y="567"/>
                  <a:pt x="715" y="593"/>
                  <a:pt x="657" y="613"/>
                </a:cubicBezTo>
                <a:cubicBezTo>
                  <a:pt x="720" y="604"/>
                  <a:pt x="760" y="619"/>
                  <a:pt x="776" y="654"/>
                </a:cubicBezTo>
                <a:cubicBezTo>
                  <a:pt x="794" y="689"/>
                  <a:pt x="791" y="746"/>
                  <a:pt x="772" y="825"/>
                </a:cubicBezTo>
                <a:cubicBezTo>
                  <a:pt x="763" y="862"/>
                  <a:pt x="754" y="899"/>
                  <a:pt x="744" y="935"/>
                </a:cubicBezTo>
                <a:cubicBezTo>
                  <a:pt x="724" y="1017"/>
                  <a:pt x="700" y="1082"/>
                  <a:pt x="671" y="1130"/>
                </a:cubicBezTo>
                <a:cubicBezTo>
                  <a:pt x="643" y="1177"/>
                  <a:pt x="606" y="1215"/>
                  <a:pt x="563" y="1243"/>
                </a:cubicBezTo>
                <a:cubicBezTo>
                  <a:pt x="518" y="1272"/>
                  <a:pt x="438" y="1307"/>
                  <a:pt x="324" y="1359"/>
                </a:cubicBezTo>
                <a:cubicBezTo>
                  <a:pt x="212" y="1412"/>
                  <a:pt x="105" y="1472"/>
                  <a:pt x="0" y="1541"/>
                </a:cubicBezTo>
                <a:cubicBezTo>
                  <a:pt x="82" y="1091"/>
                  <a:pt x="170" y="650"/>
                  <a:pt x="262" y="213"/>
                </a:cubicBezTo>
                <a:close/>
                <a:moveTo>
                  <a:pt x="8866" y="280"/>
                </a:moveTo>
                <a:cubicBezTo>
                  <a:pt x="8928" y="299"/>
                  <a:pt x="8981" y="326"/>
                  <a:pt x="9026" y="362"/>
                </a:cubicBezTo>
                <a:cubicBezTo>
                  <a:pt x="9070" y="396"/>
                  <a:pt x="9102" y="435"/>
                  <a:pt x="9123" y="482"/>
                </a:cubicBezTo>
                <a:cubicBezTo>
                  <a:pt x="9143" y="527"/>
                  <a:pt x="9150" y="573"/>
                  <a:pt x="9143" y="617"/>
                </a:cubicBezTo>
                <a:cubicBezTo>
                  <a:pt x="9143" y="622"/>
                  <a:pt x="9142" y="627"/>
                  <a:pt x="9140" y="634"/>
                </a:cubicBezTo>
                <a:cubicBezTo>
                  <a:pt x="9162" y="561"/>
                  <a:pt x="9183" y="487"/>
                  <a:pt x="9204" y="413"/>
                </a:cubicBezTo>
                <a:cubicBezTo>
                  <a:pt x="9435" y="489"/>
                  <a:pt x="9668" y="566"/>
                  <a:pt x="9901" y="631"/>
                </a:cubicBezTo>
                <a:cubicBezTo>
                  <a:pt x="9891" y="666"/>
                  <a:pt x="9882" y="702"/>
                  <a:pt x="9872" y="737"/>
                </a:cubicBezTo>
                <a:cubicBezTo>
                  <a:pt x="9876" y="732"/>
                  <a:pt x="9880" y="729"/>
                  <a:pt x="9886" y="725"/>
                </a:cubicBezTo>
                <a:cubicBezTo>
                  <a:pt x="9926" y="697"/>
                  <a:pt x="9973" y="681"/>
                  <a:pt x="10029" y="674"/>
                </a:cubicBezTo>
                <a:cubicBezTo>
                  <a:pt x="10084" y="667"/>
                  <a:pt x="10146" y="672"/>
                  <a:pt x="10212" y="687"/>
                </a:cubicBezTo>
                <a:cubicBezTo>
                  <a:pt x="10275" y="701"/>
                  <a:pt x="10329" y="722"/>
                  <a:pt x="10375" y="751"/>
                </a:cubicBezTo>
                <a:cubicBezTo>
                  <a:pt x="10421" y="779"/>
                  <a:pt x="10455" y="814"/>
                  <a:pt x="10475" y="858"/>
                </a:cubicBezTo>
                <a:cubicBezTo>
                  <a:pt x="10479" y="867"/>
                  <a:pt x="10482" y="878"/>
                  <a:pt x="10487" y="887"/>
                </a:cubicBezTo>
                <a:cubicBezTo>
                  <a:pt x="10498" y="847"/>
                  <a:pt x="10509" y="808"/>
                  <a:pt x="10521" y="767"/>
                </a:cubicBezTo>
                <a:cubicBezTo>
                  <a:pt x="10676" y="792"/>
                  <a:pt x="10833" y="804"/>
                  <a:pt x="10991" y="804"/>
                </a:cubicBezTo>
                <a:cubicBezTo>
                  <a:pt x="11019" y="804"/>
                  <a:pt x="11048" y="803"/>
                  <a:pt x="11077" y="803"/>
                </a:cubicBezTo>
                <a:cubicBezTo>
                  <a:pt x="11143" y="801"/>
                  <a:pt x="11208" y="796"/>
                  <a:pt x="11274" y="788"/>
                </a:cubicBezTo>
                <a:cubicBezTo>
                  <a:pt x="11230" y="960"/>
                  <a:pt x="11185" y="1130"/>
                  <a:pt x="11139" y="1299"/>
                </a:cubicBezTo>
                <a:cubicBezTo>
                  <a:pt x="11233" y="1128"/>
                  <a:pt x="11326" y="950"/>
                  <a:pt x="11416" y="768"/>
                </a:cubicBezTo>
                <a:cubicBezTo>
                  <a:pt x="11493" y="754"/>
                  <a:pt x="11570" y="737"/>
                  <a:pt x="11644" y="716"/>
                </a:cubicBezTo>
                <a:cubicBezTo>
                  <a:pt x="11660" y="711"/>
                  <a:pt x="11674" y="707"/>
                  <a:pt x="11688" y="702"/>
                </a:cubicBezTo>
                <a:cubicBezTo>
                  <a:pt x="11764" y="679"/>
                  <a:pt x="11840" y="651"/>
                  <a:pt x="11913" y="619"/>
                </a:cubicBezTo>
                <a:cubicBezTo>
                  <a:pt x="11872" y="808"/>
                  <a:pt x="11832" y="995"/>
                  <a:pt x="11790" y="1181"/>
                </a:cubicBezTo>
                <a:cubicBezTo>
                  <a:pt x="11878" y="979"/>
                  <a:pt x="11963" y="772"/>
                  <a:pt x="12046" y="559"/>
                </a:cubicBezTo>
                <a:cubicBezTo>
                  <a:pt x="12129" y="517"/>
                  <a:pt x="12211" y="469"/>
                  <a:pt x="12291" y="416"/>
                </a:cubicBezTo>
                <a:cubicBezTo>
                  <a:pt x="12210" y="866"/>
                  <a:pt x="12122" y="1307"/>
                  <a:pt x="12029" y="1743"/>
                </a:cubicBezTo>
                <a:cubicBezTo>
                  <a:pt x="11943" y="1780"/>
                  <a:pt x="11853" y="1813"/>
                  <a:pt x="11762" y="1840"/>
                </a:cubicBezTo>
                <a:cubicBezTo>
                  <a:pt x="11805" y="1655"/>
                  <a:pt x="11848" y="1469"/>
                  <a:pt x="11890" y="1280"/>
                </a:cubicBezTo>
                <a:cubicBezTo>
                  <a:pt x="11807" y="1484"/>
                  <a:pt x="11723" y="1682"/>
                  <a:pt x="11634" y="1873"/>
                </a:cubicBezTo>
                <a:cubicBezTo>
                  <a:pt x="11554" y="1892"/>
                  <a:pt x="11472" y="1906"/>
                  <a:pt x="11391" y="1915"/>
                </a:cubicBezTo>
                <a:cubicBezTo>
                  <a:pt x="11376" y="1918"/>
                  <a:pt x="11361" y="1920"/>
                  <a:pt x="11346" y="1921"/>
                </a:cubicBezTo>
                <a:cubicBezTo>
                  <a:pt x="11266" y="1929"/>
                  <a:pt x="11188" y="1933"/>
                  <a:pt x="11109" y="1934"/>
                </a:cubicBezTo>
                <a:cubicBezTo>
                  <a:pt x="11154" y="1765"/>
                  <a:pt x="11199" y="1595"/>
                  <a:pt x="11244" y="1426"/>
                </a:cubicBezTo>
                <a:cubicBezTo>
                  <a:pt x="11156" y="1598"/>
                  <a:pt x="11067" y="1766"/>
                  <a:pt x="10976" y="1932"/>
                </a:cubicBezTo>
                <a:cubicBezTo>
                  <a:pt x="10879" y="1927"/>
                  <a:pt x="10782" y="1919"/>
                  <a:pt x="10685" y="1906"/>
                </a:cubicBezTo>
                <a:cubicBezTo>
                  <a:pt x="10765" y="1625"/>
                  <a:pt x="10844" y="1339"/>
                  <a:pt x="10923" y="1051"/>
                </a:cubicBezTo>
                <a:cubicBezTo>
                  <a:pt x="10877" y="1050"/>
                  <a:pt x="10832" y="1047"/>
                  <a:pt x="10786" y="1044"/>
                </a:cubicBezTo>
                <a:cubicBezTo>
                  <a:pt x="10707" y="1328"/>
                  <a:pt x="10629" y="1608"/>
                  <a:pt x="10550" y="1885"/>
                </a:cubicBezTo>
                <a:cubicBezTo>
                  <a:pt x="10439" y="1868"/>
                  <a:pt x="10330" y="1843"/>
                  <a:pt x="10222" y="1818"/>
                </a:cubicBezTo>
                <a:cubicBezTo>
                  <a:pt x="10232" y="1779"/>
                  <a:pt x="10244" y="1740"/>
                  <a:pt x="10255" y="1701"/>
                </a:cubicBezTo>
                <a:cubicBezTo>
                  <a:pt x="10248" y="1708"/>
                  <a:pt x="10239" y="1714"/>
                  <a:pt x="10231" y="1721"/>
                </a:cubicBezTo>
                <a:cubicBezTo>
                  <a:pt x="10191" y="1750"/>
                  <a:pt x="10143" y="1769"/>
                  <a:pt x="10088" y="1775"/>
                </a:cubicBezTo>
                <a:cubicBezTo>
                  <a:pt x="10031" y="1780"/>
                  <a:pt x="9971" y="1775"/>
                  <a:pt x="9906" y="1755"/>
                </a:cubicBezTo>
                <a:cubicBezTo>
                  <a:pt x="9843" y="1737"/>
                  <a:pt x="9790" y="1711"/>
                  <a:pt x="9745" y="1678"/>
                </a:cubicBezTo>
                <a:cubicBezTo>
                  <a:pt x="9701" y="1644"/>
                  <a:pt x="9669" y="1605"/>
                  <a:pt x="9649" y="1559"/>
                </a:cubicBezTo>
                <a:cubicBezTo>
                  <a:pt x="9646" y="1552"/>
                  <a:pt x="9643" y="1545"/>
                  <a:pt x="9641" y="1538"/>
                </a:cubicBezTo>
                <a:cubicBezTo>
                  <a:pt x="9630" y="1573"/>
                  <a:pt x="9620" y="1608"/>
                  <a:pt x="9610" y="1642"/>
                </a:cubicBezTo>
                <a:cubicBezTo>
                  <a:pt x="9505" y="1608"/>
                  <a:pt x="9398" y="1573"/>
                  <a:pt x="9291" y="1538"/>
                </a:cubicBezTo>
                <a:cubicBezTo>
                  <a:pt x="9366" y="1278"/>
                  <a:pt x="9442" y="1017"/>
                  <a:pt x="9517" y="757"/>
                </a:cubicBezTo>
                <a:cubicBezTo>
                  <a:pt x="9497" y="750"/>
                  <a:pt x="9478" y="744"/>
                  <a:pt x="9459" y="738"/>
                </a:cubicBezTo>
                <a:cubicBezTo>
                  <a:pt x="9409" y="918"/>
                  <a:pt x="9356" y="1099"/>
                  <a:pt x="9304" y="1279"/>
                </a:cubicBezTo>
                <a:cubicBezTo>
                  <a:pt x="9283" y="1353"/>
                  <a:pt x="9255" y="1405"/>
                  <a:pt x="9222" y="1431"/>
                </a:cubicBezTo>
                <a:cubicBezTo>
                  <a:pt x="9189" y="1458"/>
                  <a:pt x="9149" y="1469"/>
                  <a:pt x="9100" y="1462"/>
                </a:cubicBezTo>
                <a:cubicBezTo>
                  <a:pt x="9051" y="1455"/>
                  <a:pt x="8979" y="1436"/>
                  <a:pt x="8882" y="1406"/>
                </a:cubicBezTo>
                <a:cubicBezTo>
                  <a:pt x="8862" y="1400"/>
                  <a:pt x="8842" y="1393"/>
                  <a:pt x="8822" y="1387"/>
                </a:cubicBezTo>
                <a:cubicBezTo>
                  <a:pt x="8828" y="1370"/>
                  <a:pt x="8832" y="1352"/>
                  <a:pt x="8838" y="1335"/>
                </a:cubicBezTo>
                <a:cubicBezTo>
                  <a:pt x="8832" y="1336"/>
                  <a:pt x="8828" y="1338"/>
                  <a:pt x="8822" y="1341"/>
                </a:cubicBezTo>
                <a:cubicBezTo>
                  <a:pt x="8798" y="1349"/>
                  <a:pt x="8773" y="1353"/>
                  <a:pt x="8745" y="1356"/>
                </a:cubicBezTo>
                <a:cubicBezTo>
                  <a:pt x="8690" y="1359"/>
                  <a:pt x="8629" y="1352"/>
                  <a:pt x="8564" y="1335"/>
                </a:cubicBezTo>
                <a:cubicBezTo>
                  <a:pt x="8501" y="1317"/>
                  <a:pt x="8447" y="1294"/>
                  <a:pt x="8402" y="1264"/>
                </a:cubicBezTo>
                <a:cubicBezTo>
                  <a:pt x="8368" y="1241"/>
                  <a:pt x="8342" y="1214"/>
                  <a:pt x="8322" y="1182"/>
                </a:cubicBezTo>
                <a:cubicBezTo>
                  <a:pt x="8320" y="1180"/>
                  <a:pt x="8317" y="1177"/>
                  <a:pt x="8315" y="1173"/>
                </a:cubicBezTo>
                <a:cubicBezTo>
                  <a:pt x="8309" y="1196"/>
                  <a:pt x="8302" y="1221"/>
                  <a:pt x="8295" y="1245"/>
                </a:cubicBezTo>
                <a:cubicBezTo>
                  <a:pt x="8113" y="1203"/>
                  <a:pt x="7930" y="1173"/>
                  <a:pt x="7745" y="1158"/>
                </a:cubicBezTo>
                <a:cubicBezTo>
                  <a:pt x="7755" y="1123"/>
                  <a:pt x="7765" y="1088"/>
                  <a:pt x="7774" y="1054"/>
                </a:cubicBezTo>
                <a:cubicBezTo>
                  <a:pt x="7772" y="1057"/>
                  <a:pt x="7769" y="1059"/>
                  <a:pt x="7766" y="1063"/>
                </a:cubicBezTo>
                <a:cubicBezTo>
                  <a:pt x="7734" y="1093"/>
                  <a:pt x="7696" y="1116"/>
                  <a:pt x="7649" y="1134"/>
                </a:cubicBezTo>
                <a:cubicBezTo>
                  <a:pt x="7588" y="1157"/>
                  <a:pt x="7515" y="1168"/>
                  <a:pt x="7431" y="1171"/>
                </a:cubicBezTo>
                <a:cubicBezTo>
                  <a:pt x="7336" y="1174"/>
                  <a:pt x="7266" y="1166"/>
                  <a:pt x="7218" y="1139"/>
                </a:cubicBezTo>
                <a:cubicBezTo>
                  <a:pt x="7215" y="1137"/>
                  <a:pt x="7212" y="1136"/>
                  <a:pt x="7208" y="1132"/>
                </a:cubicBezTo>
                <a:cubicBezTo>
                  <a:pt x="7207" y="1144"/>
                  <a:pt x="7206" y="1154"/>
                  <a:pt x="7205" y="1166"/>
                </a:cubicBezTo>
                <a:cubicBezTo>
                  <a:pt x="7093" y="1180"/>
                  <a:pt x="6981" y="1202"/>
                  <a:pt x="6872" y="1231"/>
                </a:cubicBezTo>
                <a:cubicBezTo>
                  <a:pt x="6884" y="1161"/>
                  <a:pt x="6896" y="1091"/>
                  <a:pt x="6909" y="1020"/>
                </a:cubicBezTo>
                <a:cubicBezTo>
                  <a:pt x="6882" y="1027"/>
                  <a:pt x="6856" y="1033"/>
                  <a:pt x="6829" y="1042"/>
                </a:cubicBezTo>
                <a:cubicBezTo>
                  <a:pt x="6806" y="1116"/>
                  <a:pt x="6784" y="1191"/>
                  <a:pt x="6761" y="1266"/>
                </a:cubicBezTo>
                <a:cubicBezTo>
                  <a:pt x="6653" y="1302"/>
                  <a:pt x="6545" y="1348"/>
                  <a:pt x="6444" y="1399"/>
                </a:cubicBezTo>
                <a:cubicBezTo>
                  <a:pt x="6503" y="1198"/>
                  <a:pt x="6565" y="999"/>
                  <a:pt x="6627" y="802"/>
                </a:cubicBezTo>
                <a:cubicBezTo>
                  <a:pt x="6623" y="808"/>
                  <a:pt x="6617" y="812"/>
                  <a:pt x="6613" y="817"/>
                </a:cubicBezTo>
                <a:cubicBezTo>
                  <a:pt x="6603" y="828"/>
                  <a:pt x="6592" y="837"/>
                  <a:pt x="6581" y="846"/>
                </a:cubicBezTo>
                <a:cubicBezTo>
                  <a:pt x="6535" y="885"/>
                  <a:pt x="6481" y="917"/>
                  <a:pt x="6419" y="949"/>
                </a:cubicBezTo>
                <a:cubicBezTo>
                  <a:pt x="6399" y="958"/>
                  <a:pt x="6379" y="968"/>
                  <a:pt x="6360" y="979"/>
                </a:cubicBezTo>
                <a:cubicBezTo>
                  <a:pt x="6325" y="1153"/>
                  <a:pt x="6288" y="1328"/>
                  <a:pt x="6256" y="1505"/>
                </a:cubicBezTo>
                <a:cubicBezTo>
                  <a:pt x="6237" y="1517"/>
                  <a:pt x="6218" y="1529"/>
                  <a:pt x="6200" y="1541"/>
                </a:cubicBezTo>
                <a:cubicBezTo>
                  <a:pt x="6120" y="1593"/>
                  <a:pt x="6040" y="1640"/>
                  <a:pt x="5958" y="1682"/>
                </a:cubicBezTo>
                <a:cubicBezTo>
                  <a:pt x="5980" y="1572"/>
                  <a:pt x="6003" y="1462"/>
                  <a:pt x="6024" y="1351"/>
                </a:cubicBezTo>
                <a:cubicBezTo>
                  <a:pt x="6021" y="1358"/>
                  <a:pt x="6017" y="1364"/>
                  <a:pt x="6012" y="1371"/>
                </a:cubicBezTo>
                <a:cubicBezTo>
                  <a:pt x="5952" y="1465"/>
                  <a:pt x="5856" y="1547"/>
                  <a:pt x="5718" y="1600"/>
                </a:cubicBezTo>
                <a:cubicBezTo>
                  <a:pt x="5706" y="1604"/>
                  <a:pt x="5695" y="1608"/>
                  <a:pt x="5683" y="1613"/>
                </a:cubicBezTo>
                <a:cubicBezTo>
                  <a:pt x="5667" y="1682"/>
                  <a:pt x="5652" y="1749"/>
                  <a:pt x="5636" y="1816"/>
                </a:cubicBezTo>
                <a:cubicBezTo>
                  <a:pt x="5531" y="1853"/>
                  <a:pt x="5421" y="1879"/>
                  <a:pt x="5312" y="1898"/>
                </a:cubicBezTo>
                <a:cubicBezTo>
                  <a:pt x="5329" y="1834"/>
                  <a:pt x="5344" y="1769"/>
                  <a:pt x="5360" y="1704"/>
                </a:cubicBezTo>
                <a:cubicBezTo>
                  <a:pt x="5350" y="1706"/>
                  <a:pt x="5340" y="1708"/>
                  <a:pt x="5329" y="1709"/>
                </a:cubicBezTo>
                <a:cubicBezTo>
                  <a:pt x="5184" y="1737"/>
                  <a:pt x="5093" y="1713"/>
                  <a:pt x="5055" y="1658"/>
                </a:cubicBezTo>
                <a:cubicBezTo>
                  <a:pt x="5031" y="1622"/>
                  <a:pt x="5019" y="1580"/>
                  <a:pt x="5021" y="1534"/>
                </a:cubicBezTo>
                <a:cubicBezTo>
                  <a:pt x="5023" y="1501"/>
                  <a:pt x="5033" y="1448"/>
                  <a:pt x="5053" y="1372"/>
                </a:cubicBezTo>
                <a:cubicBezTo>
                  <a:pt x="5055" y="1365"/>
                  <a:pt x="5057" y="1359"/>
                  <a:pt x="5059" y="1352"/>
                </a:cubicBezTo>
                <a:cubicBezTo>
                  <a:pt x="5079" y="1277"/>
                  <a:pt x="5096" y="1222"/>
                  <a:pt x="5112" y="1187"/>
                </a:cubicBezTo>
                <a:cubicBezTo>
                  <a:pt x="5136" y="1137"/>
                  <a:pt x="5167" y="1095"/>
                  <a:pt x="5205" y="1060"/>
                </a:cubicBezTo>
                <a:cubicBezTo>
                  <a:pt x="5279" y="982"/>
                  <a:pt x="5386" y="929"/>
                  <a:pt x="5527" y="885"/>
                </a:cubicBezTo>
                <a:cubicBezTo>
                  <a:pt x="5538" y="881"/>
                  <a:pt x="5548" y="878"/>
                  <a:pt x="5557" y="873"/>
                </a:cubicBezTo>
                <a:cubicBezTo>
                  <a:pt x="5574" y="803"/>
                  <a:pt x="5589" y="733"/>
                  <a:pt x="5604" y="664"/>
                </a:cubicBezTo>
                <a:cubicBezTo>
                  <a:pt x="5710" y="624"/>
                  <a:pt x="5812" y="577"/>
                  <a:pt x="5911" y="524"/>
                </a:cubicBezTo>
                <a:cubicBezTo>
                  <a:pt x="5897" y="597"/>
                  <a:pt x="5882" y="672"/>
                  <a:pt x="5868" y="744"/>
                </a:cubicBezTo>
                <a:cubicBezTo>
                  <a:pt x="5878" y="739"/>
                  <a:pt x="5890" y="733"/>
                  <a:pt x="5901" y="728"/>
                </a:cubicBezTo>
                <a:cubicBezTo>
                  <a:pt x="6009" y="671"/>
                  <a:pt x="6083" y="646"/>
                  <a:pt x="6124" y="672"/>
                </a:cubicBezTo>
                <a:cubicBezTo>
                  <a:pt x="6132" y="676"/>
                  <a:pt x="6141" y="684"/>
                  <a:pt x="6147" y="695"/>
                </a:cubicBezTo>
                <a:cubicBezTo>
                  <a:pt x="6148" y="695"/>
                  <a:pt x="6150" y="696"/>
                  <a:pt x="6151" y="696"/>
                </a:cubicBezTo>
                <a:cubicBezTo>
                  <a:pt x="6173" y="576"/>
                  <a:pt x="6199" y="456"/>
                  <a:pt x="6221" y="335"/>
                </a:cubicBezTo>
                <a:cubicBezTo>
                  <a:pt x="6315" y="281"/>
                  <a:pt x="6412" y="232"/>
                  <a:pt x="6512" y="191"/>
                </a:cubicBezTo>
                <a:cubicBezTo>
                  <a:pt x="6590" y="159"/>
                  <a:pt x="6651" y="146"/>
                  <a:pt x="6691" y="146"/>
                </a:cubicBezTo>
                <a:cubicBezTo>
                  <a:pt x="6733" y="146"/>
                  <a:pt x="6763" y="157"/>
                  <a:pt x="6780" y="178"/>
                </a:cubicBezTo>
                <a:cubicBezTo>
                  <a:pt x="6797" y="199"/>
                  <a:pt x="6805" y="227"/>
                  <a:pt x="6804" y="263"/>
                </a:cubicBezTo>
                <a:cubicBezTo>
                  <a:pt x="6804" y="267"/>
                  <a:pt x="6804" y="271"/>
                  <a:pt x="6804" y="276"/>
                </a:cubicBezTo>
                <a:cubicBezTo>
                  <a:pt x="6827" y="210"/>
                  <a:pt x="6850" y="142"/>
                  <a:pt x="6874" y="76"/>
                </a:cubicBezTo>
                <a:cubicBezTo>
                  <a:pt x="7025" y="42"/>
                  <a:pt x="7180" y="24"/>
                  <a:pt x="7334" y="19"/>
                </a:cubicBezTo>
                <a:cubicBezTo>
                  <a:pt x="7323" y="124"/>
                  <a:pt x="7311" y="228"/>
                  <a:pt x="7299" y="333"/>
                </a:cubicBezTo>
                <a:cubicBezTo>
                  <a:pt x="7303" y="316"/>
                  <a:pt x="7308" y="298"/>
                  <a:pt x="7312" y="282"/>
                </a:cubicBezTo>
                <a:cubicBezTo>
                  <a:pt x="7342" y="170"/>
                  <a:pt x="7389" y="93"/>
                  <a:pt x="7454" y="55"/>
                </a:cubicBezTo>
                <a:cubicBezTo>
                  <a:pt x="7518" y="18"/>
                  <a:pt x="7609" y="0"/>
                  <a:pt x="7722" y="13"/>
                </a:cubicBezTo>
                <a:cubicBezTo>
                  <a:pt x="7864" y="28"/>
                  <a:pt x="7954" y="73"/>
                  <a:pt x="7991" y="132"/>
                </a:cubicBezTo>
                <a:cubicBezTo>
                  <a:pt x="8000" y="147"/>
                  <a:pt x="8008" y="162"/>
                  <a:pt x="8013" y="180"/>
                </a:cubicBezTo>
                <a:cubicBezTo>
                  <a:pt x="8014" y="184"/>
                  <a:pt x="8015" y="189"/>
                  <a:pt x="8016" y="195"/>
                </a:cubicBezTo>
                <a:cubicBezTo>
                  <a:pt x="8026" y="157"/>
                  <a:pt x="8037" y="121"/>
                  <a:pt x="8048" y="84"/>
                </a:cubicBezTo>
                <a:cubicBezTo>
                  <a:pt x="8224" y="118"/>
                  <a:pt x="8398" y="162"/>
                  <a:pt x="8570" y="212"/>
                </a:cubicBezTo>
                <a:cubicBezTo>
                  <a:pt x="8561" y="242"/>
                  <a:pt x="8552" y="273"/>
                  <a:pt x="8544" y="303"/>
                </a:cubicBezTo>
                <a:cubicBezTo>
                  <a:pt x="8554" y="297"/>
                  <a:pt x="8565" y="291"/>
                  <a:pt x="8575" y="284"/>
                </a:cubicBezTo>
                <a:cubicBezTo>
                  <a:pt x="8608" y="268"/>
                  <a:pt x="8645" y="259"/>
                  <a:pt x="8687" y="255"/>
                </a:cubicBezTo>
                <a:cubicBezTo>
                  <a:pt x="8742" y="251"/>
                  <a:pt x="8802" y="259"/>
                  <a:pt x="8866" y="280"/>
                </a:cubicBezTo>
                <a:close/>
                <a:moveTo>
                  <a:pt x="1749" y="43"/>
                </a:moveTo>
                <a:cubicBezTo>
                  <a:pt x="1840" y="59"/>
                  <a:pt x="1911" y="90"/>
                  <a:pt x="1961" y="135"/>
                </a:cubicBezTo>
                <a:cubicBezTo>
                  <a:pt x="1974" y="146"/>
                  <a:pt x="1985" y="157"/>
                  <a:pt x="1995" y="169"/>
                </a:cubicBezTo>
                <a:cubicBezTo>
                  <a:pt x="1996" y="170"/>
                  <a:pt x="1997" y="173"/>
                  <a:pt x="1999" y="174"/>
                </a:cubicBezTo>
                <a:cubicBezTo>
                  <a:pt x="2003" y="155"/>
                  <a:pt x="2009" y="138"/>
                  <a:pt x="2014" y="119"/>
                </a:cubicBezTo>
                <a:cubicBezTo>
                  <a:pt x="2209" y="164"/>
                  <a:pt x="2401" y="220"/>
                  <a:pt x="2593" y="280"/>
                </a:cubicBezTo>
                <a:cubicBezTo>
                  <a:pt x="2623" y="289"/>
                  <a:pt x="2653" y="298"/>
                  <a:pt x="2683" y="309"/>
                </a:cubicBezTo>
                <a:cubicBezTo>
                  <a:pt x="2755" y="331"/>
                  <a:pt x="2828" y="356"/>
                  <a:pt x="2899" y="380"/>
                </a:cubicBezTo>
                <a:cubicBezTo>
                  <a:pt x="2979" y="405"/>
                  <a:pt x="3040" y="432"/>
                  <a:pt x="3081" y="458"/>
                </a:cubicBezTo>
                <a:cubicBezTo>
                  <a:pt x="3123" y="484"/>
                  <a:pt x="3152" y="512"/>
                  <a:pt x="3168" y="541"/>
                </a:cubicBezTo>
                <a:cubicBezTo>
                  <a:pt x="3185" y="572"/>
                  <a:pt x="3194" y="603"/>
                  <a:pt x="3191" y="637"/>
                </a:cubicBezTo>
                <a:cubicBezTo>
                  <a:pt x="3191" y="640"/>
                  <a:pt x="3191" y="645"/>
                  <a:pt x="3191" y="648"/>
                </a:cubicBezTo>
                <a:cubicBezTo>
                  <a:pt x="3214" y="598"/>
                  <a:pt x="3238" y="548"/>
                  <a:pt x="3261" y="498"/>
                </a:cubicBezTo>
                <a:cubicBezTo>
                  <a:pt x="3409" y="546"/>
                  <a:pt x="3557" y="591"/>
                  <a:pt x="3707" y="633"/>
                </a:cubicBezTo>
                <a:cubicBezTo>
                  <a:pt x="3693" y="755"/>
                  <a:pt x="3679" y="876"/>
                  <a:pt x="3665" y="999"/>
                </a:cubicBezTo>
                <a:cubicBezTo>
                  <a:pt x="3698" y="882"/>
                  <a:pt x="3731" y="766"/>
                  <a:pt x="3766" y="650"/>
                </a:cubicBezTo>
                <a:cubicBezTo>
                  <a:pt x="3874" y="679"/>
                  <a:pt x="3982" y="704"/>
                  <a:pt x="4091" y="726"/>
                </a:cubicBezTo>
                <a:cubicBezTo>
                  <a:pt x="4057" y="849"/>
                  <a:pt x="4021" y="970"/>
                  <a:pt x="3987" y="1089"/>
                </a:cubicBezTo>
                <a:cubicBezTo>
                  <a:pt x="4007" y="1094"/>
                  <a:pt x="4027" y="1099"/>
                  <a:pt x="4047" y="1103"/>
                </a:cubicBezTo>
                <a:cubicBezTo>
                  <a:pt x="4082" y="982"/>
                  <a:pt x="4116" y="861"/>
                  <a:pt x="4150" y="739"/>
                </a:cubicBezTo>
                <a:cubicBezTo>
                  <a:pt x="4247" y="758"/>
                  <a:pt x="4344" y="773"/>
                  <a:pt x="4441" y="785"/>
                </a:cubicBezTo>
                <a:cubicBezTo>
                  <a:pt x="4455" y="786"/>
                  <a:pt x="4469" y="787"/>
                  <a:pt x="4482" y="788"/>
                </a:cubicBezTo>
                <a:cubicBezTo>
                  <a:pt x="4646" y="805"/>
                  <a:pt x="4812" y="810"/>
                  <a:pt x="4977" y="798"/>
                </a:cubicBezTo>
                <a:cubicBezTo>
                  <a:pt x="4955" y="883"/>
                  <a:pt x="4932" y="967"/>
                  <a:pt x="4910" y="1052"/>
                </a:cubicBezTo>
                <a:cubicBezTo>
                  <a:pt x="4842" y="1054"/>
                  <a:pt x="4774" y="1054"/>
                  <a:pt x="4707" y="1051"/>
                </a:cubicBezTo>
                <a:cubicBezTo>
                  <a:pt x="4691" y="1110"/>
                  <a:pt x="4674" y="1170"/>
                  <a:pt x="4657" y="1229"/>
                </a:cubicBezTo>
                <a:cubicBezTo>
                  <a:pt x="4721" y="1232"/>
                  <a:pt x="4784" y="1235"/>
                  <a:pt x="4847" y="1235"/>
                </a:cubicBezTo>
                <a:cubicBezTo>
                  <a:pt x="4826" y="1314"/>
                  <a:pt x="4804" y="1392"/>
                  <a:pt x="4783" y="1471"/>
                </a:cubicBezTo>
                <a:cubicBezTo>
                  <a:pt x="4719" y="1470"/>
                  <a:pt x="4656" y="1465"/>
                  <a:pt x="4594" y="1460"/>
                </a:cubicBezTo>
                <a:cubicBezTo>
                  <a:pt x="4575" y="1529"/>
                  <a:pt x="4555" y="1598"/>
                  <a:pt x="4536" y="1666"/>
                </a:cubicBezTo>
                <a:cubicBezTo>
                  <a:pt x="4610" y="1675"/>
                  <a:pt x="4684" y="1680"/>
                  <a:pt x="4758" y="1683"/>
                </a:cubicBezTo>
                <a:cubicBezTo>
                  <a:pt x="4736" y="1764"/>
                  <a:pt x="4713" y="1846"/>
                  <a:pt x="4691" y="1927"/>
                </a:cubicBezTo>
                <a:cubicBezTo>
                  <a:pt x="4520" y="1914"/>
                  <a:pt x="4349" y="1889"/>
                  <a:pt x="4180" y="1854"/>
                </a:cubicBezTo>
                <a:cubicBezTo>
                  <a:pt x="4167" y="1850"/>
                  <a:pt x="4153" y="1848"/>
                  <a:pt x="4139" y="1844"/>
                </a:cubicBezTo>
                <a:cubicBezTo>
                  <a:pt x="4043" y="1823"/>
                  <a:pt x="3949" y="1800"/>
                  <a:pt x="3855" y="1775"/>
                </a:cubicBezTo>
                <a:cubicBezTo>
                  <a:pt x="3895" y="1635"/>
                  <a:pt x="3934" y="1494"/>
                  <a:pt x="3975" y="1353"/>
                </a:cubicBezTo>
                <a:cubicBezTo>
                  <a:pt x="3955" y="1349"/>
                  <a:pt x="3935" y="1344"/>
                  <a:pt x="3916" y="1338"/>
                </a:cubicBezTo>
                <a:cubicBezTo>
                  <a:pt x="3876" y="1479"/>
                  <a:pt x="3835" y="1619"/>
                  <a:pt x="3795" y="1758"/>
                </a:cubicBezTo>
                <a:cubicBezTo>
                  <a:pt x="3725" y="1739"/>
                  <a:pt x="3655" y="1718"/>
                  <a:pt x="3585" y="1697"/>
                </a:cubicBezTo>
                <a:cubicBezTo>
                  <a:pt x="3549" y="1686"/>
                  <a:pt x="3511" y="1675"/>
                  <a:pt x="3475" y="1663"/>
                </a:cubicBezTo>
                <a:cubicBezTo>
                  <a:pt x="3403" y="1640"/>
                  <a:pt x="3331" y="1618"/>
                  <a:pt x="3261" y="1594"/>
                </a:cubicBezTo>
                <a:cubicBezTo>
                  <a:pt x="3272" y="1534"/>
                  <a:pt x="3284" y="1473"/>
                  <a:pt x="3295" y="1413"/>
                </a:cubicBezTo>
                <a:cubicBezTo>
                  <a:pt x="3270" y="1405"/>
                  <a:pt x="3243" y="1396"/>
                  <a:pt x="3218" y="1387"/>
                </a:cubicBezTo>
                <a:cubicBezTo>
                  <a:pt x="3196" y="1444"/>
                  <a:pt x="3173" y="1501"/>
                  <a:pt x="3151" y="1558"/>
                </a:cubicBezTo>
                <a:cubicBezTo>
                  <a:pt x="3041" y="1522"/>
                  <a:pt x="2932" y="1486"/>
                  <a:pt x="2823" y="1451"/>
                </a:cubicBezTo>
                <a:cubicBezTo>
                  <a:pt x="2887" y="1310"/>
                  <a:pt x="2951" y="1172"/>
                  <a:pt x="3015" y="1032"/>
                </a:cubicBezTo>
                <a:cubicBezTo>
                  <a:pt x="3011" y="1033"/>
                  <a:pt x="3006" y="1035"/>
                  <a:pt x="3001" y="1036"/>
                </a:cubicBezTo>
                <a:cubicBezTo>
                  <a:pt x="2991" y="1038"/>
                  <a:pt x="2980" y="1040"/>
                  <a:pt x="2969" y="1040"/>
                </a:cubicBezTo>
                <a:cubicBezTo>
                  <a:pt x="2921" y="1043"/>
                  <a:pt x="2865" y="1033"/>
                  <a:pt x="2800" y="1013"/>
                </a:cubicBezTo>
                <a:cubicBezTo>
                  <a:pt x="2779" y="1006"/>
                  <a:pt x="2757" y="999"/>
                  <a:pt x="2736" y="993"/>
                </a:cubicBezTo>
                <a:cubicBezTo>
                  <a:pt x="2699" y="1124"/>
                  <a:pt x="2661" y="1256"/>
                  <a:pt x="2623" y="1387"/>
                </a:cubicBezTo>
                <a:cubicBezTo>
                  <a:pt x="2516" y="1356"/>
                  <a:pt x="2409" y="1324"/>
                  <a:pt x="2301" y="1295"/>
                </a:cubicBezTo>
                <a:cubicBezTo>
                  <a:pt x="2377" y="1030"/>
                  <a:pt x="2453" y="766"/>
                  <a:pt x="2529" y="503"/>
                </a:cubicBezTo>
                <a:cubicBezTo>
                  <a:pt x="2501" y="494"/>
                  <a:pt x="2474" y="486"/>
                  <a:pt x="2447" y="477"/>
                </a:cubicBezTo>
                <a:cubicBezTo>
                  <a:pt x="2371" y="743"/>
                  <a:pt x="2294" y="1007"/>
                  <a:pt x="2218" y="1274"/>
                </a:cubicBezTo>
                <a:cubicBezTo>
                  <a:pt x="2110" y="1248"/>
                  <a:pt x="2001" y="1223"/>
                  <a:pt x="1891" y="1203"/>
                </a:cubicBezTo>
                <a:cubicBezTo>
                  <a:pt x="1969" y="930"/>
                  <a:pt x="2047" y="659"/>
                  <a:pt x="2123" y="390"/>
                </a:cubicBezTo>
                <a:cubicBezTo>
                  <a:pt x="2096" y="383"/>
                  <a:pt x="2069" y="376"/>
                  <a:pt x="2042" y="370"/>
                </a:cubicBezTo>
                <a:cubicBezTo>
                  <a:pt x="2042" y="372"/>
                  <a:pt x="2040" y="373"/>
                  <a:pt x="2040" y="374"/>
                </a:cubicBezTo>
                <a:cubicBezTo>
                  <a:pt x="2035" y="411"/>
                  <a:pt x="2025" y="453"/>
                  <a:pt x="2012" y="501"/>
                </a:cubicBezTo>
                <a:cubicBezTo>
                  <a:pt x="2002" y="538"/>
                  <a:pt x="1991" y="574"/>
                  <a:pt x="1981" y="610"/>
                </a:cubicBezTo>
                <a:cubicBezTo>
                  <a:pt x="1872" y="588"/>
                  <a:pt x="1762" y="568"/>
                  <a:pt x="1651" y="553"/>
                </a:cubicBezTo>
                <a:cubicBezTo>
                  <a:pt x="1670" y="488"/>
                  <a:pt x="1689" y="423"/>
                  <a:pt x="1706" y="359"/>
                </a:cubicBezTo>
                <a:cubicBezTo>
                  <a:pt x="1721" y="306"/>
                  <a:pt x="1727" y="276"/>
                  <a:pt x="1725" y="266"/>
                </a:cubicBezTo>
                <a:cubicBezTo>
                  <a:pt x="1723" y="255"/>
                  <a:pt x="1714" y="249"/>
                  <a:pt x="1700" y="246"/>
                </a:cubicBezTo>
                <a:cubicBezTo>
                  <a:pt x="1682" y="244"/>
                  <a:pt x="1669" y="248"/>
                  <a:pt x="1660" y="260"/>
                </a:cubicBezTo>
                <a:cubicBezTo>
                  <a:pt x="1651" y="271"/>
                  <a:pt x="1640" y="303"/>
                  <a:pt x="1625" y="356"/>
                </a:cubicBezTo>
                <a:cubicBezTo>
                  <a:pt x="1580" y="519"/>
                  <a:pt x="1533" y="683"/>
                  <a:pt x="1488" y="849"/>
                </a:cubicBezTo>
                <a:cubicBezTo>
                  <a:pt x="1474" y="900"/>
                  <a:pt x="1467" y="931"/>
                  <a:pt x="1469" y="944"/>
                </a:cubicBezTo>
                <a:cubicBezTo>
                  <a:pt x="1471" y="957"/>
                  <a:pt x="1480" y="963"/>
                  <a:pt x="1496" y="964"/>
                </a:cubicBezTo>
                <a:cubicBezTo>
                  <a:pt x="1511" y="965"/>
                  <a:pt x="1523" y="960"/>
                  <a:pt x="1533" y="949"/>
                </a:cubicBezTo>
                <a:cubicBezTo>
                  <a:pt x="1541" y="936"/>
                  <a:pt x="1554" y="902"/>
                  <a:pt x="1570" y="845"/>
                </a:cubicBezTo>
                <a:cubicBezTo>
                  <a:pt x="1583" y="796"/>
                  <a:pt x="1596" y="747"/>
                  <a:pt x="1611" y="700"/>
                </a:cubicBezTo>
                <a:cubicBezTo>
                  <a:pt x="1721" y="712"/>
                  <a:pt x="1831" y="730"/>
                  <a:pt x="1940" y="752"/>
                </a:cubicBezTo>
                <a:cubicBezTo>
                  <a:pt x="1936" y="769"/>
                  <a:pt x="1930" y="787"/>
                  <a:pt x="1925" y="804"/>
                </a:cubicBezTo>
                <a:cubicBezTo>
                  <a:pt x="1895" y="913"/>
                  <a:pt x="1864" y="988"/>
                  <a:pt x="1833" y="1031"/>
                </a:cubicBezTo>
                <a:cubicBezTo>
                  <a:pt x="1802" y="1075"/>
                  <a:pt x="1751" y="1110"/>
                  <a:pt x="1681" y="1138"/>
                </a:cubicBezTo>
                <a:cubicBezTo>
                  <a:pt x="1609" y="1167"/>
                  <a:pt x="1530" y="1178"/>
                  <a:pt x="1442" y="1174"/>
                </a:cubicBezTo>
                <a:cubicBezTo>
                  <a:pt x="1350" y="1170"/>
                  <a:pt x="1279" y="1154"/>
                  <a:pt x="1227" y="1124"/>
                </a:cubicBezTo>
                <a:cubicBezTo>
                  <a:pt x="1175" y="1094"/>
                  <a:pt x="1148" y="1052"/>
                  <a:pt x="1143" y="996"/>
                </a:cubicBezTo>
                <a:cubicBezTo>
                  <a:pt x="1139" y="939"/>
                  <a:pt x="1151" y="855"/>
                  <a:pt x="1181" y="745"/>
                </a:cubicBezTo>
                <a:cubicBezTo>
                  <a:pt x="1210" y="637"/>
                  <a:pt x="1239" y="529"/>
                  <a:pt x="1269" y="422"/>
                </a:cubicBezTo>
                <a:cubicBezTo>
                  <a:pt x="1290" y="340"/>
                  <a:pt x="1310" y="280"/>
                  <a:pt x="1326" y="240"/>
                </a:cubicBezTo>
                <a:cubicBezTo>
                  <a:pt x="1344" y="199"/>
                  <a:pt x="1372" y="161"/>
                  <a:pt x="1413" y="126"/>
                </a:cubicBezTo>
                <a:cubicBezTo>
                  <a:pt x="1453" y="90"/>
                  <a:pt x="1503" y="63"/>
                  <a:pt x="1561" y="49"/>
                </a:cubicBezTo>
                <a:cubicBezTo>
                  <a:pt x="1619" y="34"/>
                  <a:pt x="1682" y="32"/>
                  <a:pt x="1749" y="43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2040" y="909720"/>
            <a:ext cx="4440240" cy="708120"/>
          </a:xfrm>
          <a:custGeom>
            <a:avLst/>
            <a:gdLst/>
            <a:ahLst/>
            <a:rect l="l" t="t" r="r" b="b"/>
            <a:pathLst>
              <a:path w="12332" h="1965">
                <a:moveTo>
                  <a:pt x="5499" y="1141"/>
                </a:moveTo>
                <a:lnTo>
                  <a:pt x="5491" y="1148"/>
                </a:lnTo>
                <a:lnTo>
                  <a:pt x="5480" y="1163"/>
                </a:lnTo>
                <a:lnTo>
                  <a:pt x="5468" y="1181"/>
                </a:lnTo>
                <a:lnTo>
                  <a:pt x="5458" y="1201"/>
                </a:lnTo>
                <a:lnTo>
                  <a:pt x="5450" y="1224"/>
                </a:lnTo>
                <a:lnTo>
                  <a:pt x="5442" y="1250"/>
                </a:lnTo>
                <a:lnTo>
                  <a:pt x="5405" y="1403"/>
                </a:lnTo>
                <a:lnTo>
                  <a:pt x="5401" y="1429"/>
                </a:lnTo>
                <a:lnTo>
                  <a:pt x="5398" y="1446"/>
                </a:lnTo>
                <a:lnTo>
                  <a:pt x="5399" y="1462"/>
                </a:lnTo>
                <a:lnTo>
                  <a:pt x="5403" y="1473"/>
                </a:lnTo>
                <a:lnTo>
                  <a:pt x="5406" y="1479"/>
                </a:lnTo>
                <a:lnTo>
                  <a:pt x="5411" y="1482"/>
                </a:lnTo>
                <a:lnTo>
                  <a:pt x="5413" y="1482"/>
                </a:lnTo>
                <a:lnTo>
                  <a:pt x="5417" y="1482"/>
                </a:lnTo>
                <a:lnTo>
                  <a:pt x="5462" y="1297"/>
                </a:lnTo>
                <a:lnTo>
                  <a:pt x="5499" y="1141"/>
                </a:lnTo>
                <a:close/>
                <a:moveTo>
                  <a:pt x="5532" y="1084"/>
                </a:moveTo>
                <a:cubicBezTo>
                  <a:pt x="5535" y="1085"/>
                  <a:pt x="5537" y="1087"/>
                  <a:pt x="5539" y="1089"/>
                </a:cubicBezTo>
                <a:cubicBezTo>
                  <a:pt x="5545" y="1094"/>
                  <a:pt x="5547" y="1101"/>
                  <a:pt x="5545" y="1108"/>
                </a:cubicBezTo>
                <a:lnTo>
                  <a:pt x="5499" y="1308"/>
                </a:lnTo>
                <a:lnTo>
                  <a:pt x="5450" y="1504"/>
                </a:lnTo>
                <a:cubicBezTo>
                  <a:pt x="5449" y="1511"/>
                  <a:pt x="5444" y="1517"/>
                  <a:pt x="5437" y="1518"/>
                </a:cubicBezTo>
                <a:lnTo>
                  <a:pt x="5426" y="1521"/>
                </a:lnTo>
                <a:cubicBezTo>
                  <a:pt x="5425" y="1522"/>
                  <a:pt x="5425" y="1522"/>
                  <a:pt x="5424" y="1522"/>
                </a:cubicBezTo>
                <a:lnTo>
                  <a:pt x="5412" y="1523"/>
                </a:lnTo>
                <a:cubicBezTo>
                  <a:pt x="5409" y="1523"/>
                  <a:pt x="5407" y="1522"/>
                  <a:pt x="5405" y="1522"/>
                </a:cubicBezTo>
                <a:lnTo>
                  <a:pt x="5395" y="1518"/>
                </a:lnTo>
                <a:cubicBezTo>
                  <a:pt x="5393" y="1517"/>
                  <a:pt x="5391" y="1516"/>
                  <a:pt x="5390" y="1515"/>
                </a:cubicBezTo>
                <a:lnTo>
                  <a:pt x="5381" y="1507"/>
                </a:lnTo>
                <a:cubicBezTo>
                  <a:pt x="5379" y="1505"/>
                  <a:pt x="5377" y="1504"/>
                  <a:pt x="5376" y="1502"/>
                </a:cubicBezTo>
                <a:lnTo>
                  <a:pt x="5370" y="1492"/>
                </a:lnTo>
                <a:cubicBezTo>
                  <a:pt x="5369" y="1489"/>
                  <a:pt x="5369" y="1488"/>
                  <a:pt x="5368" y="1487"/>
                </a:cubicBezTo>
                <a:lnTo>
                  <a:pt x="5363" y="1472"/>
                </a:lnTo>
                <a:cubicBezTo>
                  <a:pt x="5363" y="1469"/>
                  <a:pt x="5363" y="1468"/>
                  <a:pt x="5363" y="1467"/>
                </a:cubicBezTo>
                <a:lnTo>
                  <a:pt x="5362" y="1448"/>
                </a:lnTo>
                <a:cubicBezTo>
                  <a:pt x="5362" y="1446"/>
                  <a:pt x="5362" y="1445"/>
                  <a:pt x="5362" y="1445"/>
                </a:cubicBezTo>
                <a:lnTo>
                  <a:pt x="5364" y="1421"/>
                </a:lnTo>
                <a:lnTo>
                  <a:pt x="5370" y="1393"/>
                </a:lnTo>
                <a:lnTo>
                  <a:pt x="5407" y="1239"/>
                </a:lnTo>
                <a:lnTo>
                  <a:pt x="5415" y="1210"/>
                </a:lnTo>
                <a:lnTo>
                  <a:pt x="5425" y="1183"/>
                </a:lnTo>
                <a:lnTo>
                  <a:pt x="5437" y="1159"/>
                </a:lnTo>
                <a:lnTo>
                  <a:pt x="5451" y="1138"/>
                </a:lnTo>
                <a:lnTo>
                  <a:pt x="5466" y="1119"/>
                </a:lnTo>
                <a:lnTo>
                  <a:pt x="5479" y="1106"/>
                </a:lnTo>
                <a:cubicBezTo>
                  <a:pt x="5480" y="1106"/>
                  <a:pt x="5481" y="1105"/>
                  <a:pt x="5481" y="1105"/>
                </a:cubicBezTo>
                <a:lnTo>
                  <a:pt x="5494" y="1096"/>
                </a:lnTo>
                <a:cubicBezTo>
                  <a:pt x="5495" y="1095"/>
                  <a:pt x="5496" y="1094"/>
                  <a:pt x="5498" y="1094"/>
                </a:cubicBezTo>
                <a:lnTo>
                  <a:pt x="5512" y="1088"/>
                </a:lnTo>
                <a:lnTo>
                  <a:pt x="5522" y="1084"/>
                </a:lnTo>
                <a:cubicBezTo>
                  <a:pt x="5525" y="1083"/>
                  <a:pt x="5528" y="1083"/>
                  <a:pt x="5532" y="1084"/>
                </a:cubicBezTo>
                <a:close/>
                <a:moveTo>
                  <a:pt x="3376" y="1045"/>
                </a:moveTo>
                <a:lnTo>
                  <a:pt x="3370" y="1058"/>
                </a:lnTo>
                <a:lnTo>
                  <a:pt x="3352" y="1102"/>
                </a:lnTo>
                <a:lnTo>
                  <a:pt x="3337" y="1142"/>
                </a:lnTo>
                <a:lnTo>
                  <a:pt x="3323" y="1177"/>
                </a:lnTo>
                <a:lnTo>
                  <a:pt x="3318" y="1188"/>
                </a:lnTo>
                <a:lnTo>
                  <a:pt x="3348" y="1197"/>
                </a:lnTo>
                <a:lnTo>
                  <a:pt x="3351" y="1179"/>
                </a:lnTo>
                <a:lnTo>
                  <a:pt x="3358" y="1134"/>
                </a:lnTo>
                <a:lnTo>
                  <a:pt x="3367" y="1088"/>
                </a:lnTo>
                <a:lnTo>
                  <a:pt x="3376" y="1045"/>
                </a:lnTo>
                <a:close/>
                <a:moveTo>
                  <a:pt x="5868" y="994"/>
                </a:moveTo>
                <a:lnTo>
                  <a:pt x="5861" y="995"/>
                </a:lnTo>
                <a:lnTo>
                  <a:pt x="5857" y="997"/>
                </a:lnTo>
                <a:lnTo>
                  <a:pt x="5780" y="1360"/>
                </a:lnTo>
                <a:lnTo>
                  <a:pt x="5792" y="1346"/>
                </a:lnTo>
                <a:lnTo>
                  <a:pt x="5803" y="1329"/>
                </a:lnTo>
                <a:lnTo>
                  <a:pt x="5814" y="1309"/>
                </a:lnTo>
                <a:lnTo>
                  <a:pt x="5823" y="1287"/>
                </a:lnTo>
                <a:lnTo>
                  <a:pt x="5831" y="1261"/>
                </a:lnTo>
                <a:lnTo>
                  <a:pt x="5837" y="1234"/>
                </a:lnTo>
                <a:lnTo>
                  <a:pt x="5870" y="1072"/>
                </a:lnTo>
                <a:lnTo>
                  <a:pt x="5876" y="1044"/>
                </a:lnTo>
                <a:lnTo>
                  <a:pt x="5877" y="1024"/>
                </a:lnTo>
                <a:lnTo>
                  <a:pt x="5876" y="1009"/>
                </a:lnTo>
                <a:lnTo>
                  <a:pt x="5872" y="999"/>
                </a:lnTo>
                <a:lnTo>
                  <a:pt x="5870" y="995"/>
                </a:lnTo>
                <a:lnTo>
                  <a:pt x="5869" y="994"/>
                </a:lnTo>
                <a:lnTo>
                  <a:pt x="5868" y="994"/>
                </a:lnTo>
                <a:close/>
                <a:moveTo>
                  <a:pt x="5868" y="954"/>
                </a:moveTo>
                <a:lnTo>
                  <a:pt x="5878" y="955"/>
                </a:lnTo>
                <a:cubicBezTo>
                  <a:pt x="5880" y="955"/>
                  <a:pt x="5883" y="956"/>
                  <a:pt x="5886" y="958"/>
                </a:cubicBezTo>
                <a:lnTo>
                  <a:pt x="5893" y="963"/>
                </a:lnTo>
                <a:cubicBezTo>
                  <a:pt x="5896" y="964"/>
                  <a:pt x="5898" y="967"/>
                  <a:pt x="5899" y="969"/>
                </a:cubicBezTo>
                <a:lnTo>
                  <a:pt x="5905" y="980"/>
                </a:lnTo>
                <a:cubicBezTo>
                  <a:pt x="5907" y="981"/>
                  <a:pt x="5908" y="983"/>
                  <a:pt x="5908" y="984"/>
                </a:cubicBezTo>
                <a:lnTo>
                  <a:pt x="5912" y="999"/>
                </a:lnTo>
                <a:cubicBezTo>
                  <a:pt x="5912" y="1001"/>
                  <a:pt x="5912" y="1002"/>
                  <a:pt x="5912" y="1003"/>
                </a:cubicBezTo>
                <a:lnTo>
                  <a:pt x="5914" y="1023"/>
                </a:lnTo>
                <a:cubicBezTo>
                  <a:pt x="5914" y="1024"/>
                  <a:pt x="5914" y="1024"/>
                  <a:pt x="5914" y="1025"/>
                </a:cubicBezTo>
                <a:lnTo>
                  <a:pt x="5912" y="1051"/>
                </a:lnTo>
                <a:lnTo>
                  <a:pt x="5908" y="1080"/>
                </a:lnTo>
                <a:lnTo>
                  <a:pt x="5873" y="1245"/>
                </a:lnTo>
                <a:lnTo>
                  <a:pt x="5866" y="1274"/>
                </a:lnTo>
                <a:lnTo>
                  <a:pt x="5857" y="1302"/>
                </a:lnTo>
                <a:lnTo>
                  <a:pt x="5846" y="1329"/>
                </a:lnTo>
                <a:lnTo>
                  <a:pt x="5833" y="1352"/>
                </a:lnTo>
                <a:lnTo>
                  <a:pt x="5819" y="1373"/>
                </a:lnTo>
                <a:lnTo>
                  <a:pt x="5806" y="1388"/>
                </a:lnTo>
                <a:cubicBezTo>
                  <a:pt x="5805" y="1388"/>
                  <a:pt x="5805" y="1389"/>
                  <a:pt x="5804" y="1389"/>
                </a:cubicBezTo>
                <a:lnTo>
                  <a:pt x="5791" y="1401"/>
                </a:lnTo>
                <a:cubicBezTo>
                  <a:pt x="5791" y="1401"/>
                  <a:pt x="5790" y="1402"/>
                  <a:pt x="5789" y="1403"/>
                </a:cubicBezTo>
                <a:lnTo>
                  <a:pt x="5774" y="1410"/>
                </a:lnTo>
                <a:lnTo>
                  <a:pt x="5759" y="1417"/>
                </a:lnTo>
                <a:cubicBezTo>
                  <a:pt x="5752" y="1419"/>
                  <a:pt x="5746" y="1418"/>
                  <a:pt x="5740" y="1414"/>
                </a:cubicBezTo>
                <a:cubicBezTo>
                  <a:pt x="5735" y="1408"/>
                  <a:pt x="5732" y="1401"/>
                  <a:pt x="5735" y="1394"/>
                </a:cubicBezTo>
                <a:lnTo>
                  <a:pt x="5823" y="980"/>
                </a:lnTo>
                <a:cubicBezTo>
                  <a:pt x="5824" y="973"/>
                  <a:pt x="5828" y="968"/>
                  <a:pt x="5833" y="966"/>
                </a:cubicBezTo>
                <a:lnTo>
                  <a:pt x="5847" y="959"/>
                </a:lnTo>
                <a:cubicBezTo>
                  <a:pt x="5848" y="959"/>
                  <a:pt x="5849" y="959"/>
                  <a:pt x="5849" y="958"/>
                </a:cubicBezTo>
                <a:lnTo>
                  <a:pt x="5860" y="954"/>
                </a:lnTo>
                <a:cubicBezTo>
                  <a:pt x="5864" y="954"/>
                  <a:pt x="5866" y="953"/>
                  <a:pt x="5868" y="954"/>
                </a:cubicBezTo>
                <a:close/>
                <a:moveTo>
                  <a:pt x="10166" y="914"/>
                </a:moveTo>
                <a:lnTo>
                  <a:pt x="10162" y="917"/>
                </a:lnTo>
                <a:lnTo>
                  <a:pt x="10159" y="919"/>
                </a:lnTo>
                <a:lnTo>
                  <a:pt x="10156" y="925"/>
                </a:lnTo>
                <a:lnTo>
                  <a:pt x="10153" y="933"/>
                </a:lnTo>
                <a:lnTo>
                  <a:pt x="10150" y="945"/>
                </a:lnTo>
                <a:lnTo>
                  <a:pt x="10144" y="958"/>
                </a:lnTo>
                <a:lnTo>
                  <a:pt x="10140" y="971"/>
                </a:lnTo>
                <a:lnTo>
                  <a:pt x="10135" y="989"/>
                </a:lnTo>
                <a:lnTo>
                  <a:pt x="10001" y="1455"/>
                </a:lnTo>
                <a:lnTo>
                  <a:pt x="9995" y="1475"/>
                </a:lnTo>
                <a:lnTo>
                  <a:pt x="9991" y="1493"/>
                </a:lnTo>
                <a:lnTo>
                  <a:pt x="9986" y="1509"/>
                </a:lnTo>
                <a:lnTo>
                  <a:pt x="9983" y="1522"/>
                </a:lnTo>
                <a:lnTo>
                  <a:pt x="9981" y="1533"/>
                </a:lnTo>
                <a:lnTo>
                  <a:pt x="9980" y="1542"/>
                </a:lnTo>
                <a:lnTo>
                  <a:pt x="9979" y="1547"/>
                </a:lnTo>
                <a:lnTo>
                  <a:pt x="9980" y="1550"/>
                </a:lnTo>
                <a:lnTo>
                  <a:pt x="9981" y="1551"/>
                </a:lnTo>
                <a:lnTo>
                  <a:pt x="9985" y="1553"/>
                </a:lnTo>
                <a:lnTo>
                  <a:pt x="9990" y="1554"/>
                </a:lnTo>
                <a:lnTo>
                  <a:pt x="9991" y="1553"/>
                </a:lnTo>
                <a:lnTo>
                  <a:pt x="9993" y="1552"/>
                </a:lnTo>
                <a:lnTo>
                  <a:pt x="9996" y="1549"/>
                </a:lnTo>
                <a:lnTo>
                  <a:pt x="9999" y="1545"/>
                </a:lnTo>
                <a:lnTo>
                  <a:pt x="10001" y="1539"/>
                </a:lnTo>
                <a:lnTo>
                  <a:pt x="10004" y="1531"/>
                </a:lnTo>
                <a:lnTo>
                  <a:pt x="10008" y="1519"/>
                </a:lnTo>
                <a:lnTo>
                  <a:pt x="10013" y="1507"/>
                </a:lnTo>
                <a:lnTo>
                  <a:pt x="10018" y="1492"/>
                </a:lnTo>
                <a:lnTo>
                  <a:pt x="10024" y="1473"/>
                </a:lnTo>
                <a:lnTo>
                  <a:pt x="10029" y="1453"/>
                </a:lnTo>
                <a:lnTo>
                  <a:pt x="10162" y="992"/>
                </a:lnTo>
                <a:lnTo>
                  <a:pt x="10169" y="962"/>
                </a:lnTo>
                <a:lnTo>
                  <a:pt x="10175" y="939"/>
                </a:lnTo>
                <a:lnTo>
                  <a:pt x="10177" y="924"/>
                </a:lnTo>
                <a:lnTo>
                  <a:pt x="10178" y="917"/>
                </a:lnTo>
                <a:lnTo>
                  <a:pt x="10177" y="916"/>
                </a:lnTo>
                <a:lnTo>
                  <a:pt x="10174" y="914"/>
                </a:lnTo>
                <a:lnTo>
                  <a:pt x="10166" y="914"/>
                </a:lnTo>
                <a:close/>
                <a:moveTo>
                  <a:pt x="10164" y="875"/>
                </a:moveTo>
                <a:lnTo>
                  <a:pt x="10177" y="875"/>
                </a:lnTo>
                <a:cubicBezTo>
                  <a:pt x="10179" y="875"/>
                  <a:pt x="10182" y="875"/>
                  <a:pt x="10183" y="876"/>
                </a:cubicBezTo>
                <a:lnTo>
                  <a:pt x="10190" y="878"/>
                </a:lnTo>
                <a:cubicBezTo>
                  <a:pt x="10193" y="880"/>
                  <a:pt x="10194" y="880"/>
                  <a:pt x="10195" y="881"/>
                </a:cubicBezTo>
                <a:lnTo>
                  <a:pt x="10201" y="884"/>
                </a:lnTo>
                <a:cubicBezTo>
                  <a:pt x="10202" y="887"/>
                  <a:pt x="10205" y="888"/>
                  <a:pt x="10206" y="890"/>
                </a:cubicBezTo>
                <a:lnTo>
                  <a:pt x="10210" y="896"/>
                </a:lnTo>
                <a:cubicBezTo>
                  <a:pt x="10211" y="898"/>
                  <a:pt x="10211" y="899"/>
                  <a:pt x="10212" y="902"/>
                </a:cubicBezTo>
                <a:lnTo>
                  <a:pt x="10215" y="909"/>
                </a:lnTo>
                <a:cubicBezTo>
                  <a:pt x="10215" y="911"/>
                  <a:pt x="10216" y="913"/>
                  <a:pt x="10216" y="916"/>
                </a:cubicBezTo>
                <a:lnTo>
                  <a:pt x="10215" y="926"/>
                </a:lnTo>
                <a:cubicBezTo>
                  <a:pt x="10215" y="927"/>
                  <a:pt x="10215" y="928"/>
                  <a:pt x="10215" y="930"/>
                </a:cubicBezTo>
                <a:lnTo>
                  <a:pt x="10211" y="948"/>
                </a:lnTo>
                <a:lnTo>
                  <a:pt x="10206" y="973"/>
                </a:lnTo>
                <a:lnTo>
                  <a:pt x="10197" y="1004"/>
                </a:lnTo>
                <a:lnTo>
                  <a:pt x="10065" y="1465"/>
                </a:lnTo>
                <a:lnTo>
                  <a:pt x="10059" y="1486"/>
                </a:lnTo>
                <a:lnTo>
                  <a:pt x="10054" y="1504"/>
                </a:lnTo>
                <a:lnTo>
                  <a:pt x="10048" y="1521"/>
                </a:lnTo>
                <a:lnTo>
                  <a:pt x="10044" y="1535"/>
                </a:lnTo>
                <a:lnTo>
                  <a:pt x="10038" y="1546"/>
                </a:lnTo>
                <a:lnTo>
                  <a:pt x="10035" y="1557"/>
                </a:lnTo>
                <a:lnTo>
                  <a:pt x="10029" y="1566"/>
                </a:lnTo>
                <a:lnTo>
                  <a:pt x="10026" y="1572"/>
                </a:lnTo>
                <a:cubicBezTo>
                  <a:pt x="10026" y="1573"/>
                  <a:pt x="10025" y="1573"/>
                  <a:pt x="10024" y="1575"/>
                </a:cubicBezTo>
                <a:lnTo>
                  <a:pt x="10018" y="1582"/>
                </a:lnTo>
                <a:cubicBezTo>
                  <a:pt x="10016" y="1583"/>
                  <a:pt x="10015" y="1585"/>
                  <a:pt x="10013" y="1586"/>
                </a:cubicBezTo>
                <a:lnTo>
                  <a:pt x="10006" y="1589"/>
                </a:lnTo>
                <a:cubicBezTo>
                  <a:pt x="10005" y="1590"/>
                  <a:pt x="10003" y="1592"/>
                  <a:pt x="10001" y="1592"/>
                </a:cubicBezTo>
                <a:lnTo>
                  <a:pt x="9993" y="1593"/>
                </a:lnTo>
                <a:cubicBezTo>
                  <a:pt x="9991" y="1593"/>
                  <a:pt x="9989" y="1593"/>
                  <a:pt x="9986" y="1593"/>
                </a:cubicBezTo>
                <a:lnTo>
                  <a:pt x="9978" y="1592"/>
                </a:lnTo>
                <a:cubicBezTo>
                  <a:pt x="9976" y="1592"/>
                  <a:pt x="9975" y="1590"/>
                  <a:pt x="9973" y="1590"/>
                </a:cubicBezTo>
                <a:lnTo>
                  <a:pt x="9965" y="1587"/>
                </a:lnTo>
                <a:cubicBezTo>
                  <a:pt x="9964" y="1586"/>
                  <a:pt x="9962" y="1586"/>
                  <a:pt x="9961" y="1585"/>
                </a:cubicBezTo>
                <a:lnTo>
                  <a:pt x="9956" y="1580"/>
                </a:lnTo>
                <a:cubicBezTo>
                  <a:pt x="9953" y="1579"/>
                  <a:pt x="9952" y="1578"/>
                  <a:pt x="9951" y="1575"/>
                </a:cubicBezTo>
                <a:lnTo>
                  <a:pt x="9947" y="1569"/>
                </a:lnTo>
                <a:cubicBezTo>
                  <a:pt x="9946" y="1567"/>
                  <a:pt x="9945" y="1565"/>
                  <a:pt x="9945" y="1562"/>
                </a:cubicBezTo>
                <a:lnTo>
                  <a:pt x="9942" y="1556"/>
                </a:lnTo>
                <a:cubicBezTo>
                  <a:pt x="9942" y="1554"/>
                  <a:pt x="9942" y="1552"/>
                  <a:pt x="9942" y="1551"/>
                </a:cubicBezTo>
                <a:lnTo>
                  <a:pt x="9942" y="1543"/>
                </a:lnTo>
                <a:lnTo>
                  <a:pt x="9943" y="1535"/>
                </a:lnTo>
                <a:lnTo>
                  <a:pt x="9945" y="1524"/>
                </a:lnTo>
                <a:lnTo>
                  <a:pt x="9948" y="1512"/>
                </a:lnTo>
                <a:lnTo>
                  <a:pt x="9951" y="1499"/>
                </a:lnTo>
                <a:lnTo>
                  <a:pt x="9954" y="1482"/>
                </a:lnTo>
                <a:lnTo>
                  <a:pt x="9960" y="1464"/>
                </a:lnTo>
                <a:lnTo>
                  <a:pt x="9965" y="1444"/>
                </a:lnTo>
                <a:lnTo>
                  <a:pt x="10099" y="977"/>
                </a:lnTo>
                <a:lnTo>
                  <a:pt x="10104" y="960"/>
                </a:lnTo>
                <a:lnTo>
                  <a:pt x="10110" y="944"/>
                </a:lnTo>
                <a:lnTo>
                  <a:pt x="10114" y="930"/>
                </a:lnTo>
                <a:lnTo>
                  <a:pt x="10119" y="918"/>
                </a:lnTo>
                <a:lnTo>
                  <a:pt x="10123" y="906"/>
                </a:lnTo>
                <a:lnTo>
                  <a:pt x="10129" y="898"/>
                </a:lnTo>
                <a:lnTo>
                  <a:pt x="10132" y="892"/>
                </a:lnTo>
                <a:cubicBezTo>
                  <a:pt x="10132" y="891"/>
                  <a:pt x="10134" y="890"/>
                  <a:pt x="10135" y="889"/>
                </a:cubicBezTo>
                <a:lnTo>
                  <a:pt x="10137" y="885"/>
                </a:lnTo>
                <a:cubicBezTo>
                  <a:pt x="10140" y="884"/>
                  <a:pt x="10141" y="883"/>
                  <a:pt x="10143" y="882"/>
                </a:cubicBezTo>
                <a:lnTo>
                  <a:pt x="10155" y="876"/>
                </a:lnTo>
                <a:cubicBezTo>
                  <a:pt x="10158" y="875"/>
                  <a:pt x="10161" y="875"/>
                  <a:pt x="10164" y="875"/>
                </a:cubicBezTo>
                <a:close/>
                <a:moveTo>
                  <a:pt x="471" y="827"/>
                </a:moveTo>
                <a:lnTo>
                  <a:pt x="458" y="830"/>
                </a:lnTo>
                <a:lnTo>
                  <a:pt x="451" y="832"/>
                </a:lnTo>
                <a:lnTo>
                  <a:pt x="395" y="1095"/>
                </a:lnTo>
                <a:lnTo>
                  <a:pt x="401" y="1091"/>
                </a:lnTo>
                <a:lnTo>
                  <a:pt x="408" y="1083"/>
                </a:lnTo>
                <a:lnTo>
                  <a:pt x="413" y="1074"/>
                </a:lnTo>
                <a:lnTo>
                  <a:pt x="420" y="1056"/>
                </a:lnTo>
                <a:lnTo>
                  <a:pt x="428" y="1032"/>
                </a:lnTo>
                <a:lnTo>
                  <a:pt x="434" y="1002"/>
                </a:lnTo>
                <a:lnTo>
                  <a:pt x="461" y="888"/>
                </a:lnTo>
                <a:lnTo>
                  <a:pt x="464" y="870"/>
                </a:lnTo>
                <a:lnTo>
                  <a:pt x="468" y="855"/>
                </a:lnTo>
                <a:lnTo>
                  <a:pt x="469" y="843"/>
                </a:lnTo>
                <a:lnTo>
                  <a:pt x="470" y="832"/>
                </a:lnTo>
                <a:lnTo>
                  <a:pt x="471" y="827"/>
                </a:lnTo>
                <a:close/>
                <a:moveTo>
                  <a:pt x="3441" y="805"/>
                </a:moveTo>
                <a:cubicBezTo>
                  <a:pt x="3443" y="805"/>
                  <a:pt x="3445" y="805"/>
                  <a:pt x="3447" y="806"/>
                </a:cubicBezTo>
                <a:cubicBezTo>
                  <a:pt x="3457" y="810"/>
                  <a:pt x="3463" y="819"/>
                  <a:pt x="3460" y="830"/>
                </a:cubicBezTo>
                <a:lnTo>
                  <a:pt x="3447" y="888"/>
                </a:lnTo>
                <a:lnTo>
                  <a:pt x="3434" y="944"/>
                </a:lnTo>
                <a:lnTo>
                  <a:pt x="3423" y="997"/>
                </a:lnTo>
                <a:lnTo>
                  <a:pt x="3413" y="1048"/>
                </a:lnTo>
                <a:lnTo>
                  <a:pt x="3403" y="1096"/>
                </a:lnTo>
                <a:lnTo>
                  <a:pt x="3395" y="1141"/>
                </a:lnTo>
                <a:lnTo>
                  <a:pt x="3388" y="1184"/>
                </a:lnTo>
                <a:lnTo>
                  <a:pt x="3382" y="1226"/>
                </a:lnTo>
                <a:cubicBezTo>
                  <a:pt x="3381" y="1231"/>
                  <a:pt x="3378" y="1237"/>
                  <a:pt x="3373" y="1239"/>
                </a:cubicBezTo>
                <a:cubicBezTo>
                  <a:pt x="3369" y="1243"/>
                  <a:pt x="3363" y="1243"/>
                  <a:pt x="3358" y="1241"/>
                </a:cubicBezTo>
                <a:lnTo>
                  <a:pt x="3287" y="1219"/>
                </a:lnTo>
                <a:cubicBezTo>
                  <a:pt x="3283" y="1217"/>
                  <a:pt x="3279" y="1213"/>
                  <a:pt x="3276" y="1208"/>
                </a:cubicBezTo>
                <a:cubicBezTo>
                  <a:pt x="3274" y="1203"/>
                  <a:pt x="3274" y="1197"/>
                  <a:pt x="3276" y="1193"/>
                </a:cubicBezTo>
                <a:lnTo>
                  <a:pt x="3288" y="1162"/>
                </a:lnTo>
                <a:lnTo>
                  <a:pt x="3302" y="1127"/>
                </a:lnTo>
                <a:lnTo>
                  <a:pt x="3318" y="1088"/>
                </a:lnTo>
                <a:lnTo>
                  <a:pt x="3336" y="1042"/>
                </a:lnTo>
                <a:lnTo>
                  <a:pt x="3355" y="994"/>
                </a:lnTo>
                <a:lnTo>
                  <a:pt x="3377" y="939"/>
                </a:lnTo>
                <a:lnTo>
                  <a:pt x="3400" y="881"/>
                </a:lnTo>
                <a:lnTo>
                  <a:pt x="3424" y="817"/>
                </a:lnTo>
                <a:cubicBezTo>
                  <a:pt x="3427" y="810"/>
                  <a:pt x="3434" y="805"/>
                  <a:pt x="3441" y="805"/>
                </a:cubicBezTo>
                <a:close/>
                <a:moveTo>
                  <a:pt x="8231" y="804"/>
                </a:moveTo>
                <a:lnTo>
                  <a:pt x="8186" y="964"/>
                </a:lnTo>
                <a:lnTo>
                  <a:pt x="8291" y="987"/>
                </a:lnTo>
                <a:lnTo>
                  <a:pt x="8292" y="985"/>
                </a:lnTo>
                <a:lnTo>
                  <a:pt x="8299" y="954"/>
                </a:lnTo>
                <a:lnTo>
                  <a:pt x="8308" y="919"/>
                </a:lnTo>
                <a:lnTo>
                  <a:pt x="8317" y="881"/>
                </a:lnTo>
                <a:lnTo>
                  <a:pt x="8330" y="838"/>
                </a:lnTo>
                <a:lnTo>
                  <a:pt x="8332" y="827"/>
                </a:lnTo>
                <a:lnTo>
                  <a:pt x="8231" y="804"/>
                </a:lnTo>
                <a:close/>
                <a:moveTo>
                  <a:pt x="470" y="788"/>
                </a:moveTo>
                <a:lnTo>
                  <a:pt x="481" y="788"/>
                </a:lnTo>
                <a:cubicBezTo>
                  <a:pt x="483" y="788"/>
                  <a:pt x="485" y="789"/>
                  <a:pt x="488" y="790"/>
                </a:cubicBezTo>
                <a:lnTo>
                  <a:pt x="494" y="792"/>
                </a:lnTo>
                <a:cubicBezTo>
                  <a:pt x="497" y="795"/>
                  <a:pt x="501" y="797"/>
                  <a:pt x="503" y="800"/>
                </a:cubicBezTo>
                <a:lnTo>
                  <a:pt x="504" y="804"/>
                </a:lnTo>
                <a:cubicBezTo>
                  <a:pt x="505" y="805"/>
                  <a:pt x="506" y="809"/>
                  <a:pt x="507" y="810"/>
                </a:cubicBezTo>
                <a:lnTo>
                  <a:pt x="507" y="816"/>
                </a:lnTo>
                <a:cubicBezTo>
                  <a:pt x="508" y="817"/>
                  <a:pt x="508" y="818"/>
                  <a:pt x="508" y="819"/>
                </a:cubicBezTo>
                <a:lnTo>
                  <a:pt x="508" y="827"/>
                </a:lnTo>
                <a:lnTo>
                  <a:pt x="507" y="838"/>
                </a:lnTo>
                <a:lnTo>
                  <a:pt x="505" y="849"/>
                </a:lnTo>
                <a:lnTo>
                  <a:pt x="504" y="863"/>
                </a:lnTo>
                <a:lnTo>
                  <a:pt x="501" y="880"/>
                </a:lnTo>
                <a:lnTo>
                  <a:pt x="496" y="896"/>
                </a:lnTo>
                <a:lnTo>
                  <a:pt x="471" y="1012"/>
                </a:lnTo>
                <a:lnTo>
                  <a:pt x="463" y="1045"/>
                </a:lnTo>
                <a:lnTo>
                  <a:pt x="455" y="1072"/>
                </a:lnTo>
                <a:lnTo>
                  <a:pt x="448" y="1090"/>
                </a:lnTo>
                <a:cubicBezTo>
                  <a:pt x="447" y="1091"/>
                  <a:pt x="447" y="1092"/>
                  <a:pt x="445" y="1094"/>
                </a:cubicBezTo>
                <a:lnTo>
                  <a:pt x="438" y="1106"/>
                </a:lnTo>
                <a:cubicBezTo>
                  <a:pt x="437" y="1108"/>
                  <a:pt x="437" y="1109"/>
                  <a:pt x="436" y="1110"/>
                </a:cubicBezTo>
                <a:lnTo>
                  <a:pt x="427" y="1119"/>
                </a:lnTo>
                <a:cubicBezTo>
                  <a:pt x="426" y="1120"/>
                  <a:pt x="425" y="1120"/>
                  <a:pt x="425" y="1122"/>
                </a:cubicBezTo>
                <a:lnTo>
                  <a:pt x="410" y="1132"/>
                </a:lnTo>
                <a:lnTo>
                  <a:pt x="394" y="1142"/>
                </a:lnTo>
                <a:lnTo>
                  <a:pt x="376" y="1152"/>
                </a:lnTo>
                <a:cubicBezTo>
                  <a:pt x="369" y="1155"/>
                  <a:pt x="362" y="1154"/>
                  <a:pt x="356" y="1149"/>
                </a:cubicBezTo>
                <a:cubicBezTo>
                  <a:pt x="351" y="1145"/>
                  <a:pt x="348" y="1138"/>
                  <a:pt x="350" y="1130"/>
                </a:cubicBezTo>
                <a:lnTo>
                  <a:pt x="417" y="812"/>
                </a:lnTo>
                <a:cubicBezTo>
                  <a:pt x="419" y="805"/>
                  <a:pt x="423" y="799"/>
                  <a:pt x="430" y="797"/>
                </a:cubicBezTo>
                <a:lnTo>
                  <a:pt x="451" y="791"/>
                </a:lnTo>
                <a:lnTo>
                  <a:pt x="466" y="789"/>
                </a:lnTo>
                <a:cubicBezTo>
                  <a:pt x="468" y="788"/>
                  <a:pt x="469" y="788"/>
                  <a:pt x="470" y="788"/>
                </a:cubicBezTo>
                <a:close/>
                <a:moveTo>
                  <a:pt x="8216" y="762"/>
                </a:moveTo>
                <a:cubicBezTo>
                  <a:pt x="8218" y="761"/>
                  <a:pt x="8220" y="761"/>
                  <a:pt x="8223" y="762"/>
                </a:cubicBezTo>
                <a:lnTo>
                  <a:pt x="8359" y="793"/>
                </a:lnTo>
                <a:cubicBezTo>
                  <a:pt x="8365" y="795"/>
                  <a:pt x="8369" y="798"/>
                  <a:pt x="8371" y="803"/>
                </a:cubicBezTo>
                <a:cubicBezTo>
                  <a:pt x="8375" y="807"/>
                  <a:pt x="8375" y="812"/>
                  <a:pt x="8374" y="818"/>
                </a:cubicBezTo>
                <a:lnTo>
                  <a:pt x="8365" y="848"/>
                </a:lnTo>
                <a:lnTo>
                  <a:pt x="8353" y="891"/>
                </a:lnTo>
                <a:lnTo>
                  <a:pt x="8343" y="930"/>
                </a:lnTo>
                <a:lnTo>
                  <a:pt x="8335" y="963"/>
                </a:lnTo>
                <a:lnTo>
                  <a:pt x="8328" y="994"/>
                </a:lnTo>
                <a:lnTo>
                  <a:pt x="8324" y="1013"/>
                </a:lnTo>
                <a:cubicBezTo>
                  <a:pt x="8324" y="1019"/>
                  <a:pt x="8321" y="1023"/>
                  <a:pt x="8316" y="1026"/>
                </a:cubicBezTo>
                <a:cubicBezTo>
                  <a:pt x="8312" y="1028"/>
                  <a:pt x="8308" y="1030"/>
                  <a:pt x="8303" y="1028"/>
                </a:cubicBezTo>
                <a:lnTo>
                  <a:pt x="8159" y="998"/>
                </a:lnTo>
                <a:cubicBezTo>
                  <a:pt x="8154" y="997"/>
                  <a:pt x="8149" y="994"/>
                  <a:pt x="8147" y="989"/>
                </a:cubicBezTo>
                <a:cubicBezTo>
                  <a:pt x="8143" y="984"/>
                  <a:pt x="8143" y="978"/>
                  <a:pt x="8144" y="974"/>
                </a:cubicBezTo>
                <a:lnTo>
                  <a:pt x="8201" y="775"/>
                </a:lnTo>
                <a:cubicBezTo>
                  <a:pt x="8203" y="768"/>
                  <a:pt x="8209" y="763"/>
                  <a:pt x="8216" y="762"/>
                </a:cubicBezTo>
                <a:close/>
                <a:moveTo>
                  <a:pt x="6442" y="752"/>
                </a:moveTo>
                <a:lnTo>
                  <a:pt x="6442" y="752"/>
                </a:lnTo>
                <a:close/>
                <a:moveTo>
                  <a:pt x="9142" y="641"/>
                </a:moveTo>
                <a:lnTo>
                  <a:pt x="9142" y="641"/>
                </a:lnTo>
                <a:close/>
                <a:moveTo>
                  <a:pt x="6984" y="626"/>
                </a:moveTo>
                <a:lnTo>
                  <a:pt x="6966" y="679"/>
                </a:lnTo>
                <a:lnTo>
                  <a:pt x="6949" y="731"/>
                </a:lnTo>
                <a:lnTo>
                  <a:pt x="6935" y="776"/>
                </a:lnTo>
                <a:lnTo>
                  <a:pt x="6934" y="782"/>
                </a:lnTo>
                <a:lnTo>
                  <a:pt x="6960" y="776"/>
                </a:lnTo>
                <a:lnTo>
                  <a:pt x="6965" y="742"/>
                </a:lnTo>
                <a:lnTo>
                  <a:pt x="6973" y="693"/>
                </a:lnTo>
                <a:lnTo>
                  <a:pt x="6981" y="640"/>
                </a:lnTo>
                <a:lnTo>
                  <a:pt x="6984" y="626"/>
                </a:lnTo>
                <a:close/>
                <a:moveTo>
                  <a:pt x="2888" y="612"/>
                </a:moveTo>
                <a:lnTo>
                  <a:pt x="2835" y="797"/>
                </a:lnTo>
                <a:lnTo>
                  <a:pt x="2839" y="797"/>
                </a:lnTo>
                <a:lnTo>
                  <a:pt x="2848" y="798"/>
                </a:lnTo>
                <a:lnTo>
                  <a:pt x="2854" y="797"/>
                </a:lnTo>
                <a:lnTo>
                  <a:pt x="2857" y="796"/>
                </a:lnTo>
                <a:lnTo>
                  <a:pt x="2862" y="793"/>
                </a:lnTo>
                <a:lnTo>
                  <a:pt x="2866" y="784"/>
                </a:lnTo>
                <a:lnTo>
                  <a:pt x="2874" y="769"/>
                </a:lnTo>
                <a:lnTo>
                  <a:pt x="2881" y="748"/>
                </a:lnTo>
                <a:lnTo>
                  <a:pt x="2903" y="669"/>
                </a:lnTo>
                <a:lnTo>
                  <a:pt x="2907" y="650"/>
                </a:lnTo>
                <a:lnTo>
                  <a:pt x="2909" y="636"/>
                </a:lnTo>
                <a:lnTo>
                  <a:pt x="2908" y="628"/>
                </a:lnTo>
                <a:lnTo>
                  <a:pt x="2907" y="625"/>
                </a:lnTo>
                <a:lnTo>
                  <a:pt x="2904" y="621"/>
                </a:lnTo>
                <a:lnTo>
                  <a:pt x="2897" y="615"/>
                </a:lnTo>
                <a:lnTo>
                  <a:pt x="2888" y="612"/>
                </a:lnTo>
                <a:close/>
                <a:moveTo>
                  <a:pt x="2875" y="567"/>
                </a:moveTo>
                <a:cubicBezTo>
                  <a:pt x="2877" y="565"/>
                  <a:pt x="2881" y="567"/>
                  <a:pt x="2883" y="567"/>
                </a:cubicBezTo>
                <a:lnTo>
                  <a:pt x="2902" y="574"/>
                </a:lnTo>
                <a:lnTo>
                  <a:pt x="2915" y="581"/>
                </a:lnTo>
                <a:cubicBezTo>
                  <a:pt x="2915" y="582"/>
                  <a:pt x="2916" y="582"/>
                  <a:pt x="2917" y="582"/>
                </a:cubicBezTo>
                <a:lnTo>
                  <a:pt x="2927" y="590"/>
                </a:lnTo>
                <a:cubicBezTo>
                  <a:pt x="2928" y="591"/>
                  <a:pt x="2929" y="592"/>
                  <a:pt x="2930" y="592"/>
                </a:cubicBezTo>
                <a:lnTo>
                  <a:pt x="2937" y="600"/>
                </a:lnTo>
                <a:cubicBezTo>
                  <a:pt x="2938" y="601"/>
                  <a:pt x="2940" y="604"/>
                  <a:pt x="2940" y="606"/>
                </a:cubicBezTo>
                <a:lnTo>
                  <a:pt x="2943" y="617"/>
                </a:lnTo>
                <a:cubicBezTo>
                  <a:pt x="2945" y="618"/>
                  <a:pt x="2946" y="620"/>
                  <a:pt x="2946" y="622"/>
                </a:cubicBezTo>
                <a:lnTo>
                  <a:pt x="2947" y="635"/>
                </a:lnTo>
                <a:cubicBezTo>
                  <a:pt x="2947" y="636"/>
                  <a:pt x="2947" y="638"/>
                  <a:pt x="2947" y="640"/>
                </a:cubicBezTo>
                <a:lnTo>
                  <a:pt x="2945" y="656"/>
                </a:lnTo>
                <a:cubicBezTo>
                  <a:pt x="2945" y="657"/>
                  <a:pt x="2945" y="659"/>
                  <a:pt x="2943" y="659"/>
                </a:cubicBezTo>
                <a:lnTo>
                  <a:pt x="2939" y="679"/>
                </a:lnTo>
                <a:lnTo>
                  <a:pt x="2916" y="761"/>
                </a:lnTo>
                <a:lnTo>
                  <a:pt x="2908" y="785"/>
                </a:lnTo>
                <a:lnTo>
                  <a:pt x="2900" y="803"/>
                </a:lnTo>
                <a:cubicBezTo>
                  <a:pt x="2899" y="804"/>
                  <a:pt x="2899" y="804"/>
                  <a:pt x="2898" y="805"/>
                </a:cubicBezTo>
                <a:lnTo>
                  <a:pt x="2891" y="817"/>
                </a:lnTo>
                <a:cubicBezTo>
                  <a:pt x="2891" y="819"/>
                  <a:pt x="2889" y="820"/>
                  <a:pt x="2887" y="821"/>
                </a:cubicBezTo>
                <a:lnTo>
                  <a:pt x="2879" y="828"/>
                </a:lnTo>
                <a:cubicBezTo>
                  <a:pt x="2877" y="831"/>
                  <a:pt x="2876" y="832"/>
                  <a:pt x="2874" y="832"/>
                </a:cubicBezTo>
                <a:lnTo>
                  <a:pt x="2865" y="835"/>
                </a:lnTo>
                <a:cubicBezTo>
                  <a:pt x="2863" y="837"/>
                  <a:pt x="2862" y="837"/>
                  <a:pt x="2860" y="837"/>
                </a:cubicBezTo>
                <a:lnTo>
                  <a:pt x="2849" y="838"/>
                </a:lnTo>
                <a:cubicBezTo>
                  <a:pt x="2848" y="838"/>
                  <a:pt x="2846" y="838"/>
                  <a:pt x="2845" y="838"/>
                </a:cubicBezTo>
                <a:lnTo>
                  <a:pt x="2830" y="835"/>
                </a:lnTo>
                <a:lnTo>
                  <a:pt x="2813" y="831"/>
                </a:lnTo>
                <a:lnTo>
                  <a:pt x="2807" y="830"/>
                </a:lnTo>
                <a:lnTo>
                  <a:pt x="2805" y="828"/>
                </a:lnTo>
                <a:lnTo>
                  <a:pt x="2802" y="827"/>
                </a:lnTo>
                <a:cubicBezTo>
                  <a:pt x="2793" y="823"/>
                  <a:pt x="2789" y="812"/>
                  <a:pt x="2793" y="802"/>
                </a:cubicBezTo>
                <a:lnTo>
                  <a:pt x="2796" y="797"/>
                </a:lnTo>
                <a:lnTo>
                  <a:pt x="2859" y="581"/>
                </a:lnTo>
                <a:cubicBezTo>
                  <a:pt x="2860" y="575"/>
                  <a:pt x="2863" y="571"/>
                  <a:pt x="2868" y="569"/>
                </a:cubicBezTo>
                <a:cubicBezTo>
                  <a:pt x="2870" y="567"/>
                  <a:pt x="2873" y="567"/>
                  <a:pt x="2875" y="567"/>
                </a:cubicBezTo>
                <a:close/>
                <a:moveTo>
                  <a:pt x="7922" y="543"/>
                </a:moveTo>
                <a:lnTo>
                  <a:pt x="7908" y="549"/>
                </a:lnTo>
                <a:lnTo>
                  <a:pt x="7906" y="549"/>
                </a:lnTo>
                <a:lnTo>
                  <a:pt x="7916" y="558"/>
                </a:lnTo>
                <a:lnTo>
                  <a:pt x="7922" y="543"/>
                </a:lnTo>
                <a:close/>
                <a:moveTo>
                  <a:pt x="8822" y="501"/>
                </a:moveTo>
                <a:lnTo>
                  <a:pt x="8818" y="503"/>
                </a:lnTo>
                <a:lnTo>
                  <a:pt x="8816" y="506"/>
                </a:lnTo>
                <a:lnTo>
                  <a:pt x="8813" y="511"/>
                </a:lnTo>
                <a:lnTo>
                  <a:pt x="8810" y="519"/>
                </a:lnTo>
                <a:lnTo>
                  <a:pt x="8806" y="529"/>
                </a:lnTo>
                <a:lnTo>
                  <a:pt x="8801" y="542"/>
                </a:lnTo>
                <a:lnTo>
                  <a:pt x="8797" y="556"/>
                </a:lnTo>
                <a:lnTo>
                  <a:pt x="8793" y="572"/>
                </a:lnTo>
                <a:lnTo>
                  <a:pt x="8659" y="1034"/>
                </a:lnTo>
                <a:lnTo>
                  <a:pt x="8654" y="1054"/>
                </a:lnTo>
                <a:lnTo>
                  <a:pt x="8649" y="1072"/>
                </a:lnTo>
                <a:lnTo>
                  <a:pt x="8645" y="1088"/>
                </a:lnTo>
                <a:lnTo>
                  <a:pt x="8642" y="1101"/>
                </a:lnTo>
                <a:lnTo>
                  <a:pt x="8639" y="1112"/>
                </a:lnTo>
                <a:lnTo>
                  <a:pt x="8638" y="1120"/>
                </a:lnTo>
                <a:lnTo>
                  <a:pt x="8637" y="1126"/>
                </a:lnTo>
                <a:lnTo>
                  <a:pt x="8638" y="1129"/>
                </a:lnTo>
                <a:lnTo>
                  <a:pt x="8638" y="1130"/>
                </a:lnTo>
                <a:lnTo>
                  <a:pt x="8639" y="1131"/>
                </a:lnTo>
                <a:lnTo>
                  <a:pt x="8644" y="1132"/>
                </a:lnTo>
                <a:lnTo>
                  <a:pt x="8647" y="1133"/>
                </a:lnTo>
                <a:lnTo>
                  <a:pt x="8649" y="1132"/>
                </a:lnTo>
                <a:lnTo>
                  <a:pt x="8651" y="1131"/>
                </a:lnTo>
                <a:lnTo>
                  <a:pt x="8655" y="1127"/>
                </a:lnTo>
                <a:lnTo>
                  <a:pt x="8657" y="1124"/>
                </a:lnTo>
                <a:lnTo>
                  <a:pt x="8659" y="1119"/>
                </a:lnTo>
                <a:lnTo>
                  <a:pt x="8662" y="1111"/>
                </a:lnTo>
                <a:lnTo>
                  <a:pt x="8667" y="1099"/>
                </a:lnTo>
                <a:lnTo>
                  <a:pt x="8671" y="1087"/>
                </a:lnTo>
                <a:lnTo>
                  <a:pt x="8677" y="1070"/>
                </a:lnTo>
                <a:lnTo>
                  <a:pt x="8682" y="1053"/>
                </a:lnTo>
                <a:lnTo>
                  <a:pt x="8688" y="1033"/>
                </a:lnTo>
                <a:lnTo>
                  <a:pt x="8818" y="581"/>
                </a:lnTo>
                <a:lnTo>
                  <a:pt x="8826" y="551"/>
                </a:lnTo>
                <a:lnTo>
                  <a:pt x="8831" y="528"/>
                </a:lnTo>
                <a:lnTo>
                  <a:pt x="8833" y="512"/>
                </a:lnTo>
                <a:lnTo>
                  <a:pt x="8833" y="507"/>
                </a:lnTo>
                <a:lnTo>
                  <a:pt x="8833" y="505"/>
                </a:lnTo>
                <a:lnTo>
                  <a:pt x="8832" y="504"/>
                </a:lnTo>
                <a:lnTo>
                  <a:pt x="8831" y="503"/>
                </a:lnTo>
                <a:lnTo>
                  <a:pt x="8829" y="501"/>
                </a:lnTo>
                <a:lnTo>
                  <a:pt x="8822" y="501"/>
                </a:lnTo>
                <a:close/>
                <a:moveTo>
                  <a:pt x="7953" y="482"/>
                </a:moveTo>
                <a:cubicBezTo>
                  <a:pt x="7956" y="482"/>
                  <a:pt x="7960" y="483"/>
                  <a:pt x="7964" y="486"/>
                </a:cubicBezTo>
                <a:cubicBezTo>
                  <a:pt x="7970" y="490"/>
                  <a:pt x="7972" y="499"/>
                  <a:pt x="7970" y="507"/>
                </a:cubicBezTo>
                <a:lnTo>
                  <a:pt x="7943" y="606"/>
                </a:lnTo>
                <a:cubicBezTo>
                  <a:pt x="7940" y="614"/>
                  <a:pt x="7934" y="619"/>
                  <a:pt x="7926" y="620"/>
                </a:cubicBezTo>
                <a:cubicBezTo>
                  <a:pt x="7919" y="621"/>
                  <a:pt x="7912" y="617"/>
                  <a:pt x="7908" y="611"/>
                </a:cubicBezTo>
                <a:lnTo>
                  <a:pt x="7904" y="604"/>
                </a:lnTo>
                <a:lnTo>
                  <a:pt x="7894" y="590"/>
                </a:lnTo>
                <a:lnTo>
                  <a:pt x="7881" y="579"/>
                </a:lnTo>
                <a:lnTo>
                  <a:pt x="7867" y="570"/>
                </a:lnTo>
                <a:lnTo>
                  <a:pt x="7848" y="562"/>
                </a:lnTo>
                <a:cubicBezTo>
                  <a:pt x="7840" y="558"/>
                  <a:pt x="7836" y="550"/>
                  <a:pt x="7836" y="542"/>
                </a:cubicBezTo>
                <a:cubicBezTo>
                  <a:pt x="7837" y="533"/>
                  <a:pt x="7842" y="526"/>
                  <a:pt x="7850" y="524"/>
                </a:cubicBezTo>
                <a:lnTo>
                  <a:pt x="7874" y="519"/>
                </a:lnTo>
                <a:lnTo>
                  <a:pt x="7894" y="513"/>
                </a:lnTo>
                <a:lnTo>
                  <a:pt x="7913" y="504"/>
                </a:lnTo>
                <a:lnTo>
                  <a:pt x="7929" y="496"/>
                </a:lnTo>
                <a:lnTo>
                  <a:pt x="7942" y="486"/>
                </a:lnTo>
                <a:cubicBezTo>
                  <a:pt x="7945" y="483"/>
                  <a:pt x="7948" y="482"/>
                  <a:pt x="7953" y="482"/>
                </a:cubicBezTo>
                <a:close/>
                <a:moveTo>
                  <a:pt x="8821" y="462"/>
                </a:moveTo>
                <a:lnTo>
                  <a:pt x="8834" y="463"/>
                </a:lnTo>
                <a:cubicBezTo>
                  <a:pt x="8837" y="463"/>
                  <a:pt x="8839" y="464"/>
                  <a:pt x="8841" y="464"/>
                </a:cubicBezTo>
                <a:lnTo>
                  <a:pt x="8848" y="468"/>
                </a:lnTo>
                <a:cubicBezTo>
                  <a:pt x="8850" y="469"/>
                  <a:pt x="8851" y="469"/>
                  <a:pt x="8852" y="470"/>
                </a:cubicBezTo>
                <a:lnTo>
                  <a:pt x="8858" y="475"/>
                </a:lnTo>
                <a:cubicBezTo>
                  <a:pt x="8859" y="476"/>
                  <a:pt x="8861" y="478"/>
                  <a:pt x="8862" y="480"/>
                </a:cubicBezTo>
                <a:lnTo>
                  <a:pt x="8865" y="486"/>
                </a:lnTo>
                <a:cubicBezTo>
                  <a:pt x="8868" y="487"/>
                  <a:pt x="8868" y="490"/>
                  <a:pt x="8869" y="491"/>
                </a:cubicBezTo>
                <a:lnTo>
                  <a:pt x="8870" y="499"/>
                </a:lnTo>
                <a:cubicBezTo>
                  <a:pt x="8871" y="500"/>
                  <a:pt x="8871" y="503"/>
                  <a:pt x="8871" y="505"/>
                </a:cubicBezTo>
                <a:lnTo>
                  <a:pt x="8871" y="518"/>
                </a:lnTo>
                <a:lnTo>
                  <a:pt x="8868" y="538"/>
                </a:lnTo>
                <a:lnTo>
                  <a:pt x="8862" y="562"/>
                </a:lnTo>
                <a:lnTo>
                  <a:pt x="8853" y="592"/>
                </a:lnTo>
                <a:lnTo>
                  <a:pt x="8723" y="1045"/>
                </a:lnTo>
                <a:lnTo>
                  <a:pt x="8718" y="1065"/>
                </a:lnTo>
                <a:lnTo>
                  <a:pt x="8712" y="1083"/>
                </a:lnTo>
                <a:lnTo>
                  <a:pt x="8707" y="1099"/>
                </a:lnTo>
                <a:lnTo>
                  <a:pt x="8702" y="1113"/>
                </a:lnTo>
                <a:lnTo>
                  <a:pt x="8697" y="1126"/>
                </a:lnTo>
                <a:lnTo>
                  <a:pt x="8692" y="1137"/>
                </a:lnTo>
                <a:lnTo>
                  <a:pt x="8688" y="1146"/>
                </a:lnTo>
                <a:lnTo>
                  <a:pt x="8685" y="1151"/>
                </a:lnTo>
                <a:cubicBezTo>
                  <a:pt x="8685" y="1152"/>
                  <a:pt x="8683" y="1153"/>
                  <a:pt x="8682" y="1154"/>
                </a:cubicBezTo>
                <a:lnTo>
                  <a:pt x="8676" y="1161"/>
                </a:lnTo>
                <a:cubicBezTo>
                  <a:pt x="8675" y="1162"/>
                  <a:pt x="8673" y="1163"/>
                  <a:pt x="8671" y="1165"/>
                </a:cubicBezTo>
                <a:lnTo>
                  <a:pt x="8665" y="1168"/>
                </a:lnTo>
                <a:cubicBezTo>
                  <a:pt x="8664" y="1169"/>
                  <a:pt x="8661" y="1170"/>
                  <a:pt x="8659" y="1170"/>
                </a:cubicBezTo>
                <a:lnTo>
                  <a:pt x="8651" y="1172"/>
                </a:lnTo>
                <a:cubicBezTo>
                  <a:pt x="8649" y="1172"/>
                  <a:pt x="8647" y="1172"/>
                  <a:pt x="8645" y="1172"/>
                </a:cubicBezTo>
                <a:lnTo>
                  <a:pt x="8636" y="1170"/>
                </a:lnTo>
                <a:cubicBezTo>
                  <a:pt x="8635" y="1170"/>
                  <a:pt x="8633" y="1170"/>
                  <a:pt x="8632" y="1169"/>
                </a:cubicBezTo>
                <a:lnTo>
                  <a:pt x="8624" y="1166"/>
                </a:lnTo>
                <a:cubicBezTo>
                  <a:pt x="8623" y="1166"/>
                  <a:pt x="8622" y="1165"/>
                  <a:pt x="8619" y="1163"/>
                </a:cubicBezTo>
                <a:lnTo>
                  <a:pt x="8614" y="1160"/>
                </a:lnTo>
                <a:cubicBezTo>
                  <a:pt x="8612" y="1158"/>
                  <a:pt x="8611" y="1156"/>
                  <a:pt x="8610" y="1154"/>
                </a:cubicBezTo>
                <a:lnTo>
                  <a:pt x="8605" y="1148"/>
                </a:lnTo>
                <a:cubicBezTo>
                  <a:pt x="8604" y="1146"/>
                  <a:pt x="8603" y="1145"/>
                  <a:pt x="8603" y="1142"/>
                </a:cubicBezTo>
                <a:lnTo>
                  <a:pt x="8601" y="1136"/>
                </a:lnTo>
                <a:cubicBezTo>
                  <a:pt x="8601" y="1133"/>
                  <a:pt x="8600" y="1132"/>
                  <a:pt x="8600" y="1130"/>
                </a:cubicBezTo>
                <a:lnTo>
                  <a:pt x="8600" y="1122"/>
                </a:lnTo>
                <a:lnTo>
                  <a:pt x="8602" y="1113"/>
                </a:lnTo>
                <a:lnTo>
                  <a:pt x="8603" y="1104"/>
                </a:lnTo>
                <a:lnTo>
                  <a:pt x="8605" y="1091"/>
                </a:lnTo>
                <a:lnTo>
                  <a:pt x="8610" y="1077"/>
                </a:lnTo>
                <a:lnTo>
                  <a:pt x="8613" y="1061"/>
                </a:lnTo>
                <a:lnTo>
                  <a:pt x="8618" y="1042"/>
                </a:lnTo>
                <a:lnTo>
                  <a:pt x="8624" y="1023"/>
                </a:lnTo>
                <a:lnTo>
                  <a:pt x="8756" y="562"/>
                </a:lnTo>
                <a:lnTo>
                  <a:pt x="8762" y="543"/>
                </a:lnTo>
                <a:lnTo>
                  <a:pt x="8766" y="528"/>
                </a:lnTo>
                <a:lnTo>
                  <a:pt x="8772" y="514"/>
                </a:lnTo>
                <a:lnTo>
                  <a:pt x="8776" y="503"/>
                </a:lnTo>
                <a:lnTo>
                  <a:pt x="8780" y="493"/>
                </a:lnTo>
                <a:lnTo>
                  <a:pt x="8785" y="483"/>
                </a:lnTo>
                <a:lnTo>
                  <a:pt x="8788" y="478"/>
                </a:lnTo>
                <a:cubicBezTo>
                  <a:pt x="8789" y="477"/>
                  <a:pt x="8790" y="476"/>
                  <a:pt x="8790" y="476"/>
                </a:cubicBezTo>
                <a:lnTo>
                  <a:pt x="8794" y="472"/>
                </a:lnTo>
                <a:cubicBezTo>
                  <a:pt x="8796" y="470"/>
                  <a:pt x="8798" y="469"/>
                  <a:pt x="8800" y="468"/>
                </a:cubicBezTo>
                <a:lnTo>
                  <a:pt x="8812" y="463"/>
                </a:lnTo>
                <a:cubicBezTo>
                  <a:pt x="8816" y="462"/>
                  <a:pt x="8818" y="462"/>
                  <a:pt x="8821" y="462"/>
                </a:cubicBezTo>
                <a:close/>
                <a:moveTo>
                  <a:pt x="6522" y="455"/>
                </a:moveTo>
                <a:lnTo>
                  <a:pt x="6511" y="458"/>
                </a:lnTo>
                <a:lnTo>
                  <a:pt x="6506" y="460"/>
                </a:lnTo>
                <a:lnTo>
                  <a:pt x="6458" y="696"/>
                </a:lnTo>
                <a:lnTo>
                  <a:pt x="6461" y="693"/>
                </a:lnTo>
                <a:lnTo>
                  <a:pt x="6468" y="685"/>
                </a:lnTo>
                <a:lnTo>
                  <a:pt x="6474" y="672"/>
                </a:lnTo>
                <a:lnTo>
                  <a:pt x="6481" y="656"/>
                </a:lnTo>
                <a:lnTo>
                  <a:pt x="6486" y="633"/>
                </a:lnTo>
                <a:lnTo>
                  <a:pt x="6494" y="605"/>
                </a:lnTo>
                <a:lnTo>
                  <a:pt x="6516" y="501"/>
                </a:lnTo>
                <a:lnTo>
                  <a:pt x="6521" y="476"/>
                </a:lnTo>
                <a:lnTo>
                  <a:pt x="6522" y="460"/>
                </a:lnTo>
                <a:lnTo>
                  <a:pt x="6522" y="455"/>
                </a:lnTo>
                <a:close/>
                <a:moveTo>
                  <a:pt x="8342" y="420"/>
                </a:moveTo>
                <a:lnTo>
                  <a:pt x="8305" y="548"/>
                </a:lnTo>
                <a:lnTo>
                  <a:pt x="8405" y="572"/>
                </a:lnTo>
                <a:lnTo>
                  <a:pt x="8410" y="556"/>
                </a:lnTo>
                <a:lnTo>
                  <a:pt x="8422" y="518"/>
                </a:lnTo>
                <a:lnTo>
                  <a:pt x="8433" y="483"/>
                </a:lnTo>
                <a:lnTo>
                  <a:pt x="8443" y="454"/>
                </a:lnTo>
                <a:lnTo>
                  <a:pt x="8446" y="447"/>
                </a:lnTo>
                <a:lnTo>
                  <a:pt x="8342" y="420"/>
                </a:lnTo>
                <a:close/>
                <a:moveTo>
                  <a:pt x="6519" y="417"/>
                </a:moveTo>
                <a:lnTo>
                  <a:pt x="6529" y="417"/>
                </a:lnTo>
                <a:cubicBezTo>
                  <a:pt x="6532" y="417"/>
                  <a:pt x="6535" y="417"/>
                  <a:pt x="6537" y="418"/>
                </a:cubicBezTo>
                <a:lnTo>
                  <a:pt x="6544" y="421"/>
                </a:lnTo>
                <a:cubicBezTo>
                  <a:pt x="6547" y="422"/>
                  <a:pt x="6550" y="426"/>
                  <a:pt x="6553" y="430"/>
                </a:cubicBezTo>
                <a:lnTo>
                  <a:pt x="6557" y="437"/>
                </a:lnTo>
                <a:cubicBezTo>
                  <a:pt x="6558" y="440"/>
                  <a:pt x="6558" y="443"/>
                  <a:pt x="6558" y="446"/>
                </a:cubicBezTo>
                <a:lnTo>
                  <a:pt x="6559" y="460"/>
                </a:lnTo>
                <a:cubicBezTo>
                  <a:pt x="6559" y="461"/>
                  <a:pt x="6559" y="462"/>
                  <a:pt x="6559" y="463"/>
                </a:cubicBezTo>
                <a:lnTo>
                  <a:pt x="6557" y="483"/>
                </a:lnTo>
                <a:lnTo>
                  <a:pt x="6553" y="510"/>
                </a:lnTo>
                <a:lnTo>
                  <a:pt x="6529" y="614"/>
                </a:lnTo>
                <a:lnTo>
                  <a:pt x="6523" y="645"/>
                </a:lnTo>
                <a:lnTo>
                  <a:pt x="6515" y="670"/>
                </a:lnTo>
                <a:lnTo>
                  <a:pt x="6506" y="692"/>
                </a:lnTo>
                <a:lnTo>
                  <a:pt x="6500" y="705"/>
                </a:lnTo>
                <a:cubicBezTo>
                  <a:pt x="6499" y="706"/>
                  <a:pt x="6499" y="707"/>
                  <a:pt x="6497" y="709"/>
                </a:cubicBezTo>
                <a:lnTo>
                  <a:pt x="6490" y="719"/>
                </a:lnTo>
                <a:cubicBezTo>
                  <a:pt x="6489" y="720"/>
                  <a:pt x="6488" y="721"/>
                  <a:pt x="6488" y="721"/>
                </a:cubicBezTo>
                <a:lnTo>
                  <a:pt x="6475" y="733"/>
                </a:lnTo>
                <a:lnTo>
                  <a:pt x="6461" y="742"/>
                </a:lnTo>
                <a:lnTo>
                  <a:pt x="6446" y="750"/>
                </a:lnTo>
                <a:lnTo>
                  <a:pt x="6439" y="754"/>
                </a:lnTo>
                <a:lnTo>
                  <a:pt x="6438" y="755"/>
                </a:lnTo>
                <a:lnTo>
                  <a:pt x="6437" y="756"/>
                </a:lnTo>
                <a:cubicBezTo>
                  <a:pt x="6428" y="760"/>
                  <a:pt x="6418" y="756"/>
                  <a:pt x="6414" y="748"/>
                </a:cubicBezTo>
                <a:cubicBezTo>
                  <a:pt x="6411" y="745"/>
                  <a:pt x="6410" y="740"/>
                  <a:pt x="6410" y="735"/>
                </a:cubicBezTo>
                <a:lnTo>
                  <a:pt x="6413" y="731"/>
                </a:lnTo>
                <a:lnTo>
                  <a:pt x="6472" y="441"/>
                </a:lnTo>
                <a:cubicBezTo>
                  <a:pt x="6473" y="434"/>
                  <a:pt x="6478" y="429"/>
                  <a:pt x="6484" y="427"/>
                </a:cubicBezTo>
                <a:lnTo>
                  <a:pt x="6502" y="420"/>
                </a:lnTo>
                <a:lnTo>
                  <a:pt x="6515" y="417"/>
                </a:lnTo>
                <a:cubicBezTo>
                  <a:pt x="6516" y="417"/>
                  <a:pt x="6518" y="417"/>
                  <a:pt x="6519" y="417"/>
                </a:cubicBezTo>
                <a:close/>
                <a:moveTo>
                  <a:pt x="8326" y="376"/>
                </a:moveTo>
                <a:cubicBezTo>
                  <a:pt x="8328" y="376"/>
                  <a:pt x="8331" y="376"/>
                  <a:pt x="8333" y="376"/>
                </a:cubicBezTo>
                <a:lnTo>
                  <a:pt x="8476" y="413"/>
                </a:lnTo>
                <a:cubicBezTo>
                  <a:pt x="8482" y="415"/>
                  <a:pt x="8485" y="419"/>
                  <a:pt x="8488" y="423"/>
                </a:cubicBezTo>
                <a:cubicBezTo>
                  <a:pt x="8491" y="429"/>
                  <a:pt x="8491" y="435"/>
                  <a:pt x="8488" y="441"/>
                </a:cubicBezTo>
                <a:lnTo>
                  <a:pt x="8488" y="442"/>
                </a:lnTo>
                <a:lnTo>
                  <a:pt x="8478" y="467"/>
                </a:lnTo>
                <a:lnTo>
                  <a:pt x="8468" y="496"/>
                </a:lnTo>
                <a:lnTo>
                  <a:pt x="8457" y="529"/>
                </a:lnTo>
                <a:lnTo>
                  <a:pt x="8445" y="568"/>
                </a:lnTo>
                <a:lnTo>
                  <a:pt x="8435" y="601"/>
                </a:lnTo>
                <a:cubicBezTo>
                  <a:pt x="8432" y="612"/>
                  <a:pt x="8423" y="617"/>
                  <a:pt x="8413" y="614"/>
                </a:cubicBezTo>
                <a:lnTo>
                  <a:pt x="8277" y="582"/>
                </a:lnTo>
                <a:cubicBezTo>
                  <a:pt x="8272" y="581"/>
                  <a:pt x="8268" y="577"/>
                  <a:pt x="8266" y="572"/>
                </a:cubicBezTo>
                <a:cubicBezTo>
                  <a:pt x="8262" y="568"/>
                  <a:pt x="8262" y="562"/>
                  <a:pt x="8263" y="557"/>
                </a:cubicBezTo>
                <a:lnTo>
                  <a:pt x="8311" y="390"/>
                </a:lnTo>
                <a:cubicBezTo>
                  <a:pt x="8313" y="382"/>
                  <a:pt x="8320" y="377"/>
                  <a:pt x="8326" y="376"/>
                </a:cubicBezTo>
                <a:close/>
                <a:moveTo>
                  <a:pt x="573" y="362"/>
                </a:moveTo>
                <a:lnTo>
                  <a:pt x="567" y="363"/>
                </a:lnTo>
                <a:lnTo>
                  <a:pt x="558" y="365"/>
                </a:lnTo>
                <a:lnTo>
                  <a:pt x="557" y="365"/>
                </a:lnTo>
                <a:lnTo>
                  <a:pt x="513" y="560"/>
                </a:lnTo>
                <a:lnTo>
                  <a:pt x="519" y="556"/>
                </a:lnTo>
                <a:lnTo>
                  <a:pt x="527" y="550"/>
                </a:lnTo>
                <a:lnTo>
                  <a:pt x="531" y="543"/>
                </a:lnTo>
                <a:lnTo>
                  <a:pt x="535" y="539"/>
                </a:lnTo>
                <a:lnTo>
                  <a:pt x="537" y="532"/>
                </a:lnTo>
                <a:lnTo>
                  <a:pt x="541" y="521"/>
                </a:lnTo>
                <a:lnTo>
                  <a:pt x="545" y="507"/>
                </a:lnTo>
                <a:lnTo>
                  <a:pt x="550" y="491"/>
                </a:lnTo>
                <a:lnTo>
                  <a:pt x="556" y="472"/>
                </a:lnTo>
                <a:lnTo>
                  <a:pt x="561" y="450"/>
                </a:lnTo>
                <a:lnTo>
                  <a:pt x="567" y="426"/>
                </a:lnTo>
                <a:lnTo>
                  <a:pt x="571" y="400"/>
                </a:lnTo>
                <a:lnTo>
                  <a:pt x="574" y="382"/>
                </a:lnTo>
                <a:lnTo>
                  <a:pt x="576" y="371"/>
                </a:lnTo>
                <a:lnTo>
                  <a:pt x="576" y="364"/>
                </a:lnTo>
                <a:lnTo>
                  <a:pt x="574" y="362"/>
                </a:lnTo>
                <a:lnTo>
                  <a:pt x="573" y="362"/>
                </a:lnTo>
                <a:close/>
                <a:moveTo>
                  <a:pt x="573" y="323"/>
                </a:moveTo>
                <a:lnTo>
                  <a:pt x="579" y="323"/>
                </a:lnTo>
                <a:cubicBezTo>
                  <a:pt x="581" y="323"/>
                  <a:pt x="582" y="323"/>
                  <a:pt x="584" y="323"/>
                </a:cubicBezTo>
                <a:lnTo>
                  <a:pt x="590" y="326"/>
                </a:lnTo>
                <a:cubicBezTo>
                  <a:pt x="591" y="326"/>
                  <a:pt x="594" y="327"/>
                  <a:pt x="595" y="329"/>
                </a:cubicBezTo>
                <a:lnTo>
                  <a:pt x="600" y="332"/>
                </a:lnTo>
                <a:cubicBezTo>
                  <a:pt x="602" y="334"/>
                  <a:pt x="603" y="335"/>
                  <a:pt x="604" y="337"/>
                </a:cubicBezTo>
                <a:lnTo>
                  <a:pt x="608" y="343"/>
                </a:lnTo>
                <a:cubicBezTo>
                  <a:pt x="608" y="344"/>
                  <a:pt x="609" y="346"/>
                  <a:pt x="609" y="347"/>
                </a:cubicBezTo>
                <a:lnTo>
                  <a:pt x="611" y="354"/>
                </a:lnTo>
                <a:cubicBezTo>
                  <a:pt x="612" y="355"/>
                  <a:pt x="612" y="357"/>
                  <a:pt x="612" y="358"/>
                </a:cubicBezTo>
                <a:lnTo>
                  <a:pt x="613" y="369"/>
                </a:lnTo>
                <a:cubicBezTo>
                  <a:pt x="613" y="370"/>
                  <a:pt x="613" y="371"/>
                  <a:pt x="613" y="372"/>
                </a:cubicBezTo>
                <a:lnTo>
                  <a:pt x="612" y="389"/>
                </a:lnTo>
                <a:lnTo>
                  <a:pt x="609" y="410"/>
                </a:lnTo>
                <a:lnTo>
                  <a:pt x="603" y="435"/>
                </a:lnTo>
                <a:lnTo>
                  <a:pt x="596" y="460"/>
                </a:lnTo>
                <a:lnTo>
                  <a:pt x="591" y="483"/>
                </a:lnTo>
                <a:lnTo>
                  <a:pt x="587" y="503"/>
                </a:lnTo>
                <a:lnTo>
                  <a:pt x="581" y="520"/>
                </a:lnTo>
                <a:lnTo>
                  <a:pt x="577" y="535"/>
                </a:lnTo>
                <a:lnTo>
                  <a:pt x="571" y="548"/>
                </a:lnTo>
                <a:lnTo>
                  <a:pt x="568" y="558"/>
                </a:lnTo>
                <a:lnTo>
                  <a:pt x="563" y="564"/>
                </a:lnTo>
                <a:cubicBezTo>
                  <a:pt x="563" y="565"/>
                  <a:pt x="562" y="567"/>
                  <a:pt x="562" y="568"/>
                </a:cubicBezTo>
                <a:lnTo>
                  <a:pt x="555" y="577"/>
                </a:lnTo>
                <a:cubicBezTo>
                  <a:pt x="553" y="578"/>
                  <a:pt x="552" y="579"/>
                  <a:pt x="551" y="579"/>
                </a:cubicBezTo>
                <a:lnTo>
                  <a:pt x="541" y="589"/>
                </a:lnTo>
                <a:cubicBezTo>
                  <a:pt x="540" y="589"/>
                  <a:pt x="539" y="590"/>
                  <a:pt x="538" y="590"/>
                </a:cubicBezTo>
                <a:lnTo>
                  <a:pt x="523" y="599"/>
                </a:lnTo>
                <a:lnTo>
                  <a:pt x="507" y="605"/>
                </a:lnTo>
                <a:lnTo>
                  <a:pt x="501" y="607"/>
                </a:lnTo>
                <a:lnTo>
                  <a:pt x="492" y="611"/>
                </a:lnTo>
                <a:cubicBezTo>
                  <a:pt x="486" y="613"/>
                  <a:pt x="479" y="612"/>
                  <a:pt x="474" y="606"/>
                </a:cubicBezTo>
                <a:cubicBezTo>
                  <a:pt x="469" y="601"/>
                  <a:pt x="466" y="595"/>
                  <a:pt x="468" y="588"/>
                </a:cubicBezTo>
                <a:lnTo>
                  <a:pt x="524" y="344"/>
                </a:lnTo>
                <a:cubicBezTo>
                  <a:pt x="525" y="337"/>
                  <a:pt x="530" y="332"/>
                  <a:pt x="537" y="329"/>
                </a:cubicBezTo>
                <a:lnTo>
                  <a:pt x="550" y="326"/>
                </a:lnTo>
                <a:lnTo>
                  <a:pt x="562" y="325"/>
                </a:lnTo>
                <a:lnTo>
                  <a:pt x="573" y="323"/>
                </a:lnTo>
                <a:close/>
                <a:moveTo>
                  <a:pt x="7056" y="313"/>
                </a:moveTo>
                <a:cubicBezTo>
                  <a:pt x="7059" y="313"/>
                  <a:pt x="7061" y="313"/>
                  <a:pt x="7064" y="313"/>
                </a:cubicBezTo>
                <a:cubicBezTo>
                  <a:pt x="7073" y="316"/>
                  <a:pt x="7078" y="327"/>
                  <a:pt x="7076" y="336"/>
                </a:cubicBezTo>
                <a:lnTo>
                  <a:pt x="7063" y="405"/>
                </a:lnTo>
                <a:lnTo>
                  <a:pt x="7050" y="471"/>
                </a:lnTo>
                <a:lnTo>
                  <a:pt x="7038" y="532"/>
                </a:lnTo>
                <a:lnTo>
                  <a:pt x="7028" y="591"/>
                </a:lnTo>
                <a:lnTo>
                  <a:pt x="7018" y="647"/>
                </a:lnTo>
                <a:lnTo>
                  <a:pt x="7009" y="699"/>
                </a:lnTo>
                <a:lnTo>
                  <a:pt x="7002" y="748"/>
                </a:lnTo>
                <a:lnTo>
                  <a:pt x="6996" y="795"/>
                </a:lnTo>
                <a:cubicBezTo>
                  <a:pt x="6995" y="803"/>
                  <a:pt x="6989" y="810"/>
                  <a:pt x="6981" y="811"/>
                </a:cubicBezTo>
                <a:lnTo>
                  <a:pt x="6910" y="827"/>
                </a:lnTo>
                <a:cubicBezTo>
                  <a:pt x="6903" y="830"/>
                  <a:pt x="6896" y="827"/>
                  <a:pt x="6892" y="821"/>
                </a:cubicBezTo>
                <a:cubicBezTo>
                  <a:pt x="6888" y="817"/>
                  <a:pt x="6885" y="809"/>
                  <a:pt x="6888" y="803"/>
                </a:cubicBezTo>
                <a:lnTo>
                  <a:pt x="6901" y="763"/>
                </a:lnTo>
                <a:lnTo>
                  <a:pt x="6914" y="719"/>
                </a:lnTo>
                <a:lnTo>
                  <a:pt x="6931" y="668"/>
                </a:lnTo>
                <a:lnTo>
                  <a:pt x="6948" y="612"/>
                </a:lnTo>
                <a:lnTo>
                  <a:pt x="6968" y="549"/>
                </a:lnTo>
                <a:lnTo>
                  <a:pt x="6990" y="480"/>
                </a:lnTo>
                <a:lnTo>
                  <a:pt x="7014" y="406"/>
                </a:lnTo>
                <a:lnTo>
                  <a:pt x="7041" y="326"/>
                </a:lnTo>
                <a:cubicBezTo>
                  <a:pt x="7043" y="319"/>
                  <a:pt x="7050" y="313"/>
                  <a:pt x="7056" y="313"/>
                </a:cubicBezTo>
                <a:close/>
                <a:moveTo>
                  <a:pt x="7705" y="236"/>
                </a:moveTo>
                <a:lnTo>
                  <a:pt x="7700" y="237"/>
                </a:lnTo>
                <a:lnTo>
                  <a:pt x="7697" y="239"/>
                </a:lnTo>
                <a:lnTo>
                  <a:pt x="7695" y="241"/>
                </a:lnTo>
                <a:lnTo>
                  <a:pt x="7690" y="247"/>
                </a:lnTo>
                <a:lnTo>
                  <a:pt x="7684" y="261"/>
                </a:lnTo>
                <a:lnTo>
                  <a:pt x="7677" y="280"/>
                </a:lnTo>
                <a:lnTo>
                  <a:pt x="7670" y="305"/>
                </a:lnTo>
                <a:lnTo>
                  <a:pt x="7642" y="407"/>
                </a:lnTo>
                <a:cubicBezTo>
                  <a:pt x="7639" y="417"/>
                  <a:pt x="7632" y="422"/>
                  <a:pt x="7623" y="422"/>
                </a:cubicBezTo>
                <a:lnTo>
                  <a:pt x="7545" y="419"/>
                </a:lnTo>
                <a:lnTo>
                  <a:pt x="7468" y="418"/>
                </a:lnTo>
                <a:lnTo>
                  <a:pt x="7390" y="419"/>
                </a:lnTo>
                <a:lnTo>
                  <a:pt x="7329" y="421"/>
                </a:lnTo>
                <a:lnTo>
                  <a:pt x="7299" y="682"/>
                </a:lnTo>
                <a:lnTo>
                  <a:pt x="7410" y="675"/>
                </a:lnTo>
                <a:lnTo>
                  <a:pt x="7544" y="675"/>
                </a:lnTo>
                <a:cubicBezTo>
                  <a:pt x="7549" y="675"/>
                  <a:pt x="7556" y="677"/>
                  <a:pt x="7559" y="683"/>
                </a:cubicBezTo>
                <a:cubicBezTo>
                  <a:pt x="7562" y="688"/>
                  <a:pt x="7563" y="693"/>
                  <a:pt x="7562" y="699"/>
                </a:cubicBezTo>
                <a:lnTo>
                  <a:pt x="7509" y="891"/>
                </a:lnTo>
                <a:lnTo>
                  <a:pt x="7502" y="923"/>
                </a:lnTo>
                <a:lnTo>
                  <a:pt x="7496" y="946"/>
                </a:lnTo>
                <a:lnTo>
                  <a:pt x="7494" y="960"/>
                </a:lnTo>
                <a:lnTo>
                  <a:pt x="7494" y="962"/>
                </a:lnTo>
                <a:lnTo>
                  <a:pt x="7498" y="962"/>
                </a:lnTo>
                <a:lnTo>
                  <a:pt x="7506" y="961"/>
                </a:lnTo>
                <a:lnTo>
                  <a:pt x="7513" y="960"/>
                </a:lnTo>
                <a:lnTo>
                  <a:pt x="7517" y="956"/>
                </a:lnTo>
                <a:lnTo>
                  <a:pt x="7522" y="952"/>
                </a:lnTo>
                <a:lnTo>
                  <a:pt x="7524" y="947"/>
                </a:lnTo>
                <a:lnTo>
                  <a:pt x="7527" y="940"/>
                </a:lnTo>
                <a:lnTo>
                  <a:pt x="7531" y="930"/>
                </a:lnTo>
                <a:lnTo>
                  <a:pt x="7536" y="917"/>
                </a:lnTo>
                <a:lnTo>
                  <a:pt x="7541" y="902"/>
                </a:lnTo>
                <a:lnTo>
                  <a:pt x="7547" y="883"/>
                </a:lnTo>
                <a:lnTo>
                  <a:pt x="7552" y="862"/>
                </a:lnTo>
                <a:lnTo>
                  <a:pt x="7559" y="839"/>
                </a:lnTo>
                <a:lnTo>
                  <a:pt x="7580" y="764"/>
                </a:lnTo>
                <a:lnTo>
                  <a:pt x="7587" y="736"/>
                </a:lnTo>
                <a:lnTo>
                  <a:pt x="7590" y="716"/>
                </a:lnTo>
                <a:lnTo>
                  <a:pt x="7591" y="702"/>
                </a:lnTo>
                <a:lnTo>
                  <a:pt x="7590" y="690"/>
                </a:lnTo>
                <a:lnTo>
                  <a:pt x="7587" y="683"/>
                </a:lnTo>
                <a:lnTo>
                  <a:pt x="7583" y="677"/>
                </a:lnTo>
                <a:lnTo>
                  <a:pt x="7579" y="672"/>
                </a:lnTo>
                <a:lnTo>
                  <a:pt x="7571" y="669"/>
                </a:lnTo>
                <a:lnTo>
                  <a:pt x="7566" y="668"/>
                </a:lnTo>
                <a:lnTo>
                  <a:pt x="7558" y="667"/>
                </a:lnTo>
                <a:lnTo>
                  <a:pt x="7548" y="664"/>
                </a:lnTo>
                <a:lnTo>
                  <a:pt x="7535" y="663"/>
                </a:lnTo>
                <a:lnTo>
                  <a:pt x="7518" y="662"/>
                </a:lnTo>
                <a:lnTo>
                  <a:pt x="7502" y="661"/>
                </a:lnTo>
                <a:lnTo>
                  <a:pt x="7481" y="660"/>
                </a:lnTo>
                <a:lnTo>
                  <a:pt x="7459" y="660"/>
                </a:lnTo>
                <a:cubicBezTo>
                  <a:pt x="7452" y="660"/>
                  <a:pt x="7448" y="656"/>
                  <a:pt x="7443" y="652"/>
                </a:cubicBezTo>
                <a:cubicBezTo>
                  <a:pt x="7440" y="647"/>
                  <a:pt x="7439" y="641"/>
                  <a:pt x="7441" y="634"/>
                </a:cubicBezTo>
                <a:lnTo>
                  <a:pt x="7491" y="448"/>
                </a:lnTo>
                <a:cubicBezTo>
                  <a:pt x="7493" y="439"/>
                  <a:pt x="7501" y="433"/>
                  <a:pt x="7509" y="433"/>
                </a:cubicBezTo>
                <a:lnTo>
                  <a:pt x="7537" y="434"/>
                </a:lnTo>
                <a:lnTo>
                  <a:pt x="7562" y="434"/>
                </a:lnTo>
                <a:lnTo>
                  <a:pt x="7583" y="434"/>
                </a:lnTo>
                <a:lnTo>
                  <a:pt x="7602" y="434"/>
                </a:lnTo>
                <a:lnTo>
                  <a:pt x="7617" y="434"/>
                </a:lnTo>
                <a:lnTo>
                  <a:pt x="7630" y="434"/>
                </a:lnTo>
                <a:lnTo>
                  <a:pt x="7639" y="434"/>
                </a:lnTo>
                <a:lnTo>
                  <a:pt x="7643" y="433"/>
                </a:lnTo>
                <a:lnTo>
                  <a:pt x="7651" y="430"/>
                </a:lnTo>
                <a:lnTo>
                  <a:pt x="7657" y="428"/>
                </a:lnTo>
                <a:lnTo>
                  <a:pt x="7663" y="422"/>
                </a:lnTo>
                <a:lnTo>
                  <a:pt x="7669" y="415"/>
                </a:lnTo>
                <a:lnTo>
                  <a:pt x="7675" y="404"/>
                </a:lnTo>
                <a:lnTo>
                  <a:pt x="7681" y="391"/>
                </a:lnTo>
                <a:lnTo>
                  <a:pt x="7687" y="373"/>
                </a:lnTo>
                <a:lnTo>
                  <a:pt x="7693" y="351"/>
                </a:lnTo>
                <a:lnTo>
                  <a:pt x="7710" y="292"/>
                </a:lnTo>
                <a:lnTo>
                  <a:pt x="7717" y="269"/>
                </a:lnTo>
                <a:lnTo>
                  <a:pt x="7719" y="252"/>
                </a:lnTo>
                <a:lnTo>
                  <a:pt x="7720" y="243"/>
                </a:lnTo>
                <a:lnTo>
                  <a:pt x="7720" y="241"/>
                </a:lnTo>
                <a:lnTo>
                  <a:pt x="7718" y="239"/>
                </a:lnTo>
                <a:lnTo>
                  <a:pt x="7710" y="236"/>
                </a:lnTo>
                <a:lnTo>
                  <a:pt x="7705" y="236"/>
                </a:lnTo>
                <a:close/>
                <a:moveTo>
                  <a:pt x="7703" y="197"/>
                </a:moveTo>
                <a:lnTo>
                  <a:pt x="7713" y="197"/>
                </a:lnTo>
                <a:cubicBezTo>
                  <a:pt x="7714" y="197"/>
                  <a:pt x="7717" y="197"/>
                  <a:pt x="7719" y="198"/>
                </a:cubicBezTo>
                <a:lnTo>
                  <a:pt x="7734" y="202"/>
                </a:lnTo>
                <a:cubicBezTo>
                  <a:pt x="7736" y="204"/>
                  <a:pt x="7740" y="206"/>
                  <a:pt x="7742" y="208"/>
                </a:cubicBezTo>
                <a:lnTo>
                  <a:pt x="7751" y="219"/>
                </a:lnTo>
                <a:cubicBezTo>
                  <a:pt x="7754" y="222"/>
                  <a:pt x="7755" y="226"/>
                  <a:pt x="7755" y="229"/>
                </a:cubicBezTo>
                <a:lnTo>
                  <a:pt x="7757" y="239"/>
                </a:lnTo>
                <a:cubicBezTo>
                  <a:pt x="7757" y="240"/>
                  <a:pt x="7757" y="242"/>
                  <a:pt x="7757" y="243"/>
                </a:cubicBezTo>
                <a:lnTo>
                  <a:pt x="7756" y="259"/>
                </a:lnTo>
                <a:lnTo>
                  <a:pt x="7752" y="280"/>
                </a:lnTo>
                <a:lnTo>
                  <a:pt x="7746" y="304"/>
                </a:lnTo>
                <a:lnTo>
                  <a:pt x="7729" y="364"/>
                </a:lnTo>
                <a:lnTo>
                  <a:pt x="7722" y="387"/>
                </a:lnTo>
                <a:lnTo>
                  <a:pt x="7714" y="408"/>
                </a:lnTo>
                <a:lnTo>
                  <a:pt x="7706" y="427"/>
                </a:lnTo>
                <a:lnTo>
                  <a:pt x="7697" y="441"/>
                </a:lnTo>
                <a:lnTo>
                  <a:pt x="7689" y="450"/>
                </a:lnTo>
                <a:cubicBezTo>
                  <a:pt x="7689" y="451"/>
                  <a:pt x="7688" y="451"/>
                  <a:pt x="7687" y="453"/>
                </a:cubicBezTo>
                <a:lnTo>
                  <a:pt x="7678" y="460"/>
                </a:lnTo>
                <a:cubicBezTo>
                  <a:pt x="7677" y="461"/>
                  <a:pt x="7676" y="461"/>
                  <a:pt x="7675" y="462"/>
                </a:cubicBezTo>
                <a:lnTo>
                  <a:pt x="7666" y="467"/>
                </a:lnTo>
                <a:cubicBezTo>
                  <a:pt x="7665" y="468"/>
                  <a:pt x="7664" y="468"/>
                  <a:pt x="7663" y="468"/>
                </a:cubicBezTo>
                <a:lnTo>
                  <a:pt x="7653" y="471"/>
                </a:lnTo>
                <a:cubicBezTo>
                  <a:pt x="7652" y="471"/>
                  <a:pt x="7651" y="472"/>
                  <a:pt x="7649" y="472"/>
                </a:cubicBezTo>
                <a:lnTo>
                  <a:pt x="7642" y="474"/>
                </a:lnTo>
                <a:lnTo>
                  <a:pt x="7631" y="474"/>
                </a:lnTo>
                <a:lnTo>
                  <a:pt x="7617" y="474"/>
                </a:lnTo>
                <a:lnTo>
                  <a:pt x="7602" y="474"/>
                </a:lnTo>
                <a:lnTo>
                  <a:pt x="7583" y="474"/>
                </a:lnTo>
                <a:lnTo>
                  <a:pt x="7561" y="474"/>
                </a:lnTo>
                <a:lnTo>
                  <a:pt x="7537" y="474"/>
                </a:lnTo>
                <a:lnTo>
                  <a:pt x="7523" y="474"/>
                </a:lnTo>
                <a:lnTo>
                  <a:pt x="7483" y="620"/>
                </a:lnTo>
                <a:lnTo>
                  <a:pt x="7503" y="621"/>
                </a:lnTo>
                <a:lnTo>
                  <a:pt x="7523" y="622"/>
                </a:lnTo>
                <a:lnTo>
                  <a:pt x="7538" y="624"/>
                </a:lnTo>
                <a:lnTo>
                  <a:pt x="7553" y="626"/>
                </a:lnTo>
                <a:lnTo>
                  <a:pt x="7566" y="628"/>
                </a:lnTo>
                <a:lnTo>
                  <a:pt x="7577" y="629"/>
                </a:lnTo>
                <a:lnTo>
                  <a:pt x="7583" y="632"/>
                </a:lnTo>
                <a:cubicBezTo>
                  <a:pt x="7584" y="633"/>
                  <a:pt x="7585" y="633"/>
                  <a:pt x="7587" y="634"/>
                </a:cubicBezTo>
                <a:lnTo>
                  <a:pt x="7596" y="639"/>
                </a:lnTo>
                <a:cubicBezTo>
                  <a:pt x="7599" y="640"/>
                  <a:pt x="7600" y="641"/>
                  <a:pt x="7601" y="641"/>
                </a:cubicBezTo>
                <a:lnTo>
                  <a:pt x="7609" y="649"/>
                </a:lnTo>
                <a:cubicBezTo>
                  <a:pt x="7611" y="650"/>
                  <a:pt x="7611" y="652"/>
                  <a:pt x="7612" y="653"/>
                </a:cubicBezTo>
                <a:lnTo>
                  <a:pt x="7619" y="662"/>
                </a:lnTo>
                <a:cubicBezTo>
                  <a:pt x="7620" y="663"/>
                  <a:pt x="7621" y="665"/>
                  <a:pt x="7621" y="667"/>
                </a:cubicBezTo>
                <a:lnTo>
                  <a:pt x="7625" y="678"/>
                </a:lnTo>
                <a:cubicBezTo>
                  <a:pt x="7625" y="679"/>
                  <a:pt x="7626" y="682"/>
                  <a:pt x="7626" y="683"/>
                </a:cubicBezTo>
                <a:lnTo>
                  <a:pt x="7628" y="698"/>
                </a:lnTo>
                <a:cubicBezTo>
                  <a:pt x="7628" y="699"/>
                  <a:pt x="7628" y="700"/>
                  <a:pt x="7628" y="702"/>
                </a:cubicBezTo>
                <a:lnTo>
                  <a:pt x="7626" y="722"/>
                </a:lnTo>
                <a:lnTo>
                  <a:pt x="7623" y="747"/>
                </a:lnTo>
                <a:lnTo>
                  <a:pt x="7615" y="775"/>
                </a:lnTo>
                <a:lnTo>
                  <a:pt x="7595" y="850"/>
                </a:lnTo>
                <a:lnTo>
                  <a:pt x="7589" y="874"/>
                </a:lnTo>
                <a:lnTo>
                  <a:pt x="7582" y="896"/>
                </a:lnTo>
                <a:lnTo>
                  <a:pt x="7577" y="914"/>
                </a:lnTo>
                <a:lnTo>
                  <a:pt x="7571" y="931"/>
                </a:lnTo>
                <a:lnTo>
                  <a:pt x="7566" y="946"/>
                </a:lnTo>
                <a:lnTo>
                  <a:pt x="7561" y="958"/>
                </a:lnTo>
                <a:lnTo>
                  <a:pt x="7556" y="968"/>
                </a:lnTo>
                <a:lnTo>
                  <a:pt x="7552" y="974"/>
                </a:lnTo>
                <a:cubicBezTo>
                  <a:pt x="7551" y="975"/>
                  <a:pt x="7551" y="975"/>
                  <a:pt x="7550" y="977"/>
                </a:cubicBezTo>
                <a:lnTo>
                  <a:pt x="7542" y="985"/>
                </a:lnTo>
                <a:cubicBezTo>
                  <a:pt x="7541" y="987"/>
                  <a:pt x="7540" y="988"/>
                  <a:pt x="7539" y="988"/>
                </a:cubicBezTo>
                <a:lnTo>
                  <a:pt x="7530" y="994"/>
                </a:lnTo>
                <a:cubicBezTo>
                  <a:pt x="7529" y="995"/>
                  <a:pt x="7528" y="996"/>
                  <a:pt x="7526" y="996"/>
                </a:cubicBezTo>
                <a:lnTo>
                  <a:pt x="7516" y="999"/>
                </a:lnTo>
                <a:cubicBezTo>
                  <a:pt x="7515" y="1001"/>
                  <a:pt x="7514" y="1001"/>
                  <a:pt x="7512" y="1001"/>
                </a:cubicBezTo>
                <a:lnTo>
                  <a:pt x="7502" y="1002"/>
                </a:lnTo>
                <a:cubicBezTo>
                  <a:pt x="7499" y="1002"/>
                  <a:pt x="7498" y="1002"/>
                  <a:pt x="7497" y="1002"/>
                </a:cubicBezTo>
                <a:lnTo>
                  <a:pt x="7488" y="1001"/>
                </a:lnTo>
                <a:cubicBezTo>
                  <a:pt x="7486" y="1001"/>
                  <a:pt x="7485" y="1001"/>
                  <a:pt x="7484" y="1001"/>
                </a:cubicBezTo>
                <a:lnTo>
                  <a:pt x="7477" y="998"/>
                </a:lnTo>
                <a:cubicBezTo>
                  <a:pt x="7475" y="997"/>
                  <a:pt x="7473" y="996"/>
                  <a:pt x="7472" y="995"/>
                </a:cubicBezTo>
                <a:lnTo>
                  <a:pt x="7466" y="991"/>
                </a:lnTo>
                <a:cubicBezTo>
                  <a:pt x="7464" y="988"/>
                  <a:pt x="7462" y="985"/>
                  <a:pt x="7461" y="982"/>
                </a:cubicBezTo>
                <a:lnTo>
                  <a:pt x="7458" y="976"/>
                </a:lnTo>
                <a:cubicBezTo>
                  <a:pt x="7458" y="974"/>
                  <a:pt x="7456" y="971"/>
                  <a:pt x="7456" y="968"/>
                </a:cubicBezTo>
                <a:lnTo>
                  <a:pt x="7456" y="959"/>
                </a:lnTo>
                <a:cubicBezTo>
                  <a:pt x="7456" y="958"/>
                  <a:pt x="7456" y="956"/>
                  <a:pt x="7458" y="955"/>
                </a:cubicBezTo>
                <a:lnTo>
                  <a:pt x="7460" y="937"/>
                </a:lnTo>
                <a:lnTo>
                  <a:pt x="7465" y="912"/>
                </a:lnTo>
                <a:lnTo>
                  <a:pt x="7474" y="881"/>
                </a:lnTo>
                <a:lnTo>
                  <a:pt x="7519" y="714"/>
                </a:lnTo>
                <a:lnTo>
                  <a:pt x="7411" y="714"/>
                </a:lnTo>
                <a:lnTo>
                  <a:pt x="7279" y="721"/>
                </a:lnTo>
                <a:cubicBezTo>
                  <a:pt x="7273" y="722"/>
                  <a:pt x="7268" y="720"/>
                  <a:pt x="7264" y="716"/>
                </a:cubicBezTo>
                <a:cubicBezTo>
                  <a:pt x="7260" y="711"/>
                  <a:pt x="7258" y="705"/>
                  <a:pt x="7259" y="699"/>
                </a:cubicBezTo>
                <a:lnTo>
                  <a:pt x="7293" y="399"/>
                </a:lnTo>
                <a:cubicBezTo>
                  <a:pt x="7294" y="389"/>
                  <a:pt x="7302" y="382"/>
                  <a:pt x="7311" y="382"/>
                </a:cubicBezTo>
                <a:lnTo>
                  <a:pt x="7389" y="378"/>
                </a:lnTo>
                <a:lnTo>
                  <a:pt x="7469" y="377"/>
                </a:lnTo>
                <a:lnTo>
                  <a:pt x="7547" y="378"/>
                </a:lnTo>
                <a:lnTo>
                  <a:pt x="7610" y="382"/>
                </a:lnTo>
                <a:lnTo>
                  <a:pt x="7634" y="293"/>
                </a:lnTo>
                <a:lnTo>
                  <a:pt x="7643" y="266"/>
                </a:lnTo>
                <a:lnTo>
                  <a:pt x="7651" y="243"/>
                </a:lnTo>
                <a:lnTo>
                  <a:pt x="7657" y="228"/>
                </a:lnTo>
                <a:cubicBezTo>
                  <a:pt x="7658" y="227"/>
                  <a:pt x="7658" y="227"/>
                  <a:pt x="7658" y="226"/>
                </a:cubicBezTo>
                <a:lnTo>
                  <a:pt x="7665" y="216"/>
                </a:lnTo>
                <a:cubicBezTo>
                  <a:pt x="7666" y="215"/>
                  <a:pt x="7667" y="214"/>
                  <a:pt x="7668" y="213"/>
                </a:cubicBezTo>
                <a:lnTo>
                  <a:pt x="7675" y="207"/>
                </a:lnTo>
                <a:cubicBezTo>
                  <a:pt x="7676" y="206"/>
                  <a:pt x="7677" y="205"/>
                  <a:pt x="7679" y="204"/>
                </a:cubicBezTo>
                <a:lnTo>
                  <a:pt x="7687" y="200"/>
                </a:lnTo>
                <a:cubicBezTo>
                  <a:pt x="7688" y="200"/>
                  <a:pt x="7689" y="199"/>
                  <a:pt x="7691" y="199"/>
                </a:cubicBezTo>
                <a:lnTo>
                  <a:pt x="7699" y="197"/>
                </a:lnTo>
                <a:cubicBezTo>
                  <a:pt x="7700" y="197"/>
                  <a:pt x="7702" y="197"/>
                  <a:pt x="7703" y="197"/>
                </a:cubicBezTo>
                <a:close/>
                <a:moveTo>
                  <a:pt x="754" y="106"/>
                </a:moveTo>
                <a:lnTo>
                  <a:pt x="732" y="107"/>
                </a:lnTo>
                <a:lnTo>
                  <a:pt x="708" y="109"/>
                </a:lnTo>
                <a:lnTo>
                  <a:pt x="680" y="113"/>
                </a:lnTo>
                <a:lnTo>
                  <a:pt x="652" y="119"/>
                </a:lnTo>
                <a:lnTo>
                  <a:pt x="621" y="126"/>
                </a:lnTo>
                <a:lnTo>
                  <a:pt x="587" y="134"/>
                </a:lnTo>
                <a:lnTo>
                  <a:pt x="511" y="157"/>
                </a:lnTo>
                <a:lnTo>
                  <a:pt x="436" y="183"/>
                </a:lnTo>
                <a:lnTo>
                  <a:pt x="362" y="211"/>
                </a:lnTo>
                <a:lnTo>
                  <a:pt x="298" y="237"/>
                </a:lnTo>
                <a:lnTo>
                  <a:pt x="232" y="556"/>
                </a:lnTo>
                <a:lnTo>
                  <a:pt x="164" y="887"/>
                </a:lnTo>
                <a:lnTo>
                  <a:pt x="100" y="1219"/>
                </a:lnTo>
                <a:lnTo>
                  <a:pt x="46" y="1511"/>
                </a:lnTo>
                <a:lnTo>
                  <a:pt x="91" y="1483"/>
                </a:lnTo>
                <a:lnTo>
                  <a:pt x="171" y="1437"/>
                </a:lnTo>
                <a:lnTo>
                  <a:pt x="254" y="1393"/>
                </a:lnTo>
                <a:lnTo>
                  <a:pt x="337" y="1352"/>
                </a:lnTo>
                <a:lnTo>
                  <a:pt x="378" y="1333"/>
                </a:lnTo>
                <a:lnTo>
                  <a:pt x="416" y="1316"/>
                </a:lnTo>
                <a:lnTo>
                  <a:pt x="451" y="1300"/>
                </a:lnTo>
                <a:lnTo>
                  <a:pt x="482" y="1284"/>
                </a:lnTo>
                <a:lnTo>
                  <a:pt x="509" y="1272"/>
                </a:lnTo>
                <a:lnTo>
                  <a:pt x="535" y="1260"/>
                </a:lnTo>
                <a:lnTo>
                  <a:pt x="556" y="1247"/>
                </a:lnTo>
                <a:lnTo>
                  <a:pt x="572" y="1238"/>
                </a:lnTo>
                <a:lnTo>
                  <a:pt x="602" y="1216"/>
                </a:lnTo>
                <a:lnTo>
                  <a:pt x="630" y="1190"/>
                </a:lnTo>
                <a:lnTo>
                  <a:pt x="654" y="1162"/>
                </a:lnTo>
                <a:lnTo>
                  <a:pt x="675" y="1130"/>
                </a:lnTo>
                <a:lnTo>
                  <a:pt x="695" y="1092"/>
                </a:lnTo>
                <a:lnTo>
                  <a:pt x="714" y="1049"/>
                </a:lnTo>
                <a:lnTo>
                  <a:pt x="731" y="998"/>
                </a:lnTo>
                <a:lnTo>
                  <a:pt x="748" y="940"/>
                </a:lnTo>
                <a:lnTo>
                  <a:pt x="774" y="831"/>
                </a:lnTo>
                <a:lnTo>
                  <a:pt x="781" y="803"/>
                </a:lnTo>
                <a:lnTo>
                  <a:pt x="785" y="777"/>
                </a:lnTo>
                <a:lnTo>
                  <a:pt x="788" y="754"/>
                </a:lnTo>
                <a:lnTo>
                  <a:pt x="789" y="733"/>
                </a:lnTo>
                <a:lnTo>
                  <a:pt x="789" y="714"/>
                </a:lnTo>
                <a:lnTo>
                  <a:pt x="787" y="699"/>
                </a:lnTo>
                <a:lnTo>
                  <a:pt x="784" y="685"/>
                </a:lnTo>
                <a:lnTo>
                  <a:pt x="779" y="672"/>
                </a:lnTo>
                <a:lnTo>
                  <a:pt x="775" y="664"/>
                </a:lnTo>
                <a:lnTo>
                  <a:pt x="767" y="657"/>
                </a:lnTo>
                <a:lnTo>
                  <a:pt x="759" y="650"/>
                </a:lnTo>
                <a:lnTo>
                  <a:pt x="749" y="646"/>
                </a:lnTo>
                <a:lnTo>
                  <a:pt x="735" y="642"/>
                </a:lnTo>
                <a:lnTo>
                  <a:pt x="720" y="641"/>
                </a:lnTo>
                <a:lnTo>
                  <a:pt x="701" y="641"/>
                </a:lnTo>
                <a:lnTo>
                  <a:pt x="678" y="643"/>
                </a:lnTo>
                <a:cubicBezTo>
                  <a:pt x="669" y="645"/>
                  <a:pt x="660" y="638"/>
                  <a:pt x="658" y="628"/>
                </a:cubicBezTo>
                <a:cubicBezTo>
                  <a:pt x="656" y="619"/>
                  <a:pt x="662" y="608"/>
                  <a:pt x="670" y="605"/>
                </a:cubicBezTo>
                <a:lnTo>
                  <a:pt x="710" y="590"/>
                </a:lnTo>
                <a:lnTo>
                  <a:pt x="744" y="572"/>
                </a:lnTo>
                <a:lnTo>
                  <a:pt x="774" y="551"/>
                </a:lnTo>
                <a:lnTo>
                  <a:pt x="797" y="529"/>
                </a:lnTo>
                <a:lnTo>
                  <a:pt x="817" y="503"/>
                </a:lnTo>
                <a:lnTo>
                  <a:pt x="835" y="470"/>
                </a:lnTo>
                <a:lnTo>
                  <a:pt x="851" y="429"/>
                </a:lnTo>
                <a:lnTo>
                  <a:pt x="865" y="379"/>
                </a:lnTo>
                <a:lnTo>
                  <a:pt x="874" y="343"/>
                </a:lnTo>
                <a:lnTo>
                  <a:pt x="881" y="309"/>
                </a:lnTo>
                <a:lnTo>
                  <a:pt x="884" y="279"/>
                </a:lnTo>
                <a:lnTo>
                  <a:pt x="888" y="252"/>
                </a:lnTo>
                <a:lnTo>
                  <a:pt x="888" y="227"/>
                </a:lnTo>
                <a:lnTo>
                  <a:pt x="885" y="207"/>
                </a:lnTo>
                <a:lnTo>
                  <a:pt x="882" y="188"/>
                </a:lnTo>
                <a:lnTo>
                  <a:pt x="876" y="173"/>
                </a:lnTo>
                <a:lnTo>
                  <a:pt x="861" y="148"/>
                </a:lnTo>
                <a:lnTo>
                  <a:pt x="842" y="129"/>
                </a:lnTo>
                <a:lnTo>
                  <a:pt x="819" y="115"/>
                </a:lnTo>
                <a:lnTo>
                  <a:pt x="791" y="108"/>
                </a:lnTo>
                <a:lnTo>
                  <a:pt x="774" y="107"/>
                </a:lnTo>
                <a:lnTo>
                  <a:pt x="754" y="106"/>
                </a:lnTo>
                <a:close/>
                <a:moveTo>
                  <a:pt x="753" y="66"/>
                </a:moveTo>
                <a:lnTo>
                  <a:pt x="775" y="67"/>
                </a:lnTo>
                <a:lnTo>
                  <a:pt x="795" y="69"/>
                </a:lnTo>
                <a:cubicBezTo>
                  <a:pt x="796" y="70"/>
                  <a:pt x="797" y="70"/>
                  <a:pt x="798" y="70"/>
                </a:cubicBezTo>
                <a:lnTo>
                  <a:pt x="830" y="78"/>
                </a:lnTo>
                <a:cubicBezTo>
                  <a:pt x="832" y="79"/>
                  <a:pt x="833" y="79"/>
                  <a:pt x="835" y="80"/>
                </a:cubicBezTo>
                <a:lnTo>
                  <a:pt x="862" y="95"/>
                </a:lnTo>
                <a:cubicBezTo>
                  <a:pt x="864" y="97"/>
                  <a:pt x="865" y="98"/>
                  <a:pt x="867" y="99"/>
                </a:cubicBezTo>
                <a:lnTo>
                  <a:pt x="889" y="121"/>
                </a:lnTo>
                <a:cubicBezTo>
                  <a:pt x="890" y="122"/>
                  <a:pt x="891" y="123"/>
                  <a:pt x="892" y="126"/>
                </a:cubicBezTo>
                <a:lnTo>
                  <a:pt x="910" y="154"/>
                </a:lnTo>
                <a:cubicBezTo>
                  <a:pt x="910" y="155"/>
                  <a:pt x="911" y="156"/>
                  <a:pt x="911" y="157"/>
                </a:cubicBezTo>
                <a:lnTo>
                  <a:pt x="917" y="176"/>
                </a:lnTo>
                <a:lnTo>
                  <a:pt x="922" y="198"/>
                </a:lnTo>
                <a:lnTo>
                  <a:pt x="924" y="225"/>
                </a:lnTo>
                <a:lnTo>
                  <a:pt x="924" y="252"/>
                </a:lnTo>
                <a:lnTo>
                  <a:pt x="922" y="283"/>
                </a:lnTo>
                <a:lnTo>
                  <a:pt x="917" y="315"/>
                </a:lnTo>
                <a:lnTo>
                  <a:pt x="911" y="350"/>
                </a:lnTo>
                <a:lnTo>
                  <a:pt x="902" y="389"/>
                </a:lnTo>
                <a:lnTo>
                  <a:pt x="888" y="440"/>
                </a:lnTo>
                <a:lnTo>
                  <a:pt x="869" y="485"/>
                </a:lnTo>
                <a:lnTo>
                  <a:pt x="849" y="524"/>
                </a:lnTo>
                <a:cubicBezTo>
                  <a:pt x="849" y="525"/>
                  <a:pt x="848" y="525"/>
                  <a:pt x="848" y="526"/>
                </a:cubicBezTo>
                <a:lnTo>
                  <a:pt x="825" y="555"/>
                </a:lnTo>
                <a:cubicBezTo>
                  <a:pt x="825" y="556"/>
                  <a:pt x="824" y="556"/>
                  <a:pt x="824" y="557"/>
                </a:cubicBezTo>
                <a:lnTo>
                  <a:pt x="797" y="582"/>
                </a:lnTo>
                <a:cubicBezTo>
                  <a:pt x="797" y="582"/>
                  <a:pt x="796" y="583"/>
                  <a:pt x="795" y="584"/>
                </a:cubicBezTo>
                <a:lnTo>
                  <a:pt x="764" y="605"/>
                </a:lnTo>
                <a:lnTo>
                  <a:pt x="759" y="608"/>
                </a:lnTo>
                <a:cubicBezTo>
                  <a:pt x="760" y="608"/>
                  <a:pt x="761" y="608"/>
                  <a:pt x="762" y="610"/>
                </a:cubicBezTo>
                <a:lnTo>
                  <a:pt x="775" y="615"/>
                </a:lnTo>
                <a:cubicBezTo>
                  <a:pt x="776" y="615"/>
                  <a:pt x="777" y="617"/>
                  <a:pt x="778" y="617"/>
                </a:cubicBezTo>
                <a:lnTo>
                  <a:pt x="789" y="626"/>
                </a:lnTo>
                <a:cubicBezTo>
                  <a:pt x="791" y="626"/>
                  <a:pt x="792" y="627"/>
                  <a:pt x="793" y="628"/>
                </a:cubicBezTo>
                <a:lnTo>
                  <a:pt x="803" y="638"/>
                </a:lnTo>
                <a:cubicBezTo>
                  <a:pt x="804" y="639"/>
                  <a:pt x="804" y="640"/>
                  <a:pt x="805" y="641"/>
                </a:cubicBezTo>
                <a:lnTo>
                  <a:pt x="811" y="654"/>
                </a:lnTo>
                <a:cubicBezTo>
                  <a:pt x="813" y="655"/>
                  <a:pt x="814" y="656"/>
                  <a:pt x="814" y="657"/>
                </a:cubicBezTo>
                <a:lnTo>
                  <a:pt x="819" y="671"/>
                </a:lnTo>
                <a:lnTo>
                  <a:pt x="824" y="690"/>
                </a:lnTo>
                <a:lnTo>
                  <a:pt x="826" y="711"/>
                </a:lnTo>
                <a:lnTo>
                  <a:pt x="827" y="733"/>
                </a:lnTo>
                <a:lnTo>
                  <a:pt x="825" y="756"/>
                </a:lnTo>
                <a:lnTo>
                  <a:pt x="822" y="783"/>
                </a:lnTo>
                <a:lnTo>
                  <a:pt x="817" y="811"/>
                </a:lnTo>
                <a:lnTo>
                  <a:pt x="810" y="840"/>
                </a:lnTo>
                <a:lnTo>
                  <a:pt x="783" y="951"/>
                </a:lnTo>
                <a:lnTo>
                  <a:pt x="767" y="1009"/>
                </a:lnTo>
                <a:lnTo>
                  <a:pt x="749" y="1062"/>
                </a:lnTo>
                <a:lnTo>
                  <a:pt x="729" y="1109"/>
                </a:lnTo>
                <a:lnTo>
                  <a:pt x="708" y="1149"/>
                </a:lnTo>
                <a:lnTo>
                  <a:pt x="684" y="1184"/>
                </a:lnTo>
                <a:lnTo>
                  <a:pt x="657" y="1217"/>
                </a:lnTo>
                <a:lnTo>
                  <a:pt x="627" y="1245"/>
                </a:lnTo>
                <a:lnTo>
                  <a:pt x="594" y="1269"/>
                </a:lnTo>
                <a:lnTo>
                  <a:pt x="574" y="1282"/>
                </a:lnTo>
                <a:lnTo>
                  <a:pt x="551" y="1295"/>
                </a:lnTo>
                <a:lnTo>
                  <a:pt x="526" y="1308"/>
                </a:lnTo>
                <a:lnTo>
                  <a:pt x="497" y="1320"/>
                </a:lnTo>
                <a:lnTo>
                  <a:pt x="466" y="1336"/>
                </a:lnTo>
                <a:lnTo>
                  <a:pt x="431" y="1352"/>
                </a:lnTo>
                <a:lnTo>
                  <a:pt x="393" y="1369"/>
                </a:lnTo>
                <a:lnTo>
                  <a:pt x="352" y="1388"/>
                </a:lnTo>
                <a:lnTo>
                  <a:pt x="269" y="1429"/>
                </a:lnTo>
                <a:lnTo>
                  <a:pt x="188" y="1472"/>
                </a:lnTo>
                <a:lnTo>
                  <a:pt x="108" y="1518"/>
                </a:lnTo>
                <a:lnTo>
                  <a:pt x="29" y="1568"/>
                </a:lnTo>
                <a:cubicBezTo>
                  <a:pt x="23" y="1572"/>
                  <a:pt x="16" y="1572"/>
                  <a:pt x="9" y="1567"/>
                </a:cubicBezTo>
                <a:cubicBezTo>
                  <a:pt x="3" y="1562"/>
                  <a:pt x="0" y="1556"/>
                  <a:pt x="1" y="1547"/>
                </a:cubicBezTo>
                <a:lnTo>
                  <a:pt x="64" y="1211"/>
                </a:lnTo>
                <a:lnTo>
                  <a:pt x="128" y="877"/>
                </a:lnTo>
                <a:lnTo>
                  <a:pt x="195" y="548"/>
                </a:lnTo>
                <a:lnTo>
                  <a:pt x="264" y="219"/>
                </a:lnTo>
                <a:cubicBezTo>
                  <a:pt x="265" y="212"/>
                  <a:pt x="269" y="207"/>
                  <a:pt x="275" y="205"/>
                </a:cubicBezTo>
                <a:lnTo>
                  <a:pt x="348" y="175"/>
                </a:lnTo>
                <a:lnTo>
                  <a:pt x="423" y="145"/>
                </a:lnTo>
                <a:lnTo>
                  <a:pt x="499" y="120"/>
                </a:lnTo>
                <a:lnTo>
                  <a:pt x="577" y="97"/>
                </a:lnTo>
                <a:lnTo>
                  <a:pt x="611" y="87"/>
                </a:lnTo>
                <a:lnTo>
                  <a:pt x="643" y="79"/>
                </a:lnTo>
                <a:lnTo>
                  <a:pt x="674" y="73"/>
                </a:lnTo>
                <a:lnTo>
                  <a:pt x="702" y="70"/>
                </a:lnTo>
                <a:lnTo>
                  <a:pt x="729" y="67"/>
                </a:lnTo>
                <a:lnTo>
                  <a:pt x="753" y="66"/>
                </a:lnTo>
                <a:close/>
                <a:moveTo>
                  <a:pt x="1673" y="66"/>
                </a:moveTo>
                <a:lnTo>
                  <a:pt x="1629" y="70"/>
                </a:lnTo>
                <a:lnTo>
                  <a:pt x="1586" y="78"/>
                </a:lnTo>
                <a:lnTo>
                  <a:pt x="1547" y="91"/>
                </a:lnTo>
                <a:lnTo>
                  <a:pt x="1509" y="107"/>
                </a:lnTo>
                <a:lnTo>
                  <a:pt x="1476" y="127"/>
                </a:lnTo>
                <a:lnTo>
                  <a:pt x="1445" y="150"/>
                </a:lnTo>
                <a:lnTo>
                  <a:pt x="1419" y="177"/>
                </a:lnTo>
                <a:lnTo>
                  <a:pt x="1396" y="202"/>
                </a:lnTo>
                <a:lnTo>
                  <a:pt x="1378" y="230"/>
                </a:lnTo>
                <a:lnTo>
                  <a:pt x="1364" y="258"/>
                </a:lnTo>
                <a:lnTo>
                  <a:pt x="1357" y="273"/>
                </a:lnTo>
                <a:lnTo>
                  <a:pt x="1351" y="291"/>
                </a:lnTo>
                <a:lnTo>
                  <a:pt x="1344" y="309"/>
                </a:lnTo>
                <a:lnTo>
                  <a:pt x="1337" y="332"/>
                </a:lnTo>
                <a:lnTo>
                  <a:pt x="1330" y="355"/>
                </a:lnTo>
                <a:lnTo>
                  <a:pt x="1322" y="379"/>
                </a:lnTo>
                <a:lnTo>
                  <a:pt x="1314" y="407"/>
                </a:lnTo>
                <a:lnTo>
                  <a:pt x="1306" y="437"/>
                </a:lnTo>
                <a:lnTo>
                  <a:pt x="1219" y="760"/>
                </a:lnTo>
                <a:lnTo>
                  <a:pt x="1209" y="799"/>
                </a:lnTo>
                <a:lnTo>
                  <a:pt x="1201" y="838"/>
                </a:lnTo>
                <a:lnTo>
                  <a:pt x="1194" y="871"/>
                </a:lnTo>
                <a:lnTo>
                  <a:pt x="1188" y="904"/>
                </a:lnTo>
                <a:lnTo>
                  <a:pt x="1184" y="933"/>
                </a:lnTo>
                <a:lnTo>
                  <a:pt x="1182" y="960"/>
                </a:lnTo>
                <a:lnTo>
                  <a:pt x="1181" y="983"/>
                </a:lnTo>
                <a:lnTo>
                  <a:pt x="1182" y="1003"/>
                </a:lnTo>
                <a:lnTo>
                  <a:pt x="1184" y="1021"/>
                </a:lnTo>
                <a:lnTo>
                  <a:pt x="1188" y="1039"/>
                </a:lnTo>
                <a:lnTo>
                  <a:pt x="1194" y="1053"/>
                </a:lnTo>
                <a:lnTo>
                  <a:pt x="1202" y="1068"/>
                </a:lnTo>
                <a:lnTo>
                  <a:pt x="1212" y="1081"/>
                </a:lnTo>
                <a:lnTo>
                  <a:pt x="1224" y="1094"/>
                </a:lnTo>
                <a:lnTo>
                  <a:pt x="1239" y="1106"/>
                </a:lnTo>
                <a:lnTo>
                  <a:pt x="1256" y="1117"/>
                </a:lnTo>
                <a:lnTo>
                  <a:pt x="1274" y="1127"/>
                </a:lnTo>
                <a:lnTo>
                  <a:pt x="1295" y="1136"/>
                </a:lnTo>
                <a:lnTo>
                  <a:pt x="1319" y="1144"/>
                </a:lnTo>
                <a:lnTo>
                  <a:pt x="1343" y="1149"/>
                </a:lnTo>
                <a:lnTo>
                  <a:pt x="1370" y="1155"/>
                </a:lnTo>
                <a:lnTo>
                  <a:pt x="1399" y="1160"/>
                </a:lnTo>
                <a:lnTo>
                  <a:pt x="1430" y="1162"/>
                </a:lnTo>
                <a:lnTo>
                  <a:pt x="1462" y="1165"/>
                </a:lnTo>
                <a:lnTo>
                  <a:pt x="1525" y="1165"/>
                </a:lnTo>
                <a:lnTo>
                  <a:pt x="1584" y="1160"/>
                </a:lnTo>
                <a:lnTo>
                  <a:pt x="1640" y="1148"/>
                </a:lnTo>
                <a:lnTo>
                  <a:pt x="1693" y="1131"/>
                </a:lnTo>
                <a:lnTo>
                  <a:pt x="1719" y="1120"/>
                </a:lnTo>
                <a:lnTo>
                  <a:pt x="1741" y="1109"/>
                </a:lnTo>
                <a:lnTo>
                  <a:pt x="1762" y="1097"/>
                </a:lnTo>
                <a:lnTo>
                  <a:pt x="1780" y="1085"/>
                </a:lnTo>
                <a:lnTo>
                  <a:pt x="1798" y="1073"/>
                </a:lnTo>
                <a:lnTo>
                  <a:pt x="1813" y="1059"/>
                </a:lnTo>
                <a:lnTo>
                  <a:pt x="1827" y="1045"/>
                </a:lnTo>
                <a:lnTo>
                  <a:pt x="1838" y="1031"/>
                </a:lnTo>
                <a:lnTo>
                  <a:pt x="1849" y="1013"/>
                </a:lnTo>
                <a:lnTo>
                  <a:pt x="1860" y="994"/>
                </a:lnTo>
                <a:lnTo>
                  <a:pt x="1871" y="970"/>
                </a:lnTo>
                <a:lnTo>
                  <a:pt x="1882" y="945"/>
                </a:lnTo>
                <a:lnTo>
                  <a:pt x="1894" y="916"/>
                </a:lnTo>
                <a:lnTo>
                  <a:pt x="1905" y="883"/>
                </a:lnTo>
                <a:lnTo>
                  <a:pt x="1916" y="848"/>
                </a:lnTo>
                <a:lnTo>
                  <a:pt x="1927" y="810"/>
                </a:lnTo>
                <a:lnTo>
                  <a:pt x="1937" y="777"/>
                </a:lnTo>
                <a:lnTo>
                  <a:pt x="1794" y="752"/>
                </a:lnTo>
                <a:lnTo>
                  <a:pt x="1711" y="740"/>
                </a:lnTo>
                <a:lnTo>
                  <a:pt x="1644" y="731"/>
                </a:lnTo>
                <a:lnTo>
                  <a:pt x="1607" y="861"/>
                </a:lnTo>
                <a:lnTo>
                  <a:pt x="1602" y="882"/>
                </a:lnTo>
                <a:lnTo>
                  <a:pt x="1596" y="900"/>
                </a:lnTo>
                <a:lnTo>
                  <a:pt x="1591" y="917"/>
                </a:lnTo>
                <a:lnTo>
                  <a:pt x="1586" y="931"/>
                </a:lnTo>
                <a:lnTo>
                  <a:pt x="1582" y="944"/>
                </a:lnTo>
                <a:lnTo>
                  <a:pt x="1576" y="954"/>
                </a:lnTo>
                <a:lnTo>
                  <a:pt x="1572" y="963"/>
                </a:lnTo>
                <a:lnTo>
                  <a:pt x="1569" y="969"/>
                </a:lnTo>
                <a:cubicBezTo>
                  <a:pt x="1568" y="970"/>
                  <a:pt x="1568" y="971"/>
                  <a:pt x="1567" y="973"/>
                </a:cubicBezTo>
                <a:lnTo>
                  <a:pt x="1559" y="980"/>
                </a:lnTo>
                <a:cubicBezTo>
                  <a:pt x="1558" y="981"/>
                  <a:pt x="1557" y="982"/>
                  <a:pt x="1556" y="983"/>
                </a:cubicBezTo>
                <a:lnTo>
                  <a:pt x="1547" y="988"/>
                </a:lnTo>
                <a:cubicBezTo>
                  <a:pt x="1546" y="989"/>
                  <a:pt x="1543" y="990"/>
                  <a:pt x="1542" y="990"/>
                </a:cubicBezTo>
                <a:lnTo>
                  <a:pt x="1532" y="994"/>
                </a:lnTo>
                <a:cubicBezTo>
                  <a:pt x="1530" y="994"/>
                  <a:pt x="1529" y="994"/>
                  <a:pt x="1528" y="994"/>
                </a:cubicBezTo>
                <a:lnTo>
                  <a:pt x="1517" y="994"/>
                </a:lnTo>
                <a:cubicBezTo>
                  <a:pt x="1516" y="994"/>
                  <a:pt x="1515" y="994"/>
                  <a:pt x="1514" y="994"/>
                </a:cubicBezTo>
                <a:lnTo>
                  <a:pt x="1503" y="992"/>
                </a:lnTo>
                <a:cubicBezTo>
                  <a:pt x="1500" y="991"/>
                  <a:pt x="1499" y="991"/>
                  <a:pt x="1497" y="990"/>
                </a:cubicBezTo>
                <a:lnTo>
                  <a:pt x="1489" y="987"/>
                </a:lnTo>
                <a:cubicBezTo>
                  <a:pt x="1487" y="985"/>
                  <a:pt x="1485" y="984"/>
                  <a:pt x="1484" y="982"/>
                </a:cubicBezTo>
                <a:lnTo>
                  <a:pt x="1478" y="975"/>
                </a:lnTo>
                <a:cubicBezTo>
                  <a:pt x="1476" y="974"/>
                  <a:pt x="1475" y="971"/>
                  <a:pt x="1474" y="968"/>
                </a:cubicBezTo>
                <a:lnTo>
                  <a:pt x="1472" y="960"/>
                </a:lnTo>
                <a:cubicBezTo>
                  <a:pt x="1471" y="958"/>
                  <a:pt x="1471" y="956"/>
                  <a:pt x="1471" y="953"/>
                </a:cubicBezTo>
                <a:lnTo>
                  <a:pt x="1471" y="938"/>
                </a:lnTo>
                <a:lnTo>
                  <a:pt x="1475" y="917"/>
                </a:lnTo>
                <a:lnTo>
                  <a:pt x="1481" y="889"/>
                </a:lnTo>
                <a:lnTo>
                  <a:pt x="1489" y="854"/>
                </a:lnTo>
                <a:lnTo>
                  <a:pt x="1559" y="606"/>
                </a:lnTo>
                <a:lnTo>
                  <a:pt x="1628" y="360"/>
                </a:lnTo>
                <a:lnTo>
                  <a:pt x="1634" y="341"/>
                </a:lnTo>
                <a:lnTo>
                  <a:pt x="1638" y="323"/>
                </a:lnTo>
                <a:lnTo>
                  <a:pt x="1644" y="308"/>
                </a:lnTo>
                <a:lnTo>
                  <a:pt x="1648" y="294"/>
                </a:lnTo>
                <a:lnTo>
                  <a:pt x="1653" y="283"/>
                </a:lnTo>
                <a:lnTo>
                  <a:pt x="1657" y="272"/>
                </a:lnTo>
                <a:lnTo>
                  <a:pt x="1661" y="265"/>
                </a:lnTo>
                <a:lnTo>
                  <a:pt x="1665" y="259"/>
                </a:lnTo>
                <a:cubicBezTo>
                  <a:pt x="1666" y="258"/>
                  <a:pt x="1667" y="257"/>
                  <a:pt x="1668" y="256"/>
                </a:cubicBezTo>
                <a:lnTo>
                  <a:pt x="1675" y="248"/>
                </a:lnTo>
                <a:cubicBezTo>
                  <a:pt x="1676" y="247"/>
                  <a:pt x="1678" y="245"/>
                  <a:pt x="1680" y="245"/>
                </a:cubicBezTo>
                <a:lnTo>
                  <a:pt x="1688" y="241"/>
                </a:lnTo>
                <a:cubicBezTo>
                  <a:pt x="1690" y="240"/>
                  <a:pt x="1691" y="239"/>
                  <a:pt x="1693" y="239"/>
                </a:cubicBezTo>
                <a:lnTo>
                  <a:pt x="1704" y="237"/>
                </a:lnTo>
                <a:cubicBezTo>
                  <a:pt x="1705" y="236"/>
                  <a:pt x="1707" y="236"/>
                  <a:pt x="1708" y="236"/>
                </a:cubicBezTo>
                <a:lnTo>
                  <a:pt x="1720" y="237"/>
                </a:lnTo>
                <a:cubicBezTo>
                  <a:pt x="1721" y="237"/>
                  <a:pt x="1722" y="237"/>
                  <a:pt x="1723" y="237"/>
                </a:cubicBezTo>
                <a:lnTo>
                  <a:pt x="1734" y="240"/>
                </a:lnTo>
                <a:cubicBezTo>
                  <a:pt x="1735" y="241"/>
                  <a:pt x="1736" y="241"/>
                  <a:pt x="1737" y="241"/>
                </a:cubicBezTo>
                <a:lnTo>
                  <a:pt x="1745" y="245"/>
                </a:lnTo>
                <a:cubicBezTo>
                  <a:pt x="1747" y="247"/>
                  <a:pt x="1750" y="248"/>
                  <a:pt x="1751" y="249"/>
                </a:cubicBezTo>
                <a:lnTo>
                  <a:pt x="1756" y="255"/>
                </a:lnTo>
                <a:cubicBezTo>
                  <a:pt x="1757" y="257"/>
                  <a:pt x="1758" y="259"/>
                  <a:pt x="1761" y="262"/>
                </a:cubicBezTo>
                <a:lnTo>
                  <a:pt x="1763" y="269"/>
                </a:lnTo>
                <a:cubicBezTo>
                  <a:pt x="1763" y="270"/>
                  <a:pt x="1764" y="272"/>
                  <a:pt x="1764" y="275"/>
                </a:cubicBezTo>
                <a:lnTo>
                  <a:pt x="1764" y="282"/>
                </a:lnTo>
                <a:lnTo>
                  <a:pt x="1764" y="291"/>
                </a:lnTo>
                <a:lnTo>
                  <a:pt x="1763" y="299"/>
                </a:lnTo>
                <a:lnTo>
                  <a:pt x="1761" y="312"/>
                </a:lnTo>
                <a:lnTo>
                  <a:pt x="1757" y="323"/>
                </a:lnTo>
                <a:lnTo>
                  <a:pt x="1754" y="339"/>
                </a:lnTo>
                <a:lnTo>
                  <a:pt x="1750" y="355"/>
                </a:lnTo>
                <a:lnTo>
                  <a:pt x="1744" y="373"/>
                </a:lnTo>
                <a:lnTo>
                  <a:pt x="1696" y="548"/>
                </a:lnTo>
                <a:lnTo>
                  <a:pt x="1840" y="570"/>
                </a:lnTo>
                <a:lnTo>
                  <a:pt x="1988" y="598"/>
                </a:lnTo>
                <a:lnTo>
                  <a:pt x="2014" y="506"/>
                </a:lnTo>
                <a:lnTo>
                  <a:pt x="2023" y="471"/>
                </a:lnTo>
                <a:lnTo>
                  <a:pt x="2031" y="440"/>
                </a:lnTo>
                <a:lnTo>
                  <a:pt x="2037" y="408"/>
                </a:lnTo>
                <a:lnTo>
                  <a:pt x="2043" y="379"/>
                </a:lnTo>
                <a:lnTo>
                  <a:pt x="2043" y="376"/>
                </a:lnTo>
                <a:cubicBezTo>
                  <a:pt x="2044" y="371"/>
                  <a:pt x="2047" y="366"/>
                  <a:pt x="2051" y="363"/>
                </a:cubicBezTo>
                <a:cubicBezTo>
                  <a:pt x="2055" y="360"/>
                  <a:pt x="2060" y="360"/>
                  <a:pt x="2065" y="360"/>
                </a:cubicBezTo>
                <a:lnTo>
                  <a:pt x="2148" y="379"/>
                </a:lnTo>
                <a:cubicBezTo>
                  <a:pt x="2153" y="380"/>
                  <a:pt x="2157" y="385"/>
                  <a:pt x="2160" y="389"/>
                </a:cubicBezTo>
                <a:cubicBezTo>
                  <a:pt x="2162" y="394"/>
                  <a:pt x="2163" y="399"/>
                  <a:pt x="2162" y="405"/>
                </a:cubicBezTo>
                <a:lnTo>
                  <a:pt x="2045" y="811"/>
                </a:lnTo>
                <a:lnTo>
                  <a:pt x="1935" y="1198"/>
                </a:lnTo>
                <a:lnTo>
                  <a:pt x="2079" y="1227"/>
                </a:lnTo>
                <a:lnTo>
                  <a:pt x="2225" y="1261"/>
                </a:lnTo>
                <a:lnTo>
                  <a:pt x="2335" y="880"/>
                </a:lnTo>
                <a:lnTo>
                  <a:pt x="2448" y="483"/>
                </a:lnTo>
                <a:cubicBezTo>
                  <a:pt x="2452" y="472"/>
                  <a:pt x="2462" y="467"/>
                  <a:pt x="2472" y="469"/>
                </a:cubicBezTo>
                <a:lnTo>
                  <a:pt x="2554" y="494"/>
                </a:lnTo>
                <a:cubicBezTo>
                  <a:pt x="2559" y="496"/>
                  <a:pt x="2563" y="499"/>
                  <a:pt x="2565" y="504"/>
                </a:cubicBezTo>
                <a:cubicBezTo>
                  <a:pt x="2568" y="508"/>
                  <a:pt x="2569" y="513"/>
                  <a:pt x="2566" y="519"/>
                </a:cubicBezTo>
                <a:lnTo>
                  <a:pt x="2453" y="914"/>
                </a:lnTo>
                <a:lnTo>
                  <a:pt x="2345" y="1291"/>
                </a:lnTo>
                <a:lnTo>
                  <a:pt x="2488" y="1331"/>
                </a:lnTo>
                <a:lnTo>
                  <a:pt x="2630" y="1374"/>
                </a:lnTo>
                <a:lnTo>
                  <a:pt x="2738" y="997"/>
                </a:lnTo>
                <a:cubicBezTo>
                  <a:pt x="2741" y="992"/>
                  <a:pt x="2744" y="988"/>
                  <a:pt x="2748" y="985"/>
                </a:cubicBezTo>
                <a:cubicBezTo>
                  <a:pt x="2752" y="983"/>
                  <a:pt x="2757" y="982"/>
                  <a:pt x="2763" y="984"/>
                </a:cubicBezTo>
                <a:lnTo>
                  <a:pt x="2824" y="1004"/>
                </a:lnTo>
                <a:lnTo>
                  <a:pt x="2871" y="1017"/>
                </a:lnTo>
                <a:lnTo>
                  <a:pt x="2914" y="1026"/>
                </a:lnTo>
                <a:lnTo>
                  <a:pt x="2951" y="1031"/>
                </a:lnTo>
                <a:lnTo>
                  <a:pt x="2986" y="1031"/>
                </a:lnTo>
                <a:lnTo>
                  <a:pt x="3017" y="1027"/>
                </a:lnTo>
                <a:lnTo>
                  <a:pt x="3031" y="1024"/>
                </a:lnTo>
                <a:cubicBezTo>
                  <a:pt x="3037" y="1021"/>
                  <a:pt x="3045" y="1024"/>
                  <a:pt x="3049" y="1030"/>
                </a:cubicBezTo>
                <a:cubicBezTo>
                  <a:pt x="3055" y="1035"/>
                  <a:pt x="3056" y="1044"/>
                  <a:pt x="3053" y="1051"/>
                </a:cubicBezTo>
                <a:lnTo>
                  <a:pt x="2870" y="1448"/>
                </a:lnTo>
                <a:lnTo>
                  <a:pt x="3161" y="1544"/>
                </a:lnTo>
                <a:lnTo>
                  <a:pt x="3220" y="1390"/>
                </a:lnTo>
                <a:cubicBezTo>
                  <a:pt x="3225" y="1381"/>
                  <a:pt x="3234" y="1376"/>
                  <a:pt x="3243" y="1380"/>
                </a:cubicBezTo>
                <a:lnTo>
                  <a:pt x="3322" y="1404"/>
                </a:lnTo>
                <a:cubicBezTo>
                  <a:pt x="3330" y="1408"/>
                  <a:pt x="3336" y="1417"/>
                  <a:pt x="3334" y="1428"/>
                </a:cubicBezTo>
                <a:lnTo>
                  <a:pt x="3303" y="1590"/>
                </a:lnTo>
                <a:lnTo>
                  <a:pt x="3500" y="1654"/>
                </a:lnTo>
                <a:lnTo>
                  <a:pt x="3610" y="1688"/>
                </a:lnTo>
                <a:lnTo>
                  <a:pt x="3802" y="1745"/>
                </a:lnTo>
                <a:lnTo>
                  <a:pt x="3918" y="1344"/>
                </a:lnTo>
                <a:cubicBezTo>
                  <a:pt x="3921" y="1333"/>
                  <a:pt x="3930" y="1327"/>
                  <a:pt x="3940" y="1330"/>
                </a:cubicBezTo>
                <a:lnTo>
                  <a:pt x="3999" y="1345"/>
                </a:lnTo>
                <a:cubicBezTo>
                  <a:pt x="4004" y="1346"/>
                  <a:pt x="4008" y="1350"/>
                  <a:pt x="4012" y="1354"/>
                </a:cubicBezTo>
                <a:cubicBezTo>
                  <a:pt x="4014" y="1359"/>
                  <a:pt x="4015" y="1365"/>
                  <a:pt x="4013" y="1369"/>
                </a:cubicBezTo>
                <a:lnTo>
                  <a:pt x="3898" y="1771"/>
                </a:lnTo>
                <a:lnTo>
                  <a:pt x="4020" y="1802"/>
                </a:lnTo>
                <a:lnTo>
                  <a:pt x="4164" y="1836"/>
                </a:lnTo>
                <a:lnTo>
                  <a:pt x="4203" y="1844"/>
                </a:lnTo>
                <a:lnTo>
                  <a:pt x="4329" y="1868"/>
                </a:lnTo>
                <a:lnTo>
                  <a:pt x="4457" y="1889"/>
                </a:lnTo>
                <a:lnTo>
                  <a:pt x="4584" y="1906"/>
                </a:lnTo>
                <a:lnTo>
                  <a:pt x="4697" y="1916"/>
                </a:lnTo>
                <a:lnTo>
                  <a:pt x="4753" y="1711"/>
                </a:lnTo>
                <a:lnTo>
                  <a:pt x="4665" y="1707"/>
                </a:lnTo>
                <a:lnTo>
                  <a:pt x="4554" y="1696"/>
                </a:lnTo>
                <a:cubicBezTo>
                  <a:pt x="4548" y="1695"/>
                  <a:pt x="4544" y="1693"/>
                  <a:pt x="4541" y="1688"/>
                </a:cubicBezTo>
                <a:cubicBezTo>
                  <a:pt x="4537" y="1682"/>
                  <a:pt x="4536" y="1677"/>
                  <a:pt x="4537" y="1671"/>
                </a:cubicBezTo>
                <a:lnTo>
                  <a:pt x="4596" y="1465"/>
                </a:lnTo>
                <a:cubicBezTo>
                  <a:pt x="4598" y="1457"/>
                  <a:pt x="4606" y="1451"/>
                  <a:pt x="4615" y="1451"/>
                </a:cubicBezTo>
                <a:lnTo>
                  <a:pt x="4709" y="1458"/>
                </a:lnTo>
                <a:lnTo>
                  <a:pt x="4789" y="1460"/>
                </a:lnTo>
                <a:lnTo>
                  <a:pt x="4843" y="1263"/>
                </a:lnTo>
                <a:lnTo>
                  <a:pt x="4772" y="1263"/>
                </a:lnTo>
                <a:lnTo>
                  <a:pt x="4677" y="1259"/>
                </a:lnTo>
                <a:cubicBezTo>
                  <a:pt x="4671" y="1259"/>
                  <a:pt x="4666" y="1257"/>
                  <a:pt x="4663" y="1252"/>
                </a:cubicBezTo>
                <a:cubicBezTo>
                  <a:pt x="4659" y="1246"/>
                  <a:pt x="4659" y="1240"/>
                  <a:pt x="4660" y="1234"/>
                </a:cubicBezTo>
                <a:lnTo>
                  <a:pt x="4709" y="1056"/>
                </a:lnTo>
                <a:cubicBezTo>
                  <a:pt x="4712" y="1048"/>
                  <a:pt x="4718" y="1042"/>
                  <a:pt x="4727" y="1042"/>
                </a:cubicBezTo>
                <a:lnTo>
                  <a:pt x="4827" y="1044"/>
                </a:lnTo>
                <a:lnTo>
                  <a:pt x="4916" y="1042"/>
                </a:lnTo>
                <a:lnTo>
                  <a:pt x="4972" y="830"/>
                </a:lnTo>
                <a:lnTo>
                  <a:pt x="4874" y="834"/>
                </a:lnTo>
                <a:lnTo>
                  <a:pt x="4749" y="834"/>
                </a:lnTo>
                <a:lnTo>
                  <a:pt x="4625" y="830"/>
                </a:lnTo>
                <a:lnTo>
                  <a:pt x="4500" y="818"/>
                </a:lnTo>
                <a:lnTo>
                  <a:pt x="4459" y="813"/>
                </a:lnTo>
                <a:lnTo>
                  <a:pt x="4313" y="795"/>
                </a:lnTo>
                <a:lnTo>
                  <a:pt x="4184" y="771"/>
                </a:lnTo>
                <a:lnTo>
                  <a:pt x="4084" y="1119"/>
                </a:lnTo>
                <a:cubicBezTo>
                  <a:pt x="4082" y="1130"/>
                  <a:pt x="4072" y="1136"/>
                  <a:pt x="4062" y="1133"/>
                </a:cubicBezTo>
                <a:lnTo>
                  <a:pt x="4003" y="1119"/>
                </a:lnTo>
                <a:cubicBezTo>
                  <a:pt x="3998" y="1118"/>
                  <a:pt x="3994" y="1115"/>
                  <a:pt x="3991" y="1110"/>
                </a:cubicBezTo>
                <a:cubicBezTo>
                  <a:pt x="3988" y="1105"/>
                  <a:pt x="3987" y="1099"/>
                  <a:pt x="3990" y="1094"/>
                </a:cubicBezTo>
                <a:lnTo>
                  <a:pt x="4088" y="753"/>
                </a:lnTo>
                <a:lnTo>
                  <a:pt x="3943" y="720"/>
                </a:lnTo>
                <a:lnTo>
                  <a:pt x="3799" y="683"/>
                </a:lnTo>
                <a:lnTo>
                  <a:pt x="3703" y="1015"/>
                </a:lnTo>
                <a:cubicBezTo>
                  <a:pt x="3701" y="1024"/>
                  <a:pt x="3691" y="1030"/>
                  <a:pt x="3682" y="1028"/>
                </a:cubicBezTo>
                <a:cubicBezTo>
                  <a:pt x="3672" y="1026"/>
                  <a:pt x="3665" y="1017"/>
                  <a:pt x="3667" y="1006"/>
                </a:cubicBezTo>
                <a:lnTo>
                  <a:pt x="3707" y="657"/>
                </a:lnTo>
                <a:lnTo>
                  <a:pt x="3498" y="597"/>
                </a:lnTo>
                <a:lnTo>
                  <a:pt x="3291" y="532"/>
                </a:lnTo>
                <a:lnTo>
                  <a:pt x="3228" y="668"/>
                </a:lnTo>
                <a:cubicBezTo>
                  <a:pt x="3225" y="676"/>
                  <a:pt x="3216" y="681"/>
                  <a:pt x="3207" y="678"/>
                </a:cubicBezTo>
                <a:cubicBezTo>
                  <a:pt x="3198" y="676"/>
                  <a:pt x="3193" y="668"/>
                  <a:pt x="3193" y="659"/>
                </a:cubicBezTo>
                <a:lnTo>
                  <a:pt x="3194" y="647"/>
                </a:lnTo>
                <a:lnTo>
                  <a:pt x="3193" y="624"/>
                </a:lnTo>
                <a:lnTo>
                  <a:pt x="3189" y="604"/>
                </a:lnTo>
                <a:lnTo>
                  <a:pt x="3183" y="583"/>
                </a:lnTo>
                <a:lnTo>
                  <a:pt x="3173" y="562"/>
                </a:lnTo>
                <a:lnTo>
                  <a:pt x="3159" y="543"/>
                </a:lnTo>
                <a:lnTo>
                  <a:pt x="3142" y="524"/>
                </a:lnTo>
                <a:lnTo>
                  <a:pt x="3120" y="505"/>
                </a:lnTo>
                <a:lnTo>
                  <a:pt x="3092" y="485"/>
                </a:lnTo>
                <a:lnTo>
                  <a:pt x="3077" y="476"/>
                </a:lnTo>
                <a:lnTo>
                  <a:pt x="3058" y="467"/>
                </a:lnTo>
                <a:lnTo>
                  <a:pt x="3039" y="457"/>
                </a:lnTo>
                <a:lnTo>
                  <a:pt x="3018" y="447"/>
                </a:lnTo>
                <a:lnTo>
                  <a:pt x="2994" y="437"/>
                </a:lnTo>
                <a:lnTo>
                  <a:pt x="2970" y="428"/>
                </a:lnTo>
                <a:lnTo>
                  <a:pt x="2942" y="418"/>
                </a:lnTo>
                <a:lnTo>
                  <a:pt x="2914" y="407"/>
                </a:lnTo>
                <a:lnTo>
                  <a:pt x="2698" y="337"/>
                </a:lnTo>
                <a:lnTo>
                  <a:pt x="2607" y="308"/>
                </a:lnTo>
                <a:lnTo>
                  <a:pt x="2464" y="265"/>
                </a:lnTo>
                <a:lnTo>
                  <a:pt x="2321" y="223"/>
                </a:lnTo>
                <a:lnTo>
                  <a:pt x="2175" y="185"/>
                </a:lnTo>
                <a:lnTo>
                  <a:pt x="2047" y="154"/>
                </a:lnTo>
                <a:lnTo>
                  <a:pt x="2036" y="190"/>
                </a:lnTo>
                <a:cubicBezTo>
                  <a:pt x="2034" y="197"/>
                  <a:pt x="2028" y="202"/>
                  <a:pt x="2022" y="204"/>
                </a:cubicBezTo>
                <a:cubicBezTo>
                  <a:pt x="2015" y="205"/>
                  <a:pt x="2008" y="201"/>
                  <a:pt x="2003" y="195"/>
                </a:cubicBezTo>
                <a:lnTo>
                  <a:pt x="2001" y="192"/>
                </a:lnTo>
                <a:lnTo>
                  <a:pt x="1988" y="177"/>
                </a:lnTo>
                <a:lnTo>
                  <a:pt x="1970" y="161"/>
                </a:lnTo>
                <a:lnTo>
                  <a:pt x="1951" y="145"/>
                </a:lnTo>
                <a:lnTo>
                  <a:pt x="1931" y="131"/>
                </a:lnTo>
                <a:lnTo>
                  <a:pt x="1908" y="119"/>
                </a:lnTo>
                <a:lnTo>
                  <a:pt x="1884" y="107"/>
                </a:lnTo>
                <a:lnTo>
                  <a:pt x="1858" y="97"/>
                </a:lnTo>
                <a:lnTo>
                  <a:pt x="1829" y="87"/>
                </a:lnTo>
                <a:lnTo>
                  <a:pt x="1799" y="79"/>
                </a:lnTo>
                <a:lnTo>
                  <a:pt x="1767" y="73"/>
                </a:lnTo>
                <a:lnTo>
                  <a:pt x="1720" y="67"/>
                </a:lnTo>
                <a:lnTo>
                  <a:pt x="1673" y="66"/>
                </a:lnTo>
                <a:close/>
                <a:moveTo>
                  <a:pt x="7662" y="40"/>
                </a:moveTo>
                <a:lnTo>
                  <a:pt x="7626" y="41"/>
                </a:lnTo>
                <a:lnTo>
                  <a:pt x="7593" y="45"/>
                </a:lnTo>
                <a:lnTo>
                  <a:pt x="7562" y="51"/>
                </a:lnTo>
                <a:lnTo>
                  <a:pt x="7534" y="59"/>
                </a:lnTo>
                <a:lnTo>
                  <a:pt x="7508" y="70"/>
                </a:lnTo>
                <a:lnTo>
                  <a:pt x="7484" y="83"/>
                </a:lnTo>
                <a:lnTo>
                  <a:pt x="7463" y="97"/>
                </a:lnTo>
                <a:lnTo>
                  <a:pt x="7442" y="115"/>
                </a:lnTo>
                <a:lnTo>
                  <a:pt x="7423" y="136"/>
                </a:lnTo>
                <a:lnTo>
                  <a:pt x="7406" y="162"/>
                </a:lnTo>
                <a:lnTo>
                  <a:pt x="7389" y="190"/>
                </a:lnTo>
                <a:lnTo>
                  <a:pt x="7375" y="222"/>
                </a:lnTo>
                <a:lnTo>
                  <a:pt x="7362" y="258"/>
                </a:lnTo>
                <a:lnTo>
                  <a:pt x="7351" y="297"/>
                </a:lnTo>
                <a:lnTo>
                  <a:pt x="7336" y="348"/>
                </a:lnTo>
                <a:cubicBezTo>
                  <a:pt x="7334" y="358"/>
                  <a:pt x="7324" y="364"/>
                  <a:pt x="7315" y="362"/>
                </a:cubicBezTo>
                <a:cubicBezTo>
                  <a:pt x="7305" y="360"/>
                  <a:pt x="7299" y="350"/>
                  <a:pt x="7300" y="340"/>
                </a:cubicBezTo>
                <a:lnTo>
                  <a:pt x="7333" y="50"/>
                </a:lnTo>
                <a:lnTo>
                  <a:pt x="7240" y="55"/>
                </a:lnTo>
                <a:lnTo>
                  <a:pt x="7126" y="66"/>
                </a:lnTo>
                <a:lnTo>
                  <a:pt x="7011" y="84"/>
                </a:lnTo>
                <a:lnTo>
                  <a:pt x="6909" y="104"/>
                </a:lnTo>
                <a:lnTo>
                  <a:pt x="6841" y="293"/>
                </a:lnTo>
                <a:cubicBezTo>
                  <a:pt x="6838" y="302"/>
                  <a:pt x="6829" y="308"/>
                  <a:pt x="6819" y="306"/>
                </a:cubicBezTo>
                <a:cubicBezTo>
                  <a:pt x="6811" y="304"/>
                  <a:pt x="6804" y="296"/>
                  <a:pt x="6805" y="285"/>
                </a:cubicBezTo>
                <a:lnTo>
                  <a:pt x="6805" y="273"/>
                </a:lnTo>
                <a:lnTo>
                  <a:pt x="6804" y="250"/>
                </a:lnTo>
                <a:lnTo>
                  <a:pt x="6801" y="230"/>
                </a:lnTo>
                <a:lnTo>
                  <a:pt x="6795" y="214"/>
                </a:lnTo>
                <a:lnTo>
                  <a:pt x="6786" y="201"/>
                </a:lnTo>
                <a:lnTo>
                  <a:pt x="6774" y="191"/>
                </a:lnTo>
                <a:lnTo>
                  <a:pt x="6759" y="183"/>
                </a:lnTo>
                <a:lnTo>
                  <a:pt x="6738" y="178"/>
                </a:lnTo>
                <a:lnTo>
                  <a:pt x="6712" y="176"/>
                </a:lnTo>
                <a:lnTo>
                  <a:pt x="6697" y="176"/>
                </a:lnTo>
                <a:lnTo>
                  <a:pt x="6680" y="178"/>
                </a:lnTo>
                <a:lnTo>
                  <a:pt x="6662" y="181"/>
                </a:lnTo>
                <a:lnTo>
                  <a:pt x="6641" y="185"/>
                </a:lnTo>
                <a:lnTo>
                  <a:pt x="6593" y="199"/>
                </a:lnTo>
                <a:lnTo>
                  <a:pt x="6539" y="220"/>
                </a:lnTo>
                <a:lnTo>
                  <a:pt x="6465" y="251"/>
                </a:lnTo>
                <a:lnTo>
                  <a:pt x="6393" y="286"/>
                </a:lnTo>
                <a:lnTo>
                  <a:pt x="6321" y="323"/>
                </a:lnTo>
                <a:lnTo>
                  <a:pt x="6257" y="360"/>
                </a:lnTo>
                <a:lnTo>
                  <a:pt x="6224" y="531"/>
                </a:lnTo>
                <a:lnTo>
                  <a:pt x="6190" y="711"/>
                </a:lnTo>
                <a:cubicBezTo>
                  <a:pt x="6189" y="717"/>
                  <a:pt x="6184" y="722"/>
                  <a:pt x="6179" y="725"/>
                </a:cubicBezTo>
                <a:cubicBezTo>
                  <a:pt x="6174" y="727"/>
                  <a:pt x="6168" y="727"/>
                  <a:pt x="6162" y="725"/>
                </a:cubicBezTo>
                <a:lnTo>
                  <a:pt x="6158" y="721"/>
                </a:lnTo>
                <a:cubicBezTo>
                  <a:pt x="6156" y="720"/>
                  <a:pt x="6155" y="719"/>
                  <a:pt x="6152" y="718"/>
                </a:cubicBezTo>
                <a:lnTo>
                  <a:pt x="6144" y="706"/>
                </a:lnTo>
                <a:lnTo>
                  <a:pt x="6135" y="698"/>
                </a:lnTo>
                <a:lnTo>
                  <a:pt x="6122" y="693"/>
                </a:lnTo>
                <a:lnTo>
                  <a:pt x="6106" y="691"/>
                </a:lnTo>
                <a:lnTo>
                  <a:pt x="6086" y="692"/>
                </a:lnTo>
                <a:lnTo>
                  <a:pt x="6063" y="698"/>
                </a:lnTo>
                <a:lnTo>
                  <a:pt x="6034" y="706"/>
                </a:lnTo>
                <a:lnTo>
                  <a:pt x="6004" y="720"/>
                </a:lnTo>
                <a:lnTo>
                  <a:pt x="5968" y="735"/>
                </a:lnTo>
                <a:lnTo>
                  <a:pt x="5930" y="755"/>
                </a:lnTo>
                <a:lnTo>
                  <a:pt x="5896" y="771"/>
                </a:lnTo>
                <a:cubicBezTo>
                  <a:pt x="5889" y="775"/>
                  <a:pt x="5881" y="775"/>
                  <a:pt x="5876" y="769"/>
                </a:cubicBezTo>
                <a:cubicBezTo>
                  <a:pt x="5870" y="764"/>
                  <a:pt x="5868" y="757"/>
                  <a:pt x="5869" y="750"/>
                </a:cubicBezTo>
                <a:lnTo>
                  <a:pt x="5905" y="570"/>
                </a:lnTo>
                <a:lnTo>
                  <a:pt x="5865" y="591"/>
                </a:lnTo>
                <a:lnTo>
                  <a:pt x="5788" y="628"/>
                </a:lnTo>
                <a:lnTo>
                  <a:pt x="5710" y="662"/>
                </a:lnTo>
                <a:lnTo>
                  <a:pt x="5641" y="689"/>
                </a:lnTo>
                <a:lnTo>
                  <a:pt x="5596" y="889"/>
                </a:lnTo>
                <a:cubicBezTo>
                  <a:pt x="5595" y="895"/>
                  <a:pt x="5590" y="900"/>
                  <a:pt x="5584" y="903"/>
                </a:cubicBezTo>
                <a:lnTo>
                  <a:pt x="5553" y="913"/>
                </a:lnTo>
                <a:lnTo>
                  <a:pt x="5502" y="931"/>
                </a:lnTo>
                <a:lnTo>
                  <a:pt x="5456" y="948"/>
                </a:lnTo>
                <a:lnTo>
                  <a:pt x="5412" y="967"/>
                </a:lnTo>
                <a:lnTo>
                  <a:pt x="5371" y="988"/>
                </a:lnTo>
                <a:lnTo>
                  <a:pt x="5333" y="1009"/>
                </a:lnTo>
                <a:lnTo>
                  <a:pt x="5299" y="1032"/>
                </a:lnTo>
                <a:lnTo>
                  <a:pt x="5268" y="1056"/>
                </a:lnTo>
                <a:lnTo>
                  <a:pt x="5239" y="1084"/>
                </a:lnTo>
                <a:lnTo>
                  <a:pt x="5212" y="1111"/>
                </a:lnTo>
                <a:lnTo>
                  <a:pt x="5189" y="1140"/>
                </a:lnTo>
                <a:lnTo>
                  <a:pt x="5168" y="1170"/>
                </a:lnTo>
                <a:lnTo>
                  <a:pt x="5149" y="1205"/>
                </a:lnTo>
                <a:lnTo>
                  <a:pt x="5144" y="1218"/>
                </a:lnTo>
                <a:lnTo>
                  <a:pt x="5137" y="1234"/>
                </a:lnTo>
                <a:lnTo>
                  <a:pt x="5132" y="1252"/>
                </a:lnTo>
                <a:lnTo>
                  <a:pt x="5125" y="1270"/>
                </a:lnTo>
                <a:lnTo>
                  <a:pt x="5118" y="1291"/>
                </a:lnTo>
                <a:lnTo>
                  <a:pt x="5111" y="1316"/>
                </a:lnTo>
                <a:lnTo>
                  <a:pt x="5104" y="1340"/>
                </a:lnTo>
                <a:lnTo>
                  <a:pt x="5096" y="1367"/>
                </a:lnTo>
                <a:lnTo>
                  <a:pt x="5092" y="1387"/>
                </a:lnTo>
                <a:lnTo>
                  <a:pt x="5084" y="1415"/>
                </a:lnTo>
                <a:lnTo>
                  <a:pt x="5079" y="1439"/>
                </a:lnTo>
                <a:lnTo>
                  <a:pt x="5073" y="1462"/>
                </a:lnTo>
                <a:lnTo>
                  <a:pt x="5069" y="1482"/>
                </a:lnTo>
                <a:lnTo>
                  <a:pt x="5065" y="1502"/>
                </a:lnTo>
                <a:lnTo>
                  <a:pt x="5063" y="1518"/>
                </a:lnTo>
                <a:lnTo>
                  <a:pt x="5061" y="1532"/>
                </a:lnTo>
                <a:lnTo>
                  <a:pt x="5061" y="1544"/>
                </a:lnTo>
                <a:lnTo>
                  <a:pt x="5061" y="1576"/>
                </a:lnTo>
                <a:lnTo>
                  <a:pt x="5067" y="1604"/>
                </a:lnTo>
                <a:lnTo>
                  <a:pt x="5076" y="1631"/>
                </a:lnTo>
                <a:lnTo>
                  <a:pt x="5090" y="1656"/>
                </a:lnTo>
                <a:lnTo>
                  <a:pt x="5104" y="1672"/>
                </a:lnTo>
                <a:lnTo>
                  <a:pt x="5123" y="1686"/>
                </a:lnTo>
                <a:lnTo>
                  <a:pt x="5147" y="1697"/>
                </a:lnTo>
                <a:lnTo>
                  <a:pt x="5176" y="1706"/>
                </a:lnTo>
                <a:lnTo>
                  <a:pt x="5210" y="1710"/>
                </a:lnTo>
                <a:lnTo>
                  <a:pt x="5250" y="1711"/>
                </a:lnTo>
                <a:lnTo>
                  <a:pt x="5295" y="1708"/>
                </a:lnTo>
                <a:lnTo>
                  <a:pt x="5345" y="1701"/>
                </a:lnTo>
                <a:lnTo>
                  <a:pt x="5377" y="1695"/>
                </a:lnTo>
                <a:cubicBezTo>
                  <a:pt x="5383" y="1693"/>
                  <a:pt x="5390" y="1696"/>
                  <a:pt x="5394" y="1701"/>
                </a:cubicBezTo>
                <a:cubicBezTo>
                  <a:pt x="5398" y="1706"/>
                  <a:pt x="5399" y="1713"/>
                  <a:pt x="5398" y="1718"/>
                </a:cubicBezTo>
                <a:lnTo>
                  <a:pt x="5358" y="1884"/>
                </a:lnTo>
                <a:lnTo>
                  <a:pt x="5411" y="1873"/>
                </a:lnTo>
                <a:lnTo>
                  <a:pt x="5491" y="1855"/>
                </a:lnTo>
                <a:lnTo>
                  <a:pt x="5571" y="1832"/>
                </a:lnTo>
                <a:lnTo>
                  <a:pt x="5641" y="1811"/>
                </a:lnTo>
                <a:lnTo>
                  <a:pt x="5684" y="1618"/>
                </a:lnTo>
                <a:cubicBezTo>
                  <a:pt x="5686" y="1613"/>
                  <a:pt x="5691" y="1607"/>
                  <a:pt x="5696" y="1604"/>
                </a:cubicBezTo>
                <a:lnTo>
                  <a:pt x="5731" y="1592"/>
                </a:lnTo>
                <a:lnTo>
                  <a:pt x="5780" y="1571"/>
                </a:lnTo>
                <a:lnTo>
                  <a:pt x="5824" y="1549"/>
                </a:lnTo>
                <a:lnTo>
                  <a:pt x="5865" y="1523"/>
                </a:lnTo>
                <a:lnTo>
                  <a:pt x="5902" y="1496"/>
                </a:lnTo>
                <a:lnTo>
                  <a:pt x="5936" y="1467"/>
                </a:lnTo>
                <a:lnTo>
                  <a:pt x="5966" y="1437"/>
                </a:lnTo>
                <a:lnTo>
                  <a:pt x="5993" y="1404"/>
                </a:lnTo>
                <a:lnTo>
                  <a:pt x="6017" y="1371"/>
                </a:lnTo>
                <a:lnTo>
                  <a:pt x="6029" y="1351"/>
                </a:lnTo>
                <a:cubicBezTo>
                  <a:pt x="6034" y="1343"/>
                  <a:pt x="6043" y="1339"/>
                  <a:pt x="6052" y="1344"/>
                </a:cubicBezTo>
                <a:cubicBezTo>
                  <a:pt x="6060" y="1347"/>
                  <a:pt x="6064" y="1357"/>
                  <a:pt x="6063" y="1366"/>
                </a:cubicBezTo>
                <a:lnTo>
                  <a:pt x="6005" y="1656"/>
                </a:lnTo>
                <a:lnTo>
                  <a:pt x="6030" y="1643"/>
                </a:lnTo>
                <a:lnTo>
                  <a:pt x="6091" y="1608"/>
                </a:lnTo>
                <a:lnTo>
                  <a:pt x="6150" y="1573"/>
                </a:lnTo>
                <a:lnTo>
                  <a:pt x="6210" y="1535"/>
                </a:lnTo>
                <a:lnTo>
                  <a:pt x="6259" y="1503"/>
                </a:lnTo>
                <a:lnTo>
                  <a:pt x="6284" y="1379"/>
                </a:lnTo>
                <a:lnTo>
                  <a:pt x="6309" y="1247"/>
                </a:lnTo>
                <a:lnTo>
                  <a:pt x="6362" y="985"/>
                </a:lnTo>
                <a:cubicBezTo>
                  <a:pt x="6363" y="980"/>
                  <a:pt x="6366" y="974"/>
                  <a:pt x="6372" y="971"/>
                </a:cubicBezTo>
                <a:lnTo>
                  <a:pt x="6431" y="940"/>
                </a:lnTo>
                <a:lnTo>
                  <a:pt x="6475" y="917"/>
                </a:lnTo>
                <a:lnTo>
                  <a:pt x="6516" y="894"/>
                </a:lnTo>
                <a:lnTo>
                  <a:pt x="6554" y="868"/>
                </a:lnTo>
                <a:lnTo>
                  <a:pt x="6589" y="841"/>
                </a:lnTo>
                <a:lnTo>
                  <a:pt x="6620" y="813"/>
                </a:lnTo>
                <a:lnTo>
                  <a:pt x="6634" y="798"/>
                </a:lnTo>
                <a:cubicBezTo>
                  <a:pt x="6641" y="792"/>
                  <a:pt x="6650" y="791"/>
                  <a:pt x="6657" y="796"/>
                </a:cubicBezTo>
                <a:cubicBezTo>
                  <a:pt x="6665" y="800"/>
                  <a:pt x="6668" y="810"/>
                  <a:pt x="6665" y="819"/>
                </a:cubicBezTo>
                <a:lnTo>
                  <a:pt x="6572" y="1115"/>
                </a:lnTo>
                <a:lnTo>
                  <a:pt x="6494" y="1373"/>
                </a:lnTo>
                <a:lnTo>
                  <a:pt x="6534" y="1353"/>
                </a:lnTo>
                <a:lnTo>
                  <a:pt x="6613" y="1318"/>
                </a:lnTo>
                <a:lnTo>
                  <a:pt x="6695" y="1286"/>
                </a:lnTo>
                <a:lnTo>
                  <a:pt x="6766" y="1260"/>
                </a:lnTo>
                <a:lnTo>
                  <a:pt x="6831" y="1046"/>
                </a:lnTo>
                <a:cubicBezTo>
                  <a:pt x="6833" y="1039"/>
                  <a:pt x="6838" y="1034"/>
                  <a:pt x="6844" y="1033"/>
                </a:cubicBezTo>
                <a:lnTo>
                  <a:pt x="6923" y="1011"/>
                </a:lnTo>
                <a:cubicBezTo>
                  <a:pt x="6930" y="1010"/>
                  <a:pt x="6936" y="1011"/>
                  <a:pt x="6941" y="1016"/>
                </a:cubicBezTo>
                <a:cubicBezTo>
                  <a:pt x="6945" y="1020"/>
                  <a:pt x="6947" y="1027"/>
                  <a:pt x="6946" y="1034"/>
                </a:cubicBezTo>
                <a:lnTo>
                  <a:pt x="6915" y="1216"/>
                </a:lnTo>
                <a:lnTo>
                  <a:pt x="6970" y="1202"/>
                </a:lnTo>
                <a:lnTo>
                  <a:pt x="7054" y="1183"/>
                </a:lnTo>
                <a:lnTo>
                  <a:pt x="7138" y="1169"/>
                </a:lnTo>
                <a:lnTo>
                  <a:pt x="7208" y="1159"/>
                </a:lnTo>
                <a:lnTo>
                  <a:pt x="7210" y="1141"/>
                </a:lnTo>
                <a:cubicBezTo>
                  <a:pt x="7211" y="1134"/>
                  <a:pt x="7215" y="1129"/>
                  <a:pt x="7221" y="1126"/>
                </a:cubicBezTo>
                <a:cubicBezTo>
                  <a:pt x="7226" y="1123"/>
                  <a:pt x="7233" y="1123"/>
                  <a:pt x="7238" y="1126"/>
                </a:cubicBezTo>
                <a:lnTo>
                  <a:pt x="7247" y="1132"/>
                </a:lnTo>
                <a:lnTo>
                  <a:pt x="7264" y="1140"/>
                </a:lnTo>
                <a:lnTo>
                  <a:pt x="7282" y="1147"/>
                </a:lnTo>
                <a:lnTo>
                  <a:pt x="7304" y="1153"/>
                </a:lnTo>
                <a:lnTo>
                  <a:pt x="7329" y="1156"/>
                </a:lnTo>
                <a:lnTo>
                  <a:pt x="7356" y="1160"/>
                </a:lnTo>
                <a:lnTo>
                  <a:pt x="7385" y="1161"/>
                </a:lnTo>
                <a:lnTo>
                  <a:pt x="7417" y="1162"/>
                </a:lnTo>
                <a:lnTo>
                  <a:pt x="7450" y="1161"/>
                </a:lnTo>
                <a:lnTo>
                  <a:pt x="7509" y="1158"/>
                </a:lnTo>
                <a:lnTo>
                  <a:pt x="7565" y="1151"/>
                </a:lnTo>
                <a:lnTo>
                  <a:pt x="7615" y="1140"/>
                </a:lnTo>
                <a:lnTo>
                  <a:pt x="7663" y="1125"/>
                </a:lnTo>
                <a:lnTo>
                  <a:pt x="7695" y="1112"/>
                </a:lnTo>
                <a:lnTo>
                  <a:pt x="7723" y="1097"/>
                </a:lnTo>
                <a:lnTo>
                  <a:pt x="7750" y="1079"/>
                </a:lnTo>
                <a:lnTo>
                  <a:pt x="7773" y="1059"/>
                </a:lnTo>
                <a:lnTo>
                  <a:pt x="7782" y="1051"/>
                </a:lnTo>
                <a:cubicBezTo>
                  <a:pt x="7787" y="1044"/>
                  <a:pt x="7796" y="1042"/>
                  <a:pt x="7804" y="1047"/>
                </a:cubicBezTo>
                <a:cubicBezTo>
                  <a:pt x="7811" y="1052"/>
                  <a:pt x="7815" y="1061"/>
                  <a:pt x="7813" y="1070"/>
                </a:cubicBezTo>
                <a:lnTo>
                  <a:pt x="7789" y="1151"/>
                </a:lnTo>
                <a:lnTo>
                  <a:pt x="7906" y="1162"/>
                </a:lnTo>
                <a:lnTo>
                  <a:pt x="8044" y="1183"/>
                </a:lnTo>
                <a:lnTo>
                  <a:pt x="8183" y="1206"/>
                </a:lnTo>
                <a:lnTo>
                  <a:pt x="8302" y="1232"/>
                </a:lnTo>
                <a:lnTo>
                  <a:pt x="8317" y="1177"/>
                </a:lnTo>
                <a:cubicBezTo>
                  <a:pt x="8320" y="1170"/>
                  <a:pt x="8326" y="1165"/>
                  <a:pt x="8333" y="1163"/>
                </a:cubicBezTo>
                <a:cubicBezTo>
                  <a:pt x="8341" y="1162"/>
                  <a:pt x="8347" y="1167"/>
                  <a:pt x="8352" y="1173"/>
                </a:cubicBezTo>
                <a:lnTo>
                  <a:pt x="8356" y="1181"/>
                </a:lnTo>
                <a:lnTo>
                  <a:pt x="8371" y="1202"/>
                </a:lnTo>
                <a:lnTo>
                  <a:pt x="8389" y="1222"/>
                </a:lnTo>
                <a:lnTo>
                  <a:pt x="8409" y="1239"/>
                </a:lnTo>
                <a:lnTo>
                  <a:pt x="8432" y="1257"/>
                </a:lnTo>
                <a:lnTo>
                  <a:pt x="8465" y="1277"/>
                </a:lnTo>
                <a:lnTo>
                  <a:pt x="8503" y="1296"/>
                </a:lnTo>
                <a:lnTo>
                  <a:pt x="8543" y="1311"/>
                </a:lnTo>
                <a:lnTo>
                  <a:pt x="8588" y="1325"/>
                </a:lnTo>
                <a:lnTo>
                  <a:pt x="8635" y="1337"/>
                </a:lnTo>
                <a:lnTo>
                  <a:pt x="8680" y="1344"/>
                </a:lnTo>
                <a:lnTo>
                  <a:pt x="8722" y="1347"/>
                </a:lnTo>
                <a:lnTo>
                  <a:pt x="8763" y="1346"/>
                </a:lnTo>
                <a:lnTo>
                  <a:pt x="8801" y="1341"/>
                </a:lnTo>
                <a:lnTo>
                  <a:pt x="8836" y="1332"/>
                </a:lnTo>
                <a:lnTo>
                  <a:pt x="8851" y="1326"/>
                </a:lnTo>
                <a:cubicBezTo>
                  <a:pt x="8858" y="1324"/>
                  <a:pt x="8865" y="1325"/>
                  <a:pt x="8871" y="1330"/>
                </a:cubicBezTo>
                <a:cubicBezTo>
                  <a:pt x="8875" y="1336"/>
                  <a:pt x="8877" y="1344"/>
                  <a:pt x="8875" y="1351"/>
                </a:cubicBezTo>
                <a:lnTo>
                  <a:pt x="8865" y="1384"/>
                </a:lnTo>
                <a:lnTo>
                  <a:pt x="8907" y="1397"/>
                </a:lnTo>
                <a:lnTo>
                  <a:pt x="8942" y="1408"/>
                </a:lnTo>
                <a:lnTo>
                  <a:pt x="8976" y="1418"/>
                </a:lnTo>
                <a:lnTo>
                  <a:pt x="9005" y="1426"/>
                </a:lnTo>
                <a:lnTo>
                  <a:pt x="9034" y="1435"/>
                </a:lnTo>
                <a:lnTo>
                  <a:pt x="9059" y="1440"/>
                </a:lnTo>
                <a:lnTo>
                  <a:pt x="9082" y="1445"/>
                </a:lnTo>
                <a:lnTo>
                  <a:pt x="9105" y="1450"/>
                </a:lnTo>
                <a:lnTo>
                  <a:pt x="9121" y="1452"/>
                </a:lnTo>
                <a:lnTo>
                  <a:pt x="9155" y="1453"/>
                </a:lnTo>
                <a:lnTo>
                  <a:pt x="9183" y="1450"/>
                </a:lnTo>
                <a:lnTo>
                  <a:pt x="9208" y="1440"/>
                </a:lnTo>
                <a:lnTo>
                  <a:pt x="9231" y="1425"/>
                </a:lnTo>
                <a:lnTo>
                  <a:pt x="9241" y="1417"/>
                </a:lnTo>
                <a:lnTo>
                  <a:pt x="9251" y="1405"/>
                </a:lnTo>
                <a:lnTo>
                  <a:pt x="9262" y="1390"/>
                </a:lnTo>
                <a:lnTo>
                  <a:pt x="9271" y="1374"/>
                </a:lnTo>
                <a:lnTo>
                  <a:pt x="9281" y="1355"/>
                </a:lnTo>
                <a:lnTo>
                  <a:pt x="9290" y="1334"/>
                </a:lnTo>
                <a:lnTo>
                  <a:pt x="9299" y="1310"/>
                </a:lnTo>
                <a:lnTo>
                  <a:pt x="9306" y="1283"/>
                </a:lnTo>
                <a:lnTo>
                  <a:pt x="9463" y="742"/>
                </a:lnTo>
                <a:cubicBezTo>
                  <a:pt x="9465" y="732"/>
                  <a:pt x="9476" y="726"/>
                  <a:pt x="9486" y="729"/>
                </a:cubicBezTo>
                <a:lnTo>
                  <a:pt x="9542" y="747"/>
                </a:lnTo>
                <a:cubicBezTo>
                  <a:pt x="9547" y="749"/>
                  <a:pt x="9550" y="753"/>
                  <a:pt x="9552" y="756"/>
                </a:cubicBezTo>
                <a:cubicBezTo>
                  <a:pt x="9555" y="762"/>
                  <a:pt x="9555" y="767"/>
                  <a:pt x="9554" y="771"/>
                </a:cubicBezTo>
                <a:lnTo>
                  <a:pt x="9335" y="1536"/>
                </a:lnTo>
                <a:lnTo>
                  <a:pt x="9618" y="1628"/>
                </a:lnTo>
                <a:lnTo>
                  <a:pt x="9644" y="1543"/>
                </a:lnTo>
                <a:cubicBezTo>
                  <a:pt x="9646" y="1535"/>
                  <a:pt x="9652" y="1529"/>
                  <a:pt x="9660" y="1529"/>
                </a:cubicBezTo>
                <a:cubicBezTo>
                  <a:pt x="9669" y="1529"/>
                  <a:pt x="9676" y="1533"/>
                  <a:pt x="9679" y="1542"/>
                </a:cubicBezTo>
                <a:lnTo>
                  <a:pt x="9685" y="1561"/>
                </a:lnTo>
                <a:lnTo>
                  <a:pt x="9701" y="1590"/>
                </a:lnTo>
                <a:lnTo>
                  <a:pt x="9722" y="1620"/>
                </a:lnTo>
                <a:lnTo>
                  <a:pt x="9746" y="1646"/>
                </a:lnTo>
                <a:lnTo>
                  <a:pt x="9776" y="1671"/>
                </a:lnTo>
                <a:lnTo>
                  <a:pt x="9809" y="1694"/>
                </a:lnTo>
                <a:lnTo>
                  <a:pt x="9845" y="1714"/>
                </a:lnTo>
                <a:lnTo>
                  <a:pt x="9886" y="1731"/>
                </a:lnTo>
                <a:lnTo>
                  <a:pt x="9930" y="1746"/>
                </a:lnTo>
                <a:lnTo>
                  <a:pt x="9976" y="1758"/>
                </a:lnTo>
                <a:lnTo>
                  <a:pt x="10022" y="1765"/>
                </a:lnTo>
                <a:lnTo>
                  <a:pt x="10064" y="1767"/>
                </a:lnTo>
                <a:lnTo>
                  <a:pt x="10104" y="1765"/>
                </a:lnTo>
                <a:lnTo>
                  <a:pt x="10143" y="1759"/>
                </a:lnTo>
                <a:lnTo>
                  <a:pt x="10178" y="1749"/>
                </a:lnTo>
                <a:lnTo>
                  <a:pt x="10210" y="1735"/>
                </a:lnTo>
                <a:lnTo>
                  <a:pt x="10240" y="1716"/>
                </a:lnTo>
                <a:lnTo>
                  <a:pt x="10263" y="1696"/>
                </a:lnTo>
                <a:cubicBezTo>
                  <a:pt x="10270" y="1690"/>
                  <a:pt x="10279" y="1690"/>
                  <a:pt x="10285" y="1695"/>
                </a:cubicBezTo>
                <a:cubicBezTo>
                  <a:pt x="10293" y="1700"/>
                  <a:pt x="10295" y="1709"/>
                  <a:pt x="10293" y="1717"/>
                </a:cubicBezTo>
                <a:lnTo>
                  <a:pt x="10265" y="1813"/>
                </a:lnTo>
                <a:lnTo>
                  <a:pt x="10409" y="1845"/>
                </a:lnTo>
                <a:lnTo>
                  <a:pt x="10556" y="1873"/>
                </a:lnTo>
                <a:lnTo>
                  <a:pt x="10670" y="1472"/>
                </a:lnTo>
                <a:lnTo>
                  <a:pt x="10789" y="1048"/>
                </a:lnTo>
                <a:cubicBezTo>
                  <a:pt x="10791" y="1039"/>
                  <a:pt x="10799" y="1034"/>
                  <a:pt x="10808" y="1034"/>
                </a:cubicBezTo>
                <a:lnTo>
                  <a:pt x="10876" y="1039"/>
                </a:lnTo>
                <a:lnTo>
                  <a:pt x="10944" y="1041"/>
                </a:lnTo>
                <a:cubicBezTo>
                  <a:pt x="10950" y="1042"/>
                  <a:pt x="10955" y="1045"/>
                  <a:pt x="10959" y="1049"/>
                </a:cubicBezTo>
                <a:cubicBezTo>
                  <a:pt x="10962" y="1055"/>
                  <a:pt x="10963" y="1061"/>
                  <a:pt x="10962" y="1067"/>
                </a:cubicBezTo>
                <a:lnTo>
                  <a:pt x="10843" y="1497"/>
                </a:lnTo>
                <a:lnTo>
                  <a:pt x="10729" y="1899"/>
                </a:lnTo>
                <a:lnTo>
                  <a:pt x="10852" y="1913"/>
                </a:lnTo>
                <a:lnTo>
                  <a:pt x="10986" y="1921"/>
                </a:lnTo>
                <a:lnTo>
                  <a:pt x="11115" y="1682"/>
                </a:lnTo>
                <a:lnTo>
                  <a:pt x="11248" y="1425"/>
                </a:lnTo>
                <a:cubicBezTo>
                  <a:pt x="11252" y="1417"/>
                  <a:pt x="11262" y="1414"/>
                  <a:pt x="11271" y="1417"/>
                </a:cubicBezTo>
                <a:cubicBezTo>
                  <a:pt x="11279" y="1421"/>
                  <a:pt x="11285" y="1431"/>
                  <a:pt x="11282" y="1440"/>
                </a:cubicBezTo>
                <a:lnTo>
                  <a:pt x="11214" y="1696"/>
                </a:lnTo>
                <a:lnTo>
                  <a:pt x="11153" y="1923"/>
                </a:lnTo>
                <a:lnTo>
                  <a:pt x="11245" y="1921"/>
                </a:lnTo>
                <a:lnTo>
                  <a:pt x="11363" y="1912"/>
                </a:lnTo>
                <a:lnTo>
                  <a:pt x="11408" y="1907"/>
                </a:lnTo>
                <a:lnTo>
                  <a:pt x="11530" y="1888"/>
                </a:lnTo>
                <a:lnTo>
                  <a:pt x="11642" y="1866"/>
                </a:lnTo>
                <a:lnTo>
                  <a:pt x="11703" y="1730"/>
                </a:lnTo>
                <a:lnTo>
                  <a:pt x="11767" y="1583"/>
                </a:lnTo>
                <a:lnTo>
                  <a:pt x="11831" y="1435"/>
                </a:lnTo>
                <a:lnTo>
                  <a:pt x="11892" y="1283"/>
                </a:lnTo>
                <a:cubicBezTo>
                  <a:pt x="11897" y="1274"/>
                  <a:pt x="11907" y="1269"/>
                  <a:pt x="11916" y="1272"/>
                </a:cubicBezTo>
                <a:cubicBezTo>
                  <a:pt x="11924" y="1275"/>
                  <a:pt x="11930" y="1286"/>
                  <a:pt x="11928" y="1295"/>
                </a:cubicBezTo>
                <a:lnTo>
                  <a:pt x="11865" y="1576"/>
                </a:lnTo>
                <a:lnTo>
                  <a:pt x="11808" y="1822"/>
                </a:lnTo>
                <a:lnTo>
                  <a:pt x="11844" y="1810"/>
                </a:lnTo>
                <a:lnTo>
                  <a:pt x="11911" y="1787"/>
                </a:lnTo>
                <a:lnTo>
                  <a:pt x="11977" y="1761"/>
                </a:lnTo>
                <a:lnTo>
                  <a:pt x="12033" y="1738"/>
                </a:lnTo>
                <a:lnTo>
                  <a:pt x="12100" y="1422"/>
                </a:lnTo>
                <a:lnTo>
                  <a:pt x="12166" y="1091"/>
                </a:lnTo>
                <a:lnTo>
                  <a:pt x="12231" y="759"/>
                </a:lnTo>
                <a:lnTo>
                  <a:pt x="12285" y="467"/>
                </a:lnTo>
                <a:lnTo>
                  <a:pt x="12259" y="482"/>
                </a:lnTo>
                <a:lnTo>
                  <a:pt x="12198" y="519"/>
                </a:lnTo>
                <a:lnTo>
                  <a:pt x="12136" y="554"/>
                </a:lnTo>
                <a:lnTo>
                  <a:pt x="12080" y="583"/>
                </a:lnTo>
                <a:lnTo>
                  <a:pt x="12020" y="735"/>
                </a:lnTo>
                <a:lnTo>
                  <a:pt x="11957" y="892"/>
                </a:lnTo>
                <a:lnTo>
                  <a:pt x="11892" y="1047"/>
                </a:lnTo>
                <a:lnTo>
                  <a:pt x="11826" y="1200"/>
                </a:lnTo>
                <a:cubicBezTo>
                  <a:pt x="11823" y="1209"/>
                  <a:pt x="11812" y="1213"/>
                  <a:pt x="11803" y="1210"/>
                </a:cubicBezTo>
                <a:cubicBezTo>
                  <a:pt x="11794" y="1206"/>
                  <a:pt x="11789" y="1197"/>
                  <a:pt x="11791" y="1187"/>
                </a:cubicBezTo>
                <a:lnTo>
                  <a:pt x="11907" y="662"/>
                </a:lnTo>
                <a:lnTo>
                  <a:pt x="11828" y="692"/>
                </a:lnTo>
                <a:lnTo>
                  <a:pt x="11714" y="732"/>
                </a:lnTo>
                <a:lnTo>
                  <a:pt x="11670" y="745"/>
                </a:lnTo>
                <a:lnTo>
                  <a:pt x="11555" y="774"/>
                </a:lnTo>
                <a:lnTo>
                  <a:pt x="11448" y="796"/>
                </a:lnTo>
                <a:lnTo>
                  <a:pt x="11384" y="924"/>
                </a:lnTo>
                <a:lnTo>
                  <a:pt x="11315" y="1058"/>
                </a:lnTo>
                <a:lnTo>
                  <a:pt x="11245" y="1189"/>
                </a:lnTo>
                <a:lnTo>
                  <a:pt x="11176" y="1319"/>
                </a:lnTo>
                <a:cubicBezTo>
                  <a:pt x="11170" y="1327"/>
                  <a:pt x="11160" y="1331"/>
                  <a:pt x="11152" y="1327"/>
                </a:cubicBezTo>
                <a:cubicBezTo>
                  <a:pt x="11144" y="1324"/>
                  <a:pt x="11138" y="1314"/>
                  <a:pt x="11142" y="1304"/>
                </a:cubicBezTo>
                <a:lnTo>
                  <a:pt x="11209" y="1051"/>
                </a:lnTo>
                <a:lnTo>
                  <a:pt x="11268" y="820"/>
                </a:lnTo>
                <a:lnTo>
                  <a:pt x="11197" y="827"/>
                </a:lnTo>
                <a:lnTo>
                  <a:pt x="11098" y="833"/>
                </a:lnTo>
                <a:lnTo>
                  <a:pt x="11011" y="834"/>
                </a:lnTo>
                <a:lnTo>
                  <a:pt x="10891" y="832"/>
                </a:lnTo>
                <a:lnTo>
                  <a:pt x="10773" y="825"/>
                </a:lnTo>
                <a:lnTo>
                  <a:pt x="10656" y="813"/>
                </a:lnTo>
                <a:lnTo>
                  <a:pt x="10554" y="799"/>
                </a:lnTo>
                <a:lnTo>
                  <a:pt x="10524" y="904"/>
                </a:lnTo>
                <a:cubicBezTo>
                  <a:pt x="10522" y="911"/>
                  <a:pt x="10516" y="917"/>
                  <a:pt x="10508" y="918"/>
                </a:cubicBezTo>
                <a:cubicBezTo>
                  <a:pt x="10500" y="918"/>
                  <a:pt x="10492" y="913"/>
                  <a:pt x="10489" y="905"/>
                </a:cubicBezTo>
                <a:lnTo>
                  <a:pt x="10478" y="876"/>
                </a:lnTo>
                <a:lnTo>
                  <a:pt x="10462" y="848"/>
                </a:lnTo>
                <a:lnTo>
                  <a:pt x="10443" y="824"/>
                </a:lnTo>
                <a:lnTo>
                  <a:pt x="10417" y="799"/>
                </a:lnTo>
                <a:lnTo>
                  <a:pt x="10387" y="777"/>
                </a:lnTo>
                <a:lnTo>
                  <a:pt x="10352" y="759"/>
                </a:lnTo>
                <a:lnTo>
                  <a:pt x="10314" y="742"/>
                </a:lnTo>
                <a:lnTo>
                  <a:pt x="10273" y="728"/>
                </a:lnTo>
                <a:lnTo>
                  <a:pt x="10229" y="717"/>
                </a:lnTo>
                <a:lnTo>
                  <a:pt x="10182" y="707"/>
                </a:lnTo>
                <a:lnTo>
                  <a:pt x="10136" y="703"/>
                </a:lnTo>
                <a:lnTo>
                  <a:pt x="10092" y="702"/>
                </a:lnTo>
                <a:lnTo>
                  <a:pt x="10051" y="704"/>
                </a:lnTo>
                <a:lnTo>
                  <a:pt x="10014" y="710"/>
                </a:lnTo>
                <a:lnTo>
                  <a:pt x="9979" y="720"/>
                </a:lnTo>
                <a:lnTo>
                  <a:pt x="9947" y="734"/>
                </a:lnTo>
                <a:lnTo>
                  <a:pt x="9917" y="750"/>
                </a:lnTo>
                <a:lnTo>
                  <a:pt x="9903" y="762"/>
                </a:lnTo>
                <a:cubicBezTo>
                  <a:pt x="9896" y="768"/>
                  <a:pt x="9887" y="768"/>
                  <a:pt x="9881" y="763"/>
                </a:cubicBezTo>
                <a:cubicBezTo>
                  <a:pt x="9874" y="757"/>
                  <a:pt x="9871" y="749"/>
                  <a:pt x="9873" y="741"/>
                </a:cubicBezTo>
                <a:lnTo>
                  <a:pt x="9898" y="655"/>
                </a:lnTo>
                <a:lnTo>
                  <a:pt x="9742" y="610"/>
                </a:lnTo>
                <a:lnTo>
                  <a:pt x="9566" y="555"/>
                </a:lnTo>
                <a:lnTo>
                  <a:pt x="9392" y="499"/>
                </a:lnTo>
                <a:lnTo>
                  <a:pt x="9237" y="448"/>
                </a:lnTo>
                <a:lnTo>
                  <a:pt x="9178" y="652"/>
                </a:lnTo>
                <a:cubicBezTo>
                  <a:pt x="9175" y="662"/>
                  <a:pt x="9165" y="668"/>
                  <a:pt x="9155" y="664"/>
                </a:cubicBezTo>
                <a:cubicBezTo>
                  <a:pt x="9151" y="663"/>
                  <a:pt x="9146" y="660"/>
                  <a:pt x="9144" y="655"/>
                </a:cubicBezTo>
                <a:lnTo>
                  <a:pt x="9142" y="641"/>
                </a:lnTo>
                <a:lnTo>
                  <a:pt x="9144" y="626"/>
                </a:lnTo>
                <a:lnTo>
                  <a:pt x="9146" y="593"/>
                </a:lnTo>
                <a:lnTo>
                  <a:pt x="9144" y="563"/>
                </a:lnTo>
                <a:lnTo>
                  <a:pt x="9138" y="534"/>
                </a:lnTo>
                <a:lnTo>
                  <a:pt x="9127" y="501"/>
                </a:lnTo>
                <a:lnTo>
                  <a:pt x="9110" y="471"/>
                </a:lnTo>
                <a:lnTo>
                  <a:pt x="9090" y="441"/>
                </a:lnTo>
                <a:lnTo>
                  <a:pt x="9065" y="413"/>
                </a:lnTo>
                <a:lnTo>
                  <a:pt x="9036" y="387"/>
                </a:lnTo>
                <a:lnTo>
                  <a:pt x="9002" y="364"/>
                </a:lnTo>
                <a:lnTo>
                  <a:pt x="8966" y="343"/>
                </a:lnTo>
                <a:lnTo>
                  <a:pt x="8925" y="325"/>
                </a:lnTo>
                <a:lnTo>
                  <a:pt x="8882" y="309"/>
                </a:lnTo>
                <a:lnTo>
                  <a:pt x="8836" y="297"/>
                </a:lnTo>
                <a:lnTo>
                  <a:pt x="8791" y="289"/>
                </a:lnTo>
                <a:lnTo>
                  <a:pt x="8750" y="284"/>
                </a:lnTo>
                <a:lnTo>
                  <a:pt x="8709" y="285"/>
                </a:lnTo>
                <a:lnTo>
                  <a:pt x="8680" y="289"/>
                </a:lnTo>
                <a:lnTo>
                  <a:pt x="8653" y="294"/>
                </a:lnTo>
                <a:lnTo>
                  <a:pt x="8628" y="301"/>
                </a:lnTo>
                <a:lnTo>
                  <a:pt x="8604" y="312"/>
                </a:lnTo>
                <a:lnTo>
                  <a:pt x="8573" y="330"/>
                </a:lnTo>
                <a:cubicBezTo>
                  <a:pt x="8567" y="334"/>
                  <a:pt x="8559" y="334"/>
                  <a:pt x="8552" y="328"/>
                </a:cubicBezTo>
                <a:cubicBezTo>
                  <a:pt x="8547" y="323"/>
                  <a:pt x="8545" y="315"/>
                  <a:pt x="8547" y="307"/>
                </a:cubicBezTo>
                <a:lnTo>
                  <a:pt x="8567" y="236"/>
                </a:lnTo>
                <a:lnTo>
                  <a:pt x="8456" y="206"/>
                </a:lnTo>
                <a:lnTo>
                  <a:pt x="8326" y="172"/>
                </a:lnTo>
                <a:lnTo>
                  <a:pt x="8196" y="141"/>
                </a:lnTo>
                <a:lnTo>
                  <a:pt x="8082" y="118"/>
                </a:lnTo>
                <a:lnTo>
                  <a:pt x="8055" y="211"/>
                </a:lnTo>
                <a:cubicBezTo>
                  <a:pt x="8052" y="219"/>
                  <a:pt x="8045" y="225"/>
                  <a:pt x="8036" y="225"/>
                </a:cubicBezTo>
                <a:cubicBezTo>
                  <a:pt x="8029" y="225"/>
                  <a:pt x="8021" y="218"/>
                  <a:pt x="8019" y="209"/>
                </a:cubicBezTo>
                <a:lnTo>
                  <a:pt x="8015" y="198"/>
                </a:lnTo>
                <a:lnTo>
                  <a:pt x="8007" y="175"/>
                </a:lnTo>
                <a:lnTo>
                  <a:pt x="7996" y="154"/>
                </a:lnTo>
                <a:lnTo>
                  <a:pt x="7981" y="134"/>
                </a:lnTo>
                <a:lnTo>
                  <a:pt x="7962" y="116"/>
                </a:lnTo>
                <a:lnTo>
                  <a:pt x="7938" y="100"/>
                </a:lnTo>
                <a:lnTo>
                  <a:pt x="7910" y="85"/>
                </a:lnTo>
                <a:lnTo>
                  <a:pt x="7875" y="71"/>
                </a:lnTo>
                <a:lnTo>
                  <a:pt x="7836" y="59"/>
                </a:lnTo>
                <a:lnTo>
                  <a:pt x="7791" y="50"/>
                </a:lnTo>
                <a:lnTo>
                  <a:pt x="7741" y="43"/>
                </a:lnTo>
                <a:lnTo>
                  <a:pt x="7700" y="41"/>
                </a:lnTo>
                <a:lnTo>
                  <a:pt x="7662" y="40"/>
                </a:lnTo>
                <a:close/>
                <a:moveTo>
                  <a:pt x="1671" y="27"/>
                </a:moveTo>
                <a:lnTo>
                  <a:pt x="1721" y="28"/>
                </a:lnTo>
                <a:lnTo>
                  <a:pt x="1772" y="34"/>
                </a:lnTo>
                <a:lnTo>
                  <a:pt x="1806" y="41"/>
                </a:lnTo>
                <a:lnTo>
                  <a:pt x="1838" y="49"/>
                </a:lnTo>
                <a:lnTo>
                  <a:pt x="1869" y="58"/>
                </a:lnTo>
                <a:lnTo>
                  <a:pt x="1897" y="70"/>
                </a:lnTo>
                <a:lnTo>
                  <a:pt x="1924" y="83"/>
                </a:lnTo>
                <a:lnTo>
                  <a:pt x="1949" y="97"/>
                </a:lnTo>
                <a:lnTo>
                  <a:pt x="1972" y="113"/>
                </a:lnTo>
                <a:lnTo>
                  <a:pt x="1993" y="129"/>
                </a:lnTo>
                <a:lnTo>
                  <a:pt x="2010" y="145"/>
                </a:lnTo>
                <a:lnTo>
                  <a:pt x="2016" y="124"/>
                </a:lnTo>
                <a:cubicBezTo>
                  <a:pt x="2019" y="114"/>
                  <a:pt x="2028" y="108"/>
                  <a:pt x="2038" y="111"/>
                </a:cubicBezTo>
                <a:lnTo>
                  <a:pt x="2184" y="147"/>
                </a:lnTo>
                <a:lnTo>
                  <a:pt x="2329" y="185"/>
                </a:lnTo>
                <a:lnTo>
                  <a:pt x="2474" y="227"/>
                </a:lnTo>
                <a:lnTo>
                  <a:pt x="2618" y="271"/>
                </a:lnTo>
                <a:lnTo>
                  <a:pt x="2709" y="299"/>
                </a:lnTo>
                <a:lnTo>
                  <a:pt x="2925" y="370"/>
                </a:lnTo>
                <a:lnTo>
                  <a:pt x="2954" y="379"/>
                </a:lnTo>
                <a:lnTo>
                  <a:pt x="2982" y="390"/>
                </a:lnTo>
                <a:lnTo>
                  <a:pt x="3007" y="400"/>
                </a:lnTo>
                <a:lnTo>
                  <a:pt x="3032" y="410"/>
                </a:lnTo>
                <a:lnTo>
                  <a:pt x="3054" y="421"/>
                </a:lnTo>
                <a:lnTo>
                  <a:pt x="3075" y="430"/>
                </a:lnTo>
                <a:lnTo>
                  <a:pt x="3093" y="441"/>
                </a:lnTo>
                <a:lnTo>
                  <a:pt x="3110" y="451"/>
                </a:lnTo>
                <a:lnTo>
                  <a:pt x="3141" y="472"/>
                </a:lnTo>
                <a:lnTo>
                  <a:pt x="3166" y="493"/>
                </a:lnTo>
                <a:lnTo>
                  <a:pt x="3187" y="517"/>
                </a:lnTo>
                <a:cubicBezTo>
                  <a:pt x="3188" y="517"/>
                  <a:pt x="3188" y="518"/>
                  <a:pt x="3188" y="519"/>
                </a:cubicBezTo>
                <a:lnTo>
                  <a:pt x="3204" y="541"/>
                </a:lnTo>
                <a:cubicBezTo>
                  <a:pt x="3204" y="541"/>
                  <a:pt x="3205" y="542"/>
                  <a:pt x="3205" y="543"/>
                </a:cubicBezTo>
                <a:lnTo>
                  <a:pt x="3216" y="565"/>
                </a:lnTo>
                <a:lnTo>
                  <a:pt x="3223" y="588"/>
                </a:lnTo>
                <a:lnTo>
                  <a:pt x="3264" y="499"/>
                </a:lnTo>
                <a:cubicBezTo>
                  <a:pt x="3269" y="491"/>
                  <a:pt x="3277" y="486"/>
                  <a:pt x="3286" y="489"/>
                </a:cubicBezTo>
                <a:lnTo>
                  <a:pt x="3509" y="560"/>
                </a:lnTo>
                <a:lnTo>
                  <a:pt x="3733" y="624"/>
                </a:lnTo>
                <a:cubicBezTo>
                  <a:pt x="3742" y="627"/>
                  <a:pt x="3747" y="636"/>
                  <a:pt x="3746" y="646"/>
                </a:cubicBezTo>
                <a:lnTo>
                  <a:pt x="3729" y="786"/>
                </a:lnTo>
                <a:lnTo>
                  <a:pt x="3768" y="654"/>
                </a:lnTo>
                <a:cubicBezTo>
                  <a:pt x="3770" y="643"/>
                  <a:pt x="3780" y="638"/>
                  <a:pt x="3790" y="640"/>
                </a:cubicBezTo>
                <a:lnTo>
                  <a:pt x="3952" y="682"/>
                </a:lnTo>
                <a:lnTo>
                  <a:pt x="4115" y="718"/>
                </a:lnTo>
                <a:cubicBezTo>
                  <a:pt x="4121" y="719"/>
                  <a:pt x="4124" y="722"/>
                  <a:pt x="4127" y="727"/>
                </a:cubicBezTo>
                <a:cubicBezTo>
                  <a:pt x="4130" y="732"/>
                  <a:pt x="4131" y="738"/>
                  <a:pt x="4130" y="742"/>
                </a:cubicBezTo>
                <a:lnTo>
                  <a:pt x="4030" y="1085"/>
                </a:lnTo>
                <a:lnTo>
                  <a:pt x="4055" y="1090"/>
                </a:lnTo>
                <a:lnTo>
                  <a:pt x="4154" y="743"/>
                </a:lnTo>
                <a:cubicBezTo>
                  <a:pt x="4156" y="734"/>
                  <a:pt x="4165" y="728"/>
                  <a:pt x="4174" y="729"/>
                </a:cubicBezTo>
                <a:lnTo>
                  <a:pt x="4318" y="755"/>
                </a:lnTo>
                <a:lnTo>
                  <a:pt x="4464" y="775"/>
                </a:lnTo>
                <a:lnTo>
                  <a:pt x="4504" y="780"/>
                </a:lnTo>
                <a:lnTo>
                  <a:pt x="4628" y="790"/>
                </a:lnTo>
                <a:lnTo>
                  <a:pt x="4750" y="795"/>
                </a:lnTo>
                <a:lnTo>
                  <a:pt x="4874" y="795"/>
                </a:lnTo>
                <a:lnTo>
                  <a:pt x="4996" y="789"/>
                </a:lnTo>
                <a:cubicBezTo>
                  <a:pt x="5003" y="789"/>
                  <a:pt x="5008" y="791"/>
                  <a:pt x="5011" y="797"/>
                </a:cubicBezTo>
                <a:cubicBezTo>
                  <a:pt x="5016" y="802"/>
                  <a:pt x="5017" y="809"/>
                  <a:pt x="5015" y="813"/>
                </a:cubicBezTo>
                <a:lnTo>
                  <a:pt x="4948" y="1067"/>
                </a:lnTo>
                <a:cubicBezTo>
                  <a:pt x="4945" y="1075"/>
                  <a:pt x="4938" y="1081"/>
                  <a:pt x="4930" y="1081"/>
                </a:cubicBezTo>
                <a:lnTo>
                  <a:pt x="4828" y="1083"/>
                </a:lnTo>
                <a:lnTo>
                  <a:pt x="4741" y="1082"/>
                </a:lnTo>
                <a:lnTo>
                  <a:pt x="4703" y="1220"/>
                </a:lnTo>
                <a:lnTo>
                  <a:pt x="4773" y="1224"/>
                </a:lnTo>
                <a:lnTo>
                  <a:pt x="4867" y="1225"/>
                </a:lnTo>
                <a:cubicBezTo>
                  <a:pt x="4873" y="1225"/>
                  <a:pt x="4878" y="1227"/>
                  <a:pt x="4882" y="1233"/>
                </a:cubicBezTo>
                <a:cubicBezTo>
                  <a:pt x="4886" y="1238"/>
                  <a:pt x="4887" y="1244"/>
                  <a:pt x="4885" y="1250"/>
                </a:cubicBezTo>
                <a:lnTo>
                  <a:pt x="4821" y="1487"/>
                </a:lnTo>
                <a:cubicBezTo>
                  <a:pt x="4819" y="1495"/>
                  <a:pt x="4811" y="1501"/>
                  <a:pt x="4802" y="1501"/>
                </a:cubicBezTo>
                <a:lnTo>
                  <a:pt x="4707" y="1496"/>
                </a:lnTo>
                <a:lnTo>
                  <a:pt x="4628" y="1492"/>
                </a:lnTo>
                <a:lnTo>
                  <a:pt x="4580" y="1659"/>
                </a:lnTo>
                <a:lnTo>
                  <a:pt x="4669" y="1667"/>
                </a:lnTo>
                <a:lnTo>
                  <a:pt x="4779" y="1674"/>
                </a:lnTo>
                <a:cubicBezTo>
                  <a:pt x="4784" y="1674"/>
                  <a:pt x="4790" y="1677"/>
                  <a:pt x="4793" y="1682"/>
                </a:cubicBezTo>
                <a:cubicBezTo>
                  <a:pt x="4796" y="1687"/>
                  <a:pt x="4798" y="1693"/>
                  <a:pt x="4796" y="1699"/>
                </a:cubicBezTo>
                <a:lnTo>
                  <a:pt x="4729" y="1943"/>
                </a:lnTo>
                <a:cubicBezTo>
                  <a:pt x="4726" y="1951"/>
                  <a:pt x="4718" y="1957"/>
                  <a:pt x="4709" y="1957"/>
                </a:cubicBezTo>
                <a:lnTo>
                  <a:pt x="4582" y="1945"/>
                </a:lnTo>
                <a:lnTo>
                  <a:pt x="4453" y="1929"/>
                </a:lnTo>
                <a:lnTo>
                  <a:pt x="4324" y="1908"/>
                </a:lnTo>
                <a:lnTo>
                  <a:pt x="4196" y="1882"/>
                </a:lnTo>
                <a:lnTo>
                  <a:pt x="4156" y="1874"/>
                </a:lnTo>
                <a:lnTo>
                  <a:pt x="4013" y="1841"/>
                </a:lnTo>
                <a:lnTo>
                  <a:pt x="3869" y="1804"/>
                </a:lnTo>
                <a:cubicBezTo>
                  <a:pt x="3865" y="1803"/>
                  <a:pt x="3861" y="1800"/>
                  <a:pt x="3858" y="1795"/>
                </a:cubicBezTo>
                <a:cubicBezTo>
                  <a:pt x="3856" y="1791"/>
                  <a:pt x="3855" y="1785"/>
                  <a:pt x="3856" y="1780"/>
                </a:cubicBezTo>
                <a:lnTo>
                  <a:pt x="3972" y="1379"/>
                </a:lnTo>
                <a:lnTo>
                  <a:pt x="3949" y="1373"/>
                </a:lnTo>
                <a:lnTo>
                  <a:pt x="3833" y="1774"/>
                </a:lnTo>
                <a:cubicBezTo>
                  <a:pt x="3830" y="1785"/>
                  <a:pt x="3820" y="1791"/>
                  <a:pt x="3810" y="1788"/>
                </a:cubicBezTo>
                <a:lnTo>
                  <a:pt x="3600" y="1727"/>
                </a:lnTo>
                <a:lnTo>
                  <a:pt x="3489" y="1692"/>
                </a:lnTo>
                <a:lnTo>
                  <a:pt x="3275" y="1623"/>
                </a:lnTo>
                <a:cubicBezTo>
                  <a:pt x="3266" y="1620"/>
                  <a:pt x="3261" y="1610"/>
                  <a:pt x="3262" y="1600"/>
                </a:cubicBezTo>
                <a:lnTo>
                  <a:pt x="3294" y="1437"/>
                </a:lnTo>
                <a:lnTo>
                  <a:pt x="3249" y="1422"/>
                </a:lnTo>
                <a:lnTo>
                  <a:pt x="3188" y="1575"/>
                </a:lnTo>
                <a:cubicBezTo>
                  <a:pt x="3184" y="1585"/>
                  <a:pt x="3174" y="1590"/>
                  <a:pt x="3165" y="1587"/>
                </a:cubicBezTo>
                <a:lnTo>
                  <a:pt x="2838" y="1480"/>
                </a:lnTo>
                <a:cubicBezTo>
                  <a:pt x="2833" y="1478"/>
                  <a:pt x="2829" y="1474"/>
                  <a:pt x="2827" y="1468"/>
                </a:cubicBezTo>
                <a:cubicBezTo>
                  <a:pt x="2824" y="1464"/>
                  <a:pt x="2824" y="1458"/>
                  <a:pt x="2827" y="1452"/>
                </a:cubicBezTo>
                <a:lnTo>
                  <a:pt x="3003" y="1069"/>
                </a:lnTo>
                <a:lnTo>
                  <a:pt x="2991" y="1070"/>
                </a:lnTo>
                <a:lnTo>
                  <a:pt x="2951" y="1070"/>
                </a:lnTo>
                <a:lnTo>
                  <a:pt x="2909" y="1066"/>
                </a:lnTo>
                <a:lnTo>
                  <a:pt x="2864" y="1056"/>
                </a:lnTo>
                <a:lnTo>
                  <a:pt x="2814" y="1042"/>
                </a:lnTo>
                <a:lnTo>
                  <a:pt x="2769" y="1027"/>
                </a:lnTo>
                <a:lnTo>
                  <a:pt x="2661" y="1404"/>
                </a:lnTo>
                <a:cubicBezTo>
                  <a:pt x="2658" y="1415"/>
                  <a:pt x="2648" y="1421"/>
                  <a:pt x="2638" y="1417"/>
                </a:cubicBezTo>
                <a:lnTo>
                  <a:pt x="2477" y="1369"/>
                </a:lnTo>
                <a:lnTo>
                  <a:pt x="2316" y="1325"/>
                </a:lnTo>
                <a:cubicBezTo>
                  <a:pt x="2311" y="1324"/>
                  <a:pt x="2307" y="1320"/>
                  <a:pt x="2304" y="1316"/>
                </a:cubicBezTo>
                <a:cubicBezTo>
                  <a:pt x="2302" y="1311"/>
                  <a:pt x="2302" y="1305"/>
                  <a:pt x="2303" y="1301"/>
                </a:cubicBezTo>
                <a:lnTo>
                  <a:pt x="2418" y="903"/>
                </a:lnTo>
                <a:lnTo>
                  <a:pt x="2526" y="527"/>
                </a:lnTo>
                <a:lnTo>
                  <a:pt x="2479" y="513"/>
                </a:lnTo>
                <a:lnTo>
                  <a:pt x="2370" y="891"/>
                </a:lnTo>
                <a:lnTo>
                  <a:pt x="2256" y="1290"/>
                </a:lnTo>
                <a:cubicBezTo>
                  <a:pt x="2253" y="1301"/>
                  <a:pt x="2243" y="1305"/>
                  <a:pt x="2235" y="1304"/>
                </a:cubicBezTo>
                <a:lnTo>
                  <a:pt x="2071" y="1266"/>
                </a:lnTo>
                <a:lnTo>
                  <a:pt x="1908" y="1233"/>
                </a:lnTo>
                <a:cubicBezTo>
                  <a:pt x="1903" y="1232"/>
                  <a:pt x="1898" y="1229"/>
                  <a:pt x="1895" y="1224"/>
                </a:cubicBezTo>
                <a:cubicBezTo>
                  <a:pt x="1892" y="1219"/>
                  <a:pt x="1892" y="1213"/>
                  <a:pt x="1894" y="1208"/>
                </a:cubicBezTo>
                <a:lnTo>
                  <a:pt x="2010" y="799"/>
                </a:lnTo>
                <a:lnTo>
                  <a:pt x="2120" y="415"/>
                </a:lnTo>
                <a:lnTo>
                  <a:pt x="2076" y="403"/>
                </a:lnTo>
                <a:lnTo>
                  <a:pt x="2075" y="417"/>
                </a:lnTo>
                <a:lnTo>
                  <a:pt x="2068" y="448"/>
                </a:lnTo>
                <a:lnTo>
                  <a:pt x="2059" y="480"/>
                </a:lnTo>
                <a:lnTo>
                  <a:pt x="2049" y="517"/>
                </a:lnTo>
                <a:lnTo>
                  <a:pt x="2019" y="626"/>
                </a:lnTo>
                <a:cubicBezTo>
                  <a:pt x="2016" y="635"/>
                  <a:pt x="2008" y="642"/>
                  <a:pt x="1998" y="640"/>
                </a:cubicBezTo>
                <a:lnTo>
                  <a:pt x="1833" y="608"/>
                </a:lnTo>
                <a:lnTo>
                  <a:pt x="1669" y="583"/>
                </a:lnTo>
                <a:cubicBezTo>
                  <a:pt x="1664" y="582"/>
                  <a:pt x="1659" y="579"/>
                  <a:pt x="1656" y="574"/>
                </a:cubicBezTo>
                <a:cubicBezTo>
                  <a:pt x="1654" y="570"/>
                  <a:pt x="1653" y="563"/>
                  <a:pt x="1654" y="558"/>
                </a:cubicBezTo>
                <a:lnTo>
                  <a:pt x="1709" y="362"/>
                </a:lnTo>
                <a:lnTo>
                  <a:pt x="1714" y="344"/>
                </a:lnTo>
                <a:lnTo>
                  <a:pt x="1718" y="328"/>
                </a:lnTo>
                <a:lnTo>
                  <a:pt x="1721" y="314"/>
                </a:lnTo>
                <a:lnTo>
                  <a:pt x="1724" y="302"/>
                </a:lnTo>
                <a:lnTo>
                  <a:pt x="1725" y="292"/>
                </a:lnTo>
                <a:lnTo>
                  <a:pt x="1726" y="285"/>
                </a:lnTo>
                <a:lnTo>
                  <a:pt x="1728" y="280"/>
                </a:lnTo>
                <a:lnTo>
                  <a:pt x="1726" y="280"/>
                </a:lnTo>
                <a:lnTo>
                  <a:pt x="1726" y="279"/>
                </a:lnTo>
                <a:lnTo>
                  <a:pt x="1723" y="278"/>
                </a:lnTo>
                <a:lnTo>
                  <a:pt x="1716" y="276"/>
                </a:lnTo>
                <a:lnTo>
                  <a:pt x="1708" y="276"/>
                </a:lnTo>
                <a:lnTo>
                  <a:pt x="1702" y="277"/>
                </a:lnTo>
                <a:lnTo>
                  <a:pt x="1699" y="279"/>
                </a:lnTo>
                <a:lnTo>
                  <a:pt x="1696" y="283"/>
                </a:lnTo>
                <a:lnTo>
                  <a:pt x="1693" y="286"/>
                </a:lnTo>
                <a:lnTo>
                  <a:pt x="1690" y="292"/>
                </a:lnTo>
                <a:lnTo>
                  <a:pt x="1687" y="299"/>
                </a:lnTo>
                <a:lnTo>
                  <a:pt x="1682" y="309"/>
                </a:lnTo>
                <a:lnTo>
                  <a:pt x="1678" y="322"/>
                </a:lnTo>
                <a:lnTo>
                  <a:pt x="1675" y="336"/>
                </a:lnTo>
                <a:lnTo>
                  <a:pt x="1669" y="353"/>
                </a:lnTo>
                <a:lnTo>
                  <a:pt x="1664" y="371"/>
                </a:lnTo>
                <a:lnTo>
                  <a:pt x="1595" y="618"/>
                </a:lnTo>
                <a:lnTo>
                  <a:pt x="1526" y="864"/>
                </a:lnTo>
                <a:lnTo>
                  <a:pt x="1517" y="898"/>
                </a:lnTo>
                <a:lnTo>
                  <a:pt x="1510" y="925"/>
                </a:lnTo>
                <a:lnTo>
                  <a:pt x="1508" y="944"/>
                </a:lnTo>
                <a:lnTo>
                  <a:pt x="1508" y="951"/>
                </a:lnTo>
                <a:lnTo>
                  <a:pt x="1508" y="952"/>
                </a:lnTo>
                <a:lnTo>
                  <a:pt x="1510" y="953"/>
                </a:lnTo>
                <a:lnTo>
                  <a:pt x="1517" y="954"/>
                </a:lnTo>
                <a:lnTo>
                  <a:pt x="1525" y="954"/>
                </a:lnTo>
                <a:lnTo>
                  <a:pt x="1530" y="953"/>
                </a:lnTo>
                <a:lnTo>
                  <a:pt x="1535" y="951"/>
                </a:lnTo>
                <a:lnTo>
                  <a:pt x="1538" y="946"/>
                </a:lnTo>
                <a:lnTo>
                  <a:pt x="1541" y="942"/>
                </a:lnTo>
                <a:lnTo>
                  <a:pt x="1543" y="937"/>
                </a:lnTo>
                <a:lnTo>
                  <a:pt x="1548" y="927"/>
                </a:lnTo>
                <a:lnTo>
                  <a:pt x="1551" y="917"/>
                </a:lnTo>
                <a:lnTo>
                  <a:pt x="1556" y="903"/>
                </a:lnTo>
                <a:lnTo>
                  <a:pt x="1561" y="888"/>
                </a:lnTo>
                <a:lnTo>
                  <a:pt x="1567" y="870"/>
                </a:lnTo>
                <a:lnTo>
                  <a:pt x="1572" y="850"/>
                </a:lnTo>
                <a:lnTo>
                  <a:pt x="1613" y="704"/>
                </a:lnTo>
                <a:cubicBezTo>
                  <a:pt x="1615" y="695"/>
                  <a:pt x="1624" y="689"/>
                  <a:pt x="1633" y="690"/>
                </a:cubicBezTo>
                <a:lnTo>
                  <a:pt x="1715" y="700"/>
                </a:lnTo>
                <a:lnTo>
                  <a:pt x="1798" y="713"/>
                </a:lnTo>
                <a:lnTo>
                  <a:pt x="1963" y="742"/>
                </a:lnTo>
                <a:cubicBezTo>
                  <a:pt x="1969" y="743"/>
                  <a:pt x="1973" y="747"/>
                  <a:pt x="1977" y="752"/>
                </a:cubicBezTo>
                <a:cubicBezTo>
                  <a:pt x="1979" y="756"/>
                  <a:pt x="1980" y="762"/>
                  <a:pt x="1978" y="768"/>
                </a:cubicBezTo>
                <a:lnTo>
                  <a:pt x="1963" y="820"/>
                </a:lnTo>
                <a:lnTo>
                  <a:pt x="1951" y="860"/>
                </a:lnTo>
                <a:lnTo>
                  <a:pt x="1940" y="896"/>
                </a:lnTo>
                <a:lnTo>
                  <a:pt x="1928" y="930"/>
                </a:lnTo>
                <a:lnTo>
                  <a:pt x="1916" y="960"/>
                </a:lnTo>
                <a:lnTo>
                  <a:pt x="1904" y="987"/>
                </a:lnTo>
                <a:lnTo>
                  <a:pt x="1893" y="1012"/>
                </a:lnTo>
                <a:lnTo>
                  <a:pt x="1881" y="1034"/>
                </a:lnTo>
                <a:lnTo>
                  <a:pt x="1869" y="1053"/>
                </a:lnTo>
                <a:lnTo>
                  <a:pt x="1855" y="1070"/>
                </a:lnTo>
                <a:lnTo>
                  <a:pt x="1839" y="1087"/>
                </a:lnTo>
                <a:lnTo>
                  <a:pt x="1821" y="1103"/>
                </a:lnTo>
                <a:lnTo>
                  <a:pt x="1802" y="1117"/>
                </a:lnTo>
                <a:lnTo>
                  <a:pt x="1782" y="1131"/>
                </a:lnTo>
                <a:lnTo>
                  <a:pt x="1758" y="1144"/>
                </a:lnTo>
                <a:lnTo>
                  <a:pt x="1734" y="1155"/>
                </a:lnTo>
                <a:lnTo>
                  <a:pt x="1708" y="1167"/>
                </a:lnTo>
                <a:lnTo>
                  <a:pt x="1651" y="1186"/>
                </a:lnTo>
                <a:lnTo>
                  <a:pt x="1591" y="1198"/>
                </a:lnTo>
                <a:lnTo>
                  <a:pt x="1528" y="1204"/>
                </a:lnTo>
                <a:lnTo>
                  <a:pt x="1462" y="1204"/>
                </a:lnTo>
                <a:lnTo>
                  <a:pt x="1428" y="1202"/>
                </a:lnTo>
                <a:lnTo>
                  <a:pt x="1396" y="1198"/>
                </a:lnTo>
                <a:lnTo>
                  <a:pt x="1365" y="1194"/>
                </a:lnTo>
                <a:lnTo>
                  <a:pt x="1336" y="1189"/>
                </a:lnTo>
                <a:lnTo>
                  <a:pt x="1310" y="1182"/>
                </a:lnTo>
                <a:lnTo>
                  <a:pt x="1284" y="1173"/>
                </a:lnTo>
                <a:lnTo>
                  <a:pt x="1261" y="1163"/>
                </a:lnTo>
                <a:lnTo>
                  <a:pt x="1238" y="1153"/>
                </a:lnTo>
                <a:lnTo>
                  <a:pt x="1219" y="1139"/>
                </a:lnTo>
                <a:lnTo>
                  <a:pt x="1202" y="1125"/>
                </a:lnTo>
                <a:lnTo>
                  <a:pt x="1186" y="1110"/>
                </a:lnTo>
                <a:lnTo>
                  <a:pt x="1173" y="1092"/>
                </a:lnTo>
                <a:lnTo>
                  <a:pt x="1162" y="1074"/>
                </a:lnTo>
                <a:lnTo>
                  <a:pt x="1154" y="1053"/>
                </a:lnTo>
                <a:cubicBezTo>
                  <a:pt x="1153" y="1053"/>
                  <a:pt x="1153" y="1052"/>
                  <a:pt x="1153" y="1051"/>
                </a:cubicBezTo>
                <a:lnTo>
                  <a:pt x="1148" y="1031"/>
                </a:lnTo>
                <a:lnTo>
                  <a:pt x="1144" y="1009"/>
                </a:lnTo>
                <a:lnTo>
                  <a:pt x="1143" y="984"/>
                </a:lnTo>
                <a:lnTo>
                  <a:pt x="1144" y="958"/>
                </a:lnTo>
                <a:lnTo>
                  <a:pt x="1148" y="930"/>
                </a:lnTo>
                <a:lnTo>
                  <a:pt x="1151" y="898"/>
                </a:lnTo>
                <a:lnTo>
                  <a:pt x="1156" y="866"/>
                </a:lnTo>
                <a:lnTo>
                  <a:pt x="1164" y="830"/>
                </a:lnTo>
                <a:lnTo>
                  <a:pt x="1173" y="790"/>
                </a:lnTo>
                <a:lnTo>
                  <a:pt x="1183" y="749"/>
                </a:lnTo>
                <a:lnTo>
                  <a:pt x="1270" y="426"/>
                </a:lnTo>
                <a:lnTo>
                  <a:pt x="1278" y="396"/>
                </a:lnTo>
                <a:lnTo>
                  <a:pt x="1287" y="369"/>
                </a:lnTo>
                <a:lnTo>
                  <a:pt x="1294" y="343"/>
                </a:lnTo>
                <a:lnTo>
                  <a:pt x="1302" y="319"/>
                </a:lnTo>
                <a:lnTo>
                  <a:pt x="1309" y="297"/>
                </a:lnTo>
                <a:lnTo>
                  <a:pt x="1316" y="277"/>
                </a:lnTo>
                <a:lnTo>
                  <a:pt x="1323" y="259"/>
                </a:lnTo>
                <a:lnTo>
                  <a:pt x="1330" y="242"/>
                </a:lnTo>
                <a:lnTo>
                  <a:pt x="1345" y="212"/>
                </a:lnTo>
                <a:lnTo>
                  <a:pt x="1366" y="179"/>
                </a:lnTo>
                <a:lnTo>
                  <a:pt x="1390" y="150"/>
                </a:lnTo>
                <a:lnTo>
                  <a:pt x="1420" y="121"/>
                </a:lnTo>
                <a:lnTo>
                  <a:pt x="1454" y="95"/>
                </a:lnTo>
                <a:lnTo>
                  <a:pt x="1491" y="72"/>
                </a:lnTo>
                <a:lnTo>
                  <a:pt x="1531" y="55"/>
                </a:lnTo>
                <a:lnTo>
                  <a:pt x="1576" y="41"/>
                </a:lnTo>
                <a:lnTo>
                  <a:pt x="1623" y="30"/>
                </a:lnTo>
                <a:lnTo>
                  <a:pt x="1671" y="27"/>
                </a:lnTo>
                <a:close/>
                <a:moveTo>
                  <a:pt x="7660" y="0"/>
                </a:moveTo>
                <a:lnTo>
                  <a:pt x="7701" y="1"/>
                </a:lnTo>
                <a:lnTo>
                  <a:pt x="7743" y="3"/>
                </a:lnTo>
                <a:lnTo>
                  <a:pt x="7795" y="10"/>
                </a:lnTo>
                <a:lnTo>
                  <a:pt x="7842" y="21"/>
                </a:lnTo>
                <a:lnTo>
                  <a:pt x="7884" y="33"/>
                </a:lnTo>
                <a:lnTo>
                  <a:pt x="7923" y="48"/>
                </a:lnTo>
                <a:lnTo>
                  <a:pt x="7956" y="64"/>
                </a:lnTo>
                <a:lnTo>
                  <a:pt x="7983" y="84"/>
                </a:lnTo>
                <a:cubicBezTo>
                  <a:pt x="7985" y="85"/>
                  <a:pt x="7985" y="85"/>
                  <a:pt x="7986" y="86"/>
                </a:cubicBezTo>
                <a:lnTo>
                  <a:pt x="8008" y="106"/>
                </a:lnTo>
                <a:cubicBezTo>
                  <a:pt x="8008" y="106"/>
                  <a:pt x="8009" y="107"/>
                  <a:pt x="8009" y="108"/>
                </a:cubicBezTo>
                <a:lnTo>
                  <a:pt x="8025" y="129"/>
                </a:lnTo>
                <a:cubicBezTo>
                  <a:pt x="8026" y="130"/>
                  <a:pt x="8028" y="131"/>
                  <a:pt x="8028" y="133"/>
                </a:cubicBezTo>
                <a:lnTo>
                  <a:pt x="8034" y="145"/>
                </a:lnTo>
                <a:lnTo>
                  <a:pt x="8050" y="90"/>
                </a:lnTo>
                <a:cubicBezTo>
                  <a:pt x="8053" y="79"/>
                  <a:pt x="8062" y="73"/>
                  <a:pt x="8072" y="76"/>
                </a:cubicBezTo>
                <a:lnTo>
                  <a:pt x="8203" y="102"/>
                </a:lnTo>
                <a:lnTo>
                  <a:pt x="8335" y="134"/>
                </a:lnTo>
                <a:lnTo>
                  <a:pt x="8465" y="168"/>
                </a:lnTo>
                <a:lnTo>
                  <a:pt x="8595" y="204"/>
                </a:lnTo>
                <a:cubicBezTo>
                  <a:pt x="8600" y="205"/>
                  <a:pt x="8604" y="208"/>
                  <a:pt x="8606" y="213"/>
                </a:cubicBezTo>
                <a:cubicBezTo>
                  <a:pt x="8608" y="218"/>
                  <a:pt x="8610" y="223"/>
                  <a:pt x="8608" y="228"/>
                </a:cubicBezTo>
                <a:lnTo>
                  <a:pt x="8595" y="273"/>
                </a:lnTo>
                <a:lnTo>
                  <a:pt x="8614" y="265"/>
                </a:lnTo>
                <a:lnTo>
                  <a:pt x="8643" y="256"/>
                </a:lnTo>
                <a:lnTo>
                  <a:pt x="8672" y="250"/>
                </a:lnTo>
                <a:lnTo>
                  <a:pt x="8704" y="245"/>
                </a:lnTo>
                <a:lnTo>
                  <a:pt x="8748" y="245"/>
                </a:lnTo>
                <a:lnTo>
                  <a:pt x="8795" y="249"/>
                </a:lnTo>
                <a:lnTo>
                  <a:pt x="8842" y="257"/>
                </a:lnTo>
                <a:lnTo>
                  <a:pt x="8892" y="271"/>
                </a:lnTo>
                <a:lnTo>
                  <a:pt x="8937" y="287"/>
                </a:lnTo>
                <a:lnTo>
                  <a:pt x="8980" y="307"/>
                </a:lnTo>
                <a:lnTo>
                  <a:pt x="9020" y="329"/>
                </a:lnTo>
                <a:lnTo>
                  <a:pt x="9056" y="355"/>
                </a:lnTo>
                <a:lnTo>
                  <a:pt x="9089" y="382"/>
                </a:lnTo>
                <a:lnTo>
                  <a:pt x="9117" y="413"/>
                </a:lnTo>
                <a:lnTo>
                  <a:pt x="9141" y="447"/>
                </a:lnTo>
                <a:lnTo>
                  <a:pt x="9159" y="483"/>
                </a:lnTo>
                <a:lnTo>
                  <a:pt x="9173" y="519"/>
                </a:lnTo>
                <a:lnTo>
                  <a:pt x="9175" y="528"/>
                </a:lnTo>
                <a:lnTo>
                  <a:pt x="9206" y="418"/>
                </a:lnTo>
                <a:cubicBezTo>
                  <a:pt x="9208" y="411"/>
                  <a:pt x="9210" y="407"/>
                  <a:pt x="9216" y="405"/>
                </a:cubicBezTo>
                <a:cubicBezTo>
                  <a:pt x="9219" y="403"/>
                  <a:pt x="9225" y="401"/>
                  <a:pt x="9229" y="404"/>
                </a:cubicBezTo>
                <a:lnTo>
                  <a:pt x="9403" y="461"/>
                </a:lnTo>
                <a:lnTo>
                  <a:pt x="9577" y="518"/>
                </a:lnTo>
                <a:lnTo>
                  <a:pt x="9752" y="571"/>
                </a:lnTo>
                <a:lnTo>
                  <a:pt x="9927" y="622"/>
                </a:lnTo>
                <a:cubicBezTo>
                  <a:pt x="9931" y="624"/>
                  <a:pt x="9936" y="627"/>
                  <a:pt x="9938" y="632"/>
                </a:cubicBezTo>
                <a:cubicBezTo>
                  <a:pt x="9941" y="636"/>
                  <a:pt x="9941" y="642"/>
                  <a:pt x="9939" y="647"/>
                </a:cubicBezTo>
                <a:lnTo>
                  <a:pt x="9924" y="703"/>
                </a:lnTo>
                <a:lnTo>
                  <a:pt x="9928" y="699"/>
                </a:lnTo>
                <a:lnTo>
                  <a:pt x="9964" y="684"/>
                </a:lnTo>
                <a:lnTo>
                  <a:pt x="10004" y="672"/>
                </a:lnTo>
                <a:lnTo>
                  <a:pt x="10046" y="664"/>
                </a:lnTo>
                <a:lnTo>
                  <a:pt x="10091" y="662"/>
                </a:lnTo>
                <a:lnTo>
                  <a:pt x="10137" y="663"/>
                </a:lnTo>
                <a:lnTo>
                  <a:pt x="10185" y="669"/>
                </a:lnTo>
                <a:lnTo>
                  <a:pt x="10236" y="678"/>
                </a:lnTo>
                <a:lnTo>
                  <a:pt x="10282" y="690"/>
                </a:lnTo>
                <a:lnTo>
                  <a:pt x="10326" y="705"/>
                </a:lnTo>
                <a:lnTo>
                  <a:pt x="10366" y="722"/>
                </a:lnTo>
                <a:lnTo>
                  <a:pt x="10404" y="742"/>
                </a:lnTo>
                <a:lnTo>
                  <a:pt x="10438" y="767"/>
                </a:lnTo>
                <a:lnTo>
                  <a:pt x="10467" y="795"/>
                </a:lnTo>
                <a:lnTo>
                  <a:pt x="10491" y="824"/>
                </a:lnTo>
                <a:cubicBezTo>
                  <a:pt x="10492" y="825"/>
                  <a:pt x="10492" y="826"/>
                  <a:pt x="10492" y="826"/>
                </a:cubicBezTo>
                <a:lnTo>
                  <a:pt x="10502" y="843"/>
                </a:lnTo>
                <a:lnTo>
                  <a:pt x="10523" y="771"/>
                </a:lnTo>
                <a:cubicBezTo>
                  <a:pt x="10525" y="763"/>
                  <a:pt x="10534" y="756"/>
                  <a:pt x="10543" y="757"/>
                </a:cubicBezTo>
                <a:lnTo>
                  <a:pt x="10660" y="774"/>
                </a:lnTo>
                <a:lnTo>
                  <a:pt x="10777" y="785"/>
                </a:lnTo>
                <a:lnTo>
                  <a:pt x="10894" y="792"/>
                </a:lnTo>
                <a:lnTo>
                  <a:pt x="11011" y="795"/>
                </a:lnTo>
                <a:lnTo>
                  <a:pt x="11096" y="793"/>
                </a:lnTo>
                <a:lnTo>
                  <a:pt x="11195" y="788"/>
                </a:lnTo>
                <a:lnTo>
                  <a:pt x="11292" y="780"/>
                </a:lnTo>
                <a:cubicBezTo>
                  <a:pt x="11298" y="778"/>
                  <a:pt x="11304" y="782"/>
                  <a:pt x="11308" y="786"/>
                </a:cubicBezTo>
                <a:cubicBezTo>
                  <a:pt x="11311" y="791"/>
                  <a:pt x="11314" y="798"/>
                  <a:pt x="11311" y="804"/>
                </a:cubicBezTo>
                <a:lnTo>
                  <a:pt x="11245" y="1060"/>
                </a:lnTo>
                <a:lnTo>
                  <a:pt x="11219" y="1160"/>
                </a:lnTo>
                <a:lnTo>
                  <a:pt x="11283" y="1038"/>
                </a:lnTo>
                <a:lnTo>
                  <a:pt x="11351" y="904"/>
                </a:lnTo>
                <a:lnTo>
                  <a:pt x="11419" y="769"/>
                </a:lnTo>
                <a:cubicBezTo>
                  <a:pt x="11422" y="763"/>
                  <a:pt x="11426" y="760"/>
                  <a:pt x="11432" y="759"/>
                </a:cubicBezTo>
                <a:lnTo>
                  <a:pt x="11547" y="735"/>
                </a:lnTo>
                <a:lnTo>
                  <a:pt x="11661" y="706"/>
                </a:lnTo>
                <a:lnTo>
                  <a:pt x="11704" y="693"/>
                </a:lnTo>
                <a:lnTo>
                  <a:pt x="11816" y="655"/>
                </a:lnTo>
                <a:lnTo>
                  <a:pt x="11927" y="612"/>
                </a:lnTo>
                <a:cubicBezTo>
                  <a:pt x="11933" y="608"/>
                  <a:pt x="11941" y="611"/>
                  <a:pt x="11945" y="615"/>
                </a:cubicBezTo>
                <a:cubicBezTo>
                  <a:pt x="11951" y="620"/>
                  <a:pt x="11953" y="627"/>
                  <a:pt x="11951" y="634"/>
                </a:cubicBezTo>
                <a:lnTo>
                  <a:pt x="11870" y="1002"/>
                </a:lnTo>
                <a:lnTo>
                  <a:pt x="11923" y="876"/>
                </a:lnTo>
                <a:lnTo>
                  <a:pt x="11986" y="720"/>
                </a:lnTo>
                <a:lnTo>
                  <a:pt x="12048" y="561"/>
                </a:lnTo>
                <a:cubicBezTo>
                  <a:pt x="12050" y="556"/>
                  <a:pt x="12053" y="553"/>
                  <a:pt x="12058" y="550"/>
                </a:cubicBezTo>
                <a:lnTo>
                  <a:pt x="12119" y="519"/>
                </a:lnTo>
                <a:lnTo>
                  <a:pt x="12181" y="484"/>
                </a:lnTo>
                <a:lnTo>
                  <a:pt x="12242" y="448"/>
                </a:lnTo>
                <a:lnTo>
                  <a:pt x="12301" y="408"/>
                </a:lnTo>
                <a:cubicBezTo>
                  <a:pt x="12308" y="405"/>
                  <a:pt x="12316" y="405"/>
                  <a:pt x="12322" y="410"/>
                </a:cubicBezTo>
                <a:cubicBezTo>
                  <a:pt x="12328" y="415"/>
                  <a:pt x="12331" y="422"/>
                  <a:pt x="12330" y="430"/>
                </a:cubicBezTo>
                <a:lnTo>
                  <a:pt x="12267" y="767"/>
                </a:lnTo>
                <a:lnTo>
                  <a:pt x="12203" y="1099"/>
                </a:lnTo>
                <a:lnTo>
                  <a:pt x="12136" y="1430"/>
                </a:lnTo>
                <a:lnTo>
                  <a:pt x="12068" y="1757"/>
                </a:lnTo>
                <a:cubicBezTo>
                  <a:pt x="12067" y="1764"/>
                  <a:pt x="12062" y="1768"/>
                  <a:pt x="12057" y="1771"/>
                </a:cubicBezTo>
                <a:lnTo>
                  <a:pt x="11991" y="1799"/>
                </a:lnTo>
                <a:lnTo>
                  <a:pt x="11923" y="1824"/>
                </a:lnTo>
                <a:lnTo>
                  <a:pt x="11856" y="1848"/>
                </a:lnTo>
                <a:lnTo>
                  <a:pt x="11788" y="1870"/>
                </a:lnTo>
                <a:cubicBezTo>
                  <a:pt x="11781" y="1871"/>
                  <a:pt x="11773" y="1870"/>
                  <a:pt x="11769" y="1865"/>
                </a:cubicBezTo>
                <a:cubicBezTo>
                  <a:pt x="11763" y="1859"/>
                  <a:pt x="11762" y="1852"/>
                  <a:pt x="11763" y="1845"/>
                </a:cubicBezTo>
                <a:lnTo>
                  <a:pt x="11828" y="1567"/>
                </a:lnTo>
                <a:lnTo>
                  <a:pt x="11844" y="1500"/>
                </a:lnTo>
                <a:lnTo>
                  <a:pt x="11801" y="1600"/>
                </a:lnTo>
                <a:lnTo>
                  <a:pt x="11737" y="1746"/>
                </a:lnTo>
                <a:lnTo>
                  <a:pt x="11671" y="1892"/>
                </a:lnTo>
                <a:cubicBezTo>
                  <a:pt x="11669" y="1898"/>
                  <a:pt x="11664" y="1902"/>
                  <a:pt x="11658" y="1903"/>
                </a:cubicBezTo>
                <a:lnTo>
                  <a:pt x="11536" y="1928"/>
                </a:lnTo>
                <a:lnTo>
                  <a:pt x="11414" y="1945"/>
                </a:lnTo>
                <a:lnTo>
                  <a:pt x="11368" y="1951"/>
                </a:lnTo>
                <a:lnTo>
                  <a:pt x="11249" y="1960"/>
                </a:lnTo>
                <a:lnTo>
                  <a:pt x="11128" y="1964"/>
                </a:lnTo>
                <a:cubicBezTo>
                  <a:pt x="11123" y="1964"/>
                  <a:pt x="11117" y="1960"/>
                  <a:pt x="11114" y="1956"/>
                </a:cubicBezTo>
                <a:cubicBezTo>
                  <a:pt x="11110" y="1951"/>
                  <a:pt x="11109" y="1944"/>
                  <a:pt x="11111" y="1938"/>
                </a:cubicBezTo>
                <a:lnTo>
                  <a:pt x="11178" y="1685"/>
                </a:lnTo>
                <a:lnTo>
                  <a:pt x="11202" y="1596"/>
                </a:lnTo>
                <a:lnTo>
                  <a:pt x="11147" y="1701"/>
                </a:lnTo>
                <a:lnTo>
                  <a:pt x="11013" y="1951"/>
                </a:lnTo>
                <a:cubicBezTo>
                  <a:pt x="11009" y="1958"/>
                  <a:pt x="11003" y="1962"/>
                  <a:pt x="10995" y="1962"/>
                </a:cubicBezTo>
                <a:lnTo>
                  <a:pt x="10850" y="1952"/>
                </a:lnTo>
                <a:lnTo>
                  <a:pt x="10704" y="1936"/>
                </a:lnTo>
                <a:cubicBezTo>
                  <a:pt x="10697" y="1935"/>
                  <a:pt x="10693" y="1932"/>
                  <a:pt x="10690" y="1928"/>
                </a:cubicBezTo>
                <a:cubicBezTo>
                  <a:pt x="10688" y="1922"/>
                  <a:pt x="10685" y="1916"/>
                  <a:pt x="10688" y="1910"/>
                </a:cubicBezTo>
                <a:lnTo>
                  <a:pt x="10807" y="1486"/>
                </a:lnTo>
                <a:lnTo>
                  <a:pt x="10919" y="1080"/>
                </a:lnTo>
                <a:lnTo>
                  <a:pt x="10874" y="1079"/>
                </a:lnTo>
                <a:lnTo>
                  <a:pt x="10820" y="1075"/>
                </a:lnTo>
                <a:lnTo>
                  <a:pt x="10706" y="1482"/>
                </a:lnTo>
                <a:lnTo>
                  <a:pt x="10588" y="1901"/>
                </a:lnTo>
                <a:cubicBezTo>
                  <a:pt x="10585" y="1912"/>
                  <a:pt x="10576" y="1917"/>
                  <a:pt x="10566" y="1915"/>
                </a:cubicBezTo>
                <a:lnTo>
                  <a:pt x="10402" y="1885"/>
                </a:lnTo>
                <a:lnTo>
                  <a:pt x="10238" y="1848"/>
                </a:lnTo>
                <a:cubicBezTo>
                  <a:pt x="10232" y="1846"/>
                  <a:pt x="10228" y="1843"/>
                  <a:pt x="10226" y="1838"/>
                </a:cubicBezTo>
                <a:cubicBezTo>
                  <a:pt x="10223" y="1834"/>
                  <a:pt x="10222" y="1828"/>
                  <a:pt x="10223" y="1822"/>
                </a:cubicBezTo>
                <a:lnTo>
                  <a:pt x="10242" y="1760"/>
                </a:lnTo>
                <a:lnTo>
                  <a:pt x="10229" y="1768"/>
                </a:lnTo>
                <a:lnTo>
                  <a:pt x="10193" y="1785"/>
                </a:lnTo>
                <a:lnTo>
                  <a:pt x="10153" y="1796"/>
                </a:lnTo>
                <a:lnTo>
                  <a:pt x="10110" y="1804"/>
                </a:lnTo>
                <a:lnTo>
                  <a:pt x="10066" y="1807"/>
                </a:lnTo>
                <a:lnTo>
                  <a:pt x="10019" y="1804"/>
                </a:lnTo>
                <a:lnTo>
                  <a:pt x="9971" y="1796"/>
                </a:lnTo>
                <a:lnTo>
                  <a:pt x="9921" y="1785"/>
                </a:lnTo>
                <a:lnTo>
                  <a:pt x="9875" y="1770"/>
                </a:lnTo>
                <a:lnTo>
                  <a:pt x="9831" y="1751"/>
                </a:lnTo>
                <a:lnTo>
                  <a:pt x="9791" y="1729"/>
                </a:lnTo>
                <a:lnTo>
                  <a:pt x="9755" y="1704"/>
                </a:lnTo>
                <a:lnTo>
                  <a:pt x="9723" y="1677"/>
                </a:lnTo>
                <a:lnTo>
                  <a:pt x="9694" y="1647"/>
                </a:lnTo>
                <a:lnTo>
                  <a:pt x="9671" y="1615"/>
                </a:lnTo>
                <a:lnTo>
                  <a:pt x="9665" y="1603"/>
                </a:lnTo>
                <a:lnTo>
                  <a:pt x="9649" y="1658"/>
                </a:lnTo>
                <a:cubicBezTo>
                  <a:pt x="9648" y="1663"/>
                  <a:pt x="9644" y="1667"/>
                  <a:pt x="9639" y="1670"/>
                </a:cubicBezTo>
                <a:cubicBezTo>
                  <a:pt x="9636" y="1672"/>
                  <a:pt x="9630" y="1673"/>
                  <a:pt x="9625" y="1671"/>
                </a:cubicBezTo>
                <a:lnTo>
                  <a:pt x="9305" y="1567"/>
                </a:lnTo>
                <a:cubicBezTo>
                  <a:pt x="9296" y="1564"/>
                  <a:pt x="9291" y="1553"/>
                  <a:pt x="9294" y="1543"/>
                </a:cubicBezTo>
                <a:lnTo>
                  <a:pt x="9512" y="780"/>
                </a:lnTo>
                <a:lnTo>
                  <a:pt x="9493" y="773"/>
                </a:lnTo>
                <a:lnTo>
                  <a:pt x="9343" y="1295"/>
                </a:lnTo>
                <a:lnTo>
                  <a:pt x="9334" y="1323"/>
                </a:lnTo>
                <a:lnTo>
                  <a:pt x="9325" y="1347"/>
                </a:lnTo>
                <a:lnTo>
                  <a:pt x="9315" y="1372"/>
                </a:lnTo>
                <a:lnTo>
                  <a:pt x="9304" y="1393"/>
                </a:lnTo>
                <a:lnTo>
                  <a:pt x="9293" y="1411"/>
                </a:lnTo>
                <a:lnTo>
                  <a:pt x="9281" y="1429"/>
                </a:lnTo>
                <a:lnTo>
                  <a:pt x="9269" y="1444"/>
                </a:lnTo>
                <a:lnTo>
                  <a:pt x="9256" y="1457"/>
                </a:lnTo>
                <a:cubicBezTo>
                  <a:pt x="9254" y="1457"/>
                  <a:pt x="9253" y="1458"/>
                  <a:pt x="9252" y="1458"/>
                </a:cubicBezTo>
                <a:lnTo>
                  <a:pt x="9226" y="1475"/>
                </a:lnTo>
                <a:cubicBezTo>
                  <a:pt x="9225" y="1475"/>
                  <a:pt x="9224" y="1476"/>
                  <a:pt x="9222" y="1478"/>
                </a:cubicBezTo>
                <a:lnTo>
                  <a:pt x="9194" y="1488"/>
                </a:lnTo>
                <a:cubicBezTo>
                  <a:pt x="9192" y="1488"/>
                  <a:pt x="9191" y="1488"/>
                  <a:pt x="9189" y="1489"/>
                </a:cubicBezTo>
                <a:lnTo>
                  <a:pt x="9157" y="1493"/>
                </a:lnTo>
                <a:cubicBezTo>
                  <a:pt x="9156" y="1493"/>
                  <a:pt x="9155" y="1494"/>
                  <a:pt x="9155" y="1493"/>
                </a:cubicBezTo>
                <a:lnTo>
                  <a:pt x="9120" y="1492"/>
                </a:lnTo>
                <a:lnTo>
                  <a:pt x="9098" y="1488"/>
                </a:lnTo>
                <a:lnTo>
                  <a:pt x="9076" y="1485"/>
                </a:lnTo>
                <a:lnTo>
                  <a:pt x="9052" y="1479"/>
                </a:lnTo>
                <a:lnTo>
                  <a:pt x="9025" y="1472"/>
                </a:lnTo>
                <a:lnTo>
                  <a:pt x="8996" y="1465"/>
                </a:lnTo>
                <a:lnTo>
                  <a:pt x="8966" y="1457"/>
                </a:lnTo>
                <a:lnTo>
                  <a:pt x="8933" y="1446"/>
                </a:lnTo>
                <a:lnTo>
                  <a:pt x="8897" y="1436"/>
                </a:lnTo>
                <a:lnTo>
                  <a:pt x="8838" y="1417"/>
                </a:lnTo>
                <a:cubicBezTo>
                  <a:pt x="8832" y="1415"/>
                  <a:pt x="8829" y="1411"/>
                  <a:pt x="8826" y="1408"/>
                </a:cubicBezTo>
                <a:cubicBezTo>
                  <a:pt x="8823" y="1403"/>
                  <a:pt x="8823" y="1397"/>
                  <a:pt x="8825" y="1393"/>
                </a:cubicBezTo>
                <a:lnTo>
                  <a:pt x="8830" y="1374"/>
                </a:lnTo>
                <a:lnTo>
                  <a:pt x="8810" y="1380"/>
                </a:lnTo>
                <a:lnTo>
                  <a:pt x="8767" y="1386"/>
                </a:lnTo>
                <a:lnTo>
                  <a:pt x="8723" y="1387"/>
                </a:lnTo>
                <a:lnTo>
                  <a:pt x="8678" y="1383"/>
                </a:lnTo>
                <a:lnTo>
                  <a:pt x="8629" y="1375"/>
                </a:lnTo>
                <a:lnTo>
                  <a:pt x="8580" y="1365"/>
                </a:lnTo>
                <a:lnTo>
                  <a:pt x="8532" y="1350"/>
                </a:lnTo>
                <a:lnTo>
                  <a:pt x="8489" y="1333"/>
                </a:lnTo>
                <a:lnTo>
                  <a:pt x="8450" y="1314"/>
                </a:lnTo>
                <a:lnTo>
                  <a:pt x="8412" y="1290"/>
                </a:lnTo>
                <a:lnTo>
                  <a:pt x="8388" y="1272"/>
                </a:lnTo>
                <a:lnTo>
                  <a:pt x="8365" y="1252"/>
                </a:lnTo>
                <a:lnTo>
                  <a:pt x="8344" y="1229"/>
                </a:lnTo>
                <a:lnTo>
                  <a:pt x="8343" y="1226"/>
                </a:lnTo>
                <a:lnTo>
                  <a:pt x="8333" y="1261"/>
                </a:lnTo>
                <a:cubicBezTo>
                  <a:pt x="8330" y="1270"/>
                  <a:pt x="8321" y="1276"/>
                  <a:pt x="8311" y="1274"/>
                </a:cubicBezTo>
                <a:lnTo>
                  <a:pt x="8175" y="1246"/>
                </a:lnTo>
                <a:lnTo>
                  <a:pt x="8039" y="1222"/>
                </a:lnTo>
                <a:lnTo>
                  <a:pt x="7902" y="1202"/>
                </a:lnTo>
                <a:lnTo>
                  <a:pt x="7763" y="1188"/>
                </a:lnTo>
                <a:cubicBezTo>
                  <a:pt x="7757" y="1187"/>
                  <a:pt x="7753" y="1184"/>
                  <a:pt x="7750" y="1179"/>
                </a:cubicBezTo>
                <a:cubicBezTo>
                  <a:pt x="7746" y="1174"/>
                  <a:pt x="7745" y="1168"/>
                  <a:pt x="7748" y="1162"/>
                </a:cubicBezTo>
                <a:lnTo>
                  <a:pt x="7760" y="1119"/>
                </a:lnTo>
                <a:lnTo>
                  <a:pt x="7743" y="1130"/>
                </a:lnTo>
                <a:lnTo>
                  <a:pt x="7711" y="1147"/>
                </a:lnTo>
                <a:lnTo>
                  <a:pt x="7677" y="1162"/>
                </a:lnTo>
                <a:lnTo>
                  <a:pt x="7626" y="1177"/>
                </a:lnTo>
                <a:lnTo>
                  <a:pt x="7572" y="1190"/>
                </a:lnTo>
                <a:lnTo>
                  <a:pt x="7514" y="1197"/>
                </a:lnTo>
                <a:lnTo>
                  <a:pt x="7452" y="1201"/>
                </a:lnTo>
                <a:lnTo>
                  <a:pt x="7417" y="1201"/>
                </a:lnTo>
                <a:lnTo>
                  <a:pt x="7384" y="1201"/>
                </a:lnTo>
                <a:lnTo>
                  <a:pt x="7353" y="1198"/>
                </a:lnTo>
                <a:lnTo>
                  <a:pt x="7324" y="1196"/>
                </a:lnTo>
                <a:lnTo>
                  <a:pt x="7299" y="1191"/>
                </a:lnTo>
                <a:lnTo>
                  <a:pt x="7275" y="1186"/>
                </a:lnTo>
                <a:lnTo>
                  <a:pt x="7251" y="1177"/>
                </a:lnTo>
                <a:lnTo>
                  <a:pt x="7244" y="1174"/>
                </a:lnTo>
                <a:lnTo>
                  <a:pt x="7244" y="1179"/>
                </a:lnTo>
                <a:cubicBezTo>
                  <a:pt x="7243" y="1188"/>
                  <a:pt x="7236" y="1195"/>
                  <a:pt x="7227" y="1196"/>
                </a:cubicBezTo>
                <a:lnTo>
                  <a:pt x="7143" y="1208"/>
                </a:lnTo>
                <a:lnTo>
                  <a:pt x="7060" y="1223"/>
                </a:lnTo>
                <a:lnTo>
                  <a:pt x="6978" y="1240"/>
                </a:lnTo>
                <a:lnTo>
                  <a:pt x="6896" y="1261"/>
                </a:lnTo>
                <a:cubicBezTo>
                  <a:pt x="6890" y="1262"/>
                  <a:pt x="6884" y="1261"/>
                  <a:pt x="6879" y="1257"/>
                </a:cubicBezTo>
                <a:cubicBezTo>
                  <a:pt x="6874" y="1252"/>
                  <a:pt x="6872" y="1245"/>
                  <a:pt x="6874" y="1239"/>
                </a:cubicBezTo>
                <a:lnTo>
                  <a:pt x="6904" y="1058"/>
                </a:lnTo>
                <a:lnTo>
                  <a:pt x="6863" y="1068"/>
                </a:lnTo>
                <a:lnTo>
                  <a:pt x="6799" y="1282"/>
                </a:lnTo>
                <a:cubicBezTo>
                  <a:pt x="6797" y="1288"/>
                  <a:pt x="6793" y="1293"/>
                  <a:pt x="6787" y="1295"/>
                </a:cubicBezTo>
                <a:lnTo>
                  <a:pt x="6706" y="1323"/>
                </a:lnTo>
                <a:lnTo>
                  <a:pt x="6626" y="1355"/>
                </a:lnTo>
                <a:lnTo>
                  <a:pt x="6548" y="1389"/>
                </a:lnTo>
                <a:lnTo>
                  <a:pt x="6472" y="1428"/>
                </a:lnTo>
                <a:cubicBezTo>
                  <a:pt x="6465" y="1430"/>
                  <a:pt x="6457" y="1429"/>
                  <a:pt x="6451" y="1424"/>
                </a:cubicBezTo>
                <a:cubicBezTo>
                  <a:pt x="6446" y="1418"/>
                  <a:pt x="6445" y="1410"/>
                  <a:pt x="6446" y="1403"/>
                </a:cubicBezTo>
                <a:lnTo>
                  <a:pt x="6536" y="1103"/>
                </a:lnTo>
                <a:lnTo>
                  <a:pt x="6609" y="875"/>
                </a:lnTo>
                <a:lnTo>
                  <a:pt x="6576" y="900"/>
                </a:lnTo>
                <a:lnTo>
                  <a:pt x="6536" y="926"/>
                </a:lnTo>
                <a:lnTo>
                  <a:pt x="6493" y="952"/>
                </a:lnTo>
                <a:lnTo>
                  <a:pt x="6448" y="976"/>
                </a:lnTo>
                <a:lnTo>
                  <a:pt x="6396" y="1003"/>
                </a:lnTo>
                <a:lnTo>
                  <a:pt x="6345" y="1255"/>
                </a:lnTo>
                <a:lnTo>
                  <a:pt x="6319" y="1387"/>
                </a:lnTo>
                <a:lnTo>
                  <a:pt x="6295" y="1519"/>
                </a:lnTo>
                <a:cubicBezTo>
                  <a:pt x="6293" y="1524"/>
                  <a:pt x="6290" y="1529"/>
                  <a:pt x="6286" y="1532"/>
                </a:cubicBezTo>
                <a:lnTo>
                  <a:pt x="6230" y="1568"/>
                </a:lnTo>
                <a:lnTo>
                  <a:pt x="6170" y="1607"/>
                </a:lnTo>
                <a:lnTo>
                  <a:pt x="6109" y="1643"/>
                </a:lnTo>
                <a:lnTo>
                  <a:pt x="6049" y="1678"/>
                </a:lnTo>
                <a:lnTo>
                  <a:pt x="5987" y="1710"/>
                </a:lnTo>
                <a:cubicBezTo>
                  <a:pt x="5980" y="1713"/>
                  <a:pt x="5973" y="1713"/>
                  <a:pt x="5967" y="1708"/>
                </a:cubicBezTo>
                <a:cubicBezTo>
                  <a:pt x="5962" y="1703"/>
                  <a:pt x="5958" y="1695"/>
                  <a:pt x="5959" y="1688"/>
                </a:cubicBezTo>
                <a:lnTo>
                  <a:pt x="6009" y="1445"/>
                </a:lnTo>
                <a:lnTo>
                  <a:pt x="5995" y="1462"/>
                </a:lnTo>
                <a:lnTo>
                  <a:pt x="5962" y="1495"/>
                </a:lnTo>
                <a:lnTo>
                  <a:pt x="5926" y="1526"/>
                </a:lnTo>
                <a:lnTo>
                  <a:pt x="5887" y="1556"/>
                </a:lnTo>
                <a:lnTo>
                  <a:pt x="5843" y="1582"/>
                </a:lnTo>
                <a:lnTo>
                  <a:pt x="5796" y="1607"/>
                </a:lnTo>
                <a:lnTo>
                  <a:pt x="5745" y="1628"/>
                </a:lnTo>
                <a:lnTo>
                  <a:pt x="5718" y="1638"/>
                </a:lnTo>
                <a:lnTo>
                  <a:pt x="5675" y="1831"/>
                </a:lnTo>
                <a:cubicBezTo>
                  <a:pt x="5673" y="1838"/>
                  <a:pt x="5668" y="1844"/>
                  <a:pt x="5662" y="1846"/>
                </a:cubicBezTo>
                <a:lnTo>
                  <a:pt x="5581" y="1871"/>
                </a:lnTo>
                <a:lnTo>
                  <a:pt x="5501" y="1893"/>
                </a:lnTo>
                <a:lnTo>
                  <a:pt x="5418" y="1912"/>
                </a:lnTo>
                <a:lnTo>
                  <a:pt x="5336" y="1928"/>
                </a:lnTo>
                <a:cubicBezTo>
                  <a:pt x="5329" y="1929"/>
                  <a:pt x="5322" y="1927"/>
                  <a:pt x="5318" y="1922"/>
                </a:cubicBezTo>
                <a:cubicBezTo>
                  <a:pt x="5315" y="1917"/>
                  <a:pt x="5312" y="1910"/>
                  <a:pt x="5315" y="1903"/>
                </a:cubicBezTo>
                <a:lnTo>
                  <a:pt x="5355" y="1739"/>
                </a:lnTo>
                <a:lnTo>
                  <a:pt x="5352" y="1739"/>
                </a:lnTo>
                <a:lnTo>
                  <a:pt x="5300" y="1747"/>
                </a:lnTo>
                <a:lnTo>
                  <a:pt x="5252" y="1751"/>
                </a:lnTo>
                <a:lnTo>
                  <a:pt x="5209" y="1750"/>
                </a:lnTo>
                <a:lnTo>
                  <a:pt x="5170" y="1745"/>
                </a:lnTo>
                <a:cubicBezTo>
                  <a:pt x="5169" y="1745"/>
                  <a:pt x="5168" y="1744"/>
                  <a:pt x="5168" y="1744"/>
                </a:cubicBezTo>
                <a:lnTo>
                  <a:pt x="5136" y="1735"/>
                </a:lnTo>
                <a:cubicBezTo>
                  <a:pt x="5135" y="1735"/>
                  <a:pt x="5134" y="1735"/>
                  <a:pt x="5133" y="1734"/>
                </a:cubicBezTo>
                <a:lnTo>
                  <a:pt x="5106" y="1721"/>
                </a:lnTo>
                <a:cubicBezTo>
                  <a:pt x="5105" y="1721"/>
                  <a:pt x="5104" y="1720"/>
                  <a:pt x="5103" y="1720"/>
                </a:cubicBezTo>
                <a:lnTo>
                  <a:pt x="5081" y="1703"/>
                </a:lnTo>
                <a:cubicBezTo>
                  <a:pt x="5080" y="1702"/>
                  <a:pt x="5079" y="1702"/>
                  <a:pt x="5078" y="1700"/>
                </a:cubicBezTo>
                <a:lnTo>
                  <a:pt x="5061" y="1681"/>
                </a:lnTo>
                <a:cubicBezTo>
                  <a:pt x="5061" y="1680"/>
                  <a:pt x="5060" y="1679"/>
                  <a:pt x="5059" y="1678"/>
                </a:cubicBezTo>
                <a:lnTo>
                  <a:pt x="5043" y="1650"/>
                </a:lnTo>
                <a:cubicBezTo>
                  <a:pt x="5042" y="1650"/>
                  <a:pt x="5042" y="1649"/>
                  <a:pt x="5042" y="1647"/>
                </a:cubicBezTo>
                <a:lnTo>
                  <a:pt x="5031" y="1617"/>
                </a:lnTo>
                <a:cubicBezTo>
                  <a:pt x="5030" y="1616"/>
                  <a:pt x="5030" y="1615"/>
                  <a:pt x="5030" y="1614"/>
                </a:cubicBezTo>
                <a:lnTo>
                  <a:pt x="5025" y="1582"/>
                </a:lnTo>
                <a:cubicBezTo>
                  <a:pt x="5025" y="1581"/>
                  <a:pt x="5024" y="1580"/>
                  <a:pt x="5024" y="1579"/>
                </a:cubicBezTo>
                <a:lnTo>
                  <a:pt x="5024" y="1545"/>
                </a:lnTo>
                <a:lnTo>
                  <a:pt x="5024" y="1530"/>
                </a:lnTo>
                <a:lnTo>
                  <a:pt x="5026" y="1512"/>
                </a:lnTo>
                <a:lnTo>
                  <a:pt x="5029" y="1495"/>
                </a:lnTo>
                <a:lnTo>
                  <a:pt x="5032" y="1475"/>
                </a:lnTo>
                <a:lnTo>
                  <a:pt x="5037" y="1453"/>
                </a:lnTo>
                <a:lnTo>
                  <a:pt x="5042" y="1430"/>
                </a:lnTo>
                <a:lnTo>
                  <a:pt x="5049" y="1404"/>
                </a:lnTo>
                <a:lnTo>
                  <a:pt x="5056" y="1376"/>
                </a:lnTo>
                <a:lnTo>
                  <a:pt x="5061" y="1358"/>
                </a:lnTo>
                <a:lnTo>
                  <a:pt x="5068" y="1330"/>
                </a:lnTo>
                <a:lnTo>
                  <a:pt x="5075" y="1304"/>
                </a:lnTo>
                <a:lnTo>
                  <a:pt x="5082" y="1280"/>
                </a:lnTo>
                <a:lnTo>
                  <a:pt x="5090" y="1259"/>
                </a:lnTo>
                <a:lnTo>
                  <a:pt x="5096" y="1238"/>
                </a:lnTo>
                <a:lnTo>
                  <a:pt x="5103" y="1220"/>
                </a:lnTo>
                <a:lnTo>
                  <a:pt x="5108" y="1204"/>
                </a:lnTo>
                <a:lnTo>
                  <a:pt x="5115" y="1189"/>
                </a:lnTo>
                <a:lnTo>
                  <a:pt x="5135" y="1152"/>
                </a:lnTo>
                <a:lnTo>
                  <a:pt x="5158" y="1117"/>
                </a:lnTo>
                <a:lnTo>
                  <a:pt x="5185" y="1085"/>
                </a:lnTo>
                <a:lnTo>
                  <a:pt x="5213" y="1055"/>
                </a:lnTo>
                <a:lnTo>
                  <a:pt x="5243" y="1027"/>
                </a:lnTo>
                <a:lnTo>
                  <a:pt x="5276" y="1001"/>
                </a:lnTo>
                <a:lnTo>
                  <a:pt x="5312" y="975"/>
                </a:lnTo>
                <a:lnTo>
                  <a:pt x="5352" y="953"/>
                </a:lnTo>
                <a:lnTo>
                  <a:pt x="5395" y="932"/>
                </a:lnTo>
                <a:lnTo>
                  <a:pt x="5441" y="912"/>
                </a:lnTo>
                <a:lnTo>
                  <a:pt x="5490" y="894"/>
                </a:lnTo>
                <a:lnTo>
                  <a:pt x="5542" y="876"/>
                </a:lnTo>
                <a:lnTo>
                  <a:pt x="5562" y="869"/>
                </a:lnTo>
                <a:lnTo>
                  <a:pt x="5607" y="669"/>
                </a:lnTo>
                <a:cubicBezTo>
                  <a:pt x="5608" y="663"/>
                  <a:pt x="5612" y="657"/>
                  <a:pt x="5618" y="655"/>
                </a:cubicBezTo>
                <a:lnTo>
                  <a:pt x="5697" y="625"/>
                </a:lnTo>
                <a:lnTo>
                  <a:pt x="5774" y="592"/>
                </a:lnTo>
                <a:lnTo>
                  <a:pt x="5849" y="556"/>
                </a:lnTo>
                <a:lnTo>
                  <a:pt x="5923" y="517"/>
                </a:lnTo>
                <a:cubicBezTo>
                  <a:pt x="5930" y="514"/>
                  <a:pt x="5937" y="514"/>
                  <a:pt x="5943" y="519"/>
                </a:cubicBezTo>
                <a:cubicBezTo>
                  <a:pt x="5948" y="524"/>
                  <a:pt x="5951" y="532"/>
                  <a:pt x="5950" y="539"/>
                </a:cubicBezTo>
                <a:lnTo>
                  <a:pt x="5913" y="720"/>
                </a:lnTo>
                <a:lnTo>
                  <a:pt x="5952" y="700"/>
                </a:lnTo>
                <a:lnTo>
                  <a:pt x="5988" y="683"/>
                </a:lnTo>
                <a:lnTo>
                  <a:pt x="6021" y="670"/>
                </a:lnTo>
                <a:lnTo>
                  <a:pt x="6052" y="661"/>
                </a:lnTo>
                <a:lnTo>
                  <a:pt x="6080" y="654"/>
                </a:lnTo>
                <a:cubicBezTo>
                  <a:pt x="6081" y="654"/>
                  <a:pt x="6082" y="654"/>
                  <a:pt x="6082" y="654"/>
                </a:cubicBezTo>
                <a:lnTo>
                  <a:pt x="6105" y="652"/>
                </a:lnTo>
                <a:cubicBezTo>
                  <a:pt x="6106" y="652"/>
                  <a:pt x="6107" y="652"/>
                  <a:pt x="6108" y="652"/>
                </a:cubicBezTo>
                <a:lnTo>
                  <a:pt x="6128" y="655"/>
                </a:lnTo>
                <a:cubicBezTo>
                  <a:pt x="6130" y="655"/>
                  <a:pt x="6131" y="655"/>
                  <a:pt x="6133" y="656"/>
                </a:cubicBezTo>
                <a:lnTo>
                  <a:pt x="6150" y="663"/>
                </a:lnTo>
                <a:cubicBezTo>
                  <a:pt x="6151" y="663"/>
                  <a:pt x="6152" y="664"/>
                  <a:pt x="6155" y="665"/>
                </a:cubicBezTo>
                <a:lnTo>
                  <a:pt x="6159" y="669"/>
                </a:lnTo>
                <a:lnTo>
                  <a:pt x="6188" y="522"/>
                </a:lnTo>
                <a:lnTo>
                  <a:pt x="6223" y="342"/>
                </a:lnTo>
                <a:cubicBezTo>
                  <a:pt x="6224" y="336"/>
                  <a:pt x="6227" y="332"/>
                  <a:pt x="6232" y="329"/>
                </a:cubicBezTo>
                <a:lnTo>
                  <a:pt x="6303" y="289"/>
                </a:lnTo>
                <a:lnTo>
                  <a:pt x="6376" y="251"/>
                </a:lnTo>
                <a:lnTo>
                  <a:pt x="6450" y="216"/>
                </a:lnTo>
                <a:lnTo>
                  <a:pt x="6525" y="184"/>
                </a:lnTo>
                <a:lnTo>
                  <a:pt x="6581" y="162"/>
                </a:lnTo>
                <a:lnTo>
                  <a:pt x="6631" y="148"/>
                </a:lnTo>
                <a:lnTo>
                  <a:pt x="6653" y="142"/>
                </a:lnTo>
                <a:lnTo>
                  <a:pt x="6675" y="138"/>
                </a:lnTo>
                <a:lnTo>
                  <a:pt x="6694" y="136"/>
                </a:lnTo>
                <a:lnTo>
                  <a:pt x="6711" y="136"/>
                </a:lnTo>
                <a:lnTo>
                  <a:pt x="6742" y="138"/>
                </a:lnTo>
                <a:cubicBezTo>
                  <a:pt x="6743" y="138"/>
                  <a:pt x="6744" y="138"/>
                  <a:pt x="6745" y="138"/>
                </a:cubicBezTo>
                <a:lnTo>
                  <a:pt x="6770" y="144"/>
                </a:lnTo>
                <a:cubicBezTo>
                  <a:pt x="6771" y="145"/>
                  <a:pt x="6772" y="145"/>
                  <a:pt x="6773" y="147"/>
                </a:cubicBezTo>
                <a:lnTo>
                  <a:pt x="6793" y="156"/>
                </a:lnTo>
                <a:cubicBezTo>
                  <a:pt x="6795" y="157"/>
                  <a:pt x="6796" y="158"/>
                  <a:pt x="6797" y="159"/>
                </a:cubicBezTo>
                <a:lnTo>
                  <a:pt x="6812" y="172"/>
                </a:lnTo>
                <a:cubicBezTo>
                  <a:pt x="6814" y="175"/>
                  <a:pt x="6815" y="176"/>
                  <a:pt x="6816" y="177"/>
                </a:cubicBezTo>
                <a:lnTo>
                  <a:pt x="6826" y="194"/>
                </a:lnTo>
                <a:cubicBezTo>
                  <a:pt x="6827" y="195"/>
                  <a:pt x="6828" y="197"/>
                  <a:pt x="6828" y="198"/>
                </a:cubicBezTo>
                <a:lnTo>
                  <a:pt x="6831" y="206"/>
                </a:lnTo>
                <a:lnTo>
                  <a:pt x="6877" y="79"/>
                </a:lnTo>
                <a:cubicBezTo>
                  <a:pt x="6879" y="73"/>
                  <a:pt x="6884" y="69"/>
                  <a:pt x="6891" y="67"/>
                </a:cubicBezTo>
                <a:lnTo>
                  <a:pt x="7005" y="44"/>
                </a:lnTo>
                <a:lnTo>
                  <a:pt x="7120" y="28"/>
                </a:lnTo>
                <a:lnTo>
                  <a:pt x="7237" y="16"/>
                </a:lnTo>
                <a:lnTo>
                  <a:pt x="7353" y="9"/>
                </a:lnTo>
                <a:cubicBezTo>
                  <a:pt x="7359" y="9"/>
                  <a:pt x="7364" y="12"/>
                  <a:pt x="7368" y="16"/>
                </a:cubicBezTo>
                <a:cubicBezTo>
                  <a:pt x="7372" y="21"/>
                  <a:pt x="7374" y="27"/>
                  <a:pt x="7373" y="31"/>
                </a:cubicBezTo>
                <a:lnTo>
                  <a:pt x="7357" y="171"/>
                </a:lnTo>
                <a:lnTo>
                  <a:pt x="7374" y="142"/>
                </a:lnTo>
                <a:lnTo>
                  <a:pt x="7394" y="113"/>
                </a:lnTo>
                <a:lnTo>
                  <a:pt x="7415" y="88"/>
                </a:lnTo>
                <a:lnTo>
                  <a:pt x="7438" y="66"/>
                </a:lnTo>
                <a:lnTo>
                  <a:pt x="7464" y="49"/>
                </a:lnTo>
                <a:lnTo>
                  <a:pt x="7491" y="35"/>
                </a:lnTo>
                <a:lnTo>
                  <a:pt x="7520" y="23"/>
                </a:lnTo>
                <a:lnTo>
                  <a:pt x="7551" y="14"/>
                </a:lnTo>
                <a:lnTo>
                  <a:pt x="7585" y="6"/>
                </a:lnTo>
                <a:lnTo>
                  <a:pt x="7622" y="2"/>
                </a:lnTo>
                <a:lnTo>
                  <a:pt x="766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79880" y="1017720"/>
            <a:ext cx="4424400" cy="696960"/>
          </a:xfrm>
          <a:custGeom>
            <a:avLst/>
            <a:gdLst/>
            <a:ahLst/>
            <a:rect l="l" t="t" r="r" b="b"/>
            <a:pathLst>
              <a:path w="12292" h="1935">
                <a:moveTo>
                  <a:pt x="8198" y="770"/>
                </a:moveTo>
                <a:cubicBezTo>
                  <a:pt x="8179" y="837"/>
                  <a:pt x="8161" y="902"/>
                  <a:pt x="8142" y="969"/>
                </a:cubicBezTo>
                <a:cubicBezTo>
                  <a:pt x="8190" y="979"/>
                  <a:pt x="8238" y="989"/>
                  <a:pt x="8286" y="1000"/>
                </a:cubicBezTo>
                <a:cubicBezTo>
                  <a:pt x="8287" y="993"/>
                  <a:pt x="8288" y="986"/>
                  <a:pt x="8290" y="979"/>
                </a:cubicBezTo>
                <a:cubicBezTo>
                  <a:pt x="8297" y="941"/>
                  <a:pt x="8310" y="893"/>
                  <a:pt x="8327" y="832"/>
                </a:cubicBezTo>
                <a:cubicBezTo>
                  <a:pt x="8330" y="822"/>
                  <a:pt x="8332" y="811"/>
                  <a:pt x="8336" y="802"/>
                </a:cubicBezTo>
                <a:cubicBezTo>
                  <a:pt x="8290" y="790"/>
                  <a:pt x="8244" y="781"/>
                  <a:pt x="8198" y="770"/>
                </a:cubicBezTo>
                <a:close/>
                <a:moveTo>
                  <a:pt x="415" y="806"/>
                </a:moveTo>
                <a:cubicBezTo>
                  <a:pt x="392" y="911"/>
                  <a:pt x="370" y="1017"/>
                  <a:pt x="347" y="1124"/>
                </a:cubicBezTo>
                <a:cubicBezTo>
                  <a:pt x="373" y="1111"/>
                  <a:pt x="392" y="1098"/>
                  <a:pt x="402" y="1086"/>
                </a:cubicBezTo>
                <a:cubicBezTo>
                  <a:pt x="413" y="1072"/>
                  <a:pt x="422" y="1043"/>
                  <a:pt x="433" y="997"/>
                </a:cubicBezTo>
                <a:cubicBezTo>
                  <a:pt x="441" y="958"/>
                  <a:pt x="450" y="919"/>
                  <a:pt x="458" y="881"/>
                </a:cubicBezTo>
                <a:cubicBezTo>
                  <a:pt x="469" y="832"/>
                  <a:pt x="472" y="806"/>
                  <a:pt x="466" y="801"/>
                </a:cubicBezTo>
                <a:cubicBezTo>
                  <a:pt x="461" y="795"/>
                  <a:pt x="443" y="796"/>
                  <a:pt x="415" y="806"/>
                </a:cubicBezTo>
                <a:close/>
                <a:moveTo>
                  <a:pt x="7932" y="491"/>
                </a:moveTo>
                <a:cubicBezTo>
                  <a:pt x="7928" y="495"/>
                  <a:pt x="7924" y="497"/>
                  <a:pt x="7920" y="500"/>
                </a:cubicBezTo>
                <a:cubicBezTo>
                  <a:pt x="7896" y="516"/>
                  <a:pt x="7868" y="527"/>
                  <a:pt x="7834" y="533"/>
                </a:cubicBezTo>
                <a:cubicBezTo>
                  <a:pt x="7863" y="542"/>
                  <a:pt x="7884" y="560"/>
                  <a:pt x="7899" y="582"/>
                </a:cubicBezTo>
                <a:cubicBezTo>
                  <a:pt x="7901" y="584"/>
                  <a:pt x="7903" y="588"/>
                  <a:pt x="7904" y="590"/>
                </a:cubicBezTo>
                <a:cubicBezTo>
                  <a:pt x="7914" y="557"/>
                  <a:pt x="7922" y="525"/>
                  <a:pt x="7932" y="491"/>
                </a:cubicBezTo>
                <a:close/>
                <a:moveTo>
                  <a:pt x="5820" y="973"/>
                </a:moveTo>
                <a:cubicBezTo>
                  <a:pt x="5792" y="1111"/>
                  <a:pt x="5762" y="1250"/>
                  <a:pt x="5732" y="1387"/>
                </a:cubicBezTo>
                <a:cubicBezTo>
                  <a:pt x="5736" y="1386"/>
                  <a:pt x="5742" y="1383"/>
                  <a:pt x="5746" y="1381"/>
                </a:cubicBezTo>
                <a:cubicBezTo>
                  <a:pt x="5763" y="1374"/>
                  <a:pt x="5781" y="1358"/>
                  <a:pt x="5798" y="1330"/>
                </a:cubicBezTo>
                <a:cubicBezTo>
                  <a:pt x="5815" y="1302"/>
                  <a:pt x="5827" y="1268"/>
                  <a:pt x="5836" y="1229"/>
                </a:cubicBezTo>
                <a:cubicBezTo>
                  <a:pt x="5847" y="1174"/>
                  <a:pt x="5858" y="1119"/>
                  <a:pt x="5869" y="1065"/>
                </a:cubicBezTo>
                <a:cubicBezTo>
                  <a:pt x="5876" y="1025"/>
                  <a:pt x="5878" y="996"/>
                  <a:pt x="5870" y="980"/>
                </a:cubicBezTo>
                <a:cubicBezTo>
                  <a:pt x="5862" y="963"/>
                  <a:pt x="5850" y="959"/>
                  <a:pt x="5835" y="966"/>
                </a:cubicBezTo>
                <a:cubicBezTo>
                  <a:pt x="5830" y="968"/>
                  <a:pt x="5825" y="970"/>
                  <a:pt x="5820" y="973"/>
                </a:cubicBezTo>
                <a:close/>
                <a:moveTo>
                  <a:pt x="5497" y="1096"/>
                </a:moveTo>
                <a:cubicBezTo>
                  <a:pt x="5481" y="1101"/>
                  <a:pt x="5463" y="1116"/>
                  <a:pt x="5445" y="1140"/>
                </a:cubicBezTo>
                <a:cubicBezTo>
                  <a:pt x="5428" y="1165"/>
                  <a:pt x="5413" y="1196"/>
                  <a:pt x="5405" y="1233"/>
                </a:cubicBezTo>
                <a:cubicBezTo>
                  <a:pt x="5391" y="1286"/>
                  <a:pt x="5380" y="1336"/>
                  <a:pt x="5367" y="1387"/>
                </a:cubicBezTo>
                <a:cubicBezTo>
                  <a:pt x="5358" y="1425"/>
                  <a:pt x="5357" y="1452"/>
                  <a:pt x="5365" y="1471"/>
                </a:cubicBezTo>
                <a:cubicBezTo>
                  <a:pt x="5374" y="1488"/>
                  <a:pt x="5385" y="1495"/>
                  <a:pt x="5402" y="1492"/>
                </a:cubicBezTo>
                <a:cubicBezTo>
                  <a:pt x="5406" y="1491"/>
                  <a:pt x="5409" y="1489"/>
                  <a:pt x="5412" y="1489"/>
                </a:cubicBezTo>
                <a:cubicBezTo>
                  <a:pt x="5444" y="1358"/>
                  <a:pt x="5476" y="1225"/>
                  <a:pt x="5507" y="1093"/>
                </a:cubicBezTo>
                <a:cubicBezTo>
                  <a:pt x="5504" y="1094"/>
                  <a:pt x="5501" y="1095"/>
                  <a:pt x="5497" y="1096"/>
                </a:cubicBezTo>
                <a:close/>
                <a:moveTo>
                  <a:pt x="7038" y="324"/>
                </a:moveTo>
                <a:cubicBezTo>
                  <a:pt x="6966" y="542"/>
                  <a:pt x="6916" y="702"/>
                  <a:pt x="6885" y="797"/>
                </a:cubicBezTo>
                <a:cubicBezTo>
                  <a:pt x="6909" y="792"/>
                  <a:pt x="6932" y="787"/>
                  <a:pt x="6957" y="781"/>
                </a:cubicBezTo>
                <a:cubicBezTo>
                  <a:pt x="6972" y="662"/>
                  <a:pt x="7000" y="509"/>
                  <a:pt x="7038" y="324"/>
                </a:cubicBezTo>
                <a:close/>
                <a:moveTo>
                  <a:pt x="3421" y="815"/>
                </a:moveTo>
                <a:cubicBezTo>
                  <a:pt x="3352" y="990"/>
                  <a:pt x="3302" y="1115"/>
                  <a:pt x="3273" y="1189"/>
                </a:cubicBezTo>
                <a:cubicBezTo>
                  <a:pt x="3296" y="1197"/>
                  <a:pt x="3320" y="1204"/>
                  <a:pt x="3343" y="1212"/>
                </a:cubicBezTo>
                <a:cubicBezTo>
                  <a:pt x="3359" y="1107"/>
                  <a:pt x="3384" y="974"/>
                  <a:pt x="3421" y="815"/>
                </a:cubicBezTo>
                <a:close/>
                <a:moveTo>
                  <a:pt x="8308" y="386"/>
                </a:moveTo>
                <a:cubicBezTo>
                  <a:pt x="8293" y="441"/>
                  <a:pt x="8277" y="497"/>
                  <a:pt x="8261" y="552"/>
                </a:cubicBezTo>
                <a:cubicBezTo>
                  <a:pt x="8307" y="562"/>
                  <a:pt x="8352" y="574"/>
                  <a:pt x="8398" y="585"/>
                </a:cubicBezTo>
                <a:cubicBezTo>
                  <a:pt x="8401" y="574"/>
                  <a:pt x="8404" y="562"/>
                  <a:pt x="8407" y="552"/>
                </a:cubicBezTo>
                <a:cubicBezTo>
                  <a:pt x="8424" y="497"/>
                  <a:pt x="8438" y="455"/>
                  <a:pt x="8450" y="425"/>
                </a:cubicBezTo>
                <a:cubicBezTo>
                  <a:pt x="8450" y="424"/>
                  <a:pt x="8450" y="422"/>
                  <a:pt x="8450" y="422"/>
                </a:cubicBezTo>
                <a:cubicBezTo>
                  <a:pt x="8403" y="410"/>
                  <a:pt x="8356" y="398"/>
                  <a:pt x="8308" y="386"/>
                </a:cubicBezTo>
                <a:close/>
                <a:moveTo>
                  <a:pt x="6470" y="435"/>
                </a:moveTo>
                <a:cubicBezTo>
                  <a:pt x="6450" y="532"/>
                  <a:pt x="6430" y="628"/>
                  <a:pt x="6410" y="726"/>
                </a:cubicBezTo>
                <a:lnTo>
                  <a:pt x="6409" y="726"/>
                </a:lnTo>
                <a:cubicBezTo>
                  <a:pt x="6409" y="727"/>
                  <a:pt x="6409" y="727"/>
                  <a:pt x="6410" y="726"/>
                </a:cubicBezTo>
                <a:cubicBezTo>
                  <a:pt x="6413" y="725"/>
                  <a:pt x="6414" y="724"/>
                  <a:pt x="6417" y="723"/>
                </a:cubicBezTo>
                <a:cubicBezTo>
                  <a:pt x="6438" y="712"/>
                  <a:pt x="6453" y="701"/>
                  <a:pt x="6463" y="685"/>
                </a:cubicBezTo>
                <a:cubicBezTo>
                  <a:pt x="6473" y="670"/>
                  <a:pt x="6482" y="641"/>
                  <a:pt x="6492" y="598"/>
                </a:cubicBezTo>
                <a:cubicBezTo>
                  <a:pt x="6498" y="564"/>
                  <a:pt x="6507" y="530"/>
                  <a:pt x="6514" y="495"/>
                </a:cubicBezTo>
                <a:cubicBezTo>
                  <a:pt x="6522" y="457"/>
                  <a:pt x="6522" y="435"/>
                  <a:pt x="6516" y="428"/>
                </a:cubicBezTo>
                <a:cubicBezTo>
                  <a:pt x="6509" y="422"/>
                  <a:pt x="6494" y="424"/>
                  <a:pt x="6470" y="435"/>
                </a:cubicBezTo>
                <a:close/>
                <a:moveTo>
                  <a:pt x="2856" y="575"/>
                </a:moveTo>
                <a:cubicBezTo>
                  <a:pt x="2835" y="649"/>
                  <a:pt x="2813" y="725"/>
                  <a:pt x="2792" y="799"/>
                </a:cubicBezTo>
                <a:cubicBezTo>
                  <a:pt x="2791" y="799"/>
                  <a:pt x="2791" y="799"/>
                  <a:pt x="2790" y="799"/>
                </a:cubicBezTo>
                <a:cubicBezTo>
                  <a:pt x="2789" y="799"/>
                  <a:pt x="2790" y="799"/>
                  <a:pt x="2792" y="799"/>
                </a:cubicBezTo>
                <a:cubicBezTo>
                  <a:pt x="2794" y="801"/>
                  <a:pt x="2796" y="801"/>
                  <a:pt x="2799" y="802"/>
                </a:cubicBezTo>
                <a:cubicBezTo>
                  <a:pt x="2821" y="809"/>
                  <a:pt x="2837" y="810"/>
                  <a:pt x="2847" y="803"/>
                </a:cubicBezTo>
                <a:cubicBezTo>
                  <a:pt x="2858" y="797"/>
                  <a:pt x="2868" y="777"/>
                  <a:pt x="2877" y="744"/>
                </a:cubicBezTo>
                <a:cubicBezTo>
                  <a:pt x="2886" y="717"/>
                  <a:pt x="2893" y="690"/>
                  <a:pt x="2900" y="663"/>
                </a:cubicBezTo>
                <a:cubicBezTo>
                  <a:pt x="2909" y="634"/>
                  <a:pt x="2910" y="614"/>
                  <a:pt x="2902" y="603"/>
                </a:cubicBezTo>
                <a:cubicBezTo>
                  <a:pt x="2896" y="592"/>
                  <a:pt x="2880" y="583"/>
                  <a:pt x="2856" y="575"/>
                </a:cubicBezTo>
                <a:close/>
                <a:moveTo>
                  <a:pt x="521" y="340"/>
                </a:moveTo>
                <a:cubicBezTo>
                  <a:pt x="502" y="420"/>
                  <a:pt x="484" y="500"/>
                  <a:pt x="466" y="582"/>
                </a:cubicBezTo>
                <a:cubicBezTo>
                  <a:pt x="473" y="578"/>
                  <a:pt x="477" y="577"/>
                  <a:pt x="480" y="576"/>
                </a:cubicBezTo>
                <a:cubicBezTo>
                  <a:pt x="502" y="568"/>
                  <a:pt x="519" y="557"/>
                  <a:pt x="528" y="545"/>
                </a:cubicBezTo>
                <a:cubicBezTo>
                  <a:pt x="535" y="531"/>
                  <a:pt x="548" y="490"/>
                  <a:pt x="564" y="420"/>
                </a:cubicBezTo>
                <a:cubicBezTo>
                  <a:pt x="573" y="385"/>
                  <a:pt x="575" y="361"/>
                  <a:pt x="573" y="350"/>
                </a:cubicBezTo>
                <a:cubicBezTo>
                  <a:pt x="571" y="340"/>
                  <a:pt x="566" y="334"/>
                  <a:pt x="559" y="333"/>
                </a:cubicBezTo>
                <a:cubicBezTo>
                  <a:pt x="552" y="333"/>
                  <a:pt x="539" y="335"/>
                  <a:pt x="521" y="340"/>
                </a:cubicBezTo>
                <a:close/>
                <a:moveTo>
                  <a:pt x="10157" y="884"/>
                </a:moveTo>
                <a:cubicBezTo>
                  <a:pt x="10147" y="881"/>
                  <a:pt x="10138" y="883"/>
                  <a:pt x="10130" y="889"/>
                </a:cubicBezTo>
                <a:cubicBezTo>
                  <a:pt x="10122" y="895"/>
                  <a:pt x="10111" y="923"/>
                  <a:pt x="10096" y="973"/>
                </a:cubicBezTo>
                <a:cubicBezTo>
                  <a:pt x="10052" y="1129"/>
                  <a:pt x="10008" y="1285"/>
                  <a:pt x="9963" y="1439"/>
                </a:cubicBezTo>
                <a:cubicBezTo>
                  <a:pt x="9947" y="1495"/>
                  <a:pt x="9940" y="1529"/>
                  <a:pt x="9941" y="1541"/>
                </a:cubicBezTo>
                <a:cubicBezTo>
                  <a:pt x="9941" y="1551"/>
                  <a:pt x="9947" y="1558"/>
                  <a:pt x="9961" y="1561"/>
                </a:cubicBezTo>
                <a:cubicBezTo>
                  <a:pt x="9973" y="1565"/>
                  <a:pt x="9983" y="1561"/>
                  <a:pt x="9990" y="1550"/>
                </a:cubicBezTo>
                <a:cubicBezTo>
                  <a:pt x="9998" y="1539"/>
                  <a:pt x="10010" y="1506"/>
                  <a:pt x="10027" y="1449"/>
                </a:cubicBezTo>
                <a:cubicBezTo>
                  <a:pt x="10071" y="1295"/>
                  <a:pt x="10115" y="1141"/>
                  <a:pt x="10159" y="988"/>
                </a:cubicBezTo>
                <a:cubicBezTo>
                  <a:pt x="10172" y="943"/>
                  <a:pt x="10178" y="915"/>
                  <a:pt x="10177" y="904"/>
                </a:cubicBezTo>
                <a:cubicBezTo>
                  <a:pt x="10175" y="894"/>
                  <a:pt x="10168" y="887"/>
                  <a:pt x="10157" y="884"/>
                </a:cubicBezTo>
                <a:close/>
                <a:moveTo>
                  <a:pt x="8813" y="473"/>
                </a:moveTo>
                <a:cubicBezTo>
                  <a:pt x="8803" y="469"/>
                  <a:pt x="8794" y="470"/>
                  <a:pt x="8787" y="476"/>
                </a:cubicBezTo>
                <a:cubicBezTo>
                  <a:pt x="8779" y="482"/>
                  <a:pt x="8768" y="509"/>
                  <a:pt x="8754" y="556"/>
                </a:cubicBezTo>
                <a:cubicBezTo>
                  <a:pt x="8710" y="710"/>
                  <a:pt x="8665" y="863"/>
                  <a:pt x="8621" y="1018"/>
                </a:cubicBezTo>
                <a:cubicBezTo>
                  <a:pt x="8605" y="1074"/>
                  <a:pt x="8597" y="1109"/>
                  <a:pt x="8598" y="1119"/>
                </a:cubicBezTo>
                <a:cubicBezTo>
                  <a:pt x="8600" y="1130"/>
                  <a:pt x="8607" y="1137"/>
                  <a:pt x="8618" y="1140"/>
                </a:cubicBezTo>
                <a:cubicBezTo>
                  <a:pt x="8631" y="1144"/>
                  <a:pt x="8641" y="1140"/>
                  <a:pt x="8649" y="1130"/>
                </a:cubicBezTo>
                <a:cubicBezTo>
                  <a:pt x="8657" y="1118"/>
                  <a:pt x="8669" y="1084"/>
                  <a:pt x="8685" y="1029"/>
                </a:cubicBezTo>
                <a:cubicBezTo>
                  <a:pt x="8728" y="877"/>
                  <a:pt x="8772" y="726"/>
                  <a:pt x="8815" y="576"/>
                </a:cubicBezTo>
                <a:cubicBezTo>
                  <a:pt x="8829" y="532"/>
                  <a:pt x="8834" y="505"/>
                  <a:pt x="8832" y="493"/>
                </a:cubicBezTo>
                <a:cubicBezTo>
                  <a:pt x="8831" y="483"/>
                  <a:pt x="8824" y="476"/>
                  <a:pt x="8813" y="473"/>
                </a:cubicBezTo>
                <a:close/>
                <a:moveTo>
                  <a:pt x="7693" y="207"/>
                </a:moveTo>
                <a:cubicBezTo>
                  <a:pt x="7679" y="206"/>
                  <a:pt x="7668" y="210"/>
                  <a:pt x="7660" y="219"/>
                </a:cubicBezTo>
                <a:cubicBezTo>
                  <a:pt x="7652" y="227"/>
                  <a:pt x="7642" y="251"/>
                  <a:pt x="7631" y="290"/>
                </a:cubicBezTo>
                <a:cubicBezTo>
                  <a:pt x="7623" y="324"/>
                  <a:pt x="7613" y="358"/>
                  <a:pt x="7604" y="392"/>
                </a:cubicBezTo>
                <a:cubicBezTo>
                  <a:pt x="7500" y="386"/>
                  <a:pt x="7395" y="386"/>
                  <a:pt x="7292" y="392"/>
                </a:cubicBezTo>
                <a:cubicBezTo>
                  <a:pt x="7281" y="491"/>
                  <a:pt x="7269" y="591"/>
                  <a:pt x="7258" y="691"/>
                </a:cubicBezTo>
                <a:cubicBezTo>
                  <a:pt x="7346" y="684"/>
                  <a:pt x="7435" y="682"/>
                  <a:pt x="7523" y="683"/>
                </a:cubicBezTo>
                <a:cubicBezTo>
                  <a:pt x="7506" y="747"/>
                  <a:pt x="7489" y="811"/>
                  <a:pt x="7472" y="875"/>
                </a:cubicBezTo>
                <a:cubicBezTo>
                  <a:pt x="7458" y="922"/>
                  <a:pt x="7454" y="950"/>
                  <a:pt x="7455" y="958"/>
                </a:cubicBezTo>
                <a:cubicBezTo>
                  <a:pt x="7457" y="968"/>
                  <a:pt x="7465" y="972"/>
                  <a:pt x="7478" y="972"/>
                </a:cubicBezTo>
                <a:cubicBezTo>
                  <a:pt x="7495" y="972"/>
                  <a:pt x="7507" y="965"/>
                  <a:pt x="7516" y="953"/>
                </a:cubicBezTo>
                <a:cubicBezTo>
                  <a:pt x="7526" y="940"/>
                  <a:pt x="7539" y="901"/>
                  <a:pt x="7556" y="834"/>
                </a:cubicBezTo>
                <a:cubicBezTo>
                  <a:pt x="7564" y="809"/>
                  <a:pt x="7571" y="784"/>
                  <a:pt x="7577" y="759"/>
                </a:cubicBezTo>
                <a:cubicBezTo>
                  <a:pt x="7588" y="719"/>
                  <a:pt x="7592" y="691"/>
                  <a:pt x="7587" y="675"/>
                </a:cubicBezTo>
                <a:cubicBezTo>
                  <a:pt x="7583" y="657"/>
                  <a:pt x="7574" y="646"/>
                  <a:pt x="7558" y="640"/>
                </a:cubicBezTo>
                <a:cubicBezTo>
                  <a:pt x="7542" y="634"/>
                  <a:pt x="7502" y="630"/>
                  <a:pt x="7438" y="630"/>
                </a:cubicBezTo>
                <a:cubicBezTo>
                  <a:pt x="7455" y="567"/>
                  <a:pt x="7472" y="505"/>
                  <a:pt x="7489" y="442"/>
                </a:cubicBezTo>
                <a:cubicBezTo>
                  <a:pt x="7566" y="443"/>
                  <a:pt x="7613" y="445"/>
                  <a:pt x="7627" y="442"/>
                </a:cubicBezTo>
                <a:cubicBezTo>
                  <a:pt x="7641" y="439"/>
                  <a:pt x="7653" y="431"/>
                  <a:pt x="7662" y="418"/>
                </a:cubicBezTo>
                <a:cubicBezTo>
                  <a:pt x="7672" y="404"/>
                  <a:pt x="7682" y="381"/>
                  <a:pt x="7691" y="348"/>
                </a:cubicBezTo>
                <a:cubicBezTo>
                  <a:pt x="7696" y="328"/>
                  <a:pt x="7702" y="308"/>
                  <a:pt x="7707" y="289"/>
                </a:cubicBezTo>
                <a:cubicBezTo>
                  <a:pt x="7717" y="254"/>
                  <a:pt x="7721" y="232"/>
                  <a:pt x="7716" y="224"/>
                </a:cubicBezTo>
                <a:cubicBezTo>
                  <a:pt x="7713" y="213"/>
                  <a:pt x="7705" y="208"/>
                  <a:pt x="7693" y="207"/>
                </a:cubicBezTo>
                <a:close/>
                <a:moveTo>
                  <a:pt x="262" y="213"/>
                </a:moveTo>
                <a:cubicBezTo>
                  <a:pt x="358" y="171"/>
                  <a:pt x="459" y="134"/>
                  <a:pt x="561" y="106"/>
                </a:cubicBezTo>
                <a:cubicBezTo>
                  <a:pt x="655" y="79"/>
                  <a:pt x="726" y="72"/>
                  <a:pt x="774" y="79"/>
                </a:cubicBezTo>
                <a:cubicBezTo>
                  <a:pt x="820" y="86"/>
                  <a:pt x="853" y="112"/>
                  <a:pt x="873" y="155"/>
                </a:cubicBezTo>
                <a:cubicBezTo>
                  <a:pt x="893" y="198"/>
                  <a:pt x="889" y="271"/>
                  <a:pt x="863" y="374"/>
                </a:cubicBezTo>
                <a:cubicBezTo>
                  <a:pt x="845" y="446"/>
                  <a:pt x="821" y="498"/>
                  <a:pt x="790" y="532"/>
                </a:cubicBezTo>
                <a:cubicBezTo>
                  <a:pt x="760" y="567"/>
                  <a:pt x="715" y="592"/>
                  <a:pt x="657" y="613"/>
                </a:cubicBezTo>
                <a:cubicBezTo>
                  <a:pt x="720" y="604"/>
                  <a:pt x="759" y="619"/>
                  <a:pt x="776" y="654"/>
                </a:cubicBezTo>
                <a:cubicBezTo>
                  <a:pt x="793" y="689"/>
                  <a:pt x="791" y="746"/>
                  <a:pt x="771" y="825"/>
                </a:cubicBezTo>
                <a:cubicBezTo>
                  <a:pt x="763" y="862"/>
                  <a:pt x="754" y="898"/>
                  <a:pt x="744" y="934"/>
                </a:cubicBezTo>
                <a:cubicBezTo>
                  <a:pt x="725" y="1017"/>
                  <a:pt x="700" y="1082"/>
                  <a:pt x="671" y="1130"/>
                </a:cubicBezTo>
                <a:cubicBezTo>
                  <a:pt x="642" y="1176"/>
                  <a:pt x="606" y="1215"/>
                  <a:pt x="563" y="1243"/>
                </a:cubicBezTo>
                <a:cubicBezTo>
                  <a:pt x="519" y="1272"/>
                  <a:pt x="437" y="1307"/>
                  <a:pt x="324" y="1359"/>
                </a:cubicBezTo>
                <a:cubicBezTo>
                  <a:pt x="211" y="1411"/>
                  <a:pt x="104" y="1472"/>
                  <a:pt x="0" y="1541"/>
                </a:cubicBezTo>
                <a:cubicBezTo>
                  <a:pt x="81" y="1090"/>
                  <a:pt x="170" y="649"/>
                  <a:pt x="262" y="213"/>
                </a:cubicBezTo>
                <a:close/>
                <a:moveTo>
                  <a:pt x="8866" y="281"/>
                </a:moveTo>
                <a:cubicBezTo>
                  <a:pt x="8928" y="300"/>
                  <a:pt x="8981" y="327"/>
                  <a:pt x="9026" y="361"/>
                </a:cubicBezTo>
                <a:cubicBezTo>
                  <a:pt x="9070" y="396"/>
                  <a:pt x="9102" y="435"/>
                  <a:pt x="9123" y="482"/>
                </a:cubicBezTo>
                <a:cubicBezTo>
                  <a:pt x="9143" y="527"/>
                  <a:pt x="9149" y="573"/>
                  <a:pt x="9143" y="617"/>
                </a:cubicBezTo>
                <a:cubicBezTo>
                  <a:pt x="9143" y="621"/>
                  <a:pt x="9142" y="627"/>
                  <a:pt x="9141" y="634"/>
                </a:cubicBezTo>
                <a:lnTo>
                  <a:pt x="9141" y="635"/>
                </a:lnTo>
                <a:cubicBezTo>
                  <a:pt x="9161" y="561"/>
                  <a:pt x="9182" y="486"/>
                  <a:pt x="9203" y="413"/>
                </a:cubicBezTo>
                <a:cubicBezTo>
                  <a:pt x="9435" y="489"/>
                  <a:pt x="9667" y="566"/>
                  <a:pt x="9901" y="631"/>
                </a:cubicBezTo>
                <a:cubicBezTo>
                  <a:pt x="9891" y="666"/>
                  <a:pt x="9881" y="702"/>
                  <a:pt x="9871" y="737"/>
                </a:cubicBezTo>
                <a:cubicBezTo>
                  <a:pt x="9876" y="732"/>
                  <a:pt x="9880" y="728"/>
                  <a:pt x="9886" y="725"/>
                </a:cubicBezTo>
                <a:cubicBezTo>
                  <a:pt x="9925" y="697"/>
                  <a:pt x="9973" y="681"/>
                  <a:pt x="10029" y="674"/>
                </a:cubicBezTo>
                <a:cubicBezTo>
                  <a:pt x="10084" y="667"/>
                  <a:pt x="10146" y="671"/>
                  <a:pt x="10212" y="687"/>
                </a:cubicBezTo>
                <a:cubicBezTo>
                  <a:pt x="10275" y="701"/>
                  <a:pt x="10329" y="721"/>
                  <a:pt x="10375" y="751"/>
                </a:cubicBezTo>
                <a:cubicBezTo>
                  <a:pt x="10420" y="778"/>
                  <a:pt x="10455" y="813"/>
                  <a:pt x="10474" y="858"/>
                </a:cubicBezTo>
                <a:cubicBezTo>
                  <a:pt x="10479" y="867"/>
                  <a:pt x="10482" y="877"/>
                  <a:pt x="10487" y="887"/>
                </a:cubicBezTo>
                <a:cubicBezTo>
                  <a:pt x="10498" y="847"/>
                  <a:pt x="10509" y="808"/>
                  <a:pt x="10521" y="767"/>
                </a:cubicBezTo>
                <a:cubicBezTo>
                  <a:pt x="10676" y="790"/>
                  <a:pt x="10834" y="804"/>
                  <a:pt x="10990" y="804"/>
                </a:cubicBezTo>
                <a:cubicBezTo>
                  <a:pt x="11019" y="804"/>
                  <a:pt x="11048" y="803"/>
                  <a:pt x="11076" y="803"/>
                </a:cubicBezTo>
                <a:cubicBezTo>
                  <a:pt x="11142" y="801"/>
                  <a:pt x="11207" y="796"/>
                  <a:pt x="11274" y="788"/>
                </a:cubicBezTo>
                <a:cubicBezTo>
                  <a:pt x="11230" y="960"/>
                  <a:pt x="11184" y="1130"/>
                  <a:pt x="11139" y="1299"/>
                </a:cubicBezTo>
                <a:cubicBezTo>
                  <a:pt x="11233" y="1128"/>
                  <a:pt x="11324" y="950"/>
                  <a:pt x="11416" y="768"/>
                </a:cubicBezTo>
                <a:cubicBezTo>
                  <a:pt x="11493" y="754"/>
                  <a:pt x="11570" y="737"/>
                  <a:pt x="11644" y="716"/>
                </a:cubicBezTo>
                <a:cubicBezTo>
                  <a:pt x="11659" y="711"/>
                  <a:pt x="11674" y="706"/>
                  <a:pt x="11688" y="702"/>
                </a:cubicBezTo>
                <a:cubicBezTo>
                  <a:pt x="11764" y="678"/>
                  <a:pt x="11840" y="651"/>
                  <a:pt x="11913" y="619"/>
                </a:cubicBezTo>
                <a:cubicBezTo>
                  <a:pt x="11872" y="808"/>
                  <a:pt x="11831" y="995"/>
                  <a:pt x="11790" y="1181"/>
                </a:cubicBezTo>
                <a:cubicBezTo>
                  <a:pt x="11878" y="979"/>
                  <a:pt x="11963" y="772"/>
                  <a:pt x="12045" y="557"/>
                </a:cubicBezTo>
                <a:cubicBezTo>
                  <a:pt x="12129" y="516"/>
                  <a:pt x="12211" y="469"/>
                  <a:pt x="12291" y="415"/>
                </a:cubicBezTo>
                <a:cubicBezTo>
                  <a:pt x="12210" y="866"/>
                  <a:pt x="12121" y="1307"/>
                  <a:pt x="12029" y="1743"/>
                </a:cubicBezTo>
                <a:cubicBezTo>
                  <a:pt x="11943" y="1780"/>
                  <a:pt x="11852" y="1813"/>
                  <a:pt x="11762" y="1840"/>
                </a:cubicBezTo>
                <a:cubicBezTo>
                  <a:pt x="11805" y="1655"/>
                  <a:pt x="11848" y="1468"/>
                  <a:pt x="11890" y="1280"/>
                </a:cubicBezTo>
                <a:cubicBezTo>
                  <a:pt x="11807" y="1484"/>
                  <a:pt x="11722" y="1681"/>
                  <a:pt x="11634" y="1873"/>
                </a:cubicBezTo>
                <a:cubicBezTo>
                  <a:pt x="11554" y="1892"/>
                  <a:pt x="11473" y="1906"/>
                  <a:pt x="11390" y="1915"/>
                </a:cubicBezTo>
                <a:cubicBezTo>
                  <a:pt x="11376" y="1917"/>
                  <a:pt x="11361" y="1920"/>
                  <a:pt x="11346" y="1921"/>
                </a:cubicBezTo>
                <a:cubicBezTo>
                  <a:pt x="11267" y="1929"/>
                  <a:pt x="11188" y="1933"/>
                  <a:pt x="11108" y="1934"/>
                </a:cubicBezTo>
                <a:cubicBezTo>
                  <a:pt x="11153" y="1765"/>
                  <a:pt x="11199" y="1595"/>
                  <a:pt x="11244" y="1425"/>
                </a:cubicBezTo>
                <a:cubicBezTo>
                  <a:pt x="11156" y="1598"/>
                  <a:pt x="11066" y="1766"/>
                  <a:pt x="10976" y="1931"/>
                </a:cubicBezTo>
                <a:cubicBezTo>
                  <a:pt x="10879" y="1927"/>
                  <a:pt x="10782" y="1919"/>
                  <a:pt x="10685" y="1906"/>
                </a:cubicBezTo>
                <a:cubicBezTo>
                  <a:pt x="10764" y="1624"/>
                  <a:pt x="10844" y="1339"/>
                  <a:pt x="10923" y="1051"/>
                </a:cubicBezTo>
                <a:cubicBezTo>
                  <a:pt x="10877" y="1050"/>
                  <a:pt x="10832" y="1047"/>
                  <a:pt x="10786" y="1044"/>
                </a:cubicBezTo>
                <a:cubicBezTo>
                  <a:pt x="10707" y="1328"/>
                  <a:pt x="10629" y="1608"/>
                  <a:pt x="10549" y="1885"/>
                </a:cubicBezTo>
                <a:cubicBezTo>
                  <a:pt x="10439" y="1866"/>
                  <a:pt x="10330" y="1843"/>
                  <a:pt x="10222" y="1817"/>
                </a:cubicBezTo>
                <a:cubicBezTo>
                  <a:pt x="10233" y="1779"/>
                  <a:pt x="10244" y="1739"/>
                  <a:pt x="10255" y="1701"/>
                </a:cubicBezTo>
                <a:cubicBezTo>
                  <a:pt x="10247" y="1708"/>
                  <a:pt x="10240" y="1714"/>
                  <a:pt x="10231" y="1721"/>
                </a:cubicBezTo>
                <a:cubicBezTo>
                  <a:pt x="10191" y="1750"/>
                  <a:pt x="10143" y="1769"/>
                  <a:pt x="10087" y="1774"/>
                </a:cubicBezTo>
                <a:cubicBezTo>
                  <a:pt x="10031" y="1780"/>
                  <a:pt x="9971" y="1774"/>
                  <a:pt x="9906" y="1755"/>
                </a:cubicBezTo>
                <a:cubicBezTo>
                  <a:pt x="9843" y="1737"/>
                  <a:pt x="9790" y="1710"/>
                  <a:pt x="9745" y="1677"/>
                </a:cubicBezTo>
                <a:cubicBezTo>
                  <a:pt x="9701" y="1644"/>
                  <a:pt x="9669" y="1605"/>
                  <a:pt x="9649" y="1559"/>
                </a:cubicBezTo>
                <a:cubicBezTo>
                  <a:pt x="9645" y="1552"/>
                  <a:pt x="9643" y="1545"/>
                  <a:pt x="9641" y="1538"/>
                </a:cubicBezTo>
                <a:cubicBezTo>
                  <a:pt x="9630" y="1573"/>
                  <a:pt x="9620" y="1608"/>
                  <a:pt x="9610" y="1642"/>
                </a:cubicBezTo>
                <a:cubicBezTo>
                  <a:pt x="9504" y="1608"/>
                  <a:pt x="9397" y="1573"/>
                  <a:pt x="9290" y="1538"/>
                </a:cubicBezTo>
                <a:cubicBezTo>
                  <a:pt x="9367" y="1278"/>
                  <a:pt x="9441" y="1017"/>
                  <a:pt x="9516" y="755"/>
                </a:cubicBezTo>
                <a:cubicBezTo>
                  <a:pt x="9497" y="749"/>
                  <a:pt x="9478" y="744"/>
                  <a:pt x="9460" y="738"/>
                </a:cubicBezTo>
                <a:cubicBezTo>
                  <a:pt x="9408" y="918"/>
                  <a:pt x="9355" y="1098"/>
                  <a:pt x="9304" y="1279"/>
                </a:cubicBezTo>
                <a:cubicBezTo>
                  <a:pt x="9283" y="1353"/>
                  <a:pt x="9255" y="1404"/>
                  <a:pt x="9222" y="1431"/>
                </a:cubicBezTo>
                <a:cubicBezTo>
                  <a:pt x="9189" y="1458"/>
                  <a:pt x="9148" y="1468"/>
                  <a:pt x="9100" y="1461"/>
                </a:cubicBezTo>
                <a:cubicBezTo>
                  <a:pt x="9051" y="1454"/>
                  <a:pt x="8980" y="1436"/>
                  <a:pt x="8881" y="1406"/>
                </a:cubicBezTo>
                <a:cubicBezTo>
                  <a:pt x="8862" y="1400"/>
                  <a:pt x="8842" y="1393"/>
                  <a:pt x="8822" y="1387"/>
                </a:cubicBezTo>
                <a:cubicBezTo>
                  <a:pt x="8827" y="1370"/>
                  <a:pt x="8833" y="1352"/>
                  <a:pt x="8837" y="1335"/>
                </a:cubicBezTo>
                <a:cubicBezTo>
                  <a:pt x="8833" y="1336"/>
                  <a:pt x="8827" y="1338"/>
                  <a:pt x="8822" y="1340"/>
                </a:cubicBezTo>
                <a:cubicBezTo>
                  <a:pt x="8798" y="1349"/>
                  <a:pt x="8772" y="1353"/>
                  <a:pt x="8745" y="1356"/>
                </a:cubicBezTo>
                <a:cubicBezTo>
                  <a:pt x="8690" y="1359"/>
                  <a:pt x="8629" y="1352"/>
                  <a:pt x="8564" y="1335"/>
                </a:cubicBezTo>
                <a:cubicBezTo>
                  <a:pt x="8501" y="1317"/>
                  <a:pt x="8447" y="1294"/>
                  <a:pt x="8402" y="1264"/>
                </a:cubicBezTo>
                <a:cubicBezTo>
                  <a:pt x="8368" y="1240"/>
                  <a:pt x="8341" y="1214"/>
                  <a:pt x="8321" y="1182"/>
                </a:cubicBezTo>
                <a:cubicBezTo>
                  <a:pt x="8319" y="1180"/>
                  <a:pt x="8317" y="1176"/>
                  <a:pt x="8315" y="1173"/>
                </a:cubicBezTo>
                <a:cubicBezTo>
                  <a:pt x="8308" y="1196"/>
                  <a:pt x="8302" y="1221"/>
                  <a:pt x="8295" y="1245"/>
                </a:cubicBezTo>
                <a:cubicBezTo>
                  <a:pt x="8113" y="1203"/>
                  <a:pt x="7930" y="1173"/>
                  <a:pt x="7745" y="1158"/>
                </a:cubicBezTo>
                <a:cubicBezTo>
                  <a:pt x="7755" y="1123"/>
                  <a:pt x="7765" y="1088"/>
                  <a:pt x="7774" y="1054"/>
                </a:cubicBezTo>
                <a:cubicBezTo>
                  <a:pt x="7771" y="1057"/>
                  <a:pt x="7769" y="1059"/>
                  <a:pt x="7766" y="1062"/>
                </a:cubicBezTo>
                <a:cubicBezTo>
                  <a:pt x="7734" y="1093"/>
                  <a:pt x="7695" y="1116"/>
                  <a:pt x="7649" y="1133"/>
                </a:cubicBezTo>
                <a:cubicBezTo>
                  <a:pt x="7587" y="1157"/>
                  <a:pt x="7515" y="1168"/>
                  <a:pt x="7431" y="1171"/>
                </a:cubicBezTo>
                <a:cubicBezTo>
                  <a:pt x="7336" y="1174"/>
                  <a:pt x="7265" y="1166"/>
                  <a:pt x="7218" y="1139"/>
                </a:cubicBezTo>
                <a:cubicBezTo>
                  <a:pt x="7215" y="1137"/>
                  <a:pt x="7211" y="1134"/>
                  <a:pt x="7208" y="1132"/>
                </a:cubicBezTo>
                <a:cubicBezTo>
                  <a:pt x="7207" y="1144"/>
                  <a:pt x="7206" y="1154"/>
                  <a:pt x="7205" y="1166"/>
                </a:cubicBezTo>
                <a:cubicBezTo>
                  <a:pt x="7092" y="1180"/>
                  <a:pt x="6981" y="1202"/>
                  <a:pt x="6872" y="1231"/>
                </a:cubicBezTo>
                <a:cubicBezTo>
                  <a:pt x="6884" y="1161"/>
                  <a:pt x="6896" y="1090"/>
                  <a:pt x="6908" y="1019"/>
                </a:cubicBezTo>
                <a:cubicBezTo>
                  <a:pt x="6882" y="1026"/>
                  <a:pt x="6855" y="1033"/>
                  <a:pt x="6829" y="1041"/>
                </a:cubicBezTo>
                <a:cubicBezTo>
                  <a:pt x="6806" y="1116"/>
                  <a:pt x="6784" y="1190"/>
                  <a:pt x="6761" y="1266"/>
                </a:cubicBezTo>
                <a:cubicBezTo>
                  <a:pt x="6652" y="1302"/>
                  <a:pt x="6544" y="1346"/>
                  <a:pt x="6444" y="1399"/>
                </a:cubicBezTo>
                <a:cubicBezTo>
                  <a:pt x="6503" y="1197"/>
                  <a:pt x="6564" y="998"/>
                  <a:pt x="6627" y="802"/>
                </a:cubicBezTo>
                <a:cubicBezTo>
                  <a:pt x="6623" y="808"/>
                  <a:pt x="6617" y="812"/>
                  <a:pt x="6613" y="817"/>
                </a:cubicBezTo>
                <a:cubicBezTo>
                  <a:pt x="6603" y="827"/>
                  <a:pt x="6592" y="837"/>
                  <a:pt x="6581" y="846"/>
                </a:cubicBezTo>
                <a:cubicBezTo>
                  <a:pt x="6535" y="884"/>
                  <a:pt x="6481" y="917"/>
                  <a:pt x="6419" y="948"/>
                </a:cubicBezTo>
                <a:cubicBezTo>
                  <a:pt x="6399" y="958"/>
                  <a:pt x="6379" y="968"/>
                  <a:pt x="6360" y="979"/>
                </a:cubicBezTo>
                <a:cubicBezTo>
                  <a:pt x="6325" y="1153"/>
                  <a:pt x="6288" y="1328"/>
                  <a:pt x="6256" y="1504"/>
                </a:cubicBezTo>
                <a:cubicBezTo>
                  <a:pt x="6237" y="1517"/>
                  <a:pt x="6218" y="1529"/>
                  <a:pt x="6199" y="1541"/>
                </a:cubicBezTo>
                <a:cubicBezTo>
                  <a:pt x="6120" y="1593"/>
                  <a:pt x="6040" y="1639"/>
                  <a:pt x="5958" y="1681"/>
                </a:cubicBezTo>
                <a:cubicBezTo>
                  <a:pt x="5980" y="1572"/>
                  <a:pt x="6003" y="1461"/>
                  <a:pt x="6024" y="1351"/>
                </a:cubicBezTo>
                <a:cubicBezTo>
                  <a:pt x="6021" y="1358"/>
                  <a:pt x="6016" y="1364"/>
                  <a:pt x="6012" y="1371"/>
                </a:cubicBezTo>
                <a:cubicBezTo>
                  <a:pt x="5951" y="1465"/>
                  <a:pt x="5855" y="1546"/>
                  <a:pt x="5718" y="1599"/>
                </a:cubicBezTo>
                <a:cubicBezTo>
                  <a:pt x="5707" y="1603"/>
                  <a:pt x="5695" y="1608"/>
                  <a:pt x="5682" y="1613"/>
                </a:cubicBezTo>
                <a:cubicBezTo>
                  <a:pt x="5667" y="1681"/>
                  <a:pt x="5652" y="1749"/>
                  <a:pt x="5636" y="1816"/>
                </a:cubicBezTo>
                <a:cubicBezTo>
                  <a:pt x="5530" y="1852"/>
                  <a:pt x="5421" y="1879"/>
                  <a:pt x="5312" y="1898"/>
                </a:cubicBezTo>
                <a:cubicBezTo>
                  <a:pt x="5329" y="1834"/>
                  <a:pt x="5344" y="1769"/>
                  <a:pt x="5361" y="1703"/>
                </a:cubicBezTo>
                <a:cubicBezTo>
                  <a:pt x="5350" y="1706"/>
                  <a:pt x="5340" y="1708"/>
                  <a:pt x="5329" y="1709"/>
                </a:cubicBezTo>
                <a:cubicBezTo>
                  <a:pt x="5184" y="1737"/>
                  <a:pt x="5093" y="1713"/>
                  <a:pt x="5055" y="1658"/>
                </a:cubicBezTo>
                <a:cubicBezTo>
                  <a:pt x="5031" y="1622"/>
                  <a:pt x="5020" y="1580"/>
                  <a:pt x="5021" y="1534"/>
                </a:cubicBezTo>
                <a:cubicBezTo>
                  <a:pt x="5023" y="1501"/>
                  <a:pt x="5033" y="1447"/>
                  <a:pt x="5053" y="1372"/>
                </a:cubicBezTo>
                <a:cubicBezTo>
                  <a:pt x="5055" y="1365"/>
                  <a:pt x="5056" y="1359"/>
                  <a:pt x="5058" y="1352"/>
                </a:cubicBezTo>
                <a:cubicBezTo>
                  <a:pt x="5078" y="1276"/>
                  <a:pt x="5096" y="1222"/>
                  <a:pt x="5111" y="1187"/>
                </a:cubicBezTo>
                <a:cubicBezTo>
                  <a:pt x="5136" y="1137"/>
                  <a:pt x="5167" y="1095"/>
                  <a:pt x="5206" y="1060"/>
                </a:cubicBezTo>
                <a:cubicBezTo>
                  <a:pt x="5279" y="982"/>
                  <a:pt x="5387" y="929"/>
                  <a:pt x="5527" y="884"/>
                </a:cubicBezTo>
                <a:cubicBezTo>
                  <a:pt x="5538" y="881"/>
                  <a:pt x="5548" y="877"/>
                  <a:pt x="5557" y="873"/>
                </a:cubicBezTo>
                <a:cubicBezTo>
                  <a:pt x="5573" y="803"/>
                  <a:pt x="5589" y="733"/>
                  <a:pt x="5604" y="663"/>
                </a:cubicBezTo>
                <a:cubicBezTo>
                  <a:pt x="5710" y="624"/>
                  <a:pt x="5811" y="577"/>
                  <a:pt x="5911" y="524"/>
                </a:cubicBezTo>
                <a:cubicBezTo>
                  <a:pt x="5896" y="597"/>
                  <a:pt x="5882" y="670"/>
                  <a:pt x="5868" y="744"/>
                </a:cubicBezTo>
                <a:cubicBezTo>
                  <a:pt x="5878" y="739"/>
                  <a:pt x="5890" y="733"/>
                  <a:pt x="5901" y="727"/>
                </a:cubicBezTo>
                <a:cubicBezTo>
                  <a:pt x="6009" y="670"/>
                  <a:pt x="6083" y="646"/>
                  <a:pt x="6123" y="670"/>
                </a:cubicBezTo>
                <a:cubicBezTo>
                  <a:pt x="6132" y="676"/>
                  <a:pt x="6141" y="684"/>
                  <a:pt x="6147" y="695"/>
                </a:cubicBezTo>
                <a:cubicBezTo>
                  <a:pt x="6148" y="695"/>
                  <a:pt x="6150" y="696"/>
                  <a:pt x="6151" y="696"/>
                </a:cubicBezTo>
                <a:cubicBezTo>
                  <a:pt x="6173" y="576"/>
                  <a:pt x="6198" y="456"/>
                  <a:pt x="6220" y="336"/>
                </a:cubicBezTo>
                <a:cubicBezTo>
                  <a:pt x="6315" y="282"/>
                  <a:pt x="6412" y="233"/>
                  <a:pt x="6511" y="192"/>
                </a:cubicBezTo>
                <a:cubicBezTo>
                  <a:pt x="6590" y="160"/>
                  <a:pt x="6650" y="147"/>
                  <a:pt x="6691" y="147"/>
                </a:cubicBezTo>
                <a:cubicBezTo>
                  <a:pt x="6733" y="147"/>
                  <a:pt x="6763" y="157"/>
                  <a:pt x="6780" y="178"/>
                </a:cubicBezTo>
                <a:cubicBezTo>
                  <a:pt x="6797" y="199"/>
                  <a:pt x="6805" y="228"/>
                  <a:pt x="6804" y="264"/>
                </a:cubicBezTo>
                <a:cubicBezTo>
                  <a:pt x="6804" y="268"/>
                  <a:pt x="6804" y="272"/>
                  <a:pt x="6804" y="277"/>
                </a:cubicBezTo>
                <a:cubicBezTo>
                  <a:pt x="6827" y="211"/>
                  <a:pt x="6850" y="143"/>
                  <a:pt x="6874" y="77"/>
                </a:cubicBezTo>
                <a:cubicBezTo>
                  <a:pt x="7025" y="42"/>
                  <a:pt x="7179" y="23"/>
                  <a:pt x="7334" y="19"/>
                </a:cubicBezTo>
                <a:cubicBezTo>
                  <a:pt x="7323" y="125"/>
                  <a:pt x="7311" y="229"/>
                  <a:pt x="7298" y="333"/>
                </a:cubicBezTo>
                <a:cubicBezTo>
                  <a:pt x="7303" y="317"/>
                  <a:pt x="7307" y="299"/>
                  <a:pt x="7312" y="283"/>
                </a:cubicBezTo>
                <a:cubicBezTo>
                  <a:pt x="7341" y="171"/>
                  <a:pt x="7389" y="94"/>
                  <a:pt x="7454" y="55"/>
                </a:cubicBezTo>
                <a:cubicBezTo>
                  <a:pt x="7518" y="18"/>
                  <a:pt x="7608" y="0"/>
                  <a:pt x="7722" y="13"/>
                </a:cubicBezTo>
                <a:cubicBezTo>
                  <a:pt x="7864" y="28"/>
                  <a:pt x="7953" y="72"/>
                  <a:pt x="7991" y="133"/>
                </a:cubicBezTo>
                <a:cubicBezTo>
                  <a:pt x="8000" y="148"/>
                  <a:pt x="8007" y="163"/>
                  <a:pt x="8013" y="180"/>
                </a:cubicBezTo>
                <a:cubicBezTo>
                  <a:pt x="8014" y="185"/>
                  <a:pt x="8015" y="190"/>
                  <a:pt x="8016" y="196"/>
                </a:cubicBezTo>
                <a:cubicBezTo>
                  <a:pt x="8027" y="158"/>
                  <a:pt x="8037" y="121"/>
                  <a:pt x="8048" y="85"/>
                </a:cubicBezTo>
                <a:cubicBezTo>
                  <a:pt x="8223" y="119"/>
                  <a:pt x="8398" y="163"/>
                  <a:pt x="8570" y="213"/>
                </a:cubicBezTo>
                <a:cubicBezTo>
                  <a:pt x="8561" y="243"/>
                  <a:pt x="8553" y="274"/>
                  <a:pt x="8544" y="304"/>
                </a:cubicBezTo>
                <a:cubicBezTo>
                  <a:pt x="8554" y="298"/>
                  <a:pt x="8565" y="291"/>
                  <a:pt x="8575" y="285"/>
                </a:cubicBezTo>
                <a:cubicBezTo>
                  <a:pt x="8608" y="269"/>
                  <a:pt x="8644" y="260"/>
                  <a:pt x="8686" y="256"/>
                </a:cubicBezTo>
                <a:cubicBezTo>
                  <a:pt x="8741" y="251"/>
                  <a:pt x="8802" y="260"/>
                  <a:pt x="8866" y="281"/>
                </a:cubicBezTo>
                <a:close/>
                <a:moveTo>
                  <a:pt x="1749" y="43"/>
                </a:moveTo>
                <a:cubicBezTo>
                  <a:pt x="1840" y="59"/>
                  <a:pt x="1911" y="91"/>
                  <a:pt x="1961" y="136"/>
                </a:cubicBezTo>
                <a:cubicBezTo>
                  <a:pt x="1974" y="147"/>
                  <a:pt x="1985" y="158"/>
                  <a:pt x="1995" y="170"/>
                </a:cubicBezTo>
                <a:cubicBezTo>
                  <a:pt x="1996" y="171"/>
                  <a:pt x="1997" y="173"/>
                  <a:pt x="1998" y="175"/>
                </a:cubicBezTo>
                <a:cubicBezTo>
                  <a:pt x="2003" y="156"/>
                  <a:pt x="2008" y="139"/>
                  <a:pt x="2014" y="120"/>
                </a:cubicBezTo>
                <a:cubicBezTo>
                  <a:pt x="2209" y="165"/>
                  <a:pt x="2401" y="220"/>
                  <a:pt x="2592" y="281"/>
                </a:cubicBezTo>
                <a:cubicBezTo>
                  <a:pt x="2622" y="290"/>
                  <a:pt x="2653" y="299"/>
                  <a:pt x="2683" y="310"/>
                </a:cubicBezTo>
                <a:cubicBezTo>
                  <a:pt x="2755" y="332"/>
                  <a:pt x="2827" y="356"/>
                  <a:pt x="2899" y="379"/>
                </a:cubicBezTo>
                <a:cubicBezTo>
                  <a:pt x="2979" y="405"/>
                  <a:pt x="3040" y="432"/>
                  <a:pt x="3081" y="457"/>
                </a:cubicBezTo>
                <a:cubicBezTo>
                  <a:pt x="3123" y="484"/>
                  <a:pt x="3151" y="512"/>
                  <a:pt x="3168" y="541"/>
                </a:cubicBezTo>
                <a:cubicBezTo>
                  <a:pt x="3184" y="571"/>
                  <a:pt x="3193" y="603"/>
                  <a:pt x="3192" y="635"/>
                </a:cubicBezTo>
                <a:cubicBezTo>
                  <a:pt x="3192" y="640"/>
                  <a:pt x="3191" y="645"/>
                  <a:pt x="3191" y="648"/>
                </a:cubicBezTo>
                <a:cubicBezTo>
                  <a:pt x="3214" y="598"/>
                  <a:pt x="3237" y="548"/>
                  <a:pt x="3261" y="498"/>
                </a:cubicBezTo>
                <a:cubicBezTo>
                  <a:pt x="3408" y="546"/>
                  <a:pt x="3557" y="591"/>
                  <a:pt x="3707" y="633"/>
                </a:cubicBezTo>
                <a:cubicBezTo>
                  <a:pt x="3693" y="755"/>
                  <a:pt x="3679" y="876"/>
                  <a:pt x="3665" y="998"/>
                </a:cubicBezTo>
                <a:cubicBezTo>
                  <a:pt x="3698" y="882"/>
                  <a:pt x="3732" y="766"/>
                  <a:pt x="3765" y="649"/>
                </a:cubicBezTo>
                <a:cubicBezTo>
                  <a:pt x="3873" y="677"/>
                  <a:pt x="3981" y="704"/>
                  <a:pt x="4091" y="726"/>
                </a:cubicBezTo>
                <a:cubicBezTo>
                  <a:pt x="4056" y="848"/>
                  <a:pt x="4021" y="969"/>
                  <a:pt x="3987" y="1089"/>
                </a:cubicBezTo>
                <a:cubicBezTo>
                  <a:pt x="4007" y="1094"/>
                  <a:pt x="4027" y="1098"/>
                  <a:pt x="4047" y="1103"/>
                </a:cubicBezTo>
                <a:cubicBezTo>
                  <a:pt x="4082" y="982"/>
                  <a:pt x="4116" y="861"/>
                  <a:pt x="4150" y="739"/>
                </a:cubicBezTo>
                <a:cubicBezTo>
                  <a:pt x="4247" y="758"/>
                  <a:pt x="4343" y="773"/>
                  <a:pt x="4440" y="783"/>
                </a:cubicBezTo>
                <a:cubicBezTo>
                  <a:pt x="4453" y="785"/>
                  <a:pt x="4468" y="787"/>
                  <a:pt x="4481" y="788"/>
                </a:cubicBezTo>
                <a:cubicBezTo>
                  <a:pt x="4646" y="805"/>
                  <a:pt x="4812" y="810"/>
                  <a:pt x="4977" y="798"/>
                </a:cubicBezTo>
                <a:cubicBezTo>
                  <a:pt x="4955" y="882"/>
                  <a:pt x="4932" y="967"/>
                  <a:pt x="4910" y="1051"/>
                </a:cubicBezTo>
                <a:cubicBezTo>
                  <a:pt x="4841" y="1054"/>
                  <a:pt x="4774" y="1054"/>
                  <a:pt x="4707" y="1051"/>
                </a:cubicBezTo>
                <a:cubicBezTo>
                  <a:pt x="4690" y="1110"/>
                  <a:pt x="4674" y="1169"/>
                  <a:pt x="4657" y="1229"/>
                </a:cubicBezTo>
                <a:cubicBezTo>
                  <a:pt x="4721" y="1232"/>
                  <a:pt x="4784" y="1235"/>
                  <a:pt x="4847" y="1233"/>
                </a:cubicBezTo>
                <a:cubicBezTo>
                  <a:pt x="4826" y="1314"/>
                  <a:pt x="4804" y="1392"/>
                  <a:pt x="4783" y="1471"/>
                </a:cubicBezTo>
                <a:cubicBezTo>
                  <a:pt x="4720" y="1470"/>
                  <a:pt x="4656" y="1465"/>
                  <a:pt x="4592" y="1460"/>
                </a:cubicBezTo>
                <a:cubicBezTo>
                  <a:pt x="4573" y="1529"/>
                  <a:pt x="4554" y="1598"/>
                  <a:pt x="4535" y="1666"/>
                </a:cubicBezTo>
                <a:cubicBezTo>
                  <a:pt x="4610" y="1674"/>
                  <a:pt x="4684" y="1680"/>
                  <a:pt x="4758" y="1682"/>
                </a:cubicBezTo>
                <a:cubicBezTo>
                  <a:pt x="4735" y="1764"/>
                  <a:pt x="4713" y="1845"/>
                  <a:pt x="4690" y="1927"/>
                </a:cubicBezTo>
                <a:cubicBezTo>
                  <a:pt x="4518" y="1914"/>
                  <a:pt x="4347" y="1888"/>
                  <a:pt x="4180" y="1853"/>
                </a:cubicBezTo>
                <a:cubicBezTo>
                  <a:pt x="4167" y="1850"/>
                  <a:pt x="4152" y="1848"/>
                  <a:pt x="4139" y="1844"/>
                </a:cubicBezTo>
                <a:cubicBezTo>
                  <a:pt x="4043" y="1823"/>
                  <a:pt x="3948" y="1800"/>
                  <a:pt x="3855" y="1774"/>
                </a:cubicBezTo>
                <a:cubicBezTo>
                  <a:pt x="3894" y="1635"/>
                  <a:pt x="3934" y="1494"/>
                  <a:pt x="3975" y="1353"/>
                </a:cubicBezTo>
                <a:cubicBezTo>
                  <a:pt x="3955" y="1349"/>
                  <a:pt x="3935" y="1344"/>
                  <a:pt x="3915" y="1338"/>
                </a:cubicBezTo>
                <a:cubicBezTo>
                  <a:pt x="3876" y="1479"/>
                  <a:pt x="3835" y="1618"/>
                  <a:pt x="3795" y="1758"/>
                </a:cubicBezTo>
                <a:cubicBezTo>
                  <a:pt x="3725" y="1738"/>
                  <a:pt x="3655" y="1717"/>
                  <a:pt x="3585" y="1696"/>
                </a:cubicBezTo>
                <a:cubicBezTo>
                  <a:pt x="3548" y="1686"/>
                  <a:pt x="3511" y="1674"/>
                  <a:pt x="3474" y="1663"/>
                </a:cubicBezTo>
                <a:cubicBezTo>
                  <a:pt x="3403" y="1639"/>
                  <a:pt x="3332" y="1617"/>
                  <a:pt x="3261" y="1594"/>
                </a:cubicBezTo>
                <a:cubicBezTo>
                  <a:pt x="3272" y="1534"/>
                  <a:pt x="3284" y="1473"/>
                  <a:pt x="3295" y="1413"/>
                </a:cubicBezTo>
                <a:cubicBezTo>
                  <a:pt x="3269" y="1404"/>
                  <a:pt x="3243" y="1396"/>
                  <a:pt x="3218" y="1387"/>
                </a:cubicBezTo>
                <a:cubicBezTo>
                  <a:pt x="3195" y="1444"/>
                  <a:pt x="3172" y="1501"/>
                  <a:pt x="3150" y="1557"/>
                </a:cubicBezTo>
                <a:cubicBezTo>
                  <a:pt x="3041" y="1522"/>
                  <a:pt x="2932" y="1486"/>
                  <a:pt x="2823" y="1451"/>
                </a:cubicBezTo>
                <a:cubicBezTo>
                  <a:pt x="2887" y="1310"/>
                  <a:pt x="2952" y="1172"/>
                  <a:pt x="3015" y="1032"/>
                </a:cubicBezTo>
                <a:cubicBezTo>
                  <a:pt x="3010" y="1033"/>
                  <a:pt x="3006" y="1034"/>
                  <a:pt x="3000" y="1036"/>
                </a:cubicBezTo>
                <a:cubicBezTo>
                  <a:pt x="2990" y="1038"/>
                  <a:pt x="2979" y="1040"/>
                  <a:pt x="2968" y="1040"/>
                </a:cubicBezTo>
                <a:cubicBezTo>
                  <a:pt x="2921" y="1043"/>
                  <a:pt x="2865" y="1033"/>
                  <a:pt x="2800" y="1012"/>
                </a:cubicBezTo>
                <a:cubicBezTo>
                  <a:pt x="2779" y="1005"/>
                  <a:pt x="2757" y="998"/>
                  <a:pt x="2736" y="993"/>
                </a:cubicBezTo>
                <a:cubicBezTo>
                  <a:pt x="2698" y="1124"/>
                  <a:pt x="2661" y="1255"/>
                  <a:pt x="2622" y="1387"/>
                </a:cubicBezTo>
                <a:cubicBezTo>
                  <a:pt x="2515" y="1356"/>
                  <a:pt x="2408" y="1324"/>
                  <a:pt x="2300" y="1295"/>
                </a:cubicBezTo>
                <a:cubicBezTo>
                  <a:pt x="2376" y="1030"/>
                  <a:pt x="2452" y="766"/>
                  <a:pt x="2529" y="502"/>
                </a:cubicBezTo>
                <a:cubicBezTo>
                  <a:pt x="2501" y="493"/>
                  <a:pt x="2473" y="485"/>
                  <a:pt x="2447" y="477"/>
                </a:cubicBezTo>
                <a:cubicBezTo>
                  <a:pt x="2371" y="741"/>
                  <a:pt x="2294" y="1007"/>
                  <a:pt x="2218" y="1274"/>
                </a:cubicBezTo>
                <a:cubicBezTo>
                  <a:pt x="2110" y="1247"/>
                  <a:pt x="2001" y="1223"/>
                  <a:pt x="1890" y="1203"/>
                </a:cubicBezTo>
                <a:cubicBezTo>
                  <a:pt x="1969" y="930"/>
                  <a:pt x="2047" y="659"/>
                  <a:pt x="2123" y="390"/>
                </a:cubicBezTo>
                <a:cubicBezTo>
                  <a:pt x="2095" y="383"/>
                  <a:pt x="2069" y="376"/>
                  <a:pt x="2041" y="370"/>
                </a:cubicBezTo>
                <a:cubicBezTo>
                  <a:pt x="2041" y="371"/>
                  <a:pt x="2040" y="372"/>
                  <a:pt x="2040" y="374"/>
                </a:cubicBezTo>
                <a:cubicBezTo>
                  <a:pt x="2035" y="410"/>
                  <a:pt x="2026" y="453"/>
                  <a:pt x="2012" y="500"/>
                </a:cubicBezTo>
                <a:cubicBezTo>
                  <a:pt x="2002" y="536"/>
                  <a:pt x="1991" y="574"/>
                  <a:pt x="1981" y="610"/>
                </a:cubicBezTo>
                <a:cubicBezTo>
                  <a:pt x="1872" y="587"/>
                  <a:pt x="1761" y="568"/>
                  <a:pt x="1651" y="553"/>
                </a:cubicBezTo>
                <a:cubicBezTo>
                  <a:pt x="1670" y="488"/>
                  <a:pt x="1689" y="422"/>
                  <a:pt x="1706" y="358"/>
                </a:cubicBezTo>
                <a:cubicBezTo>
                  <a:pt x="1721" y="307"/>
                  <a:pt x="1727" y="277"/>
                  <a:pt x="1725" y="267"/>
                </a:cubicBezTo>
                <a:cubicBezTo>
                  <a:pt x="1723" y="256"/>
                  <a:pt x="1714" y="250"/>
                  <a:pt x="1700" y="247"/>
                </a:cubicBezTo>
                <a:cubicBezTo>
                  <a:pt x="1682" y="244"/>
                  <a:pt x="1669" y="249"/>
                  <a:pt x="1660" y="261"/>
                </a:cubicBezTo>
                <a:cubicBezTo>
                  <a:pt x="1652" y="272"/>
                  <a:pt x="1640" y="304"/>
                  <a:pt x="1626" y="356"/>
                </a:cubicBezTo>
                <a:cubicBezTo>
                  <a:pt x="1579" y="519"/>
                  <a:pt x="1533" y="683"/>
                  <a:pt x="1488" y="848"/>
                </a:cubicBezTo>
                <a:cubicBezTo>
                  <a:pt x="1474" y="899"/>
                  <a:pt x="1467" y="931"/>
                  <a:pt x="1469" y="944"/>
                </a:cubicBezTo>
                <a:cubicBezTo>
                  <a:pt x="1470" y="956"/>
                  <a:pt x="1480" y="962"/>
                  <a:pt x="1496" y="963"/>
                </a:cubicBezTo>
                <a:cubicBezTo>
                  <a:pt x="1512" y="965"/>
                  <a:pt x="1523" y="959"/>
                  <a:pt x="1533" y="948"/>
                </a:cubicBezTo>
                <a:cubicBezTo>
                  <a:pt x="1541" y="936"/>
                  <a:pt x="1554" y="902"/>
                  <a:pt x="1570" y="845"/>
                </a:cubicBezTo>
                <a:cubicBezTo>
                  <a:pt x="1583" y="796"/>
                  <a:pt x="1596" y="747"/>
                  <a:pt x="1610" y="699"/>
                </a:cubicBezTo>
                <a:cubicBezTo>
                  <a:pt x="1721" y="712"/>
                  <a:pt x="1831" y="730"/>
                  <a:pt x="1940" y="752"/>
                </a:cubicBezTo>
                <a:cubicBezTo>
                  <a:pt x="1935" y="769"/>
                  <a:pt x="1930" y="787"/>
                  <a:pt x="1926" y="804"/>
                </a:cubicBezTo>
                <a:cubicBezTo>
                  <a:pt x="1895" y="912"/>
                  <a:pt x="1864" y="987"/>
                  <a:pt x="1833" y="1031"/>
                </a:cubicBezTo>
                <a:cubicBezTo>
                  <a:pt x="1802" y="1075"/>
                  <a:pt x="1750" y="1110"/>
                  <a:pt x="1681" y="1138"/>
                </a:cubicBezTo>
                <a:cubicBezTo>
                  <a:pt x="1609" y="1167"/>
                  <a:pt x="1530" y="1178"/>
                  <a:pt x="1442" y="1174"/>
                </a:cubicBezTo>
                <a:cubicBezTo>
                  <a:pt x="1350" y="1169"/>
                  <a:pt x="1278" y="1154"/>
                  <a:pt x="1227" y="1124"/>
                </a:cubicBezTo>
                <a:cubicBezTo>
                  <a:pt x="1175" y="1094"/>
                  <a:pt x="1147" y="1052"/>
                  <a:pt x="1143" y="996"/>
                </a:cubicBezTo>
                <a:cubicBezTo>
                  <a:pt x="1138" y="939"/>
                  <a:pt x="1151" y="855"/>
                  <a:pt x="1180" y="745"/>
                </a:cubicBezTo>
                <a:cubicBezTo>
                  <a:pt x="1210" y="635"/>
                  <a:pt x="1239" y="528"/>
                  <a:pt x="1269" y="421"/>
                </a:cubicBezTo>
                <a:cubicBezTo>
                  <a:pt x="1290" y="341"/>
                  <a:pt x="1309" y="281"/>
                  <a:pt x="1326" y="241"/>
                </a:cubicBezTo>
                <a:cubicBezTo>
                  <a:pt x="1344" y="200"/>
                  <a:pt x="1372" y="162"/>
                  <a:pt x="1413" y="127"/>
                </a:cubicBezTo>
                <a:cubicBezTo>
                  <a:pt x="1453" y="91"/>
                  <a:pt x="1502" y="64"/>
                  <a:pt x="1561" y="49"/>
                </a:cubicBezTo>
                <a:cubicBezTo>
                  <a:pt x="1619" y="34"/>
                  <a:pt x="1682" y="32"/>
                  <a:pt x="1749" y="43"/>
                </a:cubicBezTo>
                <a:close/>
              </a:path>
            </a:pathLst>
          </a:custGeom>
          <a:solidFill>
            <a:srgbClr val="33ccff"/>
          </a:solidFill>
          <a:ln w="118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800" y="3314880"/>
            <a:ext cx="336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фера у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5200" y="555480"/>
            <a:ext cx="3614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Теоретиче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12960" y="4157640"/>
            <a:ext cx="8732520" cy="3193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47800" y="4091040"/>
            <a:ext cx="8861400" cy="3330360"/>
          </a:xfrm>
          <a:custGeom>
            <a:avLst/>
            <a:gdLst/>
            <a:ahLst/>
            <a:rect l="l" t="t" r="r" b="b"/>
            <a:pathLst>
              <a:path w="24615" h="9251">
                <a:moveTo>
                  <a:pt x="0" y="0"/>
                </a:moveTo>
                <a:lnTo>
                  <a:pt x="24614" y="0"/>
                </a:lnTo>
                <a:lnTo>
                  <a:pt x="24614" y="9250"/>
                </a:lnTo>
                <a:lnTo>
                  <a:pt x="0" y="9250"/>
                </a:lnTo>
                <a:lnTo>
                  <a:pt x="0" y="0"/>
                </a:lnTo>
                <a:close/>
                <a:moveTo>
                  <a:pt x="107" y="9138"/>
                </a:moveTo>
                <a:lnTo>
                  <a:pt x="24507" y="9138"/>
                </a:lnTo>
                <a:lnTo>
                  <a:pt x="24507" y="112"/>
                </a:lnTo>
                <a:lnTo>
                  <a:pt x="107" y="112"/>
                </a:lnTo>
                <a:lnTo>
                  <a:pt x="107" y="9138"/>
                </a:lnTo>
                <a:close/>
                <a:moveTo>
                  <a:pt x="142" y="150"/>
                </a:moveTo>
                <a:lnTo>
                  <a:pt x="24471" y="150"/>
                </a:lnTo>
                <a:lnTo>
                  <a:pt x="24471" y="9100"/>
                </a:lnTo>
                <a:lnTo>
                  <a:pt x="142" y="9100"/>
                </a:lnTo>
                <a:lnTo>
                  <a:pt x="142" y="150"/>
                </a:lnTo>
                <a:close/>
                <a:moveTo>
                  <a:pt x="177" y="9063"/>
                </a:moveTo>
                <a:lnTo>
                  <a:pt x="24436" y="9063"/>
                </a:lnTo>
                <a:lnTo>
                  <a:pt x="24436" y="187"/>
                </a:lnTo>
                <a:lnTo>
                  <a:pt x="177" y="187"/>
                </a:lnTo>
                <a:lnTo>
                  <a:pt x="177" y="90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6960" y="1122480"/>
            <a:ext cx="1425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800" y="160200"/>
            <a:ext cx="5437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1. Определение поня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9800" y="687240"/>
            <a:ext cx="6230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фразеологизм, фразе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7120" y="1184400"/>
            <a:ext cx="8453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Слово </a:t>
            </a:r>
            <a:r>
              <a:rPr b="1" lang="ru-RU" sz="2000" spc="-1" strike="noStrike">
                <a:solidFill>
                  <a:srgbClr val="00cc99"/>
                </a:solidFill>
                <a:latin typeface="TimesNewRomanPS"/>
              </a:rPr>
              <a:t>«фразеология»</a:t>
            </a: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 происходит от двух греческих слов: «phrases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5120" y="1450800"/>
            <a:ext cx="8616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«выражение» и «logos»- «слово, учение». В русском языке этот тер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5120" y="1716120"/>
            <a:ext cx="7005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употребляется в двух смыслах: совокупность устойч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5120" y="1982880"/>
            <a:ext cx="8299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идиоматических выражений (куры не клюют) и раздел языкозн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5120" y="2247840"/>
            <a:ext cx="8242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который изучает подобные выражения (фразеологические обор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5840" y="2514600"/>
            <a:ext cx="9668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Существует несколько точек зрения на определение «фразеологизма».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7120" y="2781360"/>
            <a:ext cx="9220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NewRomanPS"/>
              </a:rPr>
              <a:t>И. Сандомирская</a:t>
            </a:r>
            <a:r>
              <a:rPr b="0" lang="ru-RU" sz="2000" spc="-1" strike="noStrike">
                <a:solidFill>
                  <a:srgbClr val="00cc99"/>
                </a:solidFill>
                <a:latin typeface="TimesNewRoman"/>
              </a:rPr>
              <a:t>:</a:t>
            </a: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 «Фразеологические сочетания чаще всего описывают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5120" y="3046320"/>
            <a:ext cx="730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абстрактные понятия, а вполне определённые конструкци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5120" y="3313080"/>
            <a:ext cx="8746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идеологически построенные и коллективно присвоенные предст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5120" y="3578400"/>
            <a:ext cx="7719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о « невидимых вещах»,  идеях и ценностях времени и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960" y="3844800"/>
            <a:ext cx="84740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NewRomanPS"/>
              </a:rPr>
              <a:t>Словарь  С. Ожегова</a:t>
            </a: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 даёт следующее определение: «Фразеологизм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5120" y="4111560"/>
            <a:ext cx="789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устойчивое выражение с самостоятельным значением, близким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5120" y="4376880"/>
            <a:ext cx="2355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идиоматическом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360" y="227160"/>
            <a:ext cx="5710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2. 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Причины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360" y="754200"/>
            <a:ext cx="39657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фразеолог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7120" y="1359000"/>
            <a:ext cx="9350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NewRomanPS"/>
              </a:rPr>
              <a:t>Н.М.Шанский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 считает основными причинами прев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5120" y="1679400"/>
            <a:ext cx="68961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очетания слов во фразеологизм следующе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7120" y="199872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5120" y="1998720"/>
            <a:ext cx="8039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остоянное и повторяемое употребление своб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5120" y="2317680"/>
            <a:ext cx="7872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очетания слов не в прямом, а образно-перенос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5120" y="2637000"/>
            <a:ext cx="1527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зна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7120" y="295596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5120" y="2955960"/>
            <a:ext cx="8762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оявление в свободном сочетании слов слова связ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5120" y="3274920"/>
            <a:ext cx="2216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употреб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7120" y="359424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5120" y="3594240"/>
            <a:ext cx="8915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выражение свободным сочетанием слов единого понят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" y="3913200"/>
            <a:ext cx="8940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инадлежащего к актуальным для данной истор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5120" y="4232160"/>
            <a:ext cx="950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эп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7120" y="5191200"/>
            <a:ext cx="17654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34160" y="4406760"/>
            <a:ext cx="2498760" cy="3267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818320" y="4390920"/>
            <a:ext cx="2531880" cy="3302280"/>
          </a:xfrm>
          <a:custGeom>
            <a:avLst/>
            <a:gdLst/>
            <a:ahLst/>
            <a:rect l="l" t="t" r="r" b="b"/>
            <a:pathLst>
              <a:path w="7034" h="9173">
                <a:moveTo>
                  <a:pt x="0" y="9172"/>
                </a:moveTo>
                <a:lnTo>
                  <a:pt x="7033" y="9172"/>
                </a:lnTo>
                <a:lnTo>
                  <a:pt x="7033" y="0"/>
                </a:lnTo>
                <a:lnTo>
                  <a:pt x="0" y="0"/>
                </a:lnTo>
                <a:lnTo>
                  <a:pt x="0" y="9172"/>
                </a:lnTo>
              </a:path>
            </a:pathLst>
          </a:custGeom>
          <a:noFill/>
          <a:ln w="28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7120" y="5510160"/>
            <a:ext cx="4395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«</a:t>
            </a:r>
            <a:r>
              <a:rPr b="1" i="1" lang="ru-RU" sz="2400" spc="-1" strike="noStrike">
                <a:solidFill>
                  <a:srgbClr val="e6e6e6"/>
                </a:solidFill>
                <a:latin typeface="TimesNewRomanPS"/>
              </a:rPr>
              <a:t>Заблудиться в трёх соснах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9160" y="214200"/>
            <a:ext cx="7137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Источники фразеолог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20720" y="952560"/>
            <a:ext cx="6840720" cy="15840"/>
          </a:xfrm>
          <a:custGeom>
            <a:avLst/>
            <a:gdLst/>
            <a:ahLst/>
            <a:rect l="l" t="t" r="r" b="b"/>
            <a:pathLst>
              <a:path w="19000" h="42">
                <a:moveTo>
                  <a:pt x="0" y="0"/>
                </a:moveTo>
                <a:lnTo>
                  <a:pt x="6333" y="0"/>
                </a:lnTo>
                <a:lnTo>
                  <a:pt x="12666" y="0"/>
                </a:lnTo>
                <a:lnTo>
                  <a:pt x="18999" y="0"/>
                </a:lnTo>
                <a:lnTo>
                  <a:pt x="18999" y="41"/>
                </a:lnTo>
                <a:lnTo>
                  <a:pt x="12666" y="41"/>
                </a:lnTo>
                <a:lnTo>
                  <a:pt x="6333" y="41"/>
                </a:lnTo>
                <a:lnTo>
                  <a:pt x="0" y="41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20720" y="660240"/>
            <a:ext cx="6856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Фразеологизмы можно разделить по происхожд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440" y="1467000"/>
            <a:ext cx="417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TimesNewRomanPS"/>
              </a:rPr>
              <a:t>фразеологизмы, заимствованны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6440" y="1785960"/>
            <a:ext cx="168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TimesNewRomanPS"/>
              </a:rPr>
              <a:t>друг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03360" y="1812960"/>
            <a:ext cx="2019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NewRoman"/>
              </a:rPr>
              <a:t>(из нем.-</a:t>
            </a:r>
            <a:r>
              <a:rPr b="0" i="1" lang="ru-RU" sz="1600" spc="-1" strike="noStrike">
                <a:solidFill>
                  <a:srgbClr val="ffffff"/>
                </a:solidFill>
                <a:latin typeface="TimesNewRomanPS"/>
              </a:rPr>
              <a:t> разбить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440" y="2101680"/>
            <a:ext cx="32335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NewRomanPS"/>
              </a:rPr>
              <a:t>голову</a:t>
            </a:r>
            <a:r>
              <a:rPr b="0" lang="ru-RU" sz="1600" spc="-1" strike="noStrike">
                <a:solidFill>
                  <a:srgbClr val="ffffff"/>
                </a:solidFill>
                <a:latin typeface="TimesNewRoman"/>
              </a:rPr>
              <a:t>; из анг.-</a:t>
            </a:r>
            <a:r>
              <a:rPr b="0" i="1" lang="ru-RU" sz="1600" spc="-1" strike="noStrike">
                <a:solidFill>
                  <a:srgbClr val="ffffff"/>
                </a:solidFill>
                <a:latin typeface="TimesNewRomanPS"/>
              </a:rPr>
              <a:t> синий чулок</a:t>
            </a:r>
            <a:r>
              <a:rPr b="0" lang="ru-RU" sz="1600" spc="-1" strike="noStrike">
                <a:solidFill>
                  <a:srgbClr val="ffffff"/>
                </a:solidFill>
                <a:latin typeface="TimesNewRoman"/>
              </a:rPr>
              <a:t>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18160" y="1463760"/>
            <a:ext cx="328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фразеологизмы рус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30520" y="1133640"/>
            <a:ext cx="1432080" cy="210960"/>
          </a:xfrm>
          <a:custGeom>
            <a:avLst/>
            <a:gdLst/>
            <a:ahLst/>
            <a:rect l="l" t="t" r="r" b="b"/>
            <a:pathLst>
              <a:path w="3976" h="586">
                <a:moveTo>
                  <a:pt x="3970" y="0"/>
                </a:moveTo>
                <a:lnTo>
                  <a:pt x="192" y="447"/>
                </a:lnTo>
                <a:lnTo>
                  <a:pt x="196" y="488"/>
                </a:lnTo>
                <a:lnTo>
                  <a:pt x="3975" y="41"/>
                </a:lnTo>
                <a:lnTo>
                  <a:pt x="3970" y="0"/>
                </a:lnTo>
                <a:close/>
                <a:moveTo>
                  <a:pt x="220" y="340"/>
                </a:moveTo>
                <a:lnTo>
                  <a:pt x="0" y="490"/>
                </a:lnTo>
                <a:lnTo>
                  <a:pt x="246" y="585"/>
                </a:lnTo>
                <a:lnTo>
                  <a:pt x="220" y="3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76880" y="1133640"/>
            <a:ext cx="1271520" cy="209520"/>
          </a:xfrm>
          <a:custGeom>
            <a:avLst/>
            <a:gdLst/>
            <a:ahLst/>
            <a:rect l="l" t="t" r="r" b="b"/>
            <a:pathLst>
              <a:path w="3532" h="583">
                <a:moveTo>
                  <a:pt x="4" y="0"/>
                </a:moveTo>
                <a:lnTo>
                  <a:pt x="3340" y="443"/>
                </a:lnTo>
                <a:lnTo>
                  <a:pt x="3336" y="484"/>
                </a:lnTo>
                <a:lnTo>
                  <a:pt x="0" y="42"/>
                </a:lnTo>
                <a:lnTo>
                  <a:pt x="4" y="0"/>
                </a:lnTo>
                <a:close/>
                <a:moveTo>
                  <a:pt x="3314" y="337"/>
                </a:moveTo>
                <a:lnTo>
                  <a:pt x="3531" y="490"/>
                </a:lnTo>
                <a:lnTo>
                  <a:pt x="3285" y="582"/>
                </a:lnTo>
                <a:lnTo>
                  <a:pt x="3314" y="3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81000" y="2766960"/>
            <a:ext cx="8197920" cy="28800"/>
          </a:xfrm>
          <a:custGeom>
            <a:avLst/>
            <a:gdLst/>
            <a:ahLst/>
            <a:rect l="l" t="t" r="r" b="b"/>
            <a:pathLst>
              <a:path w="22770" h="81">
                <a:moveTo>
                  <a:pt x="0" y="0"/>
                </a:moveTo>
                <a:lnTo>
                  <a:pt x="5691" y="0"/>
                </a:lnTo>
                <a:lnTo>
                  <a:pt x="11385" y="0"/>
                </a:lnTo>
                <a:lnTo>
                  <a:pt x="17078" y="0"/>
                </a:lnTo>
                <a:lnTo>
                  <a:pt x="22769" y="0"/>
                </a:lnTo>
                <a:lnTo>
                  <a:pt x="22769" y="80"/>
                </a:lnTo>
                <a:lnTo>
                  <a:pt x="17078" y="80"/>
                </a:lnTo>
                <a:lnTo>
                  <a:pt x="11385" y="80"/>
                </a:lnTo>
                <a:lnTo>
                  <a:pt x="5691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96160" y="1782720"/>
            <a:ext cx="2054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оисх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04760" y="3122640"/>
            <a:ext cx="8150400" cy="28440"/>
          </a:xfrm>
          <a:custGeom>
            <a:avLst/>
            <a:gdLst/>
            <a:ahLst/>
            <a:rect l="l" t="t" r="r" b="b"/>
            <a:pathLst>
              <a:path w="22640" h="80">
                <a:moveTo>
                  <a:pt x="0" y="0"/>
                </a:moveTo>
                <a:lnTo>
                  <a:pt x="5660" y="0"/>
                </a:lnTo>
                <a:lnTo>
                  <a:pt x="11320" y="0"/>
                </a:lnTo>
                <a:lnTo>
                  <a:pt x="16980" y="0"/>
                </a:lnTo>
                <a:lnTo>
                  <a:pt x="22639" y="0"/>
                </a:lnTo>
                <a:lnTo>
                  <a:pt x="22639" y="79"/>
                </a:lnTo>
                <a:lnTo>
                  <a:pt x="16980" y="79"/>
                </a:lnTo>
                <a:lnTo>
                  <a:pt x="11320" y="79"/>
                </a:lnTo>
                <a:lnTo>
                  <a:pt x="5660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81000" y="2471760"/>
            <a:ext cx="8375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NewRomanPS"/>
              </a:rPr>
              <a:t>Главным источником русской фразеологии являются своб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04760" y="2827440"/>
            <a:ext cx="8286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NewRomanPS"/>
              </a:rPr>
              <a:t>словосочетания, которые, употребляясь в переносном значе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68720" y="3476520"/>
            <a:ext cx="3822480" cy="28800"/>
          </a:xfrm>
          <a:custGeom>
            <a:avLst/>
            <a:gdLst/>
            <a:ahLst/>
            <a:rect l="l" t="t" r="r" b="b"/>
            <a:pathLst>
              <a:path w="10618" h="81">
                <a:moveTo>
                  <a:pt x="0" y="0"/>
                </a:moveTo>
                <a:lnTo>
                  <a:pt x="5308" y="0"/>
                </a:lnTo>
                <a:lnTo>
                  <a:pt x="10617" y="0"/>
                </a:lnTo>
                <a:lnTo>
                  <a:pt x="10617" y="80"/>
                </a:lnTo>
                <a:lnTo>
                  <a:pt x="5308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68720" y="3181320"/>
            <a:ext cx="3843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NewRomanPS"/>
              </a:rPr>
              <a:t>становятся фразеологизм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9240" y="3641760"/>
            <a:ext cx="2206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группа –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шли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9240" y="3960720"/>
            <a:ext cx="2023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глубины ве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9240" y="4280040"/>
            <a:ext cx="155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отражен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9240" y="4599000"/>
            <a:ext cx="2292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устном народ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240" y="4919760"/>
            <a:ext cx="1512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творче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9240" y="5237280"/>
            <a:ext cx="1898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ез царя в гол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9240" y="5521320"/>
            <a:ext cx="1280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ить ч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02080" y="3978360"/>
            <a:ext cx="119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групп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02080" y="4297320"/>
            <a:ext cx="1438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сочет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02080" y="4616280"/>
            <a:ext cx="189684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ишедши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02080" y="4935600"/>
            <a:ext cx="1116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Библ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02080" y="5254560"/>
            <a:ext cx="1792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Запретный пл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02080" y="5538960"/>
            <a:ext cx="1719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анна небе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02080" y="5821200"/>
            <a:ext cx="1965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сти свой кр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43360" y="3978360"/>
            <a:ext cx="2698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группа –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сочет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43360" y="4297320"/>
            <a:ext cx="189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ишедши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4616280"/>
            <a:ext cx="235116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мифов и мир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43360" y="4935600"/>
            <a:ext cx="111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исто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5254560"/>
            <a:ext cx="1855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хиллесова пя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5538960"/>
            <a:ext cx="2095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раконовские 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43360" y="5821200"/>
            <a:ext cx="1900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ометеев ог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23280" y="3559320"/>
            <a:ext cx="119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групп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23280" y="3878280"/>
            <a:ext cx="1577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выраж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23280" y="4197240"/>
            <a:ext cx="1896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ишедши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23280" y="4516560"/>
            <a:ext cx="135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автор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3280" y="4835520"/>
            <a:ext cx="1882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оизвед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3280" y="5154480"/>
            <a:ext cx="22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Из произве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23280" y="5475240"/>
            <a:ext cx="1692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А.С.Пушк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23280" y="5792760"/>
            <a:ext cx="1957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азбитое коры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34880" y="5915160"/>
            <a:ext cx="1986120" cy="1866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23720" y="5902200"/>
            <a:ext cx="2008440" cy="1890720"/>
          </a:xfrm>
          <a:custGeom>
            <a:avLst/>
            <a:gdLst/>
            <a:ahLst/>
            <a:rect l="l" t="t" r="r" b="b"/>
            <a:pathLst>
              <a:path w="5579" h="5252">
                <a:moveTo>
                  <a:pt x="0" y="5251"/>
                </a:moveTo>
                <a:lnTo>
                  <a:pt x="5578" y="5251"/>
                </a:lnTo>
                <a:lnTo>
                  <a:pt x="5578" y="0"/>
                </a:lnTo>
                <a:lnTo>
                  <a:pt x="0" y="0"/>
                </a:lnTo>
                <a:lnTo>
                  <a:pt x="0" y="5251"/>
                </a:lnTo>
              </a:path>
            </a:pathLst>
          </a:custGeom>
          <a:noFill/>
          <a:ln w="1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229440" y="6083280"/>
            <a:ext cx="1201680" cy="1893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218280" y="6072120"/>
            <a:ext cx="1225440" cy="1919520"/>
          </a:xfrm>
          <a:custGeom>
            <a:avLst/>
            <a:gdLst/>
            <a:ahLst/>
            <a:rect l="l" t="t" r="r" b="b"/>
            <a:pathLst>
              <a:path w="3404" h="5330">
                <a:moveTo>
                  <a:pt x="0" y="5329"/>
                </a:moveTo>
                <a:lnTo>
                  <a:pt x="3403" y="5329"/>
                </a:lnTo>
                <a:lnTo>
                  <a:pt x="3403" y="0"/>
                </a:lnTo>
                <a:lnTo>
                  <a:pt x="0" y="0"/>
                </a:lnTo>
                <a:lnTo>
                  <a:pt x="0" y="5329"/>
                </a:lnTo>
              </a:path>
            </a:pathLst>
          </a:custGeom>
          <a:noFill/>
          <a:ln w="1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06400" y="3311640"/>
            <a:ext cx="559080" cy="264960"/>
          </a:xfrm>
          <a:custGeom>
            <a:avLst/>
            <a:gdLst/>
            <a:ahLst/>
            <a:rect l="l" t="t" r="r" b="b"/>
            <a:pathLst>
              <a:path w="1554" h="736">
                <a:moveTo>
                  <a:pt x="1538" y="0"/>
                </a:moveTo>
                <a:lnTo>
                  <a:pt x="171" y="619"/>
                </a:lnTo>
                <a:lnTo>
                  <a:pt x="186" y="656"/>
                </a:lnTo>
                <a:lnTo>
                  <a:pt x="1553" y="38"/>
                </a:lnTo>
                <a:lnTo>
                  <a:pt x="1538" y="0"/>
                </a:lnTo>
                <a:close/>
                <a:moveTo>
                  <a:pt x="168" y="508"/>
                </a:moveTo>
                <a:lnTo>
                  <a:pt x="0" y="719"/>
                </a:lnTo>
                <a:lnTo>
                  <a:pt x="260" y="735"/>
                </a:lnTo>
                <a:lnTo>
                  <a:pt x="168" y="5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11520" y="3567240"/>
            <a:ext cx="244440" cy="423720"/>
          </a:xfrm>
          <a:custGeom>
            <a:avLst/>
            <a:gdLst/>
            <a:ahLst/>
            <a:rect l="l" t="t" r="r" b="b"/>
            <a:pathLst>
              <a:path w="681" h="1176">
                <a:moveTo>
                  <a:pt x="647" y="0"/>
                </a:moveTo>
                <a:lnTo>
                  <a:pt x="84" y="988"/>
                </a:lnTo>
                <a:lnTo>
                  <a:pt x="117" y="1009"/>
                </a:lnTo>
                <a:lnTo>
                  <a:pt x="680" y="22"/>
                </a:lnTo>
                <a:lnTo>
                  <a:pt x="647" y="0"/>
                </a:lnTo>
                <a:close/>
                <a:moveTo>
                  <a:pt x="21" y="899"/>
                </a:moveTo>
                <a:lnTo>
                  <a:pt x="0" y="1175"/>
                </a:lnTo>
                <a:lnTo>
                  <a:pt x="221" y="1027"/>
                </a:lnTo>
                <a:lnTo>
                  <a:pt x="21" y="8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51400" y="3567240"/>
            <a:ext cx="246240" cy="423720"/>
          </a:xfrm>
          <a:custGeom>
            <a:avLst/>
            <a:gdLst/>
            <a:ahLst/>
            <a:rect l="l" t="t" r="r" b="b"/>
            <a:pathLst>
              <a:path w="682" h="1176">
                <a:moveTo>
                  <a:pt x="34" y="0"/>
                </a:moveTo>
                <a:lnTo>
                  <a:pt x="597" y="988"/>
                </a:lnTo>
                <a:lnTo>
                  <a:pt x="564" y="1009"/>
                </a:lnTo>
                <a:lnTo>
                  <a:pt x="0" y="22"/>
                </a:lnTo>
                <a:lnTo>
                  <a:pt x="34" y="0"/>
                </a:lnTo>
                <a:close/>
                <a:moveTo>
                  <a:pt x="660" y="899"/>
                </a:moveTo>
                <a:lnTo>
                  <a:pt x="681" y="1175"/>
                </a:lnTo>
                <a:lnTo>
                  <a:pt x="461" y="1027"/>
                </a:lnTo>
                <a:lnTo>
                  <a:pt x="660" y="8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77280" y="3228840"/>
            <a:ext cx="480960" cy="344520"/>
          </a:xfrm>
          <a:custGeom>
            <a:avLst/>
            <a:gdLst/>
            <a:ahLst/>
            <a:rect l="l" t="t" r="r" b="b"/>
            <a:pathLst>
              <a:path w="1334" h="955">
                <a:moveTo>
                  <a:pt x="21" y="0"/>
                </a:moveTo>
                <a:lnTo>
                  <a:pt x="1182" y="823"/>
                </a:lnTo>
                <a:lnTo>
                  <a:pt x="1160" y="856"/>
                </a:lnTo>
                <a:lnTo>
                  <a:pt x="0" y="34"/>
                </a:lnTo>
                <a:lnTo>
                  <a:pt x="21" y="0"/>
                </a:lnTo>
                <a:close/>
                <a:moveTo>
                  <a:pt x="1204" y="714"/>
                </a:moveTo>
                <a:lnTo>
                  <a:pt x="1333" y="954"/>
                </a:lnTo>
                <a:lnTo>
                  <a:pt x="1074" y="919"/>
                </a:lnTo>
                <a:lnTo>
                  <a:pt x="1204" y="7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23280" y="6076800"/>
            <a:ext cx="1743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елены объел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800" y="130320"/>
            <a:ext cx="5443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4. Сфера у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65080" y="917640"/>
            <a:ext cx="8013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Учитывая сферу употребления и присущие им экспресс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4880" y="2063880"/>
            <a:ext cx="2700360" cy="1172880"/>
          </a:xfrm>
          <a:custGeom>
            <a:avLst/>
            <a:gdLst/>
            <a:ahLst/>
            <a:rect l="l" t="t" r="r" b="b"/>
            <a:pathLst>
              <a:path w="7502" h="3258">
                <a:moveTo>
                  <a:pt x="0" y="3257"/>
                </a:moveTo>
                <a:lnTo>
                  <a:pt x="7501" y="3257"/>
                </a:lnTo>
                <a:lnTo>
                  <a:pt x="7501" y="0"/>
                </a:lnTo>
                <a:lnTo>
                  <a:pt x="0" y="0"/>
                </a:lnTo>
                <a:lnTo>
                  <a:pt x="0" y="3257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93880" y="1255680"/>
            <a:ext cx="6105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собенности, фразеологизмы можно раздели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12880" y="2332080"/>
            <a:ext cx="1960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сти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52760" y="2063880"/>
            <a:ext cx="2936880" cy="1172880"/>
          </a:xfrm>
          <a:custGeom>
            <a:avLst/>
            <a:gdLst/>
            <a:ahLst/>
            <a:rect l="l" t="t" r="r" b="b"/>
            <a:pathLst>
              <a:path w="8160" h="3258">
                <a:moveTo>
                  <a:pt x="0" y="3257"/>
                </a:moveTo>
                <a:lnTo>
                  <a:pt x="8159" y="3257"/>
                </a:lnTo>
                <a:lnTo>
                  <a:pt x="8159" y="0"/>
                </a:lnTo>
                <a:lnTo>
                  <a:pt x="0" y="0"/>
                </a:lnTo>
                <a:lnTo>
                  <a:pt x="0" y="3257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1120" y="2685960"/>
            <a:ext cx="2209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ремя о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27280" y="2332080"/>
            <a:ext cx="2808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говорно-быт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07160" y="2063880"/>
            <a:ext cx="2857680" cy="1089000"/>
          </a:xfrm>
          <a:custGeom>
            <a:avLst/>
            <a:gdLst/>
            <a:ahLst/>
            <a:rect l="l" t="t" r="r" b="b"/>
            <a:pathLst>
              <a:path w="7936" h="3026">
                <a:moveTo>
                  <a:pt x="0" y="3025"/>
                </a:moveTo>
                <a:lnTo>
                  <a:pt x="7935" y="3025"/>
                </a:lnTo>
                <a:lnTo>
                  <a:pt x="7935" y="0"/>
                </a:lnTo>
                <a:lnTo>
                  <a:pt x="0" y="0"/>
                </a:lnTo>
                <a:lnTo>
                  <a:pt x="0" y="3025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99120" y="2685960"/>
            <a:ext cx="1333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 всех 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7720" y="2290680"/>
            <a:ext cx="127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ни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70280" y="4575240"/>
            <a:ext cx="2541600" cy="1339920"/>
          </a:xfrm>
          <a:custGeom>
            <a:avLst/>
            <a:gdLst/>
            <a:ahLst/>
            <a:rect l="l" t="t" r="r" b="b"/>
            <a:pathLst>
              <a:path w="7059" h="3721">
                <a:moveTo>
                  <a:pt x="0" y="3720"/>
                </a:moveTo>
                <a:lnTo>
                  <a:pt x="7058" y="3720"/>
                </a:lnTo>
                <a:lnTo>
                  <a:pt x="7058" y="0"/>
                </a:lnTo>
                <a:lnTo>
                  <a:pt x="0" y="0"/>
                </a:lnTo>
                <a:lnTo>
                  <a:pt x="0" y="3720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05560" y="2644920"/>
            <a:ext cx="1463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гра суд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30800" y="4946760"/>
            <a:ext cx="1434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45480" y="4575240"/>
            <a:ext cx="2382840" cy="1257120"/>
          </a:xfrm>
          <a:custGeom>
            <a:avLst/>
            <a:gdLst/>
            <a:ahLst/>
            <a:rect l="l" t="t" r="r" b="b"/>
            <a:pathLst>
              <a:path w="6620" h="3494">
                <a:moveTo>
                  <a:pt x="0" y="3493"/>
                </a:moveTo>
                <a:lnTo>
                  <a:pt x="6619" y="3493"/>
                </a:lnTo>
                <a:lnTo>
                  <a:pt x="6619" y="0"/>
                </a:lnTo>
                <a:lnTo>
                  <a:pt x="0" y="0"/>
                </a:lnTo>
                <a:lnTo>
                  <a:pt x="0" y="3493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95640" y="5265720"/>
            <a:ext cx="216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астный при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6280" y="4745160"/>
            <a:ext cx="1298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а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18280" y="5064120"/>
            <a:ext cx="1979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ырная неде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2000" y="1636560"/>
            <a:ext cx="558720" cy="344520"/>
          </a:xfrm>
          <a:custGeom>
            <a:avLst/>
            <a:gdLst/>
            <a:ahLst/>
            <a:rect l="l" t="t" r="r" b="b"/>
            <a:pathLst>
              <a:path w="1552" h="955">
                <a:moveTo>
                  <a:pt x="1531" y="0"/>
                </a:moveTo>
                <a:lnTo>
                  <a:pt x="160" y="834"/>
                </a:lnTo>
                <a:lnTo>
                  <a:pt x="180" y="869"/>
                </a:lnTo>
                <a:lnTo>
                  <a:pt x="1551" y="35"/>
                </a:lnTo>
                <a:lnTo>
                  <a:pt x="1531" y="0"/>
                </a:lnTo>
                <a:close/>
                <a:moveTo>
                  <a:pt x="144" y="725"/>
                </a:moveTo>
                <a:lnTo>
                  <a:pt x="0" y="954"/>
                </a:lnTo>
                <a:lnTo>
                  <a:pt x="261" y="938"/>
                </a:lnTo>
                <a:lnTo>
                  <a:pt x="144" y="7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38760" y="1560600"/>
            <a:ext cx="84240" cy="420480"/>
          </a:xfrm>
          <a:custGeom>
            <a:avLst/>
            <a:gdLst/>
            <a:ahLst/>
            <a:rect l="l" t="t" r="r" b="b"/>
            <a:pathLst>
              <a:path w="235" h="1169">
                <a:moveTo>
                  <a:pt x="136" y="0"/>
                </a:moveTo>
                <a:lnTo>
                  <a:pt x="136" y="963"/>
                </a:lnTo>
                <a:lnTo>
                  <a:pt x="97" y="963"/>
                </a:lnTo>
                <a:lnTo>
                  <a:pt x="97" y="0"/>
                </a:lnTo>
                <a:lnTo>
                  <a:pt x="136" y="0"/>
                </a:lnTo>
                <a:close/>
                <a:moveTo>
                  <a:pt x="234" y="921"/>
                </a:moveTo>
                <a:lnTo>
                  <a:pt x="116" y="1168"/>
                </a:lnTo>
                <a:lnTo>
                  <a:pt x="0" y="921"/>
                </a:lnTo>
                <a:lnTo>
                  <a:pt x="234" y="9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78720" y="1636560"/>
            <a:ext cx="560520" cy="344520"/>
          </a:xfrm>
          <a:custGeom>
            <a:avLst/>
            <a:gdLst/>
            <a:ahLst/>
            <a:rect l="l" t="t" r="r" b="b"/>
            <a:pathLst>
              <a:path w="1556" h="955">
                <a:moveTo>
                  <a:pt x="19" y="0"/>
                </a:moveTo>
                <a:lnTo>
                  <a:pt x="1394" y="834"/>
                </a:lnTo>
                <a:lnTo>
                  <a:pt x="1376" y="869"/>
                </a:lnTo>
                <a:lnTo>
                  <a:pt x="0" y="35"/>
                </a:lnTo>
                <a:lnTo>
                  <a:pt x="19" y="0"/>
                </a:lnTo>
                <a:close/>
                <a:moveTo>
                  <a:pt x="1410" y="725"/>
                </a:moveTo>
                <a:lnTo>
                  <a:pt x="1555" y="954"/>
                </a:lnTo>
                <a:lnTo>
                  <a:pt x="1293" y="938"/>
                </a:lnTo>
                <a:lnTo>
                  <a:pt x="1410" y="7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91240" y="5383080"/>
            <a:ext cx="1290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л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75400" y="4149720"/>
            <a:ext cx="796680" cy="349200"/>
          </a:xfrm>
          <a:custGeom>
            <a:avLst/>
            <a:gdLst/>
            <a:ahLst/>
            <a:rect l="l" t="t" r="r" b="b"/>
            <a:pathLst>
              <a:path w="2212" h="971">
                <a:moveTo>
                  <a:pt x="2196" y="0"/>
                </a:moveTo>
                <a:lnTo>
                  <a:pt x="173" y="852"/>
                </a:lnTo>
                <a:lnTo>
                  <a:pt x="187" y="889"/>
                </a:lnTo>
                <a:lnTo>
                  <a:pt x="2211" y="38"/>
                </a:lnTo>
                <a:lnTo>
                  <a:pt x="2196" y="0"/>
                </a:lnTo>
                <a:close/>
                <a:moveTo>
                  <a:pt x="173" y="741"/>
                </a:moveTo>
                <a:lnTo>
                  <a:pt x="0" y="947"/>
                </a:lnTo>
                <a:lnTo>
                  <a:pt x="259" y="970"/>
                </a:lnTo>
                <a:lnTo>
                  <a:pt x="173" y="7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4149720"/>
            <a:ext cx="796680" cy="349200"/>
          </a:xfrm>
          <a:custGeom>
            <a:avLst/>
            <a:gdLst/>
            <a:ahLst/>
            <a:rect l="l" t="t" r="r" b="b"/>
            <a:pathLst>
              <a:path w="2212" h="971">
                <a:moveTo>
                  <a:pt x="16" y="0"/>
                </a:moveTo>
                <a:lnTo>
                  <a:pt x="2038" y="852"/>
                </a:lnTo>
                <a:lnTo>
                  <a:pt x="2024" y="889"/>
                </a:lnTo>
                <a:lnTo>
                  <a:pt x="0" y="38"/>
                </a:lnTo>
                <a:lnTo>
                  <a:pt x="16" y="0"/>
                </a:lnTo>
                <a:close/>
                <a:moveTo>
                  <a:pt x="2038" y="741"/>
                </a:moveTo>
                <a:lnTo>
                  <a:pt x="2211" y="947"/>
                </a:lnTo>
                <a:lnTo>
                  <a:pt x="1952" y="970"/>
                </a:lnTo>
                <a:lnTo>
                  <a:pt x="2038" y="7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 rot="20940000">
            <a:off x="204480" y="3736440"/>
            <a:ext cx="3179880" cy="12034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01520" y="3421080"/>
            <a:ext cx="3367080" cy="1838160"/>
          </a:xfrm>
          <a:custGeom>
            <a:avLst/>
            <a:gdLst/>
            <a:ahLst/>
            <a:rect l="l" t="t" r="r" b="b"/>
            <a:pathLst>
              <a:path w="9354" h="5108">
                <a:moveTo>
                  <a:pt x="0" y="1722"/>
                </a:moveTo>
                <a:lnTo>
                  <a:pt x="8756" y="0"/>
                </a:lnTo>
                <a:lnTo>
                  <a:pt x="9353" y="3385"/>
                </a:lnTo>
                <a:lnTo>
                  <a:pt x="597" y="5107"/>
                </a:lnTo>
                <a:lnTo>
                  <a:pt x="0" y="172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 rot="300000">
            <a:off x="1139400" y="5328720"/>
            <a:ext cx="2263680" cy="1962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055520" y="5213520"/>
            <a:ext cx="2449800" cy="2198520"/>
          </a:xfrm>
          <a:custGeom>
            <a:avLst/>
            <a:gdLst/>
            <a:ahLst/>
            <a:rect l="l" t="t" r="r" b="b"/>
            <a:pathLst>
              <a:path w="6805" h="6108">
                <a:moveTo>
                  <a:pt x="455" y="0"/>
                </a:moveTo>
                <a:lnTo>
                  <a:pt x="6804" y="581"/>
                </a:lnTo>
                <a:lnTo>
                  <a:pt x="6351" y="6107"/>
                </a:lnTo>
                <a:lnTo>
                  <a:pt x="0" y="5526"/>
                </a:lnTo>
                <a:lnTo>
                  <a:pt x="455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1680" y="3755880"/>
            <a:ext cx="40338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аревшие фразеолог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800" y="160200"/>
            <a:ext cx="7964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Использование фразеологизмов в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2160" y="544680"/>
            <a:ext cx="71186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авторских произведениях для</a:t>
            </a:r>
            <a:r>
              <a:rPr b="1" i="1" lang="ru-RU" sz="37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детей.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37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520" y="1328760"/>
            <a:ext cx="547560" cy="1065240"/>
          </a:xfrm>
          <a:custGeom>
            <a:avLst/>
            <a:gdLst/>
            <a:ahLst/>
            <a:rect l="l" t="t" r="r" b="b"/>
            <a:pathLst>
              <a:path w="1523" h="2957">
                <a:moveTo>
                  <a:pt x="0" y="2956"/>
                </a:moveTo>
                <a:lnTo>
                  <a:pt x="1522" y="2956"/>
                </a:lnTo>
                <a:lnTo>
                  <a:pt x="1522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84080" y="1328760"/>
            <a:ext cx="2578320" cy="1065240"/>
          </a:xfrm>
          <a:custGeom>
            <a:avLst/>
            <a:gdLst/>
            <a:ahLst/>
            <a:rect l="l" t="t" r="r" b="b"/>
            <a:pathLst>
              <a:path w="7163" h="2957">
                <a:moveTo>
                  <a:pt x="0" y="2956"/>
                </a:moveTo>
                <a:lnTo>
                  <a:pt x="7162" y="2956"/>
                </a:lnTo>
                <a:lnTo>
                  <a:pt x="7162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62400" y="1328760"/>
            <a:ext cx="2657520" cy="1065240"/>
          </a:xfrm>
          <a:custGeom>
            <a:avLst/>
            <a:gdLst/>
            <a:ahLst/>
            <a:rect l="l" t="t" r="r" b="b"/>
            <a:pathLst>
              <a:path w="7381" h="2957">
                <a:moveTo>
                  <a:pt x="0" y="2956"/>
                </a:moveTo>
                <a:lnTo>
                  <a:pt x="7380" y="2956"/>
                </a:lnTo>
                <a:lnTo>
                  <a:pt x="7380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8120" y="1328760"/>
            <a:ext cx="2905200" cy="1065240"/>
          </a:xfrm>
          <a:custGeom>
            <a:avLst/>
            <a:gdLst/>
            <a:ahLst/>
            <a:rect l="l" t="t" r="r" b="b"/>
            <a:pathLst>
              <a:path w="8071" h="2957">
                <a:moveTo>
                  <a:pt x="0" y="2956"/>
                </a:moveTo>
                <a:lnTo>
                  <a:pt x="8070" y="2956"/>
                </a:lnTo>
                <a:lnTo>
                  <a:pt x="8070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923320" y="1328760"/>
            <a:ext cx="1000080" cy="1065240"/>
          </a:xfrm>
          <a:custGeom>
            <a:avLst/>
            <a:gdLst/>
            <a:ahLst/>
            <a:rect l="l" t="t" r="r" b="b"/>
            <a:pathLst>
              <a:path w="2778" h="2957">
                <a:moveTo>
                  <a:pt x="0" y="2956"/>
                </a:moveTo>
                <a:lnTo>
                  <a:pt x="2777" y="2956"/>
                </a:lnTo>
                <a:lnTo>
                  <a:pt x="2777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6520" y="2392200"/>
            <a:ext cx="547560" cy="5213520"/>
          </a:xfrm>
          <a:custGeom>
            <a:avLst/>
            <a:gdLst/>
            <a:ahLst/>
            <a:rect l="l" t="t" r="r" b="b"/>
            <a:pathLst>
              <a:path w="1523" h="14482">
                <a:moveTo>
                  <a:pt x="0" y="14481"/>
                </a:moveTo>
                <a:lnTo>
                  <a:pt x="1522" y="14481"/>
                </a:lnTo>
                <a:lnTo>
                  <a:pt x="1522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4080" y="2392200"/>
            <a:ext cx="2578320" cy="5213520"/>
          </a:xfrm>
          <a:custGeom>
            <a:avLst/>
            <a:gdLst/>
            <a:ahLst/>
            <a:rect l="l" t="t" r="r" b="b"/>
            <a:pathLst>
              <a:path w="7163" h="14482">
                <a:moveTo>
                  <a:pt x="0" y="14481"/>
                </a:moveTo>
                <a:lnTo>
                  <a:pt x="7162" y="14481"/>
                </a:lnTo>
                <a:lnTo>
                  <a:pt x="7162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62400" y="2392200"/>
            <a:ext cx="2657520" cy="5213520"/>
          </a:xfrm>
          <a:custGeom>
            <a:avLst/>
            <a:gdLst/>
            <a:ahLst/>
            <a:rect l="l" t="t" r="r" b="b"/>
            <a:pathLst>
              <a:path w="7381" h="14482">
                <a:moveTo>
                  <a:pt x="0" y="14481"/>
                </a:moveTo>
                <a:lnTo>
                  <a:pt x="7380" y="14481"/>
                </a:lnTo>
                <a:lnTo>
                  <a:pt x="7380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18120" y="2392200"/>
            <a:ext cx="2905200" cy="5213520"/>
          </a:xfrm>
          <a:custGeom>
            <a:avLst/>
            <a:gdLst/>
            <a:ahLst/>
            <a:rect l="l" t="t" r="r" b="b"/>
            <a:pathLst>
              <a:path w="8071" h="14482">
                <a:moveTo>
                  <a:pt x="0" y="14481"/>
                </a:moveTo>
                <a:lnTo>
                  <a:pt x="8070" y="14481"/>
                </a:lnTo>
                <a:lnTo>
                  <a:pt x="8070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923320" y="2392200"/>
            <a:ext cx="1000080" cy="5213520"/>
          </a:xfrm>
          <a:custGeom>
            <a:avLst/>
            <a:gdLst/>
            <a:ahLst/>
            <a:rect l="l" t="t" r="r" b="b"/>
            <a:pathLst>
              <a:path w="2778" h="14482">
                <a:moveTo>
                  <a:pt x="0" y="14481"/>
                </a:moveTo>
                <a:lnTo>
                  <a:pt x="2777" y="14481"/>
                </a:lnTo>
                <a:lnTo>
                  <a:pt x="2777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84080" y="1322280"/>
            <a:ext cx="180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6240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8120" y="1322280"/>
            <a:ext cx="180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92332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2394000"/>
            <a:ext cx="9699480" cy="1440"/>
          </a:xfrm>
          <a:prstGeom prst="line">
            <a:avLst/>
          </a:prstGeom>
          <a:ln w="37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652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2196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328760"/>
            <a:ext cx="9699480" cy="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7605720"/>
            <a:ext cx="9699480" cy="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6600" y="1403280"/>
            <a:ext cx="317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6600" y="172260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п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6600" y="204156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84160" y="1403280"/>
            <a:ext cx="2341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Автор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3920" y="1403280"/>
            <a:ext cx="1150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63920" y="1722600"/>
            <a:ext cx="15699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9640" y="1403280"/>
            <a:ext cx="1818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Обнаруж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9640" y="1722600"/>
            <a:ext cx="17751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фразеолог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24840" y="1403280"/>
            <a:ext cx="61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Кол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24840" y="1722600"/>
            <a:ext cx="725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во ф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24840" y="2041560"/>
            <a:ext cx="263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246708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470232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4160" y="2467080"/>
            <a:ext cx="1673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А. Курлянд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63640" y="468000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Э. Усп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63920" y="2467080"/>
            <a:ext cx="1401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«Однажд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63920" y="2786040"/>
            <a:ext cx="1150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зоопарк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56000" y="4673520"/>
            <a:ext cx="2387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«Дядя Фёдор, пёс и к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48360" y="532764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PS"/>
              </a:rPr>
              <a:t>барышня кисе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9640" y="2467080"/>
            <a:ext cx="1527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возвращ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19640" y="2786040"/>
            <a:ext cx="23241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порожняком; воло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9640" y="3106800"/>
            <a:ext cx="2337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встают дыбом; кр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19640" y="3425760"/>
            <a:ext cx="1806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стынет в жил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9640" y="3745080"/>
            <a:ext cx="2043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последняя капля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9640" y="4064040"/>
            <a:ext cx="277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терпению пришёл конец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48360" y="4673520"/>
            <a:ext cx="25243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как мокрая кур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48360" y="504036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язык свешива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024840" y="246708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024840" y="502128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024840" y="693576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NewRomanP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56360" y="6977160"/>
            <a:ext cx="2122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NewRomanPS"/>
              </a:rPr>
              <a:t>Обнаружено фр-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2T12:13:45Z</dcterms:created>
  <dc:creator/>
  <dc:description/>
  <dc:language>en-US</dc:language>
  <cp:lastModifiedBy/>
  <dcterms:modified xsi:type="dcterms:W3CDTF">2019-04-12T13:05:01Z</dcterms:modified>
  <cp:revision>2</cp:revision>
  <dc:subject/>
  <dc:title>Lights</dc:title>
</cp:coreProperties>
</file>