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DA0-ABB7-412D-A729-FE87B5D5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36B-C66E-436B-9C37-21E9290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8E4-22F8-4D4B-B642-9178A21C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75F-B0AB-4E96-AB81-7FEC952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1E8-66CA-48B5-BADE-701E80B9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E00-DAFE-4971-B8F8-35A78033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15C-2766-401B-BD66-70067901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75B-DB80-4430-BAAB-0F28612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1EA-3A89-4456-A554-581EF3D0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89F-4C79-4EB7-8F83-6F64201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081-F9C8-416C-8BBC-28F5B85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86D-F57D-4A2B-914B-5F2F1A4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192-4E05-4612-AB7B-68F000F9D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4360" y="404640"/>
            <a:ext cx="8020080" cy="311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Числовые и буквенные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ражения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ормулы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ая прямоугольная выноска 1"/>
          <p:cNvSpPr/>
          <p:nvPr/>
        </p:nvSpPr>
        <p:spPr>
          <a:xfrm>
            <a:off x="3186000" y="476280"/>
            <a:ext cx="4410360" cy="1538280"/>
          </a:xfrm>
          <a:prstGeom prst="wedgeRoundRectCallout">
            <a:avLst>
              <a:gd name="adj1" fmla="val -69967"/>
              <a:gd name="adj2" fmla="val 37166"/>
              <a:gd name="adj3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мы сегодня должны на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ая прямоугольная выноска 2"/>
          <p:cNvSpPr/>
          <p:nvPr/>
        </p:nvSpPr>
        <p:spPr>
          <a:xfrm>
            <a:off x="449280" y="3284640"/>
            <a:ext cx="5472000" cy="2952720"/>
          </a:xfrm>
          <a:prstGeom prst="wedgeRoundRectCallout">
            <a:avLst>
              <a:gd name="adj1" fmla="val 66166"/>
              <a:gd name="adj2" fmla="val 2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ть числовые и буквенные выражения,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значение выражения при заданном значении буквы и значение величины по форму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112\Desktop\4befc55f4379efc81d2cf725c9db7c74.png"/>
          <p:cNvPicPr/>
          <p:nvPr/>
        </p:nvPicPr>
        <p:blipFill>
          <a:blip r:embed="rId1"/>
          <a:stretch/>
        </p:blipFill>
        <p:spPr>
          <a:xfrm>
            <a:off x="88920" y="-65160"/>
            <a:ext cx="309708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539640" y="189000"/>
            <a:ext cx="8020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оверка домашнего задания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47" name="Прямоугольник 1"/>
          <p:cNvGrpSpPr/>
          <p:nvPr/>
        </p:nvGrpSpPr>
        <p:grpSpPr>
          <a:xfrm>
            <a:off x="3219480" y="1414440"/>
            <a:ext cx="2558880" cy="517680"/>
            <a:chOff x="3219480" y="1414440"/>
            <a:chExt cx="2558880" cy="517680"/>
          </a:xfrm>
        </p:grpSpPr>
        <p:pic>
          <p:nvPicPr>
            <p:cNvPr id="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219480" y="1414440"/>
              <a:ext cx="25588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78160" y="149688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"/>
          <p:cNvSpPr/>
          <p:nvPr/>
        </p:nvSpPr>
        <p:spPr>
          <a:xfrm>
            <a:off x="2689200" y="18669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7    2) 241     3)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Прямоугольник 7"/>
          <p:cNvGrpSpPr/>
          <p:nvPr/>
        </p:nvGrpSpPr>
        <p:grpSpPr>
          <a:xfrm>
            <a:off x="3249720" y="2457360"/>
            <a:ext cx="2565360" cy="511200"/>
            <a:chOff x="3249720" y="2457360"/>
            <a:chExt cx="2565360" cy="511200"/>
          </a:xfrm>
        </p:grpSpPr>
        <p:pic>
          <p:nvPicPr>
            <p:cNvPr id="52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249720" y="2457360"/>
              <a:ext cx="25653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13080" y="253692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оугольник 9"/>
          <p:cNvGrpSpPr/>
          <p:nvPr/>
        </p:nvGrpSpPr>
        <p:grpSpPr>
          <a:xfrm>
            <a:off x="3267000" y="3425760"/>
            <a:ext cx="2560680" cy="517680"/>
            <a:chOff x="3267000" y="3425760"/>
            <a:chExt cx="2560680" cy="517680"/>
          </a:xfrm>
        </p:grpSpPr>
        <p:pic>
          <p:nvPicPr>
            <p:cNvPr id="55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267000" y="3425760"/>
              <a:ext cx="2560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25680" y="3510000"/>
              <a:ext cx="24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0"/>
          <p:cNvSpPr/>
          <p:nvPr/>
        </p:nvSpPr>
        <p:spPr>
          <a:xfrm>
            <a:off x="2784600" y="400536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Прямоугольник 24"/>
          <p:cNvGrpSpPr/>
          <p:nvPr/>
        </p:nvGrpSpPr>
        <p:grpSpPr>
          <a:xfrm>
            <a:off x="3286080" y="4535640"/>
            <a:ext cx="2565360" cy="512640"/>
            <a:chOff x="3286080" y="4535640"/>
            <a:chExt cx="2565360" cy="512640"/>
          </a:xfrm>
        </p:grpSpPr>
        <p:pic>
          <p:nvPicPr>
            <p:cNvPr id="59" name="Прямоугольник 24" descr=""/>
            <p:cNvPicPr/>
            <p:nvPr/>
          </p:nvPicPr>
          <p:blipFill>
            <a:blip r:embed="rId4"/>
            <a:stretch/>
          </p:blipFill>
          <p:spPr>
            <a:xfrm>
              <a:off x="3286080" y="4535640"/>
              <a:ext cx="256536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346560" y="4614840"/>
              <a:ext cx="2447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ебник №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25"/>
          <p:cNvSpPr/>
          <p:nvPr/>
        </p:nvSpPr>
        <p:spPr>
          <a:xfrm>
            <a:off x="2843280" y="51274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4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803680" y="29973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8 – а (деревьев) виш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ая прямоугольная выноска 1"/>
          <p:cNvSpPr/>
          <p:nvPr/>
        </p:nvSpPr>
        <p:spPr>
          <a:xfrm>
            <a:off x="2522520" y="260280"/>
            <a:ext cx="4103640" cy="935280"/>
          </a:xfrm>
          <a:prstGeom prst="wedgeRoundRectCallout">
            <a:avLst>
              <a:gd name="adj1" fmla="val -48550"/>
              <a:gd name="adj2" fmla="val 116074"/>
              <a:gd name="adj3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ая прямоугольная выноска 2"/>
          <p:cNvSpPr/>
          <p:nvPr/>
        </p:nvSpPr>
        <p:spPr>
          <a:xfrm>
            <a:off x="2543040" y="2109960"/>
            <a:ext cx="4105440" cy="1645920"/>
          </a:xfrm>
          <a:prstGeom prst="wedgeRoundRectCallout">
            <a:avLst>
              <a:gd name="adj1" fmla="val 60976"/>
              <a:gd name="adj2" fmla="val -31546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число надо прибавить к 18, чтобы получить 6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ая прямоугольная выноска 20"/>
          <p:cNvSpPr/>
          <p:nvPr/>
        </p:nvSpPr>
        <p:spPr>
          <a:xfrm>
            <a:off x="182520" y="4549680"/>
            <a:ext cx="4105440" cy="1646280"/>
          </a:xfrm>
          <a:prstGeom prst="wedgeRoundRectCallout">
            <a:avLst>
              <a:gd name="adj1" fmla="val -16981"/>
              <a:gd name="adj2" fmla="val -78472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 какого числа надо вычесть 36, чтобы получить 1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21"/>
          <p:cNvSpPr/>
          <p:nvPr/>
        </p:nvSpPr>
        <p:spPr>
          <a:xfrm>
            <a:off x="4576680" y="4506840"/>
            <a:ext cx="4105440" cy="1646280"/>
          </a:xfrm>
          <a:prstGeom prst="wedgeRoundRectCallout">
            <a:avLst>
              <a:gd name="adj1" fmla="val -4310"/>
              <a:gd name="adj2" fmla="val -75597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число надо вычесть из числа 82, чтобы получить 2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691800" y="389268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1946160" y="619596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5787000" y="61531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https://4.bp.blogspot.com/-RCHyN3hsGPw/WlvkC9umqZI/AAAAAAABO04/SfM2CPX8cMAOUJO65saeDIBFiRFLwckxwCKgBGAs/s1600/5a0c69e682e02d31ecb8d015.png"/>
          <p:cNvPicPr/>
          <p:nvPr/>
        </p:nvPicPr>
        <p:blipFill>
          <a:blip r:embed="rId1"/>
          <a:stretch/>
        </p:blipFill>
        <p:spPr>
          <a:xfrm>
            <a:off x="-1467000" y="-316080"/>
            <a:ext cx="5137200" cy="513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691320" y="0"/>
            <a:ext cx="21700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373200" y="984240"/>
            <a:ext cx="2620800" cy="2734200"/>
          </a:xfrm>
          <a:prstGeom prst="wedgeRoundRectCallout">
            <a:avLst>
              <a:gd name="adj1" fmla="val -81750"/>
              <a:gd name="adj2" fmla="val 31828"/>
              <a:gd name="adj3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1(1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3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534040" y="4365720"/>
            <a:ext cx="4299840" cy="2075760"/>
          </a:xfrm>
          <a:prstGeom prst="wedgeRoundRectCallout">
            <a:avLst>
              <a:gd name="adj1" fmla="val 47115"/>
              <a:gd name="adj2" fmla="val -83342"/>
              <a:gd name="adj3" fmla="val 16667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, 103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, 105, 1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112\Desktop\4befc55f4379efc81d2cf725c9db7c74.png"/>
          <p:cNvPicPr/>
          <p:nvPr/>
        </p:nvPicPr>
        <p:blipFill>
          <a:blip r:embed="rId1"/>
          <a:stretch/>
        </p:blipFill>
        <p:spPr>
          <a:xfrm>
            <a:off x="0" y="984240"/>
            <a:ext cx="3095640" cy="353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112\Desktop\Joy_New_Render.png"/>
          <p:cNvPicPr/>
          <p:nvPr/>
        </p:nvPicPr>
        <p:blipFill>
          <a:blip r:embed="rId2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826920" y="3716280"/>
            <a:ext cx="749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высказывания об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научился (научилась)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хотел(а) бы ещё узнать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е понравилось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не не понравилось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1"/>
          <a:stretch/>
        </p:blipFill>
        <p:spPr>
          <a:xfrm>
            <a:off x="1719360" y="2378160"/>
            <a:ext cx="572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" descr=""/>
          <p:cNvPicPr/>
          <p:nvPr/>
        </p:nvPicPr>
        <p:blipFill>
          <a:blip r:embed="rId1"/>
          <a:stretch/>
        </p:blipFill>
        <p:spPr>
          <a:xfrm>
            <a:off x="122400" y="573120"/>
            <a:ext cx="8216640" cy="124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839160" y="2276640"/>
            <a:ext cx="3573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9 повтор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MAMA</dc:creator>
  <dc:description/>
  <dc:language>en-US</dc:language>
  <cp:lastModifiedBy>Администратор безопасности</cp:lastModifiedBy>
  <dcterms:modified xsi:type="dcterms:W3CDTF">2020-08-28T06:56:29Z</dcterms:modified>
  <cp:revision>39</cp:revision>
  <dc:subject/>
  <dc:title>Вычитание натуральных чисел</dc:title>
</cp:coreProperties>
</file>