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6FF1-00E0-4AD4-B41B-3F94BA1FF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8EE9-98E2-49E2-88D9-2B3285E70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004F-27C1-434A-B944-30916C6F8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2C43-AF80-47C9-8FB3-FA108287C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81F9-051E-4917-86FE-7FEABD2A8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B52D-E90A-4B54-B524-438B9C1FE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563F-4698-4325-9C02-1ABAD8375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146A-4877-4B35-8EB7-B2674EC78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C6B9-66A4-4051-BB09-00D8A228E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7B5C-5B4A-4025-A5EB-86DAD439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6EF4-71C8-41B2-9F6B-679D1181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87FB-C1DE-4560-B6A6-0B416AC2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46B6-0563-40E3-86A9-3ECB33DE8B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6"/>
          <p:cNvSpPr txBox="1"/>
          <p:nvPr/>
        </p:nvSpPr>
        <p:spPr>
          <a:xfrm>
            <a:off x="684360" y="404640"/>
            <a:ext cx="8020080" cy="3114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Числовые и буквенные</a:t>
            </a:r>
            <a:endParaRPr b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 </a:t>
            </a:r>
            <a:r>
              <a:rPr b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выражения.</a:t>
            </a:r>
            <a:endParaRPr b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Формулы.</a:t>
            </a:r>
            <a:endParaRPr b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Скругленная прямоугольная выноска 1"/>
          <p:cNvSpPr/>
          <p:nvPr/>
        </p:nvSpPr>
        <p:spPr>
          <a:xfrm>
            <a:off x="3186000" y="476280"/>
            <a:ext cx="4410360" cy="1538280"/>
          </a:xfrm>
          <a:prstGeom prst="wedgeRoundRectCallout">
            <a:avLst>
              <a:gd name="adj1" fmla="val -69967"/>
              <a:gd name="adj2" fmla="val 37166"/>
              <a:gd name="adj3" fmla="val 16667"/>
            </a:avLst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у мы сегодня должны научить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Скругленная прямоугольная выноска 2"/>
          <p:cNvSpPr/>
          <p:nvPr/>
        </p:nvSpPr>
        <p:spPr>
          <a:xfrm>
            <a:off x="449280" y="3284640"/>
            <a:ext cx="5472000" cy="2952720"/>
          </a:xfrm>
          <a:prstGeom prst="wedgeRoundRectCallout">
            <a:avLst>
              <a:gd name="adj1" fmla="val 66166"/>
              <a:gd name="adj2" fmla="val 23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личать числовые и буквенные выражения, форму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ходить значение выражения при заданном значении буквы и значение величины по формул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C:\Users\112\Desktop\4befc55f4379efc81d2cf725c9db7c74.png"/>
          <p:cNvPicPr/>
          <p:nvPr/>
        </p:nvPicPr>
        <p:blipFill>
          <a:blip r:embed="rId1"/>
          <a:stretch/>
        </p:blipFill>
        <p:spPr>
          <a:xfrm>
            <a:off x="88920" y="-65160"/>
            <a:ext cx="3097080" cy="3537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C:\Users\112\Desktop\Joy_New_Render.png"/>
          <p:cNvPicPr/>
          <p:nvPr/>
        </p:nvPicPr>
        <p:blipFill>
          <a:blip r:embed="rId2"/>
          <a:stretch/>
        </p:blipFill>
        <p:spPr>
          <a:xfrm>
            <a:off x="6550200" y="1965240"/>
            <a:ext cx="217152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6"/>
          <p:cNvSpPr txBox="1"/>
          <p:nvPr/>
        </p:nvSpPr>
        <p:spPr>
          <a:xfrm>
            <a:off x="539640" y="189000"/>
            <a:ext cx="8020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Проверка домашнего задания</a:t>
            </a:r>
            <a:endParaRPr b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grpSp>
        <p:nvGrpSpPr>
          <p:cNvPr id="47" name="Прямоугольник 1"/>
          <p:cNvGrpSpPr/>
          <p:nvPr/>
        </p:nvGrpSpPr>
        <p:grpSpPr>
          <a:xfrm>
            <a:off x="3219480" y="1414440"/>
            <a:ext cx="2558880" cy="517680"/>
            <a:chOff x="3219480" y="1414440"/>
            <a:chExt cx="2558880" cy="517680"/>
          </a:xfrm>
        </p:grpSpPr>
        <p:pic>
          <p:nvPicPr>
            <p:cNvPr id="48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3219480" y="1414440"/>
              <a:ext cx="255888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3278160" y="1496880"/>
              <a:ext cx="2448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чебник №24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TextBox 2"/>
          <p:cNvSpPr/>
          <p:nvPr/>
        </p:nvSpPr>
        <p:spPr>
          <a:xfrm>
            <a:off x="2689200" y="186696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47    2) 241     3) 2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Прямоугольник 7"/>
          <p:cNvGrpSpPr/>
          <p:nvPr/>
        </p:nvGrpSpPr>
        <p:grpSpPr>
          <a:xfrm>
            <a:off x="3249720" y="2457360"/>
            <a:ext cx="2565360" cy="511200"/>
            <a:chOff x="3249720" y="2457360"/>
            <a:chExt cx="2565360" cy="511200"/>
          </a:xfrm>
        </p:grpSpPr>
        <p:pic>
          <p:nvPicPr>
            <p:cNvPr id="52" name="Прямоугольник 7" descr=""/>
            <p:cNvPicPr/>
            <p:nvPr/>
          </p:nvPicPr>
          <p:blipFill>
            <a:blip r:embed="rId2"/>
            <a:stretch/>
          </p:blipFill>
          <p:spPr>
            <a:xfrm>
              <a:off x="3249720" y="2457360"/>
              <a:ext cx="256536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3313080" y="2536920"/>
              <a:ext cx="2448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чебник №24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Прямоугольник 9"/>
          <p:cNvGrpSpPr/>
          <p:nvPr/>
        </p:nvGrpSpPr>
        <p:grpSpPr>
          <a:xfrm>
            <a:off x="3267000" y="3425760"/>
            <a:ext cx="2560680" cy="517680"/>
            <a:chOff x="3267000" y="3425760"/>
            <a:chExt cx="2560680" cy="517680"/>
          </a:xfrm>
        </p:grpSpPr>
        <p:pic>
          <p:nvPicPr>
            <p:cNvPr id="55" name="Прямоугольник 9" descr=""/>
            <p:cNvPicPr/>
            <p:nvPr/>
          </p:nvPicPr>
          <p:blipFill>
            <a:blip r:embed="rId3"/>
            <a:stretch/>
          </p:blipFill>
          <p:spPr>
            <a:xfrm>
              <a:off x="3267000" y="3425760"/>
              <a:ext cx="256068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325680" y="3510000"/>
              <a:ext cx="2448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чебник №24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TextBox 10"/>
          <p:cNvSpPr/>
          <p:nvPr/>
        </p:nvSpPr>
        <p:spPr>
          <a:xfrm>
            <a:off x="2784600" y="4005360"/>
            <a:ext cx="34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5 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Прямоугольник 24"/>
          <p:cNvGrpSpPr/>
          <p:nvPr/>
        </p:nvGrpSpPr>
        <p:grpSpPr>
          <a:xfrm>
            <a:off x="3286080" y="4535640"/>
            <a:ext cx="2565360" cy="512640"/>
            <a:chOff x="3286080" y="4535640"/>
            <a:chExt cx="2565360" cy="512640"/>
          </a:xfrm>
        </p:grpSpPr>
        <p:pic>
          <p:nvPicPr>
            <p:cNvPr id="59" name="Прямоугольник 24" descr=""/>
            <p:cNvPicPr/>
            <p:nvPr/>
          </p:nvPicPr>
          <p:blipFill>
            <a:blip r:embed="rId4"/>
            <a:stretch/>
          </p:blipFill>
          <p:spPr>
            <a:xfrm>
              <a:off x="3286080" y="4535640"/>
              <a:ext cx="256536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3346560" y="4614840"/>
              <a:ext cx="24476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чебник №2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TextBox 25"/>
          <p:cNvSpPr/>
          <p:nvPr/>
        </p:nvSpPr>
        <p:spPr>
          <a:xfrm>
            <a:off x="2843280" y="5127480"/>
            <a:ext cx="34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4 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2803680" y="2997360"/>
            <a:ext cx="36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8 – а (деревьев) виш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20" nodeType="clickEffect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0" nodeType="clickEffect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35" nodeType="clickEffect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Скругленная прямоугольная выноска 1"/>
          <p:cNvSpPr/>
          <p:nvPr/>
        </p:nvSpPr>
        <p:spPr>
          <a:xfrm>
            <a:off x="2522520" y="260280"/>
            <a:ext cx="4103640" cy="935280"/>
          </a:xfrm>
          <a:prstGeom prst="wedgeRoundRectCallout">
            <a:avLst>
              <a:gd name="adj1" fmla="val -48550"/>
              <a:gd name="adj2" fmla="val 116074"/>
              <a:gd name="adj3" fmla="val 16667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ное за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ая прямоугольная выноска 2"/>
          <p:cNvSpPr/>
          <p:nvPr/>
        </p:nvSpPr>
        <p:spPr>
          <a:xfrm>
            <a:off x="2543040" y="2109960"/>
            <a:ext cx="4105440" cy="1645920"/>
          </a:xfrm>
          <a:prstGeom prst="wedgeRoundRectCallout">
            <a:avLst>
              <a:gd name="adj1" fmla="val 60976"/>
              <a:gd name="adj2" fmla="val -31546"/>
              <a:gd name="adj3" fmla="val 16667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Какое число надо прибавить к 18, чтобы получить 64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кругленная прямоугольная выноска 20"/>
          <p:cNvSpPr/>
          <p:nvPr/>
        </p:nvSpPr>
        <p:spPr>
          <a:xfrm>
            <a:off x="182520" y="4549680"/>
            <a:ext cx="4105440" cy="1646280"/>
          </a:xfrm>
          <a:prstGeom prst="wedgeRoundRectCallout">
            <a:avLst>
              <a:gd name="adj1" fmla="val -16981"/>
              <a:gd name="adj2" fmla="val -78472"/>
              <a:gd name="adj3" fmla="val 16667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Из какого числа надо вычесть 36, чтобы получить 16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кругленная прямоугольная выноска 21"/>
          <p:cNvSpPr/>
          <p:nvPr/>
        </p:nvSpPr>
        <p:spPr>
          <a:xfrm>
            <a:off x="4576680" y="4506840"/>
            <a:ext cx="4105440" cy="1646280"/>
          </a:xfrm>
          <a:prstGeom prst="wedgeRoundRectCallout">
            <a:avLst>
              <a:gd name="adj1" fmla="val -4310"/>
              <a:gd name="adj2" fmla="val -75597"/>
              <a:gd name="adj3" fmla="val 16667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акое число надо вычесть из числа 82, чтобы получить 24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3691800" y="3892680"/>
            <a:ext cx="18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вет 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2"/>
          <p:cNvSpPr/>
          <p:nvPr/>
        </p:nvSpPr>
        <p:spPr>
          <a:xfrm>
            <a:off x="1946160" y="6195960"/>
            <a:ext cx="18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вет 5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3"/>
          <p:cNvSpPr/>
          <p:nvPr/>
        </p:nvSpPr>
        <p:spPr>
          <a:xfrm>
            <a:off x="5787000" y="6153120"/>
            <a:ext cx="18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вет 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8" descr="https://4.bp.blogspot.com/-RCHyN3hsGPw/WlvkC9umqZI/AAAAAAABO04/SfM2CPX8cMAOUJO65saeDIBFiRFLwckxwCKgBGAs/s1600/5a0c69e682e02d31ecb8d015.png"/>
          <p:cNvPicPr/>
          <p:nvPr/>
        </p:nvPicPr>
        <p:blipFill>
          <a:blip r:embed="rId1"/>
          <a:stretch/>
        </p:blipFill>
        <p:spPr>
          <a:xfrm>
            <a:off x="-1467000" y="-316080"/>
            <a:ext cx="5137200" cy="5137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C:\Users\112\Desktop\Joy_New_Render.png"/>
          <p:cNvPicPr/>
          <p:nvPr/>
        </p:nvPicPr>
        <p:blipFill>
          <a:blip r:embed="rId2"/>
          <a:stretch/>
        </p:blipFill>
        <p:spPr>
          <a:xfrm>
            <a:off x="6691320" y="0"/>
            <a:ext cx="217008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1"/>
          <p:cNvSpPr/>
          <p:nvPr/>
        </p:nvSpPr>
        <p:spPr>
          <a:xfrm>
            <a:off x="3373200" y="984240"/>
            <a:ext cx="2620800" cy="2734200"/>
          </a:xfrm>
          <a:prstGeom prst="wedgeRoundRectCallout">
            <a:avLst>
              <a:gd name="adj1" fmla="val -81750"/>
              <a:gd name="adj2" fmla="val 31828"/>
              <a:gd name="adj3" fmla="val 16667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и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1(1)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3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"/>
          <p:cNvSpPr/>
          <p:nvPr/>
        </p:nvSpPr>
        <p:spPr>
          <a:xfrm>
            <a:off x="2534040" y="4365720"/>
            <a:ext cx="4299840" cy="2075760"/>
          </a:xfrm>
          <a:prstGeom prst="wedgeRoundRectCallout">
            <a:avLst>
              <a:gd name="adj1" fmla="val 47115"/>
              <a:gd name="adj2" fmla="val -83342"/>
              <a:gd name="adj3" fmla="val 16667"/>
            </a:avLst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чая тетрад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2, 103,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4, 105, 10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C:\Users\112\Desktop\4befc55f4379efc81d2cf725c9db7c74.png"/>
          <p:cNvPicPr/>
          <p:nvPr/>
        </p:nvPicPr>
        <p:blipFill>
          <a:blip r:embed="rId1"/>
          <a:stretch/>
        </p:blipFill>
        <p:spPr>
          <a:xfrm>
            <a:off x="0" y="984240"/>
            <a:ext cx="3095640" cy="3537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C:\Users\112\Desktop\Joy_New_Render.png"/>
          <p:cNvPicPr/>
          <p:nvPr/>
        </p:nvPicPr>
        <p:blipFill>
          <a:blip r:embed="rId2"/>
          <a:stretch/>
        </p:blipFill>
        <p:spPr>
          <a:xfrm>
            <a:off x="6550200" y="1965240"/>
            <a:ext cx="217152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"/>
          <p:cNvSpPr/>
          <p:nvPr/>
        </p:nvSpPr>
        <p:spPr>
          <a:xfrm>
            <a:off x="826920" y="3716280"/>
            <a:ext cx="7490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ите высказывания об уро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Я научился (научилась) …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Я хотел(а) бы ещё узнать …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Мне понравилось …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Мне не понравилось …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Прямоугольник 2" descr=""/>
          <p:cNvPicPr/>
          <p:nvPr/>
        </p:nvPicPr>
        <p:blipFill>
          <a:blip r:embed="rId1"/>
          <a:stretch/>
        </p:blipFill>
        <p:spPr>
          <a:xfrm>
            <a:off x="1719360" y="2378160"/>
            <a:ext cx="57243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TextBox 1" descr=""/>
          <p:cNvPicPr/>
          <p:nvPr/>
        </p:nvPicPr>
        <p:blipFill>
          <a:blip r:embed="rId1"/>
          <a:stretch/>
        </p:blipFill>
        <p:spPr>
          <a:xfrm>
            <a:off x="122400" y="573120"/>
            <a:ext cx="8216640" cy="124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2"/>
          <p:cNvSpPr/>
          <p:nvPr/>
        </p:nvSpPr>
        <p:spPr>
          <a:xfrm>
            <a:off x="839160" y="2276640"/>
            <a:ext cx="3573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§9 повторить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5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5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5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4:34:27Z</dcterms:created>
  <dc:creator>MAMA</dc:creator>
  <dc:description/>
  <dc:language>en-US</dc:language>
  <cp:lastModifiedBy>Администратор безопасности</cp:lastModifiedBy>
  <dcterms:modified xsi:type="dcterms:W3CDTF">2020-08-28T06:56:29Z</dcterms:modified>
  <cp:revision>39</cp:revision>
  <dc:subject/>
  <dc:title>Вычитание натуральных чисел</dc:title>
</cp:coreProperties>
</file>