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B51-55F3-4567-93DB-A8911507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57F-25E3-4F79-9A57-4BF3F9D4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162-F658-4AF8-8D54-D27FF853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605-190D-4D8C-8220-7CE79E3E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F9F2-995D-47F5-A0A7-614A5CBC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DE5-B6EE-4165-A96E-ABBB51A6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FFB-8C98-4CBE-8FDC-5F819FEA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36A-9FC2-49D1-8AF5-1B4B368D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47C-C123-4636-A29F-39379B10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F19-59B2-4C22-9975-ACF25880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2D1-65D2-4DAD-AFAC-54FED630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5BA-A398-4843-AD79-447E3E65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79FA-0214-453C-8C82-202D9FC06E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6" descr=""/>
          <p:cNvPicPr/>
          <p:nvPr/>
        </p:nvPicPr>
        <p:blipFill>
          <a:blip r:embed="rId1"/>
          <a:stretch/>
        </p:blipFill>
        <p:spPr>
          <a:xfrm>
            <a:off x="695160" y="957240"/>
            <a:ext cx="80521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ая прямоугольная выноска 1"/>
          <p:cNvSpPr/>
          <p:nvPr/>
        </p:nvSpPr>
        <p:spPr>
          <a:xfrm>
            <a:off x="3186000" y="476280"/>
            <a:ext cx="4410360" cy="1538280"/>
          </a:xfrm>
          <a:prstGeom prst="wedgeRoundRectCallout">
            <a:avLst>
              <a:gd name="adj1" fmla="val -69967"/>
              <a:gd name="adj2" fmla="val 37166"/>
              <a:gd name="adj3" fmla="val 16667"/>
            </a:avLst>
          </a:prstGeom>
          <a:gradFill rotWithShape="0">
            <a:gsLst>
              <a:gs pos="0">
                <a:srgbClr val="ffae7f"/>
              </a:gs>
              <a:gs pos="100000">
                <a:srgbClr val="ffe6d9"/>
              </a:gs>
            </a:gsLst>
            <a:lin ang="16200000"/>
          </a:gradFill>
          <a:ln w="9360">
            <a:solidFill>
              <a:srgbClr val="fd82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будем уч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ая прямоугольная выноска 2"/>
          <p:cNvSpPr/>
          <p:nvPr/>
        </p:nvSpPr>
        <p:spPr>
          <a:xfrm>
            <a:off x="449280" y="3284640"/>
            <a:ext cx="5472000" cy="2952720"/>
          </a:xfrm>
          <a:prstGeom prst="wedgeRoundRectCallout">
            <a:avLst>
              <a:gd name="adj1" fmla="val 66166"/>
              <a:gd name="adj2" fmla="val 23"/>
              <a:gd name="adj3" fmla="val 16667"/>
            </a:avLst>
          </a:prstGeom>
          <a:solidFill>
            <a:srgbClr val="ffffff"/>
          </a:solidFill>
          <a:ln w="2556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решать уравнения с помощью нахождения компонентов сложения и выч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:\Users\112\Desktop\Joy_New_Render.png"/>
          <p:cNvPicPr/>
          <p:nvPr/>
        </p:nvPicPr>
        <p:blipFill>
          <a:blip r:embed="rId1"/>
          <a:stretch/>
        </p:blipFill>
        <p:spPr>
          <a:xfrm>
            <a:off x="6550200" y="1965240"/>
            <a:ext cx="2171520" cy="4892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0" descr="C:\Users\112\Desktop\5a0c695a82e02d31ecb8d008.png"/>
          <p:cNvPicPr/>
          <p:nvPr/>
        </p:nvPicPr>
        <p:blipFill>
          <a:blip r:embed="rId2"/>
          <a:stretch/>
        </p:blipFill>
        <p:spPr>
          <a:xfrm>
            <a:off x="250920" y="-171360"/>
            <a:ext cx="22762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кругленная прямоугольная выноска 1"/>
          <p:cNvSpPr/>
          <p:nvPr/>
        </p:nvSpPr>
        <p:spPr>
          <a:xfrm>
            <a:off x="2522520" y="260280"/>
            <a:ext cx="4103640" cy="935280"/>
          </a:xfrm>
          <a:prstGeom prst="wedgeRoundRectCallout">
            <a:avLst>
              <a:gd name="adj1" fmla="val -48550"/>
              <a:gd name="adj2" fmla="val 116074"/>
              <a:gd name="adj3" fmla="val 16667"/>
            </a:avLst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о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ая прямоугольная выноска 20"/>
          <p:cNvSpPr/>
          <p:nvPr/>
        </p:nvSpPr>
        <p:spPr>
          <a:xfrm>
            <a:off x="182520" y="4451400"/>
            <a:ext cx="4105440" cy="1744560"/>
          </a:xfrm>
          <a:prstGeom prst="wedgeRoundRectCallout">
            <a:avLst>
              <a:gd name="adj1" fmla="val 8365"/>
              <a:gd name="adj2" fmla="val -58916"/>
              <a:gd name="adj3" fmla="val 16667"/>
            </a:avLst>
          </a:prstGeom>
          <a:gradFill rotWithShape="0">
            <a:gsLst>
              <a:gs pos="0">
                <a:srgbClr val="ccd9fb"/>
              </a:gs>
              <a:gs pos="100000">
                <a:srgbClr val="f0f4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йдите значение выражения 53+х, если 1) х=29; 2) х=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ая прямоугольная выноска 21"/>
          <p:cNvSpPr/>
          <p:nvPr/>
        </p:nvSpPr>
        <p:spPr>
          <a:xfrm>
            <a:off x="4638600" y="4451400"/>
            <a:ext cx="4314960" cy="1701720"/>
          </a:xfrm>
          <a:prstGeom prst="wedgeRoundRectCallout">
            <a:avLst>
              <a:gd name="adj1" fmla="val -6611"/>
              <a:gd name="adj2" fmla="val -60624"/>
              <a:gd name="adj3" fmla="val 16667"/>
            </a:avLst>
          </a:prstGeom>
          <a:gradFill rotWithShape="0">
            <a:gsLst>
              <a:gs pos="0">
                <a:srgbClr val="ccd9fb"/>
              </a:gs>
              <a:gs pos="100000">
                <a:srgbClr val="f0f4ff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дите значение выражения 53+х, если: 1) у = 7; 2) у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2"/>
          <p:cNvSpPr/>
          <p:nvPr/>
        </p:nvSpPr>
        <p:spPr>
          <a:xfrm>
            <a:off x="611640" y="6165720"/>
            <a:ext cx="28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82 и 1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3"/>
          <p:cNvSpPr/>
          <p:nvPr/>
        </p:nvSpPr>
        <p:spPr>
          <a:xfrm>
            <a:off x="5231160" y="6153120"/>
            <a:ext cx="28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84 и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9" descr="https://www.ypogeio.gr/Dynamicpics/posts/300_1_anger.png"/>
          <p:cNvPicPr/>
          <p:nvPr/>
        </p:nvPicPr>
        <p:blipFill>
          <a:blip r:embed="rId1"/>
          <a:stretch/>
        </p:blipFill>
        <p:spPr>
          <a:xfrm>
            <a:off x="127080" y="1195560"/>
            <a:ext cx="3111480" cy="30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050920" y="2530440"/>
            <a:ext cx="56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им первоначальное кол-во пассажиров в  автобусе буквой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24000" y="692280"/>
            <a:ext cx="8569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автобусного парка выехали 12 автобусов, а вернулись с работы 7 автобусов. Сколько автобусов в парке было первоначально, если в результате движения их стало 3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374280" y="1699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м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2710800" y="3665520"/>
            <a:ext cx="3047400" cy="581400"/>
          </a:xfrm>
          <a:prstGeom prst="rect">
            <a:avLst/>
          </a:prstGeom>
          <a:gradFill rotWithShape="0">
            <a:gsLst>
              <a:gs pos="0">
                <a:srgbClr val="ffae7f"/>
              </a:gs>
              <a:gs pos="100000">
                <a:srgbClr val="ffe6d9"/>
              </a:gs>
            </a:gsLst>
            <a:lin ang="16200000"/>
          </a:gradFill>
          <a:ln w="9360">
            <a:solidFill>
              <a:srgbClr val="fd82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 – 12) + 7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076280" y="4362480"/>
            <a:ext cx="2061360" cy="520560"/>
          </a:xfrm>
          <a:prstGeom prst="rect">
            <a:avLst/>
          </a:prstGeom>
          <a:gradFill rotWithShape="0">
            <a:gsLst>
              <a:gs pos="0">
                <a:srgbClr val="ffff81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4cb2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324000" y="692280"/>
            <a:ext cx="8569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автобусного парка выехали 12 автобусов, а вернулись с работы 7 автобусов. Сколько автобусов в парке было первоначально, если в результате движения их стало 3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374280" y="1699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м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716560" y="2255760"/>
            <a:ext cx="3047400" cy="581400"/>
          </a:xfrm>
          <a:prstGeom prst="rect">
            <a:avLst/>
          </a:prstGeom>
          <a:gradFill rotWithShape="0">
            <a:gsLst>
              <a:gs pos="0">
                <a:srgbClr val="ffae7f"/>
              </a:gs>
              <a:gs pos="100000">
                <a:srgbClr val="ffe6d9"/>
              </a:gs>
            </a:gsLst>
            <a:lin ang="16200000"/>
          </a:gradFill>
          <a:ln w="9360">
            <a:solidFill>
              <a:srgbClr val="fd82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 – 12) + 7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580560" y="3141720"/>
            <a:ext cx="1319040" cy="581400"/>
          </a:xfrm>
          <a:prstGeom prst="rect">
            <a:avLst/>
          </a:prstGeom>
          <a:gradFill rotWithShape="0">
            <a:gsLst>
              <a:gs pos="0">
                <a:srgbClr val="ffae7f"/>
              </a:gs>
              <a:gs pos="100000">
                <a:srgbClr val="ffe6d9"/>
              </a:gs>
            </a:gsLst>
            <a:lin ang="16200000"/>
          </a:gradFill>
          <a:ln w="9360">
            <a:solidFill>
              <a:srgbClr val="fd82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2689560" y="3960720"/>
            <a:ext cx="3161520" cy="581400"/>
          </a:xfrm>
          <a:prstGeom prst="rect">
            <a:avLst/>
          </a:prstGeom>
          <a:gradFill rotWithShape="0">
            <a:gsLst>
              <a:gs pos="0">
                <a:srgbClr val="ffae7f"/>
              </a:gs>
              <a:gs pos="100000">
                <a:srgbClr val="ffe6d9"/>
              </a:gs>
            </a:gsLst>
            <a:lin ang="16200000"/>
          </a:gradFill>
          <a:ln w="9360">
            <a:solidFill>
              <a:srgbClr val="fd82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5 – 12) + 7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3108240" y="4875120"/>
            <a:ext cx="3594240" cy="947160"/>
          </a:xfrm>
          <a:prstGeom prst="rect">
            <a:avLst/>
          </a:prstGeom>
          <a:gradFill rotWithShape="0">
            <a:gsLst>
              <a:gs pos="0">
                <a:srgbClr val="ffff81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4cb2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– эт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ень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/>
          <p:cNvSpPr/>
          <p:nvPr/>
        </p:nvSpPr>
        <p:spPr>
          <a:xfrm>
            <a:off x="505800" y="333360"/>
            <a:ext cx="3047400" cy="581400"/>
          </a:xfrm>
          <a:prstGeom prst="rect">
            <a:avLst/>
          </a:prstGeom>
          <a:gradFill rotWithShape="0">
            <a:gsLst>
              <a:gs pos="0">
                <a:srgbClr val="ffae7f"/>
              </a:gs>
              <a:gs pos="100000">
                <a:srgbClr val="ffe6d9"/>
              </a:gs>
            </a:gsLst>
            <a:lin ang="16200000"/>
          </a:gradFill>
          <a:ln w="9360">
            <a:solidFill>
              <a:srgbClr val="fd82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 – 12) + 7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485640" y="1125360"/>
            <a:ext cx="1817640" cy="581400"/>
          </a:xfrm>
          <a:prstGeom prst="rect">
            <a:avLst/>
          </a:prstGeom>
          <a:gradFill rotWithShape="0">
            <a:gsLst>
              <a:gs pos="0">
                <a:srgbClr val="ffae7f"/>
              </a:gs>
              <a:gs pos="100000">
                <a:srgbClr val="ffe6d9"/>
              </a:gs>
            </a:gsLst>
            <a:lin ang="16200000"/>
          </a:gradFill>
          <a:ln w="9360">
            <a:solidFill>
              <a:srgbClr val="fd82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Х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446760" y="1963800"/>
            <a:ext cx="1817640" cy="581400"/>
          </a:xfrm>
          <a:prstGeom prst="rect">
            <a:avLst/>
          </a:prstGeom>
          <a:gradFill rotWithShape="0">
            <a:gsLst>
              <a:gs pos="0">
                <a:srgbClr val="ffae7f"/>
              </a:gs>
              <a:gs pos="100000">
                <a:srgbClr val="ffe6d9"/>
              </a:gs>
            </a:gsLst>
            <a:lin ang="16200000"/>
          </a:gradFill>
          <a:ln w="9360">
            <a:solidFill>
              <a:srgbClr val="fd82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Х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3781440" y="385920"/>
            <a:ext cx="1295280" cy="520560"/>
          </a:xfrm>
          <a:prstGeom prst="rect">
            <a:avLst/>
          </a:prstGeom>
          <a:gradFill rotWithShape="0">
            <a:gsLst>
              <a:gs pos="0">
                <a:srgbClr val="ffff81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4cb2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2522520" y="1984320"/>
            <a:ext cx="4065480" cy="520560"/>
          </a:xfrm>
          <a:prstGeom prst="rect">
            <a:avLst/>
          </a:prstGeom>
          <a:gradFill rotWithShape="0">
            <a:gsLst>
              <a:gs pos="0">
                <a:srgbClr val="ffff81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4cb2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ей 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2522520" y="1185840"/>
            <a:ext cx="2554200" cy="520560"/>
          </a:xfrm>
          <a:prstGeom prst="rect">
            <a:avLst/>
          </a:prstGeom>
          <a:gradFill rotWithShape="0">
            <a:gsLst>
              <a:gs pos="0">
                <a:srgbClr val="ffff81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4cb2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2987640" y="2897280"/>
            <a:ext cx="2808360" cy="3080160"/>
          </a:xfrm>
          <a:prstGeom prst="rect">
            <a:avLst/>
          </a:prstGeom>
          <a:gradFill rotWithShape="0">
            <a:gsLst>
              <a:gs pos="0">
                <a:srgbClr val="fe9f9b"/>
              </a:gs>
              <a:gs pos="100000">
                <a:srgbClr val="ffe5e4"/>
              </a:gs>
            </a:gsLst>
            <a:lin ang="16200000"/>
          </a:gradFill>
          <a:ln w="9360">
            <a:solidFill>
              <a:srgbClr val="b3281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шить уравн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йти все его корни и убедиться что таких больше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2985840" y="6157800"/>
            <a:ext cx="52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пример 1, 4 стр.  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664000" y="189000"/>
            <a:ext cx="5221080" cy="627480"/>
          </a:xfrm>
          <a:prstGeom prst="wedgeRoundRectCallout">
            <a:avLst>
              <a:gd name="adj1" fmla="val -58472"/>
              <a:gd name="adj2" fmla="val 49310"/>
              <a:gd name="adj3" fmla="val 16667"/>
            </a:avLst>
          </a:prstGeom>
          <a:gradFill rotWithShape="0">
            <a:gsLst>
              <a:gs pos="0">
                <a:srgbClr val="ffff81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4cb2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№ 267, 269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2484360" y="981000"/>
            <a:ext cx="6551640" cy="627480"/>
          </a:xfrm>
          <a:prstGeom prst="wedgeRoundRectCallout">
            <a:avLst>
              <a:gd name="adj1" fmla="val -53902"/>
              <a:gd name="adj2" fmla="val 46958"/>
              <a:gd name="adj3" fmla="val 16667"/>
            </a:avLst>
          </a:prstGeom>
          <a:gradFill rotWithShape="0">
            <a:gsLst>
              <a:gs pos="0">
                <a:srgbClr val="ffff81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4cb2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радь №112, 1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3276720" y="5013360"/>
            <a:ext cx="2374920" cy="520560"/>
          </a:xfrm>
          <a:prstGeom prst="rect">
            <a:avLst/>
          </a:prstGeom>
          <a:gradFill rotWithShape="0">
            <a:gsLst>
              <a:gs pos="0">
                <a:srgbClr val="ffff81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4cb2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 №67 (2,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1061640" y="549900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уравне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24 + у = 212         4) 2 064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3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2664000" y="1700280"/>
            <a:ext cx="59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2 Какое из чисел 6, 13, 18 является корнем уравн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х - 12 = 24   2) 18 -  3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101520" y="2997360"/>
            <a:ext cx="8934480" cy="1679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0" descr="C:\Users\112\Desktop\5a0c695a82e02d31ecb8d008.png"/>
          <p:cNvPicPr/>
          <p:nvPr/>
        </p:nvPicPr>
        <p:blipFill>
          <a:blip r:embed="rId2"/>
          <a:stretch/>
        </p:blipFill>
        <p:spPr>
          <a:xfrm>
            <a:off x="208080" y="-357120"/>
            <a:ext cx="22762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extBox 1" descr=""/>
          <p:cNvPicPr/>
          <p:nvPr/>
        </p:nvPicPr>
        <p:blipFill>
          <a:blip r:embed="rId1"/>
          <a:stretch/>
        </p:blipFill>
        <p:spPr>
          <a:xfrm>
            <a:off x="146160" y="549360"/>
            <a:ext cx="8192880" cy="12366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351720" y="1916280"/>
            <a:ext cx="4335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§10 вопросы 1-5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68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70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7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4:34:27Z</dcterms:created>
  <dc:creator>MAMA</dc:creator>
  <dc:description/>
  <dc:language>en-US</dc:language>
  <cp:lastModifiedBy>Администратор безопасности</cp:lastModifiedBy>
  <dcterms:modified xsi:type="dcterms:W3CDTF">2020-08-28T07:19:29Z</dcterms:modified>
  <cp:revision>47</cp:revision>
  <dc:subject/>
  <dc:title>Вычитание натуральных чисел</dc:title>
</cp:coreProperties>
</file>