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514-4E20-4476-A622-71410EB2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48A-160C-49CC-BCEA-FC7614AA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773-3D6B-4D64-9529-84F0E3EE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273-8EB3-4F3D-A5BA-E3714C30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C69-5088-411D-A3C2-D1B15813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7DC-818A-4692-811E-2626D550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311-C7F8-4653-98EE-E01BAD6B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3B3-F084-48E9-ACCF-3028F920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7B0-AB96-4A0D-9254-ED77174D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6BE-B576-4FE8-A8EA-77ECE0EC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BEC-3AF7-4216-8195-5883F459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508-107B-4170-A581-CE35206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73DF-90F9-438D-82D3-D85C7083F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807552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57200" y="0"/>
            <a:ext cx="7570800" cy="299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5" descr="khvalynsky_national_park_3"/>
          <p:cNvPicPr/>
          <p:nvPr/>
        </p:nvPicPr>
        <p:blipFill>
          <a:blip r:embed="rId1"/>
          <a:stretch/>
        </p:blipFill>
        <p:spPr>
          <a:xfrm>
            <a:off x="2057400" y="2970360"/>
            <a:ext cx="518472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262080"/>
            <a:ext cx="77230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tambov-zoo.ru/alfaident/data/V/Vyhuhol/adFotoBig/Vyhuhol.jpg"/>
          <p:cNvPicPr/>
          <p:nvPr/>
        </p:nvPicPr>
        <p:blipFill>
          <a:blip r:embed="rId1"/>
          <a:stretch/>
        </p:blipFill>
        <p:spPr>
          <a:xfrm>
            <a:off x="63360" y="115920"/>
            <a:ext cx="8979120" cy="5986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627280" y="6237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ух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encrypted-tbn2.gstatic.com/images?q=tbn:ANd9GcSup6kAKPeNAmiWZ1awbNDPFK3j0r9DPq0tCxgnkvD-bQKKVvG1SA"/>
          <p:cNvPicPr/>
          <p:nvPr/>
        </p:nvPicPr>
        <p:blipFill>
          <a:blip r:embed="rId1"/>
          <a:stretch/>
        </p:blipFill>
        <p:spPr>
          <a:xfrm>
            <a:off x="3203640" y="4508640"/>
            <a:ext cx="3354480" cy="2233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3564000" y="250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49640" cy="270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://bobak.ru/wp-content/uploads/HLIC/72d0e92ba2cc162683c7ea3254ab94a7.jpg"/>
          <p:cNvPicPr/>
          <p:nvPr/>
        </p:nvPicPr>
        <p:blipFill>
          <a:blip r:embed="rId3"/>
          <a:stretch/>
        </p:blipFill>
        <p:spPr>
          <a:xfrm>
            <a:off x="179280" y="1033560"/>
            <a:ext cx="424512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iv-flowers.com/pics/baloban-2.jpg"/>
          <p:cNvPicPr/>
          <p:nvPr/>
        </p:nvPicPr>
        <p:blipFill>
          <a:blip r:embed="rId1"/>
          <a:stretch/>
        </p:blipFill>
        <p:spPr>
          <a:xfrm>
            <a:off x="0" y="1062000"/>
            <a:ext cx="4124160" cy="3097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158760" y="3492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ол бало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animalbox.ru/wp-content/uploads/2011/02/orlan.jpg"/>
          <p:cNvPicPr/>
          <p:nvPr/>
        </p:nvPicPr>
        <p:blipFill>
          <a:blip r:embed="rId2"/>
          <a:stretch/>
        </p:blipFill>
        <p:spPr>
          <a:xfrm>
            <a:off x="4284720" y="3716280"/>
            <a:ext cx="4751280" cy="3025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5292720" y="3141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х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beatlename.ru/kartinki/zhuki/zhuk-olen/zhuk-olen01.jpg"/>
          <p:cNvPicPr/>
          <p:nvPr/>
        </p:nvPicPr>
        <p:blipFill>
          <a:blip r:embed="rId1"/>
          <a:stretch/>
        </p:blipFill>
        <p:spPr>
          <a:xfrm>
            <a:off x="179280" y="1596960"/>
            <a:ext cx="5218200" cy="2397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763640" y="549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beatlename.ru/kartinki/zhuki/zhuk-nosorog/zhuk-nosorog01.jpg"/>
          <p:cNvPicPr/>
          <p:nvPr/>
        </p:nvPicPr>
        <p:blipFill>
          <a:blip r:embed="rId2"/>
          <a:stretch/>
        </p:blipFill>
        <p:spPr>
          <a:xfrm>
            <a:off x="3132000" y="4071960"/>
            <a:ext cx="5851800" cy="2689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6314040" y="299736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к - нос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щера мон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876753105"/>
          <p:cNvPicPr/>
          <p:nvPr/>
        </p:nvPicPr>
        <p:blipFill>
          <a:blip r:embed="rId1"/>
          <a:stretch/>
        </p:blipFill>
        <p:spPr>
          <a:xfrm>
            <a:off x="108000" y="1362240"/>
            <a:ext cx="4051080" cy="54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39341"/>
          <p:cNvPicPr/>
          <p:nvPr/>
        </p:nvPicPr>
        <p:blipFill>
          <a:blip r:embed="rId2"/>
          <a:stretch/>
        </p:blipFill>
        <p:spPr>
          <a:xfrm>
            <a:off x="4788000" y="306864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льерное хозяйство «Тере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4fcc5dde8540aa65a4cab87f78c2969a"/>
          <p:cNvPicPr/>
          <p:nvPr/>
        </p:nvPicPr>
        <p:blipFill>
          <a:blip r:embed="rId1"/>
          <a:stretch/>
        </p:blipFill>
        <p:spPr>
          <a:xfrm>
            <a:off x="880920" y="184464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903240" y="5205240"/>
            <a:ext cx="31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нистый 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365059491_1453345081"/>
          <p:cNvPicPr/>
          <p:nvPr/>
        </p:nvPicPr>
        <p:blipFill>
          <a:blip r:embed="rId2"/>
          <a:stretch/>
        </p:blipFill>
        <p:spPr>
          <a:xfrm>
            <a:off x="5334120" y="1446120"/>
            <a:ext cx="3558960" cy="4151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372360" y="61261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льерное хозяйство «Тере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63400367"/>
          <p:cNvPicPr/>
          <p:nvPr/>
        </p:nvPicPr>
        <p:blipFill>
          <a:blip r:embed="rId1"/>
          <a:stretch/>
        </p:blipFill>
        <p:spPr>
          <a:xfrm>
            <a:off x="250920" y="1957320"/>
            <a:ext cx="4176720" cy="3200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 flipV="1" rot="10800000">
            <a:off x="539640" y="5742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839323"/>
          <p:cNvPicPr/>
          <p:nvPr/>
        </p:nvPicPr>
        <p:blipFill>
          <a:blip r:embed="rId2"/>
          <a:stretch/>
        </p:blipFill>
        <p:spPr>
          <a:xfrm>
            <a:off x="5221440" y="144144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4932360" y="63374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льерное хозяйство «Тере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79445676"/>
          <p:cNvPicPr/>
          <p:nvPr/>
        </p:nvPicPr>
        <p:blipFill>
          <a:blip r:embed="rId1"/>
          <a:stretch/>
        </p:blipFill>
        <p:spPr>
          <a:xfrm>
            <a:off x="179280" y="1542960"/>
            <a:ext cx="39942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61128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84777619"/>
          <p:cNvPicPr/>
          <p:nvPr/>
        </p:nvPicPr>
        <p:blipFill>
          <a:blip r:embed="rId2"/>
          <a:stretch/>
        </p:blipFill>
        <p:spPr>
          <a:xfrm>
            <a:off x="4589640" y="3429000"/>
            <a:ext cx="4466880" cy="33512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5659560" y="25653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с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льерное хозяйство «Тере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02"/>
          <p:cNvPicPr/>
          <p:nvPr/>
        </p:nvPicPr>
        <p:blipFill>
          <a:blip r:embed="rId1"/>
          <a:stretch/>
        </p:blipFill>
        <p:spPr>
          <a:xfrm>
            <a:off x="5219640" y="21337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15972242"/>
          <p:cNvPicPr/>
          <p:nvPr/>
        </p:nvPicPr>
        <p:blipFill>
          <a:blip r:embed="rId2"/>
          <a:stretch/>
        </p:blipFill>
        <p:spPr>
          <a:xfrm>
            <a:off x="324000" y="1557360"/>
            <a:ext cx="4751280" cy="356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2163600" y="575928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ёл-моги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аратовская Швейц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053"/>
          <p:cNvPicPr/>
          <p:nvPr/>
        </p:nvPicPr>
        <p:blipFill>
          <a:blip r:embed="rId1"/>
          <a:stretch/>
        </p:blipFill>
        <p:spPr>
          <a:xfrm>
            <a:off x="1979640" y="1197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763640" y="566100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2005 года на высоте 379 метров над уровнем моря действует горнолыжный курорт с красочными зимними пейзажами и чистым воздух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циональный Хвалынский пар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19 апреля 1994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2204640"/>
            <a:ext cx="777744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39345"/>
          <p:cNvPicPr/>
          <p:nvPr/>
        </p:nvPicPr>
        <p:blipFill>
          <a:blip r:embed="rId1"/>
          <a:stretch/>
        </p:blipFill>
        <p:spPr>
          <a:xfrm>
            <a:off x="2050920" y="2421000"/>
            <a:ext cx="514368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гора Белень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khvalynsky_national_park_1"/>
          <p:cNvPicPr/>
          <p:nvPr/>
        </p:nvPicPr>
        <p:blipFill>
          <a:blip r:embed="rId1"/>
          <a:stretch/>
        </p:blipFill>
        <p:spPr>
          <a:xfrm>
            <a:off x="457200" y="1417680"/>
            <a:ext cx="4114800" cy="244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Хвалынский национальный парк"/>
          <p:cNvPicPr/>
          <p:nvPr/>
        </p:nvPicPr>
        <p:blipFill>
          <a:blip r:embed="rId2"/>
          <a:stretch/>
        </p:blipFill>
        <p:spPr>
          <a:xfrm>
            <a:off x="4572000" y="3843360"/>
            <a:ext cx="4379760" cy="2857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5435640" y="1949400"/>
            <a:ext cx="33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ловые г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Хвалынские родники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300 ро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Хвалынский национальный парк - Хвалынск Россия - Приволжье - "/>
          <p:cNvPicPr/>
          <p:nvPr/>
        </p:nvPicPr>
        <p:blipFill>
          <a:blip r:embed="rId1"/>
          <a:stretch/>
        </p:blipFill>
        <p:spPr>
          <a:xfrm>
            <a:off x="95400" y="1989000"/>
            <a:ext cx="4198680" cy="315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rodnik Blagodatnyy"/>
          <p:cNvPicPr/>
          <p:nvPr/>
        </p:nvPicPr>
        <p:blipFill>
          <a:blip r:embed="rId2"/>
          <a:stretch/>
        </p:blipFill>
        <p:spPr>
          <a:xfrm>
            <a:off x="4572000" y="3402000"/>
            <a:ext cx="4394160" cy="32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340000" y="1890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стения па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sad-sevzap.ru/sites/default/files/images/Katalog/Kustarniki/Dafna/Thumbs/46_S_46_S_Daphna_01091.jpg"/>
          <p:cNvPicPr/>
          <p:nvPr/>
        </p:nvPicPr>
        <p:blipFill>
          <a:blip r:embed="rId1"/>
          <a:stretch/>
        </p:blipFill>
        <p:spPr>
          <a:xfrm>
            <a:off x="533520" y="1413000"/>
            <a:ext cx="3612960" cy="3714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724360" y="1197000"/>
            <a:ext cx="283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чник смер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honeylake.ru/images/stories/822-1.jpg"/>
          <p:cNvPicPr/>
          <p:nvPr/>
        </p:nvPicPr>
        <p:blipFill>
          <a:blip r:embed="rId2"/>
          <a:stretch/>
        </p:blipFill>
        <p:spPr>
          <a:xfrm>
            <a:off x="5580000" y="3121200"/>
            <a:ext cx="3514680" cy="269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yzdorov.ru/images/Travi/voronec.JPG"/>
          <p:cNvPicPr/>
          <p:nvPr/>
        </p:nvPicPr>
        <p:blipFill>
          <a:blip r:embed="rId1"/>
          <a:stretch/>
        </p:blipFill>
        <p:spPr>
          <a:xfrm>
            <a:off x="179280" y="404640"/>
            <a:ext cx="4873680" cy="3651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187280" y="43243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http://www.ayzdorov.ru/images/Travi/gryshanka-kryglolistnaya.jpg"/>
          <p:cNvPicPr/>
          <p:nvPr/>
        </p:nvPicPr>
        <p:blipFill>
          <a:blip r:embed="rId2"/>
          <a:stretch/>
        </p:blipFill>
        <p:spPr>
          <a:xfrm>
            <a:off x="4211640" y="2536920"/>
            <a:ext cx="4826160" cy="3628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626080" y="6165720"/>
            <a:ext cx="23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ша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http://sovch.chuvashia.com/wp-content/uploads/_grotefoto-gzxpelgq.jpg"/>
          <p:cNvPicPr/>
          <p:nvPr/>
        </p:nvPicPr>
        <p:blipFill>
          <a:blip r:embed="rId1"/>
          <a:stretch/>
        </p:blipFill>
        <p:spPr>
          <a:xfrm>
            <a:off x="108000" y="1268280"/>
            <a:ext cx="6794280" cy="509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www.inf-red.ru/plants/len_jeltiy3.jpg"/>
          <p:cNvPicPr/>
          <p:nvPr/>
        </p:nvPicPr>
        <p:blipFill>
          <a:blip r:embed="rId2"/>
          <a:stretch/>
        </p:blipFill>
        <p:spPr>
          <a:xfrm>
            <a:off x="6862680" y="1341360"/>
            <a:ext cx="2281320" cy="4768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3203640" y="333360"/>
            <a:ext cx="28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ён жёл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kkso.volsk-sch4.edusite.ru/images/p18_kosulya2.jpeg"/>
          <p:cNvPicPr/>
          <p:nvPr/>
        </p:nvPicPr>
        <p:blipFill>
          <a:blip r:embed="rId1"/>
          <a:stretch/>
        </p:blipFill>
        <p:spPr>
          <a:xfrm>
            <a:off x="971640" y="89676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708360" y="6307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у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218680" y="189000"/>
            <a:ext cx="44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вотные па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rgp-journal.ru/logo/Bober.jpg"/>
          <p:cNvPicPr/>
          <p:nvPr/>
        </p:nvPicPr>
        <p:blipFill>
          <a:blip r:embed="rId1"/>
          <a:stretch/>
        </p:blipFill>
        <p:spPr>
          <a:xfrm>
            <a:off x="1440" y="333360"/>
            <a:ext cx="6223320" cy="277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animals-wild.ru/uploads/1397230452_glod94.jpg"/>
          <p:cNvPicPr/>
          <p:nvPr/>
        </p:nvPicPr>
        <p:blipFill>
          <a:blip r:embed="rId2"/>
          <a:stretch/>
        </p:blipFill>
        <p:spPr>
          <a:xfrm>
            <a:off x="4587840" y="3274920"/>
            <a:ext cx="4556160" cy="319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3.bp.blogspot.com/-X16EmGnV2ps/VEZQHhtMAQI/AAAAAAAAMIU/WNQTOyVzVDM/s1600/xfge5yur6krewe.jpg"/>
          <p:cNvPicPr/>
          <p:nvPr/>
        </p:nvPicPr>
        <p:blipFill>
          <a:blip r:embed="rId3"/>
          <a:stretch/>
        </p:blipFill>
        <p:spPr>
          <a:xfrm>
            <a:off x="0" y="3284640"/>
            <a:ext cx="4444920" cy="3192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5940360" y="1062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р ре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6:03:37Z</dcterms:created>
  <dc:creator>1</dc:creator>
  <dc:description/>
  <dc:language>en-US</dc:language>
  <cp:lastModifiedBy>COMP</cp:lastModifiedBy>
  <dcterms:modified xsi:type="dcterms:W3CDTF">2020-08-28T19:38:40Z</dcterms:modified>
  <cp:revision>20</cp:revision>
  <dc:subject/>
  <dc:title>Национальный Хвалынский парк</dc:title>
</cp:coreProperties>
</file>