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559-739D-4F37-88D8-69DFC480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81C-C485-42AF-87D6-8BCA3EC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CEA-754A-4F4A-870F-F54442B3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783-6BCB-415B-ADD3-FC278E35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788-A839-4617-96F8-D4E3600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672C-C35B-4BA8-BD17-8987337A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993-A9D4-4B20-8EE3-E8AB9226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F85-8E41-41AE-AFAE-440130A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BFAD-A8BB-420E-9C38-0D7B200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FC7-DBD0-446F-9647-82C4EE74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92A-A23B-4041-89F2-970B0B5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EC4-6010-4455-A479-E8438C51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5A7-B4CC-4793-A4CF-415DDB5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6C54-B653-4D1D-84A3-FE3AAD6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2181-90CA-4A3B-A7FF-E4857CD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3DA-9E22-4B32-81CB-49AB1C62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6556-0666-4152-A9F6-E5F4DEA0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439-A759-4AB9-BB4D-E4DC6FB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4FA-7CF7-4485-9AF2-65EB58A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DA9-E5A7-4645-9E81-EE22F1B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FB5-B563-4A19-8196-C6A791F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FE1-CAB7-4352-AE93-6DE834F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AB1-CBB8-4FEA-8637-3CF4B65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74E-F11E-4E84-80EC-D637642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37B9-439A-43E6-B25F-C818D5AC0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946-276B-440E-85EC-6051A74CE3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лассный час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«Моя малая родин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619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рта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247500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ец и мать, у которых рождаются дети. (слайд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, член р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и Отечество, страна, и место рождения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ция, жители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ОСЛОВ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еречень поколений одного рода. Люди гордятся своей родословной, изучают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а «Составь пословицу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дина – мать,      Родине служ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ть- ,          умей за неё посто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ловек без Родины,        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де кто родится,              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дина – мать, умей за неё посто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ть- Родине служить.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де кто родится,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124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когда мы говорим о нашем государстве, о нашей большой стране под названием Росс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когда мы говорим о нашем селе, где мы родились и жив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«Знаю ли я свою малую Родину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выберите один или несколько отве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Знаете ли Вы историю жизни Ваших родственников (Ф.И.О., род деятельности, место жительства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 и бабушках-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о своих родителях, бабушках-дедушках, прабабушках-пра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Владею информацией частич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Являетесь ли Вы коренным жителем своего села (3 и более поколения Вашей семьи проживали в этом селе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Знаете ли Вы знаменитых земля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Не зна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Знаю (укажите)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Знаете ли Вы историю своего края (области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Особенности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Традиции празд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Особенности местного костю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Легенды, сказки, пред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Другое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User</cp:lastModifiedBy>
  <dcterms:modified xsi:type="dcterms:W3CDTF">2012-10-27T16:02:08Z</dcterms:modified>
  <cp:revision>6</cp:revision>
  <dc:subject/>
  <dc:title>   Классный час   «Моя малая родина»</dc:title>
</cp:coreProperties>
</file>