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BB9E-F2AD-4CC1-8777-F66EBC1BA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55C8-B618-4F85-81C1-0FCE28ED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9DF4-4DF6-47A1-AA06-522AB9EF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7DAE-D7AE-40F2-90B4-2B1C18825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A3FC-F304-48C1-8D7D-72D3C9C13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DEB3-692D-47C9-90E0-D9BA0A2E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C18B-7C79-4421-8912-E25F81C8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AD67-14B5-4108-9C6E-E1441D19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CFCE-ECA3-44EC-A2DA-C4F79463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4AF1-1DD7-495F-ABA8-7D3BB891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B558-C24C-4A4A-BD01-48936CDB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7BCE-5DC1-4504-9007-1E471E7E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6D57-C7D5-4F4D-9432-2F19734C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8E8C-1D5F-4FDB-A2FF-B8EB1E09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747A-AF26-443A-B1C5-BC2B370A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F1F1-C5D9-40B4-AEE2-FB9158961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ACE4-699C-41FF-9625-336033EFD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196E-A4E2-42C4-941C-823F7932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E668-580D-4081-AA9E-195CCDA2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82FA-6470-4631-A5D4-C57E9441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5725-7794-4A84-9F6D-16629C95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D4B2-101C-4E01-9FD7-9516550C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DAF2-6876-4D18-A317-1A90F515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0712-336C-4AE6-818A-04370C4D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5CEE-250D-4907-82EE-8EE5A920C3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71A8-22B5-496E-A45F-68C97F74CB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Классный час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 «Моя малая родина»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68360" y="3357720"/>
            <a:ext cx="619128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арта Росс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93250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МОЯ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потому что здесь моя семья, мои друзья, мой дом, моя улица, моя школа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МАЛАЯ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потому что это маленькая частичка моей необъятной стран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РОДИН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потому что здесь живут родные моему сердцу люд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5640" y="-2475000"/>
            <a:ext cx="77929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РОДИТЕЛ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отец и мать, у которых рождаются дети. (слайд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РОДИЧ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родственник, член род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РОДН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родственни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РОДИН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это и Отечество, страна, и место рождения челове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НАРОД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нация, жители стран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РОДОСЛОВНА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перечень поколений одного рода. Люди гордятся своей родословной, изучают е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Игра «Составь пословицу»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одина – мать,      Родине служит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Жить- ,          умей за неё постоя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еловек без Родины,         там и пригодитс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Где кто родится,               что соловей без песн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одина – мать, умей за неё постоят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Жить- Родине служить.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еловек без Родины, что соловей без песн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Где кто родится, там и пригодитс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5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5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85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160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ahoma"/>
              </a:rPr>
              <a:t>«Родина»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ahoma"/>
              </a:rPr>
              <a:t>«родина»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50720" y="-31240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«Родина»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когда мы говорим о нашем государстве, о нашей большой стране под названием Росс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«родина»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 когда мы говорим о нашем селе, где мы родились и живе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7724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              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АНКЕТ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«Знаю ли я свою малую Родину?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Инструкция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выберите один или несколько ответов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Знаете ли Вы историю жизни Ваших родственников (Ф.И.О., род деятельности, место жительства)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 Знаю все о своих родителях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 Знаю все о своих родителях и бабушках-дедушках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 Знаю о своих родителях, бабушках-дедушках, прабабушках-прадедушках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 Затрудняюсь ответи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 Владею информацией частично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Являетесь ли Вы коренным жителем своего села (3 и более поколения Вашей семьи проживали в этом селе)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 Д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 Не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 Затрудняюсь ответи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Знаете ли Вы знаменитых земляков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 Не знаю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 Знаю (укажите)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.Знаете ли Вы историю своего края (области)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 Особенности реч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 Традиции праздник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 Особенности местного костюм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 Легенды, сказки, предан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 Другое 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0T18:44:04Z</dcterms:created>
  <dc:creator>User</dc:creator>
  <dc:description/>
  <dc:language>en-US</dc:language>
  <cp:lastModifiedBy>User</cp:lastModifiedBy>
  <dcterms:modified xsi:type="dcterms:W3CDTF">2012-10-27T16:02:08Z</dcterms:modified>
  <cp:revision>6</cp:revision>
  <dc:subject/>
  <dc:title>   Классный час   «Моя малая родина»</dc:title>
</cp:coreProperties>
</file>