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AE8D-CEBF-407B-A3B7-A3FCCB01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7CF9-AD1C-4202-A13D-A7ECA582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E032-C64E-4DA5-B969-2CF5BC17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6C2-7804-453E-8EAA-A3CC93C9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CE4F-2D93-49B3-97AF-31D2F538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8574-8CEC-4E9E-94AF-73D541F6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F07B-1932-4A81-9C16-2B7C7B06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22EA-CBD4-49ED-A593-1E189B00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D987-BF71-4513-B17B-0AF54A6E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1F23-FED6-4D2A-9BF6-FAA6DBBE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95A8-E918-43A0-9600-C29BAA0C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7B30-719E-4755-BAD2-58CC0003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7AD1-339E-4D8B-96B8-A448DBBE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5306-3F70-4804-AE49-400AB43E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C8B0-7129-4567-8998-8DE4EEF5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21BB-3050-4E90-8D11-6DEB7B0F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8252-519E-4BA3-B33C-77C8A13C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9AF27-7C2F-4112-B8A6-71B12C5F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5C803-0CF1-469A-AE2F-16046524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8ED58-CA5C-4AB0-BFF9-74BB4105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74E4E-9FB9-4A2F-9EDE-C9521B89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2AEE0-E218-42DF-8306-5488F85F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9D94-BFF0-4ABD-9BCC-9799FFDD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E5E03-751F-4D61-A06E-0884BC78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1C4FD-27CD-473A-B4E9-A846E0D8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473A4-0AB4-4E1F-B39B-5F5D349E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118F8-3B88-4647-82B3-30ADCAAB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9AE1A-61F6-4DDC-BFB1-B8FBB650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04CB0-EB14-4979-9F9B-10278F11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A8A4F-841B-45F9-941B-0B345715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8CB92-239A-4721-9646-C53EF6E4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42920-7F6B-4669-B989-6205B145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364A7-4378-4EDC-85FB-88F23E01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631-E974-46C3-A89C-5D611CD8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7B0BA-DE95-4E33-8DCD-617C5FCD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E2FE1-6C65-48D2-83F2-0053F561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1BE65-9003-49AA-B605-925BA7C9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D115F-35BD-41B4-A77B-27974768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DC1A5-4C14-4F1E-9F77-4D4EB186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0CAEE-1597-410B-B567-88150E09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D73B9-6D57-4C1D-B356-368B01FB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6BCEB-CA93-4D64-B5F1-9E35D891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420BD-2960-4092-BA59-AFC89F82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2258-5B56-4FE7-948C-E5B70C97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7C4E-314A-4949-9BA1-96B55D66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666D-5CDF-439F-90E9-57806FE8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508-37F8-4ADA-9069-879761A4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03B6-A3B5-494C-BEC4-0F8AE581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ffffcc">
                  <a:alpha val="50196"/>
                </a:srgbClr>
              </a:gs>
              <a:gs pos="100000">
                <a:srgbClr val="9d9d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26261f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3042-A86C-4F27-89A4-15D510092F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9d9d7d"/>
              </a:gs>
              <a:gs pos="50000">
                <a:srgbClr val="ffffcc">
                  <a:alpha val="50196"/>
                </a:srgbClr>
              </a:gs>
              <a:gs pos="100000">
                <a:srgbClr val="9d9d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26261f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DA05-34D4-4C1C-B0EA-7B586D16C9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90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A1F2-4B7C-4747-9CC6-5E79E936F9BE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0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63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93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2" name="PlaceHolder 3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F31F-2747-4905-9367-1808DA630F6B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392960" cy="341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 u="sng">
                <a:solidFill>
                  <a:srgbClr val="990000"/>
                </a:solidFill>
                <a:uFillTx/>
                <a:latin typeface="Times New Roman"/>
              </a:rPr>
              <a:t>Профессиональные компетентности педагога ДОУ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00120" y="39528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Arial"/>
              </a:rPr>
              <a:t>Подготовила</a:t>
            </a: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Arial"/>
              </a:rPr>
              <a:t>Рейттих Т. М.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Arial"/>
              </a:rPr>
              <a:t>воспитатель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50021"/>
                </a:solidFill>
                <a:uFillTx/>
                <a:latin typeface="Times New Roman"/>
              </a:rPr>
              <a:t>Регулятивная компетентность.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Уметь управлять своим поведением и деятельностью, контролировать свои эмоции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Уметь адекватно оценивать результаты собственного труда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Быть способным к саморегуляции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ладеть способностью к рефлексии, стрессоустойчивостью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ладеть приемами действий в нестандартных ситуациях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5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50021"/>
                </a:solidFill>
                <a:uFillTx/>
                <a:latin typeface="Times New Roman"/>
              </a:rPr>
              <a:t>Социальная компетентность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Уметь выстраивать и управлять взаимоотношениями с детьми дошкольного возраста, их родителями, коллегами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Уметь работать в команде педагогов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Уметь анализировать ситуацию, действовать в соответствии с общественной выгодой, владеть этикой трудовых и гражданских взаимоотношений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Владеть различными социальными ролями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50021"/>
                </a:solidFill>
                <a:uFillTx/>
                <a:latin typeface="Times New Roman"/>
              </a:rPr>
              <a:t>Пути развития профессиональной компетентности педагога:</a:t>
            </a:r>
            <a:br>
              <a:rPr sz="3600"/>
            </a:b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0066"/>
                </a:solidFill>
                <a:latin typeface="Arial"/>
              </a:rPr>
              <a:t>работа в методических объединениях и творческих группах</a:t>
            </a:r>
            <a:endParaRPr b="1" lang="en-US" sz="31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0066"/>
                </a:solidFill>
                <a:latin typeface="Arial"/>
              </a:rPr>
              <a:t>исследовательская, экспериментальная деятельность</a:t>
            </a:r>
            <a:endParaRPr b="1" lang="en-US" sz="31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0066"/>
                </a:solidFill>
                <a:latin typeface="Arial"/>
              </a:rPr>
              <a:t>инновационная деятельность, освоение новых педагогических технологий</a:t>
            </a:r>
            <a:endParaRPr b="1" lang="en-US" sz="31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0066"/>
                </a:solidFill>
                <a:latin typeface="Arial"/>
              </a:rPr>
              <a:t>различные формы педагогической поддержки</a:t>
            </a:r>
            <a:endParaRPr b="1" lang="en-US" sz="31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0066"/>
                </a:solidFill>
                <a:latin typeface="Arial"/>
              </a:rPr>
              <a:t>активное участие в педагогических конкурсах, мастер – классах и т. д.</a:t>
            </a:r>
            <a:endParaRPr b="1" lang="en-US" sz="31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0066"/>
                </a:solidFill>
                <a:latin typeface="Arial"/>
              </a:rPr>
              <a:t>обобщение собственного педагогического опыта</a:t>
            </a:r>
            <a:endParaRPr b="1" lang="en-US" sz="31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5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a50021"/>
                </a:solidFill>
                <a:uFillTx/>
                <a:latin typeface="Times New Roman"/>
              </a:rPr>
              <a:t>Педагог должен иметь условия и возможность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систематически проходить курсов повышения квалификации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изучать современную методическую, педагогическую литературу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посещение обучающие семинары, практикумы и т.д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участвовать в дискуссиях, обмениваться опытом с коллегами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участвовать в открытых просмотрах образовательной деятельности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изучать информационно-компьютерные технологии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участвовать в конкурсах профессионального мастерства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иметь доступ в Интернет для общения с коллегами и размещения своих педагогических разработок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осуществлять работу по самообразованию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5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5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5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0021"/>
                </a:solidFill>
                <a:latin typeface="Times New Roman"/>
              </a:rPr>
              <a:t>Коллеги, </a:t>
            </a:r>
            <a:br>
              <a:rPr sz="8000"/>
            </a:br>
            <a:r>
              <a:rPr b="0" lang="en-US" sz="8000" spc="-1" strike="noStrike">
                <a:solidFill>
                  <a:srgbClr val="a50021"/>
                </a:solidFill>
                <a:latin typeface="Times New Roman"/>
              </a:rPr>
              <a:t>спасибо за внимание </a:t>
            </a:r>
            <a:br>
              <a:rPr sz="8000"/>
            </a:br>
            <a:r>
              <a:rPr b="0" lang="en-US" sz="8000" spc="-1" strike="noStrike">
                <a:solidFill>
                  <a:srgbClr val="a50021"/>
                </a:solidFill>
                <a:latin typeface="Times New Roman"/>
              </a:rPr>
              <a:t>и </a:t>
            </a:r>
            <a:br>
              <a:rPr sz="8000"/>
            </a:br>
            <a:r>
              <a:rPr b="0" lang="en-US" sz="8000" spc="-1" strike="noStrike">
                <a:solidFill>
                  <a:srgbClr val="a50021"/>
                </a:solidFill>
                <a:latin typeface="Times New Roman"/>
              </a:rPr>
              <a:t>удачного дня!!!</a:t>
            </a:r>
            <a:endParaRPr b="0" lang="en-US" sz="8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 u="sng">
                <a:solidFill>
                  <a:srgbClr val="a50021"/>
                </a:solidFill>
                <a:uFillTx/>
                <a:latin typeface="Times New Roman"/>
              </a:rPr>
              <a:t>Компетенция -</a:t>
            </a:r>
            <a:r>
              <a:rPr b="0" i="1" lang="en-US" sz="7200" spc="-1" strike="noStrike" u="sng">
                <a:solidFill>
                  <a:srgbClr val="a50021"/>
                </a:solidFill>
                <a:uFillTx/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imes New Roman"/>
              </a:rPr>
              <a:t>способность применять знания, умения и опыт в трудовой деятельности.</a:t>
            </a:r>
            <a:r>
              <a:rPr b="0" lang="en-US" sz="16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3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200"/>
                            </p:stCondLst>
                            <p:childTnLst>
                              <p:par>
                                <p:cTn id="35" nodeType="after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36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50021"/>
                </a:solidFill>
                <a:uFillTx/>
                <a:latin typeface="Times New Roman"/>
              </a:rPr>
              <a:t>Компетенция в ведении образовательного процесса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Знать специфику ДО и особенности организации образовательной работы с детьми раннего и дошкольного возраста.</a:t>
            </a:r>
            <a:endParaRPr b="1" lang="en-US" sz="17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Знать общие закономерности развития ребенка; особенности становления и развития детских деятельностей в раннем и дошкольном возрасте.</a:t>
            </a:r>
            <a:endParaRPr b="1" lang="en-US" sz="17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Уметь проектировать, планировать и осуществлять целостный педагогический процесс.</a:t>
            </a:r>
            <a:endParaRPr b="1" lang="en-US" sz="17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Знать образовательные и парциальные программы.</a:t>
            </a:r>
            <a:endParaRPr b="1" lang="en-US" sz="17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Уметь проектировать педагогическую деятельность на основе анализа достигнутых результатов.</a:t>
            </a:r>
            <a:endParaRPr b="1" lang="en-US" sz="17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Уметь организовывать ведущие виды деятельности. Организовывать совместную и самостоятельную деятельность дошкольников.</a:t>
            </a:r>
            <a:endParaRPr b="1" lang="en-US" sz="17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Уметь планировать, реализовывать и анализировать образовательную работу с детьми в соответствии с ФГОС ДО.</a:t>
            </a:r>
            <a:endParaRPr b="1" lang="en-US" sz="17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Знать цели, задачи, содержание, принципы, формы, методы и средства обучения и воспитания дошкольников.</a:t>
            </a:r>
            <a:endParaRPr b="1" lang="en-US" sz="17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Уметь планировать и корректировать образовательные задачи (совместно с психологом и другими специалистами) по результатам мониторинга, с учетом индивидуальных особенностей развития каждого ребенка. </a:t>
            </a:r>
            <a:endParaRPr b="1" lang="en-US" sz="17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Реализовывать педагогические рекомендации специалистов (психолога, логопеда, дефектолога и др.) в работе с детьми, испытывающими трудности в освоении программы, или детьми с особыми образовательными потребностями.</a:t>
            </a:r>
            <a:endParaRPr b="1" lang="en-US" sz="17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Владеть ИКТ - компетенциями.</a:t>
            </a:r>
            <a:endParaRPr b="1" lang="en-US" sz="17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a50021"/>
                </a:solidFill>
                <a:uFillTx/>
                <a:latin typeface="Times New Roman"/>
              </a:rPr>
              <a:t>Компетентность в организации воспитательно - образовательной работе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Уметь организовывать взаимодействие детей в процессе разных видов деятельности, признавая за детьми права выбора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Уметь моделировать отношения между воспитанниками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Проявлять уважение к мыслям и суждениям каждого ребенка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Владеть ИКТ-компетенциями, необходимыми и достаточными для планирования, реализации и оценки образовательной работы с детьми раннего и дошкольного возраста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Уметь при помощи информационных технологий самостоятельно искать, анализировать и отбирать необходимую информацию, а также организовывать, преобразовывать, сохранять и передавать ее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a50021"/>
                </a:solidFill>
                <a:uFillTx/>
                <a:latin typeface="Times New Roman"/>
              </a:rPr>
              <a:t>Компетентность в создании предметно-пространственной среды и организации здоровьесберегающих условий образовательного процесса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Участвовать в создании психологически комфортной и безопасной образовательной среды, обеспечивая безопасность жизни детей, сохранение и укрепление их здоровья, поддерживая эмоциональное благополучие ребенка в период пребывания в образовательной организации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50021"/>
                </a:solidFill>
                <a:uFillTx/>
                <a:latin typeface="Times New Roman"/>
              </a:rPr>
              <a:t>Компетентность в выстраивании индивидуального образовательного маршрута воспитанников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Владеть технологиями исследования, методами и средствами анализа педагогического мониторинга, позволяющего оценить результаты освоения детьми образовательных программ, степень сформированности у них необходимых интегративных качеств.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Уметь организовывать собственную педагогическую деятельность, ориентированную на индивидуальные особенности ребенка. Определять индивидуальные цели на краткосрочную и долгосрочную перспективу.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50021"/>
                </a:solidFill>
                <a:uFillTx/>
                <a:latin typeface="Times New Roman"/>
              </a:rPr>
              <a:t>Компетентность в установлении контактов с родителями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Знать основные документы о правах ребенка и обязанностях взрослых по отношению к детям.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Владеть методами и средствами педагогического просвещения родителей (законных представителей), уметь выстраивать партнерское взаимодействие с ними для решения образовательных задач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50021"/>
                </a:solidFill>
                <a:uFillTx/>
                <a:latin typeface="Times New Roman"/>
              </a:rPr>
              <a:t>Компетентность профессионально-личностного совершенствования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Быть способным к постоянному профессиональному совершенствованию. существлять непрерывное обновление собственных знаний и умений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Владеть механизмами целеполагания, планирования, анализа, рефлексии, самооценки успешности собственной деятельности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Уметь выбирать необходимые направления и формы деятельности для профессионального роста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50021"/>
                </a:solidFill>
                <a:uFillTx/>
                <a:latin typeface="Times New Roman"/>
              </a:rPr>
              <a:t>Коммуникативная компетентность.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Владеть приемами общения, позволяющие осуществлять результативное взаимодействие </a:t>
            </a: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«</a:t>
            </a: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ребенок – воспитатель – родитель</a:t>
            </a: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»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Уметь сохранять эмоциональное равновесие, предотвращать и разрешать конфликты конструктивным способом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Владение грамотностью устной и письменной речи, ораторским искусством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Уметь публично представлять результаты своей работы, отбирать оптимальные методы и формы самопрезентации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Уметь выработать тактику, технику и стратегию активного взаимодействия с людьми, организовывать их совместную деятельность для того, чтобы достичь значимых целей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Уметь объективно оценивать ситуацию, обосновывать результат эффективности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3T13:22:43Z</dcterms:created>
  <dc:creator>Рейттих</dc:creator>
  <dc:description/>
  <dc:language>en-US</dc:language>
  <cp:lastModifiedBy>Рейттих</cp:lastModifiedBy>
  <dcterms:modified xsi:type="dcterms:W3CDTF">2019-02-24T09:42:09Z</dcterms:modified>
  <cp:revision>13</cp:revision>
  <dc:subject/>
  <dc:title>Компетенция -  </dc:title>
</cp:coreProperties>
</file>