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B69-F7AB-4FD5-B84F-1EA413C5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56F-7122-4910-8682-9379D84A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FA5-DD46-4475-A106-A9616F88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321-8676-4E42-BD7F-DB4ECABF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A2BF-5753-4319-94EB-9BEC1462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F34C-53E2-4B8C-9E8C-61D17C81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5D20-2A56-4C70-8D35-34113C6D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02F0-F09E-4E88-922B-92523576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4192-797E-40F1-9981-3503EA0C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C65B-B190-4672-88C7-62410D06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2AE8-0F42-4A8F-A648-B6780D14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7A5-0620-496E-943F-FDF63655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7288-8CC7-4E6E-98CB-880D9A54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8338-35F6-4EE9-AE23-C453DC58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8DAF-4AFF-4D0A-9FA1-D11F497C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7664-9EC2-4C47-95AF-1A23ECE6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C959-2479-4490-AAAF-AD9260B4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964C8-0695-4E60-98B3-2BBD9DBF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759B-AC04-4B48-8694-C3C3F741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DAD3-637A-48F7-BC52-11836431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48E26-B76B-4BA5-8E88-3E56D62D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344E-8FBE-456A-8BB7-5C14A1D5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B81-1E62-47D3-9E63-8E5600B0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C2F4-4FEB-44CE-A6D6-08DED757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C7769-306E-456D-BCB1-6942F7C9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BF401-2FFE-4769-A357-272833C8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F0962-4912-4B46-B51B-33F42CA4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8E11-6FA9-4C5D-BBE5-4AA8F56D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9FCF8-B27C-4184-AA71-486D1ADC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CF08B-FF16-4085-99D4-28992AF0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59F6C-63EB-4356-AD7D-6AF2CEA8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D309-7CAD-4336-BC6F-B7BF86C7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F91FA-B94D-4C74-AB23-107BA0AE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79A-2E8F-4374-B47E-3A3B76FA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AF206-6CF4-4B79-914C-04AA02ED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A44A3-4D99-4D35-9142-DB998BB3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A1B99-1032-4AD5-8F0D-79F7D6E1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91F18-F903-46DC-A2EB-6AA5D2A7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9A683-A1BC-41DE-9751-947E0716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73939-3C1E-4EBA-8085-61A418AA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FB3C2-63F0-41BD-A5A9-A78AFC9A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E4A39-19EF-47DD-BA98-B2355FEE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16246-98F8-4212-80FD-FFC2C9B9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88A-9949-46A7-A60C-C55605E4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49C-E73D-4DDF-8029-522AA4EA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B112-20E6-4439-9B37-2B2A4AC4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BDE-F3C8-40C5-867A-C18E6F2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646-0110-42D4-AFE7-6AB87CC3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fffcc">
                  <a:alpha val="50196"/>
                </a:srgbClr>
              </a:gs>
              <a:gs pos="100000">
                <a:srgbClr val="9d9d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26261f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7B1B-2D77-47BA-B6DD-AA0701CAD1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9d9d7d"/>
              </a:gs>
              <a:gs pos="50000">
                <a:srgbClr val="ffffcc">
                  <a:alpha val="50196"/>
                </a:srgbClr>
              </a:gs>
              <a:gs pos="100000">
                <a:srgbClr val="9d9d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26261f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CE54-839B-443E-9546-7FB17EC5FC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90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63A4-C1BA-4350-B5CB-D5AE122A3EA9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63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93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66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2" name="PlaceHolder 3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4727-49E4-4E69-8FC5-C721BC359828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39296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 u="sng">
                <a:solidFill>
                  <a:srgbClr val="990000"/>
                </a:solidFill>
                <a:uFillTx/>
                <a:latin typeface="Times New Roman"/>
              </a:rPr>
              <a:t>Профессиональные компетентности педагога ДОУ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00120" y="39528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Arial"/>
              </a:rPr>
              <a:t>Подготовила</a:t>
            </a: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Arial"/>
              </a:rPr>
              <a:t>Рейттих Т. М.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Arial"/>
              </a:rPr>
              <a:t>воспитател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Регулятивная компетентность.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меть управлять своим поведением и деятельностью, контролировать свои эмоции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меть адекватно оценивать результаты собственного труда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Быть способным к саморегуляции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ладеть способностью к рефлексии, стрессоустойчивостью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ладеть приемами действий в нестандартных ситуациях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Социальная компетентность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Уметь выстраивать и управлять взаимоотношениями с детьми дошкольного возраста, их родителями, коллегами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Уметь работать в команде педагогов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Уметь анализировать ситуацию, действовать в соответствии с общественной выгодой, владеть этикой трудовых и гражданских взаимоотношений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Владеть различными социальными ролями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Пути развития профессиональной компетентности педагога:</a:t>
            </a:r>
            <a:br>
              <a:rPr sz="3600"/>
            </a:b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0066"/>
                </a:solidFill>
                <a:latin typeface="Arial"/>
              </a:rPr>
              <a:t>работа в методических объединениях и творческих группах</a:t>
            </a:r>
            <a:endParaRPr b="1" lang="en-US" sz="31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0066"/>
                </a:solidFill>
                <a:latin typeface="Arial"/>
              </a:rPr>
              <a:t>исследовательская, экспериментальная деятельность</a:t>
            </a:r>
            <a:endParaRPr b="1" lang="en-US" sz="31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0066"/>
                </a:solidFill>
                <a:latin typeface="Arial"/>
              </a:rPr>
              <a:t>инновационная деятельность, освоение новых педагогических технологий</a:t>
            </a:r>
            <a:endParaRPr b="1" lang="en-US" sz="31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0066"/>
                </a:solidFill>
                <a:latin typeface="Arial"/>
              </a:rPr>
              <a:t>различные формы педагогической поддержки</a:t>
            </a:r>
            <a:endParaRPr b="1" lang="en-US" sz="31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0066"/>
                </a:solidFill>
                <a:latin typeface="Arial"/>
              </a:rPr>
              <a:t>активное участие в педагогических конкурсах, мастер – классах и т. д.</a:t>
            </a:r>
            <a:endParaRPr b="1" lang="en-US" sz="31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0066"/>
                </a:solidFill>
                <a:latin typeface="Arial"/>
              </a:rPr>
              <a:t>обобщение собственного педагогического опыта</a:t>
            </a:r>
            <a:endParaRPr b="1" lang="en-US" sz="31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5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Педагог должен иметь условия и возможность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систематически проходить курсов повышения квалификации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изучать современную методическую, педагогическую литературу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посещение обучающие семинары, практикумы и т.д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участвовать в дискуссиях, обмениваться опытом с коллегами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участвовать в открытых просмотрах образовательной деятельности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изучать информационно-компьютерные технологии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участвовать в конкурсах профессионального мастерства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иметь доступ в Интернет для общения с коллегами и размещения своих педагогических разработок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осуществлять работу по самообразованию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5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5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0021"/>
                </a:solidFill>
                <a:latin typeface="Times New Roman"/>
              </a:rPr>
              <a:t>Коллеги, </a:t>
            </a:r>
            <a:br>
              <a:rPr sz="8000"/>
            </a:br>
            <a:r>
              <a:rPr b="0" lang="en-US" sz="8000" spc="-1" strike="noStrike">
                <a:solidFill>
                  <a:srgbClr val="a50021"/>
                </a:solidFill>
                <a:latin typeface="Times New Roman"/>
              </a:rPr>
              <a:t>спасибо за внимание </a:t>
            </a:r>
            <a:br>
              <a:rPr sz="8000"/>
            </a:br>
            <a:r>
              <a:rPr b="0" lang="en-US" sz="8000" spc="-1" strike="noStrike">
                <a:solidFill>
                  <a:srgbClr val="a50021"/>
                </a:solidFill>
                <a:latin typeface="Times New Roman"/>
              </a:rPr>
              <a:t>и </a:t>
            </a:r>
            <a:br>
              <a:rPr sz="8000"/>
            </a:br>
            <a:r>
              <a:rPr b="0" lang="en-US" sz="8000" spc="-1" strike="noStrike">
                <a:solidFill>
                  <a:srgbClr val="a50021"/>
                </a:solidFill>
                <a:latin typeface="Times New Roman"/>
              </a:rPr>
              <a:t>удачного дня!!!</a:t>
            </a:r>
            <a:endParaRPr b="0" lang="en-US" sz="8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a50021"/>
                </a:solidFill>
                <a:uFillTx/>
                <a:latin typeface="Times New Roman"/>
              </a:rPr>
              <a:t>Компетенция -</a:t>
            </a:r>
            <a:r>
              <a:rPr b="0" i="1" lang="en-US" sz="7200" spc="-1" strike="noStrike" u="sng">
                <a:solidFill>
                  <a:srgbClr val="a50021"/>
                </a:solidFill>
                <a:uFillTx/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imes New Roman"/>
              </a:rPr>
              <a:t>способность применять знания, умения и опыт в трудовой деятельности.</a:t>
            </a:r>
            <a:r>
              <a:rPr b="0" lang="en-US" sz="16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200"/>
                            </p:stCondLst>
                            <p:childTnLst>
                              <p:par>
                                <p:cTn id="35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36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Компетенция в ведении образовательного процесса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Знать специфику ДО и особенности организации образовательной работы с детьми раннего и дошкольного возраста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Знать общие закономерности развития ребенка; особенности становления и развития детских деятельностей в раннем и дошкольном возрасте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Уметь проектировать, планировать и осуществлять целостный педагогический процесс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Знать образовательные и парциальные программы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Уметь проектировать педагогическую деятельность на основе анализа достигнутых результатов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Уметь организовывать ведущие виды деятельности. Организовывать совместную и самостоятельную деятельность дошкольников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Уметь планировать, реализовывать и анализировать образовательную работу с детьми в соответствии с ФГОС ДО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Знать цели, задачи, содержание, принципы, формы, методы и средства обучения и воспитания дошкольников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Уметь планировать и корректировать образовательные задачи (совместно с психологом и другими специалистами) по результатам мониторинга, с учетом индивидуальных особенностей развития каждого ребенка. 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Реализовывать педагогические рекомендации специалистов (психолога, логопеда, дефектолога и др.) в работе с детьми, испытывающими трудности в освоении программы, или детьми с особыми образовательными потребностями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0066"/>
                </a:solidFill>
                <a:latin typeface="Arial"/>
              </a:rPr>
              <a:t>Владеть ИКТ - компетенциями.</a:t>
            </a:r>
            <a:endParaRPr b="1" lang="en-US" sz="17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0021"/>
                </a:solidFill>
                <a:uFillTx/>
                <a:latin typeface="Times New Roman"/>
              </a:rPr>
              <a:t>Компетентность в организации воспитательно - образовательной работе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Уметь организовывать взаимодействие детей в процессе разных видов деятельности, признавая за детьми права выбора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Уметь моделировать отношения между воспитанниками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Проявлять уважение к мыслям и суждениям каждого ребенка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Владеть ИКТ-компетенциями, необходимыми и достаточными для планирования, реализации и оценки образовательной работы с детьми раннего и дошкольного возраста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Уметь при помощи информационных технологий самостоятельно искать, анализировать и отбирать необходимую информацию, а также организовывать, преобразовывать, сохранять и передавать ее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0021"/>
                </a:solidFill>
                <a:uFillTx/>
                <a:latin typeface="Times New Roman"/>
              </a:rPr>
              <a:t>Компетентность в создании предметно-пространственной среды и организации здоровьесберегающих условий образовательного процесса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Участвовать в создании психологически комфортной и безопасной образовательной среды, обеспечивая безопасность жизни детей, сохранение и укрепление их здоровья, поддерживая эмоциональное благополучие ребенка в период пребывания в образовательной организации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Компетентность в выстраивании индивидуального образовательного маршрута воспитанников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ладеть технологиями исследования, методами и средствами анализа педагогического мониторинга, позволяющего оценить результаты освоения детьми образовательных программ, степень сформированности у них необходимых интегративных качеств.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меть организовывать собственную педагогическую деятельность, ориентированную на индивидуальные особенности ребенка. Определять индивидуальные цели на краткосрочную и долгосрочную перспективу.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Компетентность в установлении контактов с родителями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Знать основные документы о правах ребенка и обязанностях взрослых по отношению к детям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Владеть методами и средствами педагогического просвещения родителей (законных представителей), уметь выстраивать партнерское взаимодействие с ними для решения образовательных задач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Компетентность профессионально-личностного совершенствования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Быть способным к постоянному профессиональному совершенствованию. существлять непрерывное обновление собственных знаний и умений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Владеть механизмами целеполагания, планирования, анализа, рефлексии, самооценки успешности собственной деятельности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Уметь выбирать необходимые направления и формы деятельности для профессионального роста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0021"/>
                </a:solidFill>
                <a:uFillTx/>
                <a:latin typeface="Times New Roman"/>
              </a:rPr>
              <a:t>Коммуникативная компетентность.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Владеть приемами общения, позволяющие осуществлять результативное взаимодействие </a:t>
            </a: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ребенок – воспитатель – родитель</a:t>
            </a:r>
            <a:r>
              <a:rPr b="1" lang="en-US" sz="2500" spc="-1" strike="noStrike">
                <a:solidFill>
                  <a:srgbClr val="660066"/>
                </a:solidFill>
                <a:latin typeface="Arial"/>
              </a:rPr>
              <a:t>»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Уметь сохранять эмоциональное равновесие, предотвращать и разрешать конфликты конструктивным способом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Владение грамотностью устной и письменной речи, ораторским искусством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Уметь публично представлять результаты своей работы, отбирать оптимальные методы и формы самопрезентации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Уметь выработать тактику, технику и стратегию активного взаимодействия с людьми, организовывать их совместную деятельность для того, чтобы достичь значимых целей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"/>
              </a:rPr>
              <a:t>Уметь объективно оценивать ситуацию, обосновывать результат эффективности.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3T13:22:43Z</dcterms:created>
  <dc:creator>Рейттих</dc:creator>
  <dc:description/>
  <dc:language>en-US</dc:language>
  <cp:lastModifiedBy>Рейттих</cp:lastModifiedBy>
  <dcterms:modified xsi:type="dcterms:W3CDTF">2019-02-24T09:42:09Z</dcterms:modified>
  <cp:revision>13</cp:revision>
  <dc:subject/>
  <dc:title>Компетенция -  </dc:title>
</cp:coreProperties>
</file>