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50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4.png" ContentType="image/png"/>
  <Override PartName="/ppt/media/image52.jpeg" ContentType="image/jpeg"/>
  <Override PartName="/ppt/media/image39.jpeg" ContentType="image/jpeg"/>
  <Override PartName="/ppt/media/image8.png" ContentType="image/png"/>
  <Override PartName="/ppt/media/image31.jpeg" ContentType="image/jpeg"/>
  <Override PartName="/ppt/media/image48.jpeg" ContentType="image/jpeg"/>
  <Override PartName="/ppt/media/image53.jpeg" ContentType="image/jpeg"/>
  <Override PartName="/ppt/media/image37.jpeg" ContentType="image/jpeg"/>
  <Override PartName="/ppt/media/image30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DEE-5074-49C0-8DD5-90F2E254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3D0-FA74-4FA1-9270-5E123EC4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C64F0-608C-4EEE-B2D7-2272058A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C33C8-3420-4C58-BAB0-ADD2BF41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2F8A3-B4BA-4895-9946-6B0297D5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25475-595D-42A7-A9AA-715164CD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E5B54-E1BD-4BB5-968C-9764BB40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CDE17-90E3-4E31-B161-2AAAF201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34999-69F5-43BE-A2D5-0768FCF7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56656-A915-42AA-8B06-E5C45022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861B3-C4CE-46A4-89D9-0CE247EC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CC4CB-31F2-454B-80FA-ED0FD7F4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633-2BBC-4F77-A6A6-5200D5A7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68EEB-FCF7-4066-A86A-DB5A85A9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528B3-7EB8-43E4-96CE-992A6DDA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6619A-B0D9-4B5E-88A7-C6610AEE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1B190-0CD5-4ADE-8A1A-7C2830EE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5CC0B-3D24-4211-9137-BDCB91D5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84D24-1326-4925-AD54-9F9B2E3D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E34F6-1C33-4ABE-B4C0-4C991583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52E75-F250-4080-B580-9C3CEFD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D10F9-E1F9-4962-90E0-A122AF05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35607-CC47-4157-94C2-1C1E6F8F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004-A781-4A69-8E6F-A265B3D6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5F84F-0DF1-46E8-BB3A-74AC2C14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F61BE-C49E-4493-8607-480EC487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276AC-3452-46AF-BBCD-4B5BB1FE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4BBB3-93C6-4C25-B208-5B3AE497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1906B-D9FA-421F-AB94-2F9744B5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8C50F-EC47-4971-9D8B-91E30CB1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6C6BA-2697-4D05-9D39-97EC859C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84161-3680-4FFD-9C85-9485E916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DFF50-9AD7-43AA-82E3-FC02ACC9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1F425-44F2-45C7-A74A-96925400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514A-508A-4450-87D2-2A0CAAFF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4097A-514D-47F1-B974-25A67812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3C5B8-71A7-4DF3-9F49-54B1EF79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3B67A-B8F4-4B54-B7C6-D9EE2EF0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4EBCD-4E0E-4402-A335-8E077E44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6BCCF-8FD8-4456-BB11-87B17F50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72715-2134-41E0-8F57-9CF6B1D8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1F547-E203-4170-9E0E-47FC429C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78325-8CDD-4A45-ADA8-4826B232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34C03-89D1-4A26-BDAB-3C2D7AB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DD543-2603-41B1-8D27-C76E362F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7742-F27F-40C1-8B52-9CBBE8D3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8A27B-570C-426C-A39D-47A5470D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BBEB3-43C1-491D-8129-EFB65FDA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F51E0-D750-4B38-A242-F78E5A9A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30FE0-B835-4A9E-BEB4-9B2155A6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BB549-74B5-4725-8407-73EBB463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0C6A-2965-4111-8DB5-26DAB8E6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E0DF-570A-45E3-83DF-E39F902C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259B-E408-4543-A091-915B766B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710D-94DD-4412-890B-6E9480CE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ACB0-2669-4999-A9EA-E3112320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886-3FE8-44EC-B777-B1744941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3784-7AF2-42E9-94B9-AC52D193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3F51-8D86-42B7-A30D-5B864E22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561D-7134-4408-B9A9-0C38606B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7E85-335D-40BD-B0A6-DE737F5A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E8CC-9376-4B36-B142-F2906705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3BF29-2A08-4BC9-9AF3-64DED364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C2DF-AACC-4F3A-B474-ED0A31B7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327C-0D25-4D8B-B6ED-20903813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AE0F0-2CA3-4C7C-8285-C94ABC5D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5C50-3300-4F58-9B2F-DA084929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FA1-D58B-40E5-8BB8-0033F530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6DF73-922D-4DBD-A3A5-535711B4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5DD7-FABF-4FCE-9906-8E5AA4E9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FFD2F-74C0-47C2-BFB5-DC15C091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7E4B-0D59-44A9-B3A7-E07D5FEC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53EDC-93D6-4DDB-ADCD-01523A8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55AA5-A233-48F3-B1A5-8C6772E8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2A0C-194E-41CD-9DCF-030344D9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D4EB-8C49-4E4F-B122-A77E0FF3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4C67C-3112-42EE-824C-D238C6E8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47EF7-5693-4F13-991B-730AB549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F56-DAAB-47D4-8228-4949A71C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A10F-9289-42E8-BE06-42088FA4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6092-58E0-4D96-8C9C-EE4480D2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0871D-E52A-4EFB-8A61-4BF90451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82F3-E21F-4344-A832-75CE2AC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2FA14-2232-44A9-A1DC-1E7F1720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6F778-0CEB-4C4A-8AD4-E3799E10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A632-8B2D-4A66-9E22-715E912F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EDB16-F8D8-403F-A925-00782580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0B69C-9BA3-4C50-9547-B6FBE873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C68D8-4CF6-4287-B09A-C8EC0A91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0EC-7D6A-4605-AFDF-C7DB22F0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8D938-B718-443D-9D24-75FA8A0B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66E00-63EC-44BA-9DBC-EACC070B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D186D-991B-4F71-80B0-AAE9DFEC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D28C-C6B7-434F-BAEE-B2C334C9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4C9C7-D2FF-45CD-9B32-1EE5E272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362EE-E998-43F5-B98A-F03C6F2A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030BA-548E-4D1C-BBE1-4538A3EA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B93E4-9CA2-4C9A-82E4-4B5566B0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3E081-1347-4EB5-98A7-4AAF8211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0838E-2696-4F1A-9FB3-43BD47DB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77C-0516-4A72-9CE9-586C2147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10BB3-69C6-4F60-B6B4-E109A49C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6D96B-F6F9-4F03-9651-3254E873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441AE-17E8-42D3-B397-F979A08B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378F8-8A3C-4767-9739-4A1803C9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A5CCD-5C14-4B21-8B60-09DEF284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EC74E-5A3E-41AE-8959-69F97304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22584-CBB4-4440-9A04-13F3BE68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8F608-7017-4D12-8E7C-A46F85C6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19883-7B64-49E8-91F3-191B50C8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263BA-4893-49CF-9B8E-5C920252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6F2-3DA2-4FB1-B561-BE7DE21E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B0663-B4EC-481B-9F93-170211FF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F5C90-2DCA-401B-B2F4-D09EF0FB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7DAE5-3800-43C1-B6B5-C609DF46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978F1-7683-42F1-B055-11E795DB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70136-E07D-427C-9A4B-FCEBB0E4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67D4E-DD9A-491F-B5CF-FD1393EB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94F49-8952-47D1-BA58-1C359DD9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93F1-9175-4EE6-8B33-1D469D42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8EBD2-E73D-4FCD-AB21-621B44E5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D85BE-B277-45B6-B733-1D8EBFA1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4B7-F714-482C-9ED1-50055038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E989B-323D-433D-ADC6-B8E1542E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E3241-777C-4B0F-96E8-1D94481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58368-7869-4DAC-AED9-475F263E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DBED1-97C2-4D0C-8E31-AFADDAFC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C0A9C-3449-41D1-A0FE-688AB944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2734F-A3E4-4CC6-B02E-45E851C8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183CB-76E2-48B3-AFF6-B2FC423A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F699C-DB64-4852-90D2-43965C5B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C40D6-1213-4E22-8616-3B78709E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68FE5-44AE-4525-99DD-70B49133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6FF-1A2F-49B6-8FDB-E9936A6F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FDA7C-BF01-4A19-86BF-D86878D5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46A85-2185-4187-98B3-84668635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84621-BEAE-4F90-8C84-65802B99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4BAC8-5B91-4B4B-89B3-994A65E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F0D3B-197C-413B-AFF3-14DE41B7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80256-3252-4141-8593-5224171D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A0018-8A6A-4339-9FE8-9A80EDC2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6EF02-9403-4555-A547-A5A0C55D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5D1C2-DD13-4C82-950C-C6935841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62398-3F4D-4412-B3AE-6D483C9D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slideLayout" Target="../slideLayouts/slideLayout1.xml"/><Relationship Id="rId26" Type="http://schemas.openxmlformats.org/officeDocument/2006/relationships/slideLayout" Target="../slideLayouts/slideLayout2.xml"/><Relationship Id="rId27" Type="http://schemas.openxmlformats.org/officeDocument/2006/relationships/slideLayout" Target="../slideLayouts/slideLayout3.xml"/><Relationship Id="rId28" Type="http://schemas.openxmlformats.org/officeDocument/2006/relationships/slideLayout" Target="../slideLayouts/slideLayout4.xml"/><Relationship Id="rId29" Type="http://schemas.openxmlformats.org/officeDocument/2006/relationships/slideLayout" Target="../slideLayouts/slideLayout5.xml"/><Relationship Id="rId30" Type="http://schemas.openxmlformats.org/officeDocument/2006/relationships/slideLayout" Target="../slideLayouts/slideLayout6.xml"/><Relationship Id="rId31" Type="http://schemas.openxmlformats.org/officeDocument/2006/relationships/slideLayout" Target="../slideLayouts/slideLayout7.xml"/><Relationship Id="rId32" Type="http://schemas.openxmlformats.org/officeDocument/2006/relationships/slideLayout" Target="../slideLayouts/slideLayout8.xml"/><Relationship Id="rId33" Type="http://schemas.openxmlformats.org/officeDocument/2006/relationships/slideLayout" Target="../slideLayouts/slideLayout9.xml"/><Relationship Id="rId34" Type="http://schemas.openxmlformats.org/officeDocument/2006/relationships/slideLayout" Target="../slideLayouts/slideLayout10.xml"/><Relationship Id="rId35" Type="http://schemas.openxmlformats.org/officeDocument/2006/relationships/slideLayout" Target="../slideLayouts/slideLayout11.xml"/><Relationship Id="rId3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4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5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6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8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7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20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2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3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4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9E53-15E3-42ED-B9DA-4609690B55B2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5"/>
    <p:sldLayoutId id="2147483650" r:id="rId26"/>
    <p:sldLayoutId id="2147483651" r:id="rId27"/>
    <p:sldLayoutId id="2147483652" r:id="rId28"/>
    <p:sldLayoutId id="2147483653" r:id="rId29"/>
    <p:sldLayoutId id="2147483654" r:id="rId30"/>
    <p:sldLayoutId id="2147483655" r:id="rId31"/>
    <p:sldLayoutId id="2147483656" r:id="rId32"/>
    <p:sldLayoutId id="2147483657" r:id="rId33"/>
    <p:sldLayoutId id="2147483658" r:id="rId34"/>
    <p:sldLayoutId id="2147483659" r:id="rId35"/>
    <p:sldLayoutId id="2147483660" r:id="rId3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397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398" name="Oval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0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401" name="Oval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3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404" name="Oval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6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407" name="Oval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9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410" name="Oval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12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413" name="Oval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15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416" name="Oval 33" descr=""/>
              <p:cNvPicPr/>
              <p:nvPr/>
            </p:nvPicPr>
            <p:blipFill>
              <a:blip r:embed="rId9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18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419" name="Oval 34" descr=""/>
              <p:cNvPicPr/>
              <p:nvPr/>
            </p:nvPicPr>
            <p:blipFill>
              <a:blip r:embed="rId10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A00B-AF17-4ECE-847A-3078B687DD5F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70D0-46B4-4762-9543-D3DA454F54E6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E696-7134-4393-8A6E-F305A5465BA1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48EE-0E97-431C-A22D-56BD12F77326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7315-5159-45C1-AF83-8E00EDDB6EC2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3E5F-D5E4-4A5E-9A7E-457DB2756354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A40E-250D-4018-AFCD-23438205F34F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7FB4-2AAC-4478-8885-39CFDBBE4989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55D0-FB6F-4548-868F-81441B8190C7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F961-CAA2-416F-9BB0-624DAAA3A0B6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3AF0-460C-47A7-B11E-78396FE4DC23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3" descr="C:\Users\Екатерина\Desktop\img0 (1).jpg"/>
          <p:cNvPicPr/>
          <p:nvPr/>
        </p:nvPicPr>
        <p:blipFill>
          <a:blip r:embed="rId1"/>
          <a:stretch/>
        </p:blipFill>
        <p:spPr>
          <a:xfrm>
            <a:off x="0" y="-171360"/>
            <a:ext cx="9178920" cy="68641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1844640" y="1916280"/>
            <a:ext cx="608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1078"/>
                </a:solidFill>
                <a:latin typeface="Times New Roman"/>
              </a:rPr>
              <a:t>Мастер – класс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1078"/>
                </a:solidFill>
                <a:latin typeface="Times New Roman"/>
              </a:rPr>
              <a:t>«Рисуем без кисточки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e1078"/>
                </a:solidFill>
                <a:latin typeface="Times New Roman"/>
              </a:rPr>
              <a:t>(Техника цветные опилк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Подзаголовок 2"/>
          <p:cNvSpPr/>
          <p:nvPr/>
        </p:nvSpPr>
        <p:spPr>
          <a:xfrm>
            <a:off x="4716360" y="4292640"/>
            <a:ext cx="4248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упицына Татьяна Владимировна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спитатель  </a:t>
            </a:r>
            <a:r>
              <a:rPr b="1" i="1" lang="en-US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в. категории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Прямоугольник 7"/>
          <p:cNvSpPr/>
          <p:nvPr/>
        </p:nvSpPr>
        <p:spPr>
          <a:xfrm>
            <a:off x="226836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rebuchet MS"/>
              </a:rPr>
              <a:t>п</a:t>
            </a:r>
            <a:r>
              <a:rPr b="0" i="1" lang="en-US" sz="1800" spc="-1" strike="noStrike">
                <a:solidFill>
                  <a:srgbClr val="0000cc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cc"/>
                </a:solidFill>
                <a:latin typeface="Trebuchet MS"/>
              </a:rPr>
              <a:t>Новоорс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rebuchet MS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1042920" y="-414360"/>
            <a:ext cx="7885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Calibri"/>
              </a:rPr>
              <a:t>Муниципальное бюджетное дошколь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Calibri"/>
              </a:rPr>
              <a:t>«Детский сад общеразвивающего вида с приоритетным осуществлением деятельности по физическому развитию воспитанников» № 6 «Почемучка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971280" y="764640"/>
            <a:ext cx="7124760" cy="40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5 шаг.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 Затем готовим весь необходимый материал для работы: клей ПВА, кисточку для клея </a:t>
            </a:r>
            <a:r>
              <a:rPr b="1" lang="ru-RU" sz="1800" spc="-1" strike="noStrike">
                <a:solidFill>
                  <a:srgbClr val="5d0da5"/>
                </a:solidFill>
                <a:latin typeface="Verdana"/>
              </a:rPr>
              <a:t>(для живописи не подходит, нужна грубая щетина)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, и окрашенные опилки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87" name="Рисунок 3" descr="DSC01314"/>
          <p:cNvPicPr/>
          <p:nvPr/>
        </p:nvPicPr>
        <p:blipFill>
          <a:blip r:embed="rId1"/>
          <a:stretch/>
        </p:blipFill>
        <p:spPr>
          <a:xfrm>
            <a:off x="1979640" y="3284640"/>
            <a:ext cx="44179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115640" y="620640"/>
            <a:ext cx="7124760" cy="523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шаг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По контуру рисунка, частями, наносится клей ПВА методом «прикладывания кисточки» по форме предмета и тут же посыпаются опилки нужного цвета, держа и растирая их подушечками пальцев. Затем можно добавить опилки дополнительного цвета для оттенка. (растирать опилки нужно обязательно, чтобы они были рыхлыми и «пушистыми» и + для массажа подушечек пальцев. Нанесенные опилки можно сверху прижать салфеткой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89" name="Рисунок 2" descr="2zO7218KOwE.jpg"/>
          <p:cNvPicPr/>
          <p:nvPr/>
        </p:nvPicPr>
        <p:blipFill>
          <a:blip r:embed="rId1"/>
          <a:stretch/>
        </p:blipFill>
        <p:spPr>
          <a:xfrm>
            <a:off x="1258920" y="4221000"/>
            <a:ext cx="2644920" cy="220536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3" descr="92Uv3E2IE2s.jpg"/>
          <p:cNvPicPr/>
          <p:nvPr/>
        </p:nvPicPr>
        <p:blipFill>
          <a:blip r:embed="rId2"/>
          <a:stretch/>
        </p:blipFill>
        <p:spPr>
          <a:xfrm>
            <a:off x="4356000" y="4149720"/>
            <a:ext cx="2517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шаг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Для большей передачи объема, клей наносится поверх приклеенных опилок (примерно через 15-20 мин) небольшими капельками и сразу посыпаются опилки желаемого цвета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1009800" y="1806480"/>
            <a:ext cx="7124400" cy="20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шаг.</a:t>
            </a:r>
            <a:r>
              <a:rPr b="0" lang="ru-RU" sz="18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 Фон картины можно выполнить опилками естественного цвета, нанося клей широкими мазками </a:t>
            </a:r>
            <a:r>
              <a:rPr b="1" lang="ru-RU" sz="18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(при таком нанесении остается малое кол-во клея на картоне — приклеится мало опилок). </a:t>
            </a:r>
            <a:r>
              <a:rPr b="0" lang="ru-RU" sz="18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Пробелов (цвета картона) в рисунке предметов не должно быть. Клей наносить кистью в большом количестве каплями или мелкими мазками на предметы рисунка, но не в виде лужицы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93" name="Рисунок 3" descr="EWt2kH8s1DE.jpg"/>
          <p:cNvPicPr/>
          <p:nvPr/>
        </p:nvPicPr>
        <p:blipFill>
          <a:blip r:embed="rId1"/>
          <a:stretch/>
        </p:blipFill>
        <p:spPr>
          <a:xfrm>
            <a:off x="1332000" y="3789360"/>
            <a:ext cx="62643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115640" y="1700280"/>
            <a:ext cx="7124760" cy="13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шаг.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Готовую работу оставляем до полного высыхания, а затем закрепляем лаком 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для волос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95" name="Рисунок 2" descr="BupN9zKLHy8.jpg"/>
          <p:cNvPicPr/>
          <p:nvPr/>
        </p:nvPicPr>
        <p:blipFill>
          <a:blip r:embed="rId1"/>
          <a:stretch/>
        </p:blipFill>
        <p:spPr>
          <a:xfrm>
            <a:off x="1979640" y="2852640"/>
            <a:ext cx="547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Содержимое 3" descr="9N6GLMzNHeM.jpg"/>
          <p:cNvPicPr/>
          <p:nvPr/>
        </p:nvPicPr>
        <p:blipFill>
          <a:blip r:embed="rId1"/>
          <a:stretch/>
        </p:blipFill>
        <p:spPr>
          <a:xfrm>
            <a:off x="971640" y="189000"/>
            <a:ext cx="3049560" cy="2879640"/>
          </a:xfrm>
          <a:prstGeom prst="rect">
            <a:avLst/>
          </a:prstGeom>
          <a:ln w="0">
            <a:noFill/>
          </a:ln>
        </p:spPr>
      </p:pic>
      <p:pic>
        <p:nvPicPr>
          <p:cNvPr id="597" name="Рисунок 5" descr="Dbz_o26nJMQ.jpg"/>
          <p:cNvPicPr/>
          <p:nvPr/>
        </p:nvPicPr>
        <p:blipFill>
          <a:blip r:embed="rId2"/>
          <a:stretch/>
        </p:blipFill>
        <p:spPr>
          <a:xfrm>
            <a:off x="4932360" y="115920"/>
            <a:ext cx="3384720" cy="3160800"/>
          </a:xfrm>
          <a:prstGeom prst="rect">
            <a:avLst/>
          </a:prstGeom>
          <a:ln w="0">
            <a:noFill/>
          </a:ln>
        </p:spPr>
      </p:pic>
      <p:pic>
        <p:nvPicPr>
          <p:cNvPr id="598" name="Рисунок 6" descr="kSjRW2ebBoU.jpg"/>
          <p:cNvPicPr/>
          <p:nvPr/>
        </p:nvPicPr>
        <p:blipFill>
          <a:blip r:embed="rId3"/>
          <a:stretch/>
        </p:blipFill>
        <p:spPr>
          <a:xfrm>
            <a:off x="895320" y="3357720"/>
            <a:ext cx="3460680" cy="2950920"/>
          </a:xfrm>
          <a:prstGeom prst="rect">
            <a:avLst/>
          </a:prstGeom>
          <a:ln w="0">
            <a:noFill/>
          </a:ln>
        </p:spPr>
      </p:pic>
      <p:pic>
        <p:nvPicPr>
          <p:cNvPr id="599" name="Рисунок 7" descr="Nm4s6Ntwr74.jpg"/>
          <p:cNvPicPr/>
          <p:nvPr/>
        </p:nvPicPr>
        <p:blipFill>
          <a:blip r:embed="rId4"/>
          <a:stretch/>
        </p:blipFill>
        <p:spPr>
          <a:xfrm>
            <a:off x="4932360" y="3429000"/>
            <a:ext cx="33116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Содержимое 3" descr="v16AVK3y2jQ.jpg"/>
          <p:cNvPicPr/>
          <p:nvPr/>
        </p:nvPicPr>
        <p:blipFill>
          <a:blip r:embed="rId1"/>
          <a:stretch/>
        </p:blipFill>
        <p:spPr>
          <a:xfrm>
            <a:off x="900000" y="189000"/>
            <a:ext cx="3888000" cy="5184720"/>
          </a:xfrm>
          <a:prstGeom prst="rect">
            <a:avLst/>
          </a:prstGeom>
          <a:ln w="0">
            <a:noFill/>
          </a:ln>
        </p:spPr>
      </p:pic>
      <p:pic>
        <p:nvPicPr>
          <p:cNvPr id="601" name="Рисунок 4" descr="x2BD3TbzovM.jpg"/>
          <p:cNvPicPr/>
          <p:nvPr/>
        </p:nvPicPr>
        <p:blipFill>
          <a:blip r:embed="rId2"/>
          <a:stretch/>
        </p:blipFill>
        <p:spPr>
          <a:xfrm>
            <a:off x="5148360" y="189000"/>
            <a:ext cx="345600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Содержимое 3" descr="xx-AFc3RrDA.jpg"/>
          <p:cNvPicPr/>
          <p:nvPr/>
        </p:nvPicPr>
        <p:blipFill>
          <a:blip r:embed="rId1"/>
          <a:stretch/>
        </p:blipFill>
        <p:spPr>
          <a:xfrm>
            <a:off x="1042920" y="189000"/>
            <a:ext cx="24465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-38160" y="0"/>
            <a:ext cx="9232920" cy="697716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8"/>
          <p:cNvSpPr/>
          <p:nvPr/>
        </p:nvSpPr>
        <p:spPr>
          <a:xfrm>
            <a:off x="2292480" y="121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Прямоугольник 3"/>
          <p:cNvSpPr/>
          <p:nvPr/>
        </p:nvSpPr>
        <p:spPr>
          <a:xfrm>
            <a:off x="1476360" y="1881360"/>
            <a:ext cx="7272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Прямоугольник 5"/>
          <p:cNvSpPr/>
          <p:nvPr/>
        </p:nvSpPr>
        <p:spPr>
          <a:xfrm>
            <a:off x="2286000" y="33660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…Это правда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чего же тут скрывать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любят, очень любят рисовать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умаге, на асфальте, на стене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трамвае на окне…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. Успенск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32920" cy="6977160"/>
          </a:xfrm>
          <a:prstGeom prst="rect">
            <a:avLst/>
          </a:prstGeom>
          <a:ln w="0">
            <a:noFill/>
          </a:ln>
        </p:spPr>
      </p:pic>
      <p:sp>
        <p:nvSpPr>
          <p:cNvPr id="554" name="Прямоугольник 8"/>
          <p:cNvSpPr/>
          <p:nvPr/>
        </p:nvSpPr>
        <p:spPr>
          <a:xfrm>
            <a:off x="2292480" y="121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Прямоугольник 3"/>
          <p:cNvSpPr/>
          <p:nvPr/>
        </p:nvSpPr>
        <p:spPr>
          <a:xfrm>
            <a:off x="1403280" y="2476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Прямоугольник 1"/>
          <p:cNvSpPr/>
          <p:nvPr/>
        </p:nvSpPr>
        <p:spPr>
          <a:xfrm>
            <a:off x="1908000" y="1133640"/>
            <a:ext cx="715032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Цель: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распространение и передача педагогического опыта, обучение технике рисования цветным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опил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овышение профессионального мастерств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едагог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Знакомство педагогов с техникой рис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цветными опилка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Прямоугольник 5"/>
          <p:cNvSpPr/>
          <p:nvPr/>
        </p:nvSpPr>
        <p:spPr>
          <a:xfrm>
            <a:off x="1908000" y="4797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3" descr=""/>
          <p:cNvPicPr/>
          <p:nvPr/>
        </p:nvPicPr>
        <p:blipFill>
          <a:blip r:embed="rId1"/>
          <a:stretch/>
        </p:blipFill>
        <p:spPr>
          <a:xfrm>
            <a:off x="-38160" y="0"/>
            <a:ext cx="9232920" cy="700416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8"/>
          <p:cNvSpPr/>
          <p:nvPr/>
        </p:nvSpPr>
        <p:spPr>
          <a:xfrm>
            <a:off x="2298600" y="1887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Прямоугольник 3"/>
          <p:cNvSpPr/>
          <p:nvPr/>
        </p:nvSpPr>
        <p:spPr>
          <a:xfrm>
            <a:off x="1403280" y="2476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Прямоугольник 2"/>
          <p:cNvSpPr/>
          <p:nvPr/>
        </p:nvSpPr>
        <p:spPr>
          <a:xfrm>
            <a:off x="2627280" y="387360"/>
            <a:ext cx="57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Чем полезно рисование цветны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пилками для дет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Прямоугольник 4"/>
          <p:cNvSpPr/>
          <p:nvPr/>
        </p:nvSpPr>
        <p:spPr>
          <a:xfrm>
            <a:off x="1652760" y="1557360"/>
            <a:ext cx="705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Рисуя опилками, ребенок создает удивительный цветной мир, развивая фантазию и воображ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Рисуя опилками, ребенок развивает мелкую моторику и координацию движений, так как высыпать из щепотки цветные опилки нужно «прицельно» и аккуратн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Рисуя опилками, ребенок становится внимательнее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аккуратнее, так как от этого зависит качество произвед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Рисуя опилками, ребенок отдыхает и успокаивается. Этот эффект связан со свойствами самого материала: древесные опилки приятны на ощупь, послушны творц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-38160" y="0"/>
            <a:ext cx="9232920" cy="6977160"/>
          </a:xfrm>
          <a:prstGeom prst="rect">
            <a:avLst/>
          </a:prstGeom>
          <a:ln w="0">
            <a:noFill/>
          </a:ln>
        </p:spPr>
      </p:pic>
      <p:sp>
        <p:nvSpPr>
          <p:cNvPr id="564" name="Прямоугольник 8"/>
          <p:cNvSpPr/>
          <p:nvPr/>
        </p:nvSpPr>
        <p:spPr>
          <a:xfrm>
            <a:off x="2298600" y="1887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Прямоугольник 3"/>
          <p:cNvSpPr/>
          <p:nvPr/>
        </p:nvSpPr>
        <p:spPr>
          <a:xfrm>
            <a:off x="1403280" y="2476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Прямоугольник 2"/>
          <p:cNvSpPr/>
          <p:nvPr/>
        </p:nvSpPr>
        <p:spPr>
          <a:xfrm>
            <a:off x="2627280" y="387360"/>
            <a:ext cx="57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ля рисования цветными опилка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требуется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Прямоугольник 5"/>
          <p:cNvSpPr/>
          <p:nvPr/>
        </p:nvSpPr>
        <p:spPr>
          <a:xfrm>
            <a:off x="2286000" y="1341360"/>
            <a:ext cx="523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ревесные опил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уашь или коллер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Емкости для окрашивания и сушки опило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Ки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Вод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Клей ПВ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умага или распечатанный рису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Влажные салфет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Лак для воло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69" name="Содержимое 3" descr="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4"/>
          <p:cNvSpPr/>
          <p:nvPr/>
        </p:nvSpPr>
        <p:spPr>
          <a:xfrm>
            <a:off x="1619280" y="1628640"/>
            <a:ext cx="69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Пошаговый процесс рисования цветными опилками</a:t>
            </a:r>
            <a:r>
              <a:rPr b="1" lang="en-US" sz="32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Прямоугольник 6"/>
          <p:cNvSpPr/>
          <p:nvPr/>
        </p:nvSpPr>
        <p:spPr>
          <a:xfrm>
            <a:off x="1187280" y="28288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 шаг: </a:t>
            </a:r>
            <a:r>
              <a:rPr b="0" lang="ru-RU" sz="24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Вначале необходимо просеять опилки через сито или дуршлаг </a:t>
            </a:r>
            <a:r>
              <a:rPr b="1" lang="ru-RU" sz="24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(чем мельче опилки, тем картина получится аккуратнее)</a:t>
            </a:r>
            <a:r>
              <a:rPr b="0" lang="ru-RU" sz="24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2" name="Рисунок 3" descr="DSC01275"/>
          <p:cNvPicPr/>
          <p:nvPr/>
        </p:nvPicPr>
        <p:blipFill>
          <a:blip r:embed="rId2"/>
          <a:stretch/>
        </p:blipFill>
        <p:spPr>
          <a:xfrm>
            <a:off x="2771640" y="4221000"/>
            <a:ext cx="3040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187280" y="2205000"/>
            <a:ext cx="7956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 шаг.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Затем нужно окрасить опилки в нужные цвета. Для этого </a:t>
            </a:r>
            <a:r>
              <a:rPr b="0" lang="en-US" sz="1800" spc="-1" strike="noStrike">
                <a:solidFill>
                  <a:srgbClr val="5d0da5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гуашевую краску разведем водой и поместим в получившуюся жидкую краску опилки. Будем добавлять опилки до тех пор, пока вода при нажатии на опилки не будет выделяться. Дать пропитаться опилкам 15-20 минут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74" name="Рисунок 4" descr="DSC01280"/>
          <p:cNvPicPr/>
          <p:nvPr/>
        </p:nvPicPr>
        <p:blipFill>
          <a:blip r:embed="rId1"/>
          <a:stretch/>
        </p:blipFill>
        <p:spPr>
          <a:xfrm>
            <a:off x="250920" y="3500280"/>
            <a:ext cx="2178000" cy="225612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5" descr="DSC01281"/>
          <p:cNvPicPr/>
          <p:nvPr/>
        </p:nvPicPr>
        <p:blipFill>
          <a:blip r:embed="rId2"/>
          <a:stretch/>
        </p:blipFill>
        <p:spPr>
          <a:xfrm>
            <a:off x="3203640" y="3500280"/>
            <a:ext cx="2284200" cy="2237040"/>
          </a:xfrm>
          <a:prstGeom prst="rect">
            <a:avLst/>
          </a:prstGeom>
          <a:ln w="0">
            <a:noFill/>
          </a:ln>
        </p:spPr>
      </p:pic>
      <p:pic>
        <p:nvPicPr>
          <p:cNvPr id="576" name="Рисунок 6" descr="DSC01282"/>
          <p:cNvPicPr/>
          <p:nvPr/>
        </p:nvPicPr>
        <p:blipFill>
          <a:blip r:embed="rId3"/>
          <a:stretch/>
        </p:blipFill>
        <p:spPr>
          <a:xfrm>
            <a:off x="6300720" y="3500280"/>
            <a:ext cx="232272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009800" y="2060280"/>
            <a:ext cx="7124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marL="212400" indent="-2124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 шаг.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 Окрашенные опилки раскладываем на тарелочки или листы бумаги для высыхания. После высыхания раскладываем цветные опилки по контейнерам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212400" indent="-2124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78" name="Рисунок 3" descr="DSC01284"/>
          <p:cNvPicPr/>
          <p:nvPr/>
        </p:nvPicPr>
        <p:blipFill>
          <a:blip r:embed="rId1"/>
          <a:stretch/>
        </p:blipFill>
        <p:spPr>
          <a:xfrm>
            <a:off x="1258920" y="2708280"/>
            <a:ext cx="1095480" cy="110484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4" descr="DSC01298"/>
          <p:cNvPicPr/>
          <p:nvPr/>
        </p:nvPicPr>
        <p:blipFill>
          <a:blip r:embed="rId2"/>
          <a:stretch/>
        </p:blipFill>
        <p:spPr>
          <a:xfrm>
            <a:off x="2771640" y="2708280"/>
            <a:ext cx="1209960" cy="1104840"/>
          </a:xfrm>
          <a:prstGeom prst="rect">
            <a:avLst/>
          </a:prstGeom>
          <a:ln w="0">
            <a:noFill/>
          </a:ln>
        </p:spPr>
      </p:pic>
      <p:pic>
        <p:nvPicPr>
          <p:cNvPr id="580" name="Рисунок 5" descr="DSC01295"/>
          <p:cNvPicPr/>
          <p:nvPr/>
        </p:nvPicPr>
        <p:blipFill>
          <a:blip r:embed="rId3"/>
          <a:stretch/>
        </p:blipFill>
        <p:spPr>
          <a:xfrm>
            <a:off x="4427640" y="2708280"/>
            <a:ext cx="1152360" cy="1104840"/>
          </a:xfrm>
          <a:prstGeom prst="rect">
            <a:avLst/>
          </a:prstGeom>
          <a:ln w="0">
            <a:noFill/>
          </a:ln>
        </p:spPr>
      </p:pic>
      <p:pic>
        <p:nvPicPr>
          <p:cNvPr id="581" name="Рисунок 6" descr="DSC01294"/>
          <p:cNvPicPr/>
          <p:nvPr/>
        </p:nvPicPr>
        <p:blipFill>
          <a:blip r:embed="rId4"/>
          <a:stretch/>
        </p:blipFill>
        <p:spPr>
          <a:xfrm>
            <a:off x="6012000" y="2708280"/>
            <a:ext cx="1114200" cy="110484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7" descr="DSC01320"/>
          <p:cNvPicPr/>
          <p:nvPr/>
        </p:nvPicPr>
        <p:blipFill>
          <a:blip r:embed="rId5"/>
          <a:stretch/>
        </p:blipFill>
        <p:spPr>
          <a:xfrm>
            <a:off x="2843280" y="4221000"/>
            <a:ext cx="30099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99640" y="907920"/>
            <a:ext cx="7417080" cy="31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 шаг</a:t>
            </a:r>
            <a:r>
              <a:rPr b="1" lang="ru-RU" sz="1800" spc="-1" strike="noStrike">
                <a:solidFill>
                  <a:srgbClr val="5d0da5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 На картоне нужно выполнить набросок простым карандашом или взять готовую раскраску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84" name="Рисунок 2" descr="JnnGc7eKXXw.jpg"/>
          <p:cNvPicPr/>
          <p:nvPr/>
        </p:nvPicPr>
        <p:blipFill>
          <a:blip r:embed="rId1"/>
          <a:stretch/>
        </p:blipFill>
        <p:spPr>
          <a:xfrm>
            <a:off x="1476360" y="3357720"/>
            <a:ext cx="3211560" cy="2950920"/>
          </a:xfrm>
          <a:prstGeom prst="rect">
            <a:avLst/>
          </a:prstGeom>
          <a:ln w="0">
            <a:noFill/>
          </a:ln>
        </p:spPr>
      </p:pic>
      <p:pic>
        <p:nvPicPr>
          <p:cNvPr id="585" name="Рисунок 3" descr="J0QJbke0ZhU.jpg"/>
          <p:cNvPicPr/>
          <p:nvPr/>
        </p:nvPicPr>
        <p:blipFill>
          <a:blip r:embed="rId2"/>
          <a:stretch/>
        </p:blipFill>
        <p:spPr>
          <a:xfrm>
            <a:off x="4859280" y="3357720"/>
            <a:ext cx="2789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4:48:08Z</dcterms:created>
  <dc:creator>RePack by Diakov</dc:creator>
  <dc:description/>
  <dc:language>en-US</dc:language>
  <cp:lastModifiedBy>Admin</cp:lastModifiedBy>
  <dcterms:modified xsi:type="dcterms:W3CDTF">2019-04-07T15:00:19Z</dcterms:modified>
  <cp:revision>178</cp:revision>
  <dc:subject/>
  <dc:title>Презентация PowerPoint</dc:title>
</cp:coreProperties>
</file>