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50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4.png" ContentType="image/png"/>
  <Override PartName="/ppt/media/image52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7.jpeg" ContentType="image/jpeg"/>
  <Override PartName="/ppt/media/image30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F38-CD63-4593-B281-9B05D9DF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08E-C966-4115-B445-A0773EAC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D33A2-7E15-4A15-A019-8D7B6F29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40C8C-4268-46FA-AE87-2F42240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FF82C-397A-4F5B-8356-3960DE8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22CC-1ACB-4DA4-BDFB-BCBD111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0ED3B-CD22-4FE5-9025-15DCACC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B66CE-551D-4BD2-9062-D90C52B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E2A5C-F555-4992-B094-40A314F0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3FF9C-6E1F-466B-86DF-EDBBE5C5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6D9C5-D65E-4957-8680-15881E6F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CCCFB-7953-4E29-A516-F90EDD2A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869-0A18-413A-B1B3-7EA8F43A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67F76-1D0F-4D0B-8C7B-35DA378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DFDD7-E11D-4EBE-8FA9-9B823AB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3FEC9-82D5-455C-BD64-207BEB33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3477D-7F36-497B-B542-49A817B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993D1-9751-46A1-BB88-A056F5D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95C6A-2B54-47F7-A64C-C2FF8220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F63E1-722B-4716-9981-E416E0DE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37C1A-3085-4FE9-9714-EE00538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20025-6CD9-4383-AA80-76D98535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7377D-53BC-4708-8E8F-BB418A70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3B0-A3ED-4CCD-B0A6-0373DD18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84200-C6F3-4C3D-9339-C09DFC92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F7E6-E9F0-46BF-B9FC-6104CA63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AA594-A31A-4D9C-B266-9D627A74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05554-C67F-4CB2-9393-EDE5E528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38A14-4B95-4F60-8B15-5BE64372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6BFE3-7705-46E1-85B3-DC48FC12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05535-A159-45CD-9EE4-39EBFE75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7958B-114C-421B-A067-657EAD7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209CF-1CAD-49B8-91C0-72C2096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BD7CC-BB27-4096-B136-E640EB1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A780-74C2-48EA-A0AA-C43BCB24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07B99-913C-4896-9BD8-C817DFE1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FAFAF-A392-4B95-A50C-76527871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63F26-9170-4517-A7CC-649A5D46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2488B-42BE-4598-B887-722DB5C8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A5C64-FB16-4AC4-97F8-9DE0185A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835CA-6047-4402-8C2B-E922982C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23C2E-573A-48E0-863A-F3E90029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39D90-2383-47DD-8023-5ECEC7C5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58371-0FA2-487A-A095-9E45554B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DC8F3-4820-4B9D-BE63-C86D283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B337-7D75-4CAC-87AD-1375DED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8361B-13CF-46DA-8D62-39C00BB2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FC515-5135-4E4A-9A5B-5C735F01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3BD16-F3A3-4E1C-A1B8-1B9AC98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CDB8F-6AA6-4DA0-AC20-178C1F3F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2040F-6459-4FA1-81CC-97B24F84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216-9CDD-4444-AC2D-C52CAF2C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98ED-5182-4992-BBBE-3D2843EF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84CE-6A8D-4052-A20F-E214457D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92BD-478B-42C0-8508-63129FA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84D-0408-4490-B021-201FB910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031-88EA-4017-A506-A678565F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44CA-36CD-411D-9FE1-4E2EA16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310D-329B-47EC-BFBD-537F7137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B5A-B3EE-4792-AC7B-E5BB9C8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DD3E-A27F-4114-86A3-34DD525D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DBC4-3162-4B98-A65C-D5C3B182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51AD-5FC6-4357-9FA7-2A5F004B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907A-C981-4162-96C9-CB6B2627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8C82-1D49-48A6-8BEF-8535007C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6D59-2153-4508-A14F-8FA5E3C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AB20-0E66-4EE2-B0C8-0EB7BBD5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4B3-2613-4A68-871A-7FE294A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0162-6B12-4EFF-B387-6874D6E4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4F8C-5DBB-4256-A9A7-42F794D4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36D8-84F0-4FE0-A574-DD6D16A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9538-DCDC-4841-9859-35C596C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04C4-B3ED-4308-80AF-8D25C9FE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F39F-0766-45D7-B043-7A85F4A2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D6D7-610F-42DE-AD7B-2DC6C58E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92B0-04CD-4C84-B00A-6D10484C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82FF-B978-4938-AC88-0225A927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E8BE-7F52-4EA8-A580-F5D0CDA5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2CA-4B03-4997-87E2-FA877C77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2752-0708-4DA1-9ED4-80CFB499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ECC3-7A84-47F4-99A5-E55A09D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026D5-135F-47F1-8FFD-69AE4805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2463-38AD-4B22-A038-744DEAB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0996-0945-45DB-BFD5-656E775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317C-6FB5-4637-8A96-241D6FC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ED88-DAF8-4E29-ADF7-875FB99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A596-AF6F-44FF-89BC-14632893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DCFF-5FF6-47CC-8F16-BDE33CBB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F35B-82FE-4584-B727-952D2B75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6FA-0F62-4472-A6FB-A0DC6777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2B46-E11C-4E68-869A-123DDD65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5F699-C19A-4B96-84CF-A765422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0A368-AE12-4B92-9F47-11C15B5C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EE59-DBBC-4C0F-9E49-D19856D6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67502-59CA-498D-8A0E-046E5EB7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0C3D-8A62-4F00-B98B-E3D5532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A30C-B7A5-4A5F-8672-01C4D09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FF44B-18E5-4C02-B959-6489FC8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BD8F-6D5A-4508-9FC0-2173D4C9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428E-5675-4609-9D34-50B9B86A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378-D2CD-4E31-A232-5385526C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2533-5C84-458B-972C-D025467D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90A30-9980-4CF2-814A-92B86BAB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20DF8-C38D-40BF-A956-1B5E3107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AB52-1679-4C51-9D69-A89F23D1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EEF0-22DA-422A-8FE6-49329F8C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15824-376C-43AE-84D4-198942A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A118-1D8C-4602-9543-B273CADA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7B409-A72A-4E19-A88B-65F1C20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C75ED-4759-4960-A939-7D70C3AA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5AACF-B3BD-42D2-9FFE-BC22C5A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484-D986-4546-8953-D0215A0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D016C-C2CB-4898-A800-20AAD1C0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B5E44-D28E-49AD-B805-4220FA75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3A40-9EC5-4216-BA7B-AF08955F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02522-79F1-4B00-B99B-257CB8AB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57312-D406-46C3-A994-1F5F783D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39AB-F83C-4269-92A3-B33606B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94453-CD98-4A3E-9AAC-F8295B3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8CFF-E7E6-45B8-990B-98B28DE7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E071C-A863-4BB6-A9A2-811E1144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290A7-BDCC-4EEF-80D3-02A5A830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2DE-4C48-4F2C-A7F2-FE5E6B02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EA52B-3359-4241-9D60-4B2A93E8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3E445-9E3D-4DC5-AF63-6C7D015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3902-1B8B-44F8-91C5-060E944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FD6F4-2AF2-4EA6-BD5E-2454F698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D183-E37A-4E7B-AAD3-C93134F4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5C04-720E-488E-9241-0262DE65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26B1B-77BC-466C-AF2A-6E20D578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D0A3-901A-44A4-B926-7B58352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14F1A-E8DC-422F-8256-88AB2446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38A2-5ADC-4B14-B0F4-40343EFC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69F-6A80-44B8-8915-A8B56954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C3CBA-B49D-4A47-8F63-2DC4A39E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EC8F5-E1D1-4D71-92AD-BF325A59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C179-23E9-4700-973C-A27B87E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94DD-7EA1-40B2-BB82-AC7FF53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9623E-EBBA-4587-B1B3-8EA755B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BDA1A-D7F2-4544-BC81-01A7C173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617B-BA97-4A22-978D-3EDD3881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E227E-30C0-402F-BEA8-2E4BBEB7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C0E70-5944-4B4C-9AA5-59671AD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2CE1C-69EE-4B29-86EC-360898B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5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6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8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7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20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2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4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66EB-EA1F-46F5-92CE-2C6DCE11325F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397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398" name="Oval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0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401" name="Oval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3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404" name="Oval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6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407" name="Oval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9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410" name="Oval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2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413" name="Oval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5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416" name="Oval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8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419" name="Oval 3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A247-33B7-4CC9-A84B-1FA57589090E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F33-1ED2-4D1D-BBF1-3DBC92CF475A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9573-84FF-4292-8613-702A476D941F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3A20-3E24-42B8-A200-7946E9FB1121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EBFD-9B83-4763-B5EA-945613E66409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89DC-DDC2-4F87-8F00-39647AA85ED5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4433-4DA4-4A16-996F-EAE9C6B4128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66EA-ADC0-46E6-80F2-57594808F4A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D1F-21C8-4AFB-95D1-91DEA3151451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4902-2CA5-4C2E-A19E-8D5F962B2BA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7F2-DAE1-43CC-8444-1E055BF2D90B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C:\Users\Екатерина\Desktop\img0 (1).jpg"/>
          <p:cNvPicPr/>
          <p:nvPr/>
        </p:nvPicPr>
        <p:blipFill>
          <a:blip r:embed="rId1"/>
          <a:stretch/>
        </p:blipFill>
        <p:spPr>
          <a:xfrm>
            <a:off x="0" y="-171360"/>
            <a:ext cx="9178920" cy="68641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1844640" y="1916280"/>
            <a:ext cx="608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078"/>
                </a:solidFill>
                <a:latin typeface="Times New Roman"/>
              </a:rPr>
              <a:t>Мастер – клас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1078"/>
                </a:solidFill>
                <a:latin typeface="Times New Roman"/>
              </a:rPr>
              <a:t>«Рисуем без кисточки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1078"/>
                </a:solidFill>
                <a:latin typeface="Times New Roman"/>
              </a:rPr>
              <a:t>(Техника цветные опилк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Подзаголовок 2"/>
          <p:cNvSpPr/>
          <p:nvPr/>
        </p:nvSpPr>
        <p:spPr>
          <a:xfrm>
            <a:off x="4716360" y="4292640"/>
            <a:ext cx="4248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упицына Татьяна Владимировна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спитатель  </a:t>
            </a:r>
            <a:r>
              <a:rPr b="1" i="1" lang="en-US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. категории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Прямоугольник 7"/>
          <p:cNvSpPr/>
          <p:nvPr/>
        </p:nvSpPr>
        <p:spPr>
          <a:xfrm>
            <a:off x="226836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rebuchet MS"/>
              </a:rPr>
              <a:t>п</a:t>
            </a:r>
            <a:r>
              <a:rPr b="0" i="1" lang="en-US" sz="1800" spc="-1" strike="noStrike">
                <a:solidFill>
                  <a:srgbClr val="0000cc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cc"/>
                </a:solidFill>
                <a:latin typeface="Trebuchet MS"/>
              </a:rPr>
              <a:t>Новоорс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rebuchet MS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1042920" y="-414360"/>
            <a:ext cx="7885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Calibri"/>
              </a:rPr>
              <a:t>«Детский сад общеразвивающего вида с приоритетным осуществлением деятельности по физическому развитию воспитанников» № 6 «Почемучк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971280" y="764640"/>
            <a:ext cx="7124760" cy="40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 шаг.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 Затем готовим весь необходимый материал для работы: клей ПВА, кисточку для клея </a:t>
            </a:r>
            <a:r>
              <a:rPr b="1" lang="ru-RU" sz="1800" spc="-1" strike="noStrike">
                <a:solidFill>
                  <a:srgbClr val="5d0da5"/>
                </a:solidFill>
                <a:latin typeface="Verdana"/>
              </a:rPr>
              <a:t>(для живописи не подходит, нужна грубая щетина)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, и окрашенные опилки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87" name="Рисунок 3" descr="DSC01314"/>
          <p:cNvPicPr/>
          <p:nvPr/>
        </p:nvPicPr>
        <p:blipFill>
          <a:blip r:embed="rId1"/>
          <a:stretch/>
        </p:blipFill>
        <p:spPr>
          <a:xfrm>
            <a:off x="1979640" y="3284640"/>
            <a:ext cx="44179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115640" y="620640"/>
            <a:ext cx="7124760" cy="52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шаг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По контуру рисунка, частями, наносится клей ПВА методом «прикладывания кисточки» по форме предмета и тут же посыпаются опилки нужного цвета, держа и растирая их подушечками пальцев. Затем можно добавить опилки дополнительного цвета для оттенка. (растирать опилки нужно обязательно, чтобы они были рыхлыми и «пушистыми» и + для массажа подушечек пальцев. Нанесенные опилки можно сверху прижать салфеткой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89" name="Рисунок 2" descr="2zO7218KOwE.jpg"/>
          <p:cNvPicPr/>
          <p:nvPr/>
        </p:nvPicPr>
        <p:blipFill>
          <a:blip r:embed="rId1"/>
          <a:stretch/>
        </p:blipFill>
        <p:spPr>
          <a:xfrm>
            <a:off x="1258920" y="4221000"/>
            <a:ext cx="2644920" cy="220536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3" descr="92Uv3E2IE2s.jpg"/>
          <p:cNvPicPr/>
          <p:nvPr/>
        </p:nvPicPr>
        <p:blipFill>
          <a:blip r:embed="rId2"/>
          <a:stretch/>
        </p:blipFill>
        <p:spPr>
          <a:xfrm>
            <a:off x="4356000" y="4149720"/>
            <a:ext cx="2517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шаг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Для большей передачи объема, клей наносится поверх приклеенных опилок (примерно через 15-20 мин) небольшими капельками и сразу посыпаются опилки желаемого цвета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1009800" y="1806480"/>
            <a:ext cx="7124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шаг.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 Фон картины можно выполнить опилками естественного цвета, нанося клей широкими мазками </a:t>
            </a:r>
            <a:r>
              <a:rPr b="1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(при таком нанесении остается малое кол-во клея на картоне — приклеится мало опилок).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Пробелов (цвета картона) в рисунке предметов не должно быть. Клей наносить кистью в большом количестве каплями или мелкими мазками на предметы рисунка, но не в виде лужицы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93" name="Рисунок 3" descr="EWt2kH8s1DE.jpg"/>
          <p:cNvPicPr/>
          <p:nvPr/>
        </p:nvPicPr>
        <p:blipFill>
          <a:blip r:embed="rId1"/>
          <a:stretch/>
        </p:blipFill>
        <p:spPr>
          <a:xfrm>
            <a:off x="1332000" y="3789360"/>
            <a:ext cx="62643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115640" y="1700280"/>
            <a:ext cx="7124760" cy="13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шаг.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Готовую работу оставляем до полного высыхания, а затем закрепляем лаком 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ля волос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95" name="Рисунок 2" descr="BupN9zKLHy8.jpg"/>
          <p:cNvPicPr/>
          <p:nvPr/>
        </p:nvPicPr>
        <p:blipFill>
          <a:blip r:embed="rId1"/>
          <a:stretch/>
        </p:blipFill>
        <p:spPr>
          <a:xfrm>
            <a:off x="1979640" y="2852640"/>
            <a:ext cx="547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Содержимое 3" descr="9N6GLMzNHeM.jpg"/>
          <p:cNvPicPr/>
          <p:nvPr/>
        </p:nvPicPr>
        <p:blipFill>
          <a:blip r:embed="rId1"/>
          <a:stretch/>
        </p:blipFill>
        <p:spPr>
          <a:xfrm>
            <a:off x="971640" y="189000"/>
            <a:ext cx="3049560" cy="287964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5" descr="Dbz_o26nJMQ.jpg"/>
          <p:cNvPicPr/>
          <p:nvPr/>
        </p:nvPicPr>
        <p:blipFill>
          <a:blip r:embed="rId2"/>
          <a:stretch/>
        </p:blipFill>
        <p:spPr>
          <a:xfrm>
            <a:off x="4932360" y="115920"/>
            <a:ext cx="3384720" cy="316080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6" descr="kSjRW2ebBoU.jpg"/>
          <p:cNvPicPr/>
          <p:nvPr/>
        </p:nvPicPr>
        <p:blipFill>
          <a:blip r:embed="rId3"/>
          <a:stretch/>
        </p:blipFill>
        <p:spPr>
          <a:xfrm>
            <a:off x="895320" y="3357720"/>
            <a:ext cx="3460680" cy="295092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7" descr="Nm4s6Ntwr74.jpg"/>
          <p:cNvPicPr/>
          <p:nvPr/>
        </p:nvPicPr>
        <p:blipFill>
          <a:blip r:embed="rId4"/>
          <a:stretch/>
        </p:blipFill>
        <p:spPr>
          <a:xfrm>
            <a:off x="4932360" y="3429000"/>
            <a:ext cx="3311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Содержимое 3" descr="v16AVK3y2jQ.jpg"/>
          <p:cNvPicPr/>
          <p:nvPr/>
        </p:nvPicPr>
        <p:blipFill>
          <a:blip r:embed="rId1"/>
          <a:stretch/>
        </p:blipFill>
        <p:spPr>
          <a:xfrm>
            <a:off x="900000" y="189000"/>
            <a:ext cx="3888000" cy="5184720"/>
          </a:xfrm>
          <a:prstGeom prst="rect">
            <a:avLst/>
          </a:prstGeom>
          <a:ln w="0">
            <a:noFill/>
          </a:ln>
        </p:spPr>
      </p:pic>
      <p:pic>
        <p:nvPicPr>
          <p:cNvPr id="601" name="Рисунок 4" descr="x2BD3TbzovM.jpg"/>
          <p:cNvPicPr/>
          <p:nvPr/>
        </p:nvPicPr>
        <p:blipFill>
          <a:blip r:embed="rId2"/>
          <a:stretch/>
        </p:blipFill>
        <p:spPr>
          <a:xfrm>
            <a:off x="5148360" y="189000"/>
            <a:ext cx="345600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Содержимое 3" descr="xx-AFc3RrDA.jpg"/>
          <p:cNvPicPr/>
          <p:nvPr/>
        </p:nvPicPr>
        <p:blipFill>
          <a:blip r:embed="rId1"/>
          <a:stretch/>
        </p:blipFill>
        <p:spPr>
          <a:xfrm>
            <a:off x="1042920" y="189000"/>
            <a:ext cx="2446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32920" cy="697716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8"/>
          <p:cNvSpPr/>
          <p:nvPr/>
        </p:nvSpPr>
        <p:spPr>
          <a:xfrm>
            <a:off x="229248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Прямоугольник 3"/>
          <p:cNvSpPr/>
          <p:nvPr/>
        </p:nvSpPr>
        <p:spPr>
          <a:xfrm>
            <a:off x="1476360" y="1881360"/>
            <a:ext cx="727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Прямоугольник 5"/>
          <p:cNvSpPr/>
          <p:nvPr/>
        </p:nvSpPr>
        <p:spPr>
          <a:xfrm>
            <a:off x="2286000" y="33660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…Это правда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его же тут скрывать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любят, очень любят рисовать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умаге, на асфальте, на стен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трамвае на окне…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. Успен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32920" cy="697716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оугольник 8"/>
          <p:cNvSpPr/>
          <p:nvPr/>
        </p:nvSpPr>
        <p:spPr>
          <a:xfrm>
            <a:off x="229248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Прямоугольник 3"/>
          <p:cNvSpPr/>
          <p:nvPr/>
        </p:nvSpPr>
        <p:spPr>
          <a:xfrm>
            <a:off x="1403280" y="247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Прямоугольник 1"/>
          <p:cNvSpPr/>
          <p:nvPr/>
        </p:nvSpPr>
        <p:spPr>
          <a:xfrm>
            <a:off x="1908000" y="1133640"/>
            <a:ext cx="715032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Цель: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аспространение и передача педагогического опыта, обучение технике рисования цветны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пил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вышение профессионального мастерст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едагог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Знакомство педагогов с техникой рис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цветными опил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1908000" y="4797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32920" cy="700416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8"/>
          <p:cNvSpPr/>
          <p:nvPr/>
        </p:nvSpPr>
        <p:spPr>
          <a:xfrm>
            <a:off x="2298600" y="18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Прямоугольник 3"/>
          <p:cNvSpPr/>
          <p:nvPr/>
        </p:nvSpPr>
        <p:spPr>
          <a:xfrm>
            <a:off x="1403280" y="247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Прямоугольник 2"/>
          <p:cNvSpPr/>
          <p:nvPr/>
        </p:nvSpPr>
        <p:spPr>
          <a:xfrm>
            <a:off x="2627280" y="387360"/>
            <a:ext cx="57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Чем полезно рисование цветны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пилками для де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Прямоугольник 4"/>
          <p:cNvSpPr/>
          <p:nvPr/>
        </p:nvSpPr>
        <p:spPr>
          <a:xfrm>
            <a:off x="1652760" y="155736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создает удивительный цветной мир, развивая фантазию и воображе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развивает мелкую моторику и координацию движений, так как высыпать из щепотки цветные опилки нужно «прицельно» и аккуратн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становится внимательнее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аккуратнее, так как от этого зависит качество произвед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Рисуя опилками, ребенок отдыхает и успокаивается. Этот эффект связан со свойствами самого материала: древесные опилки приятны на ощупь, послушны творц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32920" cy="697716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8"/>
          <p:cNvSpPr/>
          <p:nvPr/>
        </p:nvSpPr>
        <p:spPr>
          <a:xfrm>
            <a:off x="2298600" y="18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Прямоугольник 3"/>
          <p:cNvSpPr/>
          <p:nvPr/>
        </p:nvSpPr>
        <p:spPr>
          <a:xfrm>
            <a:off x="1403280" y="247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Прямоугольник 2"/>
          <p:cNvSpPr/>
          <p:nvPr/>
        </p:nvSpPr>
        <p:spPr>
          <a:xfrm>
            <a:off x="2627280" y="387360"/>
            <a:ext cx="57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ля рисования цветными опилка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требуетс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Прямоугольник 5"/>
          <p:cNvSpPr/>
          <p:nvPr/>
        </p:nvSpPr>
        <p:spPr>
          <a:xfrm>
            <a:off x="2286000" y="1341360"/>
            <a:ext cx="523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ревесные опил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уашь или колле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Емкости для окрашивания и сушки опило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и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Вод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Клей П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умага или распечатанный рису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Влажные салфет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∗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Лак для воло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69" name="Содержимое 3" descr="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4"/>
          <p:cNvSpPr/>
          <p:nvPr/>
        </p:nvSpPr>
        <p:spPr>
          <a:xfrm>
            <a:off x="1619280" y="1628640"/>
            <a:ext cx="69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Пошаговый процесс рисования цветными опилками</a:t>
            </a:r>
            <a:r>
              <a:rPr b="1" lang="en-US" sz="32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Прямоугольник 6"/>
          <p:cNvSpPr/>
          <p:nvPr/>
        </p:nvSpPr>
        <p:spPr>
          <a:xfrm>
            <a:off x="1187280" y="28288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 шаг: </a:t>
            </a:r>
            <a:r>
              <a:rPr b="0" lang="ru-RU" sz="2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Вначале необходимо просеять опилки через сито или дуршлаг </a:t>
            </a:r>
            <a:r>
              <a:rPr b="1" lang="ru-RU" sz="2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(чем мельче опилки, тем картина получится аккуратнее)</a:t>
            </a:r>
            <a:r>
              <a:rPr b="0" lang="ru-RU" sz="2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2" name="Рисунок 3" descr="DSC01275"/>
          <p:cNvPicPr/>
          <p:nvPr/>
        </p:nvPicPr>
        <p:blipFill>
          <a:blip r:embed="rId2"/>
          <a:stretch/>
        </p:blipFill>
        <p:spPr>
          <a:xfrm>
            <a:off x="2771640" y="4221000"/>
            <a:ext cx="3040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187280" y="2205000"/>
            <a:ext cx="7956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 шаг.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Затем нужно окрасить опилки в нужные цвета. Для этого </a:t>
            </a:r>
            <a:r>
              <a:rPr b="0" lang="en-US" sz="1800" spc="-1" strike="noStrike">
                <a:solidFill>
                  <a:srgbClr val="5d0da5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гуашевую краску разведем водой и поместим в получившуюся жидкую краску опилки. Будем добавлять опилки до тех пор, пока вода при нажатии на опилки не будет выделяться. Дать пропитаться опилкам 15-20 минут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74" name="Рисунок 4" descr="DSC01280"/>
          <p:cNvPicPr/>
          <p:nvPr/>
        </p:nvPicPr>
        <p:blipFill>
          <a:blip r:embed="rId1"/>
          <a:stretch/>
        </p:blipFill>
        <p:spPr>
          <a:xfrm>
            <a:off x="250920" y="3500280"/>
            <a:ext cx="2178000" cy="225612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5" descr="DSC01281"/>
          <p:cNvPicPr/>
          <p:nvPr/>
        </p:nvPicPr>
        <p:blipFill>
          <a:blip r:embed="rId2"/>
          <a:stretch/>
        </p:blipFill>
        <p:spPr>
          <a:xfrm>
            <a:off x="3203640" y="3500280"/>
            <a:ext cx="2284200" cy="223704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6" descr="DSC01282"/>
          <p:cNvPicPr/>
          <p:nvPr/>
        </p:nvPicPr>
        <p:blipFill>
          <a:blip r:embed="rId3"/>
          <a:stretch/>
        </p:blipFill>
        <p:spPr>
          <a:xfrm>
            <a:off x="6300720" y="3500280"/>
            <a:ext cx="232272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009800" y="2060280"/>
            <a:ext cx="7124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marL="212400" indent="-2124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 шаг.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 Окрашенные опилки раскладываем на тарелочки или листы бумаги для высыхания. После высыхания раскладываем цветные опилки по контейнерам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212400" indent="-2124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78" name="Рисунок 3" descr="DSC01284"/>
          <p:cNvPicPr/>
          <p:nvPr/>
        </p:nvPicPr>
        <p:blipFill>
          <a:blip r:embed="rId1"/>
          <a:stretch/>
        </p:blipFill>
        <p:spPr>
          <a:xfrm>
            <a:off x="1258920" y="2708280"/>
            <a:ext cx="1095480" cy="110484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4" descr="DSC01298"/>
          <p:cNvPicPr/>
          <p:nvPr/>
        </p:nvPicPr>
        <p:blipFill>
          <a:blip r:embed="rId2"/>
          <a:stretch/>
        </p:blipFill>
        <p:spPr>
          <a:xfrm>
            <a:off x="2771640" y="2708280"/>
            <a:ext cx="1209960" cy="110484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5" descr="DSC01295"/>
          <p:cNvPicPr/>
          <p:nvPr/>
        </p:nvPicPr>
        <p:blipFill>
          <a:blip r:embed="rId3"/>
          <a:stretch/>
        </p:blipFill>
        <p:spPr>
          <a:xfrm>
            <a:off x="4427640" y="2708280"/>
            <a:ext cx="1152360" cy="110484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6" descr="DSC01294"/>
          <p:cNvPicPr/>
          <p:nvPr/>
        </p:nvPicPr>
        <p:blipFill>
          <a:blip r:embed="rId4"/>
          <a:stretch/>
        </p:blipFill>
        <p:spPr>
          <a:xfrm>
            <a:off x="6012000" y="2708280"/>
            <a:ext cx="1114200" cy="110484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7" descr="DSC01320"/>
          <p:cNvPicPr/>
          <p:nvPr/>
        </p:nvPicPr>
        <p:blipFill>
          <a:blip r:embed="rId5"/>
          <a:stretch/>
        </p:blipFill>
        <p:spPr>
          <a:xfrm>
            <a:off x="2843280" y="4221000"/>
            <a:ext cx="3009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99640" y="907920"/>
            <a:ext cx="7417080" cy="31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 шаг</a:t>
            </a:r>
            <a:r>
              <a:rPr b="1" lang="ru-RU" sz="1800" spc="-1" strike="noStrike">
                <a:solidFill>
                  <a:srgbClr val="5d0da5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 На картоне нужно выполнить набросок простым карандашом или взять готовую раскраску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84" name="Рисунок 2" descr="JnnGc7eKXXw.jpg"/>
          <p:cNvPicPr/>
          <p:nvPr/>
        </p:nvPicPr>
        <p:blipFill>
          <a:blip r:embed="rId1"/>
          <a:stretch/>
        </p:blipFill>
        <p:spPr>
          <a:xfrm>
            <a:off x="1476360" y="3357720"/>
            <a:ext cx="3211560" cy="295092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3" descr="J0QJbke0ZhU.jpg"/>
          <p:cNvPicPr/>
          <p:nvPr/>
        </p:nvPicPr>
        <p:blipFill>
          <a:blip r:embed="rId2"/>
          <a:stretch/>
        </p:blipFill>
        <p:spPr>
          <a:xfrm>
            <a:off x="4859280" y="3357720"/>
            <a:ext cx="2789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4:48:08Z</dcterms:created>
  <dc:creator>RePack by Diakov</dc:creator>
  <dc:description/>
  <dc:language>en-US</dc:language>
  <cp:lastModifiedBy>Admin</cp:lastModifiedBy>
  <dcterms:modified xsi:type="dcterms:W3CDTF">2019-04-07T15:00:19Z</dcterms:modified>
  <cp:revision>178</cp:revision>
  <dc:subject/>
  <dc:title>Презентация PowerPoint</dc:title>
</cp:coreProperties>
</file>