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731-9A6D-4E97-9961-40A5F55C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B8C-73A5-4BDE-B20C-0EF4C9C2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AC0-4EE1-41FB-8456-0FA78D66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F6A-4D15-464E-8D55-2464ED6E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E0B-CB5B-4915-9AE6-E0A11AFB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F10A-54CC-4EA1-AD86-6A3595E6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F257-90A7-47E9-96CC-6EEF9219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FAFE-CA8C-4EE5-A267-1273904E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30D-35AE-4A95-855D-EDE7F014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CB0-3474-4D99-9C04-036154C0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738-158C-4A6B-A1D3-26D2F051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E83-DC0E-4FF4-8E1E-D4979BA6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8C61-2A5E-42C4-902C-3D7280D72A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42680"/>
            <a:ext cx="7772400" cy="19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Ментальные карты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ак средство познания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кружающего ми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8720" y="4285800"/>
            <a:ext cx="3343320" cy="13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нышева Т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составления ментальных кар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42600" y="1285920"/>
            <a:ext cx="7929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полагайте лист горизонтально. Такую карту удобнее чит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арайтесь организовывать пространство, не оставлять пустого места и не размещать ветви слишком плот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ля небольшой ментальной карты используйте лист А4, для большой темы — А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язательно используйте разные цвета для основных ветвей. Это помогает целостному и структурированному восприят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Часто используйте рисунки и символы (для центральной темы рисунок обязателен). В принципе ментальная карта вообще может целиком состоять из рисунков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составления ментальных кар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14240" y="1285920"/>
            <a:ext cx="77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лина линии должна равняться длине слова. Это экономнее и чищ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азросшиеся ветви можно заключать в контуры, чтобы они не смешивались с соседними ветв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ишите печатными буквами, как можно яснее и четч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ишите на каждой линии только одно ключевое слов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 Варьируйте размер букв, цвет и толщину линий в зависимости от степени важности ключевого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Используйте стрелки, когда необходимо показать связи между элементами ментальной кар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C:\Users\Admin\Desktop\ментальность\slide_23 (1).jpg"/>
          <p:cNvPicPr/>
          <p:nvPr/>
        </p:nvPicPr>
        <p:blipFill>
          <a:blip r:embed="rId1"/>
          <a:stretch/>
        </p:blipFill>
        <p:spPr>
          <a:xfrm>
            <a:off x="809640" y="5716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6843600" y="5643720"/>
            <a:ext cx="12146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:\Users\Admin\Desktop\ментальность\slide_24.jpg"/>
          <p:cNvPicPr/>
          <p:nvPr/>
        </p:nvPicPr>
        <p:blipFill>
          <a:blip r:embed="rId1"/>
          <a:stretch/>
        </p:blipFill>
        <p:spPr>
          <a:xfrm>
            <a:off x="714240" y="571680"/>
            <a:ext cx="7524720" cy="5643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6429240" y="5572080"/>
            <a:ext cx="15717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85880" y="1642680"/>
            <a:ext cx="75722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 свободно выражайте свои иде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творческими, яркими, выразительны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меньше вы будете себя ограничивать, тем лучше получится кар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принципа – одна поправка: если вы рисуете карту не для себя, а для показа другим людям – то тогда стоит все-таки придерживаться тех следующих прави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2"/>
          <p:cNvSpPr/>
          <p:nvPr/>
        </p:nvSpPr>
        <p:spPr>
          <a:xfrm>
            <a:off x="928800" y="50004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составления ментальных кар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ЕРГЕЯ ШИПУ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42960" y="928440"/>
            <a:ext cx="7586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 собственный сти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ремитесь подражать кому-то другом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увеличивай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то-то утрированно преувеличенно  - то это лучше запоминает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ерьез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мор великая сила. Если ваша карта заставляет улыбаться или даже смеяться – то она вызывает эмоцию, на волне которой карта лучше остается в памя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ая карта сильнее вызывает нужные эмоции и ассоциации. Рисуйте красив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1571400"/>
            <a:ext cx="8229600" cy="30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етода</a:t>
            </a:r>
            <a:br>
              <a:rPr sz="4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ьных карт </a:t>
            </a:r>
            <a:br>
              <a:rPr sz="5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школьном образован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4000" y="685800"/>
            <a:ext cx="745956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тод интеллект-карт основывается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наглядно-образном мышлении ребенка, который является основным в дошкольном возраст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менение интеллект-карт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буждает ребёнка к изображению и осмыслению окружающего ми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857160" y="1213920"/>
            <a:ext cx="7786800" cy="48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 применения метода ментальных кар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достигае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глядн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влекательн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поминаем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евременн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ворчеств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зможностью пересмот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71680" y="1357200"/>
            <a:ext cx="7858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материала о предмете или объект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нтеллект – карты в ходе  обсуждения предмета или т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роводится, как индивидуально, так и фронта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58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357200" y="928800"/>
            <a:ext cx="6858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ьные карт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  разработка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и Бьюзе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го писателя, лектора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нта по вопросам интеллекта,  психологии обучения и проблем мыш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28760" y="1214280"/>
            <a:ext cx="82152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и обобщение материал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бобщенной интеллект - карты может являться итоговой работой по изученной темам или процессом ее из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роводится, как индивидуально, так и фронта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44120" y="1356840"/>
            <a:ext cx="7899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вязной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 и распространение предложений и рассказов по интеллект-карт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работа выполняется на подгрупповых занятиях по развитию связной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58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4000" y="1143000"/>
            <a:ext cx="77454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создания ментальных  кар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тьми дошкольного возрас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цели – рождение ид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зговой штурм», цель которого — записать все ассоциативно появившиеся идеи, связанные с создаваемым интеллектуальным продук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нтеллект карты – структурирование информации, продумывание хода «детского исслед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формление» интеллект карты в ходе «детского исслед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:\102NIKON\DSCN7855.JPG"/>
          <p:cNvPicPr/>
          <p:nvPr/>
        </p:nvPicPr>
        <p:blipFill>
          <a:blip r:embed="rId2"/>
          <a:stretch/>
        </p:blipFill>
        <p:spPr>
          <a:xfrm>
            <a:off x="1214280" y="1143000"/>
            <a:ext cx="6924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I:\102NIKON\DSCN7853.JPG"/>
          <p:cNvPicPr/>
          <p:nvPr/>
        </p:nvPicPr>
        <p:blipFill>
          <a:blip r:embed="rId2"/>
          <a:stretch/>
        </p:blipFill>
        <p:spPr>
          <a:xfrm>
            <a:off x="1143000" y="1000080"/>
            <a:ext cx="69246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Users\Admin\Desktop\ментальность\mindmap10.png"/>
          <p:cNvPicPr/>
          <p:nvPr/>
        </p:nvPicPr>
        <p:blipFill>
          <a:blip r:embed="rId2"/>
          <a:stretch/>
        </p:blipFill>
        <p:spPr>
          <a:xfrm>
            <a:off x="826920" y="973080"/>
            <a:ext cx="750096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дель трех вопросов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жон Дью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2285640"/>
            <a:ext cx="3043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я зна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хочу узн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я могу это сдел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2"/>
          <a:stretch/>
        </p:blipFill>
        <p:spPr>
          <a:xfrm>
            <a:off x="4143240" y="2365200"/>
            <a:ext cx="45720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4360" y="1428480"/>
            <a:ext cx="7673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ом мире с большим потоком информации, применение мыслительных карт в непосредственной образовательной деятельности дошкольников, а в особенности дошкольников с ТНР и ЗПР, даёт огромные положительные результа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реализации ФГОС использование интеллект-карты  или других способов работы с информацией позволяет осуществлять интеграцию областей: коммуникация, познание и социал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остается за вам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42600" y="2928960"/>
            <a:ext cx="76741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им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4"/>
          <p:cNvSpPr/>
          <p:nvPr/>
        </p:nvSpPr>
        <p:spPr>
          <a:xfrm>
            <a:off x="857160" y="1143000"/>
            <a:ext cx="77868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ьная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интеллект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т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графическое выражение процесса радиантного мышления и поэтому является естественным продуктом деятельности человеческого моз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857160" y="387972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антное мыш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это процесс мышления, при котором в центре находится некий объект, дающий импульс к рождению множества ассоциаций, которые становятся центральным образом уже для другого ассоциативного проце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Admin\Desktop\ментальность\1212.jpg"/>
          <p:cNvPicPr/>
          <p:nvPr/>
        </p:nvPicPr>
        <p:blipFill>
          <a:blip r:embed="rId1"/>
          <a:stretch/>
        </p:blipFill>
        <p:spPr>
          <a:xfrm>
            <a:off x="642960" y="1000080"/>
            <a:ext cx="79660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ие и нейропсихологические принципы работы головного мозга человека, которые заложены в основу метода интеллект карт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2214360"/>
            <a:ext cx="45432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ллект карта по форме напоминает нейрон (клетку головного мозга)со множеством ответвл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s://st.depositphotos.com/1034502/2017/v/950/depositphotos_20175093-stock-illustration-illustration-neuron.jpg"/>
          <p:cNvPicPr/>
          <p:nvPr/>
        </p:nvPicPr>
        <p:blipFill>
          <a:blip r:embed="rId1"/>
          <a:stretch/>
        </p:blipFill>
        <p:spPr>
          <a:xfrm>
            <a:off x="4572000" y="1857240"/>
            <a:ext cx="39956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77835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85560" y="1285920"/>
            <a:ext cx="6643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на ментальной карте максимально визуализирована, ее можно окинуть «одним взглядом», что помогает навести порядок в голове, получить целостную картину и отыскать новые ассоци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I:\102NIKON\DSCN7859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981000" y="1357200"/>
            <a:ext cx="71629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одержимое 2"/>
          <p:cNvSpPr/>
          <p:nvPr/>
        </p:nvSpPr>
        <p:spPr>
          <a:xfrm>
            <a:off x="571680" y="571680"/>
            <a:ext cx="822960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карты для следующих целей: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учени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пектирование лекци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пектирование книг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готовка материала по определенной тем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шение творческих задач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зговой штур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зентаци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ланирование и разрабока проектов разной слож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ставление списков де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ни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дение тренинго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интеллектуальных способносте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шение личных проблем 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2T03:32:53Z</dcterms:created>
  <dc:creator>Admin</dc:creator>
  <dc:description/>
  <dc:language>en-US</dc:language>
  <cp:lastModifiedBy>Светлана</cp:lastModifiedBy>
  <dcterms:modified xsi:type="dcterms:W3CDTF">2020-08-27T14:40:07Z</dcterms:modified>
  <cp:revision>95</cp:revision>
  <dc:subject/>
  <dc:title>Ментальные карты</dc:title>
</cp:coreProperties>
</file>