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6ED-2C3F-4963-AF5D-65F024A4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5DB-830E-466B-803F-AC5E1F3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D71-8947-4B86-83A0-82C8F042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3E8-F968-46E9-B5A7-15B5FA04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6C8-D349-407A-A0A2-78BECB50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190-043F-42EF-983E-CA89263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970-F2C3-4A54-9FC8-68255E8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A86-9732-4508-8B62-8D51754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954-1587-4061-9DC5-93C9628F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165-4E5B-4081-ABB9-1A9715E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FE8-16B5-4289-8DFC-05B7A30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B6B-32A5-4445-9FA6-74601F2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050-E5E1-4863-8ACE-6285E09D9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ентальные карты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 средство познани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кружающ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4285800"/>
            <a:ext cx="33433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нышева Т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600" y="128592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олагайте лист горизонтально. Такую карту удобнее 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райтесь организовывать пространство, не оставлять пустого места и не размещать ветви слишком пло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ля небольшой ментальной карты используйте лист А4, для большой темы — А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язательно используйте разные цвета для основных ветвей. Это помогает целостному и структурированному восприят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асто используйте рисунки и символы (для центральной темы рисунок обязателен). В принципе ментальная карта вообще может целиком состоять из рисунков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14240" y="128592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лина линии должна равняться длине слова. Это экономнее и ч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росшиеся ветви можно заключать в контуры, чтобы они не смешивались с соседними ветв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ишите печатными буквами, как можно яснее и чет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ишите на каждой линии только одно ключевое слов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Варьируйте размер букв, цвет и толщину линий в зависимости от степени важности ключевого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Используйте стрелки, когда необходимо показать связи между элементами ментальной кар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Admin\Desktop\ментальность\slide_23 (1).jpg"/>
          <p:cNvPicPr/>
          <p:nvPr/>
        </p:nvPicPr>
        <p:blipFill>
          <a:blip r:embed="rId1"/>
          <a:stretch/>
        </p:blipFill>
        <p:spPr>
          <a:xfrm>
            <a:off x="80964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6843600" y="5643720"/>
            <a:ext cx="12146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Users\Admin\Desktop\ментальность\slide_24.jpg"/>
          <p:cNvPicPr/>
          <p:nvPr/>
        </p:nvPicPr>
        <p:blipFill>
          <a:blip r:embed="rId1"/>
          <a:stretch/>
        </p:blipFill>
        <p:spPr>
          <a:xfrm>
            <a:off x="714240" y="571680"/>
            <a:ext cx="7524720" cy="5643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429240" y="5572080"/>
            <a:ext cx="15717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85880" y="1642680"/>
            <a:ext cx="75722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свободно выражайте свои иде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ворческими, яркими, выразительн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вы будете себя ограничивать, тем лучше получится ка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принципа – одна поправка: если вы рисуете карту не для себя, а для показа другим людям – то тогда стоит все-таки придерживаться тех следующих прави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928800" y="5000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ЕРГЕЯ ШИПУ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42960" y="928440"/>
            <a:ext cx="7586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собственный ст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митесь подражать кому-то друго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величив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утрированно преувеличенно  - то это лучше запомин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ерьез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 великая сила. Если ваша карта заставляет улыбаться или даже смеяться – то она вызывает эмоцию, на волне которой карта лучше остается в памя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 карта сильнее вызывает нужные эмоции и ассоциации. Рисуйте красив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157140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етода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х карт </a:t>
            </a: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образов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000" y="685800"/>
            <a:ext cx="745956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 интеллект-карт основываетс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аглядно-образном мышлении ребенка, который является основным в дошкольном возрас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нение интеллект-карт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буждает ребёнка к изображению и осмыслению окружающего ми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7160" y="1213920"/>
            <a:ext cx="778680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именения метода ментальных ка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достиг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екатель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минаем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време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ю пересмот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1680" y="1357200"/>
            <a:ext cx="7858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о предмете или объек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ллект – карты в ходе  обсуждения предмета или т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оводится, как индивидуально, так и фрон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57200" y="928800"/>
            <a:ext cx="685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 разработ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го писателя, лектор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а по вопросам интеллекта,  психологии обучения и проблем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 обобщение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бобщенной интеллект - карты может являться итоговой работой по изученной темам или процессом ее из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оводится, как индивидуально, так и фрон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44120" y="1356840"/>
            <a:ext cx="7899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 и распространение предложений и рассказов по интеллект-кар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выполняется на подгрупповых занятиях по развитию связ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4000" y="1143000"/>
            <a:ext cx="7745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здания ментальных  ка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и – рождение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зговой штурм», цель которого — записать все ассоциативно появившиеся идеи, связанные с создаваемым интеллектуальным продук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ллект карты – структурирование информации, продумывание хода «детского исслед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формление» интеллект карты в ходе «детского исслед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:\102NIKON\DSCN7855.JPG"/>
          <p:cNvPicPr/>
          <p:nvPr/>
        </p:nvPicPr>
        <p:blipFill>
          <a:blip r:embed="rId2"/>
          <a:stretch/>
        </p:blipFill>
        <p:spPr>
          <a:xfrm>
            <a:off x="1214280" y="1143000"/>
            <a:ext cx="6924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:\102NIKON\DSCN7853.JPG"/>
          <p:cNvPicPr/>
          <p:nvPr/>
        </p:nvPicPr>
        <p:blipFill>
          <a:blip r:embed="rId2"/>
          <a:stretch/>
        </p:blipFill>
        <p:spPr>
          <a:xfrm>
            <a:off x="1143000" y="1000080"/>
            <a:ext cx="69246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Admin\Desktop\ментальность\mindmap10.png"/>
          <p:cNvPicPr/>
          <p:nvPr/>
        </p:nvPicPr>
        <p:blipFill>
          <a:blip r:embed="rId2"/>
          <a:stretch/>
        </p:blipFill>
        <p:spPr>
          <a:xfrm>
            <a:off x="826920" y="973080"/>
            <a:ext cx="7500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вопрос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он Дью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285640"/>
            <a:ext cx="3043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я зна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хочу у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могу это с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4143240" y="2365200"/>
            <a:ext cx="4572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360" y="1428480"/>
            <a:ext cx="7673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с большим потоком информации, применение мыслительных карт в непосредственной образовательной деятельности дошкольников, а в особенности дошкольников с ТНР и ЗПР, даёт огромные положительные результа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реализации ФГОС использование интеллект-карты  или других способов работы с информацией позволяет осуществлять интеграцию областей: коммуникация, познание и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тается за ва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42600" y="2928960"/>
            <a:ext cx="7674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857160" y="1143000"/>
            <a:ext cx="77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нтеллект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ческое выражение процесса радиантного мышления и поэтому является естественным продуктом деятельности человеческого моз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857160" y="387972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тное мыш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цесс мышления, при котором в центре находится некий объект, дающий импульс к рождению множества ассоциаций, которые становятся центральным образом уже для другого ассоциатив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\Desktop\ментальность\1212.jpg"/>
          <p:cNvPicPr/>
          <p:nvPr/>
        </p:nvPicPr>
        <p:blipFill>
          <a:blip r:embed="rId1"/>
          <a:stretch/>
        </p:blipFill>
        <p:spPr>
          <a:xfrm>
            <a:off x="642960" y="1000080"/>
            <a:ext cx="7966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 нейропсихологические принципы работы головного мозга человека, которые заложены в основу метода интеллект кар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2214360"/>
            <a:ext cx="45432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 карта по форме напоминает нейрон (клетку головного мозга)со множеством ответ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st.depositphotos.com/1034502/2017/v/950/depositphotos_20175093-stock-illustration-illustration-neuron.jpg"/>
          <p:cNvPicPr/>
          <p:nvPr/>
        </p:nvPicPr>
        <p:blipFill>
          <a:blip r:embed="rId1"/>
          <a:stretch/>
        </p:blipFill>
        <p:spPr>
          <a:xfrm>
            <a:off x="4572000" y="1857240"/>
            <a:ext cx="3995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7835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85560" y="1285920"/>
            <a:ext cx="6643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ментальной карте максимально визуализирована, ее можно окинуть «одним взглядом», что помогает навести порядок в голове, получить целостную картину и отыскать новые ассоци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:\102NIKON\DSCN78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81000" y="1357200"/>
            <a:ext cx="7162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одержимое 2"/>
          <p:cNvSpPr/>
          <p:nvPr/>
        </p:nvSpPr>
        <p:spPr>
          <a:xfrm>
            <a:off x="571680" y="571680"/>
            <a:ext cx="82296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карты для следующих целей: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лек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кни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материала по определе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творческих задач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говой штур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ирование и разрабока проектов разной слож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писков де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тренинг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интеллектуальных способ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личных проблем 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03:32:53Z</dcterms:created>
  <dc:creator>Admin</dc:creator>
  <dc:description/>
  <dc:language>en-US</dc:language>
  <cp:lastModifiedBy>Светлана</cp:lastModifiedBy>
  <dcterms:modified xsi:type="dcterms:W3CDTF">2020-08-27T14:40:07Z</dcterms:modified>
  <cp:revision>95</cp:revision>
  <dc:subject/>
  <dc:title>Ментальные карты</dc:title>
</cp:coreProperties>
</file>