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22.jpeg" ContentType="image/jpeg"/>
  <Override PartName="/ppt/media/image1.jpeg" ContentType="image/jpeg"/>
  <Override PartName="/ppt/media/image2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6911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5134-54EF-4EE0-AFED-0DA49DFD0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A0EE-52B8-4C7B-9C92-E292BA5A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B219-F8F9-42D0-91B2-33828A017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6F4B-FC2A-4689-B3E0-E27DD53EB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E29E-3DD2-4CA4-9CCC-C6770AEB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555E-F591-42A4-8126-DA1889D7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80D8-9C76-49CE-B7AB-94124377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191F-3D6F-45CB-9EA2-E4868C0D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8F15-C440-4B80-AE1B-7F17F5FD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ED8F-9780-444D-B3DE-5AF1BC16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E6B8-528C-45F7-A31D-90D45EAB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D5F3-6CF0-4EA4-B3D5-2271B0B3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0C39-BB62-4760-BB82-3BEE3CB79B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5000" y="4572000"/>
            <a:ext cx="27288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нышева Т.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85920" y="1213920"/>
            <a:ext cx="6858000" cy="25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тальных кар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условие становлени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ициативности дошкольн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тальные карты может быт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овыми или совместны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642960" y="2928960"/>
            <a:ext cx="3224160" cy="281304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1428840" y="578628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«Зим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а 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5156280" y="2994120"/>
            <a:ext cx="3630600" cy="2577960"/>
          </a:xfrm>
          <a:prstGeom prst="rect">
            <a:avLst/>
          </a:prstGeom>
          <a:ln w="0">
            <a:noFill/>
          </a:ln>
        </p:spPr>
      </p:pic>
      <p:sp>
        <p:nvSpPr>
          <p:cNvPr id="65" name="TextBox 7"/>
          <p:cNvSpPr/>
          <p:nvPr/>
        </p:nvSpPr>
        <p:spPr>
          <a:xfrm>
            <a:off x="5143680" y="564372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«Зим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ая ка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тальные карты предназначен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00040" y="1428480"/>
            <a:ext cx="392904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вода в тему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веде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в по теме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диагност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оения материал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мотив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ьнейшей рабо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Admin\Desktop\108_PANA\P1080877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4429080" y="1500120"/>
            <a:ext cx="414360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>
            <a:lum bright="20000"/>
          </a:blip>
          <a:srcRect l="0" t="0" r="0" b="-1603"/>
          <a:stretch/>
        </p:blipFill>
        <p:spPr>
          <a:xfrm>
            <a:off x="642960" y="571680"/>
            <a:ext cx="2973240" cy="2238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:\Users\Admin\Desktop\108_PANA\P1080857.JPG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5500800" y="571680"/>
            <a:ext cx="2857320" cy="2143080"/>
          </a:xfrm>
          <a:prstGeom prst="rect">
            <a:avLst/>
          </a:prstGeom>
          <a:ln w="0">
            <a:noFill/>
          </a:ln>
        </p:spPr>
      </p:pic>
      <p:sp>
        <p:nvSpPr>
          <p:cNvPr id="71" name="TextBox 6"/>
          <p:cNvSpPr/>
          <p:nvPr/>
        </p:nvSpPr>
        <p:spPr>
          <a:xfrm>
            <a:off x="3714840" y="1071720"/>
            <a:ext cx="1714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а и рисунок «Снежный до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500040" y="4000680"/>
            <a:ext cx="3166920" cy="2250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C:\Users\Admin\Desktop\108_PANA\P1080856.JPG"/>
          <p:cNvPicPr/>
          <p:nvPr/>
        </p:nvPicPr>
        <p:blipFill>
          <a:blip r:embed="rId4">
            <a:lum bright="10000"/>
          </a:blip>
          <a:stretch/>
        </p:blipFill>
        <p:spPr>
          <a:xfrm>
            <a:off x="5143680" y="3357720"/>
            <a:ext cx="3643200" cy="3011400"/>
          </a:xfrm>
          <a:prstGeom prst="rect">
            <a:avLst/>
          </a:prstGeom>
          <a:ln w="0">
            <a:noFill/>
          </a:ln>
        </p:spPr>
      </p:pic>
      <p:sp>
        <p:nvSpPr>
          <p:cNvPr id="74" name="TextBox 10"/>
          <p:cNvSpPr/>
          <p:nvPr/>
        </p:nvSpPr>
        <p:spPr>
          <a:xfrm>
            <a:off x="3714840" y="4143240"/>
            <a:ext cx="1714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а и рисунок «Снежный город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оставлении коллективной ментальной карты следует учитывать интерес каждого ребе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574560" y="1571760"/>
            <a:ext cx="4068720" cy="2571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5357880" y="4000680"/>
            <a:ext cx="3173400" cy="2379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E:\11.jpg"/>
          <p:cNvPicPr/>
          <p:nvPr/>
        </p:nvPicPr>
        <p:blipFill>
          <a:blip r:embed="rId3"/>
          <a:stretch/>
        </p:blipFill>
        <p:spPr>
          <a:xfrm>
            <a:off x="5072040" y="1214280"/>
            <a:ext cx="3714840" cy="2089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E:\8.jpg"/>
          <p:cNvPicPr/>
          <p:nvPr/>
        </p:nvPicPr>
        <p:blipFill>
          <a:blip r:embed="rId4"/>
          <a:stretch/>
        </p:blipFill>
        <p:spPr>
          <a:xfrm>
            <a:off x="642960" y="4286160"/>
            <a:ext cx="3714840" cy="2094120"/>
          </a:xfrm>
          <a:prstGeom prst="rect">
            <a:avLst/>
          </a:prstGeom>
          <a:ln w="0">
            <a:noFill/>
          </a:ln>
        </p:spPr>
      </p:pic>
      <p:sp>
        <p:nvSpPr>
          <p:cNvPr id="80" name="TextBox 7"/>
          <p:cNvSpPr/>
          <p:nvPr/>
        </p:nvSpPr>
        <p:spPr>
          <a:xfrm>
            <a:off x="2435760" y="1428840"/>
            <a:ext cx="21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«Профессии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5071680" y="321480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ната «Врач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9"/>
          <p:cNvSpPr/>
          <p:nvPr/>
        </p:nvSpPr>
        <p:spPr>
          <a:xfrm>
            <a:off x="6939720" y="3643200"/>
            <a:ext cx="186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я «Балери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2719800" y="627372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а «Продавец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I:\P1080396.JPG"/>
          <p:cNvPicPr/>
          <p:nvPr/>
        </p:nvPicPr>
        <p:blipFill>
          <a:blip r:embed="rId1"/>
          <a:stretch/>
        </p:blipFill>
        <p:spPr>
          <a:xfrm>
            <a:off x="642960" y="571680"/>
            <a:ext cx="2357280" cy="2786040"/>
          </a:xfrm>
          <a:prstGeom prst="rect">
            <a:avLst/>
          </a:prstGeom>
          <a:ln w="9360">
            <a:solidFill>
              <a:srgbClr val="558ed5"/>
            </a:solidFill>
            <a:miter/>
          </a:ln>
        </p:spPr>
      </p:pic>
      <p:pic>
        <p:nvPicPr>
          <p:cNvPr id="85" name="Picture 5" descr="I:\P1080391.JPG"/>
          <p:cNvPicPr/>
          <p:nvPr/>
        </p:nvPicPr>
        <p:blipFill>
          <a:blip r:embed="rId2"/>
          <a:stretch/>
        </p:blipFill>
        <p:spPr>
          <a:xfrm>
            <a:off x="6215040" y="571680"/>
            <a:ext cx="2357640" cy="2771640"/>
          </a:xfrm>
          <a:prstGeom prst="rect">
            <a:avLst/>
          </a:prstGeom>
          <a:ln w="9360">
            <a:solidFill>
              <a:srgbClr val="558ed5"/>
            </a:solidFill>
            <a:miter/>
          </a:ln>
        </p:spPr>
      </p:pic>
      <p:sp>
        <p:nvSpPr>
          <p:cNvPr id="86" name="TextBox 6"/>
          <p:cNvSpPr/>
          <p:nvPr/>
        </p:nvSpPr>
        <p:spPr>
          <a:xfrm>
            <a:off x="3000240" y="642960"/>
            <a:ext cx="1357560" cy="64260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4857840" y="1500120"/>
            <a:ext cx="1357200" cy="64260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3"/>
          <a:stretch/>
        </p:blipFill>
        <p:spPr>
          <a:xfrm>
            <a:off x="5214960" y="3678120"/>
            <a:ext cx="3571920" cy="2679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4"/>
          <a:stretch/>
        </p:blipFill>
        <p:spPr>
          <a:xfrm>
            <a:off x="500040" y="3571920"/>
            <a:ext cx="378612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яя ментальную карт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00040" y="1213920"/>
            <a:ext cx="822960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ребенок проявляе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оизвольность поведени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амостоятельность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ремление к самореализации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щительность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ворческий подход к деятельности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ровень умственных способносте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знавательная активно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одержимое 2"/>
          <p:cNvSpPr/>
          <p:nvPr/>
        </p:nvSpPr>
        <p:spPr>
          <a:xfrm>
            <a:off x="428760" y="4786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это свидетельствует о становлении инициативности наших дет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необходимые для развития инициативности при работе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ментальными карт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2876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развивающей предметно-пространственной среды, разнообразной по содержанию и учитывающей индивидуальные и возрастные  особенности  и интересы де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ценочное принятие составленных детьми ментальных кар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детский идей в любых видах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взрослыми и родителями всех детских начина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ие детям косвенной и консультативной помощ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детские вопросы должны получить ответы или должны быть обеспечены  материалом  с информаци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Users\Admin\Desktop\108_PANA\P1080869.JPG"/>
          <p:cNvPicPr/>
          <p:nvPr/>
        </p:nvPicPr>
        <p:blipFill>
          <a:blip r:embed="rId1"/>
          <a:stretch/>
        </p:blipFill>
        <p:spPr>
          <a:xfrm>
            <a:off x="714240" y="1000080"/>
            <a:ext cx="3357720" cy="2554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C:\Users\Admin\Desktop\108_PANA\P1080868.JPG"/>
          <p:cNvPicPr/>
          <p:nvPr/>
        </p:nvPicPr>
        <p:blipFill>
          <a:blip r:embed="rId2"/>
          <a:stretch/>
        </p:blipFill>
        <p:spPr>
          <a:xfrm>
            <a:off x="4357800" y="3571920"/>
            <a:ext cx="4286160" cy="26463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семьями воспитанн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Заголовок 1"/>
          <p:cNvSpPr/>
          <p:nvPr/>
        </p:nvSpPr>
        <p:spPr>
          <a:xfrm>
            <a:off x="4929120" y="1000080"/>
            <a:ext cx="28004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сло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ьюга, мете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Заголовок 1"/>
          <p:cNvSpPr/>
          <p:nvPr/>
        </p:nvSpPr>
        <p:spPr>
          <a:xfrm>
            <a:off x="714240" y="3643200"/>
            <a:ext cx="26434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Заголовок 1"/>
          <p:cNvSpPr/>
          <p:nvPr/>
        </p:nvSpPr>
        <p:spPr>
          <a:xfrm>
            <a:off x="5929200" y="3000240"/>
            <a:ext cx="26434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и результа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7120" y="12139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тали более активны, инициативны и самостоятельны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сился уровень самоконтроля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объективной стала оценка как своих работ и деятельности, так и других детей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ились навыки анализа и систематизации информации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лись задавать вопросы и самостоятельно делать простые выводы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ние стало носить не только эмоциональный и игровой, но и информационный характер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лись самостоятельно находить  для себя интересное и полезное дело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28760" y="999720"/>
            <a:ext cx="82296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временном мире с большим потоком информации, применение мыслительных карт в непосредственной образовательной деятельности дошкольников, а в особенности дошкольников с тяжелыми нарушениями речи, даёт огромные положительные результаты, способствуя развитию всех сторон лич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3"/>
          <p:cNvSpPr/>
          <p:nvPr/>
        </p:nvSpPr>
        <p:spPr>
          <a:xfrm>
            <a:off x="1071720" y="42148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остается за вам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0040" y="78552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тальные карты  –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  разработка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и Бьюзе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стного писателя, лектора  и  консультант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опросам интеллекта,   психологии обучен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роблем мышления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28760" y="3357360"/>
            <a:ext cx="8229600" cy="27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тальная 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интеллект)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рт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графическое выражение процесса радиантного мышления и поэтому является естественным продуктом деятельности человеческого мозг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им за вним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C:\Users\Admin\Desktop\108_PANA\P1080821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антное мышл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это процесс мышления, при котором в центре находится некий объект, дающий импульс к рождению множества ассоциаций, которые становятся центральным образом уже для другого ассоциативного процесс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Admin\Desktop\ментальность\1212.jpg"/>
          <p:cNvPicPr/>
          <p:nvPr/>
        </p:nvPicPr>
        <p:blipFill>
          <a:blip r:embed="rId1"/>
          <a:stretch/>
        </p:blipFill>
        <p:spPr>
          <a:xfrm>
            <a:off x="857160" y="2043000"/>
            <a:ext cx="728676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42960" y="571320"/>
            <a:ext cx="77868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на ментальной карте максимально визуализирована, ее можно окинуть «одним взглядом», что помогает навести порядок в голове, получить целостную картину и отыскать новые ассоциаци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I:\102NIKON\DSCN7859.JPG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428760" y="3500280"/>
            <a:ext cx="3922560" cy="2837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I:\102NIKON\DSCN7855.JPG"/>
          <p:cNvPicPr/>
          <p:nvPr/>
        </p:nvPicPr>
        <p:blipFill>
          <a:blip r:embed="rId2"/>
          <a:stretch/>
        </p:blipFill>
        <p:spPr>
          <a:xfrm>
            <a:off x="4857840" y="3500280"/>
            <a:ext cx="368928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000" y="274680"/>
            <a:ext cx="847224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ются карты для следующих целей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14240" y="1285920"/>
            <a:ext cx="790128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учение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спектирование лекций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спектирование книг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готовка материала по определенной теме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шение творческих задач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озговой штурм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зентаци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ланирование и разработка проектов разной сложност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ставление списков дел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щение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ведение тренингов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тие интеллектуальных способностей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шение личных проблем  и т.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500040" y="99972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асполагайте лист горизонтально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е оставлять пустого места и не размещать ветви слишком плот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Для небольшой ментальной карты используйте лист А4, для большой темы — А3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Для целостного и структурированного восприятия используйте разные цвета для основных ветве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Часто используйте рисунки и символ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Пишите печатными буквами, как можно яснее и четч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Пишите на каждой линии только одно ключевое слово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Разросшиеся ветви можно заключать в контуры, чтобы они не смешивались с соседними ветвя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Используйте стрелки, когда необходимо показать связи между элементами ментальной кар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Варьируйте размер букв, цвет и толщину линий в зависимости от степени важности ключевого сл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составления ментальных кар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14200" y="1142640"/>
            <a:ext cx="8715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ьно свободно выражайте свои иде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те творческими, яркими, выразительны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меньше вы будете себя ограничивать, тем лучше получится кар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этого принципа – одна поправка: если вы рисуете карту не для себя, а для показа другим людям – то тогда стоит все-таки придерживаться тех следующих правил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й собственный сти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тремитесь подражать кому-то другом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увеличивай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что-то утрированно преувеличенно  - то это лучше запоминаетс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ерьезны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мор великая сила. Если ваша карта заставляет улыбаться или даже смеяться – то она вызывает эмоцию, на волне которой карта лучше остается в памя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ивы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ивая карта сильнее вызывает нужные эмоции и ассоциации. Рисуйте красиво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составления ментальных карт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СЕРГЕЯ ШИПУН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тальные карты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работе с дошкольник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интеллект-карт основывается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аглядно-образном мышлении ребенка, который является основным в дошкольном возрас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интеллект-карт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уждает ребёнка к изображению и осмыслению окружающего ми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вность применения метода ментальных кар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достигаетс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глядность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влекательность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поминаемость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воевременность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ворчество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зможностью пересмотра, дополнение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8T04:19:22Z</dcterms:created>
  <dc:creator>Admin</dc:creator>
  <dc:description/>
  <dc:language>en-US</dc:language>
  <cp:lastModifiedBy>Светлана</cp:lastModifiedBy>
  <dcterms:modified xsi:type="dcterms:W3CDTF">2020-08-28T05:08:12Z</dcterms:modified>
  <cp:revision>57</cp:revision>
  <dc:subject/>
  <dc:title>Слайд 1</dc:title>
</cp:coreProperties>
</file>