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6911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ACA-5E13-48C0-B54A-0D62ECFB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D8A-4F64-4E58-B999-B5793B4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87C-8EDF-433E-94B0-B6B06F8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9CB-C4D4-4A95-8D9A-0CBEADE7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0F7-FEFD-4103-8393-95F28AC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B3C-6AAB-47F3-A2CC-3B4FEEE3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AAE-43BF-451A-90A7-A7C2C2D2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D27-11C6-4A5A-ADA3-C37F5561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EEA-89AC-4C2A-BB22-C49FE32A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5BC-C2FE-48F7-A3A0-151B254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BE1-F7E8-44D5-85B3-0F34B5C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474-3CBD-4354-BA4B-E61A01B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EA3-44DF-4874-A774-8FEF04FC7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5000" y="4572000"/>
            <a:ext cx="2728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ышева Т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85920" y="1213920"/>
            <a:ext cx="68580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х кар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словие становл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ности дошколь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може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ми или совмест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42960" y="2928960"/>
            <a:ext cx="3224160" cy="2813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428840" y="57862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Зи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156280" y="2994120"/>
            <a:ext cx="3630600" cy="2577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5143680" y="56437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Зи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предназначен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0040" y="1428480"/>
            <a:ext cx="3929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вода в те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ве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 по тем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материа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dmin\Desktop\108_PANA\P1080877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429080" y="1500120"/>
            <a:ext cx="4143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20000"/>
          </a:blip>
          <a:srcRect l="0" t="0" r="0" b="-1603"/>
          <a:stretch/>
        </p:blipFill>
        <p:spPr>
          <a:xfrm>
            <a:off x="642960" y="571680"/>
            <a:ext cx="297324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Admin\Desktop\108_PANA\P1080857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5716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3714840" y="1071720"/>
            <a:ext cx="171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и рисунок «Снежный д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00040" y="4000680"/>
            <a:ext cx="3166920" cy="225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Admin\Desktop\108_PANA\P1080856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5143680" y="3357720"/>
            <a:ext cx="3643200" cy="3011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3714840" y="4143240"/>
            <a:ext cx="171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и рисунок «Снежный город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коллективной ментальной карты следует учитывать интерес каждого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4560" y="1571760"/>
            <a:ext cx="4068720" cy="2571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357880" y="400068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E:\11.jpg"/>
          <p:cNvPicPr/>
          <p:nvPr/>
        </p:nvPicPr>
        <p:blipFill>
          <a:blip r:embed="rId3"/>
          <a:stretch/>
        </p:blipFill>
        <p:spPr>
          <a:xfrm>
            <a:off x="5072040" y="1214280"/>
            <a:ext cx="3714840" cy="20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8.jpg"/>
          <p:cNvPicPr/>
          <p:nvPr/>
        </p:nvPicPr>
        <p:blipFill>
          <a:blip r:embed="rId4"/>
          <a:stretch/>
        </p:blipFill>
        <p:spPr>
          <a:xfrm>
            <a:off x="642960" y="4286160"/>
            <a:ext cx="3714840" cy="2094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2435760" y="142884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Профе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071680" y="32148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а «Вра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939720" y="36432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я «Балер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719800" y="62737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«Продаве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I:\P1080396.JPG"/>
          <p:cNvPicPr/>
          <p:nvPr/>
        </p:nvPicPr>
        <p:blipFill>
          <a:blip r:embed="rId1"/>
          <a:stretch/>
        </p:blipFill>
        <p:spPr>
          <a:xfrm>
            <a:off x="642960" y="571680"/>
            <a:ext cx="2357280" cy="2786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85" name="Picture 5" descr="I:\P1080391.JPG"/>
          <p:cNvPicPr/>
          <p:nvPr/>
        </p:nvPicPr>
        <p:blipFill>
          <a:blip r:embed="rId2"/>
          <a:stretch/>
        </p:blipFill>
        <p:spPr>
          <a:xfrm>
            <a:off x="6215040" y="571680"/>
            <a:ext cx="2357640" cy="27716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86" name="TextBox 6"/>
          <p:cNvSpPr/>
          <p:nvPr/>
        </p:nvSpPr>
        <p:spPr>
          <a:xfrm>
            <a:off x="3000240" y="642960"/>
            <a:ext cx="135756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857840" y="1500120"/>
            <a:ext cx="135720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5214960" y="367812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tretch/>
        </p:blipFill>
        <p:spPr>
          <a:xfrm>
            <a:off x="500040" y="357192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я ментальную кар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1213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енок проявля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извольность по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амостоятельно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емление к самореализаци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ительно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ворческий подход к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ровень умственных способ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знавательная актив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28760" y="4786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свидетельствует о становлении инициативности наших д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необходимые для развития инициативности при работ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нтальными кар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азвивающей предметно-пространственной среды, разнообразной по содержанию и учитывающей индивидуальные и возрастные  особенности  и интересы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ценочное принятие составленных детьми ментальных ка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детский идей в любы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взрослыми и родителями всех детских начи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детям косвенной и консультативной помощ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ские вопросы должны получить ответы или должны быть обеспечены  материалом  с информац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Admin\Desktop\108_PANA\P1080869.JPG"/>
          <p:cNvPicPr/>
          <p:nvPr/>
        </p:nvPicPr>
        <p:blipFill>
          <a:blip r:embed="rId1"/>
          <a:stretch/>
        </p:blipFill>
        <p:spPr>
          <a:xfrm>
            <a:off x="714240" y="1000080"/>
            <a:ext cx="3357720" cy="255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Admin\Desktop\108_PANA\P1080868.JPG"/>
          <p:cNvPicPr/>
          <p:nvPr/>
        </p:nvPicPr>
        <p:blipFill>
          <a:blip r:embed="rId2"/>
          <a:stretch/>
        </p:blipFill>
        <p:spPr>
          <a:xfrm>
            <a:off x="4357800" y="3571920"/>
            <a:ext cx="4286160" cy="2646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семьями воспитан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4929120" y="1000080"/>
            <a:ext cx="2800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ьюга, ме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714240" y="3643200"/>
            <a:ext cx="2643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5929200" y="3000240"/>
            <a:ext cx="2643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ли более активны, инициативны и самостоятельны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ся уровень самоконтрол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объективной стала оценка как своих работ и деятельности, так и других дете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навыки анализа и систематизации информаци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сь задавать вопросы и самостоятельно делать простые выводы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тало носить не только эмоциональный и игровой, но и информационный характер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сь самостоятельно находить  для себя интересное и полезное дел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с большим потоком информации, применение мыслительных карт в непосредственной образовательной деятельности дошкольников, а в особенности дошкольников с тяжелыми нарушениями речи, даёт огромные положительные результаты, способствуя развитию всех сторон ли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1071720" y="4214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стается за в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  –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 разработка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го писателя, лектора  и  консультан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интеллекта,   психологии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блем мышле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3357360"/>
            <a:ext cx="82296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ая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нтеллект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фическое выражение процесса радиантного мышления и поэтому является естественным продуктом деятельности человеческого моз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Users\Admin\Desktop\108_PANA\P108082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тное мыш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процесс мышления, при котором в центре находится некий объект, дающий импульс к рождению множества ассоциаций, которые становятся центральным образом уже для другого ассоциативного процес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\Desktop\ментальность\1212.jpg"/>
          <p:cNvPicPr/>
          <p:nvPr/>
        </p:nvPicPr>
        <p:blipFill>
          <a:blip r:embed="rId1"/>
          <a:stretch/>
        </p:blipFill>
        <p:spPr>
          <a:xfrm>
            <a:off x="857160" y="2043000"/>
            <a:ext cx="72867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42960" y="571320"/>
            <a:ext cx="7786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на ментальной карте максимально визуализирована, ее можно окинуть «одним взглядом», что помогает навести порядок в голове, получить целостную картину и отыскать новые ассоци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I:\102NIKON\DSCN785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28760" y="3500280"/>
            <a:ext cx="3922560" cy="283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I:\102NIKON\DSCN7855.JPG"/>
          <p:cNvPicPr/>
          <p:nvPr/>
        </p:nvPicPr>
        <p:blipFill>
          <a:blip r:embed="rId2"/>
          <a:stretch/>
        </p:blipFill>
        <p:spPr>
          <a:xfrm>
            <a:off x="4857840" y="3500280"/>
            <a:ext cx="3689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" y="274680"/>
            <a:ext cx="8472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карты для следующих ц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4240" y="1285920"/>
            <a:ext cx="7901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лек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пектирование кни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материала по определенной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творческих задач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зговой штур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ирование и разработка проектов разной слож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списков де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тренинг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интеллектуальных способност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личных проблем 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олагайте лист горизонталь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оставлять пустого места и не размещать ветви слишком пло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ля небольшой ментальной карты используйте лист А4, для большой темы — А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ля целостного и структурированного восприятия используйте разные цвета для основных ветв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асто используйте рисунки и симв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ишите печатными буквами, как можно яснее и чет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ишите на каждой линии только одно ключевое слов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азросшиеся ветви можно заключать в контуры, чтобы они не смешивались с соседними ветв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Используйте стрелки, когда необходимо показать связи между элементами ментальной к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арьируйте размер букв, цвет и толщину линий в зависимости от степени важности ключевого 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4200" y="11426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свободно выражайте свои иде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ворческими, яркими, выразитель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вы будете себя ограничивать, тем лучше получится ка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принципа – одна поправка: если вы рисуете карту не для себя, а для показа другим людям – то тогда стоит все-таки придерживаться тех следующих прав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собственный сти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ремитесь подражать кому-то другом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увеличивай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утрированно преувеличенно  - то это лучше запомин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ерьез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 великая сила. Если ваша карта заставляет улыбаться или даже смеяться – то она вызывает эмоцию, на волне которой карта лучше остается в памя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ая карта сильнее вызывает нужные эмоции и ассоциации. Рисуйте краси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ставления ментальных кар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ЕРГЕЯ ШИПУ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ьные кар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боте с дошкольн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нтеллект-карт основывае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глядно-образном мышлении ребенка, который является основным в дошкольном возра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нтеллект-ка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ет ребёнка к изображению и осмыслению окружающ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именения метода ментальных ка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достиг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екатель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оминаем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време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тв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можностью пересмотра, дополнени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04:19:22Z</dcterms:created>
  <dc:creator>Admin</dc:creator>
  <dc:description/>
  <dc:language>en-US</dc:language>
  <cp:lastModifiedBy>Светлана</cp:lastModifiedBy>
  <dcterms:modified xsi:type="dcterms:W3CDTF">2020-08-28T05:08:12Z</dcterms:modified>
  <cp:revision>57</cp:revision>
  <dc:subject/>
  <dc:title>Слайд 1</dc:title>
</cp:coreProperties>
</file>