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3D5-0320-4536-A28D-9D625671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382-08F0-41FF-859A-F16D601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F3C-F0BB-48C1-A7E6-BDE485F3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F8A-CB6A-4D3C-AFAA-FE59A1C4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FE1-5DE8-49D8-A91C-5EB4475A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DFB-B5A4-4944-B0C1-42532734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79B-8D4B-4AA9-988F-5077995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9D5-034F-46BB-BCA1-B8F44DC2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72F-279C-4D20-B113-DBCB9CD3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030-94BE-4114-B658-44E6DD0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AE2-20C9-437B-A4D7-BB0A2A7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722-AD4F-4D18-B362-0248E61D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E9F-D152-4081-B0AD-730DB3EAE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фессия выбирает человека, а человек профессию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27856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ментальных карт в группе детей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рушениями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5286240" y="4857840"/>
            <a:ext cx="3429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воспитат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ышева Т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тый лиш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I:\P1080396.JPG"/>
          <p:cNvPicPr/>
          <p:nvPr/>
        </p:nvPicPr>
        <p:blipFill>
          <a:blip r:embed="rId1"/>
          <a:stretch/>
        </p:blipFill>
        <p:spPr>
          <a:xfrm>
            <a:off x="714240" y="928800"/>
            <a:ext cx="235764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4" name="Picture 5" descr="I:\P1080391.JPG"/>
          <p:cNvPicPr/>
          <p:nvPr/>
        </p:nvPicPr>
        <p:blipFill>
          <a:blip r:embed="rId2"/>
          <a:stretch/>
        </p:blipFill>
        <p:spPr>
          <a:xfrm>
            <a:off x="6357960" y="928800"/>
            <a:ext cx="2357280" cy="27716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5" name="Picture 6" descr="I:\P1080393.JPG"/>
          <p:cNvPicPr/>
          <p:nvPr/>
        </p:nvPicPr>
        <p:blipFill>
          <a:blip r:embed="rId3"/>
          <a:stretch/>
        </p:blipFill>
        <p:spPr>
          <a:xfrm>
            <a:off x="1071720" y="3786120"/>
            <a:ext cx="231300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6" name="Picture 10" descr="I:\P1080395.JPG"/>
          <p:cNvPicPr/>
          <p:nvPr/>
        </p:nvPicPr>
        <p:blipFill>
          <a:blip r:embed="rId4"/>
          <a:stretch/>
        </p:blipFill>
        <p:spPr>
          <a:xfrm>
            <a:off x="5786280" y="3786120"/>
            <a:ext cx="2357640" cy="2772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77" name="TextBox 10"/>
          <p:cNvSpPr/>
          <p:nvPr/>
        </p:nvSpPr>
        <p:spPr>
          <a:xfrm>
            <a:off x="3214800" y="142884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929120" y="207180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3500280" y="385776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357800" y="578628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143000"/>
            <a:ext cx="8429400" cy="53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мею, все могу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бе я расска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358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00080" y="123192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дзаголовок 2"/>
          <p:cNvSpPr/>
          <p:nvPr/>
        </p:nvSpPr>
        <p:spPr>
          <a:xfrm>
            <a:off x="785880" y="42876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на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ментальная  карта помог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357120" y="1143000"/>
            <a:ext cx="84297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и поддержать интересы кажд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разнообразные материал  для работы, ориентируясь на интересы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накомые или придумывать самостоятельно графические знаки и симв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описательные расск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тветственность за совместную работу, умение работать в команде, доводить дело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етскую компете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E:\3.jpg"/>
          <p:cNvPicPr/>
          <p:nvPr/>
        </p:nvPicPr>
        <p:blipFill>
          <a:blip r:embed="rId1"/>
          <a:stretch/>
        </p:blipFill>
        <p:spPr>
          <a:xfrm>
            <a:off x="285840" y="107172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47" name="Подзаголовок 2"/>
          <p:cNvSpPr/>
          <p:nvPr/>
        </p:nvSpPr>
        <p:spPr>
          <a:xfrm>
            <a:off x="857160" y="285840"/>
            <a:ext cx="7572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профессии важ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:\4.jpg"/>
          <p:cNvPicPr/>
          <p:nvPr/>
        </p:nvPicPr>
        <p:blipFill>
          <a:blip r:embed="rId2"/>
          <a:stretch/>
        </p:blipFill>
        <p:spPr>
          <a:xfrm>
            <a:off x="3809880" y="3763800"/>
            <a:ext cx="5119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:\5.jpg"/>
          <p:cNvPicPr/>
          <p:nvPr/>
        </p:nvPicPr>
        <p:blipFill>
          <a:blip r:embed="rId1"/>
          <a:stretch/>
        </p:blipFill>
        <p:spPr>
          <a:xfrm>
            <a:off x="500040" y="357120"/>
            <a:ext cx="511956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8.jpg"/>
          <p:cNvPicPr/>
          <p:nvPr/>
        </p:nvPicPr>
        <p:blipFill>
          <a:blip r:embed="rId2"/>
          <a:stretch/>
        </p:blipFill>
        <p:spPr>
          <a:xfrm>
            <a:off x="3714840" y="335772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0040" y="3429000"/>
            <a:ext cx="28576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расскажу тебе о продавц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E:\11.jpg"/>
          <p:cNvPicPr/>
          <p:nvPr/>
        </p:nvPicPr>
        <p:blipFill>
          <a:blip r:embed="rId1"/>
          <a:stretch/>
        </p:blipFill>
        <p:spPr>
          <a:xfrm>
            <a:off x="428760" y="42876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3" name="Подзаголовок 2"/>
          <p:cNvSpPr/>
          <p:nvPr/>
        </p:nvSpPr>
        <p:spPr>
          <a:xfrm>
            <a:off x="1214280" y="3357720"/>
            <a:ext cx="28576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, как ма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072040" y="1214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E:\13.jpg"/>
          <p:cNvPicPr/>
          <p:nvPr/>
        </p:nvPicPr>
        <p:blipFill>
          <a:blip r:embed="rId1"/>
          <a:stretch/>
        </p:blipFill>
        <p:spPr>
          <a:xfrm>
            <a:off x="357120" y="785880"/>
            <a:ext cx="4643640" cy="28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9.jpg"/>
          <p:cNvPicPr/>
          <p:nvPr/>
        </p:nvPicPr>
        <p:blipFill>
          <a:blip r:embed="rId2"/>
          <a:stretch/>
        </p:blipFill>
        <p:spPr>
          <a:xfrm>
            <a:off x="3714840" y="371484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2"/>
          <p:cNvSpPr/>
          <p:nvPr/>
        </p:nvSpPr>
        <p:spPr>
          <a:xfrm>
            <a:off x="5429160" y="1214280"/>
            <a:ext cx="2857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000680" y="3429000"/>
            <a:ext cx="480060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00760" y="5000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E:\DCIM\108_PANA\P1080319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57120" y="50004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642960" y="3571920"/>
            <a:ext cx="28573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бале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57120" y="9777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857840" y="9288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857840" y="3500280"/>
            <a:ext cx="3857400" cy="2928960"/>
          </a:xfrm>
          <a:prstGeom prst="rect">
            <a:avLst/>
          </a:prstGeom>
          <a:ln w="0">
            <a:noFill/>
          </a:ln>
        </p:spPr>
      </p:pic>
      <p:sp>
        <p:nvSpPr>
          <p:cNvPr id="66" name="Подзаголовок 2"/>
          <p:cNvSpPr/>
          <p:nvPr/>
        </p:nvSpPr>
        <p:spPr>
          <a:xfrm>
            <a:off x="571680" y="21420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ная ар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4572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не было беды или о чем рассказали спасател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:\108_PANA\P1080348.JPG"/>
          <p:cNvPicPr/>
          <p:nvPr/>
        </p:nvPicPr>
        <p:blipFill>
          <a:blip r:embed="rId1"/>
          <a:stretch/>
        </p:blipFill>
        <p:spPr>
          <a:xfrm>
            <a:off x="5500800" y="28584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E:\108_PANA\P1080351.JPG"/>
          <p:cNvPicPr/>
          <p:nvPr/>
        </p:nvPicPr>
        <p:blipFill>
          <a:blip r:embed="rId2"/>
          <a:stretch/>
        </p:blipFill>
        <p:spPr>
          <a:xfrm>
            <a:off x="6643800" y="3571920"/>
            <a:ext cx="216036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108_PANA\P1080354.JPG"/>
          <p:cNvPicPr/>
          <p:nvPr/>
        </p:nvPicPr>
        <p:blipFill>
          <a:blip r:embed="rId3"/>
          <a:stretch/>
        </p:blipFill>
        <p:spPr>
          <a:xfrm>
            <a:off x="214200" y="3714840"/>
            <a:ext cx="318780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:\108_PANA\P1080350.JPG"/>
          <p:cNvPicPr/>
          <p:nvPr/>
        </p:nvPicPr>
        <p:blipFill>
          <a:blip r:embed="rId4"/>
          <a:stretch/>
        </p:blipFill>
        <p:spPr>
          <a:xfrm>
            <a:off x="2571840" y="2000160"/>
            <a:ext cx="3609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08:43:47Z</dcterms:created>
  <dc:creator>Admin</dc:creator>
  <dc:description/>
  <dc:language>en-US</dc:language>
  <cp:lastModifiedBy>Светлана</cp:lastModifiedBy>
  <dcterms:modified xsi:type="dcterms:W3CDTF">2020-08-27T14:39:36Z</dcterms:modified>
  <cp:revision>18</cp:revision>
  <dc:subject/>
  <dc:title>Не профессия выбирает человека, а человек профессию. Сократ</dc:title>
</cp:coreProperties>
</file>