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E89D-27F4-49F1-BEC1-F7E397B7B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21CC-6CD4-4CDD-9EC0-1890762E823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13F8A-9149-4AC2-9E9D-63409AC5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60426-0D75-4C63-870B-773093A7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4F652-02A5-4922-9E11-46F3D3AD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2124B-2687-45D0-8887-C3FA0711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F6B59-81A1-4A37-BDFE-44465434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AC734-C351-4D8F-BE0E-DE03A797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6029A-2C22-4890-ABBE-62342DDA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18BA3-913A-4E54-B5AD-6D14ED84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8B66F-617B-46C9-A618-DBB840D6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7333A-B00A-45C8-8CA5-7D707748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FAD5-A095-43A2-B967-867CEB8773E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21B20-15C4-407F-B719-E904508E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73078-343A-4CC0-8101-404CC302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BD0CB-9BAF-4D3D-A62C-E05542DC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6803E-C8A0-426F-B468-E9C3BF28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4ABB6-3F76-44A5-A710-A3A0DE2E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69393-F22D-497A-A33D-80D0D361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E925B-7DDB-4218-A57F-A9F4E819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1CF01-C5FD-4DA6-B450-5E39938A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9C13D-A833-4C98-8DD8-BEDF49F1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BC807-A839-41FA-97D1-0C144A42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895B-ACCE-45A1-BDC5-AD59041E377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F6232-D8A7-41D2-9C30-73470BEB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692236-4D6F-4A83-813E-1E16A12B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5ACB45-DE60-4194-87CB-EBDB5A95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1513C9-32FB-4F26-A539-F9DCE785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193433-BADC-4652-A5FC-B635EB71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090C61-23DF-4CD8-92F0-93897E77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C7BF10-33FB-4704-99CE-8201E6C1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33D3A9-58AB-4818-9DB2-C50EE220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057489-5E08-41A6-9F1B-873F0BD0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A48F9A-19A2-412D-BD53-08E267D3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AEA0A-0B41-4B61-A0C2-85965A2A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352E57-EFD4-402D-A33D-9B6B946F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BAB418-B6E3-4DDB-A3E8-BA59F00A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9DCEE5-702A-465C-B02A-234C0F35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0252C-92E7-4718-B44C-E067DB2E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4B1F9-BBF6-495A-B197-8896E074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500D1F-A34C-446D-BF49-FCA18B4F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8CF06-BB1C-48F7-9138-6FC8AF75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71388-93D6-4CD1-93CA-8EE875FC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2CBF2-BDDA-43F3-9DEE-8019AD9F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C720F-6569-4E7C-81B6-7DFA47CD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3384D-6BD2-4895-A8BB-9F3C3C22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FBCD3-A43A-4A4F-858C-B815C441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6BC6B-6939-468B-AF0D-6E570EF1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089F7-9AAB-4A44-854A-1857BAA0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0B286-BE63-4750-A358-A232089A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71BB1-731F-407D-B0E7-DE7A9E0F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E422EF-224E-4F8F-8117-7BE0155F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D0836E-5FA1-40FD-B022-188BB58B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3903FE-289F-490D-81CF-01668F00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F873A9-17F5-4FE4-8EA0-E5363590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DF9D44-3673-4F73-85F9-4B1DE43E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4CAA9-2CA6-417D-AECC-CC6797ED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C530E1-C9D2-413C-AF85-D21F1557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981F9A-4DB4-4428-A242-31BF9FC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908F3F-A27C-400C-8246-042DEC69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078193-B1B5-41F6-898B-52B5FA33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6537E6-56A1-485D-B325-0BF7E027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50E8A9-D64C-4C32-860B-3D0A2D3C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A958C9-5E71-45CB-8857-A91EEAA7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373EA-9454-443D-828D-501998F8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D64F2-93BD-4E12-9698-07D475EB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C3121-448D-4F84-B173-2228147F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EA819-1D0A-4D59-859B-A1E82FD2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16B5-B1BC-4411-BBE5-61BBEE488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574B7-DB43-4B1D-B12A-88A8A64C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24276-649C-4A3B-B77C-E299546A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7CEEB-FD3D-41C7-AD4A-3AF841F0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D2C1C-87E7-44B3-96D0-7324F35B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5583B-81CF-430A-97FF-303362A9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97A1CC-F959-4940-8EE8-B34D3DB4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B86F3-C26B-4523-989D-C15A2173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2232D0-A499-49CA-980E-C71D0BFE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C2587-3AD4-40A9-9745-6D6FB995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FEF241-1935-4A05-A154-C6B78FFF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F142-20DD-453F-A6F1-F2FE305632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C1E0AC-766A-4A0C-8866-DB25F25B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BE1519-3B6B-4780-A295-AADB4B3A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C3737C-D0BE-4AA5-B4BE-A9A79FD6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BAD8C-3895-4EDD-8E0A-79EEEB60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A583FB-563A-4532-A78E-6A097711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2E3461-E4AE-4D8D-8BCB-6F5BCB9A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B6CA3-C2E5-445B-81D8-16EA3B4E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47D2B-5645-4454-95C3-FDB3EAAE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CD4D03-CF16-45DD-9B6E-459C5D15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A9467-7FD0-490D-8F73-EA8702BB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0F23-1E28-4C46-952F-76A5F94A21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EC056-07C4-490B-A5BB-D26D1F47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99B023-B484-4F9A-8787-C12F46A9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8EF60D-A7D9-4748-A11F-296C2CDC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77E08-B33E-44CB-9B37-F885FF0D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6E6DB-744E-49AB-A381-FDDFC9EC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062832-2F24-4006-9CBB-94993CE0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831BF3-9381-458C-AAE2-44FB0159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B8544-C5DF-4533-B06E-CD2D9683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F04D85-333A-42BE-B49A-B9405BC2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594D30-2BB5-4EFD-8902-88EB0C01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111C-F566-4278-97B3-C2ABA1445BF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394C5C-C478-47B0-8504-A433D0A7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C1A523-6F5D-4B60-9AE5-FD8B4B10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B6A2AE-455A-49CE-BE7C-E95B384E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CBC666-A86E-4E23-ADC0-000FA7A4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D68BE1-3A80-46DB-9968-7A3F8CAF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810F86-6209-48D6-AC11-96CF4B48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A6C5A1-5455-49E0-852F-D0970C0C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B4CC0D-7CA5-40A0-9609-DD0C8C6B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B8DC24-B333-498F-AB6E-59CC8AB1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387063-AA90-49E4-8E8C-9D298846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276A-97C1-43CE-AFAA-0CFDBB700F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79FDCF-28E0-41AB-B008-E0EE0319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3C2019-56DC-45D8-AD2C-7F6727F8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AF2619-4A7D-4CB3-A80E-72E83FB2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AAB2BA-D62B-4CB6-9BE0-01ED2947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C54267-0260-474A-A0C7-96A92302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CC2BB9-5E74-4286-978A-EFFFBC55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FA9385-E06C-4470-A382-5EF50EBF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4551A0-7217-44D0-BE77-610CCC16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4606CB-6716-46B3-A34F-6C7E33A0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1A7452-D37F-4DF9-B75F-FD987A3E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2A4E-B2DF-4CC3-9459-A60243E2FC6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EAB66C-EDFD-4B41-BCB9-2D07E6A8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79ADC2-B5C4-4753-9FEB-396D0D8B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86076D-9064-40B0-BF95-4102AA62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DDC5FE-BCDC-42CE-B3C1-9036EA46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55443A-22A6-409E-8286-38B5EE73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286B02-EB84-4FC9-982D-020D80B7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6EAA31-2315-496F-B05D-6D48AA38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483769-CE4B-46D2-91CA-DEA8F0FB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C977BD-8CDD-439B-93C7-A14D99C5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114BFC-A7F3-4155-A7FB-101B5D9B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9BC6-408B-4D3F-8684-FF117649F98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90C8FE-7DEF-4D4A-B4A8-F2AAA4E6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231394-FF7A-4BD0-8BA3-B430215E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BEFF60-C643-4C7B-A0B8-824BB222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2188A6-5FE7-4859-A081-26716FA1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A3D23A-B131-4AF0-AD4A-C8A0EFF0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410261-94C0-4A50-ADDC-57420DBC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E6B920-F42F-45F1-8001-89306923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23D93E-A7AB-45A3-B4B9-D562F9C3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9F9B82-46F0-4F86-8C46-253DCA02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ADA40D-32C2-46D5-980C-CDD08A2E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5968-E317-4958-A5B2-21BDD903F78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E497D5-7C95-45CA-9404-CDFF25AC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2BDA4E-23A6-442A-BE91-933E9C17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BE9905-5FFF-43D9-923C-BAFD9FD3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8DC320-295E-443D-8DB7-029EA4B5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52F405-C5E8-4CED-B919-5B85D8FE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41343B-A972-4489-A3C5-BE69FD16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6E9A03-12EE-4404-A779-D14714A2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DC549-90F9-4408-ADBF-D0F89820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55890-E5D9-483B-9D43-0C66E54B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93191-9916-4664-9CA8-76C13130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CD03-9450-4925-B933-403F2329668E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5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46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6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6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6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6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1289-E455-44E4-B2D2-8C55B7A4B95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0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51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1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51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51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1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B3A2-8FF3-475F-8239-299B262372A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60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562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63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565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566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67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85A9-4541-45C1-9632-0D08BE800B8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61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61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61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61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61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1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3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3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A92A-9517-4F06-8068-0B8AA86F8F9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0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42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3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5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6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7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35F2-CA07-4A46-9AED-6DF2DEEC8DE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1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93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4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96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97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8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0875-06BA-441C-85C2-E34C8771139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4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14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4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1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4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4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A119-3E05-4638-9C66-5B85F879261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9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19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9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19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9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0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20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1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675F-5061-4AC6-9186-A626571A75C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5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25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5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25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6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6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69B5-2FBF-4CFD-860E-1520A4DB978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30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30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30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3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31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31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7303-39B5-4EF7-BB9E-144BB2EF122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35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35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35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3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36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36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285-9EDD-4491-BECD-106EDC87FAC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0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409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10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1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13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14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A657-856B-419F-80AF-4295EFD3BBC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"/>
          <p:cNvGraphicFramePr/>
          <p:nvPr/>
        </p:nvGraphicFramePr>
        <p:xfrm>
          <a:off x="755640" y="2016000"/>
          <a:ext cx="7142040" cy="3861000"/>
        </p:xfrm>
        <a:graphic>
          <a:graphicData uri="http://schemas.openxmlformats.org/drawingml/2006/table">
            <a:tbl>
              <a:tblPr/>
              <a:tblGrid>
                <a:gridCol w="2381400"/>
                <a:gridCol w="2379600"/>
                <a:gridCol w="2381040"/>
              </a:tblGrid>
              <a:tr h="128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28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28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pic>
        <p:nvPicPr>
          <p:cNvPr id="662" name="WordArt 2" descr=""/>
          <p:cNvPicPr/>
          <p:nvPr/>
        </p:nvPicPr>
        <p:blipFill>
          <a:blip r:embed="rId1"/>
          <a:stretch/>
        </p:blipFill>
        <p:spPr>
          <a:xfrm>
            <a:off x="579600" y="450720"/>
            <a:ext cx="7858080" cy="193212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4" name="TextBox 20"/>
          <p:cNvSpPr/>
          <p:nvPr/>
        </p:nvSpPr>
        <p:spPr>
          <a:xfrm>
            <a:off x="1183680" y="23083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Геомания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5" name="TextBox 22"/>
          <p:cNvSpPr/>
          <p:nvPr/>
        </p:nvSpPr>
        <p:spPr>
          <a:xfrm>
            <a:off x="2987640" y="2217600"/>
            <a:ext cx="26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Математические орешки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6" name="TextBox 23"/>
          <p:cNvSpPr/>
          <p:nvPr/>
        </p:nvSpPr>
        <p:spPr>
          <a:xfrm>
            <a:off x="971640" y="350028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Числовые головоломки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7" name="TextBox 24"/>
          <p:cNvSpPr/>
          <p:nvPr/>
        </p:nvSpPr>
        <p:spPr>
          <a:xfrm>
            <a:off x="3346560" y="351324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Устный счёт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8" name="TextBox 25"/>
          <p:cNvSpPr/>
          <p:nvPr/>
        </p:nvSpPr>
        <p:spPr>
          <a:xfrm>
            <a:off x="5796000" y="214488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Магические квадраты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9" name="TextBox 26"/>
          <p:cNvSpPr/>
          <p:nvPr/>
        </p:nvSpPr>
        <p:spPr>
          <a:xfrm>
            <a:off x="5651640" y="350028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Логические задачи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0" name="TextBox 27"/>
          <p:cNvSpPr/>
          <p:nvPr/>
        </p:nvSpPr>
        <p:spPr>
          <a:xfrm>
            <a:off x="1343880" y="498312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Огонёк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1" name="TextBox 28"/>
          <p:cNvSpPr/>
          <p:nvPr/>
        </p:nvSpPr>
        <p:spPr>
          <a:xfrm>
            <a:off x="3130560" y="48816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Установите закономерность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2" name="TextBox 29"/>
          <p:cNvSpPr/>
          <p:nvPr/>
        </p:nvSpPr>
        <p:spPr>
          <a:xfrm>
            <a:off x="5867280" y="488160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Весёлые вопросы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5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6" name="Прямоугольник 26"/>
          <p:cNvSpPr/>
          <p:nvPr/>
        </p:nvSpPr>
        <p:spPr>
          <a:xfrm>
            <a:off x="541440" y="1197000"/>
            <a:ext cx="79182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льзуясь четырьмя двойками  и  знаками  действия,  запишите  число  111. 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7" name="Прямоугольник 4"/>
          <p:cNvSpPr/>
          <p:nvPr/>
        </p:nvSpPr>
        <p:spPr>
          <a:xfrm>
            <a:off x="4500720" y="4941720"/>
            <a:ext cx="142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568d11"/>
                </a:solidFill>
                <a:uFillTx/>
                <a:latin typeface="Times New Roman"/>
                <a:ea typeface="Times New Roman"/>
              </a:rPr>
              <a:t>222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8" name="Прямоугольник 5"/>
          <p:cNvSpPr/>
          <p:nvPr/>
        </p:nvSpPr>
        <p:spPr>
          <a:xfrm>
            <a:off x="2131200" y="4941720"/>
            <a:ext cx="23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0" name="Прямоугольник 26"/>
          <p:cNvSpPr/>
          <p:nvPr/>
        </p:nvSpPr>
        <p:spPr>
          <a:xfrm>
            <a:off x="674640" y="674640"/>
            <a:ext cx="770436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акие  знаки  арифметических  действий  нужно  поставить  между  восьмью  двойками, чтобы  получилось  8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1" name="Прямоугольник 4"/>
          <p:cNvSpPr/>
          <p:nvPr/>
        </p:nvSpPr>
        <p:spPr>
          <a:xfrm>
            <a:off x="2077200" y="5589720"/>
            <a:ext cx="489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2+2+2+2+2+2-2-2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2" name="Прямоугольник 5"/>
          <p:cNvSpPr/>
          <p:nvPr/>
        </p:nvSpPr>
        <p:spPr>
          <a:xfrm>
            <a:off x="1979640" y="494172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4" name="Прямоугольник 26"/>
          <p:cNvSpPr/>
          <p:nvPr/>
        </p:nvSpPr>
        <p:spPr>
          <a:xfrm>
            <a:off x="395280" y="1228680"/>
            <a:ext cx="8315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ак  нужно  расставить  знаки  сложения  в  записи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1  2  3  4  5  6  7,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чтобы в сумме получилось 100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5" name="Прямоугольник 4"/>
          <p:cNvSpPr/>
          <p:nvPr/>
        </p:nvSpPr>
        <p:spPr>
          <a:xfrm>
            <a:off x="2295720" y="5661000"/>
            <a:ext cx="53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1 + 2 + 3 4 + 5 6 + 7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6" name="Прямоугольник 5"/>
          <p:cNvSpPr/>
          <p:nvPr/>
        </p:nvSpPr>
        <p:spPr>
          <a:xfrm>
            <a:off x="2275920" y="501336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8" name="Прямоугольник 26"/>
          <p:cNvSpPr/>
          <p:nvPr/>
        </p:nvSpPr>
        <p:spPr>
          <a:xfrm>
            <a:off x="324000" y="1084320"/>
            <a:ext cx="864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ак   нужно  расставить   знаки  сложения   в  записи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9  8  7  6  5  4  3  2  1,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чтобы  в  сумме  получилось  99.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9" name="Прямоугольник 4"/>
          <p:cNvSpPr/>
          <p:nvPr/>
        </p:nvSpPr>
        <p:spPr>
          <a:xfrm>
            <a:off x="2372760" y="5589720"/>
            <a:ext cx="548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9+8+7+65+4+3+2+1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0" name="Прямоугольник 5"/>
          <p:cNvSpPr/>
          <p:nvPr/>
        </p:nvSpPr>
        <p:spPr>
          <a:xfrm>
            <a:off x="2130840" y="4869000"/>
            <a:ext cx="24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2" name="Прямоугольник 26"/>
          <p:cNvSpPr/>
          <p:nvPr/>
        </p:nvSpPr>
        <p:spPr>
          <a:xfrm>
            <a:off x="861840" y="2125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  помощью  четырех  четверок  запишите  7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  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3" name="Прямоугольник 4"/>
          <p:cNvSpPr/>
          <p:nvPr/>
        </p:nvSpPr>
        <p:spPr>
          <a:xfrm>
            <a:off x="2554200" y="5661000"/>
            <a:ext cx="3230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4 + 4 </a:t>
            </a:r>
            <a:r>
              <a:rPr b="0" lang="ru-RU" sz="4800" spc="-1" strike="noStrike" baseline="30000">
                <a:solidFill>
                  <a:srgbClr val="568d11"/>
                </a:solidFill>
                <a:latin typeface="Times New Roman"/>
                <a:ea typeface="Times New Roman"/>
              </a:rPr>
              <a:t>__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 baseline="30000">
                <a:solidFill>
                  <a:srgbClr val="568d11"/>
                </a:solidFill>
                <a:latin typeface="Times New Roman"/>
                <a:ea typeface="Times New Roman"/>
              </a:rPr>
              <a:t>4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/</a:t>
            </a:r>
            <a:r>
              <a:rPr b="0" lang="ru-RU" sz="4800" spc="-1" strike="noStrike" baseline="-25000">
                <a:solidFill>
                  <a:srgbClr val="568d11"/>
                </a:solidFill>
                <a:latin typeface="Times New Roman"/>
                <a:ea typeface="Times New Roman"/>
              </a:rPr>
              <a:t>4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 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2131200" y="4941720"/>
            <a:ext cx="23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6" name="Rectangle 17"/>
          <p:cNvSpPr/>
          <p:nvPr/>
        </p:nvSpPr>
        <p:spPr>
          <a:xfrm>
            <a:off x="324000" y="598680"/>
            <a:ext cx="8569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На  складе  имеются   гвозди  в  ящиках  по  24, 23, 17 и 16 </a:t>
            </a:r>
            <a:r>
              <a:rPr b="1" i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кг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. Может ли кладовщик  отпустить  со  склада  100 </a:t>
            </a:r>
            <a:r>
              <a:rPr b="1" i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кг 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 гвоздей, не  распечатывая  ящики?  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7" name="Прямоугольник 12"/>
          <p:cNvSpPr/>
          <p:nvPr/>
        </p:nvSpPr>
        <p:spPr>
          <a:xfrm>
            <a:off x="2365200" y="5516640"/>
            <a:ext cx="509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Да, 16·2+17·4=100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8" name="Прямоугольник 13"/>
          <p:cNvSpPr/>
          <p:nvPr/>
        </p:nvSpPr>
        <p:spPr>
          <a:xfrm>
            <a:off x="2275920" y="479736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250920" y="877320"/>
            <a:ext cx="88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По  столбу  высотой  10 </a:t>
            </a:r>
            <a:r>
              <a:rPr b="1" i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м 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взбирается  улитка. Днем  она  поднимается  на  5 </a:t>
            </a:r>
            <a:r>
              <a:rPr b="1" i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м,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  а ночью  опускается  на  4 </a:t>
            </a:r>
            <a:r>
              <a:rPr b="1" i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м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. Через сколько  дней  улитка  доберется  до  верха?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1" name="Прямоугольник 24"/>
          <p:cNvSpPr/>
          <p:nvPr/>
        </p:nvSpPr>
        <p:spPr>
          <a:xfrm>
            <a:off x="2566800" y="5589720"/>
            <a:ext cx="20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6 дней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2" name="Прямоугольник 25"/>
          <p:cNvSpPr/>
          <p:nvPr/>
        </p:nvSpPr>
        <p:spPr>
          <a:xfrm>
            <a:off x="2202840" y="486900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4" name="Rectangle 17"/>
          <p:cNvSpPr/>
          <p:nvPr/>
        </p:nvSpPr>
        <p:spPr>
          <a:xfrm>
            <a:off x="250920" y="99792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  <a:ea typeface="Calibri"/>
              </a:rPr>
              <a:t>Имеется  9  монет,  одна  из  них  фальшивая  она  легче  остальных.  Как  при  помощи  весов, сделав  минимальное  количество  взвешиваний,  определить  какая  монета  фальшивая?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5" name="Прямоугольник 12"/>
          <p:cNvSpPr/>
          <p:nvPr/>
        </p:nvSpPr>
        <p:spPr>
          <a:xfrm>
            <a:off x="3943080" y="5516640"/>
            <a:ext cx="492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3  взвешивания.  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6" name="Прямоугольник 13"/>
          <p:cNvSpPr/>
          <p:nvPr/>
        </p:nvSpPr>
        <p:spPr>
          <a:xfrm>
            <a:off x="1986840" y="501336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5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8" name="Rectangle 17"/>
          <p:cNvSpPr/>
          <p:nvPr/>
        </p:nvSpPr>
        <p:spPr>
          <a:xfrm>
            <a:off x="395280" y="492840"/>
            <a:ext cx="856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Calibri"/>
              </a:rPr>
              <a:t>Есть  насекомые,  грызущие  книги, прогрызающие  лист  за  листом  и  прокладывающие  таким  образом  путь  сквозь  толщу  книги. Один  такой  “книжный  червь”  прогрыз  себе  путь  от  первой  страницы  первого  тома  до  последней  страницы  второго  тома, стоящего  рядом  с  первым,  как  здесь  нарисовано. В  каждом  томе  по  600  страниц. Сколько  всего  страниц  прогрыз  “червь”.  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9" name="Прямоугольник 12"/>
          <p:cNvSpPr/>
          <p:nvPr/>
        </p:nvSpPr>
        <p:spPr>
          <a:xfrm>
            <a:off x="2050920" y="573264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2  крышки  переплета и 0 страниц.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0" name="Прямоугольник 13"/>
          <p:cNvSpPr/>
          <p:nvPr/>
        </p:nvSpPr>
        <p:spPr>
          <a:xfrm>
            <a:off x="2058480" y="501336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539640" y="1159560"/>
            <a:ext cx="792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Calibri"/>
              </a:rPr>
              <a:t>Если  в  12 ч  дня  идет дождь, то  можно  ли  ожидать,  что  через  36  часов  будет  солнечная  погода?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  <a:ea typeface="Calibri"/>
              </a:rPr>
              <a:t>    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3" name="Прямоугольник 13"/>
          <p:cNvSpPr/>
          <p:nvPr/>
        </p:nvSpPr>
        <p:spPr>
          <a:xfrm>
            <a:off x="1908000" y="479736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68d11"/>
                </a:solidFill>
                <a:latin typeface="Times New Roman"/>
                <a:ea typeface="Calibri"/>
              </a:rPr>
              <a:t>через  36 часов будет полночь. В  это  время  солнечной  погоды  не  бывает.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4" name="Прямоугольник 14"/>
          <p:cNvSpPr/>
          <p:nvPr/>
        </p:nvSpPr>
        <p:spPr>
          <a:xfrm>
            <a:off x="1841760" y="4149720"/>
            <a:ext cx="224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19"/>
          <p:cNvSpPr/>
          <p:nvPr/>
        </p:nvSpPr>
        <p:spPr>
          <a:xfrm>
            <a:off x="7143840" y="4809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4" name="Rectangle 21"/>
          <p:cNvSpPr/>
          <p:nvPr/>
        </p:nvSpPr>
        <p:spPr>
          <a:xfrm>
            <a:off x="841320" y="1851480"/>
            <a:ext cx="752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Как быстро вычислить: 1+3+5+7+9+…+997+999 ?  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5" name="Прямоугольник 23"/>
          <p:cNvSpPr/>
          <p:nvPr/>
        </p:nvSpPr>
        <p:spPr>
          <a:xfrm>
            <a:off x="1979640" y="573264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1000·250=250000</a:t>
            </a:r>
            <a:r>
              <a:rPr b="0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6" name="Прямоугольник 6"/>
          <p:cNvSpPr/>
          <p:nvPr/>
        </p:nvSpPr>
        <p:spPr>
          <a:xfrm>
            <a:off x="2202840" y="486900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6" name="Rectangle 1"/>
          <p:cNvSpPr/>
          <p:nvPr/>
        </p:nvSpPr>
        <p:spPr>
          <a:xfrm>
            <a:off x="755640" y="159228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  <a:ea typeface="Calibri"/>
              </a:rPr>
              <a:t>Лев  может  съесть  овцу  за  2  часа, волк  -  за  3 часа, а  собака -  за  6  часов. За  какое  время  они  вместе  съели  бы  овцу.   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7" name="Прямоугольник 13"/>
          <p:cNvSpPr/>
          <p:nvPr/>
        </p:nvSpPr>
        <p:spPr>
          <a:xfrm>
            <a:off x="1763640" y="5084640"/>
            <a:ext cx="71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За 1 час ( лев : за 2 часа может съесть 1 овцу,  за  6 ч </a:t>
            </a:r>
            <a:r>
              <a:rPr b="0" lang="ru-RU" sz="2000" spc="-1" strike="noStrike">
                <a:solidFill>
                  <a:srgbClr val="568d11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 3 овцы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                 </a:t>
            </a: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волк: за 3 ч </a:t>
            </a:r>
            <a:r>
              <a:rPr b="0" lang="ru-RU" sz="2000" spc="-1" strike="noStrike">
                <a:solidFill>
                  <a:srgbClr val="568d11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 1 овцу,  за  6 ч </a:t>
            </a:r>
            <a:r>
              <a:rPr b="0" lang="ru-RU" sz="2000" spc="-1" strike="noStrike">
                <a:solidFill>
                  <a:srgbClr val="568d11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 2 овцы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                 </a:t>
            </a: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собака: за 6 ч-1 овцу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Значит,  вместе  за 6 ч могут съесть 3+2+1=6 овец, за 1 ч </a:t>
            </a:r>
            <a:r>
              <a:rPr b="0" lang="ru-RU" sz="2000" spc="-1" strike="noStrike">
                <a:solidFill>
                  <a:srgbClr val="568d11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568d11"/>
                </a:solidFill>
                <a:latin typeface="Times New Roman"/>
                <a:ea typeface="Calibri"/>
              </a:rPr>
              <a:t> 1 овцу)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8" name="Прямоугольник 14"/>
          <p:cNvSpPr/>
          <p:nvPr/>
        </p:nvSpPr>
        <p:spPr>
          <a:xfrm>
            <a:off x="1914480" y="4149720"/>
            <a:ext cx="23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0" name="Rectangle 1"/>
          <p:cNvSpPr/>
          <p:nvPr/>
        </p:nvSpPr>
        <p:spPr>
          <a:xfrm>
            <a:off x="446040" y="927000"/>
            <a:ext cx="80265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В  одной  области  10  городов  и  каждые  два  города  соединены  дорогой. Сколько  всего  дорог  в  области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1" name="Прямоугольник 7"/>
          <p:cNvSpPr/>
          <p:nvPr/>
        </p:nvSpPr>
        <p:spPr>
          <a:xfrm>
            <a:off x="2083680" y="566100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68d11"/>
                </a:solidFill>
                <a:latin typeface="Times New Roman"/>
                <a:ea typeface="Calibri"/>
              </a:rPr>
              <a:t>9+8+7+6+5+4+3+2+1 = 45 (дорог)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2" name="Прямоугольник 8"/>
          <p:cNvSpPr/>
          <p:nvPr/>
        </p:nvSpPr>
        <p:spPr>
          <a:xfrm>
            <a:off x="2058480" y="479736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4" name="Прямоугольник 9"/>
          <p:cNvSpPr/>
          <p:nvPr/>
        </p:nvSpPr>
        <p:spPr>
          <a:xfrm>
            <a:off x="723960" y="1413000"/>
            <a:ext cx="792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ак  ломаной  линией,  состоящей  из  4  отрезков,  не  отрывая  карандаша  от  бумаги  перечеркнуть  9  точек.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3924360" y="4345560"/>
            <a:ext cx="208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*          *          *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  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*          *          *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</a:t>
            </a: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*          *          *      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6" name="Прямоугольник 12"/>
          <p:cNvSpPr/>
          <p:nvPr/>
        </p:nvSpPr>
        <p:spPr>
          <a:xfrm>
            <a:off x="1915560" y="429264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7" name="Line 9"/>
          <p:cNvSpPr/>
          <p:nvPr/>
        </p:nvSpPr>
        <p:spPr>
          <a:xfrm>
            <a:off x="4500720" y="4437000"/>
            <a:ext cx="1439640" cy="0"/>
          </a:xfrm>
          <a:prstGeom prst="line">
            <a:avLst/>
          </a:prstGeom>
          <a:ln w="93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8" name="Line 10"/>
          <p:cNvSpPr/>
          <p:nvPr/>
        </p:nvSpPr>
        <p:spPr>
          <a:xfrm>
            <a:off x="4500720" y="4437000"/>
            <a:ext cx="71280" cy="1584360"/>
          </a:xfrm>
          <a:prstGeom prst="line">
            <a:avLst/>
          </a:prstGeom>
          <a:ln w="93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9" name="Line 11"/>
          <p:cNvSpPr/>
          <p:nvPr/>
        </p:nvSpPr>
        <p:spPr>
          <a:xfrm flipV="1">
            <a:off x="4572000" y="4436640"/>
            <a:ext cx="1368360" cy="1584360"/>
          </a:xfrm>
          <a:prstGeom prst="line">
            <a:avLst/>
          </a:prstGeom>
          <a:ln w="93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0" name="Line 12"/>
          <p:cNvSpPr/>
          <p:nvPr/>
        </p:nvSpPr>
        <p:spPr>
          <a:xfrm>
            <a:off x="4500720" y="4437000"/>
            <a:ext cx="1150920" cy="1295640"/>
          </a:xfrm>
          <a:prstGeom prst="line">
            <a:avLst/>
          </a:prstGeom>
          <a:ln w="9360">
            <a:solidFill>
              <a:srgbClr val="56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1" name="Овал 11"/>
          <p:cNvSpPr/>
          <p:nvPr/>
        </p:nvSpPr>
        <p:spPr>
          <a:xfrm>
            <a:off x="5651640" y="5732640"/>
            <a:ext cx="72720" cy="7272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0255 L -0.12986 -0.19421 L 0.02864 -0.19421 L -0.12136 0.03496 L -0.12743 -0.18449 E">
                                      <p:cBhvr>
                                        <p:cTn id="195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3" name="Rectangle 1"/>
          <p:cNvSpPr/>
          <p:nvPr/>
        </p:nvSpPr>
        <p:spPr>
          <a:xfrm>
            <a:off x="250920" y="25416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Как  нужно  разрезать  циферблат  часов на  6  частей так, чтобы  во  всех  частях  сумма  чисел  была  одинакова.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4" name="Прямоугольник 5"/>
          <p:cNvSpPr/>
          <p:nvPr/>
        </p:nvSpPr>
        <p:spPr>
          <a:xfrm>
            <a:off x="2126880" y="5589720"/>
            <a:ext cx="271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сумма 13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5" name="Прямоугольник 6"/>
          <p:cNvSpPr/>
          <p:nvPr/>
        </p:nvSpPr>
        <p:spPr>
          <a:xfrm>
            <a:off x="2202120" y="4869000"/>
            <a:ext cx="224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6" name="Прямая соединительная линия 10"/>
          <p:cNvSpPr/>
          <p:nvPr/>
        </p:nvSpPr>
        <p:spPr>
          <a:xfrm>
            <a:off x="5651640" y="3933720"/>
            <a:ext cx="2089080" cy="57492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7" name="Прямая соединительная линия 11"/>
          <p:cNvSpPr/>
          <p:nvPr/>
        </p:nvSpPr>
        <p:spPr>
          <a:xfrm flipH="1" flipV="1">
            <a:off x="5219280" y="4220640"/>
            <a:ext cx="2737080" cy="86364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8" name="Прямая соединительная линия 19"/>
          <p:cNvSpPr/>
          <p:nvPr/>
        </p:nvSpPr>
        <p:spPr>
          <a:xfrm flipH="1" flipV="1">
            <a:off x="4932000" y="4653000"/>
            <a:ext cx="2879640" cy="93672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9" name="Прямая соединительная линия 21"/>
          <p:cNvSpPr/>
          <p:nvPr/>
        </p:nvSpPr>
        <p:spPr>
          <a:xfrm flipH="1" flipV="1">
            <a:off x="4858920" y="5229360"/>
            <a:ext cx="2737080" cy="792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0" name="Прямая соединительная линия 23"/>
          <p:cNvSpPr/>
          <p:nvPr/>
        </p:nvSpPr>
        <p:spPr>
          <a:xfrm flipH="1" flipV="1">
            <a:off x="5148000" y="5732640"/>
            <a:ext cx="2087640" cy="576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2" name="Прямоугольник 3"/>
          <p:cNvSpPr/>
          <p:nvPr/>
        </p:nvSpPr>
        <p:spPr>
          <a:xfrm>
            <a:off x="503280" y="765000"/>
            <a:ext cx="7705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Девочка начертила  2  прямые линии. На  одной  из  них  она отметила  3  точки  на  другой - 5  точек. Всего было  отмечено  7  точек. Как  она  это  сделала?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3" name="Прямоугольник 4"/>
          <p:cNvSpPr/>
          <p:nvPr/>
        </p:nvSpPr>
        <p:spPr>
          <a:xfrm>
            <a:off x="1843560" y="4581360"/>
            <a:ext cx="20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4" name="Line 1"/>
          <p:cNvSpPr/>
          <p:nvPr/>
        </p:nvSpPr>
        <p:spPr>
          <a:xfrm>
            <a:off x="4775040" y="4764240"/>
            <a:ext cx="1028880" cy="9144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5" name="Line 2"/>
          <p:cNvSpPr/>
          <p:nvPr/>
        </p:nvSpPr>
        <p:spPr>
          <a:xfrm flipH="1">
            <a:off x="4355640" y="4869000"/>
            <a:ext cx="2171880" cy="685800"/>
          </a:xfrm>
          <a:prstGeom prst="line">
            <a:avLst/>
          </a:prstGeom>
          <a:ln w="9360">
            <a:solidFill>
              <a:srgbClr val="2130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4427640" y="47250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3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M</a:t>
            </a: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E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7" name="Rectangle 5"/>
          <p:cNvSpPr/>
          <p:nvPr/>
        </p:nvSpPr>
        <p:spPr>
          <a:xfrm flipV="1" rot="10800000">
            <a:off x="3492360" y="4744440"/>
            <a:ext cx="28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D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                            </a:t>
            </a: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C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            </a:t>
            </a: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B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</a:t>
            </a: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A</a:t>
            </a: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K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8" name="Овал 10"/>
          <p:cNvSpPr/>
          <p:nvPr/>
        </p:nvSpPr>
        <p:spPr>
          <a:xfrm>
            <a:off x="4788000" y="4797360"/>
            <a:ext cx="71280" cy="46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9" name="Овал 11"/>
          <p:cNvSpPr/>
          <p:nvPr/>
        </p:nvSpPr>
        <p:spPr>
          <a:xfrm flipH="1">
            <a:off x="4426920" y="5516640"/>
            <a:ext cx="73080" cy="46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0" name="Овал 12"/>
          <p:cNvSpPr/>
          <p:nvPr/>
        </p:nvSpPr>
        <p:spPr>
          <a:xfrm flipV="1">
            <a:off x="4768920" y="5398920"/>
            <a:ext cx="46080" cy="46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1" name="Овал 13"/>
          <p:cNvSpPr/>
          <p:nvPr/>
        </p:nvSpPr>
        <p:spPr>
          <a:xfrm flipH="1" flipV="1">
            <a:off x="5724360" y="5589720"/>
            <a:ext cx="46080" cy="712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2" name="Овал 14"/>
          <p:cNvSpPr/>
          <p:nvPr/>
        </p:nvSpPr>
        <p:spPr>
          <a:xfrm>
            <a:off x="5292720" y="5229360"/>
            <a:ext cx="71280" cy="46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3" name="Овал 15"/>
          <p:cNvSpPr/>
          <p:nvPr/>
        </p:nvSpPr>
        <p:spPr>
          <a:xfrm flipH="1" flipV="1">
            <a:off x="5939640" y="5013360"/>
            <a:ext cx="71640" cy="46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4" name="Овал 16"/>
          <p:cNvSpPr/>
          <p:nvPr/>
        </p:nvSpPr>
        <p:spPr>
          <a:xfrm flipV="1">
            <a:off x="6372360" y="4869000"/>
            <a:ext cx="46080" cy="460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511200" y="917640"/>
            <a:ext cx="802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Изображенную  фигуру  разделить  на  6  частей  двумя  прямыми. 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7" name="Rectangle 8"/>
          <p:cNvSpPr/>
          <p:nvPr/>
        </p:nvSpPr>
        <p:spPr>
          <a:xfrm>
            <a:off x="5034240" y="1233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8" name="Rectangle 15"/>
          <p:cNvSpPr/>
          <p:nvPr/>
        </p:nvSpPr>
        <p:spPr>
          <a:xfrm>
            <a:off x="2268360" y="4134600"/>
            <a:ext cx="244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789" name="Group 9"/>
          <p:cNvGrpSpPr/>
          <p:nvPr/>
        </p:nvGrpSpPr>
        <p:grpSpPr>
          <a:xfrm>
            <a:off x="4211640" y="4581360"/>
            <a:ext cx="3706920" cy="1460520"/>
            <a:chOff x="4211640" y="4581360"/>
            <a:chExt cx="3706920" cy="1460520"/>
          </a:xfrm>
        </p:grpSpPr>
        <p:sp>
          <p:nvSpPr>
            <p:cNvPr id="790" name="AutoShape 14"/>
            <p:cNvSpPr/>
            <p:nvPr/>
          </p:nvSpPr>
          <p:spPr>
            <a:xfrm>
              <a:off x="4211640" y="4581360"/>
              <a:ext cx="37069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91" name="Line 13"/>
            <p:cNvSpPr/>
            <p:nvPr/>
          </p:nvSpPr>
          <p:spPr>
            <a:xfrm flipV="1">
              <a:off x="5185800" y="4743000"/>
              <a:ext cx="2107800" cy="649800"/>
            </a:xfrm>
            <a:prstGeom prst="line">
              <a:avLst/>
            </a:prstGeom>
            <a:ln w="9360">
              <a:solidFill>
                <a:srgbClr val="4e67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>
              <a:off x="5185800" y="5391720"/>
              <a:ext cx="2597400" cy="649800"/>
            </a:xfrm>
            <a:prstGeom prst="line">
              <a:avLst/>
            </a:prstGeom>
            <a:ln w="9360">
              <a:solidFill>
                <a:srgbClr val="4e67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93" name="Line 11"/>
            <p:cNvSpPr/>
            <p:nvPr/>
          </p:nvSpPr>
          <p:spPr>
            <a:xfrm flipH="1" flipV="1">
              <a:off x="6647400" y="5391360"/>
              <a:ext cx="1136160" cy="649800"/>
            </a:xfrm>
            <a:prstGeom prst="line">
              <a:avLst/>
            </a:prstGeom>
            <a:ln w="9360">
              <a:solidFill>
                <a:srgbClr val="4e67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94" name="Line 10"/>
            <p:cNvSpPr/>
            <p:nvPr/>
          </p:nvSpPr>
          <p:spPr>
            <a:xfrm flipV="1">
              <a:off x="6647400" y="4743000"/>
              <a:ext cx="649080" cy="649800"/>
            </a:xfrm>
            <a:prstGeom prst="line">
              <a:avLst/>
            </a:prstGeom>
            <a:ln w="9360">
              <a:solidFill>
                <a:srgbClr val="4e67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795" name="Rectangle 16"/>
          <p:cNvSpPr/>
          <p:nvPr/>
        </p:nvSpPr>
        <p:spPr>
          <a:xfrm>
            <a:off x="5716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6" name="Line 18"/>
          <p:cNvSpPr/>
          <p:nvPr/>
        </p:nvSpPr>
        <p:spPr>
          <a:xfrm>
            <a:off x="6750000" y="4292640"/>
            <a:ext cx="343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7" name="Line 19"/>
          <p:cNvSpPr/>
          <p:nvPr/>
        </p:nvSpPr>
        <p:spPr>
          <a:xfrm flipH="1">
            <a:off x="6588000" y="4454640"/>
            <a:ext cx="457200" cy="154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798" name="Group 9"/>
          <p:cNvGrpSpPr/>
          <p:nvPr/>
        </p:nvGrpSpPr>
        <p:grpSpPr>
          <a:xfrm>
            <a:off x="1835280" y="2708280"/>
            <a:ext cx="3706560" cy="1461960"/>
            <a:chOff x="1835280" y="2708280"/>
            <a:chExt cx="3706560" cy="1461960"/>
          </a:xfrm>
        </p:grpSpPr>
        <p:sp>
          <p:nvSpPr>
            <p:cNvPr id="799" name="AutoShape 14"/>
            <p:cNvSpPr/>
            <p:nvPr/>
          </p:nvSpPr>
          <p:spPr>
            <a:xfrm>
              <a:off x="1835280" y="2708280"/>
              <a:ext cx="370656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00" name="Line 13"/>
            <p:cNvSpPr/>
            <p:nvPr/>
          </p:nvSpPr>
          <p:spPr>
            <a:xfrm flipV="1">
              <a:off x="2809440" y="2869920"/>
              <a:ext cx="211032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01" name="Line 12"/>
            <p:cNvSpPr/>
            <p:nvPr/>
          </p:nvSpPr>
          <p:spPr>
            <a:xfrm>
              <a:off x="2809440" y="3519360"/>
              <a:ext cx="259704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02" name="Line 11"/>
            <p:cNvSpPr/>
            <p:nvPr/>
          </p:nvSpPr>
          <p:spPr>
            <a:xfrm flipH="1" flipV="1">
              <a:off x="4270320" y="3519000"/>
              <a:ext cx="113580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V="1">
              <a:off x="4270680" y="2869920"/>
              <a:ext cx="64872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5" name="Line 2"/>
          <p:cNvSpPr/>
          <p:nvPr/>
        </p:nvSpPr>
        <p:spPr>
          <a:xfrm>
            <a:off x="5292720" y="4941720"/>
            <a:ext cx="1511280" cy="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6" name="Line 3"/>
          <p:cNvSpPr/>
          <p:nvPr/>
        </p:nvSpPr>
        <p:spPr>
          <a:xfrm>
            <a:off x="5292720" y="4941720"/>
            <a:ext cx="0" cy="122400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7" name="Line 1"/>
          <p:cNvSpPr/>
          <p:nvPr/>
        </p:nvSpPr>
        <p:spPr>
          <a:xfrm flipV="1">
            <a:off x="5292720" y="4941720"/>
            <a:ext cx="1511280" cy="12319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8" name="Rectangle 4"/>
          <p:cNvSpPr/>
          <p:nvPr/>
        </p:nvSpPr>
        <p:spPr>
          <a:xfrm>
            <a:off x="1042920" y="516240"/>
            <a:ext cx="81010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Постройте  замкнутую  ломаную  линию,  состоящую  из  трех  звеньев  и  проходящую  через 4  данные  точки.     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Calibri"/>
              </a:rPr>
              <a:t>*      *   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Calibri"/>
              </a:rPr>
              <a:t>                       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Calibri"/>
              </a:rPr>
              <a:t>*      * 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Calibri"/>
              </a:rPr>
              <a:t>	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9" name="Прямоугольник 8"/>
          <p:cNvSpPr/>
          <p:nvPr/>
        </p:nvSpPr>
        <p:spPr>
          <a:xfrm>
            <a:off x="2131200" y="4797360"/>
            <a:ext cx="24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0" name="Прямоугольник 9"/>
          <p:cNvSpPr/>
          <p:nvPr/>
        </p:nvSpPr>
        <p:spPr>
          <a:xfrm>
            <a:off x="5003640" y="472428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8d11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568d11"/>
                </a:solidFill>
                <a:latin typeface="Times New Roman"/>
                <a:ea typeface="Calibri"/>
              </a:rPr>
              <a:t>*       *   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8d11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568d11"/>
                </a:solidFill>
                <a:latin typeface="Times New Roman"/>
                <a:ea typeface="Calibri"/>
              </a:rPr>
              <a:t>*       *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1" name="Овал 9"/>
          <p:cNvSpPr/>
          <p:nvPr/>
        </p:nvSpPr>
        <p:spPr>
          <a:xfrm>
            <a:off x="5219640" y="4941720"/>
            <a:ext cx="73080" cy="4464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00324 L 0.16927 -0.00324 L 3.61111E-006 0.175 L 3.61111E-006 -0.00324 Z">
                                      <p:cBhvr>
                                        <p:cTn id="348" dur="2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813" name="Object 6"/>
          <p:cNvGraphicFramePr/>
          <p:nvPr/>
        </p:nvGraphicFramePr>
        <p:xfrm>
          <a:off x="1763640" y="1484280"/>
          <a:ext cx="554508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484280"/>
                    <a:ext cx="55450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5" name="Прямоугольник 5" descr=""/>
          <p:cNvPicPr/>
          <p:nvPr/>
        </p:nvPicPr>
        <p:blipFill>
          <a:blip r:embed="rId3"/>
          <a:stretch/>
        </p:blipFill>
        <p:spPr>
          <a:xfrm>
            <a:off x="5645160" y="1504800"/>
            <a:ext cx="1384200" cy="1152720"/>
          </a:xfrm>
          <a:prstGeom prst="rect">
            <a:avLst/>
          </a:prstGeom>
          <a:ln w="0">
            <a:noFill/>
          </a:ln>
        </p:spPr>
      </p:pic>
      <p:pic>
        <p:nvPicPr>
          <p:cNvPr id="816" name="Прямоугольник 7" descr=""/>
          <p:cNvPicPr/>
          <p:nvPr/>
        </p:nvPicPr>
        <p:blipFill>
          <a:blip r:embed="rId4"/>
          <a:stretch/>
        </p:blipFill>
        <p:spPr>
          <a:xfrm>
            <a:off x="5718240" y="2798640"/>
            <a:ext cx="1377720" cy="1150920"/>
          </a:xfrm>
          <a:prstGeom prst="rect">
            <a:avLst/>
          </a:prstGeom>
          <a:ln w="0">
            <a:noFill/>
          </a:ln>
        </p:spPr>
      </p:pic>
      <p:pic>
        <p:nvPicPr>
          <p:cNvPr id="817" name="Прямоугольник 8" descr=""/>
          <p:cNvPicPr/>
          <p:nvPr/>
        </p:nvPicPr>
        <p:blipFill>
          <a:blip r:embed="rId5"/>
          <a:stretch/>
        </p:blipFill>
        <p:spPr>
          <a:xfrm>
            <a:off x="3919680" y="4095720"/>
            <a:ext cx="1377720" cy="1152720"/>
          </a:xfrm>
          <a:prstGeom prst="rect">
            <a:avLst/>
          </a:prstGeom>
          <a:ln w="0">
            <a:noFill/>
          </a:ln>
        </p:spPr>
      </p:pic>
      <p:pic>
        <p:nvPicPr>
          <p:cNvPr id="818" name="Прямоугольник 9" descr=""/>
          <p:cNvPicPr/>
          <p:nvPr/>
        </p:nvPicPr>
        <p:blipFill>
          <a:blip r:embed="rId6"/>
          <a:stretch/>
        </p:blipFill>
        <p:spPr>
          <a:xfrm>
            <a:off x="2114640" y="4095720"/>
            <a:ext cx="1384200" cy="1152720"/>
          </a:xfrm>
          <a:prstGeom prst="rect">
            <a:avLst/>
          </a:prstGeom>
          <a:ln w="0">
            <a:noFill/>
          </a:ln>
        </p:spPr>
      </p:pic>
      <p:sp>
        <p:nvSpPr>
          <p:cNvPr id="819" name="Прямоугольник 8"/>
          <p:cNvSpPr/>
          <p:nvPr/>
        </p:nvSpPr>
        <p:spPr>
          <a:xfrm>
            <a:off x="1483200" y="476280"/>
            <a:ext cx="24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0" name="Полилиния 12"/>
          <p:cNvSpPr/>
          <p:nvPr/>
        </p:nvSpPr>
        <p:spPr>
          <a:xfrm>
            <a:off x="1763640" y="1297080"/>
            <a:ext cx="5670720" cy="5560920"/>
          </a:xfrm>
          <a:custGeom>
            <a:avLst/>
            <a:gdLst/>
            <a:ahLst/>
            <a:rect l="l" t="t" r="r" b="b"/>
            <a:pathLst>
              <a:path w="5670785" h="5561659">
                <a:moveTo>
                  <a:pt x="5670785" y="3847629"/>
                </a:moveTo>
                <a:cubicBezTo>
                  <a:pt x="3031066" y="1923814"/>
                  <a:pt x="391348" y="0"/>
                  <a:pt x="195674" y="156163"/>
                </a:cubicBezTo>
                <a:cubicBezTo>
                  <a:pt x="0" y="312326"/>
                  <a:pt x="3778014" y="4007555"/>
                  <a:pt x="4496740" y="4784607"/>
                </a:cubicBezTo>
                <a:cubicBezTo>
                  <a:pt x="5215466" y="5561659"/>
                  <a:pt x="4861747" y="5190066"/>
                  <a:pt x="4508029" y="481847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21" name="Прямоугольник 5" descr=""/>
          <p:cNvPicPr/>
          <p:nvPr/>
        </p:nvPicPr>
        <p:blipFill>
          <a:blip r:embed="rId7"/>
          <a:stretch/>
        </p:blipFill>
        <p:spPr>
          <a:xfrm>
            <a:off x="6004080" y="5370480"/>
            <a:ext cx="2901960" cy="98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823" name="Object 5"/>
          <p:cNvGraphicFramePr/>
          <p:nvPr/>
        </p:nvGraphicFramePr>
        <p:xfrm>
          <a:off x="1763640" y="1557360"/>
          <a:ext cx="5521320" cy="39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557360"/>
                    <a:ext cx="552132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Прямоугольник 8"/>
          <p:cNvSpPr/>
          <p:nvPr/>
        </p:nvSpPr>
        <p:spPr>
          <a:xfrm>
            <a:off x="1483200" y="476280"/>
            <a:ext cx="24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26" name="Прямоугольник 8" descr=""/>
          <p:cNvPicPr/>
          <p:nvPr/>
        </p:nvPicPr>
        <p:blipFill>
          <a:blip r:embed="rId3"/>
          <a:stretch/>
        </p:blipFill>
        <p:spPr>
          <a:xfrm>
            <a:off x="2048040" y="1573200"/>
            <a:ext cx="1377720" cy="1150920"/>
          </a:xfrm>
          <a:prstGeom prst="rect">
            <a:avLst/>
          </a:prstGeom>
          <a:ln w="0">
            <a:noFill/>
          </a:ln>
        </p:spPr>
      </p:pic>
      <p:pic>
        <p:nvPicPr>
          <p:cNvPr id="827" name="Прямоугольник 9" descr=""/>
          <p:cNvPicPr/>
          <p:nvPr/>
        </p:nvPicPr>
        <p:blipFill>
          <a:blip r:embed="rId4"/>
          <a:stretch/>
        </p:blipFill>
        <p:spPr>
          <a:xfrm>
            <a:off x="2048040" y="2871720"/>
            <a:ext cx="1377720" cy="1150920"/>
          </a:xfrm>
          <a:prstGeom prst="rect">
            <a:avLst/>
          </a:prstGeom>
          <a:ln w="0">
            <a:noFill/>
          </a:ln>
        </p:spPr>
      </p:pic>
      <p:pic>
        <p:nvPicPr>
          <p:cNvPr id="828" name="Прямоугольник 10" descr=""/>
          <p:cNvPicPr/>
          <p:nvPr/>
        </p:nvPicPr>
        <p:blipFill>
          <a:blip r:embed="rId5"/>
          <a:stretch/>
        </p:blipFill>
        <p:spPr>
          <a:xfrm>
            <a:off x="3919680" y="4095720"/>
            <a:ext cx="1377720" cy="1152720"/>
          </a:xfrm>
          <a:prstGeom prst="rect">
            <a:avLst/>
          </a:prstGeom>
          <a:ln w="0">
            <a:noFill/>
          </a:ln>
        </p:spPr>
      </p:pic>
      <p:pic>
        <p:nvPicPr>
          <p:cNvPr id="829" name="Прямоугольник 11" descr=""/>
          <p:cNvPicPr/>
          <p:nvPr/>
        </p:nvPicPr>
        <p:blipFill>
          <a:blip r:embed="rId6"/>
          <a:stretch/>
        </p:blipFill>
        <p:spPr>
          <a:xfrm>
            <a:off x="5645160" y="4095720"/>
            <a:ext cx="1384200" cy="1152720"/>
          </a:xfrm>
          <a:prstGeom prst="rect">
            <a:avLst/>
          </a:prstGeom>
          <a:ln w="0">
            <a:noFill/>
          </a:ln>
        </p:spPr>
      </p:pic>
      <p:sp>
        <p:nvSpPr>
          <p:cNvPr id="830" name="Полилиния 12"/>
          <p:cNvSpPr/>
          <p:nvPr/>
        </p:nvSpPr>
        <p:spPr>
          <a:xfrm rot="6198600">
            <a:off x="1350360" y="677880"/>
            <a:ext cx="5672160" cy="5560920"/>
          </a:xfrm>
          <a:custGeom>
            <a:avLst/>
            <a:gdLst/>
            <a:ahLst/>
            <a:rect l="l" t="t" r="r" b="b"/>
            <a:pathLst>
              <a:path w="5670785" h="5561659">
                <a:moveTo>
                  <a:pt x="5670785" y="3847629"/>
                </a:moveTo>
                <a:cubicBezTo>
                  <a:pt x="3031066" y="1923814"/>
                  <a:pt x="391348" y="0"/>
                  <a:pt x="195674" y="156163"/>
                </a:cubicBezTo>
                <a:cubicBezTo>
                  <a:pt x="0" y="312326"/>
                  <a:pt x="3778014" y="4007555"/>
                  <a:pt x="4496740" y="4784607"/>
                </a:cubicBezTo>
                <a:cubicBezTo>
                  <a:pt x="5215466" y="5561659"/>
                  <a:pt x="4861747" y="5190066"/>
                  <a:pt x="4508029" y="481847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31" name="Прямоугольник 5" descr=""/>
          <p:cNvPicPr/>
          <p:nvPr/>
        </p:nvPicPr>
        <p:blipFill>
          <a:blip r:embed="rId7"/>
          <a:stretch/>
        </p:blipFill>
        <p:spPr>
          <a:xfrm>
            <a:off x="1828800" y="5437080"/>
            <a:ext cx="3206880" cy="9874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833" name="Object 3"/>
          <p:cNvGraphicFramePr/>
          <p:nvPr/>
        </p:nvGraphicFramePr>
        <p:xfrm>
          <a:off x="1619280" y="1628640"/>
          <a:ext cx="554508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5450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Прямоугольник 8"/>
          <p:cNvSpPr/>
          <p:nvPr/>
        </p:nvSpPr>
        <p:spPr>
          <a:xfrm>
            <a:off x="1483200" y="476280"/>
            <a:ext cx="24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36" name="Прямоугольник 7" descr=""/>
          <p:cNvPicPr/>
          <p:nvPr/>
        </p:nvPicPr>
        <p:blipFill>
          <a:blip r:embed="rId3"/>
          <a:stretch/>
        </p:blipFill>
        <p:spPr>
          <a:xfrm>
            <a:off x="3700440" y="4237200"/>
            <a:ext cx="1384200" cy="1152360"/>
          </a:xfrm>
          <a:prstGeom prst="rect">
            <a:avLst/>
          </a:prstGeom>
          <a:ln w="0">
            <a:noFill/>
          </a:ln>
        </p:spPr>
      </p:pic>
      <p:pic>
        <p:nvPicPr>
          <p:cNvPr id="837" name="Прямоугольник 8" descr=""/>
          <p:cNvPicPr/>
          <p:nvPr/>
        </p:nvPicPr>
        <p:blipFill>
          <a:blip r:embed="rId4"/>
          <a:stretch/>
        </p:blipFill>
        <p:spPr>
          <a:xfrm>
            <a:off x="1584360" y="2944800"/>
            <a:ext cx="1712880" cy="1150920"/>
          </a:xfrm>
          <a:prstGeom prst="rect">
            <a:avLst/>
          </a:prstGeom>
          <a:ln w="0">
            <a:noFill/>
          </a:ln>
        </p:spPr>
      </p:pic>
      <p:pic>
        <p:nvPicPr>
          <p:cNvPr id="838" name="Прямоугольник 9" descr=""/>
          <p:cNvPicPr/>
          <p:nvPr/>
        </p:nvPicPr>
        <p:blipFill>
          <a:blip r:embed="rId5"/>
          <a:stretch/>
        </p:blipFill>
        <p:spPr>
          <a:xfrm>
            <a:off x="3529080" y="1646280"/>
            <a:ext cx="1712880" cy="1152360"/>
          </a:xfrm>
          <a:prstGeom prst="rect">
            <a:avLst/>
          </a:prstGeom>
          <a:ln w="0">
            <a:noFill/>
          </a:ln>
        </p:spPr>
      </p:pic>
      <p:pic>
        <p:nvPicPr>
          <p:cNvPr id="839" name="Прямоугольник 10" descr=""/>
          <p:cNvPicPr/>
          <p:nvPr/>
        </p:nvPicPr>
        <p:blipFill>
          <a:blip r:embed="rId6"/>
          <a:stretch/>
        </p:blipFill>
        <p:spPr>
          <a:xfrm>
            <a:off x="5334120" y="2944800"/>
            <a:ext cx="1712880" cy="1150920"/>
          </a:xfrm>
          <a:prstGeom prst="rect">
            <a:avLst/>
          </a:prstGeom>
          <a:ln w="0">
            <a:noFill/>
          </a:ln>
        </p:spPr>
      </p:pic>
      <p:sp>
        <p:nvSpPr>
          <p:cNvPr id="840" name="Полилиния 11"/>
          <p:cNvSpPr/>
          <p:nvPr/>
        </p:nvSpPr>
        <p:spPr>
          <a:xfrm>
            <a:off x="1476360" y="1297080"/>
            <a:ext cx="5670720" cy="5560920"/>
          </a:xfrm>
          <a:custGeom>
            <a:avLst/>
            <a:gdLst/>
            <a:ahLst/>
            <a:rect l="l" t="t" r="r" b="b"/>
            <a:pathLst>
              <a:path w="5670785" h="5561659">
                <a:moveTo>
                  <a:pt x="5670785" y="3847629"/>
                </a:moveTo>
                <a:cubicBezTo>
                  <a:pt x="3031066" y="1923814"/>
                  <a:pt x="391348" y="0"/>
                  <a:pt x="195674" y="156163"/>
                </a:cubicBezTo>
                <a:cubicBezTo>
                  <a:pt x="0" y="312326"/>
                  <a:pt x="3778014" y="4007555"/>
                  <a:pt x="4496740" y="4784607"/>
                </a:cubicBezTo>
                <a:cubicBezTo>
                  <a:pt x="5215466" y="5561659"/>
                  <a:pt x="4861747" y="5190066"/>
                  <a:pt x="4508029" y="481847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41" name="Прямоугольник 5" descr=""/>
          <p:cNvPicPr/>
          <p:nvPr/>
        </p:nvPicPr>
        <p:blipFill>
          <a:blip r:embed="rId7"/>
          <a:stretch/>
        </p:blipFill>
        <p:spPr>
          <a:xfrm>
            <a:off x="5791320" y="5437080"/>
            <a:ext cx="3206520" cy="98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19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2226240"/>
            <a:ext cx="92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r>
              <a:rPr b="1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Как быстро вычислить: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99-97+95-93+91-89+…+7-5+3-1?</a:t>
            </a:r>
            <a:r>
              <a:rPr b="1" lang="ru-RU" sz="1200" spc="-1" strike="noStrike">
                <a:solidFill>
                  <a:srgbClr val="0033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9" name="Прямоугольник 4"/>
          <p:cNvSpPr/>
          <p:nvPr/>
        </p:nvSpPr>
        <p:spPr>
          <a:xfrm>
            <a:off x="2096640" y="4869000"/>
            <a:ext cx="224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0" name="Прямоугольник 5"/>
          <p:cNvSpPr/>
          <p:nvPr/>
        </p:nvSpPr>
        <p:spPr>
          <a:xfrm>
            <a:off x="2207520" y="5589720"/>
            <a:ext cx="227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2·25=50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3" name="Rectangle 1"/>
          <p:cNvSpPr/>
          <p:nvPr/>
        </p:nvSpPr>
        <p:spPr>
          <a:xfrm>
            <a:off x="395280" y="97596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86080"/>
                <a:tab algn="l" pos="2143080"/>
                <a:tab algn="l" pos="4371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Запишите цифры 1 2 3 4 5 6 7 8 9, не меняя порядка цифр, расставьте между ними (+) и (-), всего три знака, чтобы в результате получилось 100.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4" name="Прямоугольник 4"/>
          <p:cNvSpPr/>
          <p:nvPr/>
        </p:nvSpPr>
        <p:spPr>
          <a:xfrm>
            <a:off x="1970640" y="5589720"/>
            <a:ext cx="38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486080"/>
                <a:tab algn="l" pos="2143080"/>
                <a:tab algn="l" pos="4371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123-45-67+89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5" name="Прямоугольник 8"/>
          <p:cNvSpPr/>
          <p:nvPr/>
        </p:nvSpPr>
        <p:spPr>
          <a:xfrm>
            <a:off x="2131200" y="4797360"/>
            <a:ext cx="24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7" name="Rectangle 1"/>
          <p:cNvSpPr/>
          <p:nvPr/>
        </p:nvSpPr>
        <p:spPr>
          <a:xfrm>
            <a:off x="1116000" y="1353960"/>
            <a:ext cx="774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486080"/>
                <a:tab algn="l" pos="2143080"/>
                <a:tab algn="l" pos="4371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Запишите, пользуясь тремя пятерками число: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86080"/>
                <a:tab algn="l" pos="2143080"/>
                <a:tab algn="l" pos="4371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а) 2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86080"/>
                <a:tab algn="l" pos="2143080"/>
                <a:tab algn="l" pos="4371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Calibri"/>
              </a:rPr>
              <a:t>б) 5.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8" name="Прямоугольник 4"/>
          <p:cNvSpPr/>
          <p:nvPr/>
        </p:nvSpPr>
        <p:spPr>
          <a:xfrm>
            <a:off x="1974960" y="5589720"/>
            <a:ext cx="63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486080"/>
                <a:tab algn="l" pos="2143080"/>
                <a:tab algn="l" pos="4371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а) (5+5):5=2,  б) 5·5:5=5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9" name="Прямоугольник 8"/>
          <p:cNvSpPr/>
          <p:nvPr/>
        </p:nvSpPr>
        <p:spPr>
          <a:xfrm>
            <a:off x="2131200" y="4797360"/>
            <a:ext cx="24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Calibri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19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2" name="Прямоугольник 3"/>
          <p:cNvSpPr/>
          <p:nvPr/>
        </p:nvSpPr>
        <p:spPr>
          <a:xfrm>
            <a:off x="398520" y="1844640"/>
            <a:ext cx="8280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r>
              <a:rPr b="1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Как быстро вычислить сумму чисел от  1  до  100 ?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Calibri"/>
              </a:rPr>
              <a:t>   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3" name="Прямоугольник 4"/>
          <p:cNvSpPr/>
          <p:nvPr/>
        </p:nvSpPr>
        <p:spPr>
          <a:xfrm>
            <a:off x="2346480" y="4869000"/>
            <a:ext cx="224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4" name="Прямоугольник 5"/>
          <p:cNvSpPr/>
          <p:nvPr/>
        </p:nvSpPr>
        <p:spPr>
          <a:xfrm>
            <a:off x="2281680" y="5589720"/>
            <a:ext cx="34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101·50=5050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9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6" name="Прямоугольник 3"/>
          <p:cNvSpPr/>
          <p:nvPr/>
        </p:nvSpPr>
        <p:spPr>
          <a:xfrm>
            <a:off x="395280" y="1122480"/>
            <a:ext cx="8497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00"/>
                </a:solidFill>
                <a:latin typeface="Times New Roman"/>
                <a:ea typeface="Calibri"/>
              </a:rPr>
              <a:t>Найдите как можно быстрее,  какое  частное  и  какой  остаток получается при делении числа:   1·2·3·4·5·6+1  на 5.</a:t>
            </a:r>
            <a:endParaRPr b="0" lang="en-US" sz="4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7" name="Прямоугольник 4"/>
          <p:cNvSpPr/>
          <p:nvPr/>
        </p:nvSpPr>
        <p:spPr>
          <a:xfrm>
            <a:off x="1482480" y="4653000"/>
            <a:ext cx="229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Calibri"/>
              </a:rPr>
              <a:t> </a:t>
            </a: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8" name="Прямоугольник 5"/>
          <p:cNvSpPr/>
          <p:nvPr/>
        </p:nvSpPr>
        <p:spPr>
          <a:xfrm>
            <a:off x="3967920" y="4724280"/>
            <a:ext cx="531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частное – 1·2·3·4·6,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 </a:t>
            </a: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статок – 1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19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0" name="Прямоугольник 3"/>
          <p:cNvSpPr/>
          <p:nvPr/>
        </p:nvSpPr>
        <p:spPr>
          <a:xfrm>
            <a:off x="647640" y="1844640"/>
            <a:ext cx="7848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Какое  целое   число  делится  без  остатка  на  любое  натуральное число?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Calibri"/>
              </a:rPr>
              <a:t>   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1" name="Прямоугольник 4"/>
          <p:cNvSpPr/>
          <p:nvPr/>
        </p:nvSpPr>
        <p:spPr>
          <a:xfrm>
            <a:off x="2195640" y="4941720"/>
            <a:ext cx="23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r>
              <a:rPr b="0" lang="ru-RU" sz="4800" spc="-1" strike="noStrike">
                <a:solidFill>
                  <a:srgbClr val="003300"/>
                </a:solidFill>
                <a:latin typeface="Times New Roman"/>
                <a:ea typeface="Calibri"/>
              </a:rPr>
              <a:t> 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2" name="Прямоугольник 5"/>
          <p:cNvSpPr/>
          <p:nvPr/>
        </p:nvSpPr>
        <p:spPr>
          <a:xfrm>
            <a:off x="2991600" y="566100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0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19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4" name="Прямоугольник 3"/>
          <p:cNvSpPr/>
          <p:nvPr/>
        </p:nvSpPr>
        <p:spPr>
          <a:xfrm>
            <a:off x="755640" y="1989000"/>
            <a:ext cx="7559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00"/>
                </a:solidFill>
                <a:latin typeface="Times New Roman"/>
                <a:ea typeface="Calibri"/>
              </a:rPr>
              <a:t>Сумма, каких  двух  натуральных  чисел  равна  их  произведению?</a:t>
            </a:r>
            <a:endParaRPr b="0" lang="en-US" sz="4500" spc="-1" strike="noStrike">
              <a:solidFill>
                <a:srgbClr val="46464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Calibri"/>
              </a:rPr>
              <a:t>   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5" name="Прямоугольник 4"/>
          <p:cNvSpPr/>
          <p:nvPr/>
        </p:nvSpPr>
        <p:spPr>
          <a:xfrm>
            <a:off x="2274840" y="4869000"/>
            <a:ext cx="224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Ответ: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6" name="Прямоугольник 5"/>
          <p:cNvSpPr/>
          <p:nvPr/>
        </p:nvSpPr>
        <p:spPr>
          <a:xfrm>
            <a:off x="2281680" y="5589720"/>
            <a:ext cx="24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Calibri"/>
              </a:rPr>
              <a:t>2·2=2+2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8" name="Прямоугольник 26"/>
          <p:cNvSpPr/>
          <p:nvPr/>
        </p:nvSpPr>
        <p:spPr>
          <a:xfrm>
            <a:off x="250920" y="549360"/>
            <a:ext cx="88930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акие  знаки  арифметических  действий  нужно  поставить   вместо  знаков  «?»  в  записи:5 ? 5 ? 5   ,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чтобы  получилось: а)  8, б)  20 ?</a:t>
            </a:r>
            <a:r>
              <a:rPr b="1" lang="ru-RU" sz="1800" spc="-1" strike="noStrike">
                <a:solidFill>
                  <a:srgbClr val="464646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9" name="Прямоугольник 27"/>
          <p:cNvSpPr/>
          <p:nvPr/>
        </p:nvSpPr>
        <p:spPr>
          <a:xfrm>
            <a:off x="1979640" y="5229360"/>
            <a:ext cx="691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а)  </a:t>
            </a:r>
            <a:r>
              <a:rPr b="0" lang="ru-RU" sz="4000" spc="-1" strike="noStrike" u="sng">
                <a:solidFill>
                  <a:srgbClr val="568d11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1" lang="ru-RU" sz="4000" spc="-1" strike="noStrike" u="sng">
                <a:solidFill>
                  <a:srgbClr val="568d11"/>
                </a:solidFill>
                <a:uFillTx/>
                <a:latin typeface="Times New Roman"/>
                <a:ea typeface="Times New Roman"/>
              </a:rPr>
              <a:t>+</a:t>
            </a:r>
            <a:r>
              <a:rPr b="0" lang="ru-RU" sz="4000" spc="-1" strike="noStrike" u="sng">
                <a:solidFill>
                  <a:srgbClr val="568d11"/>
                </a:solidFill>
                <a:uFillTx/>
                <a:latin typeface="Times New Roman"/>
                <a:ea typeface="Times New Roman"/>
              </a:rPr>
              <a:t>5+5</a:t>
            </a:r>
            <a:r>
              <a:rPr b="0" lang="ru-RU" sz="40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   ;      б)  </a:t>
            </a:r>
            <a:r>
              <a:rPr b="0" lang="ru-RU" sz="4000" spc="-1" strike="noStrike" u="sng">
                <a:solidFill>
                  <a:srgbClr val="568d11"/>
                </a:solidFill>
                <a:uFillTx/>
                <a:latin typeface="Times New Roman"/>
                <a:ea typeface="Times New Roman"/>
              </a:rPr>
              <a:t>5*5-5</a:t>
            </a:r>
            <a:r>
              <a:rPr b="0" lang="ru-RU" sz="40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 .          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5                           5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0" name="Прямоугольник 28"/>
          <p:cNvSpPr/>
          <p:nvPr/>
        </p:nvSpPr>
        <p:spPr>
          <a:xfrm>
            <a:off x="1986120" y="4581360"/>
            <a:ext cx="220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 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5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2" name="Прямоугольник 26"/>
          <p:cNvSpPr/>
          <p:nvPr/>
        </p:nvSpPr>
        <p:spPr>
          <a:xfrm>
            <a:off x="642960" y="1319040"/>
            <a:ext cx="792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  записи:   8  8   8   8   8   8  8  8    поставьте  между  некоторыми  числами  знаки  сложения так,  чтобы  в  сумме  получилось 1000.   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3" name="Прямоугольник 4"/>
          <p:cNvSpPr/>
          <p:nvPr/>
        </p:nvSpPr>
        <p:spPr>
          <a:xfrm>
            <a:off x="2225160" y="5589720"/>
            <a:ext cx="58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8 8 + 8 + 8 + 8 + 8 8 8.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4" name="Прямоугольник 5"/>
          <p:cNvSpPr/>
          <p:nvPr/>
        </p:nvSpPr>
        <p:spPr>
          <a:xfrm>
            <a:off x="2202840" y="4797360"/>
            <a:ext cx="23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68d11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4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9:19:38Z</dcterms:created>
  <dc:creator>user</dc:creator>
  <dc:description/>
  <dc:language>en-US</dc:language>
  <cp:lastModifiedBy>Администратор безопасности</cp:lastModifiedBy>
  <dcterms:modified xsi:type="dcterms:W3CDTF">2020-08-28T09:01:39Z</dcterms:modified>
  <cp:revision>119</cp:revision>
  <dc:subject/>
  <dc:title>Слайд 1</dc:title>
</cp:coreProperties>
</file>