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6C80-6EDD-425F-BE5E-C88B1B4EB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A514-91E5-498B-9E74-6F4197F2C9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872CB-CBCD-4EB6-B33E-062D5D9B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A1E24-CFE0-4AF6-A098-7664B0E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2F24C-FA85-4B47-83DD-50C71BB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463A6-17F1-49B8-A7E2-32D804E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CD197-BC1C-4852-8D20-999BEF7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1D679-3D77-40EB-8D0E-01187C4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36638-E4A2-4F10-B3A2-81F637AE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9C7D2-28EA-4988-8690-1C53F4F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FC719-2322-48DF-9F9B-FF8E0CE3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3FFAE-9768-4A0D-9901-E8ED1104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BF63-62C7-4E1E-88A6-81E63BAFAE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DFD16-1EBE-4501-9DE8-66F80667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57D05-DF5D-418D-93F9-8BECD635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E9E15-832B-4C19-B747-9BD670B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BEF36-CFAA-4F0E-8F72-B1F62B3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DC997-0B0C-441B-BC27-3E8E188D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7D7C2-04B4-4418-9A0E-1627CA5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85B49-3B3D-4377-B1F9-8BEE25D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CD00D-916E-4D48-AE09-7C2B02E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F5E40-E6DD-4C27-AD99-D835A553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D5D89-8304-4D45-A186-962CE9E1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C1BC-4992-43F5-91AF-EBED68F5CF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BB1BC-3793-4270-A254-D39A3DD9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16758A-AFB5-4334-AA8B-85B9DE1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CFFED7-3C98-4310-98B8-301EAAD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26713A-1264-406C-9F36-D877F2E3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441170-90C8-4125-979C-8387091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0995AB-B40A-4668-9A79-5734060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516C54-F69F-4019-9208-EB90A587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986B49-CDE6-41E4-92D7-562218C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48C4FD-6CD3-47E0-9EB6-AA0E290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E88F84-6A53-453E-AB77-713A2C9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C3AB2-439E-4B29-89D0-1744B6E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864AA3-6BAD-4E2E-A0F0-97090AE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8BD74B-7EDC-4BD7-B509-6D7AC292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319C38-A4FD-4164-8F29-2980B05B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99DB9-4574-4D67-8F43-B812D7A3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D5E5E-C7AA-4C23-8D6B-585D5FC5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0D962-E10F-4D57-950E-AAD0C7F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54E11-BB96-41AF-828A-2DA0AB61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23137-4DF9-40FC-A433-21AE93D4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084B8-5628-4085-9A7A-0776F31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45A9A-7746-4382-B80F-704E775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96313-C24D-4AFD-9B6B-4B19E23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3F7B7-17A6-428D-9D64-EB885E2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A37DF-C8C7-4295-8509-3646264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DA964-335F-4106-AC66-D8A32DCC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E50B6-3557-4AEA-9810-5AF8C7A6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DC275-B219-48C7-A914-C1F61663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558965-BC99-447B-A287-A371E347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4502DB-1297-4730-9D48-DAB2842F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6882F8-3603-4293-A927-97DA75DC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089893-86BC-4820-9099-D12469D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D29BFF-25C9-4F2A-8DA9-4B4EDF2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51E7E-072C-42C1-930E-27EA620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2F4840-DC6C-4C5F-92C9-42C69A84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6E8B07-237C-47D3-8558-A5C270B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4619D4-465B-4FCA-8A35-C37A376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286055-3FD2-437C-8D1A-561C434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314D13-414C-4521-890E-0A74E9D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120E3C-1FED-467A-8CC8-E4B8F077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9DA490-009B-4348-96BC-E14A9735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E5AD-1CF4-49F2-B4B8-5535361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DFDD-656A-4A5E-87EE-6BC46398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C8C8-C53C-447D-A51F-F148079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8C4EC-6B42-47F4-93F5-2D34A4B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126E-8C2E-4F22-9F4E-D3B6EB7E3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D7AFA-02D6-451B-B3ED-3E08B5E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7E0C3-DDEB-4EA1-AA78-5674D2EE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5684A-EBEF-4943-BF0D-B2E37A2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DBCF4-2D49-4455-B266-3424AB97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70232-76B4-44B8-9DD6-0374DE40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8A641-19DD-428C-8AF2-69F9015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16C5C-A9D7-4E39-BA66-4FA7F5E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D1D6F-E9AC-4799-B2A5-076C9BE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6A7C8-A68F-4D9C-A6C9-FDDD5BC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AC36E-F84E-4BDD-AD8C-25318CF3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F985-68C5-46F3-94AF-7BAC0D15C9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C0AD1-2BD5-4C52-921F-3492BA00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BB3EB-CEE2-4DAB-90F8-1093D85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A001C-7A0F-4E89-BF2D-C9B511F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2BB6C-0AB5-4E90-8435-F631E0B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5A9EB-878B-4FE8-AD95-A880EE5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549AA-9B8B-42EA-9FCF-3E1BE4AA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FE7CB-D60D-4295-8098-82BE6E0B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03E2C-81CE-40D3-B305-CC6C68D1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CD725-B740-4355-A775-6FA3AFD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7FE54-0BFD-4195-A3B8-AA1349B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BE11-9B79-4AB1-BCA5-5FE739B877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52735-AA65-4AEA-8284-462F31F8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80522-CF91-4472-BB29-2D91C65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E8C5A-10FC-4D6D-89F5-E5CC59C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CC119-3CB1-4ABE-9BA6-8E2619E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C8C7B-53AB-45A6-9996-D5766AB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CCBFA-8F9E-411C-ABB2-8167B56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3AF49-E726-45F3-B975-4D76533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132F0-CCB2-4FF0-8BDA-9569CCA6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57B23-FB9C-44CA-85C4-7C03597E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A2CAF-6583-4E30-8B60-72F6C0AB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ACC7-63EE-4A4D-9BF8-870A878C95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EFD0D-0DC8-47BA-B29E-4D5D96C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4A501-BEE9-49F3-89CC-F038CD5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6050E-D49C-4B85-A0D5-4FAE3D3B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5F611-C100-4B33-90F8-79865D0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A5F58-DA29-4487-BAC2-DA05D123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DAB3E-27C9-419B-8648-473FA10E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AE4FF-F379-4C29-B1D9-3F3C596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6E5FE-12FF-4574-816B-F3C0318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49999-4A86-4F43-8F6A-4F2339C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DB49F-2CD2-4247-A47F-2EC4F2F4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6846-58BE-45A8-8C69-150633FDBE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786E2-BBF2-4982-A121-DBFF140C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B183B-523D-4774-ACDA-14B5787C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4D4C20-4AB0-4599-B009-913CF39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5237D6-5E4E-4E2F-9FA5-13B44E70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B051C-F3A1-4E50-8252-DA86E41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67AFC-92D2-4B92-87A4-382C5D4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08C80-0383-41F4-8C81-DAB388F5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0E21E-1758-4498-BC44-C4BE86E0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FA00E-2A95-4FA5-9917-4B43804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C97BA-9648-40A4-B2D1-73496F3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0AEE-6070-434D-BDEE-66210F4C82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02070-A2C6-432E-8025-E835B5F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5D4182-499A-4768-A2A5-BEACDA1D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C1270-F393-4ED6-BC28-3BC7943F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850EF-DD7F-4A6B-B26D-34D76054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CB8FD7-FD24-430F-BD1E-1C6D3A3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E3286-A1D0-42EC-8031-9820D1C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0B01A-998A-48A1-9E48-497E595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65592-9824-4418-A893-12C69D3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E34CE-E81F-4B65-B7EC-CD67382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095BE0-C967-4C14-828C-AB62311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66CB-4575-4A34-9B53-72B0B5FD89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C5368-C66B-4794-80FC-8443EA2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959846-A110-4819-97CA-9824FF4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98391-6CB7-4CA5-91A8-67825D3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0E245-F311-4D72-A7FD-9F1CB08A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85714-7531-4215-9A7E-D0EE685E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AA8DA-61A0-4045-BF6E-6B3F1BBC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6DE6E-E6F1-4097-8D22-B6FEDEE4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030CF-DF0E-46AD-BF87-D8FB2939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3EA9A-0DE8-4D09-B3F4-79A62EE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C1BB9D-E6B0-4383-976B-83F8BB8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A267-4F4C-44C3-819C-3A733FAADF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8227D-6363-4CEB-81DE-1428F2E2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62099-9C32-4BC5-9799-FD82D70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4A7208-9B34-46EB-AFFB-1DFFC91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F3CB8-3D62-4652-94C7-F4DD216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F936E-06CF-491C-9C23-99FB2DF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8C76F9-0C8C-41D3-BD67-5B82BAC9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6238C-19A0-4501-886A-CA77FF04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C2265-F03A-482E-9E1D-00250C6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57329-BA91-4235-A0FC-55564F80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075A2-BC5D-4264-8364-E51BA7C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6C9E-4FC5-4974-9E45-A8EFEF9C3C1C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5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6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6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6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02F-AA38-4EE3-A17C-170EAC06771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0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51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1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1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560-1F1F-40A1-A52D-EC75F8C9141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6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562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63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66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67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EADE-8E24-422A-A63F-D773445FDC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1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61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1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61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1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1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5F96-9D05-46ED-BF75-0AB5692B974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2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3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6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7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6B3-050C-4BE1-A268-4EF5B29574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1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97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8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268-1BEE-4226-94E3-5388097908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3699-EE96-4680-987E-4DCB01C9B4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9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9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9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9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9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0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53C-066A-4B3F-A135-B95FD9FC83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5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5E8-1D8B-40D5-B9A3-EAD464DE70E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3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2941-14E3-4442-B26E-DBB539856F4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3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8C30-206C-4209-A51D-28A2C97547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0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09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10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3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14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4E60-19ED-4E7C-BA45-1E514573D8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755640" y="2016000"/>
          <a:ext cx="7142040" cy="3861000"/>
        </p:xfrm>
        <a:graphic>
          <a:graphicData uri="http://schemas.openxmlformats.org/drawingml/2006/table">
            <a:tbl>
              <a:tblPr/>
              <a:tblGrid>
                <a:gridCol w="2381400"/>
                <a:gridCol w="2379600"/>
                <a:gridCol w="2381040"/>
              </a:tblGrid>
              <a:tr h="12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28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pic>
        <p:nvPicPr>
          <p:cNvPr id="662" name="WordArt 2" descr=""/>
          <p:cNvPicPr/>
          <p:nvPr/>
        </p:nvPicPr>
        <p:blipFill>
          <a:blip r:embed="rId1"/>
          <a:stretch/>
        </p:blipFill>
        <p:spPr>
          <a:xfrm>
            <a:off x="579600" y="450720"/>
            <a:ext cx="7858080" cy="19321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4" name="TextBox 20"/>
          <p:cNvSpPr/>
          <p:nvPr/>
        </p:nvSpPr>
        <p:spPr>
          <a:xfrm>
            <a:off x="1183680" y="2308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Геомани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5" name="TextBox 22"/>
          <p:cNvSpPr/>
          <p:nvPr/>
        </p:nvSpPr>
        <p:spPr>
          <a:xfrm>
            <a:off x="2987640" y="2217600"/>
            <a:ext cx="26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Математические орешк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6" name="TextBox 23"/>
          <p:cNvSpPr/>
          <p:nvPr/>
        </p:nvSpPr>
        <p:spPr>
          <a:xfrm>
            <a:off x="971640" y="3500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Числовые головоломк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7" name="TextBox 24"/>
          <p:cNvSpPr/>
          <p:nvPr/>
        </p:nvSpPr>
        <p:spPr>
          <a:xfrm>
            <a:off x="3346560" y="35132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Устный счёт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8" name="TextBox 25"/>
          <p:cNvSpPr/>
          <p:nvPr/>
        </p:nvSpPr>
        <p:spPr>
          <a:xfrm>
            <a:off x="5796000" y="21448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Магические квадрат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9" name="TextBox 26"/>
          <p:cNvSpPr/>
          <p:nvPr/>
        </p:nvSpPr>
        <p:spPr>
          <a:xfrm>
            <a:off x="5651640" y="3500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Логические задач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1343880" y="498312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Огонёк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1" name="TextBox 28"/>
          <p:cNvSpPr/>
          <p:nvPr/>
        </p:nvSpPr>
        <p:spPr>
          <a:xfrm>
            <a:off x="3130560" y="48816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Установите закономерность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2" name="TextBox 29"/>
          <p:cNvSpPr/>
          <p:nvPr/>
        </p:nvSpPr>
        <p:spPr>
          <a:xfrm>
            <a:off x="5867280" y="48816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Весёлые вопрос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6" name="Прямоугольник 26"/>
          <p:cNvSpPr/>
          <p:nvPr/>
        </p:nvSpPr>
        <p:spPr>
          <a:xfrm>
            <a:off x="541440" y="1197000"/>
            <a:ext cx="79182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льзуясь четырьмя двойками  и  знаками  действия,  запишите  число  111.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7" name="Прямоугольник 4"/>
          <p:cNvSpPr/>
          <p:nvPr/>
        </p:nvSpPr>
        <p:spPr>
          <a:xfrm>
            <a:off x="4500720" y="4941720"/>
            <a:ext cx="142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222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8" name="Прямоугольник 5"/>
          <p:cNvSpPr/>
          <p:nvPr/>
        </p:nvSpPr>
        <p:spPr>
          <a:xfrm>
            <a:off x="2131200" y="4941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0" name="Прямоугольник 26"/>
          <p:cNvSpPr/>
          <p:nvPr/>
        </p:nvSpPr>
        <p:spPr>
          <a:xfrm>
            <a:off x="674640" y="674640"/>
            <a:ext cx="770436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ие  знаки  арифметических  действий  нужно  поставить  между  восьмью  двойками, чтобы  получилось  8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1" name="Прямоугольник 4"/>
          <p:cNvSpPr/>
          <p:nvPr/>
        </p:nvSpPr>
        <p:spPr>
          <a:xfrm>
            <a:off x="2077200" y="5589720"/>
            <a:ext cx="489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+2+2+2+2+2-2-2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2" name="Прямоугольник 5"/>
          <p:cNvSpPr/>
          <p:nvPr/>
        </p:nvSpPr>
        <p:spPr>
          <a:xfrm>
            <a:off x="1979640" y="49417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4" name="Прямоугольник 26"/>
          <p:cNvSpPr/>
          <p:nvPr/>
        </p:nvSpPr>
        <p:spPr>
          <a:xfrm>
            <a:off x="395280" y="1228680"/>
            <a:ext cx="831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нужно  расставить  знаки  сложения  в  записи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  2  3  4  5  6  7,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в сумме получилось 10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5" name="Прямоугольник 4"/>
          <p:cNvSpPr/>
          <p:nvPr/>
        </p:nvSpPr>
        <p:spPr>
          <a:xfrm>
            <a:off x="2295720" y="5661000"/>
            <a:ext cx="53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1 + 2 + 3 4 + 5 6 + 7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6" name="Прямоугольник 5"/>
          <p:cNvSpPr/>
          <p:nvPr/>
        </p:nvSpPr>
        <p:spPr>
          <a:xfrm>
            <a:off x="227592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8" name="Прямоугольник 26"/>
          <p:cNvSpPr/>
          <p:nvPr/>
        </p:nvSpPr>
        <p:spPr>
          <a:xfrm>
            <a:off x="324000" y="1084320"/>
            <a:ext cx="86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 нужно  расставить   знаки  сложения   в  записи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  8  7  6  5  4  3  2  1,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 в  сумме  получилось  99.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9" name="Прямоугольник 4"/>
          <p:cNvSpPr/>
          <p:nvPr/>
        </p:nvSpPr>
        <p:spPr>
          <a:xfrm>
            <a:off x="2372760" y="558972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9+8+7+65+4+3+2+1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0" name="Прямоугольник 5"/>
          <p:cNvSpPr/>
          <p:nvPr/>
        </p:nvSpPr>
        <p:spPr>
          <a:xfrm>
            <a:off x="2130840" y="4869000"/>
            <a:ext cx="24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2" name="Прямоугольник 26"/>
          <p:cNvSpPr/>
          <p:nvPr/>
        </p:nvSpPr>
        <p:spPr>
          <a:xfrm>
            <a:off x="861840" y="2125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  помощью  четырех  четверок  запишите  7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3" name="Прямоугольник 4"/>
          <p:cNvSpPr/>
          <p:nvPr/>
        </p:nvSpPr>
        <p:spPr>
          <a:xfrm>
            <a:off x="2554200" y="5661000"/>
            <a:ext cx="323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4 + 4 </a:t>
            </a:r>
            <a:r>
              <a:rPr b="0" lang="ru-RU" sz="4800" spc="-1" strike="noStrike" baseline="30000">
                <a:solidFill>
                  <a:srgbClr val="568d11"/>
                </a:solidFill>
                <a:latin typeface="Times New Roman"/>
                <a:ea typeface="Times New Roman"/>
              </a:rPr>
              <a:t>__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 baseline="30000">
                <a:solidFill>
                  <a:srgbClr val="568d11"/>
                </a:solidFill>
                <a:latin typeface="Times New Roman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/</a:t>
            </a:r>
            <a:r>
              <a:rPr b="0" lang="ru-RU" sz="4800" spc="-1" strike="noStrike" baseline="-25000">
                <a:solidFill>
                  <a:srgbClr val="568d11"/>
                </a:solidFill>
                <a:latin typeface="Times New Roman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2131200" y="4941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324000" y="598680"/>
            <a:ext cx="85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На  складе  имеются   гвозди  в  ящиках  по  24, 23, 17 и 16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кг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. Может ли кладовщик  отпустить  со  склада  100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кг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 гвоздей, не  распечатывая  ящики? 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7" name="Прямоугольник 12"/>
          <p:cNvSpPr/>
          <p:nvPr/>
        </p:nvSpPr>
        <p:spPr>
          <a:xfrm>
            <a:off x="2365200" y="5516640"/>
            <a:ext cx="50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Да, 16·2+17·4=10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8" name="Прямоугольник 13"/>
          <p:cNvSpPr/>
          <p:nvPr/>
        </p:nvSpPr>
        <p:spPr>
          <a:xfrm>
            <a:off x="227592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250920" y="87732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По  столбу  высотой  10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взбирается  улитка. Днем  она  поднимается  на  5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,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  а ночью  опускается  на  4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. Через сколько  дней  улитка  доберется  до  верха?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1" name="Прямоугольник 24"/>
          <p:cNvSpPr/>
          <p:nvPr/>
        </p:nvSpPr>
        <p:spPr>
          <a:xfrm>
            <a:off x="2566800" y="5589720"/>
            <a:ext cx="20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6 дней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2" name="Прямоугольник 25"/>
          <p:cNvSpPr/>
          <p:nvPr/>
        </p:nvSpPr>
        <p:spPr>
          <a:xfrm>
            <a:off x="2202840" y="486900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4" name="Rectangle 17"/>
          <p:cNvSpPr/>
          <p:nvPr/>
        </p:nvSpPr>
        <p:spPr>
          <a:xfrm>
            <a:off x="250920" y="99792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Имеется  9  монет,  одна  из  них  фальшивая  она  легче  остальных.  Как  при  помощи  весов, сделав  минимальное  количество  взвешиваний,  определить  какая  монета  фальшивая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5" name="Прямоугольник 12"/>
          <p:cNvSpPr/>
          <p:nvPr/>
        </p:nvSpPr>
        <p:spPr>
          <a:xfrm>
            <a:off x="3943080" y="5516640"/>
            <a:ext cx="49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3  взвешивания.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6" name="Прямоугольник 13"/>
          <p:cNvSpPr/>
          <p:nvPr/>
        </p:nvSpPr>
        <p:spPr>
          <a:xfrm>
            <a:off x="198684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395280" y="492840"/>
            <a:ext cx="856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Calibri"/>
              </a:rPr>
              <a:t>Есть  насекомые,  грызущие  книги, прогрызающие  лист  за  листом  и  прокладывающие  таким  образом  путь  сквозь  толщу  книги. Один  такой  “книжный  червь”  прогрыз  себе  путь  от  первой  страницы  первого  тома  до  последней  страницы  второго  тома, стоящего  рядом  с  первым,  как  здесь  нарисовано. В  каждом  томе  по  600  страниц. Сколько  всего  страниц  прогрыз  “червь”.  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9" name="Прямоугольник 12"/>
          <p:cNvSpPr/>
          <p:nvPr/>
        </p:nvSpPr>
        <p:spPr>
          <a:xfrm>
            <a:off x="2050920" y="573264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  крышки  переплета и 0 страниц.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0" name="Прямоугольник 13"/>
          <p:cNvSpPr/>
          <p:nvPr/>
        </p:nvSpPr>
        <p:spPr>
          <a:xfrm>
            <a:off x="205848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539640" y="1159560"/>
            <a:ext cx="792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Если  в  12 ч  дня  идет дождь, то  можно  ли  ожидать,  что  через  36  часов  будет  солнечная  погода?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3" name="Прямоугольник 13"/>
          <p:cNvSpPr/>
          <p:nvPr/>
        </p:nvSpPr>
        <p:spPr>
          <a:xfrm>
            <a:off x="1908000" y="4797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Calibri"/>
              </a:rPr>
              <a:t>через  36 часов будет полночь. В  это  время  солнечной  погоды  не  бывает.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4" name="Прямоугольник 14"/>
          <p:cNvSpPr/>
          <p:nvPr/>
        </p:nvSpPr>
        <p:spPr>
          <a:xfrm>
            <a:off x="1841760" y="414972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9"/>
          <p:cNvSpPr/>
          <p:nvPr/>
        </p:nvSpPr>
        <p:spPr>
          <a:xfrm>
            <a:off x="7143840" y="480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4" name="Rectangle 21"/>
          <p:cNvSpPr/>
          <p:nvPr/>
        </p:nvSpPr>
        <p:spPr>
          <a:xfrm>
            <a:off x="841320" y="1851480"/>
            <a:ext cx="752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: 1+3+5+7+9+…+997+999 ?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5" name="Прямоугольник 23"/>
          <p:cNvSpPr/>
          <p:nvPr/>
        </p:nvSpPr>
        <p:spPr>
          <a:xfrm>
            <a:off x="1979640" y="573264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000·250=250000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6" name="Прямоугольник 6"/>
          <p:cNvSpPr/>
          <p:nvPr/>
        </p:nvSpPr>
        <p:spPr>
          <a:xfrm>
            <a:off x="2202840" y="486900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755640" y="1592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Лев  может  съесть  овцу  за  2  часа, волк  -  за  3 часа, а  собака -  за  6  часов. За  какое  время  они  вместе  съели  бы  овцу.   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7" name="Прямоугольник 13"/>
          <p:cNvSpPr/>
          <p:nvPr/>
        </p:nvSpPr>
        <p:spPr>
          <a:xfrm>
            <a:off x="1763640" y="508464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За 1 час ( лев : за 2 часа может съесть 1 овцу,  за  6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3 овц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                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волк: за 3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1 овцу,  за  6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2 овц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                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собака: за 6 ч-1 овцу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Значит,  вместе  за 6 ч могут съесть 3+2+1=6 овец, за 1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1 овцу)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8" name="Прямоугольник 14"/>
          <p:cNvSpPr/>
          <p:nvPr/>
        </p:nvSpPr>
        <p:spPr>
          <a:xfrm>
            <a:off x="1914480" y="4149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0" name="Rectangle 1"/>
          <p:cNvSpPr/>
          <p:nvPr/>
        </p:nvSpPr>
        <p:spPr>
          <a:xfrm>
            <a:off x="446040" y="927000"/>
            <a:ext cx="8026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В  одной  области  10  городов  и  каждые  два  города  соединены  дорогой. Сколько  всего  дорог  в  области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1" name="Прямоугольник 7"/>
          <p:cNvSpPr/>
          <p:nvPr/>
        </p:nvSpPr>
        <p:spPr>
          <a:xfrm>
            <a:off x="2083680" y="56610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Calibri"/>
              </a:rPr>
              <a:t>9+8+7+6+5+4+3+2+1 = 45 (дорог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2" name="Прямоугольник 8"/>
          <p:cNvSpPr/>
          <p:nvPr/>
        </p:nvSpPr>
        <p:spPr>
          <a:xfrm>
            <a:off x="205848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4" name="Прямоугольник 9"/>
          <p:cNvSpPr/>
          <p:nvPr/>
        </p:nvSpPr>
        <p:spPr>
          <a:xfrm>
            <a:off x="723960" y="1413000"/>
            <a:ext cx="79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ломаной  линией,  состоящей  из  4  отрезков,  не  отрывая  карандаша  от  бумаги  перечеркнуть  9  точек.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3924360" y="4345560"/>
            <a:ext cx="208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  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6" name="Прямоугольник 12"/>
          <p:cNvSpPr/>
          <p:nvPr/>
        </p:nvSpPr>
        <p:spPr>
          <a:xfrm>
            <a:off x="1915560" y="429264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7" name="Line 9"/>
          <p:cNvSpPr/>
          <p:nvPr/>
        </p:nvSpPr>
        <p:spPr>
          <a:xfrm>
            <a:off x="4500720" y="4437000"/>
            <a:ext cx="1439640" cy="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8" name="Line 10"/>
          <p:cNvSpPr/>
          <p:nvPr/>
        </p:nvSpPr>
        <p:spPr>
          <a:xfrm>
            <a:off x="4500720" y="4437000"/>
            <a:ext cx="71280" cy="158436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9" name="Line 11"/>
          <p:cNvSpPr/>
          <p:nvPr/>
        </p:nvSpPr>
        <p:spPr>
          <a:xfrm flipV="1">
            <a:off x="4572000" y="4436640"/>
            <a:ext cx="1368360" cy="158436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0" name="Line 12"/>
          <p:cNvSpPr/>
          <p:nvPr/>
        </p:nvSpPr>
        <p:spPr>
          <a:xfrm>
            <a:off x="4500720" y="4437000"/>
            <a:ext cx="1150920" cy="129564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1" name="Овал 11"/>
          <p:cNvSpPr/>
          <p:nvPr/>
        </p:nvSpPr>
        <p:spPr>
          <a:xfrm>
            <a:off x="5651640" y="5732640"/>
            <a:ext cx="72720" cy="727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255 L -0.12986 -0.19421 L 0.02864 -0.19421 L -0.12136 0.03496 L -0.12743 -0.18449 E">
                                      <p:cBhvr>
                                        <p:cTn id="195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250920" y="25416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Как  нужно  разрезать  циферблат  часов на  6  частей так, чтобы  во  всех  частях  сумма  чисел  была  одинакова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4" name="Прямоугольник 5"/>
          <p:cNvSpPr/>
          <p:nvPr/>
        </p:nvSpPr>
        <p:spPr>
          <a:xfrm>
            <a:off x="2126880" y="5589720"/>
            <a:ext cx="27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сумма 13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220212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>
            <a:off x="5651640" y="3933720"/>
            <a:ext cx="2089080" cy="5749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7" name="Прямая соединительная линия 11"/>
          <p:cNvSpPr/>
          <p:nvPr/>
        </p:nvSpPr>
        <p:spPr>
          <a:xfrm flipH="1" flipV="1">
            <a:off x="5219280" y="4220640"/>
            <a:ext cx="2737080" cy="8636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8" name="Прямая соединительная линия 19"/>
          <p:cNvSpPr/>
          <p:nvPr/>
        </p:nvSpPr>
        <p:spPr>
          <a:xfrm flipH="1" flipV="1">
            <a:off x="4932000" y="4653000"/>
            <a:ext cx="2879640" cy="9367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9" name="Прямая соединительная линия 21"/>
          <p:cNvSpPr/>
          <p:nvPr/>
        </p:nvSpPr>
        <p:spPr>
          <a:xfrm flipH="1" flipV="1">
            <a:off x="4858920" y="5229360"/>
            <a:ext cx="2737080" cy="792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0" name="Прямая соединительная линия 23"/>
          <p:cNvSpPr/>
          <p:nvPr/>
        </p:nvSpPr>
        <p:spPr>
          <a:xfrm flipH="1" flipV="1">
            <a:off x="5148000" y="5732640"/>
            <a:ext cx="2087640" cy="576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2" name="Прямоугольник 3"/>
          <p:cNvSpPr/>
          <p:nvPr/>
        </p:nvSpPr>
        <p:spPr>
          <a:xfrm>
            <a:off x="503280" y="765000"/>
            <a:ext cx="770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Девочка начертила  2  прямые линии. На  одной  из  них  она отметила  3  точки  на  другой - 5  точек. Всего было  отмечено  7  точек. Как  она  это  сделала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3" name="Прямоугольник 4"/>
          <p:cNvSpPr/>
          <p:nvPr/>
        </p:nvSpPr>
        <p:spPr>
          <a:xfrm>
            <a:off x="1843560" y="4581360"/>
            <a:ext cx="20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4775040" y="4764240"/>
            <a:ext cx="1028880" cy="9144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 flipH="1">
            <a:off x="4355640" y="4869000"/>
            <a:ext cx="2171880" cy="685800"/>
          </a:xfrm>
          <a:prstGeom prst="line">
            <a:avLst/>
          </a:prstGeom>
          <a:ln w="9360">
            <a:solidFill>
              <a:srgbClr val="213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4427640" y="4725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3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M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E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 flipV="1" rot="10800000">
            <a:off x="3492360" y="474444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D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C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B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A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K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8" name="Овал 10"/>
          <p:cNvSpPr/>
          <p:nvPr/>
        </p:nvSpPr>
        <p:spPr>
          <a:xfrm>
            <a:off x="4788000" y="4797360"/>
            <a:ext cx="712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9" name="Овал 11"/>
          <p:cNvSpPr/>
          <p:nvPr/>
        </p:nvSpPr>
        <p:spPr>
          <a:xfrm flipH="1">
            <a:off x="4426920" y="5516640"/>
            <a:ext cx="73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0" name="Овал 12"/>
          <p:cNvSpPr/>
          <p:nvPr/>
        </p:nvSpPr>
        <p:spPr>
          <a:xfrm flipV="1">
            <a:off x="4768920" y="5398920"/>
            <a:ext cx="46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1" name="Овал 13"/>
          <p:cNvSpPr/>
          <p:nvPr/>
        </p:nvSpPr>
        <p:spPr>
          <a:xfrm flipH="1" flipV="1">
            <a:off x="5724360" y="5589720"/>
            <a:ext cx="4608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2" name="Овал 14"/>
          <p:cNvSpPr/>
          <p:nvPr/>
        </p:nvSpPr>
        <p:spPr>
          <a:xfrm>
            <a:off x="5292720" y="5229360"/>
            <a:ext cx="712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3" name="Овал 15"/>
          <p:cNvSpPr/>
          <p:nvPr/>
        </p:nvSpPr>
        <p:spPr>
          <a:xfrm flipH="1" flipV="1">
            <a:off x="5939640" y="5013360"/>
            <a:ext cx="7164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4" name="Овал 16"/>
          <p:cNvSpPr/>
          <p:nvPr/>
        </p:nvSpPr>
        <p:spPr>
          <a:xfrm flipV="1">
            <a:off x="6372360" y="4869000"/>
            <a:ext cx="46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511200" y="917640"/>
            <a:ext cx="80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Изображенную  фигуру  разделить  на  6  частей  двумя  прямыми.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5034240" y="1233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8" name="Rectangle 15"/>
          <p:cNvSpPr/>
          <p:nvPr/>
        </p:nvSpPr>
        <p:spPr>
          <a:xfrm>
            <a:off x="2268360" y="4134600"/>
            <a:ext cx="244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89" name="Group 9"/>
          <p:cNvGrpSpPr/>
          <p:nvPr/>
        </p:nvGrpSpPr>
        <p:grpSpPr>
          <a:xfrm>
            <a:off x="4211640" y="4581360"/>
            <a:ext cx="3706920" cy="1460520"/>
            <a:chOff x="4211640" y="4581360"/>
            <a:chExt cx="3706920" cy="1460520"/>
          </a:xfrm>
        </p:grpSpPr>
        <p:sp>
          <p:nvSpPr>
            <p:cNvPr id="790" name="AutoShape 14"/>
            <p:cNvSpPr/>
            <p:nvPr/>
          </p:nvSpPr>
          <p:spPr>
            <a:xfrm>
              <a:off x="4211640" y="4581360"/>
              <a:ext cx="3706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 flipV="1">
              <a:off x="5185800" y="4743000"/>
              <a:ext cx="210780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5185800" y="5391720"/>
              <a:ext cx="259740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3" name="Line 11"/>
            <p:cNvSpPr/>
            <p:nvPr/>
          </p:nvSpPr>
          <p:spPr>
            <a:xfrm flipH="1" flipV="1">
              <a:off x="6647400" y="5391360"/>
              <a:ext cx="113616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4" name="Line 10"/>
            <p:cNvSpPr/>
            <p:nvPr/>
          </p:nvSpPr>
          <p:spPr>
            <a:xfrm flipV="1">
              <a:off x="6647400" y="4743000"/>
              <a:ext cx="64908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795" name="Rectangle 16"/>
          <p:cNvSpPr/>
          <p:nvPr/>
        </p:nvSpPr>
        <p:spPr>
          <a:xfrm>
            <a:off x="5716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6" name="Line 18"/>
          <p:cNvSpPr/>
          <p:nvPr/>
        </p:nvSpPr>
        <p:spPr>
          <a:xfrm>
            <a:off x="6750000" y="4292640"/>
            <a:ext cx="343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7" name="Line 19"/>
          <p:cNvSpPr/>
          <p:nvPr/>
        </p:nvSpPr>
        <p:spPr>
          <a:xfrm flipH="1">
            <a:off x="6588000" y="4454640"/>
            <a:ext cx="457200" cy="15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98" name="Group 9"/>
          <p:cNvGrpSpPr/>
          <p:nvPr/>
        </p:nvGrpSpPr>
        <p:grpSpPr>
          <a:xfrm>
            <a:off x="1835280" y="2708280"/>
            <a:ext cx="3706560" cy="1461960"/>
            <a:chOff x="1835280" y="2708280"/>
            <a:chExt cx="3706560" cy="1461960"/>
          </a:xfrm>
        </p:grpSpPr>
        <p:sp>
          <p:nvSpPr>
            <p:cNvPr id="799" name="AutoShape 14"/>
            <p:cNvSpPr/>
            <p:nvPr/>
          </p:nvSpPr>
          <p:spPr>
            <a:xfrm>
              <a:off x="1835280" y="2708280"/>
              <a:ext cx="37065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0" name="Line 13"/>
            <p:cNvSpPr/>
            <p:nvPr/>
          </p:nvSpPr>
          <p:spPr>
            <a:xfrm flipV="1">
              <a:off x="2809440" y="2869920"/>
              <a:ext cx="21103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1" name="Line 12"/>
            <p:cNvSpPr/>
            <p:nvPr/>
          </p:nvSpPr>
          <p:spPr>
            <a:xfrm>
              <a:off x="2809440" y="3519360"/>
              <a:ext cx="259704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2" name="Line 11"/>
            <p:cNvSpPr/>
            <p:nvPr/>
          </p:nvSpPr>
          <p:spPr>
            <a:xfrm flipH="1" flipV="1">
              <a:off x="4270320" y="3519000"/>
              <a:ext cx="113580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4270680" y="2869920"/>
              <a:ext cx="6487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5" name="Line 2"/>
          <p:cNvSpPr/>
          <p:nvPr/>
        </p:nvSpPr>
        <p:spPr>
          <a:xfrm>
            <a:off x="5292720" y="4941720"/>
            <a:ext cx="1511280" cy="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6" name="Line 3"/>
          <p:cNvSpPr/>
          <p:nvPr/>
        </p:nvSpPr>
        <p:spPr>
          <a:xfrm>
            <a:off x="5292720" y="4941720"/>
            <a:ext cx="0" cy="122400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7" name="Line 1"/>
          <p:cNvSpPr/>
          <p:nvPr/>
        </p:nvSpPr>
        <p:spPr>
          <a:xfrm flipV="1">
            <a:off x="5292720" y="4941720"/>
            <a:ext cx="1511280" cy="1231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1042920" y="516240"/>
            <a:ext cx="81010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Постройте  замкнутую  ломаную  линию,  состоящую  из  трех  звеньев  и  проходящую  через 4  данные  точки.  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*   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*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9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0" name="Прямоугольник 9"/>
          <p:cNvSpPr/>
          <p:nvPr/>
        </p:nvSpPr>
        <p:spPr>
          <a:xfrm>
            <a:off x="5003640" y="472428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*       *   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*       *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1" name="Овал 9"/>
          <p:cNvSpPr/>
          <p:nvPr/>
        </p:nvSpPr>
        <p:spPr>
          <a:xfrm>
            <a:off x="5219640" y="4941720"/>
            <a:ext cx="73080" cy="44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324 L 0.16927 -0.00324 L 3.61111E-006 0.175 L 3.61111E-006 -0.00324 Z">
                                      <p:cBhvr>
                                        <p:cTn id="348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3" name="Object 6"/>
          <p:cNvGraphicFramePr/>
          <p:nvPr/>
        </p:nvGraphicFramePr>
        <p:xfrm>
          <a:off x="1763640" y="1484280"/>
          <a:ext cx="5545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84280"/>
                    <a:ext cx="554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5" name="Прямоугольник 5" descr=""/>
          <p:cNvPicPr/>
          <p:nvPr/>
        </p:nvPicPr>
        <p:blipFill>
          <a:blip r:embed="rId3"/>
          <a:stretch/>
        </p:blipFill>
        <p:spPr>
          <a:xfrm>
            <a:off x="5645160" y="1504800"/>
            <a:ext cx="1384200" cy="1152720"/>
          </a:xfrm>
          <a:prstGeom prst="rect">
            <a:avLst/>
          </a:prstGeom>
          <a:ln w="0">
            <a:noFill/>
          </a:ln>
        </p:spPr>
      </p:pic>
      <p:pic>
        <p:nvPicPr>
          <p:cNvPr id="816" name="Прямоугольник 7" descr=""/>
          <p:cNvPicPr/>
          <p:nvPr/>
        </p:nvPicPr>
        <p:blipFill>
          <a:blip r:embed="rId4"/>
          <a:stretch/>
        </p:blipFill>
        <p:spPr>
          <a:xfrm>
            <a:off x="5718240" y="279864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17" name="Прямоугольник 8" descr=""/>
          <p:cNvPicPr/>
          <p:nvPr/>
        </p:nvPicPr>
        <p:blipFill>
          <a:blip r:embed="rId5"/>
          <a:stretch/>
        </p:blipFill>
        <p:spPr>
          <a:xfrm>
            <a:off x="3919680" y="4095720"/>
            <a:ext cx="1377720" cy="1152720"/>
          </a:xfrm>
          <a:prstGeom prst="rect">
            <a:avLst/>
          </a:prstGeom>
          <a:ln w="0">
            <a:noFill/>
          </a:ln>
        </p:spPr>
      </p:pic>
      <p:pic>
        <p:nvPicPr>
          <p:cNvPr id="818" name="Прямоугольник 9" descr=""/>
          <p:cNvPicPr/>
          <p:nvPr/>
        </p:nvPicPr>
        <p:blipFill>
          <a:blip r:embed="rId6"/>
          <a:stretch/>
        </p:blipFill>
        <p:spPr>
          <a:xfrm>
            <a:off x="2114640" y="4095720"/>
            <a:ext cx="1384200" cy="1152720"/>
          </a:xfrm>
          <a:prstGeom prst="rect">
            <a:avLst/>
          </a:prstGeom>
          <a:ln w="0">
            <a:noFill/>
          </a:ln>
        </p:spPr>
      </p:pic>
      <p:sp>
        <p:nvSpPr>
          <p:cNvPr id="819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0" name="Полилиния 12"/>
          <p:cNvSpPr/>
          <p:nvPr/>
        </p:nvSpPr>
        <p:spPr>
          <a:xfrm>
            <a:off x="1763640" y="1297080"/>
            <a:ext cx="567072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21" name="Прямоугольник 5" descr=""/>
          <p:cNvPicPr/>
          <p:nvPr/>
        </p:nvPicPr>
        <p:blipFill>
          <a:blip r:embed="rId7"/>
          <a:stretch/>
        </p:blipFill>
        <p:spPr>
          <a:xfrm>
            <a:off x="6004080" y="5370480"/>
            <a:ext cx="2901960" cy="98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23" name="Object 5"/>
          <p:cNvGraphicFramePr/>
          <p:nvPr/>
        </p:nvGraphicFramePr>
        <p:xfrm>
          <a:off x="1763640" y="1557360"/>
          <a:ext cx="5521320" cy="39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557360"/>
                    <a:ext cx="55213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26" name="Прямоугольник 8" descr=""/>
          <p:cNvPicPr/>
          <p:nvPr/>
        </p:nvPicPr>
        <p:blipFill>
          <a:blip r:embed="rId3"/>
          <a:stretch/>
        </p:blipFill>
        <p:spPr>
          <a:xfrm>
            <a:off x="2048040" y="157320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27" name="Прямоугольник 9" descr=""/>
          <p:cNvPicPr/>
          <p:nvPr/>
        </p:nvPicPr>
        <p:blipFill>
          <a:blip r:embed="rId4"/>
          <a:stretch/>
        </p:blipFill>
        <p:spPr>
          <a:xfrm>
            <a:off x="2048040" y="287172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28" name="Прямоугольник 10" descr=""/>
          <p:cNvPicPr/>
          <p:nvPr/>
        </p:nvPicPr>
        <p:blipFill>
          <a:blip r:embed="rId5"/>
          <a:stretch/>
        </p:blipFill>
        <p:spPr>
          <a:xfrm>
            <a:off x="3919680" y="4095720"/>
            <a:ext cx="1377720" cy="1152720"/>
          </a:xfrm>
          <a:prstGeom prst="rect">
            <a:avLst/>
          </a:prstGeom>
          <a:ln w="0">
            <a:noFill/>
          </a:ln>
        </p:spPr>
      </p:pic>
      <p:pic>
        <p:nvPicPr>
          <p:cNvPr id="829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4095720"/>
            <a:ext cx="1384200" cy="1152720"/>
          </a:xfrm>
          <a:prstGeom prst="rect">
            <a:avLst/>
          </a:prstGeom>
          <a:ln w="0">
            <a:noFill/>
          </a:ln>
        </p:spPr>
      </p:pic>
      <p:sp>
        <p:nvSpPr>
          <p:cNvPr id="830" name="Полилиния 12"/>
          <p:cNvSpPr/>
          <p:nvPr/>
        </p:nvSpPr>
        <p:spPr>
          <a:xfrm rot="6198600">
            <a:off x="1350360" y="677880"/>
            <a:ext cx="567216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1" name="Прямоугольник 5" descr=""/>
          <p:cNvPicPr/>
          <p:nvPr/>
        </p:nvPicPr>
        <p:blipFill>
          <a:blip r:embed="rId7"/>
          <a:stretch/>
        </p:blipFill>
        <p:spPr>
          <a:xfrm>
            <a:off x="1828800" y="5437080"/>
            <a:ext cx="3206880" cy="987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33" name="Object 3"/>
          <p:cNvGraphicFramePr/>
          <p:nvPr/>
        </p:nvGraphicFramePr>
        <p:xfrm>
          <a:off x="1619280" y="1628640"/>
          <a:ext cx="5545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54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6" name="Прямоугольник 7" descr=""/>
          <p:cNvPicPr/>
          <p:nvPr/>
        </p:nvPicPr>
        <p:blipFill>
          <a:blip r:embed="rId3"/>
          <a:stretch/>
        </p:blipFill>
        <p:spPr>
          <a:xfrm>
            <a:off x="3700440" y="4237200"/>
            <a:ext cx="1384200" cy="1152360"/>
          </a:xfrm>
          <a:prstGeom prst="rect">
            <a:avLst/>
          </a:prstGeom>
          <a:ln w="0">
            <a:noFill/>
          </a:ln>
        </p:spPr>
      </p:pic>
      <p:pic>
        <p:nvPicPr>
          <p:cNvPr id="837" name="Прямоугольник 8" descr=""/>
          <p:cNvPicPr/>
          <p:nvPr/>
        </p:nvPicPr>
        <p:blipFill>
          <a:blip r:embed="rId4"/>
          <a:stretch/>
        </p:blipFill>
        <p:spPr>
          <a:xfrm>
            <a:off x="1584360" y="2944800"/>
            <a:ext cx="1712880" cy="1150920"/>
          </a:xfrm>
          <a:prstGeom prst="rect">
            <a:avLst/>
          </a:prstGeom>
          <a:ln w="0">
            <a:noFill/>
          </a:ln>
        </p:spPr>
      </p:pic>
      <p:pic>
        <p:nvPicPr>
          <p:cNvPr id="838" name="Прямоугольник 9" descr=""/>
          <p:cNvPicPr/>
          <p:nvPr/>
        </p:nvPicPr>
        <p:blipFill>
          <a:blip r:embed="rId5"/>
          <a:stretch/>
        </p:blipFill>
        <p:spPr>
          <a:xfrm>
            <a:off x="3529080" y="1646280"/>
            <a:ext cx="1712880" cy="1152360"/>
          </a:xfrm>
          <a:prstGeom prst="rect">
            <a:avLst/>
          </a:prstGeom>
          <a:ln w="0">
            <a:noFill/>
          </a:ln>
        </p:spPr>
      </p:pic>
      <p:pic>
        <p:nvPicPr>
          <p:cNvPr id="839" name="Прямоугольник 10" descr=""/>
          <p:cNvPicPr/>
          <p:nvPr/>
        </p:nvPicPr>
        <p:blipFill>
          <a:blip r:embed="rId6"/>
          <a:stretch/>
        </p:blipFill>
        <p:spPr>
          <a:xfrm>
            <a:off x="5334120" y="2944800"/>
            <a:ext cx="1712880" cy="1150920"/>
          </a:xfrm>
          <a:prstGeom prst="rect">
            <a:avLst/>
          </a:prstGeom>
          <a:ln w="0">
            <a:noFill/>
          </a:ln>
        </p:spPr>
      </p:pic>
      <p:sp>
        <p:nvSpPr>
          <p:cNvPr id="840" name="Полилиния 11"/>
          <p:cNvSpPr/>
          <p:nvPr/>
        </p:nvSpPr>
        <p:spPr>
          <a:xfrm>
            <a:off x="1476360" y="1297080"/>
            <a:ext cx="567072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41" name="Прямоугольник 5" descr=""/>
          <p:cNvPicPr/>
          <p:nvPr/>
        </p:nvPicPr>
        <p:blipFill>
          <a:blip r:embed="rId7"/>
          <a:stretch/>
        </p:blipFill>
        <p:spPr>
          <a:xfrm>
            <a:off x="5791320" y="5437080"/>
            <a:ext cx="3206520" cy="98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1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2226240"/>
            <a:ext cx="92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99-97+95-93+91-89+…+7-5+3-1?</a:t>
            </a:r>
            <a:r>
              <a:rPr b="1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9" name="Прямоугольник 4"/>
          <p:cNvSpPr/>
          <p:nvPr/>
        </p:nvSpPr>
        <p:spPr>
          <a:xfrm>
            <a:off x="209664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0" name="Прямоугольник 5"/>
          <p:cNvSpPr/>
          <p:nvPr/>
        </p:nvSpPr>
        <p:spPr>
          <a:xfrm>
            <a:off x="2207520" y="5589720"/>
            <a:ext cx="227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2·25=50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3" name="Rectangle 1"/>
          <p:cNvSpPr/>
          <p:nvPr/>
        </p:nvSpPr>
        <p:spPr>
          <a:xfrm>
            <a:off x="395280" y="97596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Запишите цифры 1 2 3 4 5 6 7 8 9, не меняя порядка цифр, расставьте между ними (+) и (-), всего три знака, чтобы в результате получилось 100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1970640" y="5589720"/>
            <a:ext cx="38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23-45-67+89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5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7" name="Rectangle 1"/>
          <p:cNvSpPr/>
          <p:nvPr/>
        </p:nvSpPr>
        <p:spPr>
          <a:xfrm>
            <a:off x="1116000" y="1353960"/>
            <a:ext cx="77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Запишите, пользуясь тремя пятерками число: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а) 2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б) 5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8" name="Прямоугольник 4"/>
          <p:cNvSpPr/>
          <p:nvPr/>
        </p:nvSpPr>
        <p:spPr>
          <a:xfrm>
            <a:off x="1974960" y="5589720"/>
            <a:ext cx="63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а) (5+5):5=2,  б) 5·5:5=5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9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2" name="Прямоугольник 3"/>
          <p:cNvSpPr/>
          <p:nvPr/>
        </p:nvSpPr>
        <p:spPr>
          <a:xfrm>
            <a:off x="398520" y="1844640"/>
            <a:ext cx="8280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 сумму чисел от  1  до  100 ?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3" name="Прямоугольник 4"/>
          <p:cNvSpPr/>
          <p:nvPr/>
        </p:nvSpPr>
        <p:spPr>
          <a:xfrm>
            <a:off x="234648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4" name="Прямоугольник 5"/>
          <p:cNvSpPr/>
          <p:nvPr/>
        </p:nvSpPr>
        <p:spPr>
          <a:xfrm>
            <a:off x="2281680" y="5589720"/>
            <a:ext cx="34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01·50=5050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6" name="Прямоугольник 3"/>
          <p:cNvSpPr/>
          <p:nvPr/>
        </p:nvSpPr>
        <p:spPr>
          <a:xfrm>
            <a:off x="395280" y="1122480"/>
            <a:ext cx="8497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Times New Roman"/>
                <a:ea typeface="Calibri"/>
              </a:rPr>
              <a:t>Найдите как можно быстрее,  какое  частное  и  какой  остаток получается при делении числа:   1·2·3·4·5·6+1  на 5.</a:t>
            </a:r>
            <a:endParaRPr b="0" lang="en-US" sz="4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7" name="Прямоугольник 4"/>
          <p:cNvSpPr/>
          <p:nvPr/>
        </p:nvSpPr>
        <p:spPr>
          <a:xfrm>
            <a:off x="1482480" y="4653000"/>
            <a:ext cx="22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8" name="Прямоугольник 5"/>
          <p:cNvSpPr/>
          <p:nvPr/>
        </p:nvSpPr>
        <p:spPr>
          <a:xfrm>
            <a:off x="3967920" y="4724280"/>
            <a:ext cx="531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частное – 1·2·3·4·6,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статок – 1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0" name="Прямоугольник 3"/>
          <p:cNvSpPr/>
          <p:nvPr/>
        </p:nvSpPr>
        <p:spPr>
          <a:xfrm>
            <a:off x="647640" y="184464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ое  целое   число  делится  без  остатка  на  любое  натуральное число?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1" name="Прямоугольник 4"/>
          <p:cNvSpPr/>
          <p:nvPr/>
        </p:nvSpPr>
        <p:spPr>
          <a:xfrm>
            <a:off x="2195640" y="494172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2" name="Прямоугольник 5"/>
          <p:cNvSpPr/>
          <p:nvPr/>
        </p:nvSpPr>
        <p:spPr>
          <a:xfrm>
            <a:off x="2991600" y="566100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4" name="Прямоугольник 3"/>
          <p:cNvSpPr/>
          <p:nvPr/>
        </p:nvSpPr>
        <p:spPr>
          <a:xfrm>
            <a:off x="755640" y="1989000"/>
            <a:ext cx="7559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00"/>
                </a:solidFill>
                <a:latin typeface="Times New Roman"/>
                <a:ea typeface="Calibri"/>
              </a:rPr>
              <a:t>Сумма, каких  двух  натуральных  чисел  равна  их  произведению?</a:t>
            </a:r>
            <a:endParaRPr b="0" lang="en-US" sz="45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5" name="Прямоугольник 4"/>
          <p:cNvSpPr/>
          <p:nvPr/>
        </p:nvSpPr>
        <p:spPr>
          <a:xfrm>
            <a:off x="227484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6" name="Прямоугольник 5"/>
          <p:cNvSpPr/>
          <p:nvPr/>
        </p:nvSpPr>
        <p:spPr>
          <a:xfrm>
            <a:off x="2281680" y="5589720"/>
            <a:ext cx="24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2·2=2+2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8" name="Прямоугольник 26"/>
          <p:cNvSpPr/>
          <p:nvPr/>
        </p:nvSpPr>
        <p:spPr>
          <a:xfrm>
            <a:off x="250920" y="549360"/>
            <a:ext cx="8893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ие  знаки  арифметических  действий  нужно  поставить   вместо  знаков  «?»  в  записи:5 ? 5 ? 5   ,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 получилось: а)  8, б)  20 ?</a:t>
            </a: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9" name="Прямоугольник 27"/>
          <p:cNvSpPr/>
          <p:nvPr/>
        </p:nvSpPr>
        <p:spPr>
          <a:xfrm>
            <a:off x="1979640" y="5229360"/>
            <a:ext cx="69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а)  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+5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  ;      б)  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*5-5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.          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5                          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0" name="Прямоугольник 28"/>
          <p:cNvSpPr/>
          <p:nvPr/>
        </p:nvSpPr>
        <p:spPr>
          <a:xfrm>
            <a:off x="1986120" y="4581360"/>
            <a:ext cx="220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2" name="Прямоугольник 26"/>
          <p:cNvSpPr/>
          <p:nvPr/>
        </p:nvSpPr>
        <p:spPr>
          <a:xfrm>
            <a:off x="642960" y="131904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 записи:   8  8   8   8   8   8  8  8    поставьте  между  некоторыми  числами  знаки  сложения так,  чтобы  в  сумме  получилось 1000.  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2225160" y="5589720"/>
            <a:ext cx="58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8 8 + 8 + 8 + 8 + 8 8 8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220284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19:38Z</dcterms:created>
  <dc:creator>user</dc:creator>
  <dc:description/>
  <dc:language>en-US</dc:language>
  <cp:lastModifiedBy>Администратор безопасности</cp:lastModifiedBy>
  <dcterms:modified xsi:type="dcterms:W3CDTF">2020-08-28T09:01:39Z</dcterms:modified>
  <cp:revision>119</cp:revision>
  <dc:subject/>
  <dc:title>Слайд 1</dc:title>
</cp:coreProperties>
</file>