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50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27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35E-1159-42A3-B2EB-F780C146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52A-63F3-4E1F-9261-A4AB6A8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5C2-0674-4EB5-AFD8-B5012FC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5D2-F2C4-4063-A2CB-5AE1A85D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E326-14D0-4D2F-BACC-ECAB7EDA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6E44-24A9-4EE3-A3A0-F28842C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92C-2B26-4294-8B8C-2CA46761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AAEC-B8C2-419D-9048-B8D87B6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40F1-80F5-4343-98E7-2CC07C1A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91CF-4CFD-4A38-9CD5-5CFE619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DF1D-9180-4B9F-BDD2-6863F12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285-0DF4-46D1-8579-C94A331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DDEF-B631-4940-BEE3-7AEE1AF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BDAF-1B71-4D43-A68C-57F6D5E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6317-B2A6-4459-B0F1-8926712B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CBBC-4BB0-44A3-845A-5988206E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B0B3-2528-42E9-A980-C4716279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FCA4-F568-428B-ADD5-474783D1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1E7F-1229-4C55-B171-48C2EE3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6984-78E0-46C1-862A-C289581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FDFD-E0F4-4013-AB5E-37A87C93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D9D9-9746-4405-A98B-E0F7937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C79-2834-4311-B9B1-A5437D6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8ED8-B954-4159-9B86-EAEEC59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9351-D021-4678-8533-C350B54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ECC8-3608-4704-9E88-E119B54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C446-F18B-4B39-BF2E-C995AF6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9714-C863-4244-90A8-D087C59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3ADE-A4D7-4D01-B6F6-DA3F050A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69F0-3C48-4B65-974A-D82C2347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36C7-327D-4E24-B33D-9E33BECA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DD8F-AADD-4B5E-91C4-DD77486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3D78-8E1B-4EC1-8031-BA822A7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3C4-284E-4D0E-8FC4-0C50A5D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075E-3125-4246-AF31-4F8D25D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F2D0-DFD7-4916-9867-AAED14C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2801-C9FC-4BF2-B09C-FFDCC07F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A203-8CF7-4D0B-B1FA-10EBD1C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6750-6A7E-4EC7-ABA3-0B5A700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5690-DA75-4C73-B0E8-AE450D2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70FB-7DB7-4561-A969-7FD46BC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75BD-E33C-4AE3-9B3F-C4A8D7F7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6A9D-123F-494F-ABB7-68222538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281-58AF-4999-85D3-9EF0A4D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242-33AA-4984-B393-567C5ED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7F-B4C7-43FD-9802-CDAC6D9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2B3-2FF1-4C04-B4E9-07536D4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6EF-4EE9-4834-8A42-9E53F3B0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D31-6194-48B3-A0D9-BD62AB7E09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 flipH="1">
            <a:off x="198360" y="6783480"/>
            <a:ext cx="880128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864640" y="42840"/>
            <a:ext cx="237960" cy="7776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71280" y="42840"/>
            <a:ext cx="8790120" cy="7776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71280" y="120600"/>
            <a:ext cx="8790120" cy="4608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8864640" y="120600"/>
            <a:ext cx="237960" cy="4608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C835-C954-49D0-9C97-F3ABD71E5DD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1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C524-343A-4B7B-A7B7-855C5A1C609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4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5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2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5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2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91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92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95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98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01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04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07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10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13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5204-C091-49D3-8063-5ED9921C02D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1"/>
          <p:cNvSpPr/>
          <p:nvPr/>
        </p:nvSpPr>
        <p:spPr>
          <a:xfrm>
            <a:off x="539640" y="836640"/>
            <a:ext cx="80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Санкт-Петербург – культурная столица Росси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Урок географии 9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1"/>
          <p:cNvSpPr/>
          <p:nvPr/>
        </p:nvSpPr>
        <p:spPr>
          <a:xfrm>
            <a:off x="684360" y="4797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Выполнил уч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географии и биоло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МОУ «Ряжская СШ №3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Анна Ивановна Шата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47640" y="56912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известен и одной из главных своих улиц – «Большая першпектив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" descr="https://kircbs.ru/userfiles/image/Kalendar/Sentyabr'_2018/nevskii-prospekt.jpg"/>
          <p:cNvPicPr/>
          <p:nvPr/>
        </p:nvPicPr>
        <p:blipFill>
          <a:blip r:embed="rId1"/>
          <a:stretch/>
        </p:blipFill>
        <p:spPr>
          <a:xfrm>
            <a:off x="324000" y="666720"/>
            <a:ext cx="6075360" cy="425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s://i7.otzovik.com/2019/08/10/8595383/img/1219321_51986250.jpeg"/>
          <p:cNvPicPr/>
          <p:nvPr/>
        </p:nvPicPr>
        <p:blipFill>
          <a:blip r:embed="rId2"/>
          <a:stretch/>
        </p:blipFill>
        <p:spPr>
          <a:xfrm>
            <a:off x="5867280" y="1484280"/>
            <a:ext cx="31561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636480" y="5613480"/>
            <a:ext cx="78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отрите на распланированные улицы Санкт-Петербурга, что не здание – то шедевр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https://i05.fotocdn.net/s119/9210926e1e653e87/public_pin_l/2730543045.jpg"/>
          <p:cNvPicPr/>
          <p:nvPr/>
        </p:nvPicPr>
        <p:blipFill>
          <a:blip r:embed="rId1"/>
          <a:stretch/>
        </p:blipFill>
        <p:spPr>
          <a:xfrm>
            <a:off x="1258920" y="635040"/>
            <a:ext cx="6337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615960" y="6021360"/>
            <a:ext cx="78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ечальная страница истории Санкт-Петербург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https://ds03.infourok.ru/uploads/ex/0f79/0002a788-d99d1e92/img15.jpg"/>
          <p:cNvPicPr/>
          <p:nvPr/>
        </p:nvPicPr>
        <p:blipFill>
          <a:blip r:embed="rId1"/>
          <a:stretch/>
        </p:blipFill>
        <p:spPr>
          <a:xfrm>
            <a:off x="990720" y="6667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482760" y="2048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ряд ли найдётся другой город в мире, который потребовал бы больше жертв для своего рождения, чем Пальмира Севера. Поистине город на костях человеческих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.П.Анцифер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482760" y="33577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текст параграфа 30, знания по истории установите, почему город был построен среди болот и лесов, на пустом месте и какие функции он выполня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функции выполняет сейч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539640" y="18900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ецкий географ А.Геттнер в начале 20 векаписал, что граница между Европой и Азией проходит где-то между Петербургом и Москвой: Петербург «вполне Европа», а Москва уже «совершенная Аз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думаете, почему он (и многие другие) так счита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prozkh.ru/wp-content/uploads/2019/02/232865_sankt-peterburg-s-vysoty-ptichego-poleta.jpg"/>
          <p:cNvPicPr/>
          <p:nvPr/>
        </p:nvPicPr>
        <p:blipFill>
          <a:blip r:embed="rId1"/>
          <a:stretch/>
        </p:blipFill>
        <p:spPr>
          <a:xfrm>
            <a:off x="239760" y="303120"/>
            <a:ext cx="8594640" cy="5256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336600" y="5653080"/>
            <a:ext cx="84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– вид на город с высоты птичьег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s://avatars.mds.yandex.net/get-districts/398364/2a0000016a5b1b8c74ef0bccdbdc1fbf5d2d/optimize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913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2195640" y="6029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лка Васильевского остро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http://rasfokus.ru/images/photos/medium/1feb89787e3ca8b62d8e9271dc65f116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5857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3"/>
          <p:cNvSpPr/>
          <p:nvPr/>
        </p:nvSpPr>
        <p:spPr>
          <a:xfrm>
            <a:off x="3276720" y="6029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миралтей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://itd0.mycdn.me/image?id=872265616143&amp;t=20&amp;plc=WEB&amp;tkn=*00oaBG2U4r-B8LVgPkAP2edT4bw"/>
          <p:cNvPicPr/>
          <p:nvPr/>
        </p:nvPicPr>
        <p:blipFill>
          <a:blip r:embed="rId1"/>
          <a:stretch/>
        </p:blipFill>
        <p:spPr>
          <a:xfrm>
            <a:off x="341280" y="131760"/>
            <a:ext cx="8486640" cy="56595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971640" y="57974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имний дворец, Эрмитаж, Дворцовая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s://avatars.mds.yandex.net/get-pdb/1779125/243abcf2-1e35-4e41-9e0f-74cfb5aaad46/s1200"/>
          <p:cNvPicPr/>
          <p:nvPr/>
        </p:nvPicPr>
        <p:blipFill>
          <a:blip r:embed="rId1"/>
          <a:stretch/>
        </p:blipFill>
        <p:spPr>
          <a:xfrm>
            <a:off x="477720" y="92160"/>
            <a:ext cx="8137800" cy="58370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2843280" y="59500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аакиевский соб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1"/>
          <p:cNvSpPr/>
          <p:nvPr/>
        </p:nvSpPr>
        <p:spPr>
          <a:xfrm>
            <a:off x="517680" y="476280"/>
            <a:ext cx="806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сформировать представление о Санкт-Петербурге, как культурной столице Росси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Раскрыть роль Санкт-Петербурга в экономической, политической и культурной жизн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Выявить особенности облика Санкт-Петербург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Раскрыть роль Санкт-Петербурга, как города - музе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togeo.ru/.imaging/fullsize/dms/main/gid-peterburg/intro/vasilyevskiy-ostrov/201009261224bb-02.jpg"/>
          <p:cNvPicPr/>
          <p:nvPr/>
        </p:nvPicPr>
        <p:blipFill>
          <a:blip r:embed="rId1"/>
          <a:stretch/>
        </p:blipFill>
        <p:spPr>
          <a:xfrm>
            <a:off x="684360" y="98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2268360" y="581328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ание бывшей торговой бир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1"/>
          <p:cNvSpPr/>
          <p:nvPr/>
        </p:nvSpPr>
        <p:spPr>
          <a:xfrm>
            <a:off x="539640" y="836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Д/З: параграф 30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вопросы к параграф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1"/>
          <p:cNvSpPr/>
          <p:nvPr/>
        </p:nvSpPr>
        <p:spPr>
          <a:xfrm>
            <a:off x="517680" y="476280"/>
            <a:ext cx="8064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«Город на Неве многослоен и многолик» </a:t>
            </a:r>
            <a:r>
              <a:rPr b="1" lang="ru-RU" sz="2800" spc="-1" strike="noStrike">
                <a:solidFill>
                  <a:srgbClr val="334116"/>
                </a:solidFill>
                <a:latin typeface="Times New Roman"/>
              </a:rPr>
              <a:t>(петербуржец, историк архитектуры А.Л.Пун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Совет Ф.М.Достоевског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«Вглядитесь в Петербург внимательнее, изучите его физиономию, прочтите историю города в нашу эпох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608040" y="5805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столицей России считают Санкт-Петербур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https://pp.userapi.com/c846122/v846122629/149cf6/N-Mew3Z9QUA.jpg"/>
          <p:cNvPicPr/>
          <p:nvPr/>
        </p:nvPicPr>
        <p:blipFill>
          <a:blip r:embed="rId1"/>
          <a:stretch/>
        </p:blipFill>
        <p:spPr>
          <a:xfrm>
            <a:off x="843120" y="695160"/>
            <a:ext cx="7362720" cy="4838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1744560" y="83664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ворцовая площадь Санкт-Петербур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641520" y="558180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творение к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какой целью был построен Санкт-Петербур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1" descr="https://pbs.twimg.com/media/D7jcs99WwAA3wMU.jpg:large"/>
          <p:cNvPicPr/>
          <p:nvPr/>
        </p:nvPicPr>
        <p:blipFill>
          <a:blip r:embed="rId1"/>
          <a:stretch/>
        </p:blipFill>
        <p:spPr>
          <a:xfrm>
            <a:off x="1325520" y="666720"/>
            <a:ext cx="63770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57320" y="5013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ическое прозвание Санкт-Петербурга в честь древнего торгового города Пальмиры на территории современной Сирии. Закрепилось в русскоязычной литературе в эпоху классицизма начиная с 1810-х г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Х น тթыйЁж в Твиттере: &quot;Красавец Санкт-Петербург... ☀ 🌊 #Петербург #Россия #StPetersburg #Russia."/>
          <p:cNvPicPr/>
          <p:nvPr/>
        </p:nvPicPr>
        <p:blipFill>
          <a:blip r:embed="rId1"/>
          <a:stretch/>
        </p:blipFill>
        <p:spPr>
          <a:xfrm>
            <a:off x="1258920" y="647640"/>
            <a:ext cx="6626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608040" y="5516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ех пор, как Марк Бернес исполнил эту песню, как стали называть Ленингра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https://1.bp.blogspot.com/-pfuuKVwuVlw/W9rYzBdO7BI/AAAAAAABARE/qO81A37-2c0hQqVpgjqHYnYrs2gyqi6sQCLcBGAs/s1600/2018-11-01_13-41-50.png"/>
          <p:cNvPicPr/>
          <p:nvPr/>
        </p:nvPicPr>
        <p:blipFill>
          <a:blip r:embed="rId1"/>
          <a:stretch/>
        </p:blipFill>
        <p:spPr>
          <a:xfrm>
            <a:off x="1096920" y="666720"/>
            <a:ext cx="6834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4572000" y="3789360"/>
            <a:ext cx="442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идёшь по улицам Санкт-Петербурга, впечатление, что ты идёшь по огромному музе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даром про него говорят, что это музей под открытым небом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c-tur.ru/files/image/13_(2).jpg"/>
          <p:cNvPicPr/>
          <p:nvPr/>
        </p:nvPicPr>
        <p:blipFill>
          <a:blip r:embed="rId1"/>
          <a:stretch/>
        </p:blipFill>
        <p:spPr>
          <a:xfrm>
            <a:off x="108000" y="666720"/>
            <a:ext cx="4608360" cy="2852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ru.natalia-tour.com/images/gallery/119/st-peter-and-paul-fortress.jpg"/>
          <p:cNvPicPr/>
          <p:nvPr/>
        </p:nvPicPr>
        <p:blipFill>
          <a:blip r:embed="rId2"/>
          <a:stretch/>
        </p:blipFill>
        <p:spPr>
          <a:xfrm>
            <a:off x="4716360" y="657360"/>
            <a:ext cx="4283280" cy="285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900igr.net/up/datai/152462/0002-002-.jpg"/>
          <p:cNvPicPr/>
          <p:nvPr/>
        </p:nvPicPr>
        <p:blipFill>
          <a:blip r:embed="rId3"/>
          <a:stretch/>
        </p:blipFill>
        <p:spPr>
          <a:xfrm>
            <a:off x="162000" y="3511440"/>
            <a:ext cx="4206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615960" y="6021360"/>
            <a:ext cx="78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ожно сказать по этим фото о Санкт-Петербург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" descr="https://spb.sutochno.ru/doc/images/galleries/98/143098975512935100.jpg"/>
          <p:cNvPicPr/>
          <p:nvPr/>
        </p:nvPicPr>
        <p:blipFill>
          <a:blip r:embed="rId1"/>
          <a:stretch/>
        </p:blipFill>
        <p:spPr>
          <a:xfrm>
            <a:off x="577800" y="631800"/>
            <a:ext cx="3801960" cy="2554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nedelya.ru/cache/zaks/2019-03-28/505668.jpg"/>
          <p:cNvPicPr/>
          <p:nvPr/>
        </p:nvPicPr>
        <p:blipFill>
          <a:blip r:embed="rId2"/>
          <a:stretch/>
        </p:blipFill>
        <p:spPr>
          <a:xfrm>
            <a:off x="4576680" y="625320"/>
            <a:ext cx="3853080" cy="25686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1133640" y="2816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ин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4932360" y="2803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ов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dev.opeterburge.ru/images/photo_gallery/theatres/sankt-peterburgskij-bolshoj-dramaticheskij-teatr-im-g-a-tovstonogova/2O4A8338.jpg"/>
          <p:cNvPicPr/>
          <p:nvPr/>
        </p:nvPicPr>
        <p:blipFill>
          <a:blip r:embed="rId3"/>
          <a:stretch/>
        </p:blipFill>
        <p:spPr>
          <a:xfrm>
            <a:off x="555480" y="3186000"/>
            <a:ext cx="3824280" cy="2546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2508120" y="48387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ольшой Драматиче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https://nanevskom.ru/wp-content/uploads/2017/03/Dzhakomo-Kvarengi.-Arhitektor-v-Sankt-Peterburge-vystavka2-1024x683.jpg"/>
          <p:cNvPicPr/>
          <p:nvPr/>
        </p:nvPicPr>
        <p:blipFill>
          <a:blip r:embed="rId4"/>
          <a:stretch/>
        </p:blipFill>
        <p:spPr>
          <a:xfrm>
            <a:off x="4576680" y="3206880"/>
            <a:ext cx="3802320" cy="25351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4514760" y="536724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рмитажны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20-08-28T10:38:25Z</dcterms:modified>
  <cp:revision>50</cp:revision>
  <dc:subject/>
  <dc:title>PowerPoint Presentation</dc:title>
</cp:coreProperties>
</file>