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40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50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27.png" ContentType="image/pn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29A-1AE4-4F8E-BCC1-47208CDF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ABC-526A-4CBF-BD01-F0BD0523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A14-EAB2-42A3-A2A6-24A65413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DF5-432A-4500-B685-191C1F6A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52E7-B978-489E-8B72-AD0282A8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90F7-5164-46BC-B03B-75BA0C46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E687-812E-4834-8C59-168C3730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D39D-CC53-480A-944C-9C5D6DD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7CF9-79FF-489B-9E5B-1FF56B10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DB89-68FD-48FD-A2FF-D725E0F0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5579-6971-438E-B3FC-6EB9BEB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DC0-0C80-4D93-9AF1-29378F30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70B3-7C20-440A-88AF-80200A3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28BD-A69D-4BE8-8FE2-5737857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F16F-22D8-4B12-AD35-8437D205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5177-DC9C-4A1D-8A2B-142481C5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DE5E-DBDB-4F53-A977-2334A04F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DF2F-8899-4EE2-8022-61329892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2175-59E0-498D-8F3D-F3778CC0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AEFEA-FE6C-4A13-8F28-99010D8A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69AE-297E-4EBC-BEE3-2D3A5E75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3ADA-8F57-44B6-AD8B-98C5ED65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417-E9D3-4855-9BB1-F6CB3DAB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C2BE-B4FD-4650-95F8-8901EDAF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359E-E447-4074-971A-0B1991DB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E994-D066-416D-9D63-E93D372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9ED8-061A-4AF5-8526-67D9148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C6C9-4BEB-47AB-8D3E-55E9D02D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A4A2-F8BE-4844-B882-B9C142CB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E97C-1933-41E0-8D9A-BA0DE455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E8EA3-D4CD-4E2A-AD7F-288E49BF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B24A-A3B9-498E-A183-0CA17814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4F15-A0A1-445B-B231-B3E48E3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8B6-5564-4026-8679-172A699D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6EE9E-CCC0-45B0-AF57-BD93E6ED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E8DC-0B28-41BD-8B39-5D23B466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183B-0F4B-4232-8BF9-14AC8CE8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F392-4012-4630-8F29-6DC2C26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DC55-45BF-4374-983E-C622D0D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EB5F-C1AE-4CA2-863D-61269A9E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D6E4C-50BD-4549-9B26-81A596EF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EF08E-67CF-4C99-A0D2-1FF26976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E980-7744-4466-AD63-38DCDBA7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FCA-FCAB-441E-BCF9-C28D6749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C14-6E8F-47D2-B652-0F0E8FEA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C17-6835-4F13-B006-3B07CE15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442-8C6C-44E3-8EE0-A2ED1F00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4AD-03F7-4A5A-988D-5389919E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37.xml"/><Relationship Id="rId33" Type="http://schemas.openxmlformats.org/officeDocument/2006/relationships/slideLayout" Target="../slideLayouts/slideLayout38.xml"/><Relationship Id="rId34" Type="http://schemas.openxmlformats.org/officeDocument/2006/relationships/slideLayout" Target="../slideLayouts/slideLayout39.xml"/><Relationship Id="rId35" Type="http://schemas.openxmlformats.org/officeDocument/2006/relationships/slideLayout" Target="../slideLayouts/slideLayout40.xml"/><Relationship Id="rId36" Type="http://schemas.openxmlformats.org/officeDocument/2006/relationships/slideLayout" Target="../slideLayouts/slideLayout41.xml"/><Relationship Id="rId37" Type="http://schemas.openxmlformats.org/officeDocument/2006/relationships/slideLayout" Target="../slideLayouts/slideLayout42.xml"/><Relationship Id="rId38" Type="http://schemas.openxmlformats.org/officeDocument/2006/relationships/slideLayout" Target="../slideLayouts/slideLayout43.xml"/><Relationship Id="rId39" Type="http://schemas.openxmlformats.org/officeDocument/2006/relationships/slideLayout" Target="../slideLayouts/slideLayout44.xml"/><Relationship Id="rId40" Type="http://schemas.openxmlformats.org/officeDocument/2006/relationships/slideLayout" Target="../slideLayouts/slideLayout45.xml"/><Relationship Id="rId41" Type="http://schemas.openxmlformats.org/officeDocument/2006/relationships/slideLayout" Target="../slideLayouts/slideLayout46.xml"/><Relationship Id="rId42" Type="http://schemas.openxmlformats.org/officeDocument/2006/relationships/slideLayout" Target="../slideLayouts/slideLayout47.xml"/><Relationship Id="rId4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081-FF4D-4F12-B473-7F95C2BD1B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 flipH="1">
            <a:off x="198360" y="6783480"/>
            <a:ext cx="880128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864640" y="42840"/>
            <a:ext cx="237960" cy="7776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71280" y="42840"/>
            <a:ext cx="8790120" cy="77760"/>
          </a:xfrm>
          <a:prstGeom prst="rect">
            <a:avLst/>
          </a:prstGeom>
          <a:solidFill>
            <a:srgbClr val="99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71280" y="120600"/>
            <a:ext cx="8790120" cy="4608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8864640" y="120600"/>
            <a:ext cx="237960" cy="46080"/>
          </a:xfrm>
          <a:prstGeom prst="rect">
            <a:avLst/>
          </a:prstGeom>
          <a:solidFill>
            <a:srgbClr val="99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7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8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5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65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0EA2-CAC3-406A-913F-8067BFFC78E1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16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3CE7-1B3F-46B4-8D17-FBC68CFCE76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4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5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2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5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2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91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92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95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98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201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204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207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210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213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A529-A51E-4CB2-A468-E0046EC1757A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2"/>
    <p:sldLayoutId id="2147483689" r:id="rId33"/>
    <p:sldLayoutId id="2147483690" r:id="rId34"/>
    <p:sldLayoutId id="2147483691" r:id="rId35"/>
    <p:sldLayoutId id="2147483692" r:id="rId36"/>
    <p:sldLayoutId id="2147483693" r:id="rId37"/>
    <p:sldLayoutId id="2147483694" r:id="rId38"/>
    <p:sldLayoutId id="2147483695" r:id="rId39"/>
    <p:sldLayoutId id="2147483696" r:id="rId40"/>
    <p:sldLayoutId id="2147483697" r:id="rId41"/>
    <p:sldLayoutId id="2147483698" r:id="rId42"/>
    <p:sldLayoutId id="2147483699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1"/>
          <p:cNvSpPr/>
          <p:nvPr/>
        </p:nvSpPr>
        <p:spPr>
          <a:xfrm>
            <a:off x="539640" y="836640"/>
            <a:ext cx="806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4116"/>
                </a:solidFill>
                <a:latin typeface="Times New Roman"/>
              </a:rPr>
              <a:t>Санкт-Петербург – культурная столица Росси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Урок географии 9 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1"/>
          <p:cNvSpPr/>
          <p:nvPr/>
        </p:nvSpPr>
        <p:spPr>
          <a:xfrm>
            <a:off x="684360" y="479736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Выполнил учи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географии и биолог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МОУ «Ряжская СШ №3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4116"/>
                </a:solidFill>
                <a:latin typeface="Times New Roman"/>
              </a:rPr>
              <a:t>Анна Ивановна Шата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647640" y="569124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 известен и одной из главных своих улиц – «Большая першпектив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" descr="https://kircbs.ru/userfiles/image/Kalendar/Sentyabr'_2018/nevskii-prospekt.jpg"/>
          <p:cNvPicPr/>
          <p:nvPr/>
        </p:nvPicPr>
        <p:blipFill>
          <a:blip r:embed="rId1"/>
          <a:stretch/>
        </p:blipFill>
        <p:spPr>
          <a:xfrm>
            <a:off x="324000" y="666720"/>
            <a:ext cx="6075360" cy="4253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https://i7.otzovik.com/2019/08/10/8595383/img/1219321_51986250.jpeg"/>
          <p:cNvPicPr/>
          <p:nvPr/>
        </p:nvPicPr>
        <p:blipFill>
          <a:blip r:embed="rId2"/>
          <a:stretch/>
        </p:blipFill>
        <p:spPr>
          <a:xfrm>
            <a:off x="5867280" y="1484280"/>
            <a:ext cx="31561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636480" y="5613480"/>
            <a:ext cx="78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мотрите на распланированные улицы Санкт-Петербурга, что не здание – то шедевр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" descr="https://i05.fotocdn.net/s119/9210926e1e653e87/public_pin_l/2730543045.jpg"/>
          <p:cNvPicPr/>
          <p:nvPr/>
        </p:nvPicPr>
        <p:blipFill>
          <a:blip r:embed="rId1"/>
          <a:stretch/>
        </p:blipFill>
        <p:spPr>
          <a:xfrm>
            <a:off x="1258920" y="635040"/>
            <a:ext cx="6337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615960" y="6021360"/>
            <a:ext cx="78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ечальная страница истории Санкт-Петербург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" descr="https://ds03.infourok.ru/uploads/ex/0f79/0002a788-d99d1e92/img15.jpg"/>
          <p:cNvPicPr/>
          <p:nvPr/>
        </p:nvPicPr>
        <p:blipFill>
          <a:blip r:embed="rId1"/>
          <a:stretch/>
        </p:blipFill>
        <p:spPr>
          <a:xfrm>
            <a:off x="990720" y="6667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482760" y="20484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Вряд ли найдётся другой город в мире, который потребовал бы больше жертв для своего рождения, чем Пальмира Севера. Поистине город на костях человеческих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.П.Анцифер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482760" y="335772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я текст параграфа 30, знания по истории установите, почему город был построен среди болот и лесов, на пустом месте и какие функции он выполня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функции выполняет сейч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539640" y="18900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мецкий географ А.Геттнер в начале 20 векаписал, что граница между Европой и Азией проходит где-то между Петербургом и Москвой: Петербург «вполне Европа», а Москва уже «совершенная Аз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вы думаете, почему он (и многие другие) так счита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http://prozkh.ru/wp-content/uploads/2019/02/232865_sankt-peterburg-s-vysoty-ptichego-poleta.jpg"/>
          <p:cNvPicPr/>
          <p:nvPr/>
        </p:nvPicPr>
        <p:blipFill>
          <a:blip r:embed="rId1"/>
          <a:stretch/>
        </p:blipFill>
        <p:spPr>
          <a:xfrm>
            <a:off x="239760" y="303120"/>
            <a:ext cx="8594640" cy="52563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336600" y="5653080"/>
            <a:ext cx="84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 – вид на город с высоты птичьего полё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https://avatars.mds.yandex.net/get-districts/398364/2a0000016a5b1b8c74ef0bccdbdc1fbf5d2d/optimize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5913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2195640" y="6029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елка Васильевского остро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http://rasfokus.ru/images/photos/medium/1feb89787e3ca8b62d8e9271dc65f116.jpg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5857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3"/>
          <p:cNvSpPr/>
          <p:nvPr/>
        </p:nvSpPr>
        <p:spPr>
          <a:xfrm>
            <a:off x="3276720" y="6029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миралтей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http://itd0.mycdn.me/image?id=872265616143&amp;t=20&amp;plc=WEB&amp;tkn=*00oaBG2U4r-B8LVgPkAP2edT4bw"/>
          <p:cNvPicPr/>
          <p:nvPr/>
        </p:nvPicPr>
        <p:blipFill>
          <a:blip r:embed="rId1"/>
          <a:stretch/>
        </p:blipFill>
        <p:spPr>
          <a:xfrm>
            <a:off x="341280" y="131760"/>
            <a:ext cx="8486640" cy="565956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971640" y="57974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имний дворец, Эрмитаж, Дворцовая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https://avatars.mds.yandex.net/get-pdb/1779125/243abcf2-1e35-4e41-9e0f-74cfb5aaad46/s1200"/>
          <p:cNvPicPr/>
          <p:nvPr/>
        </p:nvPicPr>
        <p:blipFill>
          <a:blip r:embed="rId1"/>
          <a:stretch/>
        </p:blipFill>
        <p:spPr>
          <a:xfrm>
            <a:off x="477720" y="92160"/>
            <a:ext cx="8137800" cy="58370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2"/>
          <p:cNvSpPr/>
          <p:nvPr/>
        </p:nvSpPr>
        <p:spPr>
          <a:xfrm>
            <a:off x="2843280" y="59500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аакиевский соб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1"/>
          <p:cNvSpPr/>
          <p:nvPr/>
        </p:nvSpPr>
        <p:spPr>
          <a:xfrm>
            <a:off x="517680" y="476280"/>
            <a:ext cx="8064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- сформировать представление о Санкт-Петербурге, как культурной столице Росси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- Раскрыть роль Санкт-Петербурга в экономической, политической и культурной жизн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- Выявить особенности облика Санкт-Петербург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- Раскрыть роль Санкт-Петербурга, как города - музе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http://togeo.ru/.imaging/fullsize/dms/main/gid-peterburg/intro/vasilyevskiy-ostrov/201009261224bb-02.jpg"/>
          <p:cNvPicPr/>
          <p:nvPr/>
        </p:nvPicPr>
        <p:blipFill>
          <a:blip r:embed="rId1"/>
          <a:stretch/>
        </p:blipFill>
        <p:spPr>
          <a:xfrm>
            <a:off x="684360" y="98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2268360" y="581328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ание бывшей торговой бирж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1"/>
          <p:cNvSpPr/>
          <p:nvPr/>
        </p:nvSpPr>
        <p:spPr>
          <a:xfrm>
            <a:off x="539640" y="83664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4116"/>
                </a:solidFill>
                <a:latin typeface="Times New Roman"/>
              </a:rPr>
              <a:t>Д/З: параграф 30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4116"/>
                </a:solidFill>
                <a:latin typeface="Times New Roman"/>
              </a:rPr>
              <a:t>вопросы к параграф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1"/>
          <p:cNvSpPr/>
          <p:nvPr/>
        </p:nvSpPr>
        <p:spPr>
          <a:xfrm>
            <a:off x="517680" y="476280"/>
            <a:ext cx="806436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«Город на Неве многослоен и многолик» </a:t>
            </a:r>
            <a:r>
              <a:rPr b="1" lang="ru-RU" sz="2800" spc="-1" strike="noStrike">
                <a:solidFill>
                  <a:srgbClr val="334116"/>
                </a:solidFill>
                <a:latin typeface="Times New Roman"/>
              </a:rPr>
              <a:t>(петербуржец, историк архитектуры А.Л.Пун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Совет Ф.М.Достоевског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4116"/>
                </a:solidFill>
                <a:latin typeface="Times New Roman"/>
              </a:rPr>
              <a:t>«Вглядитесь в Петербург внимательнее, изучите его физиономию, прочтите историю города в нашу эпох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608040" y="580536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столицей России считают Санкт-Петербур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" descr="https://pp.userapi.com/c846122/v846122629/149cf6/N-Mew3Z9QUA.jpg"/>
          <p:cNvPicPr/>
          <p:nvPr/>
        </p:nvPicPr>
        <p:blipFill>
          <a:blip r:embed="rId1"/>
          <a:stretch/>
        </p:blipFill>
        <p:spPr>
          <a:xfrm>
            <a:off x="843120" y="695160"/>
            <a:ext cx="7362720" cy="4838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1744560" y="83664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ворцовая площадь Санкт-Петербур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641520" y="558180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 творение ког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какой целью был построен Санкт-Петербур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41" descr="https://pbs.twimg.com/media/D7jcs99WwAA3wMU.jpg:large"/>
          <p:cNvPicPr/>
          <p:nvPr/>
        </p:nvPicPr>
        <p:blipFill>
          <a:blip r:embed="rId1"/>
          <a:stretch/>
        </p:blipFill>
        <p:spPr>
          <a:xfrm>
            <a:off x="1325520" y="666720"/>
            <a:ext cx="637704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57320" y="501336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тическое прозвание Санкт-Петербурга в честь древнего торгового города Пальмиры на территории современной Сирии. Закрепилось в русскоязычной литературе в эпоху классицизма начиная с 1810-х г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" descr="Х น тթыйЁж в Твиттере: &quot;Красавец Санкт-Петербург... ☀ 🌊 #Петербург #Россия #StPetersburg #Russia."/>
          <p:cNvPicPr/>
          <p:nvPr/>
        </p:nvPicPr>
        <p:blipFill>
          <a:blip r:embed="rId1"/>
          <a:stretch/>
        </p:blipFill>
        <p:spPr>
          <a:xfrm>
            <a:off x="1258920" y="647640"/>
            <a:ext cx="66261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608040" y="551664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тех пор, как Марк Бернес исполнил эту песню, как стали называть Ленинград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" descr="https://1.bp.blogspot.com/-pfuuKVwuVlw/W9rYzBdO7BI/AAAAAAABARE/qO81A37-2c0hQqVpgjqHYnYrs2gyqi6sQCLcBGAs/s1600/2018-11-01_13-41-50.png"/>
          <p:cNvPicPr/>
          <p:nvPr/>
        </p:nvPicPr>
        <p:blipFill>
          <a:blip r:embed="rId1"/>
          <a:stretch/>
        </p:blipFill>
        <p:spPr>
          <a:xfrm>
            <a:off x="1096920" y="666720"/>
            <a:ext cx="68342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4572000" y="3789360"/>
            <a:ext cx="442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идёшь по улицам Санкт-Петербурга, впечатление, что ты идёшь по огромному музе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даром про него говорят, что это музей под открытым небом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http://www.c-tur.ru/files/image/13_(2).jpg"/>
          <p:cNvPicPr/>
          <p:nvPr/>
        </p:nvPicPr>
        <p:blipFill>
          <a:blip r:embed="rId1"/>
          <a:stretch/>
        </p:blipFill>
        <p:spPr>
          <a:xfrm>
            <a:off x="108000" y="666720"/>
            <a:ext cx="4608360" cy="2852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://ru.natalia-tour.com/images/gallery/119/st-peter-and-paul-fortress.jpg"/>
          <p:cNvPicPr/>
          <p:nvPr/>
        </p:nvPicPr>
        <p:blipFill>
          <a:blip r:embed="rId2"/>
          <a:stretch/>
        </p:blipFill>
        <p:spPr>
          <a:xfrm>
            <a:off x="4716360" y="657360"/>
            <a:ext cx="4283280" cy="2854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900igr.net/up/datai/152462/0002-002-.jpg"/>
          <p:cNvPicPr/>
          <p:nvPr/>
        </p:nvPicPr>
        <p:blipFill>
          <a:blip r:embed="rId3"/>
          <a:stretch/>
        </p:blipFill>
        <p:spPr>
          <a:xfrm>
            <a:off x="162000" y="3511440"/>
            <a:ext cx="4206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482760" y="204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ем кластер: «Что мы знаем о Санкт-Петербург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615960" y="6021360"/>
            <a:ext cx="78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можно сказать по этим фото о Санкт-Петербург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2" descr="https://spb.sutochno.ru/doc/images/galleries/98/143098975512935100.jpg"/>
          <p:cNvPicPr/>
          <p:nvPr/>
        </p:nvPicPr>
        <p:blipFill>
          <a:blip r:embed="rId1"/>
          <a:stretch/>
        </p:blipFill>
        <p:spPr>
          <a:xfrm>
            <a:off x="577800" y="631800"/>
            <a:ext cx="3801960" cy="2554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nedelya.ru/cache/zaks/2019-03-28/505668.jpg"/>
          <p:cNvPicPr/>
          <p:nvPr/>
        </p:nvPicPr>
        <p:blipFill>
          <a:blip r:embed="rId2"/>
          <a:stretch/>
        </p:blipFill>
        <p:spPr>
          <a:xfrm>
            <a:off x="4576680" y="625320"/>
            <a:ext cx="3853080" cy="25686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3"/>
          <p:cNvSpPr/>
          <p:nvPr/>
        </p:nvSpPr>
        <p:spPr>
          <a:xfrm>
            <a:off x="1133640" y="2816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иинский теа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4932360" y="2803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лександровский теа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http://dev.opeterburge.ru/images/photo_gallery/theatres/sankt-peterburgskij-bolshoj-dramaticheskij-teatr-im-g-a-tovstonogova/2O4A8338.jpg"/>
          <p:cNvPicPr/>
          <p:nvPr/>
        </p:nvPicPr>
        <p:blipFill>
          <a:blip r:embed="rId3"/>
          <a:stretch/>
        </p:blipFill>
        <p:spPr>
          <a:xfrm>
            <a:off x="555480" y="3186000"/>
            <a:ext cx="3824280" cy="2546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2508120" y="48387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ольшой Драматический Теа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https://nanevskom.ru/wp-content/uploads/2017/03/Dzhakomo-Kvarengi.-Arhitektor-v-Sankt-Peterburge-vystavka2-1024x683.jpg"/>
          <p:cNvPicPr/>
          <p:nvPr/>
        </p:nvPicPr>
        <p:blipFill>
          <a:blip r:embed="rId4"/>
          <a:stretch/>
        </p:blipFill>
        <p:spPr>
          <a:xfrm>
            <a:off x="4576680" y="3206880"/>
            <a:ext cx="3802320" cy="25351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5"/>
          <p:cNvSpPr/>
          <p:nvPr/>
        </p:nvSpPr>
        <p:spPr>
          <a:xfrm>
            <a:off x="4514760" y="536724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рмитажный теа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я</cp:lastModifiedBy>
  <dcterms:modified xsi:type="dcterms:W3CDTF">2020-08-28T10:38:25Z</dcterms:modified>
  <cp:revision>50</cp:revision>
  <dc:subject/>
  <dc:title>PowerPoint Presentation</dc:title>
</cp:coreProperties>
</file>