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AB1-2623-40A5-B624-D3A6A9A9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96C-3321-44A9-9504-63DC4888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D87-E8B9-496F-B12F-C53BFA2D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EB5-061C-4CE9-B444-9EAA63CE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02B-D3CA-4906-A9DE-C4EDED49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7E1-35F3-4B63-A7F9-0E63D1E2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3FE-188E-47CE-95FA-0A3A60BE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9AE-A693-48C3-BF5F-D0924B57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8DC-3563-4A6B-824B-CE60777D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9D4-7655-42ED-9AB2-AA6DF8CB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7EC-22B9-41E1-91D8-8B2F0414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56A-50A2-4D66-B75D-C1D02A84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557-4145-4696-86B9-5CDE07BAC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МБДОУ «Детский сад № 23 «Золотой петушок» компенсирующей и общеразвивающей направленности»</a:t>
            </a:r>
            <a:br>
              <a:rPr sz="18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руппа № 6  «ГОВОРУШЕЧ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5927760" y="3429000"/>
            <a:ext cx="243036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857160" y="1643040"/>
            <a:ext cx="6929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Вот оно какое, НАШЕ ЛЕТО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анышева Т.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14280" y="49968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ем здоровы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357200" y="1071720"/>
            <a:ext cx="640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арик и кот Матроскин на Олимпийских игр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F:\рио 16\рио 16\DSCN6607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57120" y="15717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F:\рио 16\рио 16\DSCN6660.JPG"/>
          <p:cNvPicPr/>
          <p:nvPr/>
        </p:nvPicPr>
        <p:blipFill>
          <a:blip r:embed="rId3"/>
          <a:stretch/>
        </p:blipFill>
        <p:spPr>
          <a:xfrm>
            <a:off x="5907240" y="15717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F:\рио 16\рио 16\DSCN6690.JPG"/>
          <p:cNvPicPr/>
          <p:nvPr/>
        </p:nvPicPr>
        <p:blipFill>
          <a:blip r:embed="rId4"/>
          <a:stretch/>
        </p:blipFill>
        <p:spPr>
          <a:xfrm>
            <a:off x="357120" y="42688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5"/>
          <a:stretch/>
        </p:blipFill>
        <p:spPr>
          <a:xfrm>
            <a:off x="5907240" y="42861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F:\рио 16\рио 16\DSCN6729.JPG"/>
          <p:cNvPicPr/>
          <p:nvPr/>
        </p:nvPicPr>
        <p:blipFill>
          <a:blip r:embed="rId6"/>
          <a:stretch/>
        </p:blipFill>
        <p:spPr>
          <a:xfrm>
            <a:off x="3143160" y="2643120"/>
            <a:ext cx="28796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00040" y="356760"/>
            <a:ext cx="77868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 летного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условий для сохранения и укрепления физического, психического и социального здоровья воспитанников МБДОУ в летний пери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28760" y="2286000"/>
            <a:ext cx="82864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креплению здоровья детей, повышению адаптационных возможностей детского организ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вигательные, психические, интеллектуальные, творческие способности воспитанников в разнообразных видах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атмосферу радости, формировать положительное эмоциональное состояние всех участников образовательного процес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содержательную и технологическую интеграцию деятельности детей, всех специалистов ДОУ и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85920" y="35712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садили огоро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F:\фото 23 16\поход 16\DSCN6051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857160" y="1143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072040" y="1143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F:\фото 23 16\поход 16\DSCN6059.JPG"/>
          <p:cNvPicPr/>
          <p:nvPr/>
        </p:nvPicPr>
        <p:blipFill>
          <a:blip r:embed="rId4"/>
          <a:stretch/>
        </p:blipFill>
        <p:spPr>
          <a:xfrm>
            <a:off x="2786040" y="378612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5920" y="28548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городе все раст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jujhjl\DSCN7007.JPG"/>
          <p:cNvPicPr/>
          <p:nvPr/>
        </p:nvPicPr>
        <p:blipFill>
          <a:blip r:embed="rId2"/>
          <a:stretch/>
        </p:blipFill>
        <p:spPr>
          <a:xfrm>
            <a:off x="5000760" y="37148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F:\jujhjl\DSCN7009.JPG"/>
          <p:cNvPicPr/>
          <p:nvPr/>
        </p:nvPicPr>
        <p:blipFill>
          <a:blip r:embed="rId3"/>
          <a:stretch/>
        </p:blipFill>
        <p:spPr>
          <a:xfrm>
            <a:off x="5072040" y="10000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:\jujhjl\DSCN7014.JPG"/>
          <p:cNvPicPr/>
          <p:nvPr/>
        </p:nvPicPr>
        <p:blipFill>
          <a:blip r:embed="rId4"/>
          <a:stretch/>
        </p:blipFill>
        <p:spPr>
          <a:xfrm>
            <a:off x="714240" y="371484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F:\jujhjl\DSCN7021.JPG"/>
          <p:cNvPicPr/>
          <p:nvPr/>
        </p:nvPicPr>
        <p:blipFill>
          <a:blip r:embed="rId5"/>
          <a:stretch/>
        </p:blipFill>
        <p:spPr>
          <a:xfrm>
            <a:off x="642960" y="10000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3880" y="499680"/>
            <a:ext cx="4357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ши руки – не для скуки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луб «Мастерилк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903240" y="135720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:\фото 23 16\росптсь камней\DSCN6236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928800" y="40719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857920" y="928800"/>
            <a:ext cx="2430360" cy="285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:\DSCN7030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5500800" y="3927600"/>
            <a:ext cx="32400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85920" y="428760"/>
            <a:ext cx="64008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атр «Фантазер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929120" y="1643040"/>
            <a:ext cx="3757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казку дружно сочиня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 друзьям мы показал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F:\сказка 16\DSCN6776.JPG"/>
          <p:cNvPicPr/>
          <p:nvPr/>
        </p:nvPicPr>
        <p:blipFill>
          <a:blip r:embed="rId2"/>
          <a:stretch/>
        </p:blipFill>
        <p:spPr>
          <a:xfrm>
            <a:off x="4056120" y="3571920"/>
            <a:ext cx="46195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00040" y="1214280"/>
            <a:ext cx="4248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4280" y="149976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Играем в похо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2" descr="F:\играем в поход\DSCN6374.JPG"/>
          <p:cNvPicPr/>
          <p:nvPr/>
        </p:nvPicPr>
        <p:blipFill>
          <a:blip r:embed="rId2"/>
          <a:stretch/>
        </p:blipFill>
        <p:spPr>
          <a:xfrm>
            <a:off x="500040" y="1141560"/>
            <a:ext cx="2700360" cy="202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F:\играем в поход\DSCN6405.JPG"/>
          <p:cNvPicPr/>
          <p:nvPr/>
        </p:nvPicPr>
        <p:blipFill>
          <a:blip r:embed="rId3"/>
          <a:stretch/>
        </p:blipFill>
        <p:spPr>
          <a:xfrm>
            <a:off x="5786280" y="12142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F:\играем в поход\DSCN6420.JPG"/>
          <p:cNvPicPr/>
          <p:nvPr/>
        </p:nvPicPr>
        <p:blipFill>
          <a:blip r:embed="rId4"/>
          <a:stretch/>
        </p:blipFill>
        <p:spPr>
          <a:xfrm>
            <a:off x="500040" y="42148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F:\играем в поход\DSCN6467.JPG"/>
          <p:cNvPicPr/>
          <p:nvPr/>
        </p:nvPicPr>
        <p:blipFill>
          <a:blip r:embed="rId5"/>
          <a:stretch/>
        </p:blipFill>
        <p:spPr>
          <a:xfrm>
            <a:off x="5786280" y="42148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3143160" y="2714760"/>
            <a:ext cx="2700360" cy="2025360"/>
          </a:xfrm>
          <a:prstGeom prst="rect">
            <a:avLst/>
          </a:prstGeom>
          <a:ln w="0">
            <a:noFill/>
          </a:ln>
        </p:spPr>
      </p:pic>
      <p:sp>
        <p:nvSpPr>
          <p:cNvPr id="71" name="Подзаголовок 2"/>
          <p:cNvSpPr/>
          <p:nvPr/>
        </p:nvSpPr>
        <p:spPr>
          <a:xfrm>
            <a:off x="1366920" y="500040"/>
            <a:ext cx="640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ем здоровы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14280" y="428760"/>
            <a:ext cx="64008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ем здоровы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F:\фото 23 16\поход 16\DSCN6070.JPG"/>
          <p:cNvPicPr/>
          <p:nvPr/>
        </p:nvPicPr>
        <p:blipFill>
          <a:blip r:embed="rId2"/>
          <a:stretch/>
        </p:blipFill>
        <p:spPr>
          <a:xfrm>
            <a:off x="5715000" y="1143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:\фото 23 16\поход 16\DSCN6090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57120" y="41432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:\фото 23 16\поход 16\DSCN6098.JPG"/>
          <p:cNvPicPr/>
          <p:nvPr/>
        </p:nvPicPr>
        <p:blipFill>
          <a:blip r:embed="rId4"/>
          <a:stretch/>
        </p:blipFill>
        <p:spPr>
          <a:xfrm>
            <a:off x="500040" y="10717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:\фото 23 16\поход 16\DSCN6102.JPG"/>
          <p:cNvPicPr/>
          <p:nvPr/>
        </p:nvPicPr>
        <p:blipFill>
          <a:blip r:embed="rId5"/>
          <a:stretch/>
        </p:blipFill>
        <p:spPr>
          <a:xfrm>
            <a:off x="5857920" y="41432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F:\фото 23 16\поход 16\DSCN6129.JP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3071880" y="2357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Подзаголовок 2"/>
          <p:cNvSpPr/>
          <p:nvPr/>
        </p:nvSpPr>
        <p:spPr>
          <a:xfrm>
            <a:off x="1357200" y="1285920"/>
            <a:ext cx="640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а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14280" y="35676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тем здоровы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фото 23 16\здравствуй солнце\DSCN5904.JPG"/>
          <p:cNvPicPr/>
          <p:nvPr/>
        </p:nvPicPr>
        <p:blipFill>
          <a:blip r:embed="rId2"/>
          <a:stretch/>
        </p:blipFill>
        <p:spPr>
          <a:xfrm>
            <a:off x="857160" y="14986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5046840" y="15001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:\фото 23 16\здравствуй солнце\DSCN5984.JPG"/>
          <p:cNvPicPr/>
          <p:nvPr/>
        </p:nvPicPr>
        <p:blipFill>
          <a:blip r:embed="rId4"/>
          <a:stretch/>
        </p:blipFill>
        <p:spPr>
          <a:xfrm>
            <a:off x="857160" y="40006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5"/>
          <a:stretch/>
        </p:blipFill>
        <p:spPr>
          <a:xfrm>
            <a:off x="5046840" y="39988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84" name="Подзаголовок 2"/>
          <p:cNvSpPr/>
          <p:nvPr/>
        </p:nvSpPr>
        <p:spPr>
          <a:xfrm>
            <a:off x="2786040" y="1000080"/>
            <a:ext cx="3071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равствуй, солнц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5:11:54Z</dcterms:created>
  <dc:creator>Admin</dc:creator>
  <dc:description/>
  <dc:language>en-US</dc:language>
  <cp:lastModifiedBy>Светлана</cp:lastModifiedBy>
  <dcterms:modified xsi:type="dcterms:W3CDTF">2020-08-28T05:08:58Z</dcterms:modified>
  <cp:revision>17</cp:revision>
  <dc:subject/>
  <dc:title>Вот оно какое, НАШЕ ЛЕТО!</dc:title>
</cp:coreProperties>
</file>