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3F8-4F3E-421D-972F-9FF97B07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B36-B01C-4E86-98D7-0B6E204E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8AE-5855-43F9-B5F2-247D26E0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19C-47B0-4EBB-93A3-09F53215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EEA-4744-49B9-9D7C-6D92040B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9C94-BF4B-4CEE-B6E6-701E5838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741-B24D-484D-BD3C-3222A48C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01D-A4F7-43B5-B6AF-86CDE730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093-3D22-4D9F-88F9-412ED98D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7D4-9E36-4C33-8B91-D4CFDD19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E05C-98A9-41CB-B6FF-0B17BD71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42F-E41A-48A4-960C-AE82A99D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27DA-8E2B-4AC4-8B66-3E1B8F07B9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МБДОУ «Детский сад № 23 «Золотой петушок» компенсирующей и общеразвивающей направленности»</a:t>
            </a:r>
            <a:br>
              <a:rPr sz="18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группа № 6  «ГОВОРУШЕЧ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857160" y="378612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5927760" y="3429000"/>
            <a:ext cx="2430360" cy="28576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857160" y="1643040"/>
            <a:ext cx="69296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Вот оно какое, НАШЕ ЛЕТО!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ита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анышева Т.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14280" y="499680"/>
            <a:ext cx="64008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тем здоровым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одзаголовок 2"/>
          <p:cNvSpPr/>
          <p:nvPr/>
        </p:nvSpPr>
        <p:spPr>
          <a:xfrm>
            <a:off x="1357200" y="1071720"/>
            <a:ext cx="6400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Шарик и кот Матроскин на Олимпийских игра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F:\рио 16\рио 16\DSCN6607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357120" y="157176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F:\рио 16\рио 16\DSCN6660.JPG"/>
          <p:cNvPicPr/>
          <p:nvPr/>
        </p:nvPicPr>
        <p:blipFill>
          <a:blip r:embed="rId3"/>
          <a:stretch/>
        </p:blipFill>
        <p:spPr>
          <a:xfrm>
            <a:off x="5907240" y="157176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F:\рио 16\рио 16\DSCN6690.JPG"/>
          <p:cNvPicPr/>
          <p:nvPr/>
        </p:nvPicPr>
        <p:blipFill>
          <a:blip r:embed="rId4"/>
          <a:stretch/>
        </p:blipFill>
        <p:spPr>
          <a:xfrm>
            <a:off x="357120" y="426888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5"/>
          <a:stretch/>
        </p:blipFill>
        <p:spPr>
          <a:xfrm>
            <a:off x="5907240" y="428616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F:\рио 16\рио 16\DSCN6729.JPG"/>
          <p:cNvPicPr/>
          <p:nvPr/>
        </p:nvPicPr>
        <p:blipFill>
          <a:blip r:embed="rId6"/>
          <a:stretch/>
        </p:blipFill>
        <p:spPr>
          <a:xfrm>
            <a:off x="3143160" y="2643120"/>
            <a:ext cx="28796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500040" y="356760"/>
            <a:ext cx="778680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 летного прое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птимальных условий для сохранения и укрепления физического, психического и социального здоровья воспитанников МБДОУ в летний пери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428760" y="2286000"/>
            <a:ext cx="82864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2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укреплению здоровья детей, повышению адаптационных возможностей детского организ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2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двигательные, психические, интеллектуальные, творческие способности воспитанников в разнообразных видах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2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атмосферу радости, формировать положительное эмоциональное состояние всех участников образовательного процес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2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содержательную и технологическую интеграцию деятельности детей, всех специалистов ДОУ и род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85920" y="35712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ы садили огород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7" descr="F:\фото 23 16\поход 16\DSCN6051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857160" y="114300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5072040" y="114300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F:\фото 23 16\поход 16\DSCN6059.JPG"/>
          <p:cNvPicPr/>
          <p:nvPr/>
        </p:nvPicPr>
        <p:blipFill>
          <a:blip r:embed="rId4"/>
          <a:stretch/>
        </p:blipFill>
        <p:spPr>
          <a:xfrm>
            <a:off x="2786040" y="378612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85920" y="285480"/>
            <a:ext cx="6400800" cy="571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огороде все растет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jujhjl\DSCN7007.JPG"/>
          <p:cNvPicPr/>
          <p:nvPr/>
        </p:nvPicPr>
        <p:blipFill>
          <a:blip r:embed="rId2"/>
          <a:stretch/>
        </p:blipFill>
        <p:spPr>
          <a:xfrm>
            <a:off x="5000760" y="371484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F:\jujhjl\DSCN7009.JPG"/>
          <p:cNvPicPr/>
          <p:nvPr/>
        </p:nvPicPr>
        <p:blipFill>
          <a:blip r:embed="rId3"/>
          <a:stretch/>
        </p:blipFill>
        <p:spPr>
          <a:xfrm>
            <a:off x="5072040" y="10000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F:\jujhjl\DSCN7014.JPG"/>
          <p:cNvPicPr/>
          <p:nvPr/>
        </p:nvPicPr>
        <p:blipFill>
          <a:blip r:embed="rId4"/>
          <a:stretch/>
        </p:blipFill>
        <p:spPr>
          <a:xfrm>
            <a:off x="714240" y="371484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F:\jujhjl\DSCN7021.JPG"/>
          <p:cNvPicPr/>
          <p:nvPr/>
        </p:nvPicPr>
        <p:blipFill>
          <a:blip r:embed="rId5"/>
          <a:stretch/>
        </p:blipFill>
        <p:spPr>
          <a:xfrm>
            <a:off x="642960" y="100008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3880" y="499680"/>
            <a:ext cx="43578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ши руки – не для скуки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луб «Мастерилка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903240" y="135720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F:\фото 23 16\росптсь камней\DSCN6236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928800" y="407196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857920" y="928800"/>
            <a:ext cx="2430360" cy="2857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:\DSCN7030.JPG"/>
          <p:cNvPicPr/>
          <p:nvPr/>
        </p:nvPicPr>
        <p:blipFill>
          <a:blip r:embed="rId5">
            <a:lum bright="10000"/>
          </a:blip>
          <a:stretch/>
        </p:blipFill>
        <p:spPr>
          <a:xfrm>
            <a:off x="5500800" y="3927600"/>
            <a:ext cx="32400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85920" y="428760"/>
            <a:ext cx="64008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атр «Фантазер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одзаголовок 2"/>
          <p:cNvSpPr/>
          <p:nvPr/>
        </p:nvSpPr>
        <p:spPr>
          <a:xfrm>
            <a:off x="4929120" y="1643040"/>
            <a:ext cx="37576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казку дружно сочинял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И друзьям мы показал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F:\сказка 16\DSCN6776.JPG"/>
          <p:cNvPicPr/>
          <p:nvPr/>
        </p:nvPicPr>
        <p:blipFill>
          <a:blip r:embed="rId2"/>
          <a:stretch/>
        </p:blipFill>
        <p:spPr>
          <a:xfrm>
            <a:off x="4056120" y="3571920"/>
            <a:ext cx="4619520" cy="3000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500040" y="1214280"/>
            <a:ext cx="424800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4280" y="1499760"/>
            <a:ext cx="64008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Играем в поход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2" descr="F:\играем в поход\DSCN6374.JPG"/>
          <p:cNvPicPr/>
          <p:nvPr/>
        </p:nvPicPr>
        <p:blipFill>
          <a:blip r:embed="rId2"/>
          <a:stretch/>
        </p:blipFill>
        <p:spPr>
          <a:xfrm>
            <a:off x="500040" y="1141560"/>
            <a:ext cx="2700360" cy="202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F:\играем в поход\DSCN6405.JPG"/>
          <p:cNvPicPr/>
          <p:nvPr/>
        </p:nvPicPr>
        <p:blipFill>
          <a:blip r:embed="rId3"/>
          <a:stretch/>
        </p:blipFill>
        <p:spPr>
          <a:xfrm>
            <a:off x="5786280" y="121428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F:\играем в поход\DSCN6420.JPG"/>
          <p:cNvPicPr/>
          <p:nvPr/>
        </p:nvPicPr>
        <p:blipFill>
          <a:blip r:embed="rId4"/>
          <a:stretch/>
        </p:blipFill>
        <p:spPr>
          <a:xfrm>
            <a:off x="500040" y="421488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F:\играем в поход\DSCN6467.JPG"/>
          <p:cNvPicPr/>
          <p:nvPr/>
        </p:nvPicPr>
        <p:blipFill>
          <a:blip r:embed="rId5"/>
          <a:stretch/>
        </p:blipFill>
        <p:spPr>
          <a:xfrm>
            <a:off x="5786280" y="421488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"/>
          <p:cNvPicPr/>
          <p:nvPr/>
        </p:nvPicPr>
        <p:blipFill>
          <a:blip r:embed="rId6">
            <a:lum bright="10000"/>
          </a:blip>
          <a:stretch/>
        </p:blipFill>
        <p:spPr>
          <a:xfrm>
            <a:off x="3143160" y="2714760"/>
            <a:ext cx="2700360" cy="2025360"/>
          </a:xfrm>
          <a:prstGeom prst="rect">
            <a:avLst/>
          </a:prstGeom>
          <a:ln w="0">
            <a:noFill/>
          </a:ln>
        </p:spPr>
      </p:pic>
      <p:sp>
        <p:nvSpPr>
          <p:cNvPr id="71" name="Подзаголовок 2"/>
          <p:cNvSpPr/>
          <p:nvPr/>
        </p:nvSpPr>
        <p:spPr>
          <a:xfrm>
            <a:off x="1366920" y="500040"/>
            <a:ext cx="6400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тем здоровы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14280" y="428760"/>
            <a:ext cx="64008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тем здоровым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F:\фото 23 16\поход 16\DSCN6070.JPG"/>
          <p:cNvPicPr/>
          <p:nvPr/>
        </p:nvPicPr>
        <p:blipFill>
          <a:blip r:embed="rId2"/>
          <a:stretch/>
        </p:blipFill>
        <p:spPr>
          <a:xfrm>
            <a:off x="5715000" y="114300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F:\фото 23 16\поход 16\DSCN6090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357120" y="41432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F:\фото 23 16\поход 16\DSCN6098.JPG"/>
          <p:cNvPicPr/>
          <p:nvPr/>
        </p:nvPicPr>
        <p:blipFill>
          <a:blip r:embed="rId4"/>
          <a:stretch/>
        </p:blipFill>
        <p:spPr>
          <a:xfrm>
            <a:off x="500040" y="10717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F:\фото 23 16\поход 16\DSCN6102.JPG"/>
          <p:cNvPicPr/>
          <p:nvPr/>
        </p:nvPicPr>
        <p:blipFill>
          <a:blip r:embed="rId5"/>
          <a:stretch/>
        </p:blipFill>
        <p:spPr>
          <a:xfrm>
            <a:off x="5857920" y="41432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F:\фото 23 16\поход 16\DSCN6129.JPG"/>
          <p:cNvPicPr/>
          <p:nvPr/>
        </p:nvPicPr>
        <p:blipFill>
          <a:blip r:embed="rId6">
            <a:lum bright="10000"/>
          </a:blip>
          <a:stretch/>
        </p:blipFill>
        <p:spPr>
          <a:xfrm>
            <a:off x="3071880" y="235728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78" name="Подзаголовок 2"/>
          <p:cNvSpPr/>
          <p:nvPr/>
        </p:nvSpPr>
        <p:spPr>
          <a:xfrm>
            <a:off x="1357200" y="1285920"/>
            <a:ext cx="6400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а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14280" y="356760"/>
            <a:ext cx="64008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тем здоровым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F:\фото 23 16\здравствуй солнце\DSCN5904.JPG"/>
          <p:cNvPicPr/>
          <p:nvPr/>
        </p:nvPicPr>
        <p:blipFill>
          <a:blip r:embed="rId2"/>
          <a:stretch/>
        </p:blipFill>
        <p:spPr>
          <a:xfrm>
            <a:off x="857160" y="14986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5046840" y="150012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F:\фото 23 16\здравствуй солнце\DSCN5984.JPG"/>
          <p:cNvPicPr/>
          <p:nvPr/>
        </p:nvPicPr>
        <p:blipFill>
          <a:blip r:embed="rId4"/>
          <a:stretch/>
        </p:blipFill>
        <p:spPr>
          <a:xfrm>
            <a:off x="857160" y="40006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5"/>
          <a:stretch/>
        </p:blipFill>
        <p:spPr>
          <a:xfrm>
            <a:off x="5046840" y="399888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84" name="Подзаголовок 2"/>
          <p:cNvSpPr/>
          <p:nvPr/>
        </p:nvSpPr>
        <p:spPr>
          <a:xfrm>
            <a:off x="2786040" y="1000080"/>
            <a:ext cx="3071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равствуй, солнц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05:11:54Z</dcterms:created>
  <dc:creator>Admin</dc:creator>
  <dc:description/>
  <dc:language>en-US</dc:language>
  <cp:lastModifiedBy>Светлана</cp:lastModifiedBy>
  <dcterms:modified xsi:type="dcterms:W3CDTF">2020-08-28T05:08:58Z</dcterms:modified>
  <cp:revision>17</cp:revision>
  <dc:subject/>
  <dc:title>Вот оно какое, НАШЕ ЛЕТО!</dc:title>
</cp:coreProperties>
</file>