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9874-D1BB-4D2A-A6BC-7A50A3AD4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4A77-C0CF-4475-B67F-D608A5DA3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7A8F-53C6-43FD-948E-C7CBECC20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C0A6-5EB5-4F88-AD1F-638BCFAFD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49A3-F665-4941-A215-6019AE281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68BB-AE77-4FB9-8DA5-41C338328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6021-DCA9-48E0-83F0-8C88F1789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D765-660F-4BB8-B2A9-B6B133790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BB55-C591-4072-8870-E246EF45A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7DAE-36C0-48E4-B14A-3CC94290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A6AE-9E49-42D4-ADAC-75CD0E0F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DA23-A77B-4D26-9A6E-57CDF0E6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3515E-4408-4EDB-891C-7870D50377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1979640" y="-12600"/>
            <a:ext cx="46800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83628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Фёдор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лавянский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 Семейная картина (на балконе). 1851 г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лавянский, Фёдор Михайлови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(1819—1876) — русский художник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репостной крестьянин. Благодаря стараниям А. Венецианов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ыл выкуплен из крепостной зависимости, прошел обучение в школе, созданной великим художником для подобных одаренных дете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Лишь при поступлении вольнослушателем в Академию художеств (1840) Федор получил фамилию Славянски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324000" y="0"/>
            <a:ext cx="849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431640" y="0"/>
            <a:ext cx="828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нри Матисс. Красная комната. 1912. Государственный Эрмитаж. Санкт-Петербург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нри Матис. Разговор. 1910. Государственный Эрмитаж. Санкт-Петербург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4800" spc="-1" strike="noStrike">
                <a:solidFill>
                  <a:srgbClr val="ff0000"/>
                </a:solidFill>
                <a:latin typeface="Times New Roman"/>
              </a:rPr>
              <a:t>Анри́ Мати́с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(1869  — 1954) — французский художник и скульптор, лидер течения фовистов. Известен своими изысканиями в передаче эмоций через цвет и форм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14:36:29Z</dcterms:created>
  <dc:creator>User</dc:creator>
  <dc:description/>
  <dc:language>en-US</dc:language>
  <cp:lastModifiedBy>User</cp:lastModifiedBy>
  <dcterms:modified xsi:type="dcterms:W3CDTF">2012-02-28T14:54:23Z</dcterms:modified>
  <cp:revision>2</cp:revision>
  <dc:subject/>
  <dc:title>Слайд 1</dc:title>
</cp:coreProperties>
</file>