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B2CF-6F74-465C-9B62-F4B3318E0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328A-A9CE-4E82-B8FB-E639EE01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C133-2000-4E3F-9A48-C76C0E500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211B-CFF1-412F-86C6-4FBDF729D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8557-94A8-497F-AF38-338A0F5A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A568-07FC-4716-87EB-4CF9662A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3189-CA77-4028-9B30-E5A5DFA1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153F-0E30-4089-9208-756E23DB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7416-CB00-4893-AD06-84BB72BC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030F-9850-43EA-9059-83220EF5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D88D-6FBE-49CC-964F-16F21C11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BE2C-6AE8-4EDB-8383-1A26A248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1CF1-304B-4350-8757-5E828502A5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979640" y="-12600"/>
            <a:ext cx="4680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Фёдор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лавянский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 Семейная картина (на балконе). 1851 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лавянский, Фёдор Михайло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(1819—1876) — русский художник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репостной крестьянин. Благодаря стараниям А. Венецианов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ыл выкуплен из крепостной зависимости, прошел обучение в школе, созданной великим художником для подобных одаренных дете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ишь при поступлении вольнослушателем в Академию художеств (1840) Федор получил фамилию Славянски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24000" y="0"/>
            <a:ext cx="849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431640" y="0"/>
            <a:ext cx="828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нри Матисс. Красная комната. 1912. Государственный Эрмитаж. Санкт-Петербург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нри Матис. Разговор. 1910. Государственный Эрмитаж. Санкт-Петербург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4800" spc="-1" strike="noStrike">
                <a:solidFill>
                  <a:srgbClr val="ff0000"/>
                </a:solidFill>
                <a:latin typeface="Times New Roman"/>
              </a:rPr>
              <a:t>Анри́ Мати́с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(1869  — 1954) — французский художник и скульптор, лидер течения фовистов. Известен своими изысканиями в передаче эмоций через цвет и форм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14:36:29Z</dcterms:created>
  <dc:creator>User</dc:creator>
  <dc:description/>
  <dc:language>en-US</dc:language>
  <cp:lastModifiedBy>User</cp:lastModifiedBy>
  <dcterms:modified xsi:type="dcterms:W3CDTF">2012-02-28T14:54:23Z</dcterms:modified>
  <cp:revision>2</cp:revision>
  <dc:subject/>
  <dc:title>Слайд 1</dc:title>
</cp:coreProperties>
</file>