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B60-D87E-427C-9D64-CAFA8898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C20-A0D8-4B00-AD65-72E0E892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8A1-50D5-4B90-B8DF-9161ACF7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B63-A9A1-4A68-9049-69F3AA73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4EBC-C56C-4200-987A-8D2D288B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BA24-7D89-4A80-9460-7F9214F1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2251-0469-40AF-83E9-2D79CA87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0818-2AA6-4C09-9879-DE8D567F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1287-7B88-463D-B83A-B7B4330B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87BD-17AF-4C7A-9C25-DD76CD85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58F7-3753-45F3-A348-AE413874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BB2-0147-4D32-B7D9-B51BFBF4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B476-B993-477E-B50F-7DADE615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F7F0-1679-47C3-8E36-04DDAA9C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FB5E-C861-46C1-90CE-201E4FAA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B244-41B7-46CF-A952-8CB8CB53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0702-F8F0-48D6-96EA-41118C24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E91-8066-4680-A20F-3701C583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3F8-1FC9-4187-90AE-F5DBF2A5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E17-5F67-4701-836F-9A641B53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25F-7A76-4DC7-9A58-E40C3F44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60A-0688-49A7-A7C1-97F31A2A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0FB-AB21-462C-80D7-C00944B7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DDA-13A9-4251-B3F4-B93F65FF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8F58-707C-4DC9-B333-DD38FDA6C6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F05A-042D-448B-ABF7-C241D3F7C989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Шер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Надежда Сергеевн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тская писательн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втор очерка «Картины-сказк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Виктор Михайлович Васнецов  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художник-живописец и архитектор, мастер исторической и фольклорной живо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84080" y="1268280"/>
            <a:ext cx="4176720" cy="4965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71280" y="620280"/>
            <a:ext cx="5472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ие факты из жизни великого художника сообщила нам автор очерк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75640" y="7138800"/>
            <a:ext cx="4032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36680" y="691920"/>
            <a:ext cx="5583240" cy="5545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40000"/>
            <a:ext cx="256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Третьяковская галерея построена по проектам и эскизам Васнецова. Значит, Васнецов увлекался ещё и… </a:t>
            </a:r>
            <a:r>
              <a:rPr b="0" i="1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-архитек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3106800" y="404640"/>
            <a:ext cx="5715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692280"/>
            <a:ext cx="64864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спомните названия картин, которые вошли в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Поэму семи сказок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7345440" cy="519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«Спящая царевн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«Баба-яг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«Царевна-лягушк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«Царевна Несмеян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. «Кощей Бессмертный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. «Сивка-Бурк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. «Ковёр-самолёт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спящ"/>
          <p:cNvPicPr/>
          <p:nvPr/>
        </p:nvPicPr>
        <p:blipFill>
          <a:blip r:embed="rId1"/>
          <a:stretch/>
        </p:blipFill>
        <p:spPr>
          <a:xfrm>
            <a:off x="179280" y="84240"/>
            <a:ext cx="8785440" cy="66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яга"/>
          <p:cNvPicPr/>
          <p:nvPr/>
        </p:nvPicPr>
        <p:blipFill>
          <a:blip r:embed="rId1"/>
          <a:stretch/>
        </p:blipFill>
        <p:spPr>
          <a:xfrm>
            <a:off x="1476360" y="404640"/>
            <a:ext cx="741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лягуш"/>
          <p:cNvPicPr/>
          <p:nvPr/>
        </p:nvPicPr>
        <p:blipFill>
          <a:blip r:embed="rId1"/>
          <a:stretch/>
        </p:blipFill>
        <p:spPr>
          <a:xfrm>
            <a:off x="1547640" y="549360"/>
            <a:ext cx="7201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несмеяна"/>
          <p:cNvPicPr/>
          <p:nvPr/>
        </p:nvPicPr>
        <p:blipFill>
          <a:blip r:embed="rId1"/>
          <a:stretch/>
        </p:blipFill>
        <p:spPr>
          <a:xfrm>
            <a:off x="2890800" y="333360"/>
            <a:ext cx="46339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несм"/>
          <p:cNvPicPr/>
          <p:nvPr/>
        </p:nvPicPr>
        <p:blipFill>
          <a:blip r:embed="rId1"/>
          <a:stretch/>
        </p:blipFill>
        <p:spPr>
          <a:xfrm>
            <a:off x="2916360" y="404640"/>
            <a:ext cx="4680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Надежда Сергеевна Шер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27000" y="1905120"/>
            <a:ext cx="306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788000" y="1267920"/>
            <a:ext cx="389880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ая писательница, переводч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927000" y="1700280"/>
            <a:ext cx="3103560" cy="4476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4243320" y="3271680"/>
            <a:ext cx="2376720" cy="3160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6732720" y="3271680"/>
            <a:ext cx="227484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1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кащей"/>
          <p:cNvPicPr/>
          <p:nvPr/>
        </p:nvPicPr>
        <p:blipFill>
          <a:blip r:embed="rId1"/>
          <a:stretch/>
        </p:blipFill>
        <p:spPr>
          <a:xfrm>
            <a:off x="250920" y="38160"/>
            <a:ext cx="8713800" cy="66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сивка"/>
          <p:cNvPicPr/>
          <p:nvPr/>
        </p:nvPicPr>
        <p:blipFill>
          <a:blip r:embed="rId1"/>
          <a:stretch/>
        </p:blipFill>
        <p:spPr>
          <a:xfrm>
            <a:off x="2987640" y="260280"/>
            <a:ext cx="4608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ковер-2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ковер-3"/>
          <p:cNvPicPr/>
          <p:nvPr/>
        </p:nvPicPr>
        <p:blipFill>
          <a:blip r:embed="rId1"/>
          <a:stretch/>
        </p:blipFill>
        <p:spPr>
          <a:xfrm>
            <a:off x="2762280" y="260280"/>
            <a:ext cx="44845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Найдите в тексте очерка ответы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18920" y="2349360"/>
            <a:ext cx="7008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то написал портрет художн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0" t="0" r="0" b="6750"/>
          <a:stretch/>
        </p:blipFill>
        <p:spPr>
          <a:xfrm>
            <a:off x="539640" y="620640"/>
            <a:ext cx="8136000" cy="568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Найдите в тексте очерка ответы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то написал портрет художни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жил художник Виктор Михайлович Васнец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ие художники и писатели бывали в доме у Васнецо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зовите имя любимого сказочного героя В.М.Васнецо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189000"/>
            <a:ext cx="641484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то для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М.В. Васнецова значит слово «Родина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76360" y="581040"/>
            <a:ext cx="7343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 только Русью и жил»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слова художника характеризуют смысл и значение его творчества. Имя Виктора Михайловича Васнецова — одно из самых известных и любимых среди имен русских художников. Его твopчeское наследие интересно и многогранно. Талант живописца проявился во всех областях изобразительного искусства.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7280" y="190440"/>
            <a:ext cx="75963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Виктор Михайлович Васнецов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1848-1926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cms"/>
          <p:cNvPicPr/>
          <p:nvPr/>
        </p:nvPicPr>
        <p:blipFill>
          <a:blip r:embed="rId1"/>
          <a:stretch/>
        </p:blipFill>
        <p:spPr>
          <a:xfrm>
            <a:off x="3419640" y="1700280"/>
            <a:ext cx="3773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жда Сергеевна Ше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ны-сказ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Какие жанры художественной литературы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1476360" y="981360"/>
            <a:ext cx="705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 Михайлович Васнецов - один из самых знаменитых русских художников XIX века.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называли "истинным богатырем русской живописи". Он первым среди живописцев обратился к былинно-сказочным сюжетам. Но именно этот Васнецов - автор "Алёнушки", "Богатырей", "Ивана-Царевича на Сером Волке",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259920"/>
            <a:ext cx="68644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жда Сергеевна Ше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ны-сказ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90512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Helvetica Neue"/>
              </a:rPr>
              <a:t>Современники отзывались о Васнецове так: “Гордиться должна Русь таким художником, как Виктор Михайлович”, “наше ясное солнышко –      В. М. Васнецов. В нём бьётся особая струнка” - так характеризовал художника И. Н. Крам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Helvetica Neue"/>
              </a:rPr>
              <a:t>Много лет прошло с тех пор, как ушёл из жизни художник, а картины его продолжают жить – ведь в каждой из них В. М. Васнецов оставил своё изумительное мастерство, кусочек своей души, свою великую любовь к искусству и к Ро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Helvetica Neue"/>
              </a:rPr>
              <a:t>- Благодаря кому мы так много узнали о художнике Васнецо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Helvetica Neue"/>
              </a:rPr>
              <a:t>- Как относится Н. С. Шер к герою очер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1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1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тературное  чтение – с.133 – 140 читать, вопрос 1( уст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жда Сергеевна Ше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ны-сказ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Какие жанры художественной литературы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Что такое очер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Шер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Надежда Сергеевн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01064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69850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жда Сергеевна Ше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ны-сказ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Какие жанры художественной литературы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Что такое очер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чем можно сравнить очер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жда Сергеевна Ше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ны-сказ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Какие жанры художественной литературы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Что такое очер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чем можно сравнить очер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называют автора очер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жда Сергеевна Ше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ны-сказ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Какие жанры художественной литературы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Что такое очер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чем можно сравнить очер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называют автора очер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то не имеет право делать очеркис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95280" y="692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 каком художник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сказывает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. С. Шер в очер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050920" y="3428640"/>
            <a:ext cx="639936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Картины-сказки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6:19:01Z</dcterms:created>
  <dc:creator>Пользователь</dc:creator>
  <dc:description/>
  <dc:language>en-US</dc:language>
  <cp:lastModifiedBy>Admin</cp:lastModifiedBy>
  <dcterms:modified xsi:type="dcterms:W3CDTF">2020-08-29T13:25:00Z</dcterms:modified>
  <cp:revision>13</cp:revision>
  <dc:subject/>
  <dc:title>Надежда Сергевна</dc:title>
</cp:coreProperties>
</file>