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56F-E920-4BD5-9CBC-3AD8299B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1DA-6508-47D6-BAB3-0BADAF1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20E-9535-49F6-8694-B6E4CE9B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90A-856F-4048-9054-3BFDA062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798-F0A5-4603-A474-E352FFFA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9D9-582D-40E3-AD01-9B497DB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074A-2D30-43C6-A9E1-62E10C3F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C3E0-1C4B-4B28-8B3A-D10B0F0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B286-B01F-475F-9DA1-432B65A2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701-6199-4315-A0FC-6704BB5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F13-6B7B-419B-8748-7E4C5F5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78A-29A7-486B-8EA6-DA9DBF2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8603-C526-4538-A031-E66B2B1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62F1-6433-45C0-B454-27A27EF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98A7-CD33-4033-99AA-161DC331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7E0-35EE-4065-B14F-BB043853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646-78B6-4D86-A865-ADB08571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0E5-135D-40F3-99A2-5EC0DE71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2F9-329A-49AB-AA7B-BD3CFA3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7AB-27DB-4949-B857-88D7604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02A-3969-402F-A249-A78400DE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3D-A918-4D0A-B370-9C7223C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487-7C6D-485C-915C-3021635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E3F-E62C-4560-879A-CF21210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F4A7-3C5C-4C7D-BDDC-359630278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631-6985-474B-9F04-C74264EA953E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Шер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дежда Сергеевн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тская писатель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р очерка «Картины-сказ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иктор Михайлович Васнецов 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художник-живописец и архитектор, мастер исторической и фольклорной жив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84080" y="1268280"/>
            <a:ext cx="417672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5472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факты из жизни великого художника сообщила нам автор очер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75640" y="7138800"/>
            <a:ext cx="4032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6680" y="691920"/>
            <a:ext cx="5583240" cy="55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40000"/>
            <a:ext cx="256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Третьяковская галерея построена по проектам и эскизам Васнецова. Значит, Васнецов увлекался ещё и… 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-архитек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106800" y="404640"/>
            <a:ext cx="5715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4864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помните названия картин, которые вошли 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Поэму семи сказо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4544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«Спящая царев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«Баба-яг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«Царевна-лягуш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«Царевна Несмея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«Кощей Бессмертный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«Сивка-Бур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«Ковёр-самолё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спящ"/>
          <p:cNvPicPr/>
          <p:nvPr/>
        </p:nvPicPr>
        <p:blipFill>
          <a:blip r:embed="rId1"/>
          <a:stretch/>
        </p:blipFill>
        <p:spPr>
          <a:xfrm>
            <a:off x="179280" y="84240"/>
            <a:ext cx="8785440" cy="66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яга"/>
          <p:cNvPicPr/>
          <p:nvPr/>
        </p:nvPicPr>
        <p:blipFill>
          <a:blip r:embed="rId1"/>
          <a:stretch/>
        </p:blipFill>
        <p:spPr>
          <a:xfrm>
            <a:off x="1476360" y="404640"/>
            <a:ext cx="741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лягуш"/>
          <p:cNvPicPr/>
          <p:nvPr/>
        </p:nvPicPr>
        <p:blipFill>
          <a:blip r:embed="rId1"/>
          <a:stretch/>
        </p:blipFill>
        <p:spPr>
          <a:xfrm>
            <a:off x="1547640" y="549360"/>
            <a:ext cx="7201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несмеяна"/>
          <p:cNvPicPr/>
          <p:nvPr/>
        </p:nvPicPr>
        <p:blipFill>
          <a:blip r:embed="rId1"/>
          <a:stretch/>
        </p:blipFill>
        <p:spPr>
          <a:xfrm>
            <a:off x="2890800" y="333360"/>
            <a:ext cx="4633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несм"/>
          <p:cNvPicPr/>
          <p:nvPr/>
        </p:nvPicPr>
        <p:blipFill>
          <a:blip r:embed="rId1"/>
          <a:stretch/>
        </p:blipFill>
        <p:spPr>
          <a:xfrm>
            <a:off x="2916360" y="404640"/>
            <a:ext cx="468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27000" y="1905120"/>
            <a:ext cx="306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88000" y="1267920"/>
            <a:ext cx="38988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ая писательница, переводч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27000" y="1700280"/>
            <a:ext cx="310356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43320" y="3271680"/>
            <a:ext cx="2376720" cy="316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732720" y="3271680"/>
            <a:ext cx="22748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щей"/>
          <p:cNvPicPr/>
          <p:nvPr/>
        </p:nvPicPr>
        <p:blipFill>
          <a:blip r:embed="rId1"/>
          <a:stretch/>
        </p:blipFill>
        <p:spPr>
          <a:xfrm>
            <a:off x="250920" y="38160"/>
            <a:ext cx="87138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сивка"/>
          <p:cNvPicPr/>
          <p:nvPr/>
        </p:nvPicPr>
        <p:blipFill>
          <a:blip r:embed="rId1"/>
          <a:stretch/>
        </p:blipFill>
        <p:spPr>
          <a:xfrm>
            <a:off x="2987640" y="260280"/>
            <a:ext cx="460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овер-2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овер-3"/>
          <p:cNvPicPr/>
          <p:nvPr/>
        </p:nvPicPr>
        <p:blipFill>
          <a:blip r:embed="rId1"/>
          <a:stretch/>
        </p:blipFill>
        <p:spPr>
          <a:xfrm>
            <a:off x="2762280" y="260280"/>
            <a:ext cx="4484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йдите в тексте очерка отве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0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написал портрет худож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0" r="0" b="6750"/>
          <a:stretch/>
        </p:blipFill>
        <p:spPr>
          <a:xfrm>
            <a:off x="539640" y="620640"/>
            <a:ext cx="8136000" cy="568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йдите в тексте очерка отве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то написал портрет худож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жил художник Виктор Михайлович Васнец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художники и писатели бывали в доме у Васнец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овите имя любимого сказочного героя В.М.Васнец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64148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дл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М.В. Васнецова значит слово «Родина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76360" y="581040"/>
            <a:ext cx="734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только Русью и жил»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слова художника характеризуют смысл и значение его творчества. Имя Виктора Михайловича Васнецова — одно из самых известных и любимых среди имен русских художников. Его твopчeское наследие интересно и многогранно. Талант живописца проявился во всех областях изобразительного искусства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280" y="190440"/>
            <a:ext cx="7596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иктор Михайлович Васнецов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848-1926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ms"/>
          <p:cNvPicPr/>
          <p:nvPr/>
        </p:nvPicPr>
        <p:blipFill>
          <a:blip r:embed="rId1"/>
          <a:stretch/>
        </p:blipFill>
        <p:spPr>
          <a:xfrm>
            <a:off x="3419640" y="1700280"/>
            <a:ext cx="3773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476360" y="981360"/>
            <a:ext cx="705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Михайлович Васнецов - один из самых знаменитых русских художников XIX века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называли "истинным богатырем русской живописи". Он первым среди живописцев обратился к былинно-сказочным сюжетам. Но именно этот Васнецов - автор "Алёнушки", "Богатырей", "Ивана-Царевича на Сером Волке",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259920"/>
            <a:ext cx="68644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90512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Современники отзывались о Васнецове так: “Гордиться должна Русь таким художником, как Виктор Михайлович”, “наше ясное солнышко –      В. М. Васнецов. В нём бьётся особая струнка” - так характеризовал художника И. Н. Крам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Много лет прошло с тех пор, как ушёл из жизни художник, а картины его продолжают жить – ведь в каждой из них В. М. Васнецов оставил своё изумительное мастерство, кусочек своей души, свою великую любовь к искусству и к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- Благодаря кому мы так много узнали о художнике Васнец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- Как относится Н. С. Шер к герою очер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1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1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тературное  чтение – с.133 – 140 читать, вопрос 1( уст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Шер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дежда Сергеевн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985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 автора очер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 автора очер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не имеет право делать очеркис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280" y="692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аком художн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казывае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. С. Шер в оч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050920" y="3428640"/>
            <a:ext cx="63993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ртины-сказк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19:01Z</dcterms:created>
  <dc:creator>Пользователь</dc:creator>
  <dc:description/>
  <dc:language>en-US</dc:language>
  <cp:lastModifiedBy>Admin</cp:lastModifiedBy>
  <dcterms:modified xsi:type="dcterms:W3CDTF">2020-08-29T13:25:00Z</dcterms:modified>
  <cp:revision>13</cp:revision>
  <dc:subject/>
  <dc:title>Надежда Сергевна</dc:title>
</cp:coreProperties>
</file>