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.jpeg" ContentType="image/jpeg"/>
  <Override PartName="/ppt/media/image25.png" ContentType="image/png"/>
  <Override PartName="/ppt/media/image2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DB72-D287-4730-94F6-53F41935D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6832-8952-47B7-9C5C-6DF91E1F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67660-E309-485C-A7A1-3B1D9CED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345DF-AE89-4745-ABB5-B2D8FC3A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D5FED-3A26-4E50-B827-A95B1D30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0D0D2-0696-4CDF-BE17-C4686F33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64E4A-D9F5-4E01-9590-E9A62F37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87B22-0324-4C67-AED4-F281F025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5D9C3-98AA-4CF8-900F-3E5261F7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A77F9-66B8-4152-9DAD-366BE93ED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A5F5A-0C33-4421-8BD1-4074DEDB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6FB05-556D-4CC7-BA6B-50EA7A8B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63AD-0FCB-4C72-A446-08F62017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47A11-3BB4-41CA-993D-5EF2F876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2CF16-5906-4EAC-A020-961A23A7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0B4D0-DC35-4630-8B48-E4EB82A8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CD824F-3AF1-4570-BA24-4674DAA2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37BF8-64E1-4486-B997-96BEDAAF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42E76-E718-40E8-BFAE-3571FFF5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5A2B5-36BF-4CBD-B39C-1C6AE592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7A354-628A-44A5-8AE7-9DBEE065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35A51-839E-4AC3-835E-A4848732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D71B9-3416-4E21-A2FD-AAB8839A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8B98-B333-4F95-93DD-72C251C0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A7763-03B1-493E-8002-9A7E6D52C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FE8D2-41CF-4C62-AFF3-2DD45B73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7BAEA-57E0-497E-8420-B76ECE39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6439B-6631-4ADA-850C-F0A3A473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7F044-E20E-479F-A14E-D6BDD3A7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6928C-5939-450C-B5B1-F27C6170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B914D-4F54-4F8C-8A1F-657C77A9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5F84F-05E3-4858-BC83-9C1918DB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EAD1D-5C2D-47D3-8781-E09BFC66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CDBCD-79DC-4620-9621-FDAC9628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03AA-AE87-4E5D-BF95-B91F1BF0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D2B1C-0213-4B60-A1DF-86342662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46BF8-2884-450D-9C2A-037331A03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20497-C813-4FD3-B9B1-D97F57E41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F37FC-0EA6-4C12-8094-F9306694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6ACCE-0976-437B-A358-57742A14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495FE1-2563-4DAD-8F60-C43FE5EF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0AF98-CCC6-4ED3-9210-4AEBEDFC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3E3E41-28C3-4932-B6AE-C39879A6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354C76-DFD0-4056-A58C-D66DE869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F426E-7DE6-41DB-9DC0-4810D3EC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4C62-3A70-4D80-BBB7-7542BC8A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A08C6-009E-4FF1-9B29-C0A4111D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8E399-C5EE-4EBF-936B-B3133F9D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E690E0-41F6-411F-B67B-4EEB8889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6B8EF-9AAD-4939-B22C-6B6E9DE2B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83A96-F919-4DAA-8579-190FDD9A6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009768-FF6F-46BF-9C01-DE5CB797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C73284-3F36-4FFA-A4DC-3FF96AC7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6E9EBC-EBC3-4E8A-9501-390A12B6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FCA3C3-D76E-45CC-AB5A-38822E33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7DAC44-D089-4321-B5C4-9ED93950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3F4A-D3C8-46E9-9367-E990EEF7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303D77-DAC9-4D64-917C-D0F16055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585B61-5FD8-414F-9552-CA5BD333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689E7B-AD75-4D41-A057-02AF9511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E4E7F1-26B2-4B24-8A94-F2BC1266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C468B9-31E9-407B-A242-B0D4170B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E80424-1822-43DF-991B-5AAAD300B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BB6745-46AF-4CC4-963F-994C5B2A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112D82-4953-41EA-9A0E-6F9E4499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1049EF-B8A2-43A0-99E7-88519DAB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A500F9-B9CB-48F9-A71B-44F6E76B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D2BF-0479-4202-A7B3-BB4B9A33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C104CB-2DF4-49C0-9F93-8095441C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24F371-1375-4C6D-8B7F-62863D69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AA6FE8-A881-4BAF-B566-8D7236DB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CAB4C0-D45A-4D14-85A5-D57DB260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111559-2BD2-482E-B777-E62F52D5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51C0E9-1B2A-404A-8E73-B843AA01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673273-AE59-4483-BD06-CC79EF28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60D0EB-DF6E-4B31-9D00-1711EDFA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E6E0AF-9435-40AB-84D4-24A1EB31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9451DB-B043-4889-857E-36BDC4D15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E896-5F4A-40B9-B234-E347A8B8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8B27A2-48F4-411A-AE30-1AA7A7E1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9BF25A-3DB3-442F-A000-1C9672AF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CE69B9-B79D-42A3-9837-10D61D0D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FD4FBF-1AE3-4C0B-9AF7-D953AE74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C30E4A-DA79-45F0-909A-CBE5A90A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A900FD-93AF-435D-AAB6-AF9F8F9C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82A545-44FD-4C9C-A3F3-D42EC304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35344B-1EDF-4972-94CD-B3A0B85B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F1CB4F-9379-4061-8D48-86AB7117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D53ADD-66EE-4012-B0B7-8544327A6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7308-7C3F-4B2E-A668-D137E527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48CC13-DF52-4871-AE5D-09060A526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6F10E3-B0A0-4A01-8C7C-1AEC1377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E4DC0D-FF56-432D-BE50-768924D3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9BD9A7-0764-4E18-A146-07519878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3C339C-4E38-4C95-9F64-AD668E39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64587F-0E93-4916-9424-996A88D5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0C5EDF-EBB5-4EED-9703-42C39DD5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09595C-F92B-4C34-9DF1-C937F834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0C58DA-646F-41E1-B85A-8D1F69BE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2D04BA-364A-44DC-AF57-8E94B3A2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5872-79DC-4022-BD2F-D5EFD6CB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64BE30-06FE-435E-AD03-5A028536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4A79EC-25AF-4791-B1A3-C1BF22EB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336C12-F5C0-4CED-B739-EF7566A3A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765F92-2007-4D51-860E-880072F93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E58AED-B1BC-4ECA-B455-07A2C7F9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FA9AC3-03C4-46DF-A124-C0FEEFEE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4FA93C-11D1-4522-9156-A86CCFCB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018776-C1CD-49C3-BDEF-EBF28A4D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5E454D-FEF0-4745-BC76-E5DC0D83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24493C-51BF-433A-B741-3CB78F3A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E027-52B7-4C65-A15D-B0F4A3C7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A312-5DB4-46C4-BBC6-B29BB70C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17241E-C0D9-4A9C-8919-99BA219A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3471D6-7ED9-4B1A-A4F0-D7E798C1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E4A384-5D27-4816-AD89-0C31F52D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4F2CF7-0194-4E9B-9C05-7CD95DB49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CEA9EA-81B7-4AC1-9C23-FE8D17986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5223E57-B2E4-45CC-B31C-C69B0FDFD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7DF333C-41D2-4A86-8B4E-4D387353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9005699-774A-4274-9F0A-2C68D269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B4BC3C4-BA3A-43E9-BF5A-79E3DF54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49983CF-9AE8-4818-8EA6-44C5C6FA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597D-E67A-42BE-B5D7-59EAA097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28A1C7A-CCBB-4CA3-92D2-64066323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A1E3739-4ABB-4CE3-ACC0-F2F7BE50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033BD0D-A087-4E26-8D8E-BD673B5D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74B15BB-9AF1-466B-8599-82B072AB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D5959B2-C656-41F3-B5CB-6F1CAEA4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890EAB2-4E91-42AB-9909-BB8D0E25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84EE4A7-02A7-443C-9D94-4091C859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19C02E-BB40-4FE9-9A0B-9E0654AE3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222D7C-4087-43B2-9967-34C47403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233814-DE55-46C3-8DB7-F81584DE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2B6D-8148-4B62-9272-9A24A6C5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15082E-802A-4590-AD9A-D14D52FA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61A750-CD54-4227-BB34-64943037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E01D2A-330E-4961-9F94-5AB9850D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BBF78F-472E-4688-8611-3A8C338E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1B3FF8-4C06-4DFD-A331-E3C83BD0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15F9DF-93A0-4509-A9A5-CFBF7E17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7BFF3A-CBA3-45D9-A93D-66976DC6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28281A-DFC2-4D3A-BFB5-873BEB891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BBC384-50AB-4CBE-BAFC-D5FC6E03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B54630-E009-44F8-845B-E94CB55C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699A-E1A3-4424-A275-EC2A09C7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12726F-EF2B-4A67-8791-D5987734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987488-98F8-428A-9D14-8CF3C252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9762B4-285B-4F72-AF08-39B3E245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5566F0-587D-4713-BA18-D92343F8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505503-2201-47D3-A403-AB6F37C1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087F6D-AF4A-44EB-A675-9E8D4CE9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A2FF6C-5EA9-4F85-A19A-8F3BFC6C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644009-B2CE-446F-B372-A9F1D174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7E1458-E85F-4002-A955-C2050AEE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79FBB1-C8C9-484F-BBE2-97147372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B482-C24C-42C0-88C0-57F64C62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B6E529-A037-4B58-AF31-3AE489566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1AB6DF-9818-4B35-8A84-3FF599B91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CEA6F1-EF8D-40CE-AF81-4349BE01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F3BAD7-3BC7-49E5-9BF1-1F580908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E2DC93-9346-4630-A6FE-C3F79098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D09E36-47EB-44D4-9351-11F07967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0AFE42-017A-4967-8175-80304E19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804707-CEE8-4DA6-AF80-0D2FF11F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02937C-7FB4-4AF5-A7E9-740F40DA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89F2D5-CE96-4EE6-9FB5-C9854EFF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755A9-B536-4A91-A782-1D678504E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6EE6EF-2706-4BE1-AB7A-20F65B57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093156-012C-4671-8CD4-E3E4A39A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E6D29D-107F-4FD0-B7DA-3EA7B4EC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8E5C2C-C199-42D6-88E0-156128D5D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82594A-F9E0-4E64-909D-90F89B5B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861179-2A5D-4195-B369-DEA478D0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13421C-252F-4213-9906-88FC8068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A647B6-EA85-4F98-96A4-48287EF8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943759-BB0E-49F1-8BCE-1F989241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2D6C88-FD3E-48AB-83D5-DC362402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69987-F766-4681-BA15-410EB1AC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ABD04A-AE52-4224-B695-87561CC3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3A155A-3276-479D-893C-313DEF22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2AE6DC-3BB8-4C31-BD0E-42274EB6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C9D4CE-D724-4245-A37A-193E12F05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6FE58A-6938-4E88-B73A-E5160170A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61429-1991-4A57-94CB-68980413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16B31-ABA7-45BF-A6C9-9164753E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D1615-D335-48DD-BA3C-6E8F01AB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40BB-D301-4F79-ABE8-D0D37AA1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D7228-0DFD-4F19-9470-9C869597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A83EF-3797-430C-83B5-6A3E1F81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C389E-48B3-41E7-AB70-17CE93AD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A5BB9-FBB4-4329-A8D3-232F759E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AE57B-B1D4-4B21-9971-79D0F448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9BBA3-6ADA-4B3F-A74B-5EADF8861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6D1C6-F1BB-489B-8971-B7E6B31D4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F6C24-F063-444A-9952-FDEF4F400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E4656-6E7F-4DB1-B12D-C909F22A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F6DE7-64DE-406F-9BF8-D7E17536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F6B2-4480-4A6B-9D0C-4EE91288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1E755-F3D8-4DB8-9666-AEBD0EB7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F3979-2CCB-4FE2-AAE3-EE3666D1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26812-216E-4845-BA52-88CC1B54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D7F2C-3FC7-4C43-9852-8B5C68AB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90D04-CF72-4754-8B88-BC74A405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F191A-ADF3-49C3-9027-861FD890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3AF8E-224C-4EC9-A724-677BDAC6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D6B4E-BC91-41A2-9856-DA72C82F4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538CB-3747-4F42-9D8B-249425E47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D1D68-CFB0-4515-B217-0C5D80ED7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DE23-F072-4FFD-92C4-BC5B35F3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CC3DE-33E8-491C-A6EF-156606D8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2CD63-CD0D-4203-AA18-6D1EB822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939A1-5DD7-4DB1-A7AF-DAC9688F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078F7-65CB-473D-A787-30E798A1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AD2C5-4136-49D3-BC35-B4BAB0F1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E16B3-12D2-4FCF-B346-EE12705F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F39B9-CB4C-4314-8764-91B7B809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DFBD9-5CC9-4557-AC6B-616E4FE6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AF02A-D41C-4016-A8F1-D65C081D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4C380-444D-4273-BC52-321CEB415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CE64-6562-4098-B1FF-FE87B7CE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06947-B480-4ADF-B050-2C27A927E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7DA3F-9BA9-4F85-A4F4-6D5F2F71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C4F75-26FB-4981-8CD0-DF4A533F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596E7-191C-42E9-BEDC-31F46E87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9AB09-2418-4316-9014-A62A7702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F0DDA-5802-48F5-BB98-7ECD1AEB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FA4FE-45FF-4CDC-86B7-D9F70ECA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54EAF-DB55-456F-B04F-A12CA8A0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CF8A7-D151-48F3-BD02-2F9519D5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4C668-9D04-40C9-B6B7-AA9F4F64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9C91-8324-445D-B7DE-60B859B6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10AB0-AE09-4FB2-9A01-0D84A40C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A634F-5D68-4B2D-81F9-1570E7E1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AB668-4949-4572-9C80-184FFE1E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4FD81-CE00-474F-8A7F-11DE568B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1F2C3-D513-4F65-972B-CF6209B8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AD543-94F5-41A2-BB13-B5D02CD3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D34E5-CAE5-4B83-A355-EA4786BE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7A6CC-5BB0-4308-B736-1F94428D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2106E-5BAC-42E7-AC05-1596CB9E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15807-4444-488B-BFAD-6B38F4EB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1B03-EBED-4E74-B0BF-BD866945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96844-1A56-41EA-A9D6-1C785AEB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DF382-305F-4D8C-8089-C30EF1C1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2FCC0-7729-414D-8947-F5823E69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A964F-F2B3-45BF-A5BC-525A1DF8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31419-9B1B-4F68-A2DF-8971453CD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82BA5-A010-4A7D-9FE3-C35431AE6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E21D7-9A05-4867-92D7-4056F691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C9CA0-BFA0-4D00-AB36-3FED7209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655FA-2C75-4444-93EF-95CBCFE7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0CC09-5218-412E-B003-56CC4016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B577-4350-436F-B3A6-B5511860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184DB-F397-4353-ABC0-EADB9682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6F577-5537-4ADA-A60D-59D22AEE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381B5-75AF-4B5E-8392-9F16B4B8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232EE-AE18-4A54-BEB1-846DDBF8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C8BE3-093C-4E1E-BAC8-4DCF4745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65287-4C74-46EC-A224-73E129210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7F090-3DB6-45CB-9740-30B7ED9B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8C551-740F-48C4-A33E-1AF05B8B6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646AE-074A-40B6-90C0-344C2541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40C27-8ED3-4AB2-8937-CB57EB2F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41.xml"/><Relationship Id="rId10" Type="http://schemas.openxmlformats.org/officeDocument/2006/relationships/slideLayout" Target="../slideLayouts/slideLayout242.xml"/><Relationship Id="rId11" Type="http://schemas.openxmlformats.org/officeDocument/2006/relationships/slideLayout" Target="../slideLayouts/slideLayout243.xml"/><Relationship Id="rId12" Type="http://schemas.openxmlformats.org/officeDocument/2006/relationships/slideLayout" Target="../slideLayouts/slideLayout244.xml"/><Relationship Id="rId13" Type="http://schemas.openxmlformats.org/officeDocument/2006/relationships/slideLayout" Target="../slideLayouts/slideLayout245.xml"/><Relationship Id="rId14" Type="http://schemas.openxmlformats.org/officeDocument/2006/relationships/slideLayout" Target="../slideLayouts/slideLayout246.xml"/><Relationship Id="rId15" Type="http://schemas.openxmlformats.org/officeDocument/2006/relationships/slideLayout" Target="../slideLayouts/slideLayout247.xml"/><Relationship Id="rId16" Type="http://schemas.openxmlformats.org/officeDocument/2006/relationships/slideLayout" Target="../slideLayouts/slideLayout248.xml"/><Relationship Id="rId17" Type="http://schemas.openxmlformats.org/officeDocument/2006/relationships/slideLayout" Target="../slideLayouts/slideLayout249.xml"/><Relationship Id="rId18" Type="http://schemas.openxmlformats.org/officeDocument/2006/relationships/slideLayout" Target="../slideLayouts/slideLayout250.xml"/><Relationship Id="rId19" Type="http://schemas.openxmlformats.org/officeDocument/2006/relationships/slideLayout" Target="../slideLayouts/slideLayout251.xml"/><Relationship Id="rId20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3.xml"/><Relationship Id="rId7" Type="http://schemas.openxmlformats.org/officeDocument/2006/relationships/slideLayout" Target="../slideLayouts/slideLayout254.xml"/><Relationship Id="rId8" Type="http://schemas.openxmlformats.org/officeDocument/2006/relationships/slideLayout" Target="../slideLayouts/slideLayout255.xml"/><Relationship Id="rId9" Type="http://schemas.openxmlformats.org/officeDocument/2006/relationships/slideLayout" Target="../slideLayouts/slideLayout256.xml"/><Relationship Id="rId10" Type="http://schemas.openxmlformats.org/officeDocument/2006/relationships/slideLayout" Target="../slideLayouts/slideLayout257.xml"/><Relationship Id="rId11" Type="http://schemas.openxmlformats.org/officeDocument/2006/relationships/slideLayout" Target="../slideLayouts/slideLayout258.xml"/><Relationship Id="rId12" Type="http://schemas.openxmlformats.org/officeDocument/2006/relationships/slideLayout" Target="../slideLayouts/slideLayout259.xml"/><Relationship Id="rId13" Type="http://schemas.openxmlformats.org/officeDocument/2006/relationships/slideLayout" Target="../slideLayouts/slideLayout260.xml"/><Relationship Id="rId14" Type="http://schemas.openxmlformats.org/officeDocument/2006/relationships/slideLayout" Target="../slideLayouts/slideLayout261.xml"/><Relationship Id="rId15" Type="http://schemas.openxmlformats.org/officeDocument/2006/relationships/slideLayout" Target="../slideLayouts/slideLayout262.xml"/><Relationship Id="rId16" Type="http://schemas.openxmlformats.org/officeDocument/2006/relationships/slideLayout" Target="../slideLayouts/slideLayout263.xml"/><Relationship Id="rId17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1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7BFA-EE1E-4982-8468-2ABF007A147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CD3E-6DBB-4C43-9CF4-9439DB5044C9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F335-0221-422E-ACDB-647353187875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DABC-148F-4BA7-AC4E-6D86A0B59B78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1C24-372A-4A28-9601-28D48254280A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44F9-FD68-41BD-B15A-EB9326E1BBA1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5814-E66C-49F7-B828-CD84E023457F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26A4-4BA2-4F33-ADAF-2173BADDC5D9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fa"/>
            </a:gs>
            <a:gs pos="100000">
              <a:srgbClr val="6c8c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709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710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711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4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715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8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719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2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5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07e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d13b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7fd13b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7fd13b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fd13b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7fd13b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7fd13b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49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0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1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d13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D4CA-F736-4C71-81FC-7C80CEBE9CB4}" type="slidenum">
              <a:rPr b="0" lang="ru-RU" sz="1200" spc="-1" strike="noStrike">
                <a:solidFill>
                  <a:srgbClr val="7fd13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fa"/>
            </a:gs>
            <a:gs pos="100000">
              <a:srgbClr val="6c8c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793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794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795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8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799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2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803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6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9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07e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d13b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7fd13b"/>
              </a:solidFill>
              <a:latin typeface="Century Gothic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7fd13b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fd13b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7fd13b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7fd13b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2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sldNum" idx="5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D9B4-F749-4572-A525-A45D7D720774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ftr" idx="54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fa"/>
            </a:gs>
            <a:gs pos="100000">
              <a:srgbClr val="6c8c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77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78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79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2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883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6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887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3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07e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272e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d13b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7fd13b"/>
              </a:solidFill>
              <a:latin typeface="Century Gothic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7fd13b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fd13b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7fd13b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7fd13b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55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56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57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7039-8D95-46F1-9D71-D923D297CDF0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88BB-3653-4BA9-A422-C282E94C1151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961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2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964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5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7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968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 type="dt" idx="58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 type="ftr" idx="59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 type="sldNum" idx="60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ECFD-5A50-4C09-B77C-3C8492B39ED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1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1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01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022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025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029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 type="dt" idx="6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 type="ftr" idx="6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 type="sldNum" idx="6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33CC-D6AD-45FA-A542-68704CB7507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9"/>
    <p:sldLayoutId id="2147483910" r:id="rId10"/>
    <p:sldLayoutId id="2147483911" r:id="rId11"/>
    <p:sldLayoutId id="2147483912" r:id="rId12"/>
    <p:sldLayoutId id="2147483913" r:id="rId13"/>
    <p:sldLayoutId id="2147483914" r:id="rId14"/>
    <p:sldLayoutId id="2147483915" r:id="rId15"/>
    <p:sldLayoutId id="2147483916" r:id="rId16"/>
    <p:sldLayoutId id="2147483917" r:id="rId17"/>
    <p:sldLayoutId id="2147483918" r:id="rId18"/>
    <p:sldLayoutId id="2147483919" r:id="rId19"/>
    <p:sldLayoutId id="2147483920" r:id="rId20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2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073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5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076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080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 type="dt" idx="6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 type="ftr" idx="6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 type="sldNum" idx="6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E7E5-F1E3-462D-901C-7ACA13713EC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6"/>
    <p:sldLayoutId id="2147483923" r:id="rId7"/>
    <p:sldLayoutId id="2147483924" r:id="rId8"/>
    <p:sldLayoutId id="2147483925" r:id="rId9"/>
    <p:sldLayoutId id="2147483926" r:id="rId10"/>
    <p:sldLayoutId id="2147483927" r:id="rId11"/>
    <p:sldLayoutId id="2147483928" r:id="rId12"/>
    <p:sldLayoutId id="2147483929" r:id="rId13"/>
    <p:sldLayoutId id="2147483930" r:id="rId14"/>
    <p:sldLayoutId id="2147483931" r:id="rId15"/>
    <p:sldLayoutId id="2147483932" r:id="rId16"/>
    <p:sldLayoutId id="214748393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fa"/>
            </a:gs>
            <a:gs pos="100000">
              <a:srgbClr val="6c8c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83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84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85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89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93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007e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d13b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7fd13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7fd13b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fd13b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7fd13b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7fd13b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D446-C8A4-4BE8-9F69-C7AA3BA79266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66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69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3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24D5-2C5C-402D-888C-9F2AE1A8C9F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1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2F16-2E6C-4FE5-8869-169BF4A8B10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7EE9-B358-486B-9834-BEAA36923B03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84E7-84E0-4074-846E-4EAD163BDFAA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6FC9-0E46-48D3-A30C-075060D143EA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4E78-EA6B-4AC1-B8A1-493F2029B756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2"/>
          <p:cNvSpPr/>
          <p:nvPr/>
        </p:nvSpPr>
        <p:spPr>
          <a:xfrm>
            <a:off x="468360" y="1268280"/>
            <a:ext cx="777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рак С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4" name="Picture 3" descr="j0301252"/>
          <p:cNvPicPr/>
          <p:nvPr/>
        </p:nvPicPr>
        <p:blipFill>
          <a:blip r:embed="rId1"/>
          <a:stretch/>
        </p:blipFill>
        <p:spPr>
          <a:xfrm>
            <a:off x="6588000" y="193680"/>
            <a:ext cx="2305080" cy="1971720"/>
          </a:xfrm>
          <a:prstGeom prst="rect">
            <a:avLst/>
          </a:prstGeom>
          <a:ln w="0">
            <a:noFill/>
          </a:ln>
        </p:spPr>
      </p:pic>
      <p:sp>
        <p:nvSpPr>
          <p:cNvPr id="1125" name="Прямоугольник 3"/>
          <p:cNvSpPr/>
          <p:nvPr/>
        </p:nvSpPr>
        <p:spPr>
          <a:xfrm>
            <a:off x="1763640" y="2637000"/>
            <a:ext cx="51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словосочета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8600" indent="0"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сочетания слов не являются словосочетаниями?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ша собачонка меня встречала с лае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456840" y="3213000"/>
            <a:ext cx="821844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бачонка встречал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а предложения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Rectangle 2" descr=""/>
          <p:cNvPicPr/>
          <p:nvPr/>
        </p:nvPicPr>
        <p:blipFill>
          <a:blip r:embed="rId1"/>
          <a:stretch/>
        </p:blipFill>
        <p:spPr>
          <a:xfrm>
            <a:off x="1189080" y="304920"/>
            <a:ext cx="6522840" cy="1761840"/>
          </a:xfrm>
          <a:prstGeom prst="rect">
            <a:avLst/>
          </a:prstGeom>
          <a:ln w="0">
            <a:noFill/>
          </a:ln>
        </p:spPr>
      </p:pic>
      <p:sp>
        <p:nvSpPr>
          <p:cNvPr id="1146" name="AutoShape 3"/>
          <p:cNvSpPr/>
          <p:nvPr/>
        </p:nvSpPr>
        <p:spPr>
          <a:xfrm rot="10800000">
            <a:off x="18720" y="3357720"/>
            <a:ext cx="3058920" cy="3024000"/>
          </a:xfrm>
          <a:prstGeom prst="wedgeRoundRectCallout">
            <a:avLst>
              <a:gd name="adj1" fmla="val -70606"/>
              <a:gd name="adj2" fmla="val 108791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Соглас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ависимое слово отвечает на вопросы Какой? Ч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AutoShape 4"/>
          <p:cNvSpPr/>
          <p:nvPr/>
        </p:nvSpPr>
        <p:spPr>
          <a:xfrm rot="10800000">
            <a:off x="3348000" y="2870280"/>
            <a:ext cx="2519280" cy="3573360"/>
          </a:xfrm>
          <a:prstGeom prst="wedgeRoundRectCallout">
            <a:avLst>
              <a:gd name="adj1" fmla="val -1986"/>
              <a:gd name="adj2" fmla="val 95000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Упр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ависимое слово отвечает на вопросы косвенных падеж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AutoShape 5"/>
          <p:cNvSpPr/>
          <p:nvPr/>
        </p:nvSpPr>
        <p:spPr>
          <a:xfrm rot="10800000">
            <a:off x="6012000" y="3141720"/>
            <a:ext cx="2916000" cy="3456000"/>
          </a:xfrm>
          <a:prstGeom prst="wedgeRoundRectCallout">
            <a:avLst>
              <a:gd name="adj1" fmla="val 44879"/>
              <a:gd name="adj2" fmla="val 95199"/>
              <a:gd name="adj3" fmla="val 1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римык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ависимое слово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еизменяемая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часть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680"/>
                            </p:stCondLst>
                            <p:childTnLst>
                              <p:par>
                                <p:cTn id="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618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6680"/>
                            </p:stCondLst>
                            <p:childTnLst>
                              <p:par>
                                <p:cTn id="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718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1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2803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3" name="Picture 4" descr=""/>
          <p:cNvPicPr/>
          <p:nvPr/>
        </p:nvPicPr>
        <p:blipFill>
          <a:blip r:embed="rId1"/>
          <a:stretch/>
        </p:blipFill>
        <p:spPr>
          <a:xfrm>
            <a:off x="468360" y="297000"/>
            <a:ext cx="8423280" cy="3384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54" name="Прямоугольник 1"/>
          <p:cNvSpPr/>
          <p:nvPr/>
        </p:nvSpPr>
        <p:spPr>
          <a:xfrm>
            <a:off x="2484360" y="2449440"/>
            <a:ext cx="419040" cy="130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Прямоугольник 2"/>
          <p:cNvSpPr/>
          <p:nvPr/>
        </p:nvSpPr>
        <p:spPr>
          <a:xfrm>
            <a:off x="5432400" y="2349360"/>
            <a:ext cx="457200" cy="200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Прямоугольник 3"/>
          <p:cNvSpPr/>
          <p:nvPr/>
        </p:nvSpPr>
        <p:spPr>
          <a:xfrm>
            <a:off x="1019160" y="2562120"/>
            <a:ext cx="431640" cy="19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Прямоугольник 4"/>
          <p:cNvSpPr/>
          <p:nvPr/>
        </p:nvSpPr>
        <p:spPr>
          <a:xfrm>
            <a:off x="3135240" y="2760840"/>
            <a:ext cx="149400" cy="12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Прямоугольник 5"/>
          <p:cNvSpPr/>
          <p:nvPr/>
        </p:nvSpPr>
        <p:spPr>
          <a:xfrm>
            <a:off x="5521320" y="2760840"/>
            <a:ext cx="142920" cy="19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Прямоугольник 6"/>
          <p:cNvSpPr/>
          <p:nvPr/>
        </p:nvSpPr>
        <p:spPr>
          <a:xfrm>
            <a:off x="1763640" y="3022560"/>
            <a:ext cx="162000" cy="119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Прямоугольник 7"/>
          <p:cNvSpPr/>
          <p:nvPr/>
        </p:nvSpPr>
        <p:spPr>
          <a:xfrm>
            <a:off x="3471840" y="3019320"/>
            <a:ext cx="133200" cy="236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Прямоугольник 8"/>
          <p:cNvSpPr/>
          <p:nvPr/>
        </p:nvSpPr>
        <p:spPr>
          <a:xfrm>
            <a:off x="5261040" y="3022560"/>
            <a:ext cx="117360" cy="236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Прямоугольник 9"/>
          <p:cNvSpPr/>
          <p:nvPr/>
        </p:nvSpPr>
        <p:spPr>
          <a:xfrm>
            <a:off x="7559640" y="2954160"/>
            <a:ext cx="108000" cy="19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Прямоугольник 10"/>
          <p:cNvSpPr/>
          <p:nvPr/>
        </p:nvSpPr>
        <p:spPr>
          <a:xfrm>
            <a:off x="2932200" y="3286080"/>
            <a:ext cx="555480" cy="9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" descr=""/>
          <p:cNvPicPr/>
          <p:nvPr/>
        </p:nvPicPr>
        <p:blipFill>
          <a:blip r:embed="rId2"/>
          <a:stretch/>
        </p:blipFill>
        <p:spPr>
          <a:xfrm>
            <a:off x="468360" y="3681000"/>
            <a:ext cx="842328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6" name="Picture 2" descr=""/>
          <p:cNvPicPr/>
          <p:nvPr/>
        </p:nvPicPr>
        <p:blipFill>
          <a:blip r:embed="rId1"/>
          <a:stretch/>
        </p:blipFill>
        <p:spPr>
          <a:xfrm>
            <a:off x="546120" y="4311720"/>
            <a:ext cx="8280360" cy="2305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67" name="Picture 4" descr=""/>
          <p:cNvPicPr/>
          <p:nvPr/>
        </p:nvPicPr>
        <p:blipFill>
          <a:blip r:embed="rId2"/>
          <a:stretch/>
        </p:blipFill>
        <p:spPr>
          <a:xfrm>
            <a:off x="546120" y="282600"/>
            <a:ext cx="8280360" cy="3384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68" name="Прямоугольник 1"/>
          <p:cNvSpPr/>
          <p:nvPr/>
        </p:nvSpPr>
        <p:spPr>
          <a:xfrm>
            <a:off x="2484360" y="2349360"/>
            <a:ext cx="419040" cy="230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Прямоугольник 2"/>
          <p:cNvSpPr/>
          <p:nvPr/>
        </p:nvSpPr>
        <p:spPr>
          <a:xfrm>
            <a:off x="5432400" y="2349360"/>
            <a:ext cx="457200" cy="200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Прямоугольник 3"/>
          <p:cNvSpPr/>
          <p:nvPr/>
        </p:nvSpPr>
        <p:spPr>
          <a:xfrm>
            <a:off x="1019160" y="2562120"/>
            <a:ext cx="431640" cy="19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Прямоугольник 4"/>
          <p:cNvSpPr/>
          <p:nvPr/>
        </p:nvSpPr>
        <p:spPr>
          <a:xfrm>
            <a:off x="3135240" y="2687760"/>
            <a:ext cx="149400" cy="199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Прямоугольник 5"/>
          <p:cNvSpPr/>
          <p:nvPr/>
        </p:nvSpPr>
        <p:spPr>
          <a:xfrm>
            <a:off x="5432400" y="2760840"/>
            <a:ext cx="114480" cy="19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Прямоугольник 6"/>
          <p:cNvSpPr/>
          <p:nvPr/>
        </p:nvSpPr>
        <p:spPr>
          <a:xfrm>
            <a:off x="1763640" y="3022560"/>
            <a:ext cx="162000" cy="119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Прямоугольник 7"/>
          <p:cNvSpPr/>
          <p:nvPr/>
        </p:nvSpPr>
        <p:spPr>
          <a:xfrm>
            <a:off x="3492360" y="3022560"/>
            <a:ext cx="131760" cy="236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Прямоугольник 8"/>
          <p:cNvSpPr/>
          <p:nvPr/>
        </p:nvSpPr>
        <p:spPr>
          <a:xfrm>
            <a:off x="5197320" y="3022560"/>
            <a:ext cx="117720" cy="236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Прямоугольник 9"/>
          <p:cNvSpPr/>
          <p:nvPr/>
        </p:nvSpPr>
        <p:spPr>
          <a:xfrm>
            <a:off x="1019160" y="3141720"/>
            <a:ext cx="21600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Прямоугольник 10"/>
          <p:cNvSpPr/>
          <p:nvPr/>
        </p:nvSpPr>
        <p:spPr>
          <a:xfrm>
            <a:off x="3068640" y="3292560"/>
            <a:ext cx="555480" cy="46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Прямоугольник 11"/>
          <p:cNvSpPr/>
          <p:nvPr/>
        </p:nvSpPr>
        <p:spPr>
          <a:xfrm>
            <a:off x="546120" y="3666960"/>
            <a:ext cx="8280360" cy="644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6   2 – 4   3 – 8    5 – 10    7 -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усский язык с. 134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.57, 6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0" name="Picture 2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353440" cy="2087640"/>
          </a:xfrm>
          <a:prstGeom prst="rect">
            <a:avLst/>
          </a:prstGeom>
          <a:ln w="0">
            <a:noFill/>
          </a:ln>
        </p:spPr>
      </p:pic>
      <p:pic>
        <p:nvPicPr>
          <p:cNvPr id="1181" name="Picture 3" descr=""/>
          <p:cNvPicPr/>
          <p:nvPr/>
        </p:nvPicPr>
        <p:blipFill>
          <a:blip r:embed="rId2"/>
          <a:stretch/>
        </p:blipFill>
        <p:spPr>
          <a:xfrm>
            <a:off x="395280" y="3333600"/>
            <a:ext cx="8353440" cy="622440"/>
          </a:xfrm>
          <a:prstGeom prst="rect">
            <a:avLst/>
          </a:prstGeom>
          <a:ln w="0">
            <a:noFill/>
          </a:ln>
        </p:spPr>
      </p:pic>
      <p:pic>
        <p:nvPicPr>
          <p:cNvPr id="1182" name="Picture 4" descr=""/>
          <p:cNvPicPr/>
          <p:nvPr/>
        </p:nvPicPr>
        <p:blipFill>
          <a:blip r:embed="rId3"/>
          <a:stretch/>
        </p:blipFill>
        <p:spPr>
          <a:xfrm>
            <a:off x="6370560" y="4437000"/>
            <a:ext cx="2378160" cy="202428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4" descr=""/>
          <p:cNvPicPr/>
          <p:nvPr/>
        </p:nvPicPr>
        <p:blipFill>
          <a:blip r:embed="rId4"/>
          <a:stretch/>
        </p:blipFill>
        <p:spPr>
          <a:xfrm>
            <a:off x="6523200" y="4589640"/>
            <a:ext cx="237780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усский язык с.134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5" name="Picture 2" descr=""/>
          <p:cNvPicPr/>
          <p:nvPr/>
        </p:nvPicPr>
        <p:blipFill>
          <a:blip r:embed="rId1"/>
          <a:stretch/>
        </p:blipFill>
        <p:spPr>
          <a:xfrm>
            <a:off x="393840" y="1557360"/>
            <a:ext cx="8353440" cy="2087640"/>
          </a:xfrm>
          <a:prstGeom prst="rect">
            <a:avLst/>
          </a:prstGeom>
          <a:ln w="0">
            <a:noFill/>
          </a:ln>
        </p:spPr>
      </p:pic>
      <p:pic>
        <p:nvPicPr>
          <p:cNvPr id="1186" name="Picture 3" descr=""/>
          <p:cNvPicPr/>
          <p:nvPr/>
        </p:nvPicPr>
        <p:blipFill>
          <a:blip r:embed="rId2"/>
          <a:stretch/>
        </p:blipFill>
        <p:spPr>
          <a:xfrm>
            <a:off x="395280" y="3333600"/>
            <a:ext cx="8353440" cy="622440"/>
          </a:xfrm>
          <a:prstGeom prst="rect">
            <a:avLst/>
          </a:prstGeom>
          <a:ln w="0">
            <a:noFill/>
          </a:ln>
        </p:spPr>
      </p:pic>
      <p:sp>
        <p:nvSpPr>
          <p:cNvPr id="1187" name="TextBox 2"/>
          <p:cNvSpPr/>
          <p:nvPr/>
        </p:nvSpPr>
        <p:spPr>
          <a:xfrm>
            <a:off x="5103720" y="2349360"/>
            <a:ext cx="1447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Box 8"/>
          <p:cNvSpPr/>
          <p:nvPr/>
        </p:nvSpPr>
        <p:spPr>
          <a:xfrm>
            <a:off x="6300720" y="2251080"/>
            <a:ext cx="21600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Box 9"/>
          <p:cNvSpPr/>
          <p:nvPr/>
        </p:nvSpPr>
        <p:spPr>
          <a:xfrm>
            <a:off x="5621400" y="2678040"/>
            <a:ext cx="185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Box 10"/>
          <p:cNvSpPr/>
          <p:nvPr/>
        </p:nvSpPr>
        <p:spPr>
          <a:xfrm>
            <a:off x="2751120" y="3019320"/>
            <a:ext cx="185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Box 11"/>
          <p:cNvSpPr/>
          <p:nvPr/>
        </p:nvSpPr>
        <p:spPr>
          <a:xfrm>
            <a:off x="5807160" y="3379680"/>
            <a:ext cx="209520" cy="26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Box 13"/>
          <p:cNvSpPr/>
          <p:nvPr/>
        </p:nvSpPr>
        <p:spPr>
          <a:xfrm>
            <a:off x="3132000" y="3645000"/>
            <a:ext cx="163800" cy="3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3" name="Picture 2" descr=""/>
          <p:cNvPicPr/>
          <p:nvPr/>
        </p:nvPicPr>
        <p:blipFill>
          <a:blip r:embed="rId3"/>
          <a:stretch/>
        </p:blipFill>
        <p:spPr>
          <a:xfrm>
            <a:off x="395280" y="4149720"/>
            <a:ext cx="8353440" cy="399960"/>
          </a:xfrm>
          <a:prstGeom prst="rect">
            <a:avLst/>
          </a:prstGeom>
          <a:ln w="0">
            <a:noFill/>
          </a:ln>
        </p:spPr>
      </p:pic>
      <p:sp>
        <p:nvSpPr>
          <p:cNvPr id="1194" name="TextBox 14"/>
          <p:cNvSpPr/>
          <p:nvPr/>
        </p:nvSpPr>
        <p:spPr>
          <a:xfrm>
            <a:off x="4932360" y="2257560"/>
            <a:ext cx="316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5" name="Picture 4" descr=""/>
          <p:cNvPicPr/>
          <p:nvPr/>
        </p:nvPicPr>
        <p:blipFill>
          <a:blip r:embed="rId4"/>
          <a:stretch/>
        </p:blipFill>
        <p:spPr>
          <a:xfrm>
            <a:off x="393840" y="4797360"/>
            <a:ext cx="30240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 - с.57 - 68 повторить прави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8" name="Picture 4" descr=""/>
          <p:cNvPicPr/>
          <p:nvPr/>
        </p:nvPicPr>
        <p:blipFill>
          <a:blip r:embed="rId1"/>
          <a:stretch/>
        </p:blipFill>
        <p:spPr>
          <a:xfrm>
            <a:off x="6156360" y="4149720"/>
            <a:ext cx="237960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словосочетани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7" name="Picture 2" descr=""/>
          <p:cNvPicPr/>
          <p:nvPr/>
        </p:nvPicPr>
        <p:blipFill>
          <a:blip r:embed="rId1"/>
          <a:stretch/>
        </p:blipFill>
        <p:spPr>
          <a:xfrm>
            <a:off x="6300720" y="4292640"/>
            <a:ext cx="2041560" cy="204948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2" descr=""/>
          <p:cNvPicPr/>
          <p:nvPr/>
        </p:nvPicPr>
        <p:blipFill>
          <a:blip r:embed="rId2"/>
          <a:stretch/>
        </p:blipFill>
        <p:spPr>
          <a:xfrm>
            <a:off x="6453360" y="4444920"/>
            <a:ext cx="20412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Словосочетание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только такое соединение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, в котором слова связаны  ……………………………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чинительной связью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……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слово в словосочетании (то, от которого мы задаем вопрос к зависимому слову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0000"/>
                </a:solidFill>
                <a:latin typeface="Verdana"/>
              </a:rPr>
              <a:t>Словосочетани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только такое соединени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, в котором слова связан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смысл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чинительной связь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вно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о в словосочетании (то, от которого мы задаем вопрос к зависимому слову)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чинительная связь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грамматическая и смысловая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висимость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ного слова или предложения по отношению к другому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Русский язык с.106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е является словосочетанием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4" name="Рисунок 18" descr="78787.jpg"/>
          <p:cNvPicPr/>
          <p:nvPr/>
        </p:nvPicPr>
        <p:blipFill>
          <a:blip r:embed="rId1"/>
          <a:stretch/>
        </p:blipFill>
        <p:spPr>
          <a:xfrm>
            <a:off x="6875640" y="4653000"/>
            <a:ext cx="204624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е является словосочетанием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rebuchet MS"/>
              </a:rPr>
              <a:t>1.</a:t>
            </a:r>
            <a:r>
              <a:rPr b="1" lang="ru-RU" sz="2700" spc="-1" strike="noStrike">
                <a:solidFill>
                  <a:srgbClr val="ff0000"/>
                </a:solidFill>
                <a:latin typeface="Trebuchet MS"/>
              </a:rPr>
              <a:t>Основа предложения</a:t>
            </a:r>
            <a:r>
              <a:rPr b="0" lang="ru-RU" sz="27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(мальчик уехал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ru-RU" sz="2700" spc="-1" strike="noStrike">
                <a:solidFill>
                  <a:srgbClr val="000000"/>
                </a:solidFill>
                <a:latin typeface="Trebuchet MS"/>
              </a:rPr>
              <a:t>.   </a:t>
            </a:r>
            <a:r>
              <a:rPr b="1" lang="ru-RU" sz="2700" spc="-1" strike="noStrike">
                <a:solidFill>
                  <a:srgbClr val="ff0000"/>
                </a:solidFill>
                <a:latin typeface="Trebuchet MS"/>
              </a:rPr>
              <a:t>Однородные члены</a:t>
            </a:r>
            <a:r>
              <a:rPr b="0" lang="ru-RU" sz="27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(быстрый и внимательный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1" lang="ru-RU" sz="1900" spc="-1" strike="noStrike">
                <a:solidFill>
                  <a:srgbClr val="ff0000"/>
                </a:solidFill>
                <a:latin typeface="Trebuchet MS"/>
              </a:rPr>
              <a:t>.   </a:t>
            </a:r>
            <a:r>
              <a:rPr b="1" lang="ru-RU" sz="3000" spc="-1" strike="noStrike">
                <a:solidFill>
                  <a:srgbClr val="ff0000"/>
                </a:solidFill>
                <a:latin typeface="Trebuchet MS"/>
              </a:rPr>
              <a:t>Предлоги со словами</a:t>
            </a:r>
            <a:r>
              <a:rPr b="0" lang="ru-RU" sz="30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(в течение часа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4. </a:t>
            </a:r>
            <a:r>
              <a:rPr b="1" lang="ru-RU" sz="2700" spc="-1" strike="noStrike">
                <a:solidFill>
                  <a:srgbClr val="ff0000"/>
                </a:solidFill>
                <a:latin typeface="Trebuchet MS"/>
              </a:rPr>
              <a:t>Составные формы</a:t>
            </a:r>
            <a:r>
              <a:rPr b="0" lang="ru-RU" sz="27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(двадцать второй, будет писать, более сладкий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5. </a:t>
            </a:r>
            <a:r>
              <a:rPr b="1" lang="ru-RU" sz="3000" spc="-1" strike="noStrike">
                <a:solidFill>
                  <a:srgbClr val="ff0000"/>
                </a:solidFill>
                <a:latin typeface="Trebuchet MS"/>
              </a:rPr>
              <a:t>Фразеологизм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( водить за нос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8600" indent="0" algn="ctr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предложении выделенные слова 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являютс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сочетания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тречались с тобой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закат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 море примчало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земле одичало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ие дни осени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смурны и холодн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предложении выделенные слова 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являютс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сочетания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смурны и холод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Trebuchet MS"/>
              </a:rPr>
              <a:t>Однородные член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8600" indent="0"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сочетания слов не являются словосочетаниями?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ша собачонка меня встречала с лае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456840" y="3213000"/>
            <a:ext cx="821844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речала мен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ачонка встреча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речала с лае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0:02:59Z</dcterms:created>
  <dc:creator>сош13</dc:creator>
  <dc:description/>
  <dc:language>en-US</dc:language>
  <cp:lastModifiedBy>Admin</cp:lastModifiedBy>
  <cp:lastPrinted>2020-04-19T11:32:31Z</cp:lastPrinted>
  <dcterms:modified xsi:type="dcterms:W3CDTF">2020-08-29T15:46:37Z</dcterms:modified>
  <cp:revision>35</cp:revision>
  <dc:subject/>
  <dc:title>Слайд 1</dc:title>
</cp:coreProperties>
</file>