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C1D-42CF-4616-8033-1ADC8788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E19-3D54-47FD-A83D-5B6FF47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1AEBC-50D3-42DD-9A78-9B2DD38E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CAEB4-65A2-4674-BF05-CBA48ED6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32D92-B1C8-42B2-9A03-D9DA398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0D86D-3011-4372-8AA2-63764C5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D3A2E-E396-41D5-8F69-85F7B93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14857-B66D-436D-B2FD-4FF57200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EAB3-4834-423B-B984-76B2EEC2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12236-0CF0-4BF0-8B33-3A20BCBE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9899E-4FDD-4B47-AE8D-098C97D5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8CDC9-F5CE-4CF0-82E6-2623F99D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4D1-18DF-4882-9746-375A9DD3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2C454-23FB-4AF1-BD00-D23ABBF6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6307C-2B9D-4218-9C4F-D87AC48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ECA5A-D471-4FEB-ADDB-0B9CD69A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0E0BB-5464-4D46-A0B5-770172DA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7854-E19B-40AB-9905-E126E48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82EDD-9BC1-4E8C-8986-5159ACCD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A36EF-17B7-4670-880A-054D1FB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34211-4AA3-493B-B08C-B4F4A657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24D82-0559-4F5B-B407-EAD60AB9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D51C-34CC-43A0-93AB-06EC68B5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A3C-52D5-4B5D-AD92-BF6C71DE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FC12C-D141-4A30-B005-F08E44F0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6AABA-4494-4E79-9520-849BC2E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41D7B-DAE7-4A7D-AE4F-B6878EB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921DB-4462-4406-802A-4DD7876E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7685-1E0B-4775-8E16-02244B3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C9CBC-A03E-46B7-9BF3-9B853579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F607A-9C4D-49B3-A10D-146A5CE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F2DF5-3DC3-4DA0-9CCD-E8F785F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C134E-6900-4FDB-BF3B-DB30C894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B8AB3-90BB-4202-AF2B-9798F0F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5CCB-950F-4562-841F-4D69EC8F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900C6-4B9D-4EAD-8514-2C4E6708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DC3C-70C9-4100-B85D-BDC955E9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28826-994C-4BB2-9962-00EF7D00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8321F-2635-4DD9-B2F3-44F36FEC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C3F18-696B-4638-9D03-B4AC8D94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ABB7C-A656-4A86-944F-32C15BD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4BE03-B1FA-413A-91D2-206D8C2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2DF76-9164-403D-885C-CC96BA2D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A0E8C-1195-4A2F-BD64-5E51E34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8917D-2559-4B8A-8398-EBF2690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9BA9-1472-4BDB-8745-30C294A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AC199-1E90-43AA-B6EE-24118A8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8389E-774A-41FF-9579-247EF93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3C029-7603-4326-A1E5-BD7C075D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68985-484C-42EE-82FE-A756D6EB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B2166-FC99-4D61-BD11-D8F84442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9226C-9D51-42BB-8B90-6EC2D977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506C3-F987-49BD-92B2-0C39219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64DBB-EFD5-4878-B5D4-6EEB1549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ABAAE-06DA-4A48-83B0-F36AE31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333F2-52FD-4389-B028-E0CF0DDD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8C55-DB5E-412C-BF2C-DAFA844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DE338-EC99-47C9-A7EB-8CDF083A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81520-4B9C-4146-9100-034AF1B8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C49E4-40ED-401B-9F04-84DD5DB8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6E656-E57E-41DB-B9E4-7D61A50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6AF37-3E42-472A-817A-70DE5C2D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2F779-0501-4D8C-A6F7-4D112752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25475-B136-410F-83E6-5B988640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6F80D-ABFD-4BE4-994E-1569DFD8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28869-7411-445E-8B7E-478C3727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91530-2C01-4851-827F-92C0F20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7C7-2B8D-40A4-AB3A-922B8F7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C923F-7B55-49EF-92E6-F1CE3315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2BDDC-E44A-4846-9E08-2C95D7A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B1012-06BB-438D-879C-63314B1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E12E5-B7CF-4E01-A610-6F601532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AE1A4-3A8E-4C50-85E5-E3E6D1A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82ED1-6B4F-4742-9FB0-73CD972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7AC4F-F9CE-4FA1-8905-A99451E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DF198-82F4-418A-8880-8B16950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6FEB1-CFAF-47DB-8E9A-6BE65EFF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BFAF2-0342-44D6-9D28-AB55CC21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657-F8BA-4EA8-A9C9-28E0D0A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D086F-C9DA-4B66-976B-E6037097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063FA-7072-469B-9E0A-B2A42ED7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EC606-79DB-4B6F-B3EE-2E67EF94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37D81-A0AB-4962-AC9C-DA805AE0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BBC4F-BAAC-4642-BDBC-B749775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2153D-759B-424E-BA41-0618445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F4E1B-BEF8-4D0D-B84D-2C91F3F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2369F-836C-4497-911D-137A2F8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77697-7799-493E-A74A-6FF507A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07597-C047-4403-BF91-82A9C5EB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2905-FFAB-42C1-8DDC-D25A34BB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B2EAD-CDD1-4665-8568-3A0C4AFA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C766D-3C4C-4AF4-803C-1CD8E024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F069E-566F-49B8-A6A0-CAB96831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302DA-688B-420F-9354-C278B5F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3D9DA-15E7-4D21-A16D-9A7F2619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10275-4B3D-403E-91A0-B5DA2611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54D00-5BEA-4CEC-ADDF-283A550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0F9B9-45C3-4D21-9B61-43CEF79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3FC3B-ABAA-4DCD-8462-67EAED0B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8B50F-CB4A-4E91-8A5B-FFF1C76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2C19-6525-495B-8894-E8C1F2B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0167C-0A49-4707-ADFB-1D3D5D57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AED9E-78F8-4641-9BBC-39C5FBC6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1E271-A2A4-4343-AF33-E4E08AA9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5A79D-C2E5-4106-A11B-654CBD52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DA65E-7AD0-419F-8A52-14F9CA65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22724-02AA-41C4-9618-C3541F6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FFA9B-C0D8-4DA5-8AB2-6288D694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571EC-BEE3-493F-A9EC-7F686C21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AAC6F-930A-4AA9-87A2-67CD573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147A8-866D-4487-A030-E8E24CB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164-ADB7-4359-94EE-DB2D1D56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9441-04E7-4B59-A222-FFC6DC9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9DBEC-3B30-4435-9FA5-FAEAC53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CB61E-46A0-4CC3-BFE7-F455085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8BA60-B65E-4AC8-962B-274E72DD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90E1A-CCF7-4F32-B346-788EC337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16DEC-4D56-4B26-9990-0295FF0B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29D051-CF62-4C3D-AFB6-0655A909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23F7EC-E1F9-4CF3-B030-15169313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D6EBE1-7057-45FE-BDF7-D03F6865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7427BB-79F3-4B60-83B1-21E27988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FADFE7-DA46-4B29-8B67-1A277AE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D486-C265-49DA-AF9F-8EE739B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34EDF0-2467-42D1-A5F8-A93AA5D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D1713B-6C74-46DA-9204-716F704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CBE835-B118-474E-9663-5E7519E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14B1DB-EC98-41A1-92CB-7681E5E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6C72E0-6A4C-477A-811C-5783AC2E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CB5E99-1326-4AD4-AE68-AC1CC497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01A51A-8EBD-4DAB-B4AE-5FD779D2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72F73-8B44-4DD2-ADEC-9B480AAF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5CBF4-EB99-4199-9A73-73C1B2A5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ED93B-B1E3-4E11-9024-7B976795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F8F4-8D78-4AE6-BDC6-6A469AC4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3B999-C551-4CD5-B622-77DCF98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BDEDA-E479-4C2C-8DE3-AF2787C1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66735-A89D-47E8-A937-339C1D6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BACDA-0949-4BA7-8FA1-987E581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B0300-6F4A-4E6F-9C6D-8948F0D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8E1A4-9DD8-4AEB-BFC4-398B13D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4C907-542C-4D64-9177-2218375E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03887-72C0-4FEC-813C-6061FE6A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1E47E-2647-4A5B-BBC2-6EB7E964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57332-EB0D-4F4F-BC54-74B104C5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FFC-AE45-4BDE-A3AE-3A98FBD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8D3FD-A0BB-417D-B8D5-20704981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C6A9D3-C935-4A6F-A4B3-FFF9525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0EE0C-5FF5-4099-9C61-58A2D75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F7C64-A1D8-4DD0-8618-5CE56ED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8505A-576B-459D-8CF2-E1869143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C2C84-E08F-4C15-9A50-10C5DCF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61CA2-0A14-4468-B281-8F07083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E677E-5EE7-43EB-B471-37B72DD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C879B1-12DD-44A8-8768-D2944CA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5D652-EFE7-4BBE-A097-DFB7A5C1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A566-E298-4284-806C-C4AF8DBC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3A21B-6D18-463E-BACC-AA0A78C5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F1D51-D417-46BF-BF08-6EE6DAB4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BC18A-194C-499D-804D-762475BB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F9AD0-7C4C-4E62-A94B-6F901FB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2DC01-7BAF-4DC0-8950-27590A7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50EFD-B895-45A7-818D-D6DB006B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27485-EDE0-461C-8C86-7DC41409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C39C93-9031-42BE-AC5D-775F11B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A43231-13E1-4902-8795-2A5EACC0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960DF-2547-48E2-A84C-774BD8CB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803D-F192-4F3A-90E9-6A8CCC08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C49EE-6245-4D75-8A1B-959E308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7D011-0E86-46B4-86E1-163FF795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A4D6B-358F-4627-B769-903AEFF8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C89A8-6DFC-41F6-9639-0C500438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FB638-DE13-4B95-BDC8-544C78C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73BA61-F2FB-4102-823E-605C60E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2E0C1-09E1-4E6A-B52A-ED4F9E2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5D0920-1BEE-4A0F-8D68-026E8B31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ACED3-5B17-4026-831C-4245B5B6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65297-1411-46F5-B361-D39DF7DA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D80E-656E-4E9B-851B-762B6302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CE0479-CD49-4383-8C0E-D2B3D8D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EB2CE-BCF6-485A-8DDC-DF205FF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B616EE-D050-4F77-9804-F018CBE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DCF559-83D1-4566-AD94-286B4694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35791E-4B4A-40A8-823C-7E910DBF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1F1A-32D1-4BB2-A287-9E1EE7D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9C40-03B7-4D11-A4B4-78CBDC78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B47B-E709-4A97-9CA2-7D5F4A2A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320-9816-462D-96C0-B5EBE14F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B656-2E38-4CFB-8925-9CF4126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938D-6D0B-4171-A7EF-78EC5460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9886-D773-4297-A5F9-EE5214F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3351-3A24-4447-8B7F-2DC023B4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3AC4-8E8F-499C-9739-7217CB9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9AB9-A48C-4E96-AD8B-B316D7FA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2DD0-7E4D-4DBD-858B-333E3EDF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08F3-AE56-4D0D-BDBB-8C7980C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3045-115E-4C8C-8FC7-7B6D5430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ACC4-8637-4725-85BA-E9DAC47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42D-78C4-4112-B02E-668D929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58ED-6E0E-4229-A438-34219F9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DBD0-B647-40EB-9DB7-5BD7B71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80AE-D357-4F67-8217-08B9C7B8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376EF-2F84-4718-9648-C46F292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87F5-4C58-47EC-90B9-E95606D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350A-0687-4E75-B126-6BA51B1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6981-4B4B-45F6-B2B6-2B980D6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0AB7-B95B-4E03-9DB7-1B3B7429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8170-D45C-4E7D-B0B2-C8F1EA22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9B46-4126-415B-87C3-0D86586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911-83CB-4C27-9BA1-C4AE7D8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752F-1F06-4445-A621-1C0AFD2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E847-0310-4846-9835-89C5E14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917D-F527-4833-A1B1-B9E60BD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6872-1C9F-4A57-A0F5-92843E9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114D-8CFC-4C23-AF36-1584F2D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AF4F-558E-41C7-AB46-EC6FE7B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4D71-C823-4405-828A-B4B0CFA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183A-A45A-4FD9-A791-CC23A12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B004-E956-4E25-BDD0-198723A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5E04-946B-4F54-BABB-49B13CF2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FAF-1633-49AF-8316-C1472F9B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FB55-A0A7-431F-AE8E-FE92336D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1458C-AF4C-40CE-B7CA-336E02C9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8BBC9-EF4D-4582-B62A-D7FA8096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9BDF8-6295-4481-A853-C98C4C7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01A6-D8A0-4305-BB69-652296D5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7CCD-2B98-4968-8849-D9809D6F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976FE-7367-4F9A-A9FB-32E21563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BBA55-426F-4F53-8B14-4AE9786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A615-ACD9-49C7-8EFD-7F2B4BD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B0116-347C-42DE-B6F6-3E7D79F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1DC-CD9D-466A-ADC8-20C0EA83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C4AE-F892-4F37-AE58-9C98280E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9F142-12C3-4D23-AC8C-BDD3B7AC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79B5-1141-489F-9D79-C4D0F896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D6A5-40E1-4219-A937-87730DF6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B6A0-F7CD-4BCF-B1A4-AEC54FCD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5636-1816-40B9-B4B0-E0B2FA4D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0769-2D16-43CC-9704-A055CF5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02E77-2D5F-43B0-A51E-85E71E3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21E7-ECEF-4853-A883-ED479B3A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F105-99B8-46B2-B993-C01C235C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FCF-DA29-4922-87A4-270DA47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87362-145C-48B0-9965-96B07D2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67C44-47FB-47EE-95A6-5BD30A5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661E-6031-4BF7-A443-7C9DB56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C3C8-1EE3-4B2A-95C6-EECFEDC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B34F-A8D9-46FE-816F-AE6DC788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AD029-035B-4FF3-97EB-077333EB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7FF8-193D-4DDA-AABD-97DF3EA3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E0BE-840B-4AE7-BE47-522B519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9595-DD73-4C73-BD90-ED278F6E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BC190-AE23-4990-9258-5ABC1D46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5EF-6A86-4C6B-B31B-91838E3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A3F45-8E49-40BB-88A7-8A74BE3E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570F-B183-409E-AC28-35690F17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BA5A3-5A95-4F62-B863-256FCCB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0F680-0796-42F4-8080-27D84A5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34A3-FACA-4EC0-A9FA-8126E9C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512D3-AB72-4E9C-9534-406A4BFB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2A76-552F-4915-A0EB-C704EB4A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7685D-4B67-4A5B-ABA7-83EF6A52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0DB7C-7581-46D3-AF4D-E43F9680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F3627-99D8-406A-B233-7D0C51B0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41.xml"/><Relationship Id="rId10" Type="http://schemas.openxmlformats.org/officeDocument/2006/relationships/slideLayout" Target="../slideLayouts/slideLayout242.xml"/><Relationship Id="rId11" Type="http://schemas.openxmlformats.org/officeDocument/2006/relationships/slideLayout" Target="../slideLayouts/slideLayout243.xml"/><Relationship Id="rId12" Type="http://schemas.openxmlformats.org/officeDocument/2006/relationships/slideLayout" Target="../slideLayouts/slideLayout244.xml"/><Relationship Id="rId13" Type="http://schemas.openxmlformats.org/officeDocument/2006/relationships/slideLayout" Target="../slideLayouts/slideLayout245.xml"/><Relationship Id="rId14" Type="http://schemas.openxmlformats.org/officeDocument/2006/relationships/slideLayout" Target="../slideLayouts/slideLayout246.xml"/><Relationship Id="rId15" Type="http://schemas.openxmlformats.org/officeDocument/2006/relationships/slideLayout" Target="../slideLayouts/slideLayout247.xml"/><Relationship Id="rId16" Type="http://schemas.openxmlformats.org/officeDocument/2006/relationships/slideLayout" Target="../slideLayouts/slideLayout248.xml"/><Relationship Id="rId17" Type="http://schemas.openxmlformats.org/officeDocument/2006/relationships/slideLayout" Target="../slideLayouts/slideLayout249.xml"/><Relationship Id="rId18" Type="http://schemas.openxmlformats.org/officeDocument/2006/relationships/slideLayout" Target="../slideLayouts/slideLayout250.xml"/><Relationship Id="rId19" Type="http://schemas.openxmlformats.org/officeDocument/2006/relationships/slideLayout" Target="../slideLayouts/slideLayout251.xml"/><Relationship Id="rId20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259-C13B-4E7D-A804-A16C6B2B4E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68A-3FA2-4F29-9F94-B82B66686C3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633-A327-46AC-89F6-CB73F9691DE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38C8-EA68-44E2-9C3B-AB179F148D0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12C1-FF76-4D2A-9D54-A25EA958511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DA3-2AE6-4F00-865B-03796B1FBCB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2F51-04B6-43AA-84BD-C64E8F0C8EB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AE75-7AB9-4526-B8E4-9F9896BAEC2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7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11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15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7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d13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30D6-F26A-4B28-864A-543A32AF4693}" type="slidenum">
              <a:rPr b="0" lang="ru-RU" sz="1200" spc="-1" strike="noStrike">
                <a:solidFill>
                  <a:srgbClr val="7fd13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79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95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99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03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C580-939F-476F-95A0-722A3676076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5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77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8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79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883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87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72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55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56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57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948B-6B5F-40DF-95D2-3185848BC54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0BEB-0050-427B-BC9C-F1B9D4041F0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61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4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68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D76-9200-47B0-9309-174DC50F205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1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1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1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22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25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29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6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6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6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C93F-3325-4B5B-8C64-5AC7CCA5CD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9"/>
    <p:sldLayoutId id="2147483910" r:id="rId10"/>
    <p:sldLayoutId id="2147483911" r:id="rId11"/>
    <p:sldLayoutId id="2147483912" r:id="rId12"/>
    <p:sldLayoutId id="2147483913" r:id="rId13"/>
    <p:sldLayoutId id="2147483914" r:id="rId14"/>
    <p:sldLayoutId id="2147483915" r:id="rId15"/>
    <p:sldLayoutId id="2147483916" r:id="rId16"/>
    <p:sldLayoutId id="2147483917" r:id="rId17"/>
    <p:sldLayoutId id="2147483918" r:id="rId18"/>
    <p:sldLayoutId id="2147483919" r:id="rId19"/>
    <p:sldLayoutId id="2147483920" r:id="rId20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7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76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80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6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6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6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E7CE-0FF7-4429-B296-B87F476A7E1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fa"/>
            </a:gs>
            <a:gs pos="100000">
              <a:srgbClr val="6c8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8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7fd13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7fd13b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DF9E-DAF5-4ADF-AD4F-D17AF89B2A6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6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6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612D-0A55-49FB-9631-94E40C12396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1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17CC-B896-47E9-BF6C-2BDF91CA3B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623A-E6A6-46F8-990C-F5E2E324E98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7CC3-4214-490A-8140-66C95AA4952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7ADB-82E1-4948-AC84-26875CE51D6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D12-6BFE-4BFF-8DD2-B94566B63600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2"/>
          <p:cNvSpPr/>
          <p:nvPr/>
        </p:nvSpPr>
        <p:spPr>
          <a:xfrm>
            <a:off x="468360" y="126828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к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3" descr="j0301252"/>
          <p:cNvPicPr/>
          <p:nvPr/>
        </p:nvPicPr>
        <p:blipFill>
          <a:blip r:embed="rId1"/>
          <a:stretch/>
        </p:blipFill>
        <p:spPr>
          <a:xfrm>
            <a:off x="6588000" y="193680"/>
            <a:ext cx="2305080" cy="1971720"/>
          </a:xfrm>
          <a:prstGeom prst="rect">
            <a:avLst/>
          </a:prstGeom>
          <a:ln w="0">
            <a:noFill/>
          </a:ln>
        </p:spPr>
      </p:pic>
      <p:sp>
        <p:nvSpPr>
          <p:cNvPr id="1125" name="Прямоугольник 3"/>
          <p:cNvSpPr/>
          <p:nvPr/>
        </p:nvSpPr>
        <p:spPr>
          <a:xfrm>
            <a:off x="1763640" y="2637000"/>
            <a:ext cx="51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ловосочет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очетания слов не являются словосочетаниями?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а собачонка меня встречала с л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56840" y="3213000"/>
            <a:ext cx="8218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ачонка встреча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а предложени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Rectangle 2" descr=""/>
          <p:cNvPicPr/>
          <p:nvPr/>
        </p:nvPicPr>
        <p:blipFill>
          <a:blip r:embed="rId1"/>
          <a:stretch/>
        </p:blipFill>
        <p:spPr>
          <a:xfrm>
            <a:off x="1189080" y="304920"/>
            <a:ext cx="6522840" cy="1761840"/>
          </a:xfrm>
          <a:prstGeom prst="rect">
            <a:avLst/>
          </a:prstGeom>
          <a:ln w="0">
            <a:noFill/>
          </a:ln>
        </p:spPr>
      </p:pic>
      <p:sp>
        <p:nvSpPr>
          <p:cNvPr id="1146" name="AutoShape 3"/>
          <p:cNvSpPr/>
          <p:nvPr/>
        </p:nvSpPr>
        <p:spPr>
          <a:xfrm rot="10800000">
            <a:off x="18720" y="3357720"/>
            <a:ext cx="3058920" cy="3024000"/>
          </a:xfrm>
          <a:prstGeom prst="wedgeRoundRectCallout">
            <a:avLst>
              <a:gd name="adj1" fmla="val -70606"/>
              <a:gd name="adj2" fmla="val 108791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глас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акой? Ч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4"/>
          <p:cNvSpPr/>
          <p:nvPr/>
        </p:nvSpPr>
        <p:spPr>
          <a:xfrm rot="10800000">
            <a:off x="3348000" y="2870280"/>
            <a:ext cx="2519280" cy="3573360"/>
          </a:xfrm>
          <a:prstGeom prst="wedgeRoundRectCallout">
            <a:avLst>
              <a:gd name="adj1" fmla="val -1986"/>
              <a:gd name="adj2" fmla="val 95000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освенных паде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5"/>
          <p:cNvSpPr/>
          <p:nvPr/>
        </p:nvSpPr>
        <p:spPr>
          <a:xfrm rot="10800000">
            <a:off x="6012000" y="3141720"/>
            <a:ext cx="2916000" cy="3456000"/>
          </a:xfrm>
          <a:prstGeom prst="wedgeRoundRectCallout">
            <a:avLst>
              <a:gd name="adj1" fmla="val 44879"/>
              <a:gd name="adj2" fmla="val 95199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ык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симое слов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изменяемая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ча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18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80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42328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54" name="Прямоугольник 1"/>
          <p:cNvSpPr/>
          <p:nvPr/>
        </p:nvSpPr>
        <p:spPr>
          <a:xfrm>
            <a:off x="2484360" y="2449440"/>
            <a:ext cx="419040" cy="13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рямоугольник 2"/>
          <p:cNvSpPr/>
          <p:nvPr/>
        </p:nvSpPr>
        <p:spPr>
          <a:xfrm>
            <a:off x="5432400" y="2349360"/>
            <a:ext cx="45720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Прямоугольник 3"/>
          <p:cNvSpPr/>
          <p:nvPr/>
        </p:nvSpPr>
        <p:spPr>
          <a:xfrm>
            <a:off x="1019160" y="2562120"/>
            <a:ext cx="431640" cy="19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Прямоугольник 4"/>
          <p:cNvSpPr/>
          <p:nvPr/>
        </p:nvSpPr>
        <p:spPr>
          <a:xfrm>
            <a:off x="3135240" y="2760840"/>
            <a:ext cx="149400" cy="12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Прямоугольник 5"/>
          <p:cNvSpPr/>
          <p:nvPr/>
        </p:nvSpPr>
        <p:spPr>
          <a:xfrm>
            <a:off x="5521320" y="2760840"/>
            <a:ext cx="142920" cy="1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рямоугольник 6"/>
          <p:cNvSpPr/>
          <p:nvPr/>
        </p:nvSpPr>
        <p:spPr>
          <a:xfrm>
            <a:off x="1763640" y="3022560"/>
            <a:ext cx="162000" cy="11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Прямоугольник 7"/>
          <p:cNvSpPr/>
          <p:nvPr/>
        </p:nvSpPr>
        <p:spPr>
          <a:xfrm>
            <a:off x="3471840" y="3019320"/>
            <a:ext cx="13320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8"/>
          <p:cNvSpPr/>
          <p:nvPr/>
        </p:nvSpPr>
        <p:spPr>
          <a:xfrm>
            <a:off x="5261040" y="3022560"/>
            <a:ext cx="11736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Прямоугольник 9"/>
          <p:cNvSpPr/>
          <p:nvPr/>
        </p:nvSpPr>
        <p:spPr>
          <a:xfrm>
            <a:off x="7559640" y="2954160"/>
            <a:ext cx="108000" cy="19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10"/>
          <p:cNvSpPr/>
          <p:nvPr/>
        </p:nvSpPr>
        <p:spPr>
          <a:xfrm>
            <a:off x="2932200" y="3286080"/>
            <a:ext cx="555480" cy="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468360" y="3681000"/>
            <a:ext cx="84232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Picture 2" descr=""/>
          <p:cNvPicPr/>
          <p:nvPr/>
        </p:nvPicPr>
        <p:blipFill>
          <a:blip r:embed="rId1"/>
          <a:stretch/>
        </p:blipFill>
        <p:spPr>
          <a:xfrm>
            <a:off x="546120" y="4311720"/>
            <a:ext cx="8280360" cy="23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7" name="Picture 4" descr=""/>
          <p:cNvPicPr/>
          <p:nvPr/>
        </p:nvPicPr>
        <p:blipFill>
          <a:blip r:embed="rId2"/>
          <a:stretch/>
        </p:blipFill>
        <p:spPr>
          <a:xfrm>
            <a:off x="546120" y="282600"/>
            <a:ext cx="828036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8" name="Прямоугольник 1"/>
          <p:cNvSpPr/>
          <p:nvPr/>
        </p:nvSpPr>
        <p:spPr>
          <a:xfrm>
            <a:off x="2484360" y="2349360"/>
            <a:ext cx="419040" cy="2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рямоугольник 2"/>
          <p:cNvSpPr/>
          <p:nvPr/>
        </p:nvSpPr>
        <p:spPr>
          <a:xfrm>
            <a:off x="5432400" y="2349360"/>
            <a:ext cx="45720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рямоугольник 3"/>
          <p:cNvSpPr/>
          <p:nvPr/>
        </p:nvSpPr>
        <p:spPr>
          <a:xfrm>
            <a:off x="1019160" y="2562120"/>
            <a:ext cx="431640" cy="19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Прямоугольник 4"/>
          <p:cNvSpPr/>
          <p:nvPr/>
        </p:nvSpPr>
        <p:spPr>
          <a:xfrm>
            <a:off x="3135240" y="2687760"/>
            <a:ext cx="14940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5"/>
          <p:cNvSpPr/>
          <p:nvPr/>
        </p:nvSpPr>
        <p:spPr>
          <a:xfrm>
            <a:off x="5432400" y="2760840"/>
            <a:ext cx="114480" cy="1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Прямоугольник 6"/>
          <p:cNvSpPr/>
          <p:nvPr/>
        </p:nvSpPr>
        <p:spPr>
          <a:xfrm>
            <a:off x="1763640" y="3022560"/>
            <a:ext cx="162000" cy="11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Прямоугольник 7"/>
          <p:cNvSpPr/>
          <p:nvPr/>
        </p:nvSpPr>
        <p:spPr>
          <a:xfrm>
            <a:off x="3492360" y="3022560"/>
            <a:ext cx="13176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Прямоугольник 8"/>
          <p:cNvSpPr/>
          <p:nvPr/>
        </p:nvSpPr>
        <p:spPr>
          <a:xfrm>
            <a:off x="5197320" y="3022560"/>
            <a:ext cx="1177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9"/>
          <p:cNvSpPr/>
          <p:nvPr/>
        </p:nvSpPr>
        <p:spPr>
          <a:xfrm>
            <a:off x="1019160" y="3141720"/>
            <a:ext cx="216000" cy="2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10"/>
          <p:cNvSpPr/>
          <p:nvPr/>
        </p:nvSpPr>
        <p:spPr>
          <a:xfrm>
            <a:off x="3068640" y="3292560"/>
            <a:ext cx="555480" cy="4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11"/>
          <p:cNvSpPr/>
          <p:nvPr/>
        </p:nvSpPr>
        <p:spPr>
          <a:xfrm>
            <a:off x="546120" y="3666960"/>
            <a:ext cx="8280360" cy="64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6   2 – 4   3 – 8    5 – 10    7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й язык с. 134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.57, 6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208764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3" descr=""/>
          <p:cNvPicPr/>
          <p:nvPr/>
        </p:nvPicPr>
        <p:blipFill>
          <a:blip r:embed="rId2"/>
          <a:stretch/>
        </p:blipFill>
        <p:spPr>
          <a:xfrm>
            <a:off x="395280" y="3333600"/>
            <a:ext cx="8353440" cy="6224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4" descr=""/>
          <p:cNvPicPr/>
          <p:nvPr/>
        </p:nvPicPr>
        <p:blipFill>
          <a:blip r:embed="rId3"/>
          <a:stretch/>
        </p:blipFill>
        <p:spPr>
          <a:xfrm>
            <a:off x="6370560" y="4437000"/>
            <a:ext cx="2378160" cy="20242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4" descr=""/>
          <p:cNvPicPr/>
          <p:nvPr/>
        </p:nvPicPr>
        <p:blipFill>
          <a:blip r:embed="rId4"/>
          <a:stretch/>
        </p:blipFill>
        <p:spPr>
          <a:xfrm>
            <a:off x="6523200" y="4589640"/>
            <a:ext cx="23778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й язык с.13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5" name="Picture 2" descr=""/>
          <p:cNvPicPr/>
          <p:nvPr/>
        </p:nvPicPr>
        <p:blipFill>
          <a:blip r:embed="rId1"/>
          <a:stretch/>
        </p:blipFill>
        <p:spPr>
          <a:xfrm>
            <a:off x="393840" y="1557360"/>
            <a:ext cx="8353440" cy="20876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3" descr=""/>
          <p:cNvPicPr/>
          <p:nvPr/>
        </p:nvPicPr>
        <p:blipFill>
          <a:blip r:embed="rId2"/>
          <a:stretch/>
        </p:blipFill>
        <p:spPr>
          <a:xfrm>
            <a:off x="395280" y="3333600"/>
            <a:ext cx="8353440" cy="62244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2"/>
          <p:cNvSpPr/>
          <p:nvPr/>
        </p:nvSpPr>
        <p:spPr>
          <a:xfrm>
            <a:off x="5103720" y="2349360"/>
            <a:ext cx="144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6300720" y="2251080"/>
            <a:ext cx="216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5621400" y="2678040"/>
            <a:ext cx="185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10"/>
          <p:cNvSpPr/>
          <p:nvPr/>
        </p:nvSpPr>
        <p:spPr>
          <a:xfrm>
            <a:off x="2751120" y="3019320"/>
            <a:ext cx="185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11"/>
          <p:cNvSpPr/>
          <p:nvPr/>
        </p:nvSpPr>
        <p:spPr>
          <a:xfrm>
            <a:off x="5807160" y="3379680"/>
            <a:ext cx="20952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13"/>
          <p:cNvSpPr/>
          <p:nvPr/>
        </p:nvSpPr>
        <p:spPr>
          <a:xfrm>
            <a:off x="3132000" y="3645000"/>
            <a:ext cx="1638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Picture 2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8353440" cy="399960"/>
          </a:xfrm>
          <a:prstGeom prst="rect">
            <a:avLst/>
          </a:prstGeom>
          <a:ln w="0">
            <a:noFill/>
          </a:ln>
        </p:spPr>
      </p:pic>
      <p:sp>
        <p:nvSpPr>
          <p:cNvPr id="1194" name="TextBox 14"/>
          <p:cNvSpPr/>
          <p:nvPr/>
        </p:nvSpPr>
        <p:spPr>
          <a:xfrm>
            <a:off x="4932360" y="2257560"/>
            <a:ext cx="31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4" descr=""/>
          <p:cNvPicPr/>
          <p:nvPr/>
        </p:nvPicPr>
        <p:blipFill>
          <a:blip r:embed="rId4"/>
          <a:stretch/>
        </p:blipFill>
        <p:spPr>
          <a:xfrm>
            <a:off x="393840" y="4797360"/>
            <a:ext cx="3024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- с.57 - 68 повторить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8" name="Picture 4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379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словосочетани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041560" cy="20494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2" descr=""/>
          <p:cNvPicPr/>
          <p:nvPr/>
        </p:nvPicPr>
        <p:blipFill>
          <a:blip r:embed="rId2"/>
          <a:stretch/>
        </p:blipFill>
        <p:spPr>
          <a:xfrm>
            <a:off x="6453360" y="4444920"/>
            <a:ext cx="20412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ловосочетание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только такое соедине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, в котором слова связаны  …………………………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инительной связь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слово в словосочетании (то, от которого мы задаем вопрос к зависимому слов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Verdana"/>
              </a:rPr>
              <a:t>Словосочета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только такое соеди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, в котором слова связа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смыс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ой связ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 в словосочетании (то, от которого мы задаем вопрос к зависимому слову)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инительная связ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мматическая и смысловая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го слова или предложения по отношению к другому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усский язык с.10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 является словосочетани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Рисунок 18" descr="78787.jpg"/>
          <p:cNvPicPr/>
          <p:nvPr/>
        </p:nvPicPr>
        <p:blipFill>
          <a:blip r:embed="rId1"/>
          <a:stretch/>
        </p:blipFill>
        <p:spPr>
          <a:xfrm>
            <a:off x="6875640" y="4653000"/>
            <a:ext cx="20462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 является словосочетани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Основа предложения</a:t>
            </a:r>
            <a:r>
              <a:rPr b="0" lang="ru-RU" sz="27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мальчик уехал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.   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Однородные члены</a:t>
            </a:r>
            <a:r>
              <a:rPr b="0" lang="ru-RU" sz="27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быстрый и внимательны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1" lang="ru-RU" sz="1900" spc="-1" strike="noStrike">
                <a:solidFill>
                  <a:srgbClr val="ff0000"/>
                </a:solidFill>
                <a:latin typeface="Trebuchet MS"/>
              </a:rPr>
              <a:t>.   </a:t>
            </a: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Предлоги со словами</a:t>
            </a:r>
            <a:r>
              <a:rPr b="0" lang="ru-RU" sz="3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в течение час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Составные формы</a:t>
            </a:r>
            <a:r>
              <a:rPr b="0" lang="ru-RU" sz="27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двадцать второй, будет писать, более сладки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Фразеологиз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( водить за нос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предложении выделенные слов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являю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ечались с тоб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акат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 море примчало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земле одичал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дни осени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мурны и холод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предложении выделенные слов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являют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мурны и холод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Однородные чле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очетания слов не являются словосочетаниями?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а собачонка меня встречала с л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6840" y="3213000"/>
            <a:ext cx="8218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а ме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чонка встреч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а с ла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0:02:59Z</dcterms:created>
  <dc:creator>сош13</dc:creator>
  <dc:description/>
  <dc:language>en-US</dc:language>
  <cp:lastModifiedBy>Admin</cp:lastModifiedBy>
  <cp:lastPrinted>2020-04-19T11:32:31Z</cp:lastPrinted>
  <dcterms:modified xsi:type="dcterms:W3CDTF">2020-08-29T15:46:37Z</dcterms:modified>
  <cp:revision>35</cp:revision>
  <dc:subject/>
  <dc:title>Слайд 1</dc:title>
</cp:coreProperties>
</file>