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A40-CC6F-40FC-A25D-36C1CB3C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182-43DA-4022-8311-9FD5A96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FA8-BD84-4A18-A01A-B292B837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E14-2A8B-456C-8623-713421FE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B02-3D15-45B0-8697-E76FC41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A2A-5D2C-4B37-A350-5EA0E95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A7F-F849-46ED-A20C-498ADF7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72E-FD93-403A-98CD-2408A3A8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7C6-6D37-49BD-90B2-94ABD53F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E34-7080-4315-89BF-5E6BCB4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E7E-DE15-471E-83BD-F1203F4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DCC-F0F9-44FD-A388-14F2228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248B-2232-4A34-BC2D-86A561780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73080" y="549360"/>
            <a:ext cx="475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50920" y="1557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843280" y="341784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015920" y="221616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Двадцать четвертое апр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5985000" y="3417840"/>
            <a:ext cx="30844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://www.ekomissionka.dp.ua/content/2012/20120211/u56836/images/201202/f20120211141844-remont-odezhdy.jpg"/>
          <p:cNvPicPr/>
          <p:nvPr/>
        </p:nvPicPr>
        <p:blipFill>
          <a:blip r:embed="rId1"/>
          <a:stretch/>
        </p:blipFill>
        <p:spPr>
          <a:xfrm>
            <a:off x="4038480" y="6858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783080" y="4691160"/>
            <a:ext cx="487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_ дежд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www.ekomissionka.dp.ua/content/2012/20120211/u56836/images/201202/f20120211141844-remont-odezhdy.jpg"/>
          <p:cNvPicPr/>
          <p:nvPr/>
        </p:nvPicPr>
        <p:blipFill>
          <a:blip r:embed="rId1"/>
          <a:stretch/>
        </p:blipFill>
        <p:spPr>
          <a:xfrm>
            <a:off x="4038480" y="6858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773720" y="4691160"/>
            <a:ext cx="462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дежд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http://www.oreninform.ru/upload/iblock/22d/19.10%20zgwoarotkdcpthuikt%202%20+.jpg"/>
          <p:cNvPicPr/>
          <p:nvPr/>
        </p:nvPicPr>
        <p:blipFill>
          <a:blip r:embed="rId1"/>
          <a:stretch/>
        </p:blipFill>
        <p:spPr>
          <a:xfrm>
            <a:off x="3429000" y="533520"/>
            <a:ext cx="5372280" cy="3176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727200" y="43657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с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http://www.oreninform.ru/upload/iblock/22d/19.10%20zgwoarotkdcpthuikt%202%20+.jpg"/>
          <p:cNvPicPr/>
          <p:nvPr/>
        </p:nvPicPr>
        <p:blipFill>
          <a:blip r:embed="rId1"/>
          <a:stretch/>
        </p:blipFill>
        <p:spPr>
          <a:xfrm>
            <a:off x="3429000" y="533520"/>
            <a:ext cx="537228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727200" y="43657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с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img.ashkimsin.ru/forums/monthly_09_2010/user3670/post70758_img1.jpg"/>
          <p:cNvPicPr/>
          <p:nvPr/>
        </p:nvPicPr>
        <p:blipFill>
          <a:blip r:embed="rId1"/>
          <a:stretch/>
        </p:blipFill>
        <p:spPr>
          <a:xfrm>
            <a:off x="38160" y="33336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3290400" y="4508640"/>
            <a:ext cx="399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М_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http://img.ashkimsin.ru/forums/monthly_09_2010/user3670/post70758_img1.jpg"/>
          <p:cNvPicPr/>
          <p:nvPr/>
        </p:nvPicPr>
        <p:blipFill>
          <a:blip r:embed="rId1"/>
          <a:stretch/>
        </p:blipFill>
        <p:spPr>
          <a:xfrm>
            <a:off x="38160" y="33336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3290040" y="4508640"/>
            <a:ext cx="39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http://kolyan.net/uploads/posts/2012-01/thumbs/1327925688_815.jpg"/>
          <p:cNvPicPr/>
          <p:nvPr/>
        </p:nvPicPr>
        <p:blipFill>
          <a:blip r:embed="rId1"/>
          <a:stretch/>
        </p:blipFill>
        <p:spPr>
          <a:xfrm>
            <a:off x="468360" y="836640"/>
            <a:ext cx="4395600" cy="32972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3890160" y="4653000"/>
            <a:ext cx="372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гор _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http://kolyan.net/uploads/posts/2012-01/thumbs/1327925688_815.jpg"/>
          <p:cNvPicPr/>
          <p:nvPr/>
        </p:nvPicPr>
        <p:blipFill>
          <a:blip r:embed="rId1"/>
          <a:stretch/>
        </p:blipFill>
        <p:spPr>
          <a:xfrm>
            <a:off x="468360" y="836640"/>
            <a:ext cx="4395600" cy="32972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4201200" y="4653000"/>
            <a:ext cx="31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85840" y="928800"/>
            <a:ext cx="788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2357280"/>
            <a:ext cx="788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85840" y="92880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285840" y="235728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http://files.kvvmku.ru/forum/files/chern-01_138.jpg"/>
          <p:cNvPicPr/>
          <p:nvPr/>
        </p:nvPicPr>
        <p:blipFill>
          <a:blip r:embed="rId1"/>
          <a:stretch/>
        </p:blipFill>
        <p:spPr>
          <a:xfrm>
            <a:off x="5715000" y="685800"/>
            <a:ext cx="3041640" cy="3906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116000" y="4616280"/>
            <a:ext cx="36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г_рой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809720" y="1052640"/>
            <a:ext cx="475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50920" y="1557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276720" y="531972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7" descr="sc001"/>
          <p:cNvPicPr/>
          <p:nvPr/>
        </p:nvPicPr>
        <p:blipFill>
          <a:blip r:embed="rId1"/>
          <a:stretch/>
        </p:blipFill>
        <p:spPr>
          <a:xfrm>
            <a:off x="684360" y="4076640"/>
            <a:ext cx="1188720" cy="278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sc003"/>
          <p:cNvPicPr/>
          <p:nvPr/>
        </p:nvPicPr>
        <p:blipFill>
          <a:blip r:embed="rId2"/>
          <a:stretch/>
        </p:blipFill>
        <p:spPr>
          <a:xfrm>
            <a:off x="6572160" y="3929040"/>
            <a:ext cx="1621080" cy="2781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071720" y="263700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ложное предложение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-1584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789000"/>
            <a:ext cx="8229600" cy="2336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rcRect l="0" t="20980" r="0" b="50006"/>
          <a:stretch/>
        </p:blipFill>
        <p:spPr>
          <a:xfrm>
            <a:off x="395280" y="1339920"/>
            <a:ext cx="83707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без грамматической 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21412" r="0" b="50006"/>
          <a:stretch/>
        </p:blipFill>
        <p:spPr>
          <a:xfrm>
            <a:off x="395280" y="1365120"/>
            <a:ext cx="83707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rcRect l="20148" t="42559" r="21609" b="28351"/>
          <a:stretch/>
        </p:blipFill>
        <p:spPr>
          <a:xfrm>
            <a:off x="468360" y="1519200"/>
            <a:ext cx="8369280" cy="30495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971640" y="3043080"/>
            <a:ext cx="6553080" cy="62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066680" y="2585880"/>
            <a:ext cx="409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1066680" y="3670200"/>
            <a:ext cx="3794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амматических основ в каждом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55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пощип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ороз ударит, иней посереб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инус 2"/>
          <p:cNvSpPr/>
          <p:nvPr/>
        </p:nvSpPr>
        <p:spPr>
          <a:xfrm>
            <a:off x="826920" y="2133720"/>
            <a:ext cx="1657440" cy="44280"/>
          </a:xfrm>
          <a:custGeom>
            <a:avLst/>
            <a:gdLst/>
            <a:ahLst/>
            <a:rect l="l" t="t" r="r" b="b"/>
            <a:pathLst>
              <a:path w="1657350" h="44450">
                <a:moveTo>
                  <a:pt x="219682" y="16998"/>
                </a:moveTo>
                <a:lnTo>
                  <a:pt x="1437668" y="16998"/>
                </a:lnTo>
                <a:lnTo>
                  <a:pt x="1437668" y="27452"/>
                </a:lnTo>
                <a:lnTo>
                  <a:pt x="219682" y="27452"/>
                </a:lnTo>
                <a:lnTo>
                  <a:pt x="219682" y="16998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инус 3"/>
          <p:cNvSpPr/>
          <p:nvPr/>
        </p:nvSpPr>
        <p:spPr>
          <a:xfrm>
            <a:off x="539640" y="3168720"/>
            <a:ext cx="1656000" cy="189000"/>
          </a:xfrm>
          <a:custGeom>
            <a:avLst/>
            <a:gdLst/>
            <a:ahLst/>
            <a:rect l="l" t="t" r="r" b="b"/>
            <a:pathLst>
              <a:path w="1655763" h="188913">
                <a:moveTo>
                  <a:pt x="219471" y="72240"/>
                </a:moveTo>
                <a:lnTo>
                  <a:pt x="1436292" y="72240"/>
                </a:lnTo>
                <a:lnTo>
                  <a:pt x="1436292" y="116673"/>
                </a:lnTo>
                <a:lnTo>
                  <a:pt x="219471" y="116673"/>
                </a:lnTo>
                <a:lnTo>
                  <a:pt x="219471" y="72240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инус 4"/>
          <p:cNvSpPr/>
          <p:nvPr/>
        </p:nvSpPr>
        <p:spPr>
          <a:xfrm>
            <a:off x="3416400" y="3213000"/>
            <a:ext cx="1439640" cy="144720"/>
          </a:xfrm>
          <a:custGeom>
            <a:avLst/>
            <a:gdLst/>
            <a:ahLst/>
            <a:rect l="l" t="t" r="r" b="b"/>
            <a:pathLst>
              <a:path w="1439863" h="144463">
                <a:moveTo>
                  <a:pt x="190854" y="55243"/>
                </a:moveTo>
                <a:lnTo>
                  <a:pt x="1249009" y="55243"/>
                </a:lnTo>
                <a:lnTo>
                  <a:pt x="1249009" y="89220"/>
                </a:lnTo>
                <a:lnTo>
                  <a:pt x="190854" y="89220"/>
                </a:lnTo>
                <a:lnTo>
                  <a:pt x="190854" y="5524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авно 6"/>
          <p:cNvSpPr/>
          <p:nvPr/>
        </p:nvSpPr>
        <p:spPr>
          <a:xfrm>
            <a:off x="1979640" y="2023920"/>
            <a:ext cx="3097080" cy="325440"/>
          </a:xfrm>
          <a:custGeom>
            <a:avLst/>
            <a:gdLst/>
            <a:ahLst/>
            <a:rect l="l" t="t" r="r" b="b"/>
            <a:pathLst>
              <a:path w="3097212" h="325437">
                <a:moveTo>
                  <a:pt x="410535" y="62582"/>
                </a:moveTo>
                <a:lnTo>
                  <a:pt x="2686677" y="62582"/>
                </a:lnTo>
                <a:lnTo>
                  <a:pt x="2686677" y="139124"/>
                </a:lnTo>
                <a:lnTo>
                  <a:pt x="410535" y="139124"/>
                </a:lnTo>
                <a:lnTo>
                  <a:pt x="410535" y="62582"/>
                </a:lnTo>
                <a:close/>
                <a:moveTo>
                  <a:pt x="410535" y="186313"/>
                </a:moveTo>
                <a:lnTo>
                  <a:pt x="2686677" y="186313"/>
                </a:lnTo>
                <a:lnTo>
                  <a:pt x="2686677" y="262855"/>
                </a:lnTo>
                <a:lnTo>
                  <a:pt x="410535" y="262855"/>
                </a:lnTo>
                <a:lnTo>
                  <a:pt x="410535" y="186313"/>
                </a:lnTo>
                <a:close/>
              </a:path>
            </a:pathLst>
          </a:custGeom>
          <a:solidFill>
            <a:srgbClr val="2d2d8a"/>
          </a:solidFill>
          <a:ln w="648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 7"/>
          <p:cNvSpPr/>
          <p:nvPr/>
        </p:nvSpPr>
        <p:spPr>
          <a:xfrm>
            <a:off x="1979640" y="3168720"/>
            <a:ext cx="1655640" cy="331560"/>
          </a:xfrm>
          <a:custGeom>
            <a:avLst/>
            <a:gdLst/>
            <a:ahLst/>
            <a:rect l="l" t="t" r="r" b="b"/>
            <a:pathLst>
              <a:path w="1655762" h="331788">
                <a:moveTo>
                  <a:pt x="219471" y="68348"/>
                </a:moveTo>
                <a:lnTo>
                  <a:pt x="1436291" y="68348"/>
                </a:lnTo>
                <a:lnTo>
                  <a:pt x="1436291" y="146385"/>
                </a:lnTo>
                <a:lnTo>
                  <a:pt x="219471" y="146385"/>
                </a:lnTo>
                <a:lnTo>
                  <a:pt x="219471" y="68348"/>
                </a:lnTo>
                <a:close/>
                <a:moveTo>
                  <a:pt x="219471" y="185403"/>
                </a:moveTo>
                <a:lnTo>
                  <a:pt x="1436291" y="185403"/>
                </a:lnTo>
                <a:lnTo>
                  <a:pt x="1436291" y="263440"/>
                </a:lnTo>
                <a:lnTo>
                  <a:pt x="219471" y="263440"/>
                </a:lnTo>
                <a:lnTo>
                  <a:pt x="219471" y="18540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 8"/>
          <p:cNvSpPr/>
          <p:nvPr/>
        </p:nvSpPr>
        <p:spPr>
          <a:xfrm>
            <a:off x="4421160" y="3119400"/>
            <a:ext cx="2743200" cy="380880"/>
          </a:xfrm>
          <a:custGeom>
            <a:avLst/>
            <a:gdLst/>
            <a:ahLst/>
            <a:rect l="l" t="t" r="r" b="b"/>
            <a:pathLst>
              <a:path w="2743200" h="381000">
                <a:moveTo>
                  <a:pt x="363611" y="78486"/>
                </a:moveTo>
                <a:lnTo>
                  <a:pt x="2379589" y="78486"/>
                </a:lnTo>
                <a:lnTo>
                  <a:pt x="2379589" y="168097"/>
                </a:lnTo>
                <a:lnTo>
                  <a:pt x="363611" y="168097"/>
                </a:lnTo>
                <a:lnTo>
                  <a:pt x="363611" y="78486"/>
                </a:lnTo>
                <a:close/>
                <a:moveTo>
                  <a:pt x="363611" y="212903"/>
                </a:moveTo>
                <a:lnTo>
                  <a:pt x="2379589" y="212903"/>
                </a:lnTo>
                <a:lnTo>
                  <a:pt x="2379589" y="302514"/>
                </a:lnTo>
                <a:lnTo>
                  <a:pt x="363611" y="302514"/>
                </a:lnTo>
                <a:lnTo>
                  <a:pt x="363611" y="212903"/>
                </a:lnTo>
                <a:close/>
              </a:path>
            </a:pathLst>
          </a:custGeom>
          <a:solidFill>
            <a:srgbClr val="2d2d8a"/>
          </a:solidFill>
          <a:ln w="324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ложное предложение.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Русский язык  с. 14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rcRect l="19448" t="46614" r="21250" b="27913"/>
          <a:stretch/>
        </p:blipFill>
        <p:spPr>
          <a:xfrm>
            <a:off x="468360" y="1700280"/>
            <a:ext cx="82389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рамматических основ в каждом предлож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628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ловлю в пруду рыб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еют осины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ы  доцвет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амматических основ в каждом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628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ловлю в пруду рыб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еют осины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цветы  доцвет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инус 3"/>
          <p:cNvSpPr/>
          <p:nvPr/>
        </p:nvSpPr>
        <p:spPr>
          <a:xfrm>
            <a:off x="250920" y="2108160"/>
            <a:ext cx="431640" cy="216000"/>
          </a:xfrm>
          <a:custGeom>
            <a:avLst/>
            <a:gdLst/>
            <a:ahLst/>
            <a:rect l="l" t="t" r="r" b="b"/>
            <a:pathLst>
              <a:path w="431800" h="215900">
                <a:moveTo>
                  <a:pt x="57235" y="82560"/>
                </a:moveTo>
                <a:lnTo>
                  <a:pt x="374565" y="82560"/>
                </a:lnTo>
                <a:lnTo>
                  <a:pt x="374565" y="133340"/>
                </a:lnTo>
                <a:lnTo>
                  <a:pt x="57235" y="133340"/>
                </a:lnTo>
                <a:lnTo>
                  <a:pt x="57235" y="82560"/>
                </a:lnTo>
                <a:close/>
              </a:path>
            </a:pathLst>
          </a:custGeom>
          <a:solidFill>
            <a:srgbClr val="2d2d8a"/>
          </a:solidFill>
          <a:ln w="1260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авно 4"/>
          <p:cNvSpPr/>
          <p:nvPr/>
        </p:nvSpPr>
        <p:spPr>
          <a:xfrm>
            <a:off x="590400" y="2133720"/>
            <a:ext cx="1965600" cy="215640"/>
          </a:xfrm>
          <a:custGeom>
            <a:avLst/>
            <a:gdLst/>
            <a:ahLst/>
            <a:rect l="l" t="t" r="r" b="b"/>
            <a:pathLst>
              <a:path w="1965325" h="215900">
                <a:moveTo>
                  <a:pt x="260504" y="44475"/>
                </a:moveTo>
                <a:lnTo>
                  <a:pt x="1704821" y="44475"/>
                </a:lnTo>
                <a:lnTo>
                  <a:pt x="1704821" y="95255"/>
                </a:lnTo>
                <a:lnTo>
                  <a:pt x="260504" y="95255"/>
                </a:lnTo>
                <a:lnTo>
                  <a:pt x="260504" y="44475"/>
                </a:lnTo>
                <a:close/>
                <a:moveTo>
                  <a:pt x="260504" y="120645"/>
                </a:moveTo>
                <a:lnTo>
                  <a:pt x="1704821" y="120645"/>
                </a:lnTo>
                <a:lnTo>
                  <a:pt x="1704821" y="171425"/>
                </a:lnTo>
                <a:lnTo>
                  <a:pt x="260504" y="171425"/>
                </a:lnTo>
                <a:lnTo>
                  <a:pt x="260504" y="120645"/>
                </a:lnTo>
                <a:close/>
              </a:path>
            </a:pathLst>
          </a:custGeom>
          <a:solidFill>
            <a:srgbClr val="2d2d8a"/>
          </a:solidFill>
          <a:ln w="93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инус 5"/>
          <p:cNvSpPr/>
          <p:nvPr/>
        </p:nvSpPr>
        <p:spPr>
          <a:xfrm>
            <a:off x="2411280" y="4429080"/>
            <a:ext cx="2160720" cy="295200"/>
          </a:xfrm>
          <a:custGeom>
            <a:avLst/>
            <a:gdLst/>
            <a:ahLst/>
            <a:rect l="l" t="t" r="r" b="b"/>
            <a:pathLst>
              <a:path w="2160587" h="295275">
                <a:moveTo>
                  <a:pt x="286386" y="112913"/>
                </a:moveTo>
                <a:lnTo>
                  <a:pt x="1874201" y="112913"/>
                </a:lnTo>
                <a:lnTo>
                  <a:pt x="1874201" y="182362"/>
                </a:lnTo>
                <a:lnTo>
                  <a:pt x="286386" y="182362"/>
                </a:lnTo>
                <a:lnTo>
                  <a:pt x="286386" y="11291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инус 6"/>
          <p:cNvSpPr/>
          <p:nvPr/>
        </p:nvSpPr>
        <p:spPr>
          <a:xfrm>
            <a:off x="4211640" y="4429080"/>
            <a:ext cx="1873080" cy="295200"/>
          </a:xfrm>
          <a:custGeom>
            <a:avLst/>
            <a:gdLst/>
            <a:ahLst/>
            <a:rect l="l" t="t" r="r" b="b"/>
            <a:pathLst>
              <a:path w="1873250" h="295275">
                <a:moveTo>
                  <a:pt x="248299" y="112913"/>
                </a:moveTo>
                <a:lnTo>
                  <a:pt x="1624951" y="112913"/>
                </a:lnTo>
                <a:lnTo>
                  <a:pt x="1624951" y="182362"/>
                </a:lnTo>
                <a:lnTo>
                  <a:pt x="248299" y="182362"/>
                </a:lnTo>
                <a:lnTo>
                  <a:pt x="248299" y="11291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 7"/>
          <p:cNvSpPr/>
          <p:nvPr/>
        </p:nvSpPr>
        <p:spPr>
          <a:xfrm>
            <a:off x="0" y="4437000"/>
            <a:ext cx="2916360" cy="287280"/>
          </a:xfrm>
          <a:custGeom>
            <a:avLst/>
            <a:gdLst/>
            <a:ahLst/>
            <a:rect l="l" t="t" r="r" b="b"/>
            <a:pathLst>
              <a:path w="2916238" h="287337">
                <a:moveTo>
                  <a:pt x="386547" y="59191"/>
                </a:moveTo>
                <a:lnTo>
                  <a:pt x="2529691" y="59191"/>
                </a:lnTo>
                <a:lnTo>
                  <a:pt x="2529691" y="126773"/>
                </a:lnTo>
                <a:lnTo>
                  <a:pt x="386547" y="126773"/>
                </a:lnTo>
                <a:lnTo>
                  <a:pt x="386547" y="59191"/>
                </a:lnTo>
                <a:close/>
                <a:moveTo>
                  <a:pt x="386547" y="160564"/>
                </a:moveTo>
                <a:lnTo>
                  <a:pt x="2529691" y="160564"/>
                </a:lnTo>
                <a:lnTo>
                  <a:pt x="2529691" y="228146"/>
                </a:lnTo>
                <a:lnTo>
                  <a:pt x="386547" y="228146"/>
                </a:lnTo>
                <a:lnTo>
                  <a:pt x="386547" y="160564"/>
                </a:lnTo>
                <a:close/>
              </a:path>
            </a:pathLst>
          </a:custGeom>
          <a:solidFill>
            <a:srgbClr val="2d2d8a"/>
          </a:solidFill>
          <a:ln w="93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 8"/>
          <p:cNvSpPr/>
          <p:nvPr/>
        </p:nvSpPr>
        <p:spPr>
          <a:xfrm>
            <a:off x="5767560" y="4411800"/>
            <a:ext cx="3168360" cy="312480"/>
          </a:xfrm>
          <a:custGeom>
            <a:avLst/>
            <a:gdLst/>
            <a:ahLst/>
            <a:rect l="l" t="t" r="r" b="b"/>
            <a:pathLst>
              <a:path w="3168650" h="312737">
                <a:moveTo>
                  <a:pt x="420005" y="64424"/>
                </a:moveTo>
                <a:lnTo>
                  <a:pt x="2748645" y="64424"/>
                </a:lnTo>
                <a:lnTo>
                  <a:pt x="2748645" y="137980"/>
                </a:lnTo>
                <a:lnTo>
                  <a:pt x="420005" y="137980"/>
                </a:lnTo>
                <a:lnTo>
                  <a:pt x="420005" y="64424"/>
                </a:lnTo>
                <a:close/>
                <a:moveTo>
                  <a:pt x="420005" y="174757"/>
                </a:moveTo>
                <a:lnTo>
                  <a:pt x="2748645" y="174757"/>
                </a:lnTo>
                <a:lnTo>
                  <a:pt x="2748645" y="248313"/>
                </a:lnTo>
                <a:lnTo>
                  <a:pt x="420005" y="248313"/>
                </a:lnTo>
                <a:lnTo>
                  <a:pt x="420005" y="174757"/>
                </a:lnTo>
                <a:close/>
              </a:path>
            </a:pathLst>
          </a:custGeom>
          <a:solidFill>
            <a:srgbClr val="2d2d8a"/>
          </a:solidFill>
          <a:ln w="648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95280" y="15573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д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мматической 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ловлю в пруду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5624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вумя или бол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ческими осн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= - 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еют осины, цветы доцве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2112840" y="2057400"/>
            <a:ext cx="503280" cy="990720"/>
          </a:xfrm>
          <a:prstGeom prst="downArrow">
            <a:avLst>
              <a:gd name="adj1" fmla="val 50000"/>
              <a:gd name="adj2" fmla="val 250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424560" y="1962000"/>
            <a:ext cx="503280" cy="959040"/>
          </a:xfrm>
          <a:prstGeom prst="downArrow">
            <a:avLst>
              <a:gd name="adj1" fmla="val 50000"/>
              <a:gd name="adj2" fmla="val 25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files.kvvmku.ru/forum/files/chern-01_138.jpg"/>
          <p:cNvPicPr/>
          <p:nvPr/>
        </p:nvPicPr>
        <p:blipFill>
          <a:blip r:embed="rId1"/>
          <a:stretch/>
        </p:blipFill>
        <p:spPr>
          <a:xfrm>
            <a:off x="5715000" y="685800"/>
            <a:ext cx="3041640" cy="3906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116000" y="4616280"/>
            <a:ext cx="36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рой</a:t>
            </a: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900000" y="692280"/>
            <a:ext cx="77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ие осн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основ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основ две или больше, то э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границ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ых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ав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я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260280"/>
            <a:ext cx="82296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Между простыми предложениями в составе сложного ставится запят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184464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ятая – как погранични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а охраняет границы прост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:\Documents and Settings\Елена\Рабочий стол\пограничник.jpg"/>
          <p:cNvPicPr/>
          <p:nvPr/>
        </p:nvPicPr>
        <p:blipFill>
          <a:blip r:embed="rId1"/>
          <a:stretch/>
        </p:blipFill>
        <p:spPr>
          <a:xfrm>
            <a:off x="3635280" y="356544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– с.141 выучить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0844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vostok.jpg"/>
          <p:cNvPicPr/>
          <p:nvPr/>
        </p:nvPicPr>
        <p:blipFill>
          <a:blip r:embed="rId1"/>
          <a:stretch/>
        </p:blipFill>
        <p:spPr>
          <a:xfrm>
            <a:off x="395280" y="971640"/>
            <a:ext cx="2408400" cy="3852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4151520" y="3716280"/>
            <a:ext cx="383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р_кет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vostok.jpg"/>
          <p:cNvPicPr/>
          <p:nvPr/>
        </p:nvPicPr>
        <p:blipFill>
          <a:blip r:embed="rId1"/>
          <a:stretch/>
        </p:blipFill>
        <p:spPr>
          <a:xfrm>
            <a:off x="395280" y="971640"/>
            <a:ext cx="2408400" cy="3852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151520" y="3716280"/>
            <a:ext cx="383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кет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http://www.72box.ru/uploads/image/statyi/march2011/1-OCH0025D.jpg"/>
          <p:cNvPicPr/>
          <p:nvPr/>
        </p:nvPicPr>
        <p:blipFill>
          <a:blip r:embed="rId1"/>
          <a:stretch/>
        </p:blipFill>
        <p:spPr>
          <a:xfrm>
            <a:off x="539640" y="685800"/>
            <a:ext cx="3481560" cy="44956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035960" y="324468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учит_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http://www.72box.ru/uploads/image/statyi/march2011/1-OCH0025D.jpg"/>
          <p:cNvPicPr/>
          <p:nvPr/>
        </p:nvPicPr>
        <p:blipFill>
          <a:blip r:embed="rId1"/>
          <a:stretch/>
        </p:blipFill>
        <p:spPr>
          <a:xfrm>
            <a:off x="539640" y="685800"/>
            <a:ext cx="3481560" cy="4495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035960" y="324468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учит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s019.radikal.ru/i631/1205/d7/de5b40bb3a8d.jpg"/>
          <p:cNvPicPr/>
          <p:nvPr/>
        </p:nvPicPr>
        <p:blipFill>
          <a:blip r:embed="rId1"/>
          <a:stretch/>
        </p:blipFill>
        <p:spPr>
          <a:xfrm>
            <a:off x="3157560" y="-712800"/>
            <a:ext cx="5553000" cy="64612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434600" y="4302000"/>
            <a:ext cx="591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к_р_нда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http://s019.radikal.ru/i631/1205/d7/de5b40bb3a8d.jpg"/>
          <p:cNvPicPr/>
          <p:nvPr/>
        </p:nvPicPr>
        <p:blipFill>
          <a:blip r:embed="rId1"/>
          <a:stretch/>
        </p:blipFill>
        <p:spPr>
          <a:xfrm>
            <a:off x="3157560" y="-712800"/>
            <a:ext cx="5553000" cy="6461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434600" y="4302000"/>
            <a:ext cx="591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нда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5:22:18Z</dcterms:created>
  <dc:creator>Синецкая Г.Г.</dc:creator>
  <dc:description/>
  <dc:language>en-US</dc:language>
  <cp:lastModifiedBy>школа8</cp:lastModifiedBy>
  <cp:lastPrinted>2020-04-23T15:26:58Z</cp:lastPrinted>
  <dcterms:modified xsi:type="dcterms:W3CDTF">2020-08-28T06:44:21Z</dcterms:modified>
  <cp:revision>67</cp:revision>
  <dc:subject>Сочетания ЖИ-ШИ, ЧА-ЩА, ЧУ-ЩУ</dc:subject>
  <dc:title>Русский язык. 3 класс</dc:title>
</cp:coreProperties>
</file>