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6FB-C030-4B41-B2EA-BACB3614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6822-9F84-47AA-8FBA-E100B358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814-732E-4198-B826-B0F849BC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9DD-751D-4BB0-8B01-CC209840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549B-655E-43A6-B399-3DB7EE07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4BFA-0226-47B1-A58E-12717499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28A9-945A-44B3-B3A6-62B70CEC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1F84-5FFE-432A-809E-4A8F54AE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C7EF-76A6-420B-AE28-5F439AEF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09F4-4973-479C-B166-7DC16654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6250-2190-4D1B-85C5-FCC56B7B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ABAC-E2DB-460C-AD29-C3789208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C75F-0DC5-4F43-ACBC-59A299DE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8066-3D79-4FBE-A36E-3621B1FE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2AB3-921F-4BB8-931E-9EF6FD2F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B1C9-ABA6-4DC0-B3A5-4DF67D79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3EFC-F9F7-48D6-970A-47ADA801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2605B-3AF6-4A7C-AA7C-FABBD2C1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D17C0-7392-4DFD-9E92-85F87082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A2F2A-EC4F-46D4-A5B3-51F851FB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D5EA4-BD81-41EC-A98C-AABF7E0F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D29F8-750D-4522-8B1C-D3A66050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7D07-8C83-49B4-B0DA-2D67E9A5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FBB48-B97B-4730-BB8C-3664CE47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3C1D2-A9B3-476D-BB36-8954D3C5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34DC7-101D-4294-8355-3BBE7F51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03CA9-5A49-4278-AF41-F0DC872B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08F72-F379-435A-A5BA-C46DBB13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25BAE-2207-455A-85E1-FD506554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B69B8-9606-4305-B997-72E62DD6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C8A78-BB80-425A-B195-D0B3587C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94527-E0D3-4DE5-ACAA-4FAEF1E3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AB23A-D547-4E80-8B34-D624488E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5E3-7157-4F14-B7A9-87BA383E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01EB4-15E5-494A-90C5-84BF42AC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63BFA-0101-4AE6-9CBC-DE2E8B08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BE00B-B537-4A65-9D31-70ED690F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644D2-F866-42F8-A1DB-0A0213DF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7BAF5-08EF-4431-AD2A-8CD08827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4C460-29B5-4240-A4E0-BA93FC9E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13F41-ECA0-40DD-9493-4D801B45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AC76C-A9D6-48D4-9C1A-43A5D466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593D5-6167-48C7-B897-4E1C407F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8D0FA-4464-41BB-A57C-825903DC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6A4-9D77-49F0-AFBD-188A44C4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3AE13-61C2-401E-B3F6-53312F7B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98808-924D-4621-A6EF-01239BF4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94F9A-724D-4D81-BE21-F5CC4A1C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02931-A6B6-4BC7-A543-DAC59254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6949F-B403-465F-B2AF-76E8ED10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0EAA0-E24F-4604-824D-BEF8A1B1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53523-99E6-478E-BF64-42F1CCF0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06B71-E5B0-4C64-8C32-094C4AE8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D0866-5ADD-429C-B03E-17A53E6D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84F35-3172-4171-BBA7-9214E825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E7A4-07F5-45A5-947B-9BA9DE70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75995-15AA-4E9B-8AF7-A9A027F4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57587-079F-476F-BFF9-01D15BC5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73B8C-E6D1-43E7-80D5-E84649A3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97F6C-80C8-4219-8C99-822B430A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69DBF-9300-448D-AD71-15FCF89D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CE26F-78AA-4CE3-B719-35FC835E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28ABC-2D5C-4572-A844-EBE92DD4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CBD5C-F60B-4B95-9EDB-D93C2280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54C79-2E8A-43BA-82B3-9A823713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5876E-7773-4308-9FE7-DFFBC743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27E-F180-4F5F-8168-86F62CC9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6BB86-F967-418A-92EB-DBBBA389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AC857-01FE-4316-84D1-5D6590EF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2742E-57F1-4DF7-AF80-3D8F2279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3E169-D41E-4153-AAFC-8F72D95D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65135-84E6-418A-8793-86A7F36A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C6D08-CABF-4930-AF94-AEBBA261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5B989-F574-4A73-8134-67FD8761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96264-AB1B-4C34-97DE-8F484596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4B8CD-7CC3-491B-9465-C8C001F8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E115F-50F5-49C2-91D2-16CF7BF3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C5F-65C3-48E9-B0F4-A2277E51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E19D8-D04B-439F-8471-630FC5F2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12EB2-0928-4015-B5D2-83F59751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97EF7-EF2B-4B07-84AC-8B089216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1A5F5-0AAF-4434-B6FA-58020A6F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A4D64-25F7-4BE8-873B-7E16FA66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42DB9-6CF8-4B09-9B15-32F7AD2F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65384-2995-4BF6-8EC6-017B292C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9C501-055C-4D11-85C7-D44A1F85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19526-0FCF-4492-8EBD-E6FB8AC8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130AC-337A-4918-BD5A-D98E12F9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41F1-ADDE-4341-9D40-C08CF07C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81012-C493-4969-A513-B76F3C0C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D6E77-F772-41C6-A957-B6A9F2FA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CFFD1-7806-4B6D-8ED5-84F751F4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E566F-0688-4B7E-9638-0FE763DF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7E29F-7A34-4514-95CC-549D20C0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C5BCB-F998-481E-9FB0-CF9093CF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4DC2A-805D-4D42-BCEF-9473B81E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974A-FEB7-4A49-AAF1-C6A3CE1939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65CD-C573-4C5C-A3CB-3923BEF4ACA7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E361-BFB4-48EF-AA61-3EF145609D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DEBE-6017-41D2-80A0-5CCB37974D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AB4E-B2CE-4679-99F7-48659FC7CD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8009-6FFA-4461-BC1E-618BD20FD0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69B2-A21B-4D5B-8502-9394BA74D04C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A6CA-31D9-4A9A-9678-442273BD1EAF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071200" cy="159732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396720" y="3346560"/>
            <a:ext cx="8210880" cy="223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-219240"/>
            <a:ext cx="8242560" cy="12258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-360" y="856800"/>
            <a:ext cx="89298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371160" algn="just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7dd"/>
                </a:solidFill>
                <a:latin typeface="Century Gothic"/>
              </a:rPr>
              <a:t>         </a:t>
            </a:r>
            <a:r>
              <a:rPr b="1" lang="ru-RU" sz="1600" spc="-1" strike="noStrike">
                <a:solidFill>
                  <a:srgbClr val="ffb8f2"/>
                </a:solidFill>
                <a:latin typeface="Century Gothic"/>
              </a:rPr>
              <a:t>это новая форма обучения, предполагает иную форму взаимодействия учителя и учащихся, учащихся между собой. Вместе с тем, как любая форма обучения, любая система обучения она имеет тот же компонентный состав: цели, содержание, также во многом определенное действующими программами для конкретного типа учебного заведения, методы, организационные формы, средства обучения. Последние три компонента в дистанционной форме обучения обусловлены спецификой используемой технологической основы (например, только компьютерных телекоммуникаций, компьютерных телекоммуникаций в комплексе с печатными средствами, компакт-дисками, так называемой, кейс-технологией, пр.). Разумеется, если говорить о среднем образовании, то любая его форма должна ориентироваться на государственные стандарты образования. Вместе с тем, она может и должна выходить за рамки базового образования, включая дополнительное образование и все что с этим связано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 algn="just">
              <a:lnSpc>
                <a:spcPct val="17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07136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Схема № 1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1" name="Рисунок 3" descr="http://www.hr-portal.ru/img/artb/model1.gif"/>
          <p:cNvPicPr/>
          <p:nvPr/>
        </p:nvPicPr>
        <p:blipFill>
          <a:blip r:embed="rId2"/>
          <a:stretch/>
        </p:blipFill>
        <p:spPr>
          <a:xfrm>
            <a:off x="689040" y="1620720"/>
            <a:ext cx="8192880" cy="5334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-433440" y="73080"/>
            <a:ext cx="9650520" cy="1596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57120" y="1000080"/>
            <a:ext cx="814392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Схема № 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Рисунок 3" descr="http://www.hr-portal.ru/img/artb/model3.gif"/>
          <p:cNvPicPr/>
          <p:nvPr/>
        </p:nvPicPr>
        <p:blipFill>
          <a:blip r:embed="rId2"/>
          <a:stretch/>
        </p:blipFill>
        <p:spPr>
          <a:xfrm>
            <a:off x="566640" y="1573200"/>
            <a:ext cx="8388360" cy="51688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-219240" y="-201600"/>
            <a:ext cx="9369720" cy="16336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07136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Схема №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Рисунок 3" descr="http://www.hr-portal.ru/img/artb/model4.gif"/>
          <p:cNvPicPr/>
          <p:nvPr/>
        </p:nvPicPr>
        <p:blipFill>
          <a:blip r:embed="rId2"/>
          <a:stretch/>
        </p:blipFill>
        <p:spPr>
          <a:xfrm>
            <a:off x="633240" y="1566720"/>
            <a:ext cx="8089920" cy="50832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0065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07136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Схема №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4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" name="Рисунок 3" descr="http://www.hr-portal.ru/img/artb/model5.gif"/>
          <p:cNvPicPr/>
          <p:nvPr/>
        </p:nvPicPr>
        <p:blipFill>
          <a:blip r:embed="rId2"/>
          <a:stretch/>
        </p:blipFill>
        <p:spPr>
          <a:xfrm>
            <a:off x="981000" y="1768320"/>
            <a:ext cx="7182000" cy="446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371600"/>
          </a:xfrm>
          <a:prstGeom prst="rect">
            <a:avLst/>
          </a:prstGeom>
          <a:ln w="0">
            <a:noFill/>
          </a:ln>
        </p:spPr>
      </p:pic>
      <p:pic>
        <p:nvPicPr>
          <p:cNvPr id="362" name="Содержимое 3" descr=""/>
          <p:cNvPicPr/>
          <p:nvPr/>
        </p:nvPicPr>
        <p:blipFill>
          <a:blip r:embed="rId2"/>
          <a:stretch/>
        </p:blipFill>
        <p:spPr>
          <a:xfrm>
            <a:off x="450720" y="1255680"/>
            <a:ext cx="8242560" cy="525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6:12:12Z</dcterms:created>
  <dc:creator>User</dc:creator>
  <dc:description/>
  <dc:language>en-US</dc:language>
  <cp:lastModifiedBy>SamLab.ws</cp:lastModifiedBy>
  <dcterms:modified xsi:type="dcterms:W3CDTF">2010-04-19T05:14:44Z</dcterms:modified>
  <cp:revision>13</cp:revision>
  <dc:subject/>
  <dc:title>Дистанционное обучение в образовании</dc:title>
</cp:coreProperties>
</file>