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E3CC-2EF4-4839-BA53-7A8A4AB4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33FF-5D1F-43E0-AEF2-29E17BC1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1612-8824-4D62-8290-3A5C2D85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557C-8BB6-4EAA-B120-0597D19B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E885-5869-4F60-BAF7-4733D157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D324-6AE1-4E2E-B71E-1DACB8A0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AFE2-F8E6-4016-A38F-E42F762A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B772-54D7-49DD-B218-F20C8CBC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3E53-2189-4D52-998D-68523294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3AE9-754B-4901-AF24-765DBDAC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6E80-94CE-4879-ABB7-A443134F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97AF-BD4A-46CE-B352-B57ABD2A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C903-7BCE-4E5D-A881-5B3725A1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496E-3A75-41B9-8E17-70335E4C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92CE-8DA6-46CB-95D3-7B996DB0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7681-90B0-4FA0-AD43-3531D363E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043E-23CD-4868-BF2E-E7C9BB25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1DDA1-E711-4443-BFFC-DCD7B43A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7A472-6BA5-41CF-B899-E4C03912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07D8A-EE50-4F1E-91B1-136C7303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C3DBB-0538-4817-9732-88DF437B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984F4-7B8D-4D65-9A4E-82BCD9EE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B8D2-6256-4587-82CD-F9C06D37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DBAFB-BDCA-45CE-AD01-E9F8AE49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16E2F-D509-408D-AF45-BC526B65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0234D-770D-4AB3-9DB5-FF757587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B24FB-A653-43B6-B863-6797C18A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FE8AD-F976-4C61-9182-7BBF3DF4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D095F-B113-40DD-A933-D097214C2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A93A3-33DE-4CCA-A3DD-1561E93D1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36FD9-93FA-4FBD-B2AE-7C1ECCF0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DE2B3-D7FB-4450-8F0D-25771C7C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B2005-E9EA-4231-B758-6199D359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A4AF-0F40-43F9-8164-3FBCC5FB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FA9B1-AEFB-4F92-8FD8-6957CDF8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D72BF-CDF0-41C9-A76E-3F6C5AAA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42C50-8F90-42D9-A3B6-4E319E5E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3A7F8-9239-4083-B87E-8CD675D6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8F833-4878-479F-BA18-286E510F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BDEC4-4413-443F-A6C9-BDA9B05A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AB1D1-FC10-4C69-ABDC-4F1C8039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3196E-3609-4322-9C6A-5DFA3C2A5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F21F9-83F7-4FA9-89D5-C7AB6B37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24285-DAF9-47D0-B031-1DEF8B1F1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EEC5-4D85-4D34-9B0D-9BB586B3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8DC66-D733-478B-86E4-B3D959FB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38097-36F0-40CA-8959-35A883C2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099BB-89CE-47E5-A806-8A0C45FB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FA260-5DA2-4892-950C-3A1320E8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F9B78-17A2-45DA-BCF6-13DE9FAD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9C2C6-B0D6-4FDC-A69E-DE89D70B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AE71E-DCD0-405A-A470-B563D6DB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65161-091C-49E9-837E-738200C9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054CD-1D74-4D21-A94A-8BF3883D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B6FBF-AC89-4D1E-BD9A-352DE2A6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A9EE-DC24-4A69-B221-63885A43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83FB7-98AF-43D3-9DFB-2162D136E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E6F74-BAFD-486E-B4F1-C8E2CDAA8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B97F6-FB72-4121-9718-6BEE2CCF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24909-F6EA-4A02-8B19-6F30770C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5A942-E4D2-44F3-BE09-56A3CD2A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1CE8F-6AE9-4000-9D6F-C7CD5CC3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64929-EB11-43AB-AC02-5E111461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96D82-2671-444C-8427-810C8843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E68BF-CAE1-4F99-B571-D3A98D42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2820A-04B4-4F93-A417-C15AF2D8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A900-433F-4D5B-836B-E502A8F6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4884B-F716-4F4F-A75F-7B83490C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B61D5-1895-41D5-93B9-F5B0AFB31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17BFB-6DA2-4564-8EAB-1EE60573C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EEED4-487D-4D52-A874-DD529C64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BF00E-C787-452A-8AC9-094CC878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055CC-A507-428C-91F1-1057477B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ED963-02C3-446A-9EE9-1FD3B174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92309-4138-4A2F-9935-3200C297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7F46C-4AF9-4B98-B25A-3EF35948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0900A-C6CC-4A0D-B31A-F99F184B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3EAD-9216-4998-B35E-0CE64ADE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198E0-EA77-40BE-8158-9BDA1EE6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4DD84-B73C-45E6-9D48-6F4D1D5A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C4066-8F61-46D6-874E-0E276A23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78678-CA76-4FDD-B75F-435BB0716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5D4FE-8038-40F5-8FAD-DE2EB5CC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4CEA4-5191-4CE6-9DE1-1A52B10F5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79B52-378A-4BA5-B1D1-DBF2D3CF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D9134-3551-4C73-9316-800860F6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095BD-78F6-4A44-B852-1B4E9CC1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26407-A1F1-4DAD-8DB9-2A4FA85C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6D0B-8EEB-411B-A270-88E3C3AB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0DA97-9908-4729-A570-3B9DEB72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DA320-5282-4626-A3A2-6E5602C5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E2094-82DF-41A9-AA16-6A6CA620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6C040-7A41-4C3B-8011-935F1275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5ABC4-BAE1-40ED-9A2C-8EFBAE7D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581FF-AE1E-4A30-818B-FEE51065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16F62-A291-4E78-962C-1E414E7F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577A-482F-41C4-AC77-9035C4E5CC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F9DC-6197-4567-B605-D516157BB825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2420-AE77-4D3A-8941-4BBA4F46A6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C07E-6BD3-4E0B-BE60-92D85C3CE0E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F80E-4CF2-4B80-A061-BA42A06B12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5413-C2A3-4E31-8111-0C222D9A2F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FE72-C287-453E-8DF5-844F932306B3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C820-B08F-4560-8C0E-A2008CFC2DE6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3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536400" y="652320"/>
            <a:ext cx="8071200" cy="1597320"/>
          </a:xfrm>
          <a:prstGeom prst="rect">
            <a:avLst/>
          </a:prstGeom>
          <a:ln w="0">
            <a:noFill/>
          </a:ln>
        </p:spPr>
      </p:pic>
      <p:pic>
        <p:nvPicPr>
          <p:cNvPr id="346" name="Подзаголовок 2" descr=""/>
          <p:cNvPicPr/>
          <p:nvPr/>
        </p:nvPicPr>
        <p:blipFill>
          <a:blip r:embed="rId2"/>
          <a:stretch/>
        </p:blipFill>
        <p:spPr>
          <a:xfrm>
            <a:off x="396720" y="3346560"/>
            <a:ext cx="8210880" cy="223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450720" y="-219240"/>
            <a:ext cx="8242560" cy="12258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-360" y="856800"/>
            <a:ext cx="892980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371160" algn="just">
              <a:lnSpc>
                <a:spcPct val="1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7dd"/>
                </a:solidFill>
                <a:latin typeface="Century Gothic"/>
              </a:rPr>
              <a:t>         </a:t>
            </a:r>
            <a:r>
              <a:rPr b="1" lang="ru-RU" sz="1600" spc="-1" strike="noStrike">
                <a:solidFill>
                  <a:srgbClr val="ffb8f2"/>
                </a:solidFill>
                <a:latin typeface="Century Gothic"/>
              </a:rPr>
              <a:t>это новая форма обучения, предполагает иную форму взаимодействия учителя и учащихся, учащихся между собой. Вместе с тем, как любая форма обучения, любая система обучения она имеет тот же компонентный состав: цели, содержание, также во многом определенное действующими программами для конкретного типа учебного заведения, методы, организационные формы, средства обучения. Последние три компонента в дистанционной форме обучения обусловлены спецификой используемой технологической основы (например, только компьютерных телекоммуникаций, компьютерных телекоммуникаций в комплексе с печатными средствами, компакт-дисками, так называемой, кейс-технологией, пр.). Разумеется, если говорить о среднем образовании, то любая его форма должна ориентироваться на государственные стандарты образования. Вместе с тем, она может и должна выходить за рамки базового образования, включая дополнительное образование и все что с этим связано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 algn="just">
              <a:lnSpc>
                <a:spcPct val="17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450720" y="2379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07136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Схема № 1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1" name="Рисунок 3" descr="http://www.hr-portal.ru/img/artb/model1.gif"/>
          <p:cNvPicPr/>
          <p:nvPr/>
        </p:nvPicPr>
        <p:blipFill>
          <a:blip r:embed="rId2"/>
          <a:stretch/>
        </p:blipFill>
        <p:spPr>
          <a:xfrm>
            <a:off x="689040" y="1620720"/>
            <a:ext cx="8192880" cy="5334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-433440" y="73080"/>
            <a:ext cx="9650520" cy="15969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357120" y="1000080"/>
            <a:ext cx="814392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Схема № 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4" name="Рисунок 3" descr="http://www.hr-portal.ru/img/artb/model3.gif"/>
          <p:cNvPicPr/>
          <p:nvPr/>
        </p:nvPicPr>
        <p:blipFill>
          <a:blip r:embed="rId2"/>
          <a:stretch/>
        </p:blipFill>
        <p:spPr>
          <a:xfrm>
            <a:off x="566640" y="1573200"/>
            <a:ext cx="8388360" cy="51688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-219240" y="-201600"/>
            <a:ext cx="9369720" cy="163368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07136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Схема №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3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7" name="Рисунок 3" descr="http://www.hr-portal.ru/img/artb/model4.gif"/>
          <p:cNvPicPr/>
          <p:nvPr/>
        </p:nvPicPr>
        <p:blipFill>
          <a:blip r:embed="rId2"/>
          <a:stretch/>
        </p:blipFill>
        <p:spPr>
          <a:xfrm>
            <a:off x="633240" y="1566720"/>
            <a:ext cx="8089920" cy="50832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0065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07136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Схема №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4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0" name="Рисунок 3" descr="http://www.hr-portal.ru/img/artb/model5.gif"/>
          <p:cNvPicPr/>
          <p:nvPr/>
        </p:nvPicPr>
        <p:blipFill>
          <a:blip r:embed="rId2"/>
          <a:stretch/>
        </p:blipFill>
        <p:spPr>
          <a:xfrm>
            <a:off x="981000" y="1768320"/>
            <a:ext cx="7182000" cy="446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371600"/>
          </a:xfrm>
          <a:prstGeom prst="rect">
            <a:avLst/>
          </a:prstGeom>
          <a:ln w="0">
            <a:noFill/>
          </a:ln>
        </p:spPr>
      </p:pic>
      <p:pic>
        <p:nvPicPr>
          <p:cNvPr id="362" name="Содержимое 3" descr=""/>
          <p:cNvPicPr/>
          <p:nvPr/>
        </p:nvPicPr>
        <p:blipFill>
          <a:blip r:embed="rId2"/>
          <a:stretch/>
        </p:blipFill>
        <p:spPr>
          <a:xfrm>
            <a:off x="450720" y="1255680"/>
            <a:ext cx="8242560" cy="525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06:12:12Z</dcterms:created>
  <dc:creator>User</dc:creator>
  <dc:description/>
  <dc:language>en-US</dc:language>
  <cp:lastModifiedBy>SamLab.ws</cp:lastModifiedBy>
  <dcterms:modified xsi:type="dcterms:W3CDTF">2010-04-19T05:14:44Z</dcterms:modified>
  <cp:revision>13</cp:revision>
  <dc:subject/>
  <dc:title>Дистанционное обучение в образовании</dc:title>
</cp:coreProperties>
</file>